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DEA5-EDAC-4624-BADB-0A75B34D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21D8-EB17-4F9B-839D-58FFCB31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E696-01E8-4C79-A0DF-CD681741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252-9186-4ED3-B127-164CC783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250C-62BC-4A9B-9C9D-8A0D402F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A1A-215C-4307-A68C-80A6FDEC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B4DC-8347-4AC7-AE06-C364239C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75AC-3243-41E2-B876-8B395E39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1448-70CB-4994-B909-662A0359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634-9409-4C4B-AE3F-33D70C8B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8A74-13FA-4CA8-8A31-028E2305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8B72-C475-4F23-AB25-F48A04FC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aili Kajast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400" spc="-1" strike="noStrike">
                <a:solidFill>
                  <a:srgbClr val="000000"/>
                </a:solidFill>
                <a:latin typeface="Times New Roman"/>
              </a:rPr>
              <a:t>Moscow 30.09.2003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2FB5-3DC8-4C8E-BBB6-507DD7F43A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209680"/>
            <a:ext cx="6096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tic Se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Ground Fac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ocking project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UNFCCC Workshop on the implementation of Article 6 projects under the Kyoto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6-27 May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Nefco_logo%20tiff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1219320" cy="50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914400"/>
            <a:ext cx="74674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2120" y="1066320"/>
            <a:ext cx="6858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OLDING PROJECTS BAC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and institutional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yoto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o be appoin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regulations &amp; bodi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o be approved/appoin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tion of Kyoto rul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ill a project qualify ? Additional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efco_logo%20tiff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1219320" cy="501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914400"/>
            <a:ext cx="74674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1066320"/>
            <a:ext cx="6858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HOLDING PROJECTS BAC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traints in respect of project prepa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Expertise in preparing document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Project owners’ willingness to pay. Other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urces 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et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e.g. unrealistic assumptions &amp;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pect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Nefco_logo%20tiff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1219320" cy="501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914400"/>
            <a:ext cx="74674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2120" y="1066320"/>
            <a:ext cx="6858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OLDING PROJECTS BAC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financing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ability of total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 investment decision on corporate o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nicipal level must be justified on i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wn mer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financing of total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RUs/AAUs will only pay for a frac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otal investment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ments will be late rather than up-fro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Nefco_logo%20tiff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1219320" cy="501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914400"/>
            <a:ext cx="74674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2T14:17:43Z</dcterms:created>
  <dc:creator/>
  <dc:description/>
  <cp:keywords>clean development mechanism</cp:keywords>
  <dc:language>en-US</dc:language>
  <cp:lastModifiedBy>Jens Wilhelm</cp:lastModifiedBy>
  <cp:lastPrinted>2002-02-15T07:14:16Z</cp:lastPrinted>
  <dcterms:modified xsi:type="dcterms:W3CDTF">2004-09-17T12:06:59Z</dcterms:modified>
  <cp:revision>34</cp:revision>
  <dc:subject/>
  <dc:title>Unlocking project potential</dc:title>
</cp:coreProperties>
</file>