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9135-A0EA-4A13-AEE3-4E13E96D1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1127-630B-434E-864E-F143CD6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0F4F-A3CE-4DEA-9A2B-1533873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380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380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2D01-30B4-4D86-823C-21BBDB94D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6BC-4B7C-40E4-B383-5976B3A8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958A-0B47-4FC0-ACDE-7E104BD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6CE3-8AAB-498D-809B-461FB27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BC58-2D7C-47C3-963B-A175B353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64F8-70DE-44C3-A159-FBEB8342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46DA-AF40-4663-AEDF-FDC08387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C442-36B1-43AC-BFC0-5753D590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10DF-B6A5-45F9-9944-E5C284E9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3040" y="4125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First UNFCCC Workshop on the implementation of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JI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projects under Article 6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of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the Kyoto Protocol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Moscow,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26-27 May, 2004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on procedures of registration and implementation of JI projects in Russian Fed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51040" y="4941720"/>
            <a:ext cx="3810240" cy="11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B1A6-D649-4F70-81A0-EE97A88C1B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s of specialized ag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7440" y="1066320"/>
            <a:ext cx="826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Forming of Integrated projects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block of similar small-scale projec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Arrangements of tender for selection of consultants to be hired for PD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ender for management company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Accreditation of verification entit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Control and accounting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99440" y="6240600"/>
            <a:ext cx="1439640" cy="4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35C5-DEDC-48AB-99DD-41C3C91950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0280" y="208080"/>
            <a:ext cx="814536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ndings and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20" y="1114560"/>
            <a:ext cx="8211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lear and transparent national procedure defining responsibilities of the “players” is critical for complex process of international cooperation under Article 6 of the Kyoto Protoc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Best international practice should be used for improvement of JI projects preparation and implementation proced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ctivity of the Russian Interagency Commission on climate change should be strengthened in order to co-ordinate inter-sector activity as well as to take into account variety of interests of participants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ommission could act as Authorized National JI focal point)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agency should be charged with regulation and management of the Integrated JI projects and relevant investment activ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6480" y="6240600"/>
            <a:ext cx="1389240" cy="41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F066-AE3C-409F-A6DE-7B6D0710779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5492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ina Dragan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tynova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Vladimir Maxim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 &amp; Carbon Management Depart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cy for Direct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dragan@ag-di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maximov@ag-di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site: www.ecofinance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06760" y="5211720"/>
            <a:ext cx="380988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4C97-1F1C-4302-BC28-BA56F940ED0F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JI projects development: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nefits for Rus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7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Real GHG reduction under conditions of economic growth; GNP’s power intensity decre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Macro economical cost saving of GHG reduction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based on  results of cost curve analysis 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motion of environmental activity and inno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Extra ecological, social and economical benefits from JI projects implemented with public financial support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nc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obligations on stabilization of GHG emission beyond the bound of the first commitme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16720" y="6197760"/>
            <a:ext cx="1501920" cy="4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D123-2041-41DE-AD3C-346EA250A2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8618400" y="3568680"/>
            <a:ext cx="316080" cy="4111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18400" y="3571920"/>
            <a:ext cx="914400" cy="190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581280"/>
            <a:ext cx="914400" cy="190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duction of GHG emission in 2008-2012 due to JI project implementation creates  ground for  stabilization of GHG emission in further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9810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4864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81280"/>
            <a:ext cx="384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581280"/>
            <a:ext cx="4038480" cy="685800"/>
          </a:xfrm>
          <a:custGeom>
            <a:avLst/>
            <a:gdLst/>
            <a:ahLst/>
            <a:rect l="l" t="t" r="r" b="b"/>
            <a:pathLst>
              <a:path w="2544" h="432">
                <a:moveTo>
                  <a:pt x="0" y="0"/>
                </a:moveTo>
                <a:cubicBezTo>
                  <a:pt x="76" y="88"/>
                  <a:pt x="152" y="176"/>
                  <a:pt x="240" y="240"/>
                </a:cubicBezTo>
                <a:cubicBezTo>
                  <a:pt x="328" y="304"/>
                  <a:pt x="416" y="352"/>
                  <a:pt x="528" y="384"/>
                </a:cubicBezTo>
                <a:cubicBezTo>
                  <a:pt x="640" y="416"/>
                  <a:pt x="800" y="432"/>
                  <a:pt x="912" y="432"/>
                </a:cubicBezTo>
                <a:cubicBezTo>
                  <a:pt x="1024" y="432"/>
                  <a:pt x="1104" y="408"/>
                  <a:pt x="1200" y="384"/>
                </a:cubicBezTo>
                <a:cubicBezTo>
                  <a:pt x="1296" y="360"/>
                  <a:pt x="1376" y="328"/>
                  <a:pt x="1488" y="288"/>
                </a:cubicBezTo>
                <a:cubicBezTo>
                  <a:pt x="1600" y="248"/>
                  <a:pt x="1744" y="184"/>
                  <a:pt x="1872" y="144"/>
                </a:cubicBezTo>
                <a:cubicBezTo>
                  <a:pt x="2000" y="104"/>
                  <a:pt x="2144" y="64"/>
                  <a:pt x="2256" y="48"/>
                </a:cubicBezTo>
                <a:cubicBezTo>
                  <a:pt x="2368" y="32"/>
                  <a:pt x="2496" y="48"/>
                  <a:pt x="2544" y="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0574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48640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3429000" cy="685800"/>
          </a:xfrm>
          <a:custGeom>
            <a:avLst/>
            <a:gdLst/>
            <a:ahLst/>
            <a:rect l="l" t="t" r="r" b="b"/>
            <a:pathLst>
              <a:path w="2544" h="432">
                <a:moveTo>
                  <a:pt x="0" y="0"/>
                </a:moveTo>
                <a:cubicBezTo>
                  <a:pt x="76" y="88"/>
                  <a:pt x="152" y="176"/>
                  <a:pt x="240" y="240"/>
                </a:cubicBezTo>
                <a:cubicBezTo>
                  <a:pt x="328" y="304"/>
                  <a:pt x="416" y="352"/>
                  <a:pt x="528" y="384"/>
                </a:cubicBezTo>
                <a:cubicBezTo>
                  <a:pt x="640" y="416"/>
                  <a:pt x="800" y="432"/>
                  <a:pt x="912" y="432"/>
                </a:cubicBezTo>
                <a:cubicBezTo>
                  <a:pt x="1024" y="432"/>
                  <a:pt x="1104" y="408"/>
                  <a:pt x="1200" y="384"/>
                </a:cubicBezTo>
                <a:cubicBezTo>
                  <a:pt x="1296" y="360"/>
                  <a:pt x="1376" y="328"/>
                  <a:pt x="1488" y="288"/>
                </a:cubicBezTo>
                <a:cubicBezTo>
                  <a:pt x="1600" y="248"/>
                  <a:pt x="1744" y="184"/>
                  <a:pt x="1872" y="144"/>
                </a:cubicBezTo>
                <a:cubicBezTo>
                  <a:pt x="2000" y="104"/>
                  <a:pt x="2144" y="64"/>
                  <a:pt x="2256" y="48"/>
                </a:cubicBezTo>
                <a:cubicBezTo>
                  <a:pt x="2368" y="32"/>
                  <a:pt x="2496" y="48"/>
                  <a:pt x="2544" y="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162920" y="32004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3581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3924360"/>
            <a:ext cx="1676160" cy="355680"/>
          </a:xfrm>
          <a:custGeom>
            <a:avLst/>
            <a:gdLst/>
            <a:ahLst/>
            <a:rect l="l" t="t" r="r" b="b"/>
            <a:pathLst>
              <a:path w="1056" h="224">
                <a:moveTo>
                  <a:pt x="0" y="216"/>
                </a:moveTo>
                <a:cubicBezTo>
                  <a:pt x="48" y="220"/>
                  <a:pt x="96" y="224"/>
                  <a:pt x="144" y="216"/>
                </a:cubicBezTo>
                <a:cubicBezTo>
                  <a:pt x="192" y="208"/>
                  <a:pt x="200" y="200"/>
                  <a:pt x="288" y="168"/>
                </a:cubicBezTo>
                <a:cubicBezTo>
                  <a:pt x="376" y="136"/>
                  <a:pt x="544" y="48"/>
                  <a:pt x="672" y="24"/>
                </a:cubicBezTo>
                <a:cubicBezTo>
                  <a:pt x="800" y="0"/>
                  <a:pt x="984" y="24"/>
                  <a:pt x="1056" y="2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3562200"/>
            <a:ext cx="1062000" cy="516240"/>
          </a:xfrm>
          <a:custGeom>
            <a:avLst/>
            <a:gdLst/>
            <a:ahLst/>
            <a:rect l="l" t="t" r="r" b="b"/>
            <a:pathLst>
              <a:path w="669" h="325">
                <a:moveTo>
                  <a:pt x="93" y="0"/>
                </a:moveTo>
                <a:lnTo>
                  <a:pt x="669" y="6"/>
                </a:lnTo>
                <a:lnTo>
                  <a:pt x="663" y="96"/>
                </a:lnTo>
                <a:cubicBezTo>
                  <a:pt x="653" y="98"/>
                  <a:pt x="641" y="96"/>
                  <a:pt x="633" y="102"/>
                </a:cubicBezTo>
                <a:cubicBezTo>
                  <a:pt x="628" y="106"/>
                  <a:pt x="627" y="120"/>
                  <a:pt x="627" y="120"/>
                </a:cubicBezTo>
                <a:lnTo>
                  <a:pt x="561" y="126"/>
                </a:lnTo>
                <a:lnTo>
                  <a:pt x="507" y="144"/>
                </a:lnTo>
                <a:lnTo>
                  <a:pt x="441" y="162"/>
                </a:lnTo>
                <a:lnTo>
                  <a:pt x="369" y="174"/>
                </a:lnTo>
                <a:lnTo>
                  <a:pt x="297" y="216"/>
                </a:lnTo>
                <a:lnTo>
                  <a:pt x="243" y="234"/>
                </a:lnTo>
                <a:lnTo>
                  <a:pt x="171" y="264"/>
                </a:lnTo>
                <a:lnTo>
                  <a:pt x="111" y="288"/>
                </a:lnTo>
                <a:cubicBezTo>
                  <a:pt x="0" y="325"/>
                  <a:pt x="93" y="300"/>
                  <a:pt x="93" y="0"/>
                </a:cubicBezTo>
                <a:close/>
              </a:path>
            </a:pathLst>
          </a:custGeom>
          <a:solidFill>
            <a:srgbClr val="0099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5080" y="3591000"/>
            <a:ext cx="1024200" cy="477720"/>
          </a:xfrm>
          <a:custGeom>
            <a:avLst/>
            <a:gdLst/>
            <a:ahLst/>
            <a:rect l="l" t="t" r="r" b="b"/>
            <a:pathLst>
              <a:path w="669" h="325">
                <a:moveTo>
                  <a:pt x="93" y="0"/>
                </a:moveTo>
                <a:lnTo>
                  <a:pt x="669" y="6"/>
                </a:lnTo>
                <a:lnTo>
                  <a:pt x="663" y="96"/>
                </a:lnTo>
                <a:cubicBezTo>
                  <a:pt x="653" y="98"/>
                  <a:pt x="641" y="96"/>
                  <a:pt x="633" y="102"/>
                </a:cubicBezTo>
                <a:cubicBezTo>
                  <a:pt x="628" y="106"/>
                  <a:pt x="627" y="120"/>
                  <a:pt x="627" y="120"/>
                </a:cubicBezTo>
                <a:lnTo>
                  <a:pt x="561" y="126"/>
                </a:lnTo>
                <a:lnTo>
                  <a:pt x="507" y="144"/>
                </a:lnTo>
                <a:lnTo>
                  <a:pt x="441" y="162"/>
                </a:lnTo>
                <a:lnTo>
                  <a:pt x="369" y="174"/>
                </a:lnTo>
                <a:lnTo>
                  <a:pt x="297" y="216"/>
                </a:lnTo>
                <a:lnTo>
                  <a:pt x="243" y="234"/>
                </a:lnTo>
                <a:lnTo>
                  <a:pt x="171" y="264"/>
                </a:lnTo>
                <a:lnTo>
                  <a:pt x="111" y="288"/>
                </a:lnTo>
                <a:cubicBezTo>
                  <a:pt x="0" y="325"/>
                  <a:pt x="93" y="300"/>
                  <a:pt x="93" y="0"/>
                </a:cubicBezTo>
                <a:close/>
              </a:path>
            </a:pathLst>
          </a:custGeom>
          <a:solidFill>
            <a:srgbClr val="0099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24880" y="3733920"/>
            <a:ext cx="904680" cy="419040"/>
          </a:xfrm>
          <a:custGeom>
            <a:avLst/>
            <a:gdLst/>
            <a:ahLst/>
            <a:rect l="l" t="t" r="r" b="b"/>
            <a:pathLst>
              <a:path w="570" h="264">
                <a:moveTo>
                  <a:pt x="570" y="0"/>
                </a:moveTo>
                <a:cubicBezTo>
                  <a:pt x="570" y="44"/>
                  <a:pt x="570" y="88"/>
                  <a:pt x="570" y="132"/>
                </a:cubicBezTo>
                <a:cubicBezTo>
                  <a:pt x="520" y="115"/>
                  <a:pt x="558" y="126"/>
                  <a:pt x="450" y="126"/>
                </a:cubicBezTo>
                <a:cubicBezTo>
                  <a:pt x="416" y="128"/>
                  <a:pt x="370" y="129"/>
                  <a:pt x="348" y="132"/>
                </a:cubicBezTo>
                <a:cubicBezTo>
                  <a:pt x="320" y="136"/>
                  <a:pt x="312" y="150"/>
                  <a:pt x="288" y="162"/>
                </a:cubicBezTo>
                <a:cubicBezTo>
                  <a:pt x="282" y="165"/>
                  <a:pt x="270" y="168"/>
                  <a:pt x="270" y="168"/>
                </a:cubicBezTo>
                <a:lnTo>
                  <a:pt x="216" y="162"/>
                </a:lnTo>
                <a:lnTo>
                  <a:pt x="162" y="186"/>
                </a:lnTo>
                <a:lnTo>
                  <a:pt x="126" y="204"/>
                </a:lnTo>
                <a:lnTo>
                  <a:pt x="78" y="216"/>
                </a:lnTo>
                <a:lnTo>
                  <a:pt x="42" y="240"/>
                </a:lnTo>
                <a:lnTo>
                  <a:pt x="0" y="264"/>
                </a:lnTo>
                <a:cubicBezTo>
                  <a:pt x="0" y="240"/>
                  <a:pt x="0" y="216"/>
                  <a:pt x="0" y="192"/>
                </a:cubicBezTo>
                <a:lnTo>
                  <a:pt x="132" y="150"/>
                </a:lnTo>
                <a:lnTo>
                  <a:pt x="204" y="114"/>
                </a:lnTo>
                <a:lnTo>
                  <a:pt x="246" y="102"/>
                </a:lnTo>
                <a:lnTo>
                  <a:pt x="300" y="78"/>
                </a:lnTo>
                <a:lnTo>
                  <a:pt x="336" y="66"/>
                </a:lnTo>
                <a:lnTo>
                  <a:pt x="372" y="66"/>
                </a:lnTo>
                <a:lnTo>
                  <a:pt x="444" y="36"/>
                </a:lnTo>
                <a:lnTo>
                  <a:pt x="510" y="30"/>
                </a:lnTo>
                <a:lnTo>
                  <a:pt x="570" y="0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9120" y="5540400"/>
            <a:ext cx="80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1990                 2000     2008-2012              1990                 2000    2008-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9092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175240" y="3873600"/>
            <a:ext cx="304920" cy="555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856720" y="3298680"/>
            <a:ext cx="0" cy="27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20000" y="328140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397944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2000" y="2333520"/>
            <a:ext cx="35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Emission level without JI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8560" y="234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Emission level with JI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955960"/>
            <a:ext cx="182520" cy="8841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31240" y="3017880"/>
            <a:ext cx="274680" cy="974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32720" y="6267600"/>
            <a:ext cx="1298520" cy="38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33A4-787A-4B50-96F7-88D7332B77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207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unction of public administration in JI projects implementation proced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45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Registration of JI pro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ccreditation of specialized companies rendering  services on verification of GHG reduction under JI projects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The issuing of public securities for offsets generated by JI project during the first budget period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ERUs transfer registration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Emission accounting and control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Transactions with AAU’s state  reserves including transactions with AAU’s  surpl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75680" y="6200640"/>
            <a:ext cx="1371600" cy="4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8DAA-39BE-4BE6-B364-27EB39D6E9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8496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rticipants roles in JI projects preparation and implementation circle 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579600" y="1600200"/>
            <a:ext cx="2895480" cy="990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nv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600200"/>
            <a:ext cx="2819520" cy="990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086280"/>
            <a:ext cx="1752840" cy="68580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endCxn id="82" idx="1"/>
          </p:cNvCxnSpPr>
          <p:nvPr/>
        </p:nvCxnSpPr>
        <p:spPr>
          <a:xfrm flipH="1" rot="16200000">
            <a:off x="2571840" y="2647800"/>
            <a:ext cx="800640" cy="76248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84" name=""/>
          <p:cNvSpPr txBox="1"/>
          <p:nvPr/>
        </p:nvSpPr>
        <p:spPr>
          <a:xfrm>
            <a:off x="3276360" y="4467240"/>
            <a:ext cx="1905120" cy="545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5" name=""/>
          <p:cNvCxnSpPr>
            <a:stCxn id="82" idx="3"/>
          </p:cNvCxnSpPr>
          <p:nvPr/>
        </p:nvCxnSpPr>
        <p:spPr>
          <a:xfrm flipV="1">
            <a:off x="5105520" y="2628720"/>
            <a:ext cx="800640" cy="8006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2"/>
            <a:endCxn id="84" idx="3"/>
          </p:cNvCxnSpPr>
          <p:nvPr/>
        </p:nvCxnSpPr>
        <p:spPr>
          <a:xfrm rot="5400000">
            <a:off x="4849200" y="2922480"/>
            <a:ext cx="2149920" cy="148680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endCxn id="80" idx="2"/>
          </p:cNvCxnSpPr>
          <p:nvPr/>
        </p:nvCxnSpPr>
        <p:spPr>
          <a:xfrm flipV="1" rot="16200000">
            <a:off x="1474200" y="3142440"/>
            <a:ext cx="2400840" cy="1296360"/>
          </a:xfrm>
          <a:prstGeom prst="bentConnector3">
            <a:avLst>
              <a:gd name="adj1" fmla="val 0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292560" y="4937040"/>
            <a:ext cx="1904760" cy="1143000"/>
          </a:xfrm>
          <a:prstGeom prst="flowChartPunchedTape">
            <a:avLst/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Lett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223040" y="2606400"/>
            <a:ext cx="15840" cy="24987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91" idx="1"/>
            <a:endCxn id="88" idx="3"/>
          </p:cNvCxnSpPr>
          <p:nvPr/>
        </p:nvCxnSpPr>
        <p:spPr>
          <a:xfrm rot="10800000">
            <a:off x="5196600" y="5508000"/>
            <a:ext cx="686520" cy="108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883120" y="5045040"/>
            <a:ext cx="2590920" cy="9270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Autho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national JI 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9920" y="4862520"/>
            <a:ext cx="38124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009900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1898-4E1B-46C5-B3EE-213FD2E262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icipants roles in JI projects preparation and implementation circl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1371600"/>
            <a:ext cx="2362320" cy="685800"/>
          </a:xfrm>
          <a:prstGeom prst="flowChartProcess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1371600"/>
            <a:ext cx="2362320" cy="685800"/>
          </a:xfrm>
          <a:prstGeom prst="flowChartProcess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68560" y="2286000"/>
            <a:ext cx="2940120" cy="132876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ecision to start 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preparation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2"/>
            <a:endCxn id="96" idx="1"/>
          </p:cNvCxnSpPr>
          <p:nvPr/>
        </p:nvCxnSpPr>
        <p:spPr>
          <a:xfrm flipH="1" rot="16200000">
            <a:off x="1512720" y="2395080"/>
            <a:ext cx="894600" cy="21816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6" idx="3"/>
            <a:endCxn id="95" idx="1"/>
          </p:cNvCxnSpPr>
          <p:nvPr/>
        </p:nvCxnSpPr>
        <p:spPr>
          <a:xfrm flipV="1">
            <a:off x="5008680" y="1714320"/>
            <a:ext cx="1087920" cy="1236960"/>
          </a:xfrm>
          <a:prstGeom prst="bentConnector3">
            <a:avLst>
              <a:gd name="adj1" fmla="val 49917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 txBox="1"/>
          <p:nvPr/>
        </p:nvSpPr>
        <p:spPr>
          <a:xfrm>
            <a:off x="1218960" y="4510800"/>
            <a:ext cx="3740400" cy="9766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oject Design Docu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P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" name=""/>
          <p:cNvCxnSpPr>
            <a:stCxn id="99" idx="1"/>
            <a:endCxn id="94" idx="1"/>
          </p:cNvCxnSpPr>
          <p:nvPr/>
        </p:nvCxnSpPr>
        <p:spPr>
          <a:xfrm rot="10800000">
            <a:off x="669240" y="1713960"/>
            <a:ext cx="550080" cy="3285000"/>
          </a:xfrm>
          <a:prstGeom prst="bentConnector3">
            <a:avLst>
              <a:gd name="adj1" fmla="val 141584"/>
            </a:avLst>
          </a:prstGeom>
          <a:ln w="0">
            <a:noFill/>
          </a:ln>
        </p:spPr>
      </p:cxnSp>
      <p:cxnSp>
        <p:nvCxnSpPr>
          <p:cNvPr id="101" name=""/>
          <p:cNvCxnSpPr>
            <a:stCxn id="94" idx="1"/>
            <a:endCxn id="99" idx="1"/>
          </p:cNvCxnSpPr>
          <p:nvPr/>
        </p:nvCxnSpPr>
        <p:spPr>
          <a:xfrm flipH="1" flipV="1" rot="10800000">
            <a:off x="669600" y="1713600"/>
            <a:ext cx="550080" cy="3285000"/>
          </a:xfrm>
          <a:prstGeom prst="bentConnector3">
            <a:avLst>
              <a:gd name="adj1" fmla="val -4158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400800" y="4267080"/>
            <a:ext cx="2438280" cy="1219320"/>
          </a:xfrm>
          <a:prstGeom prst="flowChartProcess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developer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20574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7680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Option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1 –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  enterprise is a 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Option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2  -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specialized company is a 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2" idx="1"/>
            <a:endCxn id="99" idx="3"/>
          </p:cNvCxnSpPr>
          <p:nvPr/>
        </p:nvCxnSpPr>
        <p:spPr>
          <a:xfrm flipV="1" rot="10800000">
            <a:off x="5562000" y="4875480"/>
            <a:ext cx="838800" cy="12240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867280" y="2514600"/>
            <a:ext cx="2194200" cy="9144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Authorized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JI fo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3120" y="313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1082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1DD3-84BD-4BBB-B3A2-94463D4F4D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icipants roles in JI projects preparation and implementation circle 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294920"/>
            <a:ext cx="2438280" cy="6858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295280"/>
            <a:ext cx="2438280" cy="685800"/>
          </a:xfrm>
          <a:prstGeom prst="flowChartProcess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2"/>
          </p:cNvCxnSpPr>
          <p:nvPr/>
        </p:nvCxnSpPr>
        <p:spPr>
          <a:xfrm flipH="1" rot="16200000">
            <a:off x="2219040" y="1666440"/>
            <a:ext cx="428040" cy="1056240"/>
          </a:xfrm>
          <a:prstGeom prst="bentConnector2">
            <a:avLst/>
          </a:prstGeom>
          <a:ln w="0">
            <a:noFill/>
          </a:ln>
        </p:spPr>
      </p:cxnSp>
      <p:cxnSp>
        <p:nvCxnSpPr>
          <p:cNvPr id="113" name=""/>
          <p:cNvCxnSpPr>
            <a:stCxn id="110" idx="2"/>
            <a:endCxn id="114" idx="1"/>
          </p:cNvCxnSpPr>
          <p:nvPr/>
        </p:nvCxnSpPr>
        <p:spPr>
          <a:xfrm flipH="1" rot="16200000">
            <a:off x="2363040" y="1521360"/>
            <a:ext cx="428040" cy="1346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1" idx="2"/>
            <a:endCxn id="114" idx="3"/>
          </p:cNvCxnSpPr>
          <p:nvPr/>
        </p:nvCxnSpPr>
        <p:spPr>
          <a:xfrm rot="5400000">
            <a:off x="6526440" y="1543680"/>
            <a:ext cx="428040" cy="1302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324480" y="4495680"/>
            <a:ext cx="2592360" cy="144792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0880" y="3413160"/>
            <a:ext cx="2819160" cy="838080"/>
          </a:xfrm>
          <a:prstGeom prst="flowChartProcess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Valid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independent entity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2"/>
            <a:endCxn id="117" idx="0"/>
          </p:cNvCxnSpPr>
          <p:nvPr/>
        </p:nvCxnSpPr>
        <p:spPr>
          <a:xfrm>
            <a:off x="4669920" y="3164040"/>
            <a:ext cx="108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0880" y="3108240"/>
            <a:ext cx="2482920" cy="1209600"/>
          </a:xfrm>
          <a:prstGeom prst="flowChartPunchedTape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0"/>
            <a:endCxn id="110" idx="1"/>
          </p:cNvCxnSpPr>
          <p:nvPr/>
        </p:nvCxnSpPr>
        <p:spPr>
          <a:xfrm flipV="1" rot="16200000">
            <a:off x="358560" y="1964520"/>
            <a:ext cx="1591200" cy="937440"/>
          </a:xfrm>
          <a:prstGeom prst="bentConnector4">
            <a:avLst>
              <a:gd name="adj1" fmla="val 42996"/>
              <a:gd name="adj2" fmla="val 124394"/>
            </a:avLst>
          </a:prstGeom>
          <a:ln w="0">
            <a:noFill/>
          </a:ln>
        </p:spPr>
      </p:cxnSp>
      <p:cxnSp>
        <p:nvCxnSpPr>
          <p:cNvPr id="121" name=""/>
          <p:cNvCxnSpPr>
            <a:stCxn id="119" idx="0"/>
            <a:endCxn id="110" idx="1"/>
          </p:cNvCxnSpPr>
          <p:nvPr/>
        </p:nvCxnSpPr>
        <p:spPr>
          <a:xfrm flipV="1" rot="16200000">
            <a:off x="358560" y="1964520"/>
            <a:ext cx="1591200" cy="937440"/>
          </a:xfrm>
          <a:prstGeom prst="bentConnector4">
            <a:avLst>
              <a:gd name="adj1" fmla="val 42996"/>
              <a:gd name="adj2" fmla="val 12439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0"/>
          </p:cNvCxnSpPr>
          <p:nvPr/>
        </p:nvCxnSpPr>
        <p:spPr>
          <a:xfrm flipH="1" rot="16200000">
            <a:off x="6248160" y="3123000"/>
            <a:ext cx="2515320" cy="23076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23" name=""/>
          <p:cNvCxnSpPr>
            <a:stCxn id="111" idx="2"/>
            <a:endCxn id="116" idx="0"/>
          </p:cNvCxnSpPr>
          <p:nvPr/>
        </p:nvCxnSpPr>
        <p:spPr>
          <a:xfrm>
            <a:off x="7391160" y="1980720"/>
            <a:ext cx="230760" cy="2515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11" idx="2"/>
            <a:endCxn id="116" idx="0"/>
          </p:cNvCxnSpPr>
          <p:nvPr/>
        </p:nvCxnSpPr>
        <p:spPr>
          <a:xfrm flipH="1" rot="16200000">
            <a:off x="6248160" y="3123000"/>
            <a:ext cx="2515320" cy="230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endCxn id="117" idx="1"/>
          </p:cNvCxnSpPr>
          <p:nvPr/>
        </p:nvCxnSpPr>
        <p:spPr>
          <a:xfrm rot="10800000">
            <a:off x="3260160" y="3831480"/>
            <a:ext cx="2896200" cy="1486800"/>
          </a:xfrm>
          <a:prstGeom prst="bentConnector3">
            <a:avLst>
              <a:gd name="adj1" fmla="val 107881"/>
            </a:avLst>
          </a:prstGeom>
          <a:ln w="0">
            <a:noFill/>
          </a:ln>
        </p:spPr>
      </p:cxnSp>
      <p:cxnSp>
        <p:nvCxnSpPr>
          <p:cNvPr id="126" name=""/>
          <p:cNvCxnSpPr>
            <a:stCxn id="116" idx="1"/>
            <a:endCxn id="117" idx="2"/>
          </p:cNvCxnSpPr>
          <p:nvPr/>
        </p:nvCxnSpPr>
        <p:spPr>
          <a:xfrm rot="10800000">
            <a:off x="4669560" y="4250520"/>
            <a:ext cx="1654920" cy="9691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7" idx="1"/>
            <a:endCxn id="119" idx="3"/>
          </p:cNvCxnSpPr>
          <p:nvPr/>
        </p:nvCxnSpPr>
        <p:spPr>
          <a:xfrm rot="10800000">
            <a:off x="2863080" y="3712320"/>
            <a:ext cx="397800" cy="119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28" name=""/>
          <p:cNvCxnSpPr>
            <a:stCxn id="117" idx="1"/>
            <a:endCxn id="119" idx="3"/>
          </p:cNvCxnSpPr>
          <p:nvPr/>
        </p:nvCxnSpPr>
        <p:spPr>
          <a:xfrm rot="10800000">
            <a:off x="2863080" y="3712320"/>
            <a:ext cx="397800" cy="119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95440" y="5029200"/>
            <a:ext cx="2484360" cy="9144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Authorized 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JI 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05160"/>
            <a:ext cx="0" cy="82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78000" y="5562720"/>
            <a:ext cx="3246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60880" y="1660680"/>
            <a:ext cx="2819160" cy="14936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-ord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3179-86F2-4324-9659-827569AA02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ticipants roles in JI projects preparation and implementation circle (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267080"/>
            <a:ext cx="2667240" cy="685800"/>
          </a:xfrm>
          <a:prstGeom prst="flowChartProcess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267080"/>
            <a:ext cx="2667240" cy="685800"/>
          </a:xfrm>
          <a:prstGeom prst="flowChartProcess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v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3505320" cy="9144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uthorized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JI foc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495680"/>
            <a:ext cx="3200400" cy="1752840"/>
          </a:xfrm>
          <a:prstGeom prst="flowChartDecision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2"/>
            <a:endCxn id="138" idx="0"/>
          </p:cNvCxnSpPr>
          <p:nvPr/>
        </p:nvCxnSpPr>
        <p:spPr>
          <a:xfrm>
            <a:off x="4647960" y="4038480"/>
            <a:ext cx="1080" cy="448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819520" y="1371600"/>
            <a:ext cx="3657600" cy="1066680"/>
          </a:xfrm>
          <a:prstGeom prst="flowChartInputOutpu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Recording JI data i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UNFCCC 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460600"/>
            <a:ext cx="380880" cy="663480"/>
          </a:xfrm>
          <a:prstGeom prst="upArrow">
            <a:avLst>
              <a:gd name="adj1" fmla="val 50000"/>
              <a:gd name="adj2" fmla="val 4354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7" idx="1"/>
            <a:endCxn id="136" idx="0"/>
          </p:cNvCxnSpPr>
          <p:nvPr/>
        </p:nvCxnSpPr>
        <p:spPr>
          <a:xfrm flipV="1" rot="10800000">
            <a:off x="1713960" y="3580200"/>
            <a:ext cx="1181520" cy="686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3" name=""/>
          <p:cNvCxnSpPr>
            <a:stCxn id="137" idx="3"/>
            <a:endCxn id="135" idx="0"/>
          </p:cNvCxnSpPr>
          <p:nvPr/>
        </p:nvCxnSpPr>
        <p:spPr>
          <a:xfrm>
            <a:off x="6400800" y="3580920"/>
            <a:ext cx="1029600" cy="686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858000" y="3230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00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2EA8-EFDB-44DA-ABF3-12FCE2639F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itical functions of the authorized national JI focal poi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1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-19836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National JI log maintenance and submission information to the UNFCCC  data 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-19836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Guarantees for offsets trans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-19836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ERU issue and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36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70640" y="6219720"/>
            <a:ext cx="1513080" cy="4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C71F-7BCB-45B2-AE83-87245B8695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Vladimir Maximov</dc:creator>
  <dc:description/>
  <cp:keywords>joint implementation</cp:keywords>
  <dc:language>en-US</dc:language>
  <cp:lastModifiedBy>Jens Wilhelm</cp:lastModifiedBy>
  <dcterms:modified xsi:type="dcterms:W3CDTF">2004-09-17T11:16:15Z</dcterms:modified>
  <cp:revision>159</cp:revision>
  <dc:subject/>
  <dc:title>Proposal on procedures of registration and implementation of JI projects in Russian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7349721</vt:r8>
  </property>
  <property fmtid="{D5CDD505-2E9C-101B-9397-08002B2CF9AE}" pid="3" name="_AuthorEmail">
    <vt:lpwstr>climate@mcc.mecom.ru</vt:lpwstr>
  </property>
  <property fmtid="{D5CDD505-2E9C-101B-9397-08002B2CF9AE}" pid="4" name="_AuthorEmailDisplayName">
    <vt:lpwstr>Sergei Tulinov</vt:lpwstr>
  </property>
  <property fmtid="{D5CDD505-2E9C-101B-9397-08002B2CF9AE}" pid="5" name="_EmailSubject">
    <vt:lpwstr>English translation of speeches by Russian presenters</vt:lpwstr>
  </property>
  <property fmtid="{D5CDD505-2E9C-101B-9397-08002B2CF9AE}" pid="6" name="_PreviousAdHocReviewCycleID">
    <vt:r8>1607101098</vt:r8>
  </property>
</Properties>
</file>