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00120"/>
            <a:ext cx="8305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0012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20012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220968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220968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0012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20012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200120"/>
            <a:ext cx="2674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0012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20012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00120"/>
            <a:ext cx="8305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34160"/>
            <a:ext cx="9144000" cy="1023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476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520" y="1341000"/>
            <a:ext cx="8534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Experience with JI projects in the Czech Republic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Tomas Chme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02920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Climate Chnage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Ministry of the Environ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of the Czech Re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Vršovická 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Praha 10, 100 10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105520"/>
            <a:ext cx="358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Phone: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+420 267 122 3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ax: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+420 267 126 3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omas_Chmelik@env.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JI statu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in Czech Republ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 phase started in January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from potential investor countries (The Netherlands, Austria, Japan, Germany, Denm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WB cooperation – learn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prepared, some capacity building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of projects according to methodology started – some problem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ing areas identified as a key 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ere and how to find good JI projec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experience – lack of supply (enough dem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costs high (identifying the project, preparing the project as a J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reduced in countries with high environmental and technological standards (problem of additiona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ETS – big installations with big potential for reductions covered by EU ETS, some others indirectly linked (double counting problem), extension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folio approach complicated, but could be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thodical appro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and simple, with defined deadlines and types of documents required fo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and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with others (investor – h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ximum of domestic sources (capacity building) – cheaper and often better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 approach but with a space to deal with specific (non-standard)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finition of responsibi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is owner of ERUs generated by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ility of ho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ility of investo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ility of project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ility of intermediators, advisors, other bu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ractual issues, risk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ctual issues one of the most important and most expensive parts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icated by different legal systems of investor and host (related to definition of responsi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risks in a proper way, balanc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yoto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advisors expensive, especially for smal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ized contracts a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unding iss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financing essential – revenue from ERUs not sufficient for even essential part of funding, often available on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ces at the moment (Kyoto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a good project can be turned into a good J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background – what are the money 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f project subsidised by a state (support of renewables for exampl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ternatives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17 trading (IET) possible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of AAU surplus in a way of recycling the revenue into concrete projects against real emission reductions (green inves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approach (coupling of various funding resources in one institution) – one of th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1:04:52Z</dcterms:created>
  <dc:creator>Tomas Chmelik</dc:creator>
  <dc:description/>
  <cp:keywords>joint implementation</cp:keywords>
  <dc:language>en-US</dc:language>
  <cp:lastModifiedBy>Jens Wilhelm</cp:lastModifiedBy>
  <dcterms:modified xsi:type="dcterms:W3CDTF">2004-09-17T11:26:44Z</dcterms:modified>
  <cp:revision>32</cp:revision>
  <dc:subject/>
  <dc:title>Experience with JI projects in the Czech Republic</dc:title>
</cp:coreProperties>
</file>