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2825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688680" y="753480"/>
            <a:ext cx="5368320" cy="37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4640" y="4709160"/>
            <a:ext cx="539676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690480" y="743040"/>
            <a:ext cx="5365800" cy="37177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ll to enhance timeliness and cost-effec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similarity of CDM-R to national registries and other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requir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esign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 development work/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chmark to test subsequent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 is the technical basis for transactions:  issuance, transfers, cance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D8FE-AA70-430B-9B3A-019677567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0F17-7716-4BDA-99FD-4AA886C9F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DE3D-7181-4C75-BA44-7A1C2A3DC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88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30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88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06D2-54F4-4DFF-AD9A-ABB82B4664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3F1C-2D1B-43E2-B02C-FD278A7CA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C364-AA0B-4BEA-8528-593C55994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D4B-F9E8-4B33-A923-FC90CFC8A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EEB5-BAC7-42FB-9011-2F2118A0D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-3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725A-01D2-463B-94BB-52BC9C272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B530-0A2E-4281-9A0E-827CF3246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4B5A-A1F5-483D-B55D-835FA896B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B6BE-E49A-4DE1-8FDE-21C4B5642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90288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75620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6CBB-6725-4FF4-84A9-D1829D9050C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901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90108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108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5080" y="4416480"/>
            <a:ext cx="2518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49640" y="1700280"/>
            <a:ext cx="68025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ss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delines for projects under Article 6 of the Kyoto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NFCCC workshop on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Article 6 projects under the Kyoto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c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6-27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80" y="-360"/>
            <a:ext cx="95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rt. 6 project activity cyc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989600" y="3559320"/>
            <a:ext cx="4620960" cy="2101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project participants;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ccredited independent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6S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rticle 6 super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emission reduction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y private or public body that has been accredited by A6SC and designated by COP/M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 automatic step unless a review is requested within 60 days by one Party involved or three A6SC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utomatic step unless a review is requested within 15 days by one Party involved or three A6SC me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5480" y="1371600"/>
            <a:ext cx="8841600" cy="1676520"/>
            <a:chOff x="825480" y="1371600"/>
            <a:chExt cx="8841600" cy="1676520"/>
          </a:xfrm>
        </p:grpSpPr>
        <p:cxnSp>
          <p:nvCxnSpPr>
            <p:cNvPr id="88" name=""/>
            <p:cNvCxnSpPr>
              <a:stCxn id="89" idx="2"/>
              <a:endCxn id="90" idx="0"/>
            </p:cNvCxnSpPr>
            <p:nvPr/>
          </p:nvCxnSpPr>
          <p:spPr>
            <a:xfrm flipH="1">
              <a:off x="6257520" y="1873080"/>
              <a:ext cx="14400" cy="108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91" name=""/>
            <p:cNvCxnSpPr>
              <a:stCxn id="90" idx="2"/>
              <a:endCxn id="92" idx="0"/>
            </p:cNvCxnSpPr>
            <p:nvPr/>
          </p:nvCxnSpPr>
          <p:spPr>
            <a:xfrm>
              <a:off x="6257880" y="2438280"/>
              <a:ext cx="1440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93" name=""/>
            <p:cNvGrpSpPr/>
            <p:nvPr/>
          </p:nvGrpSpPr>
          <p:grpSpPr>
            <a:xfrm>
              <a:off x="825480" y="1371600"/>
              <a:ext cx="8841600" cy="1676520"/>
              <a:chOff x="825480" y="1371600"/>
              <a:chExt cx="8841600" cy="1676520"/>
            </a:xfrm>
          </p:grpSpPr>
          <p:sp>
            <p:nvSpPr>
              <p:cNvPr id="89" name=""/>
              <p:cNvSpPr/>
              <p:nvPr/>
            </p:nvSpPr>
            <p:spPr>
              <a:xfrm>
                <a:off x="5859000" y="1415880"/>
                <a:ext cx="825120" cy="457200"/>
              </a:xfrm>
              <a:prstGeom prst="flowChartAlternate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80880" y="1981080"/>
                <a:ext cx="2754360" cy="457200"/>
              </a:xfrm>
              <a:prstGeom prst="flowChartAlternate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6SC&amp;COP/M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59000" y="2514600"/>
                <a:ext cx="825120" cy="457200"/>
              </a:xfrm>
              <a:prstGeom prst="flowChartAlternate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57280" y="1981080"/>
                <a:ext cx="1909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creditation/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ig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74480" y="1371600"/>
                <a:ext cx="0" cy="167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" name=""/>
              <p:cNvCxnSpPr>
                <a:endCxn id="92" idx="1"/>
              </p:cNvCxnSpPr>
              <p:nvPr/>
            </p:nvCxnSpPr>
            <p:spPr>
              <a:xfrm flipH="1" rot="16200000">
                <a:off x="2999160" y="-117720"/>
                <a:ext cx="686520" cy="5034240"/>
              </a:xfrm>
              <a:prstGeom prst="curvedConnector5">
                <a:avLst>
                  <a:gd name="adj1" fmla="val -33315"/>
                  <a:gd name="adj2" fmla="val 40105"/>
                  <a:gd name="adj3" fmla="val -33315"/>
                </a:avLst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</p:cxnSp>
        </p:grpSp>
      </p:grpSp>
      <p:sp>
        <p:nvSpPr>
          <p:cNvPr id="97" name=""/>
          <p:cNvSpPr/>
          <p:nvPr/>
        </p:nvSpPr>
        <p:spPr>
          <a:xfrm>
            <a:off x="2557440" y="2438280"/>
            <a:ext cx="23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57440" y="335268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51040" y="42768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7440" y="4572000"/>
            <a:ext cx="191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7440" y="1447920"/>
            <a:ext cx="23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806040" y="1872720"/>
            <a:ext cx="1080" cy="197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55680" y="266688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6S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2"/>
          </p:cNvCxnSpPr>
          <p:nvPr/>
        </p:nvCxnSpPr>
        <p:spPr>
          <a:xfrm>
            <a:off x="806400" y="3124080"/>
            <a:ext cx="7200" cy="153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5" name=""/>
          <p:cNvCxnSpPr/>
          <p:nvPr/>
        </p:nvCxnSpPr>
        <p:spPr>
          <a:xfrm>
            <a:off x="806040" y="4343040"/>
            <a:ext cx="108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6" name=""/>
          <p:cNvCxnSpPr>
            <a:endCxn id="103" idx="0"/>
          </p:cNvCxnSpPr>
          <p:nvPr/>
        </p:nvCxnSpPr>
        <p:spPr>
          <a:xfrm flipH="1">
            <a:off x="806040" y="2527200"/>
            <a:ext cx="7200" cy="14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7" name=""/>
          <p:cNvCxnSpPr/>
          <p:nvPr/>
        </p:nvCxnSpPr>
        <p:spPr>
          <a:xfrm>
            <a:off x="806040" y="3733560"/>
            <a:ext cx="108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8" name=""/>
          <p:cNvCxnSpPr/>
          <p:nvPr/>
        </p:nvCxnSpPr>
        <p:spPr>
          <a:xfrm>
            <a:off x="806040" y="495252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9" name=""/>
          <p:cNvSpPr/>
          <p:nvPr/>
        </p:nvSpPr>
        <p:spPr>
          <a:xfrm>
            <a:off x="2557440" y="3200400"/>
            <a:ext cx="0" cy="60948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57440" y="3886200"/>
            <a:ext cx="0" cy="107172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7440" y="1371600"/>
            <a:ext cx="0" cy="53352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2057400"/>
            <a:ext cx="0" cy="60948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7440" y="2590920"/>
            <a:ext cx="0" cy="53316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80" y="450072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6S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680" y="520380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5680" y="203832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5680" y="139212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" y="386388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5680" y="328140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9200" y="433440"/>
            <a:ext cx="84186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ck 2- How does accreditation work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95320" y="1836720"/>
            <a:ext cx="82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192480"/>
            <a:ext cx="11556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6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887640"/>
            <a:ext cx="82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74080" y="236232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red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345440" y="4800600"/>
            <a:ext cx="1809360" cy="1673280"/>
            <a:chOff x="7345440" y="4800600"/>
            <a:chExt cx="1809360" cy="1673280"/>
          </a:xfrm>
        </p:grpSpPr>
        <p:sp>
          <p:nvSpPr>
            <p:cNvPr id="126" name=""/>
            <p:cNvSpPr/>
            <p:nvPr/>
          </p:nvSpPr>
          <p:spPr>
            <a:xfrm>
              <a:off x="7345440" y="4800600"/>
              <a:ext cx="1809360" cy="836640"/>
            </a:xfrm>
            <a:prstGeom prst="rightArrow">
              <a:avLst>
                <a:gd name="adj1" fmla="val 50000"/>
                <a:gd name="adj2" fmla="val 54066"/>
              </a:avLst>
            </a:prstGeom>
            <a:solidFill>
              <a:srgbClr val="66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 P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45440" y="5637240"/>
              <a:ext cx="1809360" cy="836640"/>
            </a:xfrm>
            <a:prstGeom prst="rightArrow">
              <a:avLst>
                <a:gd name="adj1" fmla="val 50000"/>
                <a:gd name="adj2" fmla="val 54066"/>
              </a:avLst>
            </a:prstGeom>
            <a:solidFill>
              <a:srgbClr val="66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 ER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8" name=""/>
          <p:cNvCxnSpPr>
            <a:stCxn id="123" idx="2"/>
            <a:endCxn id="126" idx="0"/>
          </p:cNvCxnSpPr>
          <p:nvPr/>
        </p:nvCxnSpPr>
        <p:spPr>
          <a:xfrm flipH="1" rot="16200000">
            <a:off x="5570280" y="4008960"/>
            <a:ext cx="8755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3" idx="2"/>
            <a:endCxn id="127" idx="0"/>
          </p:cNvCxnSpPr>
          <p:nvPr/>
        </p:nvCxnSpPr>
        <p:spPr>
          <a:xfrm flipH="1" rot="16200000">
            <a:off x="5151960" y="4427280"/>
            <a:ext cx="171216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1" idx="3"/>
            <a:endCxn id="122" idx="0"/>
          </p:cNvCxnSpPr>
          <p:nvPr/>
        </p:nvCxnSpPr>
        <p:spPr>
          <a:xfrm>
            <a:off x="1588680" y="2064960"/>
            <a:ext cx="143892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2"/>
            <a:endCxn id="126" idx="1"/>
          </p:cNvCxnSpPr>
          <p:nvPr/>
        </p:nvCxnSpPr>
        <p:spPr>
          <a:xfrm flipH="1" rot="16200000">
            <a:off x="5570280" y="4008960"/>
            <a:ext cx="8755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3" idx="2"/>
            <a:endCxn id="127" idx="1"/>
          </p:cNvCxnSpPr>
          <p:nvPr/>
        </p:nvCxnSpPr>
        <p:spPr>
          <a:xfrm flipH="1" rot="16200000">
            <a:off x="5151960" y="4427280"/>
            <a:ext cx="171216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3"/>
            <a:endCxn id="123" idx="0"/>
          </p:cNvCxnSpPr>
          <p:nvPr/>
        </p:nvCxnSpPr>
        <p:spPr>
          <a:xfrm>
            <a:off x="3855600" y="3421080"/>
            <a:ext cx="1815480" cy="467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276800" y="3116160"/>
            <a:ext cx="39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 accredited independent entities (AI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418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 2 - Verification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98360" y="1533600"/>
            <a:ext cx="824040" cy="457200"/>
          </a:xfrm>
          <a:prstGeom prst="flowChartAlternateProcess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3"/>
            <a:endCxn id="138" idx="0"/>
          </p:cNvCxnSpPr>
          <p:nvPr/>
        </p:nvCxnSpPr>
        <p:spPr>
          <a:xfrm>
            <a:off x="944640" y="1762200"/>
            <a:ext cx="1087920" cy="388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056240" y="1273320"/>
            <a:ext cx="15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s projec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do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666880"/>
            <a:ext cx="187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jects if not confor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ith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1"/>
            <a:endCxn id="136" idx="2"/>
          </p:cNvCxnSpPr>
          <p:nvPr/>
        </p:nvCxnSpPr>
        <p:spPr>
          <a:xfrm rot="10800000">
            <a:off x="562680" y="1990080"/>
            <a:ext cx="1064520" cy="388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762200" y="2149560"/>
            <a:ext cx="8748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816520"/>
            <a:ext cx="254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Ex= Accredited independent 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3040" y="649440"/>
            <a:ext cx="2855880" cy="100476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a for baselines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 and crediti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etime (Appendix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1"/>
            <a:endCxn id="136" idx="0"/>
          </p:cNvCxnSpPr>
          <p:nvPr/>
        </p:nvCxnSpPr>
        <p:spPr>
          <a:xfrm flipV="1" rot="10800000">
            <a:off x="562680" y="1151280"/>
            <a:ext cx="2034360" cy="381960"/>
          </a:xfrm>
          <a:prstGeom prst="bentConnector2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6541920" y="2025720"/>
            <a:ext cx="2241720" cy="796680"/>
          </a:xfrm>
          <a:prstGeom prst="flowChartPredefinedProcess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69200" y="2792520"/>
            <a:ext cx="825480" cy="457200"/>
          </a:xfrm>
          <a:prstGeom prst="flowChartAlternateProcess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5800" y="3637080"/>
            <a:ext cx="1224000" cy="457200"/>
          </a:xfrm>
          <a:prstGeom prst="flowChartInputOutput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2"/>
            <a:endCxn id="147" idx="1"/>
          </p:cNvCxnSpPr>
          <p:nvPr/>
        </p:nvCxnSpPr>
        <p:spPr>
          <a:xfrm flipH="1">
            <a:off x="7181640" y="3249720"/>
            <a:ext cx="3600" cy="388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7" idx="4"/>
            <a:endCxn id="150" idx="0"/>
          </p:cNvCxnSpPr>
          <p:nvPr/>
        </p:nvCxnSpPr>
        <p:spPr>
          <a:xfrm>
            <a:off x="7181640" y="409392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272360" y="4376880"/>
            <a:ext cx="1011240" cy="560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2"/>
            <a:endCxn id="152" idx="0"/>
          </p:cNvCxnSpPr>
          <p:nvPr/>
        </p:nvCxnSpPr>
        <p:spPr>
          <a:xfrm>
            <a:off x="7181640" y="4936680"/>
            <a:ext cx="13320" cy="259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15920" y="6323040"/>
            <a:ext cx="28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6SC= Article 6 Super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43" idx="1"/>
            <a:endCxn id="138" idx="0"/>
          </p:cNvCxnSpPr>
          <p:nvPr/>
        </p:nvCxnSpPr>
        <p:spPr>
          <a:xfrm flipH="1">
            <a:off x="2031480" y="1152360"/>
            <a:ext cx="565920" cy="997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2630520" y="1981440"/>
            <a:ext cx="2023920" cy="1022040"/>
          </a:xfrm>
          <a:prstGeom prst="flowChartAlternate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 public throug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FCCC sec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5840" y="3687120"/>
            <a:ext cx="1993680" cy="1373040"/>
          </a:xfrm>
          <a:prstGeom prst="wedgeRectCallout">
            <a:avLst>
              <a:gd name="adj1" fmla="val 43009"/>
              <a:gd name="adj2" fmla="val -124754"/>
            </a:avLst>
          </a:prstGeom>
          <a:solidFill>
            <a:srgbClr val="bfb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D made public - comments withi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 days by Parties, stakeholders 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FCCC accredited N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80000" y="1989000"/>
            <a:ext cx="1658880" cy="1040760"/>
          </a:xfrm>
          <a:prstGeom prst="rightArrow">
            <a:avLst>
              <a:gd name="adj1" fmla="val 50000"/>
              <a:gd name="adj2" fmla="val 39848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in 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68560" y="3503160"/>
            <a:ext cx="2270160" cy="946800"/>
          </a:xfrm>
          <a:prstGeom prst="wedgeRectCallout">
            <a:avLst>
              <a:gd name="adj1" fmla="val 41356"/>
              <a:gd name="adj2" fmla="val -92490"/>
            </a:avLst>
          </a:prstGeom>
          <a:solidFill>
            <a:srgbClr val="a9e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less review by A6SC is requested by a Party involved or 3 of A6SC 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37360" y="5194440"/>
            <a:ext cx="3106800" cy="81252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ation on verifie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Us made publi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ough UNFCCC sec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7000" y="5430600"/>
            <a:ext cx="2268360" cy="946800"/>
          </a:xfrm>
          <a:prstGeom prst="wedgeRectCallout">
            <a:avLst>
              <a:gd name="adj1" fmla="val 91953"/>
              <a:gd name="adj2" fmla="val 34527"/>
            </a:avLst>
          </a:prstGeom>
          <a:solidFill>
            <a:srgbClr val="a9e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less review by A6SC is requested by a Party involved or 3 of A6SC 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9600" y="6002280"/>
            <a:ext cx="1893960" cy="5202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in 1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891720"/>
            <a:ext cx="93693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ork to define the detail of national guide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ork to define the detail of track 2 guidelines of proced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xperience of CDM -&gt; also specific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eth LULUCF other than afforestation and refor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ssuance and transfer of E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velopment of UR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J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two tracks for J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haracterizes track 1 and track 2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0"/>
            <a:ext cx="863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perative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2860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yoto Protocol Art. 6, 12 and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53352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29080" y="3276720"/>
            <a:ext cx="2895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6880" y="44607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11320" y="4419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4459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114800"/>
            <a:ext cx="350532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4114800"/>
            <a:ext cx="350496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9760" y="533412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5334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with GHG emission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0666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ven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Art. 3.3, 4.2 (cooperate, jointly)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676520"/>
            <a:ext cx="53316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431760" y="1263960"/>
            <a:ext cx="53316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12193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IJ under the pilot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J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9158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ission reductions (ERU) are achieved by one Annex Party through projects in another such Par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project based investments shall provide emission reductions, or an enhancement of removals by sinks, that are additional to any that would otherwise occ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s starting as of year 2000 are eligible as Article 6 projects if they meet requirements of guidelines.  ERUs shall only be issued for crediting period after the beginning of year 200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Us bankable to a max of 2.5% of assigned amount pursuant to art. 3.7 &amp; 3.8 of that Party (art.7.4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t. 6 LULUCF projects = Art. 3.3 and 3.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al entities to be authorized by Par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two tracks for J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wo “worlds”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y meets AIP participation requirements for emissions trading (Art. 17) -&gt; use of national JI requirement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(Track 1: “ET like”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y does not meet such requirements -&gt; obligation to use “verification procedure” with international oversight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(Track 2: “CDM like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Party eligible to follow Track 1 may elect to use the  verification procedure under of Track 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detail on eligibility criteria in next session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62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characterizes track 1 and track 2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871560"/>
          <a:ext cx="9902880" cy="5530680"/>
        </p:xfrm>
        <a:graphic>
          <a:graphicData uri="http://schemas.openxmlformats.org/drawingml/2006/table">
            <a:tbl>
              <a:tblPr/>
              <a:tblGrid>
                <a:gridCol w="2590920"/>
                <a:gridCol w="3736800"/>
                <a:gridCol w="357516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design (baseline/ monitoring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uide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ervisory Committee(take into account work by CDM/E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ck project design against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uidelines (option to use Track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ication by A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ck performance of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guidelines (option to use track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ication by accredited A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 if Party meets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addition if track 2 option used:  ERUs exempted from CPR lim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ly if  the Party is in compliance  with eligibility requirements (para 21, a, b &amp; 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se ERUs are exempt from CPR lim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ck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891720"/>
            <a:ext cx="93693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ey role for host Pa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ave designated focal point for approving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ave determined national guidelines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pproving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hall make directly or through secretariat information on projects publicly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et participation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o international guidelines regarding approving projects, baseline defintion, monitoring, verification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ck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891720"/>
            <a:ext cx="93693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Key role for international oversigh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y A6S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ccredit independent enties (A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aseline and monitoring method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Request review of decision of A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y A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termination Art. 6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termination of emission red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5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ck 2 – Determination require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7280" y="1454040"/>
            <a:ext cx="931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IE to check whether project design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been approved by Parties involved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ission additionality: would not have occurred in the absence of the project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line and monitoring plan in accordance with Art. 6 guidelines (Appendix 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alysis of environmental impacts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3:23:48Z</dcterms:created>
  <dc:creator>Chrisine Zumkeller</dc:creator>
  <dc:description/>
  <cp:keywords>clean development mechanism</cp:keywords>
  <dc:language>en-US</dc:language>
  <cp:lastModifiedBy>Jens Wilhelm</cp:lastModifiedBy>
  <cp:lastPrinted>2002-10-15T13:38:34Z</cp:lastPrinted>
  <dcterms:modified xsi:type="dcterms:W3CDTF">2004-09-17T11:06:19Z</dcterms:modified>
  <cp:revision>356</cp:revision>
  <dc:subject/>
  <dc:title>Session 1:Guidelines for projects under Article 6 of the Kyoto Protocol</dc:title>
</cp:coreProperties>
</file>