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E1AB5-228E-47FF-8F80-729FA5DC10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0" y="4019040"/>
            <a:ext cx="91440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E7935-26F9-4386-A93C-352414C7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6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760" y="914400"/>
            <a:ext cx="446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0" y="4019040"/>
            <a:ext cx="446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760" y="4019040"/>
            <a:ext cx="446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8DF52-81D8-4786-A692-182D4D20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29440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091680" y="914400"/>
            <a:ext cx="29440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83360" y="914400"/>
            <a:ext cx="29440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0" y="4019040"/>
            <a:ext cx="29440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091680" y="4019040"/>
            <a:ext cx="29440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83360" y="4019040"/>
            <a:ext cx="29440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63B4D-00AE-464F-9DEC-2C68D6AA8D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40DB6-08CF-40BA-A8F5-0EE2F7E0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CBDEB-596E-42AD-A20C-9FCE9FE6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62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914400"/>
            <a:ext cx="4462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AAFA0-1C5D-477A-9D93-BF2D8224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A4190-BD48-4022-AE23-39F66CF3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270C7-B71F-4E62-BB64-216F113D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6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914400"/>
            <a:ext cx="4462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4019040"/>
            <a:ext cx="446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9B7F-CBD2-467E-998A-BCAF471A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62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914400"/>
            <a:ext cx="446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760" y="4019040"/>
            <a:ext cx="446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D635F-521A-4D11-9127-F206F3FB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6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760" y="914400"/>
            <a:ext cx="446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4019040"/>
            <a:ext cx="91440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7106C-C3B4-463D-8DBB-C92B0D10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3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62920" y="4524480"/>
            <a:ext cx="1981080" cy="1876320"/>
            <a:chOff x="7162920" y="4524480"/>
            <a:chExt cx="1981080" cy="1876320"/>
          </a:xfrm>
        </p:grpSpPr>
        <p:sp>
          <p:nvSpPr>
            <p:cNvPr id="1" name=""/>
            <p:cNvSpPr/>
            <p:nvPr/>
          </p:nvSpPr>
          <p:spPr>
            <a:xfrm>
              <a:off x="7162920" y="4524480"/>
              <a:ext cx="1981080" cy="1348560"/>
            </a:xfrm>
            <a:custGeom>
              <a:avLst/>
              <a:gdLst/>
              <a:ahLst/>
              <a:rect l="l" t="t" r="r" b="b"/>
              <a:pathLst>
                <a:path w="13253" h="8973">
                  <a:moveTo>
                    <a:pt x="3873" y="5007"/>
                  </a:moveTo>
                  <a:lnTo>
                    <a:pt x="3874" y="5004"/>
                  </a:lnTo>
                  <a:lnTo>
                    <a:pt x="3875" y="5000"/>
                  </a:lnTo>
                  <a:lnTo>
                    <a:pt x="3876" y="4996"/>
                  </a:lnTo>
                  <a:lnTo>
                    <a:pt x="3877" y="4994"/>
                  </a:lnTo>
                  <a:lnTo>
                    <a:pt x="3879" y="4991"/>
                  </a:lnTo>
                  <a:lnTo>
                    <a:pt x="3880" y="4987"/>
                  </a:lnTo>
                  <a:lnTo>
                    <a:pt x="3881" y="4983"/>
                  </a:lnTo>
                  <a:lnTo>
                    <a:pt x="3882" y="4980"/>
                  </a:lnTo>
                  <a:lnTo>
                    <a:pt x="3901" y="4962"/>
                  </a:lnTo>
                  <a:lnTo>
                    <a:pt x="3907" y="4938"/>
                  </a:lnTo>
                  <a:lnTo>
                    <a:pt x="3936" y="4908"/>
                  </a:lnTo>
                  <a:lnTo>
                    <a:pt x="3918" y="4898"/>
                  </a:lnTo>
                  <a:lnTo>
                    <a:pt x="3924" y="4880"/>
                  </a:lnTo>
                  <a:lnTo>
                    <a:pt x="4006" y="4886"/>
                  </a:lnTo>
                  <a:lnTo>
                    <a:pt x="4006" y="4950"/>
                  </a:lnTo>
                  <a:lnTo>
                    <a:pt x="3994" y="4956"/>
                  </a:lnTo>
                  <a:lnTo>
                    <a:pt x="4006" y="4979"/>
                  </a:lnTo>
                  <a:lnTo>
                    <a:pt x="3982" y="5037"/>
                  </a:lnTo>
                  <a:lnTo>
                    <a:pt x="3959" y="5032"/>
                  </a:lnTo>
                  <a:lnTo>
                    <a:pt x="3918" y="5043"/>
                  </a:lnTo>
                  <a:lnTo>
                    <a:pt x="3918" y="5014"/>
                  </a:lnTo>
                  <a:lnTo>
                    <a:pt x="3901" y="5002"/>
                  </a:lnTo>
                  <a:lnTo>
                    <a:pt x="3883" y="5026"/>
                  </a:lnTo>
                  <a:lnTo>
                    <a:pt x="3873" y="5007"/>
                  </a:lnTo>
                  <a:close/>
                  <a:moveTo>
                    <a:pt x="8624" y="6684"/>
                  </a:moveTo>
                  <a:lnTo>
                    <a:pt x="8570" y="6696"/>
                  </a:lnTo>
                  <a:lnTo>
                    <a:pt x="8518" y="6706"/>
                  </a:lnTo>
                  <a:lnTo>
                    <a:pt x="8469" y="6714"/>
                  </a:lnTo>
                  <a:lnTo>
                    <a:pt x="8421" y="6720"/>
                  </a:lnTo>
                  <a:lnTo>
                    <a:pt x="8377" y="6723"/>
                  </a:lnTo>
                  <a:lnTo>
                    <a:pt x="8334" y="6726"/>
                  </a:lnTo>
                  <a:lnTo>
                    <a:pt x="8294" y="6728"/>
                  </a:lnTo>
                  <a:lnTo>
                    <a:pt x="8256" y="6728"/>
                  </a:lnTo>
                  <a:lnTo>
                    <a:pt x="8203" y="6727"/>
                  </a:lnTo>
                  <a:lnTo>
                    <a:pt x="8150" y="6725"/>
                  </a:lnTo>
                  <a:lnTo>
                    <a:pt x="8099" y="6721"/>
                  </a:lnTo>
                  <a:lnTo>
                    <a:pt x="8050" y="6715"/>
                  </a:lnTo>
                  <a:lnTo>
                    <a:pt x="8002" y="6707"/>
                  </a:lnTo>
                  <a:lnTo>
                    <a:pt x="7957" y="6697"/>
                  </a:lnTo>
                  <a:lnTo>
                    <a:pt x="7911" y="6687"/>
                  </a:lnTo>
                  <a:lnTo>
                    <a:pt x="7869" y="6675"/>
                  </a:lnTo>
                  <a:lnTo>
                    <a:pt x="7828" y="6660"/>
                  </a:lnTo>
                  <a:lnTo>
                    <a:pt x="7788" y="6645"/>
                  </a:lnTo>
                  <a:lnTo>
                    <a:pt x="7750" y="6628"/>
                  </a:lnTo>
                  <a:lnTo>
                    <a:pt x="7714" y="6611"/>
                  </a:lnTo>
                  <a:lnTo>
                    <a:pt x="7680" y="6590"/>
                  </a:lnTo>
                  <a:lnTo>
                    <a:pt x="7646" y="6569"/>
                  </a:lnTo>
                  <a:lnTo>
                    <a:pt x="7615" y="6548"/>
                  </a:lnTo>
                  <a:lnTo>
                    <a:pt x="7586" y="6524"/>
                  </a:lnTo>
                  <a:lnTo>
                    <a:pt x="7558" y="6499"/>
                  </a:lnTo>
                  <a:lnTo>
                    <a:pt x="7532" y="6473"/>
                  </a:lnTo>
                  <a:lnTo>
                    <a:pt x="7507" y="6445"/>
                  </a:lnTo>
                  <a:lnTo>
                    <a:pt x="7485" y="6417"/>
                  </a:lnTo>
                  <a:lnTo>
                    <a:pt x="7463" y="6388"/>
                  </a:lnTo>
                  <a:lnTo>
                    <a:pt x="7444" y="6357"/>
                  </a:lnTo>
                  <a:lnTo>
                    <a:pt x="7428" y="6325"/>
                  </a:lnTo>
                  <a:lnTo>
                    <a:pt x="7412" y="6293"/>
                  </a:lnTo>
                  <a:lnTo>
                    <a:pt x="7398" y="6260"/>
                  </a:lnTo>
                  <a:lnTo>
                    <a:pt x="7386" y="6225"/>
                  </a:lnTo>
                  <a:lnTo>
                    <a:pt x="7375" y="6190"/>
                  </a:lnTo>
                  <a:lnTo>
                    <a:pt x="7367" y="6153"/>
                  </a:lnTo>
                  <a:lnTo>
                    <a:pt x="7361" y="6116"/>
                  </a:lnTo>
                  <a:lnTo>
                    <a:pt x="7356" y="6078"/>
                  </a:lnTo>
                  <a:lnTo>
                    <a:pt x="7354" y="6039"/>
                  </a:lnTo>
                  <a:lnTo>
                    <a:pt x="7353" y="6000"/>
                  </a:lnTo>
                  <a:lnTo>
                    <a:pt x="7353" y="5966"/>
                  </a:lnTo>
                  <a:lnTo>
                    <a:pt x="7355" y="5933"/>
                  </a:lnTo>
                  <a:lnTo>
                    <a:pt x="7359" y="5900"/>
                  </a:lnTo>
                  <a:lnTo>
                    <a:pt x="7365" y="5866"/>
                  </a:lnTo>
                  <a:lnTo>
                    <a:pt x="7371" y="5833"/>
                  </a:lnTo>
                  <a:lnTo>
                    <a:pt x="7380" y="5801"/>
                  </a:lnTo>
                  <a:lnTo>
                    <a:pt x="7390" y="5768"/>
                  </a:lnTo>
                  <a:lnTo>
                    <a:pt x="7401" y="5737"/>
                  </a:lnTo>
                  <a:lnTo>
                    <a:pt x="7415" y="5705"/>
                  </a:lnTo>
                  <a:lnTo>
                    <a:pt x="7430" y="5674"/>
                  </a:lnTo>
                  <a:lnTo>
                    <a:pt x="7447" y="5644"/>
                  </a:lnTo>
                  <a:lnTo>
                    <a:pt x="7466" y="5615"/>
                  </a:lnTo>
                  <a:lnTo>
                    <a:pt x="7486" y="5586"/>
                  </a:lnTo>
                  <a:lnTo>
                    <a:pt x="7508" y="5557"/>
                  </a:lnTo>
                  <a:lnTo>
                    <a:pt x="7533" y="5530"/>
                  </a:lnTo>
                  <a:lnTo>
                    <a:pt x="7560" y="5505"/>
                  </a:lnTo>
                  <a:lnTo>
                    <a:pt x="7588" y="5480"/>
                  </a:lnTo>
                  <a:lnTo>
                    <a:pt x="7618" y="5455"/>
                  </a:lnTo>
                  <a:lnTo>
                    <a:pt x="7650" y="5433"/>
                  </a:lnTo>
                  <a:lnTo>
                    <a:pt x="7684" y="5411"/>
                  </a:lnTo>
                  <a:lnTo>
                    <a:pt x="7721" y="5391"/>
                  </a:lnTo>
                  <a:lnTo>
                    <a:pt x="7760" y="5372"/>
                  </a:lnTo>
                  <a:lnTo>
                    <a:pt x="7801" y="5355"/>
                  </a:lnTo>
                  <a:lnTo>
                    <a:pt x="7845" y="5340"/>
                  </a:lnTo>
                  <a:lnTo>
                    <a:pt x="7890" y="5326"/>
                  </a:lnTo>
                  <a:lnTo>
                    <a:pt x="7937" y="5313"/>
                  </a:lnTo>
                  <a:lnTo>
                    <a:pt x="7987" y="5302"/>
                  </a:lnTo>
                  <a:lnTo>
                    <a:pt x="8040" y="5292"/>
                  </a:lnTo>
                  <a:lnTo>
                    <a:pt x="8094" y="5286"/>
                  </a:lnTo>
                  <a:lnTo>
                    <a:pt x="8151" y="5281"/>
                  </a:lnTo>
                  <a:lnTo>
                    <a:pt x="8211" y="5278"/>
                  </a:lnTo>
                  <a:lnTo>
                    <a:pt x="8274" y="5277"/>
                  </a:lnTo>
                  <a:lnTo>
                    <a:pt x="8337" y="5277"/>
                  </a:lnTo>
                  <a:lnTo>
                    <a:pt x="8395" y="5281"/>
                  </a:lnTo>
                  <a:lnTo>
                    <a:pt x="8449" y="5285"/>
                  </a:lnTo>
                  <a:lnTo>
                    <a:pt x="8496" y="5290"/>
                  </a:lnTo>
                  <a:lnTo>
                    <a:pt x="8540" y="5297"/>
                  </a:lnTo>
                  <a:lnTo>
                    <a:pt x="8578" y="5303"/>
                  </a:lnTo>
                  <a:lnTo>
                    <a:pt x="8613" y="5310"/>
                  </a:lnTo>
                  <a:lnTo>
                    <a:pt x="8641" y="5317"/>
                  </a:lnTo>
                  <a:lnTo>
                    <a:pt x="8676" y="5323"/>
                  </a:lnTo>
                  <a:lnTo>
                    <a:pt x="8676" y="5691"/>
                  </a:lnTo>
                  <a:lnTo>
                    <a:pt x="8645" y="5680"/>
                  </a:lnTo>
                  <a:lnTo>
                    <a:pt x="8610" y="5670"/>
                  </a:lnTo>
                  <a:lnTo>
                    <a:pt x="8575" y="5661"/>
                  </a:lnTo>
                  <a:lnTo>
                    <a:pt x="8538" y="5654"/>
                  </a:lnTo>
                  <a:lnTo>
                    <a:pt x="8498" y="5647"/>
                  </a:lnTo>
                  <a:lnTo>
                    <a:pt x="8458" y="5642"/>
                  </a:lnTo>
                  <a:lnTo>
                    <a:pt x="8416" y="5639"/>
                  </a:lnTo>
                  <a:lnTo>
                    <a:pt x="8372" y="5638"/>
                  </a:lnTo>
                  <a:lnTo>
                    <a:pt x="8350" y="5638"/>
                  </a:lnTo>
                  <a:lnTo>
                    <a:pt x="8327" y="5639"/>
                  </a:lnTo>
                  <a:lnTo>
                    <a:pt x="8306" y="5642"/>
                  </a:lnTo>
                  <a:lnTo>
                    <a:pt x="8285" y="5645"/>
                  </a:lnTo>
                  <a:lnTo>
                    <a:pt x="8264" y="5649"/>
                  </a:lnTo>
                  <a:lnTo>
                    <a:pt x="8244" y="5654"/>
                  </a:lnTo>
                  <a:lnTo>
                    <a:pt x="8225" y="5658"/>
                  </a:lnTo>
                  <a:lnTo>
                    <a:pt x="8206" y="5664"/>
                  </a:lnTo>
                  <a:lnTo>
                    <a:pt x="8187" y="5672"/>
                  </a:lnTo>
                  <a:lnTo>
                    <a:pt x="8169" y="5679"/>
                  </a:lnTo>
                  <a:lnTo>
                    <a:pt x="8153" y="5687"/>
                  </a:lnTo>
                  <a:lnTo>
                    <a:pt x="8136" y="5697"/>
                  </a:lnTo>
                  <a:lnTo>
                    <a:pt x="8121" y="5706"/>
                  </a:lnTo>
                  <a:lnTo>
                    <a:pt x="8105" y="5717"/>
                  </a:lnTo>
                  <a:lnTo>
                    <a:pt x="8091" y="5727"/>
                  </a:lnTo>
                  <a:lnTo>
                    <a:pt x="8077" y="5738"/>
                  </a:lnTo>
                  <a:lnTo>
                    <a:pt x="8063" y="5751"/>
                  </a:lnTo>
                  <a:lnTo>
                    <a:pt x="8052" y="5763"/>
                  </a:lnTo>
                  <a:lnTo>
                    <a:pt x="8040" y="5776"/>
                  </a:lnTo>
                  <a:lnTo>
                    <a:pt x="8029" y="5790"/>
                  </a:lnTo>
                  <a:lnTo>
                    <a:pt x="8019" y="5805"/>
                  </a:lnTo>
                  <a:lnTo>
                    <a:pt x="8010" y="5819"/>
                  </a:lnTo>
                  <a:lnTo>
                    <a:pt x="8002" y="5834"/>
                  </a:lnTo>
                  <a:lnTo>
                    <a:pt x="7993" y="5850"/>
                  </a:lnTo>
                  <a:lnTo>
                    <a:pt x="7987" y="5865"/>
                  </a:lnTo>
                  <a:lnTo>
                    <a:pt x="7981" y="5882"/>
                  </a:lnTo>
                  <a:lnTo>
                    <a:pt x="7977" y="5899"/>
                  </a:lnTo>
                  <a:lnTo>
                    <a:pt x="7972" y="5916"/>
                  </a:lnTo>
                  <a:lnTo>
                    <a:pt x="7968" y="5933"/>
                  </a:lnTo>
                  <a:lnTo>
                    <a:pt x="7966" y="5951"/>
                  </a:lnTo>
                  <a:lnTo>
                    <a:pt x="7965" y="5970"/>
                  </a:lnTo>
                  <a:lnTo>
                    <a:pt x="7965" y="5988"/>
                  </a:lnTo>
                  <a:lnTo>
                    <a:pt x="7965" y="6014"/>
                  </a:lnTo>
                  <a:lnTo>
                    <a:pt x="7967" y="6042"/>
                  </a:lnTo>
                  <a:lnTo>
                    <a:pt x="7972" y="6071"/>
                  </a:lnTo>
                  <a:lnTo>
                    <a:pt x="7979" y="6101"/>
                  </a:lnTo>
                  <a:lnTo>
                    <a:pt x="7984" y="6116"/>
                  </a:lnTo>
                  <a:lnTo>
                    <a:pt x="7989" y="6132"/>
                  </a:lnTo>
                  <a:lnTo>
                    <a:pt x="7996" y="6146"/>
                  </a:lnTo>
                  <a:lnTo>
                    <a:pt x="8002" y="6161"/>
                  </a:lnTo>
                  <a:lnTo>
                    <a:pt x="8010" y="6176"/>
                  </a:lnTo>
                  <a:lnTo>
                    <a:pt x="8018" y="6191"/>
                  </a:lnTo>
                  <a:lnTo>
                    <a:pt x="8028" y="6205"/>
                  </a:lnTo>
                  <a:lnTo>
                    <a:pt x="8039" y="6220"/>
                  </a:lnTo>
                  <a:lnTo>
                    <a:pt x="8050" y="6233"/>
                  </a:lnTo>
                  <a:lnTo>
                    <a:pt x="8063" y="6246"/>
                  </a:lnTo>
                  <a:lnTo>
                    <a:pt x="8078" y="6259"/>
                  </a:lnTo>
                  <a:lnTo>
                    <a:pt x="8093" y="6271"/>
                  </a:lnTo>
                  <a:lnTo>
                    <a:pt x="8109" y="6281"/>
                  </a:lnTo>
                  <a:lnTo>
                    <a:pt x="8126" y="6292"/>
                  </a:lnTo>
                  <a:lnTo>
                    <a:pt x="8145" y="6303"/>
                  </a:lnTo>
                  <a:lnTo>
                    <a:pt x="8166" y="6312"/>
                  </a:lnTo>
                  <a:lnTo>
                    <a:pt x="8188" y="6321"/>
                  </a:lnTo>
                  <a:lnTo>
                    <a:pt x="8211" y="6328"/>
                  </a:lnTo>
                  <a:lnTo>
                    <a:pt x="8236" y="6334"/>
                  </a:lnTo>
                  <a:lnTo>
                    <a:pt x="8262" y="6340"/>
                  </a:lnTo>
                  <a:lnTo>
                    <a:pt x="8290" y="6343"/>
                  </a:lnTo>
                  <a:lnTo>
                    <a:pt x="8320" y="6347"/>
                  </a:lnTo>
                  <a:lnTo>
                    <a:pt x="8351" y="6349"/>
                  </a:lnTo>
                  <a:lnTo>
                    <a:pt x="8384" y="6349"/>
                  </a:lnTo>
                  <a:lnTo>
                    <a:pt x="8406" y="6349"/>
                  </a:lnTo>
                  <a:lnTo>
                    <a:pt x="8431" y="6348"/>
                  </a:lnTo>
                  <a:lnTo>
                    <a:pt x="8460" y="6346"/>
                  </a:lnTo>
                  <a:lnTo>
                    <a:pt x="8494" y="6341"/>
                  </a:lnTo>
                  <a:lnTo>
                    <a:pt x="8532" y="6334"/>
                  </a:lnTo>
                  <a:lnTo>
                    <a:pt x="8576" y="6325"/>
                  </a:lnTo>
                  <a:lnTo>
                    <a:pt x="8626" y="6312"/>
                  </a:lnTo>
                  <a:lnTo>
                    <a:pt x="8682" y="6297"/>
                  </a:lnTo>
                  <a:lnTo>
                    <a:pt x="8682" y="6483"/>
                  </a:lnTo>
                  <a:lnTo>
                    <a:pt x="8687" y="6455"/>
                  </a:lnTo>
                  <a:lnTo>
                    <a:pt x="8687" y="6401"/>
                  </a:lnTo>
                  <a:lnTo>
                    <a:pt x="8699" y="6303"/>
                  </a:lnTo>
                  <a:lnTo>
                    <a:pt x="8705" y="6227"/>
                  </a:lnTo>
                  <a:lnTo>
                    <a:pt x="8705" y="6192"/>
                  </a:lnTo>
                  <a:lnTo>
                    <a:pt x="8723" y="6140"/>
                  </a:lnTo>
                  <a:lnTo>
                    <a:pt x="8722" y="6137"/>
                  </a:lnTo>
                  <a:lnTo>
                    <a:pt x="8720" y="6134"/>
                  </a:lnTo>
                  <a:lnTo>
                    <a:pt x="8717" y="6128"/>
                  </a:lnTo>
                  <a:lnTo>
                    <a:pt x="8714" y="6121"/>
                  </a:lnTo>
                  <a:lnTo>
                    <a:pt x="8711" y="6114"/>
                  </a:lnTo>
                  <a:lnTo>
                    <a:pt x="8708" y="6108"/>
                  </a:lnTo>
                  <a:lnTo>
                    <a:pt x="8706" y="6102"/>
                  </a:lnTo>
                  <a:lnTo>
                    <a:pt x="8705" y="6098"/>
                  </a:lnTo>
                  <a:lnTo>
                    <a:pt x="8704" y="6094"/>
                  </a:lnTo>
                  <a:lnTo>
                    <a:pt x="8706" y="6085"/>
                  </a:lnTo>
                  <a:lnTo>
                    <a:pt x="8710" y="6075"/>
                  </a:lnTo>
                  <a:lnTo>
                    <a:pt x="8715" y="6061"/>
                  </a:lnTo>
                  <a:lnTo>
                    <a:pt x="8720" y="6050"/>
                  </a:lnTo>
                  <a:lnTo>
                    <a:pt x="8724" y="6039"/>
                  </a:lnTo>
                  <a:lnTo>
                    <a:pt x="8727" y="6032"/>
                  </a:lnTo>
                  <a:lnTo>
                    <a:pt x="8728" y="6028"/>
                  </a:lnTo>
                  <a:lnTo>
                    <a:pt x="8834" y="5929"/>
                  </a:lnTo>
                  <a:lnTo>
                    <a:pt x="8868" y="5953"/>
                  </a:lnTo>
                  <a:lnTo>
                    <a:pt x="8868" y="5895"/>
                  </a:lnTo>
                  <a:lnTo>
                    <a:pt x="8914" y="5883"/>
                  </a:lnTo>
                  <a:lnTo>
                    <a:pt x="8938" y="5837"/>
                  </a:lnTo>
                  <a:lnTo>
                    <a:pt x="8938" y="5837"/>
                  </a:lnTo>
                  <a:lnTo>
                    <a:pt x="8941" y="5838"/>
                  </a:lnTo>
                  <a:lnTo>
                    <a:pt x="8942" y="5840"/>
                  </a:lnTo>
                  <a:lnTo>
                    <a:pt x="8945" y="5843"/>
                  </a:lnTo>
                  <a:lnTo>
                    <a:pt x="8948" y="5844"/>
                  </a:lnTo>
                  <a:lnTo>
                    <a:pt x="8950" y="5846"/>
                  </a:lnTo>
                  <a:lnTo>
                    <a:pt x="8954" y="5847"/>
                  </a:lnTo>
                  <a:lnTo>
                    <a:pt x="8956" y="5847"/>
                  </a:lnTo>
                  <a:lnTo>
                    <a:pt x="8956" y="5849"/>
                  </a:lnTo>
                  <a:lnTo>
                    <a:pt x="8958" y="5849"/>
                  </a:lnTo>
                  <a:lnTo>
                    <a:pt x="8961" y="5846"/>
                  </a:lnTo>
                  <a:lnTo>
                    <a:pt x="8964" y="5844"/>
                  </a:lnTo>
                  <a:lnTo>
                    <a:pt x="8968" y="5842"/>
                  </a:lnTo>
                  <a:lnTo>
                    <a:pt x="8970" y="5839"/>
                  </a:lnTo>
                  <a:lnTo>
                    <a:pt x="8973" y="5837"/>
                  </a:lnTo>
                  <a:lnTo>
                    <a:pt x="8974" y="5837"/>
                  </a:lnTo>
                  <a:lnTo>
                    <a:pt x="8950" y="5813"/>
                  </a:lnTo>
                  <a:lnTo>
                    <a:pt x="8962" y="5801"/>
                  </a:lnTo>
                  <a:lnTo>
                    <a:pt x="8950" y="5783"/>
                  </a:lnTo>
                  <a:lnTo>
                    <a:pt x="8956" y="5767"/>
                  </a:lnTo>
                  <a:lnTo>
                    <a:pt x="8991" y="5749"/>
                  </a:lnTo>
                  <a:lnTo>
                    <a:pt x="9020" y="5743"/>
                  </a:lnTo>
                  <a:lnTo>
                    <a:pt x="9026" y="5714"/>
                  </a:lnTo>
                  <a:lnTo>
                    <a:pt x="9061" y="5719"/>
                  </a:lnTo>
                  <a:lnTo>
                    <a:pt x="9090" y="5697"/>
                  </a:lnTo>
                  <a:lnTo>
                    <a:pt x="9096" y="5714"/>
                  </a:lnTo>
                  <a:lnTo>
                    <a:pt x="9055" y="5755"/>
                  </a:lnTo>
                  <a:lnTo>
                    <a:pt x="9079" y="5767"/>
                  </a:lnTo>
                  <a:lnTo>
                    <a:pt x="9107" y="5749"/>
                  </a:lnTo>
                  <a:lnTo>
                    <a:pt x="9113" y="5714"/>
                  </a:lnTo>
                  <a:lnTo>
                    <a:pt x="9137" y="5708"/>
                  </a:lnTo>
                  <a:lnTo>
                    <a:pt x="9143" y="5655"/>
                  </a:lnTo>
                  <a:lnTo>
                    <a:pt x="9171" y="5655"/>
                  </a:lnTo>
                  <a:lnTo>
                    <a:pt x="9171" y="5620"/>
                  </a:lnTo>
                  <a:lnTo>
                    <a:pt x="9201" y="5603"/>
                  </a:lnTo>
                  <a:lnTo>
                    <a:pt x="9189" y="5586"/>
                  </a:lnTo>
                  <a:lnTo>
                    <a:pt x="9165" y="5580"/>
                  </a:lnTo>
                  <a:lnTo>
                    <a:pt x="9155" y="5603"/>
                  </a:lnTo>
                  <a:lnTo>
                    <a:pt x="9137" y="5609"/>
                  </a:lnTo>
                  <a:lnTo>
                    <a:pt x="9113" y="5544"/>
                  </a:lnTo>
                  <a:lnTo>
                    <a:pt x="9113" y="5452"/>
                  </a:lnTo>
                  <a:lnTo>
                    <a:pt x="9096" y="5428"/>
                  </a:lnTo>
                  <a:lnTo>
                    <a:pt x="9096" y="5382"/>
                  </a:lnTo>
                  <a:lnTo>
                    <a:pt x="9079" y="5358"/>
                  </a:lnTo>
                  <a:lnTo>
                    <a:pt x="9079" y="5300"/>
                  </a:lnTo>
                  <a:lnTo>
                    <a:pt x="9096" y="5283"/>
                  </a:lnTo>
                  <a:lnTo>
                    <a:pt x="9119" y="5229"/>
                  </a:lnTo>
                  <a:lnTo>
                    <a:pt x="9149" y="5229"/>
                  </a:lnTo>
                  <a:lnTo>
                    <a:pt x="9159" y="5189"/>
                  </a:lnTo>
                  <a:lnTo>
                    <a:pt x="9219" y="5265"/>
                  </a:lnTo>
                  <a:lnTo>
                    <a:pt x="9229" y="5247"/>
                  </a:lnTo>
                  <a:lnTo>
                    <a:pt x="9247" y="5271"/>
                  </a:lnTo>
                  <a:lnTo>
                    <a:pt x="9259" y="5235"/>
                  </a:lnTo>
                  <a:lnTo>
                    <a:pt x="9241" y="5213"/>
                  </a:lnTo>
                  <a:lnTo>
                    <a:pt x="9247" y="5101"/>
                  </a:lnTo>
                  <a:lnTo>
                    <a:pt x="9271" y="5096"/>
                  </a:lnTo>
                  <a:lnTo>
                    <a:pt x="9265" y="5067"/>
                  </a:lnTo>
                  <a:lnTo>
                    <a:pt x="9306" y="5073"/>
                  </a:lnTo>
                  <a:lnTo>
                    <a:pt x="9323" y="5101"/>
                  </a:lnTo>
                  <a:lnTo>
                    <a:pt x="9329" y="5131"/>
                  </a:lnTo>
                  <a:lnTo>
                    <a:pt x="9317" y="5149"/>
                  </a:lnTo>
                  <a:lnTo>
                    <a:pt x="9317" y="5219"/>
                  </a:lnTo>
                  <a:lnTo>
                    <a:pt x="9341" y="5288"/>
                  </a:lnTo>
                  <a:lnTo>
                    <a:pt x="9346" y="5376"/>
                  </a:lnTo>
                  <a:lnTo>
                    <a:pt x="9382" y="5434"/>
                  </a:lnTo>
                  <a:lnTo>
                    <a:pt x="9382" y="5498"/>
                  </a:lnTo>
                  <a:lnTo>
                    <a:pt x="9388" y="5538"/>
                  </a:lnTo>
                  <a:lnTo>
                    <a:pt x="9364" y="5574"/>
                  </a:lnTo>
                  <a:lnTo>
                    <a:pt x="9382" y="5597"/>
                  </a:lnTo>
                  <a:lnTo>
                    <a:pt x="9352" y="5615"/>
                  </a:lnTo>
                  <a:lnTo>
                    <a:pt x="9358" y="5632"/>
                  </a:lnTo>
                  <a:lnTo>
                    <a:pt x="9388" y="5650"/>
                  </a:lnTo>
                  <a:lnTo>
                    <a:pt x="9416" y="5743"/>
                  </a:lnTo>
                  <a:lnTo>
                    <a:pt x="9504" y="5871"/>
                  </a:lnTo>
                  <a:lnTo>
                    <a:pt x="9541" y="5900"/>
                  </a:lnTo>
                  <a:lnTo>
                    <a:pt x="9542" y="5918"/>
                  </a:lnTo>
                  <a:lnTo>
                    <a:pt x="9543" y="5935"/>
                  </a:lnTo>
                  <a:lnTo>
                    <a:pt x="9543" y="5952"/>
                  </a:lnTo>
                  <a:lnTo>
                    <a:pt x="9544" y="5970"/>
                  </a:lnTo>
                  <a:lnTo>
                    <a:pt x="9544" y="5988"/>
                  </a:lnTo>
                  <a:lnTo>
                    <a:pt x="9544" y="6006"/>
                  </a:lnTo>
                  <a:lnTo>
                    <a:pt x="9544" y="6022"/>
                  </a:lnTo>
                  <a:lnTo>
                    <a:pt x="9544" y="6040"/>
                  </a:lnTo>
                  <a:lnTo>
                    <a:pt x="9544" y="6095"/>
                  </a:lnTo>
                  <a:lnTo>
                    <a:pt x="9543" y="6149"/>
                  </a:lnTo>
                  <a:lnTo>
                    <a:pt x="9540" y="6204"/>
                  </a:lnTo>
                  <a:lnTo>
                    <a:pt x="9537" y="6258"/>
                  </a:lnTo>
                  <a:lnTo>
                    <a:pt x="9533" y="6311"/>
                  </a:lnTo>
                  <a:lnTo>
                    <a:pt x="9527" y="6365"/>
                  </a:lnTo>
                  <a:lnTo>
                    <a:pt x="9521" y="6417"/>
                  </a:lnTo>
                  <a:lnTo>
                    <a:pt x="9514" y="6470"/>
                  </a:lnTo>
                  <a:lnTo>
                    <a:pt x="9505" y="6523"/>
                  </a:lnTo>
                  <a:lnTo>
                    <a:pt x="9496" y="6575"/>
                  </a:lnTo>
                  <a:lnTo>
                    <a:pt x="9486" y="6626"/>
                  </a:lnTo>
                  <a:lnTo>
                    <a:pt x="9475" y="6678"/>
                  </a:lnTo>
                  <a:lnTo>
                    <a:pt x="9464" y="6729"/>
                  </a:lnTo>
                  <a:lnTo>
                    <a:pt x="9451" y="6779"/>
                  </a:lnTo>
                  <a:lnTo>
                    <a:pt x="9437" y="6830"/>
                  </a:lnTo>
                  <a:lnTo>
                    <a:pt x="9423" y="6880"/>
                  </a:lnTo>
                  <a:lnTo>
                    <a:pt x="9422" y="6880"/>
                  </a:lnTo>
                  <a:lnTo>
                    <a:pt x="9323" y="6816"/>
                  </a:lnTo>
                  <a:lnTo>
                    <a:pt x="9253" y="6734"/>
                  </a:lnTo>
                  <a:lnTo>
                    <a:pt x="9224" y="6722"/>
                  </a:lnTo>
                  <a:lnTo>
                    <a:pt x="9143" y="6641"/>
                  </a:lnTo>
                  <a:lnTo>
                    <a:pt x="9159" y="6630"/>
                  </a:lnTo>
                  <a:lnTo>
                    <a:pt x="9137" y="6594"/>
                  </a:lnTo>
                  <a:lnTo>
                    <a:pt x="9119" y="6594"/>
                  </a:lnTo>
                  <a:lnTo>
                    <a:pt x="9096" y="6577"/>
                  </a:lnTo>
                  <a:lnTo>
                    <a:pt x="9107" y="6571"/>
                  </a:lnTo>
                  <a:lnTo>
                    <a:pt x="9014" y="6483"/>
                  </a:lnTo>
                  <a:lnTo>
                    <a:pt x="9002" y="6513"/>
                  </a:lnTo>
                  <a:lnTo>
                    <a:pt x="9037" y="6530"/>
                  </a:lnTo>
                  <a:lnTo>
                    <a:pt x="9061" y="6571"/>
                  </a:lnTo>
                  <a:lnTo>
                    <a:pt x="9032" y="6565"/>
                  </a:lnTo>
                  <a:lnTo>
                    <a:pt x="9032" y="6618"/>
                  </a:lnTo>
                  <a:lnTo>
                    <a:pt x="9067" y="6658"/>
                  </a:lnTo>
                  <a:lnTo>
                    <a:pt x="9090" y="6740"/>
                  </a:lnTo>
                  <a:lnTo>
                    <a:pt x="9055" y="6716"/>
                  </a:lnTo>
                  <a:lnTo>
                    <a:pt x="9026" y="6682"/>
                  </a:lnTo>
                  <a:lnTo>
                    <a:pt x="9020" y="6646"/>
                  </a:lnTo>
                  <a:lnTo>
                    <a:pt x="8910" y="6618"/>
                  </a:lnTo>
                  <a:lnTo>
                    <a:pt x="8868" y="6618"/>
                  </a:lnTo>
                  <a:lnTo>
                    <a:pt x="8856" y="6636"/>
                  </a:lnTo>
                  <a:lnTo>
                    <a:pt x="8828" y="6646"/>
                  </a:lnTo>
                  <a:lnTo>
                    <a:pt x="8840" y="6670"/>
                  </a:lnTo>
                  <a:lnTo>
                    <a:pt x="8828" y="6716"/>
                  </a:lnTo>
                  <a:lnTo>
                    <a:pt x="8804" y="6752"/>
                  </a:lnTo>
                  <a:lnTo>
                    <a:pt x="8804" y="6704"/>
                  </a:lnTo>
                  <a:lnTo>
                    <a:pt x="8781" y="6704"/>
                  </a:lnTo>
                  <a:lnTo>
                    <a:pt x="8775" y="6670"/>
                  </a:lnTo>
                  <a:lnTo>
                    <a:pt x="8752" y="6694"/>
                  </a:lnTo>
                  <a:lnTo>
                    <a:pt x="8753" y="6695"/>
                  </a:lnTo>
                  <a:lnTo>
                    <a:pt x="8755" y="6699"/>
                  </a:lnTo>
                  <a:lnTo>
                    <a:pt x="8759" y="6704"/>
                  </a:lnTo>
                  <a:lnTo>
                    <a:pt x="8764" y="6712"/>
                  </a:lnTo>
                  <a:lnTo>
                    <a:pt x="8767" y="6719"/>
                  </a:lnTo>
                  <a:lnTo>
                    <a:pt x="8772" y="6726"/>
                  </a:lnTo>
                  <a:lnTo>
                    <a:pt x="8774" y="6731"/>
                  </a:lnTo>
                  <a:lnTo>
                    <a:pt x="8775" y="6734"/>
                  </a:lnTo>
                  <a:lnTo>
                    <a:pt x="8775" y="6735"/>
                  </a:lnTo>
                  <a:lnTo>
                    <a:pt x="8775" y="6737"/>
                  </a:lnTo>
                  <a:lnTo>
                    <a:pt x="8775" y="6738"/>
                  </a:lnTo>
                  <a:lnTo>
                    <a:pt x="8774" y="6739"/>
                  </a:lnTo>
                  <a:lnTo>
                    <a:pt x="8771" y="6742"/>
                  </a:lnTo>
                  <a:lnTo>
                    <a:pt x="8766" y="6745"/>
                  </a:lnTo>
                  <a:lnTo>
                    <a:pt x="8761" y="6747"/>
                  </a:lnTo>
                  <a:lnTo>
                    <a:pt x="8756" y="6750"/>
                  </a:lnTo>
                  <a:lnTo>
                    <a:pt x="8753" y="6751"/>
                  </a:lnTo>
                  <a:lnTo>
                    <a:pt x="8752" y="6752"/>
                  </a:lnTo>
                  <a:lnTo>
                    <a:pt x="8711" y="6676"/>
                  </a:lnTo>
                  <a:lnTo>
                    <a:pt x="8682" y="6710"/>
                  </a:lnTo>
                  <a:lnTo>
                    <a:pt x="8635" y="6716"/>
                  </a:lnTo>
                  <a:lnTo>
                    <a:pt x="8624" y="6684"/>
                  </a:lnTo>
                  <a:close/>
                  <a:moveTo>
                    <a:pt x="6682" y="5847"/>
                  </a:moveTo>
                  <a:lnTo>
                    <a:pt x="6675" y="5834"/>
                  </a:lnTo>
                  <a:lnTo>
                    <a:pt x="6668" y="5818"/>
                  </a:lnTo>
                  <a:lnTo>
                    <a:pt x="6660" y="5801"/>
                  </a:lnTo>
                  <a:lnTo>
                    <a:pt x="6649" y="5783"/>
                  </a:lnTo>
                  <a:lnTo>
                    <a:pt x="6636" y="5765"/>
                  </a:lnTo>
                  <a:lnTo>
                    <a:pt x="6621" y="5748"/>
                  </a:lnTo>
                  <a:lnTo>
                    <a:pt x="6603" y="5729"/>
                  </a:lnTo>
                  <a:lnTo>
                    <a:pt x="6583" y="5711"/>
                  </a:lnTo>
                  <a:lnTo>
                    <a:pt x="6571" y="5702"/>
                  </a:lnTo>
                  <a:lnTo>
                    <a:pt x="6559" y="5694"/>
                  </a:lnTo>
                  <a:lnTo>
                    <a:pt x="6546" y="5686"/>
                  </a:lnTo>
                  <a:lnTo>
                    <a:pt x="6531" y="5678"/>
                  </a:lnTo>
                  <a:lnTo>
                    <a:pt x="6516" y="5670"/>
                  </a:lnTo>
                  <a:lnTo>
                    <a:pt x="6501" y="5663"/>
                  </a:lnTo>
                  <a:lnTo>
                    <a:pt x="6484" y="5657"/>
                  </a:lnTo>
                  <a:lnTo>
                    <a:pt x="6466" y="5651"/>
                  </a:lnTo>
                  <a:lnTo>
                    <a:pt x="6447" y="5645"/>
                  </a:lnTo>
                  <a:lnTo>
                    <a:pt x="6428" y="5641"/>
                  </a:lnTo>
                  <a:lnTo>
                    <a:pt x="6407" y="5637"/>
                  </a:lnTo>
                  <a:lnTo>
                    <a:pt x="6385" y="5634"/>
                  </a:lnTo>
                  <a:lnTo>
                    <a:pt x="6361" y="5630"/>
                  </a:lnTo>
                  <a:lnTo>
                    <a:pt x="6338" y="5628"/>
                  </a:lnTo>
                  <a:lnTo>
                    <a:pt x="6312" y="5626"/>
                  </a:lnTo>
                  <a:lnTo>
                    <a:pt x="6285" y="5626"/>
                  </a:lnTo>
                  <a:lnTo>
                    <a:pt x="6262" y="5626"/>
                  </a:lnTo>
                  <a:lnTo>
                    <a:pt x="6231" y="5628"/>
                  </a:lnTo>
                  <a:lnTo>
                    <a:pt x="6194" y="5631"/>
                  </a:lnTo>
                  <a:lnTo>
                    <a:pt x="6151" y="5637"/>
                  </a:lnTo>
                  <a:lnTo>
                    <a:pt x="6128" y="5641"/>
                  </a:lnTo>
                  <a:lnTo>
                    <a:pt x="6105" y="5644"/>
                  </a:lnTo>
                  <a:lnTo>
                    <a:pt x="6080" y="5650"/>
                  </a:lnTo>
                  <a:lnTo>
                    <a:pt x="6054" y="5656"/>
                  </a:lnTo>
                  <a:lnTo>
                    <a:pt x="6029" y="5663"/>
                  </a:lnTo>
                  <a:lnTo>
                    <a:pt x="6001" y="5672"/>
                  </a:lnTo>
                  <a:lnTo>
                    <a:pt x="5974" y="5680"/>
                  </a:lnTo>
                  <a:lnTo>
                    <a:pt x="5948" y="5691"/>
                  </a:lnTo>
                  <a:lnTo>
                    <a:pt x="5948" y="5357"/>
                  </a:lnTo>
                  <a:lnTo>
                    <a:pt x="5930" y="5335"/>
                  </a:lnTo>
                  <a:lnTo>
                    <a:pt x="5948" y="5317"/>
                  </a:lnTo>
                  <a:lnTo>
                    <a:pt x="5953" y="5271"/>
                  </a:lnTo>
                  <a:lnTo>
                    <a:pt x="5964" y="5265"/>
                  </a:lnTo>
                  <a:lnTo>
                    <a:pt x="5976" y="5235"/>
                  </a:lnTo>
                  <a:lnTo>
                    <a:pt x="5982" y="5183"/>
                  </a:lnTo>
                  <a:lnTo>
                    <a:pt x="5970" y="5177"/>
                  </a:lnTo>
                  <a:lnTo>
                    <a:pt x="5970" y="5149"/>
                  </a:lnTo>
                  <a:lnTo>
                    <a:pt x="5959" y="5149"/>
                  </a:lnTo>
                  <a:lnTo>
                    <a:pt x="5959" y="5171"/>
                  </a:lnTo>
                  <a:lnTo>
                    <a:pt x="5970" y="5183"/>
                  </a:lnTo>
                  <a:lnTo>
                    <a:pt x="5959" y="5235"/>
                  </a:lnTo>
                  <a:lnTo>
                    <a:pt x="5948" y="5265"/>
                  </a:lnTo>
                  <a:lnTo>
                    <a:pt x="5900" y="5265"/>
                  </a:lnTo>
                  <a:lnTo>
                    <a:pt x="5888" y="5294"/>
                  </a:lnTo>
                  <a:lnTo>
                    <a:pt x="5872" y="5288"/>
                  </a:lnTo>
                  <a:lnTo>
                    <a:pt x="5866" y="5311"/>
                  </a:lnTo>
                  <a:lnTo>
                    <a:pt x="5878" y="5329"/>
                  </a:lnTo>
                  <a:lnTo>
                    <a:pt x="5872" y="5416"/>
                  </a:lnTo>
                  <a:lnTo>
                    <a:pt x="5842" y="5458"/>
                  </a:lnTo>
                  <a:lnTo>
                    <a:pt x="5814" y="5480"/>
                  </a:lnTo>
                  <a:lnTo>
                    <a:pt x="5825" y="5504"/>
                  </a:lnTo>
                  <a:lnTo>
                    <a:pt x="5802" y="5544"/>
                  </a:lnTo>
                  <a:lnTo>
                    <a:pt x="5825" y="5550"/>
                  </a:lnTo>
                  <a:lnTo>
                    <a:pt x="5836" y="5568"/>
                  </a:lnTo>
                  <a:lnTo>
                    <a:pt x="5872" y="5556"/>
                  </a:lnTo>
                  <a:lnTo>
                    <a:pt x="5888" y="5574"/>
                  </a:lnTo>
                  <a:lnTo>
                    <a:pt x="5900" y="5580"/>
                  </a:lnTo>
                  <a:lnTo>
                    <a:pt x="5900" y="5592"/>
                  </a:lnTo>
                  <a:lnTo>
                    <a:pt x="5924" y="5615"/>
                  </a:lnTo>
                  <a:lnTo>
                    <a:pt x="5924" y="5691"/>
                  </a:lnTo>
                  <a:lnTo>
                    <a:pt x="5906" y="5697"/>
                  </a:lnTo>
                  <a:lnTo>
                    <a:pt x="5894" y="5714"/>
                  </a:lnTo>
                  <a:lnTo>
                    <a:pt x="5900" y="5743"/>
                  </a:lnTo>
                  <a:lnTo>
                    <a:pt x="5942" y="5783"/>
                  </a:lnTo>
                  <a:lnTo>
                    <a:pt x="5936" y="5801"/>
                  </a:lnTo>
                  <a:lnTo>
                    <a:pt x="5918" y="5773"/>
                  </a:lnTo>
                  <a:lnTo>
                    <a:pt x="5884" y="5743"/>
                  </a:lnTo>
                  <a:lnTo>
                    <a:pt x="5872" y="5719"/>
                  </a:lnTo>
                  <a:lnTo>
                    <a:pt x="5884" y="5702"/>
                  </a:lnTo>
                  <a:lnTo>
                    <a:pt x="5900" y="5655"/>
                  </a:lnTo>
                  <a:lnTo>
                    <a:pt x="5888" y="5626"/>
                  </a:lnTo>
                  <a:lnTo>
                    <a:pt x="5888" y="5592"/>
                  </a:lnTo>
                  <a:lnTo>
                    <a:pt x="5819" y="5592"/>
                  </a:lnTo>
                  <a:lnTo>
                    <a:pt x="5796" y="5619"/>
                  </a:lnTo>
                  <a:lnTo>
                    <a:pt x="5796" y="5632"/>
                  </a:lnTo>
                  <a:lnTo>
                    <a:pt x="5793" y="5632"/>
                  </a:lnTo>
                  <a:lnTo>
                    <a:pt x="5802" y="5644"/>
                  </a:lnTo>
                  <a:lnTo>
                    <a:pt x="5802" y="5645"/>
                  </a:lnTo>
                  <a:lnTo>
                    <a:pt x="5800" y="5649"/>
                  </a:lnTo>
                  <a:lnTo>
                    <a:pt x="5799" y="5655"/>
                  </a:lnTo>
                  <a:lnTo>
                    <a:pt x="5798" y="5661"/>
                  </a:lnTo>
                  <a:lnTo>
                    <a:pt x="5797" y="5668"/>
                  </a:lnTo>
                  <a:lnTo>
                    <a:pt x="5797" y="5674"/>
                  </a:lnTo>
                  <a:lnTo>
                    <a:pt x="5796" y="5678"/>
                  </a:lnTo>
                  <a:lnTo>
                    <a:pt x="5796" y="5679"/>
                  </a:lnTo>
                  <a:lnTo>
                    <a:pt x="5795" y="5680"/>
                  </a:lnTo>
                  <a:lnTo>
                    <a:pt x="5793" y="5683"/>
                  </a:lnTo>
                  <a:lnTo>
                    <a:pt x="5790" y="5688"/>
                  </a:lnTo>
                  <a:lnTo>
                    <a:pt x="5787" y="5693"/>
                  </a:lnTo>
                  <a:lnTo>
                    <a:pt x="5784" y="5699"/>
                  </a:lnTo>
                  <a:lnTo>
                    <a:pt x="5780" y="5704"/>
                  </a:lnTo>
                  <a:lnTo>
                    <a:pt x="5779" y="5707"/>
                  </a:lnTo>
                  <a:lnTo>
                    <a:pt x="5778" y="5708"/>
                  </a:lnTo>
                  <a:lnTo>
                    <a:pt x="5749" y="5714"/>
                  </a:lnTo>
                  <a:lnTo>
                    <a:pt x="5697" y="5777"/>
                  </a:lnTo>
                  <a:lnTo>
                    <a:pt x="5650" y="5777"/>
                  </a:lnTo>
                  <a:lnTo>
                    <a:pt x="5655" y="5801"/>
                  </a:lnTo>
                  <a:lnTo>
                    <a:pt x="5654" y="5801"/>
                  </a:lnTo>
                  <a:lnTo>
                    <a:pt x="5651" y="5801"/>
                  </a:lnTo>
                  <a:lnTo>
                    <a:pt x="5646" y="5801"/>
                  </a:lnTo>
                  <a:lnTo>
                    <a:pt x="5641" y="5801"/>
                  </a:lnTo>
                  <a:lnTo>
                    <a:pt x="5635" y="5801"/>
                  </a:lnTo>
                  <a:lnTo>
                    <a:pt x="5632" y="5801"/>
                  </a:lnTo>
                  <a:lnTo>
                    <a:pt x="5628" y="5801"/>
                  </a:lnTo>
                  <a:lnTo>
                    <a:pt x="5627" y="5801"/>
                  </a:lnTo>
                  <a:lnTo>
                    <a:pt x="5626" y="5800"/>
                  </a:lnTo>
                  <a:lnTo>
                    <a:pt x="5626" y="5799"/>
                  </a:lnTo>
                  <a:lnTo>
                    <a:pt x="5625" y="5795"/>
                  </a:lnTo>
                  <a:lnTo>
                    <a:pt x="5623" y="5793"/>
                  </a:lnTo>
                  <a:lnTo>
                    <a:pt x="5622" y="5789"/>
                  </a:lnTo>
                  <a:lnTo>
                    <a:pt x="5621" y="5787"/>
                  </a:lnTo>
                  <a:lnTo>
                    <a:pt x="5621" y="5784"/>
                  </a:lnTo>
                  <a:lnTo>
                    <a:pt x="5621" y="5783"/>
                  </a:lnTo>
                  <a:lnTo>
                    <a:pt x="5591" y="5773"/>
                  </a:lnTo>
                  <a:lnTo>
                    <a:pt x="5557" y="5743"/>
                  </a:lnTo>
                  <a:lnTo>
                    <a:pt x="5557" y="5702"/>
                  </a:lnTo>
                  <a:lnTo>
                    <a:pt x="5575" y="5719"/>
                  </a:lnTo>
                  <a:lnTo>
                    <a:pt x="5597" y="5725"/>
                  </a:lnTo>
                  <a:lnTo>
                    <a:pt x="5579" y="5737"/>
                  </a:lnTo>
                  <a:lnTo>
                    <a:pt x="5597" y="5755"/>
                  </a:lnTo>
                  <a:lnTo>
                    <a:pt x="5627" y="5749"/>
                  </a:lnTo>
                  <a:lnTo>
                    <a:pt x="5633" y="5731"/>
                  </a:lnTo>
                  <a:lnTo>
                    <a:pt x="5673" y="5714"/>
                  </a:lnTo>
                  <a:lnTo>
                    <a:pt x="5703" y="5685"/>
                  </a:lnTo>
                  <a:lnTo>
                    <a:pt x="5732" y="5673"/>
                  </a:lnTo>
                  <a:lnTo>
                    <a:pt x="5742" y="5632"/>
                  </a:lnTo>
                  <a:lnTo>
                    <a:pt x="5055" y="5632"/>
                  </a:lnTo>
                  <a:lnTo>
                    <a:pt x="5055" y="5831"/>
                  </a:lnTo>
                  <a:lnTo>
                    <a:pt x="5767" y="5831"/>
                  </a:lnTo>
                  <a:lnTo>
                    <a:pt x="5767" y="6151"/>
                  </a:lnTo>
                  <a:lnTo>
                    <a:pt x="5055" y="6151"/>
                  </a:lnTo>
                  <a:lnTo>
                    <a:pt x="5055" y="6373"/>
                  </a:lnTo>
                  <a:lnTo>
                    <a:pt x="5814" y="6373"/>
                  </a:lnTo>
                  <a:lnTo>
                    <a:pt x="5814" y="6700"/>
                  </a:lnTo>
                  <a:lnTo>
                    <a:pt x="4589" y="6700"/>
                  </a:lnTo>
                  <a:lnTo>
                    <a:pt x="4781" y="6775"/>
                  </a:lnTo>
                  <a:lnTo>
                    <a:pt x="4921" y="6816"/>
                  </a:lnTo>
                  <a:lnTo>
                    <a:pt x="5043" y="6786"/>
                  </a:lnTo>
                  <a:lnTo>
                    <a:pt x="5125" y="6868"/>
                  </a:lnTo>
                  <a:lnTo>
                    <a:pt x="5090" y="6961"/>
                  </a:lnTo>
                  <a:lnTo>
                    <a:pt x="5154" y="7009"/>
                  </a:lnTo>
                  <a:lnTo>
                    <a:pt x="5224" y="7055"/>
                  </a:lnTo>
                  <a:lnTo>
                    <a:pt x="5201" y="7090"/>
                  </a:lnTo>
                  <a:lnTo>
                    <a:pt x="5248" y="7101"/>
                  </a:lnTo>
                  <a:lnTo>
                    <a:pt x="5422" y="7073"/>
                  </a:lnTo>
                  <a:lnTo>
                    <a:pt x="5382" y="7101"/>
                  </a:lnTo>
                  <a:lnTo>
                    <a:pt x="5499" y="7515"/>
                  </a:lnTo>
                  <a:lnTo>
                    <a:pt x="5557" y="7475"/>
                  </a:lnTo>
                  <a:lnTo>
                    <a:pt x="5585" y="7545"/>
                  </a:lnTo>
                  <a:lnTo>
                    <a:pt x="5633" y="7557"/>
                  </a:lnTo>
                  <a:lnTo>
                    <a:pt x="5720" y="7545"/>
                  </a:lnTo>
                  <a:lnTo>
                    <a:pt x="5737" y="7579"/>
                  </a:lnTo>
                  <a:lnTo>
                    <a:pt x="5732" y="7649"/>
                  </a:lnTo>
                  <a:lnTo>
                    <a:pt x="5784" y="7673"/>
                  </a:lnTo>
                  <a:lnTo>
                    <a:pt x="5796" y="7731"/>
                  </a:lnTo>
                  <a:lnTo>
                    <a:pt x="5797" y="7733"/>
                  </a:lnTo>
                  <a:lnTo>
                    <a:pt x="5799" y="7736"/>
                  </a:lnTo>
                  <a:lnTo>
                    <a:pt x="5803" y="7741"/>
                  </a:lnTo>
                  <a:lnTo>
                    <a:pt x="5808" y="7746"/>
                  </a:lnTo>
                  <a:lnTo>
                    <a:pt x="5814" y="7752"/>
                  </a:lnTo>
                  <a:lnTo>
                    <a:pt x="5818" y="7756"/>
                  </a:lnTo>
                  <a:lnTo>
                    <a:pt x="5822" y="7759"/>
                  </a:lnTo>
                  <a:lnTo>
                    <a:pt x="5825" y="7760"/>
                  </a:lnTo>
                  <a:lnTo>
                    <a:pt x="5827" y="7761"/>
                  </a:lnTo>
                  <a:lnTo>
                    <a:pt x="5833" y="7760"/>
                  </a:lnTo>
                  <a:lnTo>
                    <a:pt x="5840" y="7758"/>
                  </a:lnTo>
                  <a:lnTo>
                    <a:pt x="5848" y="7754"/>
                  </a:lnTo>
                  <a:lnTo>
                    <a:pt x="5856" y="7750"/>
                  </a:lnTo>
                  <a:lnTo>
                    <a:pt x="5865" y="7747"/>
                  </a:lnTo>
                  <a:lnTo>
                    <a:pt x="5869" y="7744"/>
                  </a:lnTo>
                  <a:lnTo>
                    <a:pt x="5872" y="7743"/>
                  </a:lnTo>
                  <a:lnTo>
                    <a:pt x="5930" y="7824"/>
                  </a:lnTo>
                  <a:lnTo>
                    <a:pt x="5988" y="7796"/>
                  </a:lnTo>
                  <a:lnTo>
                    <a:pt x="5992" y="7796"/>
                  </a:lnTo>
                  <a:lnTo>
                    <a:pt x="6001" y="7794"/>
                  </a:lnTo>
                  <a:lnTo>
                    <a:pt x="6016" y="7793"/>
                  </a:lnTo>
                  <a:lnTo>
                    <a:pt x="6032" y="7792"/>
                  </a:lnTo>
                  <a:lnTo>
                    <a:pt x="6048" y="7792"/>
                  </a:lnTo>
                  <a:lnTo>
                    <a:pt x="6062" y="7791"/>
                  </a:lnTo>
                  <a:lnTo>
                    <a:pt x="6071" y="7790"/>
                  </a:lnTo>
                  <a:lnTo>
                    <a:pt x="6075" y="7790"/>
                  </a:lnTo>
                  <a:lnTo>
                    <a:pt x="6076" y="7788"/>
                  </a:lnTo>
                  <a:lnTo>
                    <a:pt x="6079" y="7784"/>
                  </a:lnTo>
                  <a:lnTo>
                    <a:pt x="6081" y="7779"/>
                  </a:lnTo>
                  <a:lnTo>
                    <a:pt x="6085" y="7772"/>
                  </a:lnTo>
                  <a:lnTo>
                    <a:pt x="6087" y="7766"/>
                  </a:lnTo>
                  <a:lnTo>
                    <a:pt x="6090" y="7760"/>
                  </a:lnTo>
                  <a:lnTo>
                    <a:pt x="6092" y="7756"/>
                  </a:lnTo>
                  <a:lnTo>
                    <a:pt x="6093" y="7754"/>
                  </a:lnTo>
                  <a:lnTo>
                    <a:pt x="6128" y="7749"/>
                  </a:lnTo>
                  <a:lnTo>
                    <a:pt x="6169" y="7720"/>
                  </a:lnTo>
                  <a:lnTo>
                    <a:pt x="6197" y="7720"/>
                  </a:lnTo>
                  <a:lnTo>
                    <a:pt x="6215" y="7702"/>
                  </a:lnTo>
                  <a:lnTo>
                    <a:pt x="6279" y="7691"/>
                  </a:lnTo>
                  <a:lnTo>
                    <a:pt x="6297" y="7714"/>
                  </a:lnTo>
                  <a:lnTo>
                    <a:pt x="6338" y="7708"/>
                  </a:lnTo>
                  <a:lnTo>
                    <a:pt x="6350" y="7737"/>
                  </a:lnTo>
                  <a:lnTo>
                    <a:pt x="6384" y="7737"/>
                  </a:lnTo>
                  <a:lnTo>
                    <a:pt x="6432" y="7796"/>
                  </a:lnTo>
                  <a:lnTo>
                    <a:pt x="6460" y="7802"/>
                  </a:lnTo>
                  <a:lnTo>
                    <a:pt x="6484" y="7818"/>
                  </a:lnTo>
                  <a:lnTo>
                    <a:pt x="6506" y="7807"/>
                  </a:lnTo>
                  <a:lnTo>
                    <a:pt x="6542" y="7836"/>
                  </a:lnTo>
                  <a:lnTo>
                    <a:pt x="6606" y="7778"/>
                  </a:lnTo>
                  <a:lnTo>
                    <a:pt x="6583" y="7661"/>
                  </a:lnTo>
                  <a:lnTo>
                    <a:pt x="6612" y="7621"/>
                  </a:lnTo>
                  <a:lnTo>
                    <a:pt x="6635" y="7603"/>
                  </a:lnTo>
                  <a:lnTo>
                    <a:pt x="6647" y="7569"/>
                  </a:lnTo>
                  <a:lnTo>
                    <a:pt x="6670" y="7591"/>
                  </a:lnTo>
                  <a:lnTo>
                    <a:pt x="6741" y="7615"/>
                  </a:lnTo>
                  <a:lnTo>
                    <a:pt x="6805" y="7633"/>
                  </a:lnTo>
                  <a:lnTo>
                    <a:pt x="6857" y="7679"/>
                  </a:lnTo>
                  <a:lnTo>
                    <a:pt x="6863" y="7720"/>
                  </a:lnTo>
                  <a:lnTo>
                    <a:pt x="6909" y="7772"/>
                  </a:lnTo>
                  <a:lnTo>
                    <a:pt x="6974" y="7790"/>
                  </a:lnTo>
                  <a:lnTo>
                    <a:pt x="7014" y="7760"/>
                  </a:lnTo>
                  <a:lnTo>
                    <a:pt x="7060" y="7731"/>
                  </a:lnTo>
                  <a:lnTo>
                    <a:pt x="7125" y="7749"/>
                  </a:lnTo>
                  <a:lnTo>
                    <a:pt x="7148" y="7772"/>
                  </a:lnTo>
                  <a:lnTo>
                    <a:pt x="7201" y="7778"/>
                  </a:lnTo>
                  <a:lnTo>
                    <a:pt x="7253" y="7842"/>
                  </a:lnTo>
                  <a:lnTo>
                    <a:pt x="7423" y="7842"/>
                  </a:lnTo>
                  <a:lnTo>
                    <a:pt x="7451" y="7813"/>
                  </a:lnTo>
                  <a:lnTo>
                    <a:pt x="7527" y="7784"/>
                  </a:lnTo>
                  <a:lnTo>
                    <a:pt x="7574" y="7702"/>
                  </a:lnTo>
                  <a:lnTo>
                    <a:pt x="7644" y="7667"/>
                  </a:lnTo>
                  <a:lnTo>
                    <a:pt x="7696" y="7696"/>
                  </a:lnTo>
                  <a:lnTo>
                    <a:pt x="7754" y="7673"/>
                  </a:lnTo>
                  <a:lnTo>
                    <a:pt x="7865" y="7696"/>
                  </a:lnTo>
                  <a:lnTo>
                    <a:pt x="7895" y="7638"/>
                  </a:lnTo>
                  <a:lnTo>
                    <a:pt x="7907" y="7638"/>
                  </a:lnTo>
                  <a:lnTo>
                    <a:pt x="7935" y="7609"/>
                  </a:lnTo>
                  <a:lnTo>
                    <a:pt x="7918" y="7569"/>
                  </a:lnTo>
                  <a:lnTo>
                    <a:pt x="7918" y="7533"/>
                  </a:lnTo>
                  <a:lnTo>
                    <a:pt x="7924" y="7463"/>
                  </a:lnTo>
                  <a:lnTo>
                    <a:pt x="7953" y="7388"/>
                  </a:lnTo>
                  <a:lnTo>
                    <a:pt x="7941" y="7318"/>
                  </a:lnTo>
                  <a:lnTo>
                    <a:pt x="7901" y="7306"/>
                  </a:lnTo>
                  <a:lnTo>
                    <a:pt x="7895" y="7264"/>
                  </a:lnTo>
                  <a:lnTo>
                    <a:pt x="8093" y="7148"/>
                  </a:lnTo>
                  <a:lnTo>
                    <a:pt x="8145" y="7178"/>
                  </a:lnTo>
                  <a:lnTo>
                    <a:pt x="8174" y="7154"/>
                  </a:lnTo>
                  <a:lnTo>
                    <a:pt x="8198" y="7160"/>
                  </a:lnTo>
                  <a:lnTo>
                    <a:pt x="8222" y="7154"/>
                  </a:lnTo>
                  <a:lnTo>
                    <a:pt x="8268" y="7200"/>
                  </a:lnTo>
                  <a:lnTo>
                    <a:pt x="8350" y="7306"/>
                  </a:lnTo>
                  <a:lnTo>
                    <a:pt x="8402" y="7376"/>
                  </a:lnTo>
                  <a:lnTo>
                    <a:pt x="8477" y="7446"/>
                  </a:lnTo>
                  <a:lnTo>
                    <a:pt x="8513" y="7428"/>
                  </a:lnTo>
                  <a:lnTo>
                    <a:pt x="8600" y="7428"/>
                  </a:lnTo>
                  <a:lnTo>
                    <a:pt x="8617" y="7446"/>
                  </a:lnTo>
                  <a:lnTo>
                    <a:pt x="8653" y="7422"/>
                  </a:lnTo>
                  <a:lnTo>
                    <a:pt x="8682" y="7358"/>
                  </a:lnTo>
                  <a:lnTo>
                    <a:pt x="8693" y="7352"/>
                  </a:lnTo>
                  <a:lnTo>
                    <a:pt x="8723" y="7324"/>
                  </a:lnTo>
                  <a:lnTo>
                    <a:pt x="8746" y="7340"/>
                  </a:lnTo>
                  <a:lnTo>
                    <a:pt x="8758" y="7324"/>
                  </a:lnTo>
                  <a:lnTo>
                    <a:pt x="8810" y="7340"/>
                  </a:lnTo>
                  <a:lnTo>
                    <a:pt x="8856" y="7334"/>
                  </a:lnTo>
                  <a:lnTo>
                    <a:pt x="8868" y="7312"/>
                  </a:lnTo>
                  <a:lnTo>
                    <a:pt x="8904" y="7306"/>
                  </a:lnTo>
                  <a:lnTo>
                    <a:pt x="8932" y="7288"/>
                  </a:lnTo>
                  <a:lnTo>
                    <a:pt x="8938" y="7312"/>
                  </a:lnTo>
                  <a:lnTo>
                    <a:pt x="8926" y="7340"/>
                  </a:lnTo>
                  <a:lnTo>
                    <a:pt x="8926" y="7342"/>
                  </a:lnTo>
                  <a:lnTo>
                    <a:pt x="8926" y="7345"/>
                  </a:lnTo>
                  <a:lnTo>
                    <a:pt x="8926" y="7350"/>
                  </a:lnTo>
                  <a:lnTo>
                    <a:pt x="8926" y="7355"/>
                  </a:lnTo>
                  <a:lnTo>
                    <a:pt x="8926" y="7361"/>
                  </a:lnTo>
                  <a:lnTo>
                    <a:pt x="8926" y="7365"/>
                  </a:lnTo>
                  <a:lnTo>
                    <a:pt x="8926" y="7369"/>
                  </a:lnTo>
                  <a:lnTo>
                    <a:pt x="8926" y="7370"/>
                  </a:lnTo>
                  <a:lnTo>
                    <a:pt x="8928" y="7371"/>
                  </a:lnTo>
                  <a:lnTo>
                    <a:pt x="8930" y="7375"/>
                  </a:lnTo>
                  <a:lnTo>
                    <a:pt x="8933" y="7381"/>
                  </a:lnTo>
                  <a:lnTo>
                    <a:pt x="8938" y="7387"/>
                  </a:lnTo>
                  <a:lnTo>
                    <a:pt x="8943" y="7394"/>
                  </a:lnTo>
                  <a:lnTo>
                    <a:pt x="8947" y="7400"/>
                  </a:lnTo>
                  <a:lnTo>
                    <a:pt x="8949" y="7403"/>
                  </a:lnTo>
                  <a:lnTo>
                    <a:pt x="8950" y="7405"/>
                  </a:lnTo>
                  <a:lnTo>
                    <a:pt x="8926" y="7457"/>
                  </a:lnTo>
                  <a:lnTo>
                    <a:pt x="8956" y="7492"/>
                  </a:lnTo>
                  <a:lnTo>
                    <a:pt x="8944" y="7527"/>
                  </a:lnTo>
                  <a:lnTo>
                    <a:pt x="8985" y="7575"/>
                  </a:lnTo>
                  <a:lnTo>
                    <a:pt x="8962" y="7621"/>
                  </a:lnTo>
                  <a:lnTo>
                    <a:pt x="8974" y="7649"/>
                  </a:lnTo>
                  <a:lnTo>
                    <a:pt x="8973" y="7651"/>
                  </a:lnTo>
                  <a:lnTo>
                    <a:pt x="8972" y="7654"/>
                  </a:lnTo>
                  <a:lnTo>
                    <a:pt x="8969" y="7659"/>
                  </a:lnTo>
                  <a:lnTo>
                    <a:pt x="8968" y="7665"/>
                  </a:lnTo>
                  <a:lnTo>
                    <a:pt x="8966" y="7670"/>
                  </a:lnTo>
                  <a:lnTo>
                    <a:pt x="8963" y="7674"/>
                  </a:lnTo>
                  <a:lnTo>
                    <a:pt x="8962" y="7678"/>
                  </a:lnTo>
                  <a:lnTo>
                    <a:pt x="8962" y="7679"/>
                  </a:lnTo>
                  <a:lnTo>
                    <a:pt x="8962" y="7683"/>
                  </a:lnTo>
                  <a:lnTo>
                    <a:pt x="8962" y="7695"/>
                  </a:lnTo>
                  <a:lnTo>
                    <a:pt x="8963" y="7712"/>
                  </a:lnTo>
                  <a:lnTo>
                    <a:pt x="8964" y="7731"/>
                  </a:lnTo>
                  <a:lnTo>
                    <a:pt x="8966" y="7752"/>
                  </a:lnTo>
                  <a:lnTo>
                    <a:pt x="8967" y="7769"/>
                  </a:lnTo>
                  <a:lnTo>
                    <a:pt x="8967" y="7783"/>
                  </a:lnTo>
                  <a:lnTo>
                    <a:pt x="8968" y="7790"/>
                  </a:lnTo>
                  <a:lnTo>
                    <a:pt x="8968" y="7790"/>
                  </a:lnTo>
                  <a:lnTo>
                    <a:pt x="8968" y="7790"/>
                  </a:lnTo>
                  <a:lnTo>
                    <a:pt x="8967" y="7790"/>
                  </a:lnTo>
                  <a:lnTo>
                    <a:pt x="8967" y="7790"/>
                  </a:lnTo>
                  <a:lnTo>
                    <a:pt x="8967" y="7790"/>
                  </a:lnTo>
                  <a:lnTo>
                    <a:pt x="8967" y="7790"/>
                  </a:lnTo>
                  <a:lnTo>
                    <a:pt x="8967" y="7790"/>
                  </a:lnTo>
                  <a:lnTo>
                    <a:pt x="8967" y="7790"/>
                  </a:lnTo>
                  <a:lnTo>
                    <a:pt x="8944" y="7796"/>
                  </a:lnTo>
                  <a:lnTo>
                    <a:pt x="8910" y="7737"/>
                  </a:lnTo>
                  <a:lnTo>
                    <a:pt x="8892" y="7778"/>
                  </a:lnTo>
                  <a:lnTo>
                    <a:pt x="8862" y="7813"/>
                  </a:lnTo>
                  <a:lnTo>
                    <a:pt x="8886" y="7830"/>
                  </a:lnTo>
                  <a:lnTo>
                    <a:pt x="8905" y="7869"/>
                  </a:lnTo>
                  <a:lnTo>
                    <a:pt x="8854" y="7932"/>
                  </a:lnTo>
                  <a:lnTo>
                    <a:pt x="8802" y="7993"/>
                  </a:lnTo>
                  <a:lnTo>
                    <a:pt x="8747" y="8052"/>
                  </a:lnTo>
                  <a:lnTo>
                    <a:pt x="8691" y="8111"/>
                  </a:lnTo>
                  <a:lnTo>
                    <a:pt x="8634" y="8166"/>
                  </a:lnTo>
                  <a:lnTo>
                    <a:pt x="8575" y="8221"/>
                  </a:lnTo>
                  <a:lnTo>
                    <a:pt x="8514" y="8275"/>
                  </a:lnTo>
                  <a:lnTo>
                    <a:pt x="8452" y="8326"/>
                  </a:lnTo>
                  <a:lnTo>
                    <a:pt x="8388" y="8376"/>
                  </a:lnTo>
                  <a:lnTo>
                    <a:pt x="8324" y="8423"/>
                  </a:lnTo>
                  <a:lnTo>
                    <a:pt x="8257" y="8470"/>
                  </a:lnTo>
                  <a:lnTo>
                    <a:pt x="8189" y="8515"/>
                  </a:lnTo>
                  <a:lnTo>
                    <a:pt x="8121" y="8557"/>
                  </a:lnTo>
                  <a:lnTo>
                    <a:pt x="8052" y="8598"/>
                  </a:lnTo>
                  <a:lnTo>
                    <a:pt x="7980" y="8637"/>
                  </a:lnTo>
                  <a:lnTo>
                    <a:pt x="7908" y="8674"/>
                  </a:lnTo>
                  <a:lnTo>
                    <a:pt x="7834" y="8708"/>
                  </a:lnTo>
                  <a:lnTo>
                    <a:pt x="7759" y="8742"/>
                  </a:lnTo>
                  <a:lnTo>
                    <a:pt x="7683" y="8773"/>
                  </a:lnTo>
                  <a:lnTo>
                    <a:pt x="7607" y="8801"/>
                  </a:lnTo>
                  <a:lnTo>
                    <a:pt x="7529" y="8828"/>
                  </a:lnTo>
                  <a:lnTo>
                    <a:pt x="7450" y="8852"/>
                  </a:lnTo>
                  <a:lnTo>
                    <a:pt x="7371" y="8875"/>
                  </a:lnTo>
                  <a:lnTo>
                    <a:pt x="7290" y="8895"/>
                  </a:lnTo>
                  <a:lnTo>
                    <a:pt x="7209" y="8913"/>
                  </a:lnTo>
                  <a:lnTo>
                    <a:pt x="7127" y="8930"/>
                  </a:lnTo>
                  <a:lnTo>
                    <a:pt x="7044" y="8943"/>
                  </a:lnTo>
                  <a:lnTo>
                    <a:pt x="6959" y="8953"/>
                  </a:lnTo>
                  <a:lnTo>
                    <a:pt x="6875" y="8962"/>
                  </a:lnTo>
                  <a:lnTo>
                    <a:pt x="6791" y="8969"/>
                  </a:lnTo>
                  <a:lnTo>
                    <a:pt x="6704" y="8972"/>
                  </a:lnTo>
                  <a:lnTo>
                    <a:pt x="6618" y="8973"/>
                  </a:lnTo>
                  <a:lnTo>
                    <a:pt x="6481" y="8970"/>
                  </a:lnTo>
                  <a:lnTo>
                    <a:pt x="6347" y="8962"/>
                  </a:lnTo>
                  <a:lnTo>
                    <a:pt x="6215" y="8946"/>
                  </a:lnTo>
                  <a:lnTo>
                    <a:pt x="6085" y="8925"/>
                  </a:lnTo>
                  <a:lnTo>
                    <a:pt x="5955" y="8899"/>
                  </a:lnTo>
                  <a:lnTo>
                    <a:pt x="5829" y="8867"/>
                  </a:lnTo>
                  <a:lnTo>
                    <a:pt x="5704" y="8828"/>
                  </a:lnTo>
                  <a:lnTo>
                    <a:pt x="5583" y="8786"/>
                  </a:lnTo>
                  <a:lnTo>
                    <a:pt x="5463" y="8738"/>
                  </a:lnTo>
                  <a:lnTo>
                    <a:pt x="5346" y="8685"/>
                  </a:lnTo>
                  <a:lnTo>
                    <a:pt x="5232" y="8626"/>
                  </a:lnTo>
                  <a:lnTo>
                    <a:pt x="5122" y="8565"/>
                  </a:lnTo>
                  <a:lnTo>
                    <a:pt x="5014" y="8497"/>
                  </a:lnTo>
                  <a:lnTo>
                    <a:pt x="4909" y="8426"/>
                  </a:lnTo>
                  <a:lnTo>
                    <a:pt x="4808" y="8349"/>
                  </a:lnTo>
                  <a:lnTo>
                    <a:pt x="4709" y="8269"/>
                  </a:lnTo>
                  <a:lnTo>
                    <a:pt x="4615" y="8184"/>
                  </a:lnTo>
                  <a:lnTo>
                    <a:pt x="4525" y="8096"/>
                  </a:lnTo>
                  <a:lnTo>
                    <a:pt x="4438" y="8004"/>
                  </a:lnTo>
                  <a:lnTo>
                    <a:pt x="4355" y="7907"/>
                  </a:lnTo>
                  <a:lnTo>
                    <a:pt x="4277" y="7809"/>
                  </a:lnTo>
                  <a:lnTo>
                    <a:pt x="4203" y="7705"/>
                  </a:lnTo>
                  <a:lnTo>
                    <a:pt x="4133" y="7599"/>
                  </a:lnTo>
                  <a:lnTo>
                    <a:pt x="4068" y="7490"/>
                  </a:lnTo>
                  <a:lnTo>
                    <a:pt x="4007" y="7378"/>
                  </a:lnTo>
                  <a:lnTo>
                    <a:pt x="3951" y="7263"/>
                  </a:lnTo>
                  <a:lnTo>
                    <a:pt x="3900" y="7145"/>
                  </a:lnTo>
                  <a:lnTo>
                    <a:pt x="3854" y="7024"/>
                  </a:lnTo>
                  <a:lnTo>
                    <a:pt x="3813" y="6902"/>
                  </a:lnTo>
                  <a:lnTo>
                    <a:pt x="3779" y="6777"/>
                  </a:lnTo>
                  <a:lnTo>
                    <a:pt x="3748" y="6649"/>
                  </a:lnTo>
                  <a:lnTo>
                    <a:pt x="3724" y="6519"/>
                  </a:lnTo>
                  <a:lnTo>
                    <a:pt x="3737" y="6530"/>
                  </a:lnTo>
                  <a:lnTo>
                    <a:pt x="3773" y="6466"/>
                  </a:lnTo>
                  <a:lnTo>
                    <a:pt x="3947" y="6489"/>
                  </a:lnTo>
                  <a:lnTo>
                    <a:pt x="4012" y="6559"/>
                  </a:lnTo>
                  <a:lnTo>
                    <a:pt x="4052" y="6600"/>
                  </a:lnTo>
                  <a:lnTo>
                    <a:pt x="4058" y="6728"/>
                  </a:lnTo>
                  <a:lnTo>
                    <a:pt x="4088" y="6688"/>
                  </a:lnTo>
                  <a:lnTo>
                    <a:pt x="4098" y="6769"/>
                  </a:lnTo>
                  <a:lnTo>
                    <a:pt x="4163" y="6764"/>
                  </a:lnTo>
                  <a:lnTo>
                    <a:pt x="4204" y="6810"/>
                  </a:lnTo>
                  <a:lnTo>
                    <a:pt x="4285" y="6833"/>
                  </a:lnTo>
                  <a:lnTo>
                    <a:pt x="4279" y="6933"/>
                  </a:lnTo>
                  <a:lnTo>
                    <a:pt x="4349" y="6927"/>
                  </a:lnTo>
                  <a:lnTo>
                    <a:pt x="4413" y="6985"/>
                  </a:lnTo>
                  <a:lnTo>
                    <a:pt x="4449" y="6939"/>
                  </a:lnTo>
                  <a:lnTo>
                    <a:pt x="4419" y="6827"/>
                  </a:lnTo>
                  <a:lnTo>
                    <a:pt x="4484" y="6833"/>
                  </a:lnTo>
                  <a:lnTo>
                    <a:pt x="4501" y="6769"/>
                  </a:lnTo>
                  <a:lnTo>
                    <a:pt x="4571" y="6810"/>
                  </a:lnTo>
                  <a:lnTo>
                    <a:pt x="4589" y="6740"/>
                  </a:lnTo>
                  <a:lnTo>
                    <a:pt x="4566" y="6700"/>
                  </a:lnTo>
                  <a:lnTo>
                    <a:pt x="4478" y="6700"/>
                  </a:lnTo>
                  <a:lnTo>
                    <a:pt x="4478" y="5300"/>
                  </a:lnTo>
                  <a:lnTo>
                    <a:pt x="5324" y="5300"/>
                  </a:lnTo>
                  <a:lnTo>
                    <a:pt x="5329" y="5288"/>
                  </a:lnTo>
                  <a:lnTo>
                    <a:pt x="5318" y="5271"/>
                  </a:lnTo>
                  <a:lnTo>
                    <a:pt x="5306" y="5271"/>
                  </a:lnTo>
                  <a:lnTo>
                    <a:pt x="5294" y="5277"/>
                  </a:lnTo>
                  <a:lnTo>
                    <a:pt x="5276" y="5265"/>
                  </a:lnTo>
                  <a:lnTo>
                    <a:pt x="5270" y="5277"/>
                  </a:lnTo>
                  <a:lnTo>
                    <a:pt x="5248" y="5283"/>
                  </a:lnTo>
                  <a:lnTo>
                    <a:pt x="5242" y="5271"/>
                  </a:lnTo>
                  <a:lnTo>
                    <a:pt x="5224" y="5253"/>
                  </a:lnTo>
                  <a:lnTo>
                    <a:pt x="5195" y="5229"/>
                  </a:lnTo>
                  <a:lnTo>
                    <a:pt x="5172" y="5235"/>
                  </a:lnTo>
                  <a:lnTo>
                    <a:pt x="5160" y="5253"/>
                  </a:lnTo>
                  <a:lnTo>
                    <a:pt x="5148" y="5235"/>
                  </a:lnTo>
                  <a:lnTo>
                    <a:pt x="5131" y="5225"/>
                  </a:lnTo>
                  <a:lnTo>
                    <a:pt x="5113" y="5201"/>
                  </a:lnTo>
                  <a:lnTo>
                    <a:pt x="5125" y="5195"/>
                  </a:lnTo>
                  <a:lnTo>
                    <a:pt x="5137" y="5207"/>
                  </a:lnTo>
                  <a:lnTo>
                    <a:pt x="5148" y="5207"/>
                  </a:lnTo>
                  <a:lnTo>
                    <a:pt x="5148" y="5189"/>
                  </a:lnTo>
                  <a:lnTo>
                    <a:pt x="5160" y="5183"/>
                  </a:lnTo>
                  <a:lnTo>
                    <a:pt x="5166" y="5165"/>
                  </a:lnTo>
                  <a:lnTo>
                    <a:pt x="5166" y="5155"/>
                  </a:lnTo>
                  <a:lnTo>
                    <a:pt x="5119" y="5155"/>
                  </a:lnTo>
                  <a:lnTo>
                    <a:pt x="5113" y="5177"/>
                  </a:lnTo>
                  <a:lnTo>
                    <a:pt x="5096" y="5177"/>
                  </a:lnTo>
                  <a:lnTo>
                    <a:pt x="5084" y="5171"/>
                  </a:lnTo>
                  <a:lnTo>
                    <a:pt x="5096" y="5149"/>
                  </a:lnTo>
                  <a:lnTo>
                    <a:pt x="5073" y="5149"/>
                  </a:lnTo>
                  <a:lnTo>
                    <a:pt x="5061" y="5137"/>
                  </a:lnTo>
                  <a:lnTo>
                    <a:pt x="4997" y="5131"/>
                  </a:lnTo>
                  <a:lnTo>
                    <a:pt x="4973" y="5131"/>
                  </a:lnTo>
                  <a:lnTo>
                    <a:pt x="4957" y="5107"/>
                  </a:lnTo>
                  <a:lnTo>
                    <a:pt x="4951" y="5131"/>
                  </a:lnTo>
                  <a:lnTo>
                    <a:pt x="4921" y="5119"/>
                  </a:lnTo>
                  <a:lnTo>
                    <a:pt x="4869" y="5155"/>
                  </a:lnTo>
                  <a:lnTo>
                    <a:pt x="4845" y="5149"/>
                  </a:lnTo>
                  <a:lnTo>
                    <a:pt x="4822" y="5113"/>
                  </a:lnTo>
                  <a:lnTo>
                    <a:pt x="4822" y="5090"/>
                  </a:lnTo>
                  <a:lnTo>
                    <a:pt x="4834" y="5067"/>
                  </a:lnTo>
                  <a:lnTo>
                    <a:pt x="4822" y="5055"/>
                  </a:lnTo>
                  <a:lnTo>
                    <a:pt x="4822" y="5037"/>
                  </a:lnTo>
                  <a:lnTo>
                    <a:pt x="4881" y="5032"/>
                  </a:lnTo>
                  <a:lnTo>
                    <a:pt x="4903" y="5061"/>
                  </a:lnTo>
                  <a:lnTo>
                    <a:pt x="4921" y="5032"/>
                  </a:lnTo>
                  <a:lnTo>
                    <a:pt x="4915" y="5014"/>
                  </a:lnTo>
                  <a:lnTo>
                    <a:pt x="4915" y="5002"/>
                  </a:lnTo>
                  <a:lnTo>
                    <a:pt x="4927" y="4985"/>
                  </a:lnTo>
                  <a:lnTo>
                    <a:pt x="4927" y="4979"/>
                  </a:lnTo>
                  <a:lnTo>
                    <a:pt x="4897" y="4944"/>
                  </a:lnTo>
                  <a:lnTo>
                    <a:pt x="4886" y="4926"/>
                  </a:lnTo>
                  <a:lnTo>
                    <a:pt x="4886" y="4898"/>
                  </a:lnTo>
                  <a:lnTo>
                    <a:pt x="4875" y="4898"/>
                  </a:lnTo>
                  <a:lnTo>
                    <a:pt x="4875" y="4944"/>
                  </a:lnTo>
                  <a:lnTo>
                    <a:pt x="4840" y="4985"/>
                  </a:lnTo>
                  <a:lnTo>
                    <a:pt x="4781" y="5014"/>
                  </a:lnTo>
                  <a:lnTo>
                    <a:pt x="4781" y="5049"/>
                  </a:lnTo>
                  <a:lnTo>
                    <a:pt x="4758" y="5084"/>
                  </a:lnTo>
                  <a:lnTo>
                    <a:pt x="4734" y="5090"/>
                  </a:lnTo>
                  <a:lnTo>
                    <a:pt x="4711" y="5096"/>
                  </a:lnTo>
                  <a:lnTo>
                    <a:pt x="4711" y="5078"/>
                  </a:lnTo>
                  <a:lnTo>
                    <a:pt x="4716" y="5067"/>
                  </a:lnTo>
                  <a:lnTo>
                    <a:pt x="4694" y="5043"/>
                  </a:lnTo>
                  <a:lnTo>
                    <a:pt x="4700" y="5020"/>
                  </a:lnTo>
                  <a:lnTo>
                    <a:pt x="4688" y="5008"/>
                  </a:lnTo>
                  <a:lnTo>
                    <a:pt x="4648" y="5020"/>
                  </a:lnTo>
                  <a:lnTo>
                    <a:pt x="4618" y="5002"/>
                  </a:lnTo>
                  <a:lnTo>
                    <a:pt x="4577" y="5008"/>
                  </a:lnTo>
                  <a:lnTo>
                    <a:pt x="4548" y="4996"/>
                  </a:lnTo>
                  <a:lnTo>
                    <a:pt x="4525" y="5032"/>
                  </a:lnTo>
                  <a:lnTo>
                    <a:pt x="4519" y="5073"/>
                  </a:lnTo>
                  <a:lnTo>
                    <a:pt x="4495" y="5073"/>
                  </a:lnTo>
                  <a:lnTo>
                    <a:pt x="4478" y="5061"/>
                  </a:lnTo>
                  <a:lnTo>
                    <a:pt x="4449" y="4968"/>
                  </a:lnTo>
                  <a:lnTo>
                    <a:pt x="4455" y="4956"/>
                  </a:lnTo>
                  <a:lnTo>
                    <a:pt x="4455" y="4926"/>
                  </a:lnTo>
                  <a:lnTo>
                    <a:pt x="4431" y="4932"/>
                  </a:lnTo>
                  <a:lnTo>
                    <a:pt x="4419" y="4926"/>
                  </a:lnTo>
                  <a:lnTo>
                    <a:pt x="4403" y="4991"/>
                  </a:lnTo>
                  <a:lnTo>
                    <a:pt x="4413" y="5020"/>
                  </a:lnTo>
                  <a:lnTo>
                    <a:pt x="4397" y="5037"/>
                  </a:lnTo>
                  <a:lnTo>
                    <a:pt x="4367" y="5043"/>
                  </a:lnTo>
                  <a:lnTo>
                    <a:pt x="4349" y="5026"/>
                  </a:lnTo>
                  <a:lnTo>
                    <a:pt x="4343" y="4996"/>
                  </a:lnTo>
                  <a:lnTo>
                    <a:pt x="4339" y="4974"/>
                  </a:lnTo>
                  <a:lnTo>
                    <a:pt x="4343" y="4956"/>
                  </a:lnTo>
                  <a:lnTo>
                    <a:pt x="4349" y="4944"/>
                  </a:lnTo>
                  <a:lnTo>
                    <a:pt x="4349" y="4926"/>
                  </a:lnTo>
                  <a:lnTo>
                    <a:pt x="4339" y="4904"/>
                  </a:lnTo>
                  <a:lnTo>
                    <a:pt x="4349" y="4880"/>
                  </a:lnTo>
                  <a:lnTo>
                    <a:pt x="4379" y="4868"/>
                  </a:lnTo>
                  <a:lnTo>
                    <a:pt x="4413" y="4816"/>
                  </a:lnTo>
                  <a:lnTo>
                    <a:pt x="4431" y="4816"/>
                  </a:lnTo>
                  <a:lnTo>
                    <a:pt x="4478" y="4786"/>
                  </a:lnTo>
                  <a:lnTo>
                    <a:pt x="4467" y="4734"/>
                  </a:lnTo>
                  <a:lnTo>
                    <a:pt x="4478" y="4717"/>
                  </a:lnTo>
                  <a:lnTo>
                    <a:pt x="4478" y="4693"/>
                  </a:lnTo>
                  <a:lnTo>
                    <a:pt x="4478" y="4670"/>
                  </a:lnTo>
                  <a:lnTo>
                    <a:pt x="4484" y="4665"/>
                  </a:lnTo>
                  <a:lnTo>
                    <a:pt x="4484" y="4635"/>
                  </a:lnTo>
                  <a:lnTo>
                    <a:pt x="4507" y="4635"/>
                  </a:lnTo>
                  <a:lnTo>
                    <a:pt x="4507" y="4659"/>
                  </a:lnTo>
                  <a:lnTo>
                    <a:pt x="4501" y="4659"/>
                  </a:lnTo>
                  <a:lnTo>
                    <a:pt x="4501" y="4693"/>
                  </a:lnTo>
                  <a:lnTo>
                    <a:pt x="4513" y="4705"/>
                  </a:lnTo>
                  <a:lnTo>
                    <a:pt x="4501" y="4717"/>
                  </a:lnTo>
                  <a:lnTo>
                    <a:pt x="4513" y="4729"/>
                  </a:lnTo>
                  <a:lnTo>
                    <a:pt x="4501" y="4734"/>
                  </a:lnTo>
                  <a:lnTo>
                    <a:pt x="4501" y="4746"/>
                  </a:lnTo>
                  <a:lnTo>
                    <a:pt x="4519" y="4758"/>
                  </a:lnTo>
                  <a:lnTo>
                    <a:pt x="4519" y="4775"/>
                  </a:lnTo>
                  <a:lnTo>
                    <a:pt x="4519" y="4810"/>
                  </a:lnTo>
                  <a:lnTo>
                    <a:pt x="4542" y="4845"/>
                  </a:lnTo>
                  <a:lnTo>
                    <a:pt x="4554" y="4908"/>
                  </a:lnTo>
                  <a:lnTo>
                    <a:pt x="4566" y="4926"/>
                  </a:lnTo>
                  <a:lnTo>
                    <a:pt x="4624" y="4968"/>
                  </a:lnTo>
                  <a:lnTo>
                    <a:pt x="4694" y="4968"/>
                  </a:lnTo>
                  <a:lnTo>
                    <a:pt x="4716" y="4944"/>
                  </a:lnTo>
                  <a:lnTo>
                    <a:pt x="4728" y="4920"/>
                  </a:lnTo>
                  <a:lnTo>
                    <a:pt x="4752" y="4898"/>
                  </a:lnTo>
                  <a:lnTo>
                    <a:pt x="4752" y="4850"/>
                  </a:lnTo>
                  <a:lnTo>
                    <a:pt x="4758" y="4840"/>
                  </a:lnTo>
                  <a:lnTo>
                    <a:pt x="4746" y="4828"/>
                  </a:lnTo>
                  <a:lnTo>
                    <a:pt x="4752" y="4810"/>
                  </a:lnTo>
                  <a:lnTo>
                    <a:pt x="4752" y="4781"/>
                  </a:lnTo>
                  <a:lnTo>
                    <a:pt x="4746" y="4763"/>
                  </a:lnTo>
                  <a:lnTo>
                    <a:pt x="4752" y="4740"/>
                  </a:lnTo>
                  <a:lnTo>
                    <a:pt x="4752" y="4705"/>
                  </a:lnTo>
                  <a:lnTo>
                    <a:pt x="4752" y="4681"/>
                  </a:lnTo>
                  <a:lnTo>
                    <a:pt x="4758" y="4665"/>
                  </a:lnTo>
                  <a:lnTo>
                    <a:pt x="4752" y="4629"/>
                  </a:lnTo>
                  <a:lnTo>
                    <a:pt x="4722" y="4559"/>
                  </a:lnTo>
                  <a:lnTo>
                    <a:pt x="4700" y="4571"/>
                  </a:lnTo>
                  <a:lnTo>
                    <a:pt x="4688" y="4565"/>
                  </a:lnTo>
                  <a:lnTo>
                    <a:pt x="4706" y="4559"/>
                  </a:lnTo>
                  <a:lnTo>
                    <a:pt x="4716" y="4541"/>
                  </a:lnTo>
                  <a:lnTo>
                    <a:pt x="4700" y="4531"/>
                  </a:lnTo>
                  <a:lnTo>
                    <a:pt x="4706" y="4519"/>
                  </a:lnTo>
                  <a:lnTo>
                    <a:pt x="4711" y="4495"/>
                  </a:lnTo>
                  <a:lnTo>
                    <a:pt x="4722" y="4513"/>
                  </a:lnTo>
                  <a:lnTo>
                    <a:pt x="4740" y="4513"/>
                  </a:lnTo>
                  <a:lnTo>
                    <a:pt x="4740" y="4466"/>
                  </a:lnTo>
                  <a:lnTo>
                    <a:pt x="4711" y="4472"/>
                  </a:lnTo>
                  <a:lnTo>
                    <a:pt x="4706" y="4443"/>
                  </a:lnTo>
                  <a:lnTo>
                    <a:pt x="4676" y="4443"/>
                  </a:lnTo>
                  <a:lnTo>
                    <a:pt x="4676" y="4425"/>
                  </a:lnTo>
                  <a:lnTo>
                    <a:pt x="4653" y="4431"/>
                  </a:lnTo>
                  <a:lnTo>
                    <a:pt x="4642" y="4414"/>
                  </a:lnTo>
                  <a:lnTo>
                    <a:pt x="4612" y="4419"/>
                  </a:lnTo>
                  <a:lnTo>
                    <a:pt x="4589" y="4402"/>
                  </a:lnTo>
                  <a:lnTo>
                    <a:pt x="4583" y="4419"/>
                  </a:lnTo>
                  <a:lnTo>
                    <a:pt x="4542" y="4425"/>
                  </a:lnTo>
                  <a:lnTo>
                    <a:pt x="4519" y="4454"/>
                  </a:lnTo>
                  <a:lnTo>
                    <a:pt x="4513" y="4507"/>
                  </a:lnTo>
                  <a:lnTo>
                    <a:pt x="4484" y="4531"/>
                  </a:lnTo>
                  <a:lnTo>
                    <a:pt x="4419" y="4531"/>
                  </a:lnTo>
                  <a:lnTo>
                    <a:pt x="4343" y="4629"/>
                  </a:lnTo>
                  <a:lnTo>
                    <a:pt x="4291" y="4641"/>
                  </a:lnTo>
                  <a:lnTo>
                    <a:pt x="4285" y="4659"/>
                  </a:lnTo>
                  <a:lnTo>
                    <a:pt x="4251" y="4659"/>
                  </a:lnTo>
                  <a:lnTo>
                    <a:pt x="4251" y="4693"/>
                  </a:lnTo>
                  <a:lnTo>
                    <a:pt x="4221" y="4699"/>
                  </a:lnTo>
                  <a:lnTo>
                    <a:pt x="4210" y="4740"/>
                  </a:lnTo>
                  <a:lnTo>
                    <a:pt x="4169" y="4740"/>
                  </a:lnTo>
                  <a:lnTo>
                    <a:pt x="4128" y="4850"/>
                  </a:lnTo>
                  <a:lnTo>
                    <a:pt x="4098" y="4862"/>
                  </a:lnTo>
                  <a:lnTo>
                    <a:pt x="3945" y="4830"/>
                  </a:lnTo>
                  <a:lnTo>
                    <a:pt x="3990" y="4735"/>
                  </a:lnTo>
                  <a:lnTo>
                    <a:pt x="4038" y="4642"/>
                  </a:lnTo>
                  <a:lnTo>
                    <a:pt x="4089" y="4552"/>
                  </a:lnTo>
                  <a:lnTo>
                    <a:pt x="4144" y="4464"/>
                  </a:lnTo>
                  <a:lnTo>
                    <a:pt x="4201" y="4377"/>
                  </a:lnTo>
                  <a:lnTo>
                    <a:pt x="4261" y="4293"/>
                  </a:lnTo>
                  <a:lnTo>
                    <a:pt x="4324" y="4212"/>
                  </a:lnTo>
                  <a:lnTo>
                    <a:pt x="4390" y="4132"/>
                  </a:lnTo>
                  <a:lnTo>
                    <a:pt x="4459" y="4055"/>
                  </a:lnTo>
                  <a:lnTo>
                    <a:pt x="4530" y="3980"/>
                  </a:lnTo>
                  <a:lnTo>
                    <a:pt x="4604" y="3908"/>
                  </a:lnTo>
                  <a:lnTo>
                    <a:pt x="4680" y="3838"/>
                  </a:lnTo>
                  <a:lnTo>
                    <a:pt x="4758" y="3771"/>
                  </a:lnTo>
                  <a:lnTo>
                    <a:pt x="4840" y="3707"/>
                  </a:lnTo>
                  <a:lnTo>
                    <a:pt x="4923" y="3646"/>
                  </a:lnTo>
                  <a:lnTo>
                    <a:pt x="5009" y="3588"/>
                  </a:lnTo>
                  <a:lnTo>
                    <a:pt x="5096" y="3532"/>
                  </a:lnTo>
                  <a:lnTo>
                    <a:pt x="5186" y="3480"/>
                  </a:lnTo>
                  <a:lnTo>
                    <a:pt x="5277" y="3430"/>
                  </a:lnTo>
                  <a:lnTo>
                    <a:pt x="5371" y="3385"/>
                  </a:lnTo>
                  <a:lnTo>
                    <a:pt x="5466" y="3342"/>
                  </a:lnTo>
                  <a:lnTo>
                    <a:pt x="5564" y="3303"/>
                  </a:lnTo>
                  <a:lnTo>
                    <a:pt x="5663" y="3266"/>
                  </a:lnTo>
                  <a:lnTo>
                    <a:pt x="5764" y="3234"/>
                  </a:lnTo>
                  <a:lnTo>
                    <a:pt x="5866" y="3204"/>
                  </a:lnTo>
                  <a:lnTo>
                    <a:pt x="5969" y="3179"/>
                  </a:lnTo>
                  <a:lnTo>
                    <a:pt x="6074" y="3158"/>
                  </a:lnTo>
                  <a:lnTo>
                    <a:pt x="6181" y="3140"/>
                  </a:lnTo>
                  <a:lnTo>
                    <a:pt x="6288" y="3126"/>
                  </a:lnTo>
                  <a:lnTo>
                    <a:pt x="6397" y="3116"/>
                  </a:lnTo>
                  <a:lnTo>
                    <a:pt x="6506" y="3109"/>
                  </a:lnTo>
                  <a:lnTo>
                    <a:pt x="6618" y="3108"/>
                  </a:lnTo>
                  <a:lnTo>
                    <a:pt x="6700" y="3109"/>
                  </a:lnTo>
                  <a:lnTo>
                    <a:pt x="6783" y="3113"/>
                  </a:lnTo>
                  <a:lnTo>
                    <a:pt x="6864" y="3117"/>
                  </a:lnTo>
                  <a:lnTo>
                    <a:pt x="6945" y="3126"/>
                  </a:lnTo>
                  <a:lnTo>
                    <a:pt x="7026" y="3135"/>
                  </a:lnTo>
                  <a:lnTo>
                    <a:pt x="7105" y="3148"/>
                  </a:lnTo>
                  <a:lnTo>
                    <a:pt x="7185" y="3162"/>
                  </a:lnTo>
                  <a:lnTo>
                    <a:pt x="7264" y="3179"/>
                  </a:lnTo>
                  <a:lnTo>
                    <a:pt x="7341" y="3198"/>
                  </a:lnTo>
                  <a:lnTo>
                    <a:pt x="7417" y="3218"/>
                  </a:lnTo>
                  <a:lnTo>
                    <a:pt x="7493" y="3241"/>
                  </a:lnTo>
                  <a:lnTo>
                    <a:pt x="7568" y="3266"/>
                  </a:lnTo>
                  <a:lnTo>
                    <a:pt x="7642" y="3292"/>
                  </a:lnTo>
                  <a:lnTo>
                    <a:pt x="7715" y="3321"/>
                  </a:lnTo>
                  <a:lnTo>
                    <a:pt x="7788" y="3351"/>
                  </a:lnTo>
                  <a:lnTo>
                    <a:pt x="7858" y="3384"/>
                  </a:lnTo>
                  <a:lnTo>
                    <a:pt x="7928" y="3417"/>
                  </a:lnTo>
                  <a:lnTo>
                    <a:pt x="7998" y="3454"/>
                  </a:lnTo>
                  <a:lnTo>
                    <a:pt x="8066" y="3490"/>
                  </a:lnTo>
                  <a:lnTo>
                    <a:pt x="8132" y="3531"/>
                  </a:lnTo>
                  <a:lnTo>
                    <a:pt x="8198" y="3571"/>
                  </a:lnTo>
                  <a:lnTo>
                    <a:pt x="8263" y="3614"/>
                  </a:lnTo>
                  <a:lnTo>
                    <a:pt x="8326" y="3658"/>
                  </a:lnTo>
                  <a:lnTo>
                    <a:pt x="8388" y="3704"/>
                  </a:lnTo>
                  <a:lnTo>
                    <a:pt x="8449" y="3752"/>
                  </a:lnTo>
                  <a:lnTo>
                    <a:pt x="8508" y="3802"/>
                  </a:lnTo>
                  <a:lnTo>
                    <a:pt x="8566" y="3852"/>
                  </a:lnTo>
                  <a:lnTo>
                    <a:pt x="8623" y="3904"/>
                  </a:lnTo>
                  <a:lnTo>
                    <a:pt x="8679" y="3959"/>
                  </a:lnTo>
                  <a:lnTo>
                    <a:pt x="8733" y="4013"/>
                  </a:lnTo>
                  <a:lnTo>
                    <a:pt x="8786" y="4069"/>
                  </a:lnTo>
                  <a:lnTo>
                    <a:pt x="8837" y="4128"/>
                  </a:lnTo>
                  <a:lnTo>
                    <a:pt x="8769" y="4268"/>
                  </a:lnTo>
                  <a:lnTo>
                    <a:pt x="8740" y="4390"/>
                  </a:lnTo>
                  <a:lnTo>
                    <a:pt x="8775" y="4402"/>
                  </a:lnTo>
                  <a:lnTo>
                    <a:pt x="8810" y="4414"/>
                  </a:lnTo>
                  <a:lnTo>
                    <a:pt x="8822" y="4449"/>
                  </a:lnTo>
                  <a:lnTo>
                    <a:pt x="8804" y="4483"/>
                  </a:lnTo>
                  <a:lnTo>
                    <a:pt x="8781" y="4472"/>
                  </a:lnTo>
                  <a:lnTo>
                    <a:pt x="8740" y="4495"/>
                  </a:lnTo>
                  <a:lnTo>
                    <a:pt x="8723" y="4483"/>
                  </a:lnTo>
                  <a:lnTo>
                    <a:pt x="8734" y="4443"/>
                  </a:lnTo>
                  <a:lnTo>
                    <a:pt x="8711" y="4419"/>
                  </a:lnTo>
                  <a:lnTo>
                    <a:pt x="8670" y="4454"/>
                  </a:lnTo>
                  <a:lnTo>
                    <a:pt x="8687" y="4472"/>
                  </a:lnTo>
                  <a:lnTo>
                    <a:pt x="8699" y="4536"/>
                  </a:lnTo>
                  <a:lnTo>
                    <a:pt x="8647" y="4589"/>
                  </a:lnTo>
                  <a:lnTo>
                    <a:pt x="8623" y="4599"/>
                  </a:lnTo>
                  <a:lnTo>
                    <a:pt x="8595" y="4641"/>
                  </a:lnTo>
                  <a:lnTo>
                    <a:pt x="8600" y="4681"/>
                  </a:lnTo>
                  <a:lnTo>
                    <a:pt x="8583" y="4693"/>
                  </a:lnTo>
                  <a:lnTo>
                    <a:pt x="8553" y="4699"/>
                  </a:lnTo>
                  <a:lnTo>
                    <a:pt x="8531" y="4723"/>
                  </a:lnTo>
                  <a:lnTo>
                    <a:pt x="8495" y="4687"/>
                  </a:lnTo>
                  <a:lnTo>
                    <a:pt x="8455" y="4659"/>
                  </a:lnTo>
                  <a:lnTo>
                    <a:pt x="8384" y="4693"/>
                  </a:lnTo>
                  <a:lnTo>
                    <a:pt x="8320" y="4786"/>
                  </a:lnTo>
                  <a:lnTo>
                    <a:pt x="8296" y="4834"/>
                  </a:lnTo>
                  <a:lnTo>
                    <a:pt x="8262" y="4850"/>
                  </a:lnTo>
                  <a:lnTo>
                    <a:pt x="8227" y="4828"/>
                  </a:lnTo>
                  <a:lnTo>
                    <a:pt x="8210" y="4845"/>
                  </a:lnTo>
                  <a:lnTo>
                    <a:pt x="8186" y="4840"/>
                  </a:lnTo>
                  <a:lnTo>
                    <a:pt x="8145" y="4868"/>
                  </a:lnTo>
                  <a:lnTo>
                    <a:pt x="8145" y="4845"/>
                  </a:lnTo>
                  <a:lnTo>
                    <a:pt x="8169" y="4828"/>
                  </a:lnTo>
                  <a:lnTo>
                    <a:pt x="8151" y="4810"/>
                  </a:lnTo>
                  <a:lnTo>
                    <a:pt x="8105" y="4816"/>
                  </a:lnTo>
                  <a:lnTo>
                    <a:pt x="8058" y="4862"/>
                  </a:lnTo>
                  <a:lnTo>
                    <a:pt x="7999" y="4874"/>
                  </a:lnTo>
                  <a:lnTo>
                    <a:pt x="7918" y="4926"/>
                  </a:lnTo>
                  <a:lnTo>
                    <a:pt x="7877" y="4920"/>
                  </a:lnTo>
                  <a:lnTo>
                    <a:pt x="7865" y="4932"/>
                  </a:lnTo>
                  <a:lnTo>
                    <a:pt x="7889" y="4950"/>
                  </a:lnTo>
                  <a:lnTo>
                    <a:pt x="7895" y="4974"/>
                  </a:lnTo>
                  <a:lnTo>
                    <a:pt x="7865" y="4996"/>
                  </a:lnTo>
                  <a:lnTo>
                    <a:pt x="7877" y="5032"/>
                  </a:lnTo>
                  <a:lnTo>
                    <a:pt x="7895" y="5008"/>
                  </a:lnTo>
                  <a:lnTo>
                    <a:pt x="7901" y="5032"/>
                  </a:lnTo>
                  <a:lnTo>
                    <a:pt x="7929" y="5078"/>
                  </a:lnTo>
                  <a:lnTo>
                    <a:pt x="7924" y="5090"/>
                  </a:lnTo>
                  <a:lnTo>
                    <a:pt x="7883" y="5096"/>
                  </a:lnTo>
                  <a:lnTo>
                    <a:pt x="7860" y="5119"/>
                  </a:lnTo>
                  <a:lnTo>
                    <a:pt x="7854" y="5137"/>
                  </a:lnTo>
                  <a:lnTo>
                    <a:pt x="7813" y="5137"/>
                  </a:lnTo>
                  <a:lnTo>
                    <a:pt x="7801" y="5160"/>
                  </a:lnTo>
                  <a:lnTo>
                    <a:pt x="7801" y="5189"/>
                  </a:lnTo>
                  <a:lnTo>
                    <a:pt x="7772" y="5201"/>
                  </a:lnTo>
                  <a:lnTo>
                    <a:pt x="7702" y="5165"/>
                  </a:lnTo>
                  <a:lnTo>
                    <a:pt x="7720" y="5235"/>
                  </a:lnTo>
                  <a:lnTo>
                    <a:pt x="7726" y="5311"/>
                  </a:lnTo>
                  <a:lnTo>
                    <a:pt x="7714" y="5329"/>
                  </a:lnTo>
                  <a:lnTo>
                    <a:pt x="7684" y="5311"/>
                  </a:lnTo>
                  <a:lnTo>
                    <a:pt x="7620" y="5253"/>
                  </a:lnTo>
                  <a:lnTo>
                    <a:pt x="7562" y="5201"/>
                  </a:lnTo>
                  <a:lnTo>
                    <a:pt x="7568" y="5189"/>
                  </a:lnTo>
                  <a:lnTo>
                    <a:pt x="7609" y="5213"/>
                  </a:lnTo>
                  <a:lnTo>
                    <a:pt x="7614" y="5183"/>
                  </a:lnTo>
                  <a:lnTo>
                    <a:pt x="7580" y="5165"/>
                  </a:lnTo>
                  <a:lnTo>
                    <a:pt x="7580" y="5149"/>
                  </a:lnTo>
                  <a:lnTo>
                    <a:pt x="7574" y="5119"/>
                  </a:lnTo>
                  <a:lnTo>
                    <a:pt x="7539" y="5096"/>
                  </a:lnTo>
                  <a:lnTo>
                    <a:pt x="7492" y="5084"/>
                  </a:lnTo>
                  <a:lnTo>
                    <a:pt x="7481" y="5101"/>
                  </a:lnTo>
                  <a:lnTo>
                    <a:pt x="7463" y="5096"/>
                  </a:lnTo>
                  <a:lnTo>
                    <a:pt x="7445" y="5107"/>
                  </a:lnTo>
                  <a:lnTo>
                    <a:pt x="7423" y="5101"/>
                  </a:lnTo>
                  <a:lnTo>
                    <a:pt x="7411" y="5078"/>
                  </a:lnTo>
                  <a:lnTo>
                    <a:pt x="7399" y="5078"/>
                  </a:lnTo>
                  <a:lnTo>
                    <a:pt x="7405" y="5096"/>
                  </a:lnTo>
                  <a:lnTo>
                    <a:pt x="7387" y="5131"/>
                  </a:lnTo>
                  <a:lnTo>
                    <a:pt x="7411" y="5177"/>
                  </a:lnTo>
                  <a:lnTo>
                    <a:pt x="7323" y="5213"/>
                  </a:lnTo>
                  <a:lnTo>
                    <a:pt x="7259" y="5219"/>
                  </a:lnTo>
                  <a:lnTo>
                    <a:pt x="7259" y="5183"/>
                  </a:lnTo>
                  <a:lnTo>
                    <a:pt x="7160" y="5189"/>
                  </a:lnTo>
                  <a:lnTo>
                    <a:pt x="7154" y="5201"/>
                  </a:lnTo>
                  <a:lnTo>
                    <a:pt x="7125" y="5207"/>
                  </a:lnTo>
                  <a:lnTo>
                    <a:pt x="7114" y="5229"/>
                  </a:lnTo>
                  <a:lnTo>
                    <a:pt x="7108" y="5201"/>
                  </a:lnTo>
                  <a:lnTo>
                    <a:pt x="7084" y="5171"/>
                  </a:lnTo>
                  <a:lnTo>
                    <a:pt x="7078" y="5207"/>
                  </a:lnTo>
                  <a:lnTo>
                    <a:pt x="7044" y="5201"/>
                  </a:lnTo>
                  <a:lnTo>
                    <a:pt x="7038" y="5171"/>
                  </a:lnTo>
                  <a:lnTo>
                    <a:pt x="7032" y="5183"/>
                  </a:lnTo>
                  <a:lnTo>
                    <a:pt x="7002" y="5183"/>
                  </a:lnTo>
                  <a:lnTo>
                    <a:pt x="7002" y="5185"/>
                  </a:lnTo>
                  <a:lnTo>
                    <a:pt x="7000" y="5189"/>
                  </a:lnTo>
                  <a:lnTo>
                    <a:pt x="6997" y="5196"/>
                  </a:lnTo>
                  <a:lnTo>
                    <a:pt x="6994" y="5203"/>
                  </a:lnTo>
                  <a:lnTo>
                    <a:pt x="6990" y="5212"/>
                  </a:lnTo>
                  <a:lnTo>
                    <a:pt x="6988" y="5218"/>
                  </a:lnTo>
                  <a:lnTo>
                    <a:pt x="6985" y="5222"/>
                  </a:lnTo>
                  <a:lnTo>
                    <a:pt x="6985" y="5225"/>
                  </a:lnTo>
                  <a:lnTo>
                    <a:pt x="6985" y="5226"/>
                  </a:lnTo>
                  <a:lnTo>
                    <a:pt x="6990" y="5225"/>
                  </a:lnTo>
                  <a:lnTo>
                    <a:pt x="6997" y="5223"/>
                  </a:lnTo>
                  <a:lnTo>
                    <a:pt x="7006" y="5220"/>
                  </a:lnTo>
                  <a:lnTo>
                    <a:pt x="7015" y="5218"/>
                  </a:lnTo>
                  <a:lnTo>
                    <a:pt x="7023" y="5215"/>
                  </a:lnTo>
                  <a:lnTo>
                    <a:pt x="7029" y="5213"/>
                  </a:lnTo>
                  <a:lnTo>
                    <a:pt x="7032" y="5213"/>
                  </a:lnTo>
                  <a:lnTo>
                    <a:pt x="7020" y="5235"/>
                  </a:lnTo>
                  <a:lnTo>
                    <a:pt x="6997" y="5241"/>
                  </a:lnTo>
                  <a:lnTo>
                    <a:pt x="7002" y="5259"/>
                  </a:lnTo>
                  <a:lnTo>
                    <a:pt x="6956" y="5271"/>
                  </a:lnTo>
                  <a:lnTo>
                    <a:pt x="6950" y="5300"/>
                  </a:lnTo>
                  <a:lnTo>
                    <a:pt x="6903" y="5311"/>
                  </a:lnTo>
                  <a:lnTo>
                    <a:pt x="6897" y="5288"/>
                  </a:lnTo>
                  <a:lnTo>
                    <a:pt x="6909" y="5277"/>
                  </a:lnTo>
                  <a:lnTo>
                    <a:pt x="6933" y="5247"/>
                  </a:lnTo>
                  <a:lnTo>
                    <a:pt x="6968" y="5235"/>
                  </a:lnTo>
                  <a:lnTo>
                    <a:pt x="6974" y="5195"/>
                  </a:lnTo>
                  <a:lnTo>
                    <a:pt x="6997" y="5165"/>
                  </a:lnTo>
                  <a:lnTo>
                    <a:pt x="6991" y="5155"/>
                  </a:lnTo>
                  <a:lnTo>
                    <a:pt x="7008" y="5131"/>
                  </a:lnTo>
                  <a:lnTo>
                    <a:pt x="7066" y="5061"/>
                  </a:lnTo>
                  <a:lnTo>
                    <a:pt x="7084" y="5002"/>
                  </a:lnTo>
                  <a:lnTo>
                    <a:pt x="7078" y="4968"/>
                  </a:lnTo>
                  <a:lnTo>
                    <a:pt x="7044" y="4944"/>
                  </a:lnTo>
                  <a:lnTo>
                    <a:pt x="7020" y="4914"/>
                  </a:lnTo>
                  <a:lnTo>
                    <a:pt x="6991" y="4892"/>
                  </a:lnTo>
                  <a:lnTo>
                    <a:pt x="6915" y="4904"/>
                  </a:lnTo>
                  <a:lnTo>
                    <a:pt x="6909" y="4926"/>
                  </a:lnTo>
                  <a:lnTo>
                    <a:pt x="6886" y="4932"/>
                  </a:lnTo>
                  <a:lnTo>
                    <a:pt x="6880" y="4926"/>
                  </a:lnTo>
                  <a:lnTo>
                    <a:pt x="6897" y="4874"/>
                  </a:lnTo>
                  <a:lnTo>
                    <a:pt x="6857" y="4874"/>
                  </a:lnTo>
                  <a:lnTo>
                    <a:pt x="6827" y="4874"/>
                  </a:lnTo>
                  <a:lnTo>
                    <a:pt x="6857" y="4840"/>
                  </a:lnTo>
                  <a:lnTo>
                    <a:pt x="6851" y="4822"/>
                  </a:lnTo>
                  <a:lnTo>
                    <a:pt x="6833" y="4816"/>
                  </a:lnTo>
                  <a:lnTo>
                    <a:pt x="6833" y="4804"/>
                  </a:lnTo>
                  <a:lnTo>
                    <a:pt x="6815" y="4798"/>
                  </a:lnTo>
                  <a:lnTo>
                    <a:pt x="6805" y="4810"/>
                  </a:lnTo>
                  <a:lnTo>
                    <a:pt x="6793" y="4816"/>
                  </a:lnTo>
                  <a:lnTo>
                    <a:pt x="6747" y="4904"/>
                  </a:lnTo>
                  <a:lnTo>
                    <a:pt x="6747" y="4938"/>
                  </a:lnTo>
                  <a:lnTo>
                    <a:pt x="6717" y="4944"/>
                  </a:lnTo>
                  <a:lnTo>
                    <a:pt x="6705" y="4938"/>
                  </a:lnTo>
                  <a:lnTo>
                    <a:pt x="6693" y="4944"/>
                  </a:lnTo>
                  <a:lnTo>
                    <a:pt x="6723" y="4974"/>
                  </a:lnTo>
                  <a:lnTo>
                    <a:pt x="6693" y="4962"/>
                  </a:lnTo>
                  <a:lnTo>
                    <a:pt x="6676" y="4974"/>
                  </a:lnTo>
                  <a:lnTo>
                    <a:pt x="6659" y="4996"/>
                  </a:lnTo>
                  <a:lnTo>
                    <a:pt x="6618" y="5014"/>
                  </a:lnTo>
                  <a:lnTo>
                    <a:pt x="6635" y="4985"/>
                  </a:lnTo>
                  <a:lnTo>
                    <a:pt x="6600" y="4979"/>
                  </a:lnTo>
                  <a:lnTo>
                    <a:pt x="6560" y="4979"/>
                  </a:lnTo>
                  <a:lnTo>
                    <a:pt x="6560" y="5002"/>
                  </a:lnTo>
                  <a:lnTo>
                    <a:pt x="6512" y="5014"/>
                  </a:lnTo>
                  <a:lnTo>
                    <a:pt x="6472" y="5032"/>
                  </a:lnTo>
                  <a:lnTo>
                    <a:pt x="6432" y="5026"/>
                  </a:lnTo>
                  <a:lnTo>
                    <a:pt x="6408" y="5049"/>
                  </a:lnTo>
                  <a:lnTo>
                    <a:pt x="6373" y="5043"/>
                  </a:lnTo>
                  <a:lnTo>
                    <a:pt x="6367" y="5055"/>
                  </a:lnTo>
                  <a:lnTo>
                    <a:pt x="6384" y="5073"/>
                  </a:lnTo>
                  <a:lnTo>
                    <a:pt x="6356" y="5107"/>
                  </a:lnTo>
                  <a:lnTo>
                    <a:pt x="6356" y="5096"/>
                  </a:lnTo>
                  <a:lnTo>
                    <a:pt x="6338" y="5084"/>
                  </a:lnTo>
                  <a:lnTo>
                    <a:pt x="6332" y="5096"/>
                  </a:lnTo>
                  <a:lnTo>
                    <a:pt x="6350" y="5107"/>
                  </a:lnTo>
                  <a:lnTo>
                    <a:pt x="6350" y="5113"/>
                  </a:lnTo>
                  <a:lnTo>
                    <a:pt x="6367" y="5125"/>
                  </a:lnTo>
                  <a:lnTo>
                    <a:pt x="6361" y="5137"/>
                  </a:lnTo>
                  <a:lnTo>
                    <a:pt x="6344" y="5125"/>
                  </a:lnTo>
                  <a:lnTo>
                    <a:pt x="6332" y="5131"/>
                  </a:lnTo>
                  <a:lnTo>
                    <a:pt x="6356" y="5165"/>
                  </a:lnTo>
                  <a:lnTo>
                    <a:pt x="6344" y="5177"/>
                  </a:lnTo>
                  <a:lnTo>
                    <a:pt x="6356" y="5201"/>
                  </a:lnTo>
                  <a:lnTo>
                    <a:pt x="6344" y="5219"/>
                  </a:lnTo>
                  <a:lnTo>
                    <a:pt x="6332" y="5207"/>
                  </a:lnTo>
                  <a:lnTo>
                    <a:pt x="6344" y="5183"/>
                  </a:lnTo>
                  <a:lnTo>
                    <a:pt x="6309" y="5183"/>
                  </a:lnTo>
                  <a:lnTo>
                    <a:pt x="6297" y="5189"/>
                  </a:lnTo>
                  <a:lnTo>
                    <a:pt x="6285" y="5183"/>
                  </a:lnTo>
                  <a:lnTo>
                    <a:pt x="6181" y="5171"/>
                  </a:lnTo>
                  <a:lnTo>
                    <a:pt x="6151" y="5183"/>
                  </a:lnTo>
                  <a:lnTo>
                    <a:pt x="6145" y="5247"/>
                  </a:lnTo>
                  <a:lnTo>
                    <a:pt x="6139" y="5288"/>
                  </a:lnTo>
                  <a:lnTo>
                    <a:pt x="6143" y="5291"/>
                  </a:lnTo>
                  <a:lnTo>
                    <a:pt x="6177" y="5286"/>
                  </a:lnTo>
                  <a:lnTo>
                    <a:pt x="6209" y="5284"/>
                  </a:lnTo>
                  <a:lnTo>
                    <a:pt x="6240" y="5281"/>
                  </a:lnTo>
                  <a:lnTo>
                    <a:pt x="6269" y="5279"/>
                  </a:lnTo>
                  <a:lnTo>
                    <a:pt x="6295" y="5278"/>
                  </a:lnTo>
                  <a:lnTo>
                    <a:pt x="6321" y="5277"/>
                  </a:lnTo>
                  <a:lnTo>
                    <a:pt x="6345" y="5277"/>
                  </a:lnTo>
                  <a:lnTo>
                    <a:pt x="6367" y="5277"/>
                  </a:lnTo>
                  <a:lnTo>
                    <a:pt x="6438" y="5278"/>
                  </a:lnTo>
                  <a:lnTo>
                    <a:pt x="6504" y="5282"/>
                  </a:lnTo>
                  <a:lnTo>
                    <a:pt x="6567" y="5288"/>
                  </a:lnTo>
                  <a:lnTo>
                    <a:pt x="6628" y="5296"/>
                  </a:lnTo>
                  <a:lnTo>
                    <a:pt x="6684" y="5307"/>
                  </a:lnTo>
                  <a:lnTo>
                    <a:pt x="6737" y="5320"/>
                  </a:lnTo>
                  <a:lnTo>
                    <a:pt x="6787" y="5334"/>
                  </a:lnTo>
                  <a:lnTo>
                    <a:pt x="6834" y="5351"/>
                  </a:lnTo>
                  <a:lnTo>
                    <a:pt x="6878" y="5370"/>
                  </a:lnTo>
                  <a:lnTo>
                    <a:pt x="6920" y="5389"/>
                  </a:lnTo>
                  <a:lnTo>
                    <a:pt x="6959" y="5410"/>
                  </a:lnTo>
                  <a:lnTo>
                    <a:pt x="6995" y="5433"/>
                  </a:lnTo>
                  <a:lnTo>
                    <a:pt x="7028" y="5456"/>
                  </a:lnTo>
                  <a:lnTo>
                    <a:pt x="7059" y="5483"/>
                  </a:lnTo>
                  <a:lnTo>
                    <a:pt x="7088" y="5509"/>
                  </a:lnTo>
                  <a:lnTo>
                    <a:pt x="7114" y="5535"/>
                  </a:lnTo>
                  <a:lnTo>
                    <a:pt x="7138" y="5563"/>
                  </a:lnTo>
                  <a:lnTo>
                    <a:pt x="7159" y="5592"/>
                  </a:lnTo>
                  <a:lnTo>
                    <a:pt x="7178" y="5620"/>
                  </a:lnTo>
                  <a:lnTo>
                    <a:pt x="7196" y="5650"/>
                  </a:lnTo>
                  <a:lnTo>
                    <a:pt x="7211" y="5680"/>
                  </a:lnTo>
                  <a:lnTo>
                    <a:pt x="7226" y="5711"/>
                  </a:lnTo>
                  <a:lnTo>
                    <a:pt x="7237" y="5741"/>
                  </a:lnTo>
                  <a:lnTo>
                    <a:pt x="7248" y="5771"/>
                  </a:lnTo>
                  <a:lnTo>
                    <a:pt x="7256" y="5801"/>
                  </a:lnTo>
                  <a:lnTo>
                    <a:pt x="7264" y="5831"/>
                  </a:lnTo>
                  <a:lnTo>
                    <a:pt x="7270" y="5861"/>
                  </a:lnTo>
                  <a:lnTo>
                    <a:pt x="7274" y="5890"/>
                  </a:lnTo>
                  <a:lnTo>
                    <a:pt x="7278" y="5919"/>
                  </a:lnTo>
                  <a:lnTo>
                    <a:pt x="7280" y="5946"/>
                  </a:lnTo>
                  <a:lnTo>
                    <a:pt x="7281" y="5973"/>
                  </a:lnTo>
                  <a:lnTo>
                    <a:pt x="7283" y="6000"/>
                  </a:lnTo>
                  <a:lnTo>
                    <a:pt x="7281" y="6033"/>
                  </a:lnTo>
                  <a:lnTo>
                    <a:pt x="7279" y="6065"/>
                  </a:lnTo>
                  <a:lnTo>
                    <a:pt x="7275" y="6098"/>
                  </a:lnTo>
                  <a:lnTo>
                    <a:pt x="7271" y="6132"/>
                  </a:lnTo>
                  <a:lnTo>
                    <a:pt x="7264" y="6164"/>
                  </a:lnTo>
                  <a:lnTo>
                    <a:pt x="7254" y="6197"/>
                  </a:lnTo>
                  <a:lnTo>
                    <a:pt x="7245" y="6229"/>
                  </a:lnTo>
                  <a:lnTo>
                    <a:pt x="7233" y="6261"/>
                  </a:lnTo>
                  <a:lnTo>
                    <a:pt x="7218" y="6292"/>
                  </a:lnTo>
                  <a:lnTo>
                    <a:pt x="7203" y="6324"/>
                  </a:lnTo>
                  <a:lnTo>
                    <a:pt x="7186" y="6354"/>
                  </a:lnTo>
                  <a:lnTo>
                    <a:pt x="7167" y="6384"/>
                  </a:lnTo>
                  <a:lnTo>
                    <a:pt x="7146" y="6413"/>
                  </a:lnTo>
                  <a:lnTo>
                    <a:pt x="7123" y="6442"/>
                  </a:lnTo>
                  <a:lnTo>
                    <a:pt x="7100" y="6469"/>
                  </a:lnTo>
                  <a:lnTo>
                    <a:pt x="7073" y="6495"/>
                  </a:lnTo>
                  <a:lnTo>
                    <a:pt x="7045" y="6520"/>
                  </a:lnTo>
                  <a:lnTo>
                    <a:pt x="7015" y="6545"/>
                  </a:lnTo>
                  <a:lnTo>
                    <a:pt x="6983" y="6568"/>
                  </a:lnTo>
                  <a:lnTo>
                    <a:pt x="6949" y="6590"/>
                  </a:lnTo>
                  <a:lnTo>
                    <a:pt x="6913" y="6611"/>
                  </a:lnTo>
                  <a:lnTo>
                    <a:pt x="6875" y="6630"/>
                  </a:lnTo>
                  <a:lnTo>
                    <a:pt x="6834" y="6647"/>
                  </a:lnTo>
                  <a:lnTo>
                    <a:pt x="6793" y="6664"/>
                  </a:lnTo>
                  <a:lnTo>
                    <a:pt x="6749" y="6678"/>
                  </a:lnTo>
                  <a:lnTo>
                    <a:pt x="6703" y="6691"/>
                  </a:lnTo>
                  <a:lnTo>
                    <a:pt x="6654" y="6702"/>
                  </a:lnTo>
                  <a:lnTo>
                    <a:pt x="6604" y="6712"/>
                  </a:lnTo>
                  <a:lnTo>
                    <a:pt x="6550" y="6719"/>
                  </a:lnTo>
                  <a:lnTo>
                    <a:pt x="6496" y="6725"/>
                  </a:lnTo>
                  <a:lnTo>
                    <a:pt x="6439" y="6727"/>
                  </a:lnTo>
                  <a:lnTo>
                    <a:pt x="6379" y="6728"/>
                  </a:lnTo>
                  <a:lnTo>
                    <a:pt x="6350" y="6728"/>
                  </a:lnTo>
                  <a:lnTo>
                    <a:pt x="6320" y="6727"/>
                  </a:lnTo>
                  <a:lnTo>
                    <a:pt x="6290" y="6726"/>
                  </a:lnTo>
                  <a:lnTo>
                    <a:pt x="6262" y="6723"/>
                  </a:lnTo>
                  <a:lnTo>
                    <a:pt x="6203" y="6718"/>
                  </a:lnTo>
                  <a:lnTo>
                    <a:pt x="6148" y="6710"/>
                  </a:lnTo>
                  <a:lnTo>
                    <a:pt x="6094" y="6701"/>
                  </a:lnTo>
                  <a:lnTo>
                    <a:pt x="6042" y="6691"/>
                  </a:lnTo>
                  <a:lnTo>
                    <a:pt x="5993" y="6681"/>
                  </a:lnTo>
                  <a:lnTo>
                    <a:pt x="5948" y="6670"/>
                  </a:lnTo>
                  <a:lnTo>
                    <a:pt x="5948" y="6297"/>
                  </a:lnTo>
                  <a:lnTo>
                    <a:pt x="5981" y="6309"/>
                  </a:lnTo>
                  <a:lnTo>
                    <a:pt x="6013" y="6318"/>
                  </a:lnTo>
                  <a:lnTo>
                    <a:pt x="6044" y="6326"/>
                  </a:lnTo>
                  <a:lnTo>
                    <a:pt x="6075" y="6334"/>
                  </a:lnTo>
                  <a:lnTo>
                    <a:pt x="6104" y="6341"/>
                  </a:lnTo>
                  <a:lnTo>
                    <a:pt x="6131" y="6346"/>
                  </a:lnTo>
                  <a:lnTo>
                    <a:pt x="6157" y="6349"/>
                  </a:lnTo>
                  <a:lnTo>
                    <a:pt x="6181" y="6353"/>
                  </a:lnTo>
                  <a:lnTo>
                    <a:pt x="6224" y="6357"/>
                  </a:lnTo>
                  <a:lnTo>
                    <a:pt x="6258" y="6360"/>
                  </a:lnTo>
                  <a:lnTo>
                    <a:pt x="6283" y="6361"/>
                  </a:lnTo>
                  <a:lnTo>
                    <a:pt x="6297" y="6361"/>
                  </a:lnTo>
                  <a:lnTo>
                    <a:pt x="6326" y="6361"/>
                  </a:lnTo>
                  <a:lnTo>
                    <a:pt x="6352" y="6359"/>
                  </a:lnTo>
                  <a:lnTo>
                    <a:pt x="6378" y="6356"/>
                  </a:lnTo>
                  <a:lnTo>
                    <a:pt x="6402" y="6353"/>
                  </a:lnTo>
                  <a:lnTo>
                    <a:pt x="6424" y="6348"/>
                  </a:lnTo>
                  <a:lnTo>
                    <a:pt x="6446" y="6343"/>
                  </a:lnTo>
                  <a:lnTo>
                    <a:pt x="6467" y="6337"/>
                  </a:lnTo>
                  <a:lnTo>
                    <a:pt x="6486" y="6330"/>
                  </a:lnTo>
                  <a:lnTo>
                    <a:pt x="6504" y="6323"/>
                  </a:lnTo>
                  <a:lnTo>
                    <a:pt x="6521" y="6316"/>
                  </a:lnTo>
                  <a:lnTo>
                    <a:pt x="6536" y="6307"/>
                  </a:lnTo>
                  <a:lnTo>
                    <a:pt x="6552" y="6298"/>
                  </a:lnTo>
                  <a:lnTo>
                    <a:pt x="6566" y="6290"/>
                  </a:lnTo>
                  <a:lnTo>
                    <a:pt x="6578" y="6280"/>
                  </a:lnTo>
                  <a:lnTo>
                    <a:pt x="6590" y="6271"/>
                  </a:lnTo>
                  <a:lnTo>
                    <a:pt x="6602" y="6260"/>
                  </a:lnTo>
                  <a:lnTo>
                    <a:pt x="6621" y="6241"/>
                  </a:lnTo>
                  <a:lnTo>
                    <a:pt x="6636" y="6221"/>
                  </a:lnTo>
                  <a:lnTo>
                    <a:pt x="6650" y="6202"/>
                  </a:lnTo>
                  <a:lnTo>
                    <a:pt x="6660" y="6184"/>
                  </a:lnTo>
                  <a:lnTo>
                    <a:pt x="6668" y="6167"/>
                  </a:lnTo>
                  <a:lnTo>
                    <a:pt x="6675" y="6153"/>
                  </a:lnTo>
                  <a:lnTo>
                    <a:pt x="6679" y="6142"/>
                  </a:lnTo>
                  <a:lnTo>
                    <a:pt x="6682" y="6134"/>
                  </a:lnTo>
                  <a:lnTo>
                    <a:pt x="6157" y="6134"/>
                  </a:lnTo>
                  <a:lnTo>
                    <a:pt x="6157" y="5847"/>
                  </a:lnTo>
                  <a:lnTo>
                    <a:pt x="6682" y="5847"/>
                  </a:lnTo>
                  <a:close/>
                  <a:moveTo>
                    <a:pt x="5975" y="5319"/>
                  </a:moveTo>
                  <a:lnTo>
                    <a:pt x="5982" y="5317"/>
                  </a:lnTo>
                  <a:lnTo>
                    <a:pt x="5986" y="5316"/>
                  </a:lnTo>
                  <a:lnTo>
                    <a:pt x="5991" y="5316"/>
                  </a:lnTo>
                  <a:lnTo>
                    <a:pt x="5995" y="5315"/>
                  </a:lnTo>
                  <a:lnTo>
                    <a:pt x="5999" y="5314"/>
                  </a:lnTo>
                  <a:lnTo>
                    <a:pt x="6004" y="5313"/>
                  </a:lnTo>
                  <a:lnTo>
                    <a:pt x="6007" y="5313"/>
                  </a:lnTo>
                  <a:lnTo>
                    <a:pt x="6012" y="5311"/>
                  </a:lnTo>
                  <a:lnTo>
                    <a:pt x="6016" y="5310"/>
                  </a:lnTo>
                  <a:lnTo>
                    <a:pt x="6006" y="5294"/>
                  </a:lnTo>
                  <a:lnTo>
                    <a:pt x="5976" y="5283"/>
                  </a:lnTo>
                  <a:lnTo>
                    <a:pt x="5970" y="5305"/>
                  </a:lnTo>
                  <a:lnTo>
                    <a:pt x="5975" y="5319"/>
                  </a:lnTo>
                  <a:close/>
                  <a:moveTo>
                    <a:pt x="6041" y="5307"/>
                  </a:moveTo>
                  <a:lnTo>
                    <a:pt x="6048" y="5305"/>
                  </a:lnTo>
                  <a:lnTo>
                    <a:pt x="6056" y="5303"/>
                  </a:lnTo>
                  <a:lnTo>
                    <a:pt x="6063" y="5302"/>
                  </a:lnTo>
                  <a:lnTo>
                    <a:pt x="6070" y="5301"/>
                  </a:lnTo>
                  <a:lnTo>
                    <a:pt x="6079" y="5300"/>
                  </a:lnTo>
                  <a:lnTo>
                    <a:pt x="6086" y="5298"/>
                  </a:lnTo>
                  <a:lnTo>
                    <a:pt x="6093" y="5298"/>
                  </a:lnTo>
                  <a:lnTo>
                    <a:pt x="6100" y="5297"/>
                  </a:lnTo>
                  <a:lnTo>
                    <a:pt x="6087" y="5277"/>
                  </a:lnTo>
                  <a:lnTo>
                    <a:pt x="6052" y="5265"/>
                  </a:lnTo>
                  <a:lnTo>
                    <a:pt x="6064" y="5247"/>
                  </a:lnTo>
                  <a:lnTo>
                    <a:pt x="6046" y="5235"/>
                  </a:lnTo>
                  <a:lnTo>
                    <a:pt x="6029" y="5241"/>
                  </a:lnTo>
                  <a:lnTo>
                    <a:pt x="6012" y="5265"/>
                  </a:lnTo>
                  <a:lnTo>
                    <a:pt x="6041" y="5271"/>
                  </a:lnTo>
                  <a:lnTo>
                    <a:pt x="6023" y="5283"/>
                  </a:lnTo>
                  <a:lnTo>
                    <a:pt x="6041" y="5294"/>
                  </a:lnTo>
                  <a:lnTo>
                    <a:pt x="6041" y="5307"/>
                  </a:lnTo>
                  <a:close/>
                  <a:moveTo>
                    <a:pt x="5796" y="5300"/>
                  </a:moveTo>
                  <a:lnTo>
                    <a:pt x="5796" y="5436"/>
                  </a:lnTo>
                  <a:lnTo>
                    <a:pt x="5802" y="5416"/>
                  </a:lnTo>
                  <a:lnTo>
                    <a:pt x="5825" y="5376"/>
                  </a:lnTo>
                  <a:lnTo>
                    <a:pt x="5836" y="5329"/>
                  </a:lnTo>
                  <a:lnTo>
                    <a:pt x="5825" y="5317"/>
                  </a:lnTo>
                  <a:lnTo>
                    <a:pt x="5836" y="5277"/>
                  </a:lnTo>
                  <a:lnTo>
                    <a:pt x="5888" y="5219"/>
                  </a:lnTo>
                  <a:lnTo>
                    <a:pt x="5906" y="5160"/>
                  </a:lnTo>
                  <a:lnTo>
                    <a:pt x="5860" y="5131"/>
                  </a:lnTo>
                  <a:lnTo>
                    <a:pt x="5842" y="5119"/>
                  </a:lnTo>
                  <a:lnTo>
                    <a:pt x="5842" y="5107"/>
                  </a:lnTo>
                  <a:lnTo>
                    <a:pt x="5878" y="5101"/>
                  </a:lnTo>
                  <a:lnTo>
                    <a:pt x="5894" y="5078"/>
                  </a:lnTo>
                  <a:lnTo>
                    <a:pt x="5888" y="5067"/>
                  </a:lnTo>
                  <a:lnTo>
                    <a:pt x="5866" y="5061"/>
                  </a:lnTo>
                  <a:lnTo>
                    <a:pt x="5848" y="5073"/>
                  </a:lnTo>
                  <a:lnTo>
                    <a:pt x="5848" y="5096"/>
                  </a:lnTo>
                  <a:lnTo>
                    <a:pt x="5836" y="5101"/>
                  </a:lnTo>
                  <a:lnTo>
                    <a:pt x="5819" y="5101"/>
                  </a:lnTo>
                  <a:lnTo>
                    <a:pt x="5808" y="5113"/>
                  </a:lnTo>
                  <a:lnTo>
                    <a:pt x="5766" y="5171"/>
                  </a:lnTo>
                  <a:lnTo>
                    <a:pt x="5743" y="5207"/>
                  </a:lnTo>
                  <a:lnTo>
                    <a:pt x="5714" y="5219"/>
                  </a:lnTo>
                  <a:lnTo>
                    <a:pt x="5679" y="5219"/>
                  </a:lnTo>
                  <a:lnTo>
                    <a:pt x="5650" y="5253"/>
                  </a:lnTo>
                  <a:lnTo>
                    <a:pt x="5644" y="5265"/>
                  </a:lnTo>
                  <a:lnTo>
                    <a:pt x="5655" y="5277"/>
                  </a:lnTo>
                  <a:lnTo>
                    <a:pt x="5667" y="5283"/>
                  </a:lnTo>
                  <a:lnTo>
                    <a:pt x="5661" y="5294"/>
                  </a:lnTo>
                  <a:lnTo>
                    <a:pt x="5657" y="5300"/>
                  </a:lnTo>
                  <a:lnTo>
                    <a:pt x="5796" y="5300"/>
                  </a:lnTo>
                  <a:close/>
                  <a:moveTo>
                    <a:pt x="5388" y="5300"/>
                  </a:moveTo>
                  <a:lnTo>
                    <a:pt x="5487" y="5300"/>
                  </a:lnTo>
                  <a:lnTo>
                    <a:pt x="5469" y="5283"/>
                  </a:lnTo>
                  <a:lnTo>
                    <a:pt x="5434" y="5241"/>
                  </a:lnTo>
                  <a:lnTo>
                    <a:pt x="5417" y="5241"/>
                  </a:lnTo>
                  <a:lnTo>
                    <a:pt x="5422" y="5225"/>
                  </a:lnTo>
                  <a:lnTo>
                    <a:pt x="5411" y="5195"/>
                  </a:lnTo>
                  <a:lnTo>
                    <a:pt x="5417" y="5149"/>
                  </a:lnTo>
                  <a:lnTo>
                    <a:pt x="5405" y="5149"/>
                  </a:lnTo>
                  <a:lnTo>
                    <a:pt x="5376" y="5165"/>
                  </a:lnTo>
                  <a:lnTo>
                    <a:pt x="5376" y="5195"/>
                  </a:lnTo>
                  <a:lnTo>
                    <a:pt x="5388" y="5201"/>
                  </a:lnTo>
                  <a:lnTo>
                    <a:pt x="5388" y="5241"/>
                  </a:lnTo>
                  <a:lnTo>
                    <a:pt x="5399" y="5247"/>
                  </a:lnTo>
                  <a:lnTo>
                    <a:pt x="5388" y="5259"/>
                  </a:lnTo>
                  <a:lnTo>
                    <a:pt x="5388" y="5300"/>
                  </a:lnTo>
                  <a:close/>
                  <a:moveTo>
                    <a:pt x="13224" y="7212"/>
                  </a:moveTo>
                  <a:lnTo>
                    <a:pt x="13217" y="7191"/>
                  </a:lnTo>
                  <a:lnTo>
                    <a:pt x="13210" y="7168"/>
                  </a:lnTo>
                  <a:lnTo>
                    <a:pt x="13202" y="7144"/>
                  </a:lnTo>
                  <a:lnTo>
                    <a:pt x="13192" y="7120"/>
                  </a:lnTo>
                  <a:lnTo>
                    <a:pt x="13183" y="7097"/>
                  </a:lnTo>
                  <a:lnTo>
                    <a:pt x="13172" y="7072"/>
                  </a:lnTo>
                  <a:lnTo>
                    <a:pt x="13160" y="7046"/>
                  </a:lnTo>
                  <a:lnTo>
                    <a:pt x="13148" y="7019"/>
                  </a:lnTo>
                  <a:lnTo>
                    <a:pt x="13002" y="7224"/>
                  </a:lnTo>
                  <a:lnTo>
                    <a:pt x="13004" y="7226"/>
                  </a:lnTo>
                  <a:lnTo>
                    <a:pt x="13006" y="7227"/>
                  </a:lnTo>
                  <a:lnTo>
                    <a:pt x="13007" y="7229"/>
                  </a:lnTo>
                  <a:lnTo>
                    <a:pt x="13008" y="7229"/>
                  </a:lnTo>
                  <a:lnTo>
                    <a:pt x="13008" y="7230"/>
                  </a:lnTo>
                  <a:lnTo>
                    <a:pt x="13008" y="7230"/>
                  </a:lnTo>
                  <a:lnTo>
                    <a:pt x="13008" y="7230"/>
                  </a:lnTo>
                  <a:lnTo>
                    <a:pt x="13008" y="7230"/>
                  </a:lnTo>
                  <a:lnTo>
                    <a:pt x="13029" y="7245"/>
                  </a:lnTo>
                  <a:lnTo>
                    <a:pt x="13048" y="7260"/>
                  </a:lnTo>
                  <a:lnTo>
                    <a:pt x="13067" y="7273"/>
                  </a:lnTo>
                  <a:lnTo>
                    <a:pt x="13084" y="7286"/>
                  </a:lnTo>
                  <a:lnTo>
                    <a:pt x="13099" y="7298"/>
                  </a:lnTo>
                  <a:lnTo>
                    <a:pt x="13115" y="7309"/>
                  </a:lnTo>
                  <a:lnTo>
                    <a:pt x="13129" y="7320"/>
                  </a:lnTo>
                  <a:lnTo>
                    <a:pt x="13142" y="7328"/>
                  </a:lnTo>
                  <a:lnTo>
                    <a:pt x="13179" y="7356"/>
                  </a:lnTo>
                  <a:lnTo>
                    <a:pt x="13206" y="7376"/>
                  </a:lnTo>
                  <a:lnTo>
                    <a:pt x="13225" y="7390"/>
                  </a:lnTo>
                  <a:lnTo>
                    <a:pt x="13240" y="7401"/>
                  </a:lnTo>
                  <a:lnTo>
                    <a:pt x="13247" y="7406"/>
                  </a:lnTo>
                  <a:lnTo>
                    <a:pt x="13252" y="7409"/>
                  </a:lnTo>
                  <a:lnTo>
                    <a:pt x="13253" y="7410"/>
                  </a:lnTo>
                  <a:lnTo>
                    <a:pt x="13253" y="7410"/>
                  </a:lnTo>
                  <a:lnTo>
                    <a:pt x="13253" y="7407"/>
                  </a:lnTo>
                  <a:lnTo>
                    <a:pt x="13253" y="7396"/>
                  </a:lnTo>
                  <a:lnTo>
                    <a:pt x="13252" y="7378"/>
                  </a:lnTo>
                  <a:lnTo>
                    <a:pt x="13249" y="7355"/>
                  </a:lnTo>
                  <a:lnTo>
                    <a:pt x="13246" y="7326"/>
                  </a:lnTo>
                  <a:lnTo>
                    <a:pt x="13241" y="7293"/>
                  </a:lnTo>
                  <a:lnTo>
                    <a:pt x="13234" y="7255"/>
                  </a:lnTo>
                  <a:lnTo>
                    <a:pt x="13224" y="7212"/>
                  </a:lnTo>
                  <a:close/>
                  <a:moveTo>
                    <a:pt x="11090" y="7591"/>
                  </a:moveTo>
                  <a:lnTo>
                    <a:pt x="11090" y="7590"/>
                  </a:lnTo>
                  <a:lnTo>
                    <a:pt x="11087" y="7586"/>
                  </a:lnTo>
                  <a:lnTo>
                    <a:pt x="11085" y="7580"/>
                  </a:lnTo>
                  <a:lnTo>
                    <a:pt x="11081" y="7572"/>
                  </a:lnTo>
                  <a:lnTo>
                    <a:pt x="11078" y="7561"/>
                  </a:lnTo>
                  <a:lnTo>
                    <a:pt x="11073" y="7550"/>
                  </a:lnTo>
                  <a:lnTo>
                    <a:pt x="11067" y="7536"/>
                  </a:lnTo>
                  <a:lnTo>
                    <a:pt x="11061" y="7521"/>
                  </a:lnTo>
                  <a:lnTo>
                    <a:pt x="11054" y="7501"/>
                  </a:lnTo>
                  <a:lnTo>
                    <a:pt x="11046" y="7479"/>
                  </a:lnTo>
                  <a:lnTo>
                    <a:pt x="11037" y="7456"/>
                  </a:lnTo>
                  <a:lnTo>
                    <a:pt x="11027" y="7432"/>
                  </a:lnTo>
                  <a:lnTo>
                    <a:pt x="11017" y="7407"/>
                  </a:lnTo>
                  <a:lnTo>
                    <a:pt x="11006" y="7381"/>
                  </a:lnTo>
                  <a:lnTo>
                    <a:pt x="10996" y="7355"/>
                  </a:lnTo>
                  <a:lnTo>
                    <a:pt x="10985" y="7328"/>
                  </a:lnTo>
                  <a:lnTo>
                    <a:pt x="10863" y="7498"/>
                  </a:lnTo>
                  <a:lnTo>
                    <a:pt x="10886" y="7510"/>
                  </a:lnTo>
                  <a:lnTo>
                    <a:pt x="10909" y="7522"/>
                  </a:lnTo>
                  <a:lnTo>
                    <a:pt x="10929" y="7533"/>
                  </a:lnTo>
                  <a:lnTo>
                    <a:pt x="10949" y="7542"/>
                  </a:lnTo>
                  <a:lnTo>
                    <a:pt x="10970" y="7552"/>
                  </a:lnTo>
                  <a:lnTo>
                    <a:pt x="10987" y="7559"/>
                  </a:lnTo>
                  <a:lnTo>
                    <a:pt x="11004" y="7567"/>
                  </a:lnTo>
                  <a:lnTo>
                    <a:pt x="11019" y="7573"/>
                  </a:lnTo>
                  <a:lnTo>
                    <a:pt x="11036" y="7578"/>
                  </a:lnTo>
                  <a:lnTo>
                    <a:pt x="11050" y="7582"/>
                  </a:lnTo>
                  <a:lnTo>
                    <a:pt x="11062" y="7584"/>
                  </a:lnTo>
                  <a:lnTo>
                    <a:pt x="11072" y="7588"/>
                  </a:lnTo>
                  <a:lnTo>
                    <a:pt x="11080" y="7589"/>
                  </a:lnTo>
                  <a:lnTo>
                    <a:pt x="11086" y="7590"/>
                  </a:lnTo>
                  <a:lnTo>
                    <a:pt x="11088" y="7591"/>
                  </a:lnTo>
                  <a:lnTo>
                    <a:pt x="11090" y="7591"/>
                  </a:lnTo>
                  <a:close/>
                  <a:moveTo>
                    <a:pt x="6064" y="2000"/>
                  </a:moveTo>
                  <a:lnTo>
                    <a:pt x="6052" y="1986"/>
                  </a:lnTo>
                  <a:lnTo>
                    <a:pt x="6041" y="1969"/>
                  </a:lnTo>
                  <a:lnTo>
                    <a:pt x="6029" y="1951"/>
                  </a:lnTo>
                  <a:lnTo>
                    <a:pt x="6017" y="1931"/>
                  </a:lnTo>
                  <a:lnTo>
                    <a:pt x="6004" y="1910"/>
                  </a:lnTo>
                  <a:lnTo>
                    <a:pt x="5991" y="1886"/>
                  </a:lnTo>
                  <a:lnTo>
                    <a:pt x="5978" y="1862"/>
                  </a:lnTo>
                  <a:lnTo>
                    <a:pt x="5964" y="1836"/>
                  </a:lnTo>
                  <a:lnTo>
                    <a:pt x="5003" y="3184"/>
                  </a:lnTo>
                  <a:lnTo>
                    <a:pt x="5042" y="3161"/>
                  </a:lnTo>
                  <a:lnTo>
                    <a:pt x="5083" y="3141"/>
                  </a:lnTo>
                  <a:lnTo>
                    <a:pt x="5123" y="3120"/>
                  </a:lnTo>
                  <a:lnTo>
                    <a:pt x="5163" y="3101"/>
                  </a:lnTo>
                  <a:lnTo>
                    <a:pt x="5205" y="3080"/>
                  </a:lnTo>
                  <a:lnTo>
                    <a:pt x="5247" y="3061"/>
                  </a:lnTo>
                  <a:lnTo>
                    <a:pt x="5288" y="3044"/>
                  </a:lnTo>
                  <a:lnTo>
                    <a:pt x="5329" y="3026"/>
                  </a:lnTo>
                  <a:lnTo>
                    <a:pt x="6064" y="2000"/>
                  </a:lnTo>
                  <a:close/>
                  <a:moveTo>
                    <a:pt x="5842" y="2857"/>
                  </a:moveTo>
                  <a:lnTo>
                    <a:pt x="6869" y="1416"/>
                  </a:lnTo>
                  <a:lnTo>
                    <a:pt x="6856" y="1421"/>
                  </a:lnTo>
                  <a:lnTo>
                    <a:pt x="6843" y="1426"/>
                  </a:lnTo>
                  <a:lnTo>
                    <a:pt x="6829" y="1432"/>
                  </a:lnTo>
                  <a:lnTo>
                    <a:pt x="6815" y="1438"/>
                  </a:lnTo>
                  <a:lnTo>
                    <a:pt x="6802" y="1445"/>
                  </a:lnTo>
                  <a:lnTo>
                    <a:pt x="6789" y="1452"/>
                  </a:lnTo>
                  <a:lnTo>
                    <a:pt x="6776" y="1460"/>
                  </a:lnTo>
                  <a:lnTo>
                    <a:pt x="6763" y="1469"/>
                  </a:lnTo>
                  <a:lnTo>
                    <a:pt x="6729" y="1487"/>
                  </a:lnTo>
                  <a:lnTo>
                    <a:pt x="6695" y="1504"/>
                  </a:lnTo>
                  <a:lnTo>
                    <a:pt x="6663" y="1521"/>
                  </a:lnTo>
                  <a:lnTo>
                    <a:pt x="6632" y="1539"/>
                  </a:lnTo>
                  <a:lnTo>
                    <a:pt x="6603" y="1557"/>
                  </a:lnTo>
                  <a:lnTo>
                    <a:pt x="6573" y="1573"/>
                  </a:lnTo>
                  <a:lnTo>
                    <a:pt x="6546" y="1591"/>
                  </a:lnTo>
                  <a:lnTo>
                    <a:pt x="6518" y="1609"/>
                  </a:lnTo>
                  <a:lnTo>
                    <a:pt x="5575" y="2933"/>
                  </a:lnTo>
                  <a:lnTo>
                    <a:pt x="5607" y="2922"/>
                  </a:lnTo>
                  <a:lnTo>
                    <a:pt x="5640" y="2912"/>
                  </a:lnTo>
                  <a:lnTo>
                    <a:pt x="5673" y="2902"/>
                  </a:lnTo>
                  <a:lnTo>
                    <a:pt x="5707" y="2893"/>
                  </a:lnTo>
                  <a:lnTo>
                    <a:pt x="5740" y="2883"/>
                  </a:lnTo>
                  <a:lnTo>
                    <a:pt x="5773" y="2875"/>
                  </a:lnTo>
                  <a:lnTo>
                    <a:pt x="5808" y="2865"/>
                  </a:lnTo>
                  <a:lnTo>
                    <a:pt x="5842" y="2857"/>
                  </a:lnTo>
                  <a:close/>
                  <a:moveTo>
                    <a:pt x="3889" y="1487"/>
                  </a:moveTo>
                  <a:lnTo>
                    <a:pt x="3329" y="2267"/>
                  </a:lnTo>
                  <a:lnTo>
                    <a:pt x="3312" y="2323"/>
                  </a:lnTo>
                  <a:lnTo>
                    <a:pt x="3295" y="2382"/>
                  </a:lnTo>
                  <a:lnTo>
                    <a:pt x="3277" y="2440"/>
                  </a:lnTo>
                  <a:lnTo>
                    <a:pt x="3260" y="2502"/>
                  </a:lnTo>
                  <a:lnTo>
                    <a:pt x="3244" y="2562"/>
                  </a:lnTo>
                  <a:lnTo>
                    <a:pt x="3227" y="2625"/>
                  </a:lnTo>
                  <a:lnTo>
                    <a:pt x="3211" y="2688"/>
                  </a:lnTo>
                  <a:lnTo>
                    <a:pt x="3195" y="2751"/>
                  </a:lnTo>
                  <a:lnTo>
                    <a:pt x="3976" y="1655"/>
                  </a:lnTo>
                  <a:lnTo>
                    <a:pt x="3968" y="1634"/>
                  </a:lnTo>
                  <a:lnTo>
                    <a:pt x="3958" y="1611"/>
                  </a:lnTo>
                  <a:lnTo>
                    <a:pt x="3947" y="1590"/>
                  </a:lnTo>
                  <a:lnTo>
                    <a:pt x="3937" y="1569"/>
                  </a:lnTo>
                  <a:lnTo>
                    <a:pt x="3926" y="1547"/>
                  </a:lnTo>
                  <a:lnTo>
                    <a:pt x="3914" y="1527"/>
                  </a:lnTo>
                  <a:lnTo>
                    <a:pt x="3902" y="1507"/>
                  </a:lnTo>
                  <a:lnTo>
                    <a:pt x="3889" y="1487"/>
                  </a:lnTo>
                  <a:close/>
                  <a:moveTo>
                    <a:pt x="11230" y="4559"/>
                  </a:moveTo>
                  <a:lnTo>
                    <a:pt x="11223" y="4554"/>
                  </a:lnTo>
                  <a:lnTo>
                    <a:pt x="11216" y="4551"/>
                  </a:lnTo>
                  <a:lnTo>
                    <a:pt x="11208" y="4546"/>
                  </a:lnTo>
                  <a:lnTo>
                    <a:pt x="11200" y="4541"/>
                  </a:lnTo>
                  <a:lnTo>
                    <a:pt x="11192" y="4538"/>
                  </a:lnTo>
                  <a:lnTo>
                    <a:pt x="11183" y="4533"/>
                  </a:lnTo>
                  <a:lnTo>
                    <a:pt x="11174" y="4528"/>
                  </a:lnTo>
                  <a:lnTo>
                    <a:pt x="11166" y="4525"/>
                  </a:lnTo>
                  <a:lnTo>
                    <a:pt x="11155" y="4517"/>
                  </a:lnTo>
                  <a:lnTo>
                    <a:pt x="11144" y="4513"/>
                  </a:lnTo>
                  <a:lnTo>
                    <a:pt x="11132" y="4507"/>
                  </a:lnTo>
                  <a:lnTo>
                    <a:pt x="11122" y="4502"/>
                  </a:lnTo>
                  <a:lnTo>
                    <a:pt x="11111" y="4497"/>
                  </a:lnTo>
                  <a:lnTo>
                    <a:pt x="11100" y="4492"/>
                  </a:lnTo>
                  <a:lnTo>
                    <a:pt x="11090" y="4488"/>
                  </a:lnTo>
                  <a:lnTo>
                    <a:pt x="11078" y="4483"/>
                  </a:lnTo>
                  <a:lnTo>
                    <a:pt x="9889" y="6140"/>
                  </a:lnTo>
                  <a:lnTo>
                    <a:pt x="9888" y="6183"/>
                  </a:lnTo>
                  <a:lnTo>
                    <a:pt x="9887" y="6225"/>
                  </a:lnTo>
                  <a:lnTo>
                    <a:pt x="9884" y="6268"/>
                  </a:lnTo>
                  <a:lnTo>
                    <a:pt x="9882" y="6310"/>
                  </a:lnTo>
                  <a:lnTo>
                    <a:pt x="9878" y="6351"/>
                  </a:lnTo>
                  <a:lnTo>
                    <a:pt x="9874" y="6392"/>
                  </a:lnTo>
                  <a:lnTo>
                    <a:pt x="9870" y="6432"/>
                  </a:lnTo>
                  <a:lnTo>
                    <a:pt x="9865" y="6471"/>
                  </a:lnTo>
                  <a:lnTo>
                    <a:pt x="10792" y="5171"/>
                  </a:lnTo>
                  <a:lnTo>
                    <a:pt x="10770" y="5159"/>
                  </a:lnTo>
                  <a:lnTo>
                    <a:pt x="10748" y="5147"/>
                  </a:lnTo>
                  <a:lnTo>
                    <a:pt x="10729" y="5138"/>
                  </a:lnTo>
                  <a:lnTo>
                    <a:pt x="10713" y="5130"/>
                  </a:lnTo>
                  <a:lnTo>
                    <a:pt x="10700" y="5122"/>
                  </a:lnTo>
                  <a:lnTo>
                    <a:pt x="10690" y="5118"/>
                  </a:lnTo>
                  <a:lnTo>
                    <a:pt x="10684" y="5114"/>
                  </a:lnTo>
                  <a:lnTo>
                    <a:pt x="10682" y="5113"/>
                  </a:lnTo>
                  <a:lnTo>
                    <a:pt x="10684" y="5111"/>
                  </a:lnTo>
                  <a:lnTo>
                    <a:pt x="10693" y="5103"/>
                  </a:lnTo>
                  <a:lnTo>
                    <a:pt x="10708" y="5093"/>
                  </a:lnTo>
                  <a:lnTo>
                    <a:pt x="10731" y="5078"/>
                  </a:lnTo>
                  <a:lnTo>
                    <a:pt x="10763" y="5061"/>
                  </a:lnTo>
                  <a:lnTo>
                    <a:pt x="10804" y="5039"/>
                  </a:lnTo>
                  <a:lnTo>
                    <a:pt x="10829" y="5029"/>
                  </a:lnTo>
                  <a:lnTo>
                    <a:pt x="10857" y="5017"/>
                  </a:lnTo>
                  <a:lnTo>
                    <a:pt x="10887" y="5004"/>
                  </a:lnTo>
                  <a:lnTo>
                    <a:pt x="10921" y="4991"/>
                  </a:lnTo>
                  <a:lnTo>
                    <a:pt x="11230" y="4559"/>
                  </a:lnTo>
                  <a:close/>
                  <a:moveTo>
                    <a:pt x="3685" y="7504"/>
                  </a:moveTo>
                  <a:lnTo>
                    <a:pt x="3674" y="7482"/>
                  </a:lnTo>
                  <a:lnTo>
                    <a:pt x="3663" y="7460"/>
                  </a:lnTo>
                  <a:lnTo>
                    <a:pt x="3653" y="7438"/>
                  </a:lnTo>
                  <a:lnTo>
                    <a:pt x="3642" y="7416"/>
                  </a:lnTo>
                  <a:lnTo>
                    <a:pt x="3631" y="7395"/>
                  </a:lnTo>
                  <a:lnTo>
                    <a:pt x="3622" y="7372"/>
                  </a:lnTo>
                  <a:lnTo>
                    <a:pt x="3612" y="7351"/>
                  </a:lnTo>
                  <a:lnTo>
                    <a:pt x="3604" y="7328"/>
                  </a:lnTo>
                  <a:lnTo>
                    <a:pt x="2735" y="8542"/>
                  </a:lnTo>
                  <a:lnTo>
                    <a:pt x="2761" y="8542"/>
                  </a:lnTo>
                  <a:lnTo>
                    <a:pt x="2787" y="8542"/>
                  </a:lnTo>
                  <a:lnTo>
                    <a:pt x="2814" y="8542"/>
                  </a:lnTo>
                  <a:lnTo>
                    <a:pt x="2840" y="8542"/>
                  </a:lnTo>
                  <a:lnTo>
                    <a:pt x="2866" y="8542"/>
                  </a:lnTo>
                  <a:lnTo>
                    <a:pt x="2892" y="8542"/>
                  </a:lnTo>
                  <a:lnTo>
                    <a:pt x="2918" y="8542"/>
                  </a:lnTo>
                  <a:lnTo>
                    <a:pt x="2944" y="8542"/>
                  </a:lnTo>
                  <a:lnTo>
                    <a:pt x="3685" y="7504"/>
                  </a:lnTo>
                  <a:close/>
                  <a:moveTo>
                    <a:pt x="9329" y="4204"/>
                  </a:moveTo>
                  <a:lnTo>
                    <a:pt x="9342" y="4224"/>
                  </a:lnTo>
                  <a:lnTo>
                    <a:pt x="9355" y="4243"/>
                  </a:lnTo>
                  <a:lnTo>
                    <a:pt x="9369" y="4263"/>
                  </a:lnTo>
                  <a:lnTo>
                    <a:pt x="9380" y="4282"/>
                  </a:lnTo>
                  <a:lnTo>
                    <a:pt x="9393" y="4302"/>
                  </a:lnTo>
                  <a:lnTo>
                    <a:pt x="9405" y="4321"/>
                  </a:lnTo>
                  <a:lnTo>
                    <a:pt x="9417" y="4342"/>
                  </a:lnTo>
                  <a:lnTo>
                    <a:pt x="9428" y="4361"/>
                  </a:lnTo>
                  <a:lnTo>
                    <a:pt x="10419" y="2973"/>
                  </a:lnTo>
                  <a:lnTo>
                    <a:pt x="10393" y="2971"/>
                  </a:lnTo>
                  <a:lnTo>
                    <a:pt x="10368" y="2969"/>
                  </a:lnTo>
                  <a:lnTo>
                    <a:pt x="10343" y="2966"/>
                  </a:lnTo>
                  <a:lnTo>
                    <a:pt x="10318" y="2965"/>
                  </a:lnTo>
                  <a:lnTo>
                    <a:pt x="10293" y="2963"/>
                  </a:lnTo>
                  <a:lnTo>
                    <a:pt x="10269" y="2960"/>
                  </a:lnTo>
                  <a:lnTo>
                    <a:pt x="10244" y="2958"/>
                  </a:lnTo>
                  <a:lnTo>
                    <a:pt x="10221" y="2956"/>
                  </a:lnTo>
                  <a:lnTo>
                    <a:pt x="9329" y="4204"/>
                  </a:lnTo>
                  <a:close/>
                  <a:moveTo>
                    <a:pt x="3376" y="6554"/>
                  </a:moveTo>
                  <a:lnTo>
                    <a:pt x="1953" y="8542"/>
                  </a:lnTo>
                  <a:lnTo>
                    <a:pt x="1979" y="8543"/>
                  </a:lnTo>
                  <a:lnTo>
                    <a:pt x="2005" y="8546"/>
                  </a:lnTo>
                  <a:lnTo>
                    <a:pt x="2032" y="8546"/>
                  </a:lnTo>
                  <a:lnTo>
                    <a:pt x="2058" y="8547"/>
                  </a:lnTo>
                  <a:lnTo>
                    <a:pt x="2085" y="8547"/>
                  </a:lnTo>
                  <a:lnTo>
                    <a:pt x="2111" y="8548"/>
                  </a:lnTo>
                  <a:lnTo>
                    <a:pt x="2137" y="8548"/>
                  </a:lnTo>
                  <a:lnTo>
                    <a:pt x="2163" y="8548"/>
                  </a:lnTo>
                  <a:lnTo>
                    <a:pt x="3422" y="6781"/>
                  </a:lnTo>
                  <a:lnTo>
                    <a:pt x="3416" y="6752"/>
                  </a:lnTo>
                  <a:lnTo>
                    <a:pt x="3410" y="6723"/>
                  </a:lnTo>
                  <a:lnTo>
                    <a:pt x="3404" y="6696"/>
                  </a:lnTo>
                  <a:lnTo>
                    <a:pt x="3400" y="6668"/>
                  </a:lnTo>
                  <a:lnTo>
                    <a:pt x="3394" y="6639"/>
                  </a:lnTo>
                  <a:lnTo>
                    <a:pt x="3388" y="6611"/>
                  </a:lnTo>
                  <a:lnTo>
                    <a:pt x="3382" y="6582"/>
                  </a:lnTo>
                  <a:lnTo>
                    <a:pt x="3376" y="6554"/>
                  </a:lnTo>
                  <a:close/>
                  <a:moveTo>
                    <a:pt x="6117" y="0"/>
                  </a:moveTo>
                  <a:lnTo>
                    <a:pt x="4525" y="2221"/>
                  </a:lnTo>
                  <a:lnTo>
                    <a:pt x="4525" y="2223"/>
                  </a:lnTo>
                  <a:lnTo>
                    <a:pt x="4525" y="2226"/>
                  </a:lnTo>
                  <a:lnTo>
                    <a:pt x="4525" y="2228"/>
                  </a:lnTo>
                  <a:lnTo>
                    <a:pt x="4525" y="2229"/>
                  </a:lnTo>
                  <a:lnTo>
                    <a:pt x="4525" y="2232"/>
                  </a:lnTo>
                  <a:lnTo>
                    <a:pt x="4525" y="2234"/>
                  </a:lnTo>
                  <a:lnTo>
                    <a:pt x="4525" y="2237"/>
                  </a:lnTo>
                  <a:lnTo>
                    <a:pt x="4525" y="2239"/>
                  </a:lnTo>
                  <a:lnTo>
                    <a:pt x="4516" y="2297"/>
                  </a:lnTo>
                  <a:lnTo>
                    <a:pt x="4504" y="2354"/>
                  </a:lnTo>
                  <a:lnTo>
                    <a:pt x="4492" y="2411"/>
                  </a:lnTo>
                  <a:lnTo>
                    <a:pt x="4478" y="2466"/>
                  </a:lnTo>
                  <a:lnTo>
                    <a:pt x="4463" y="2521"/>
                  </a:lnTo>
                  <a:lnTo>
                    <a:pt x="4448" y="2573"/>
                  </a:lnTo>
                  <a:lnTo>
                    <a:pt x="4431" y="2625"/>
                  </a:lnTo>
                  <a:lnTo>
                    <a:pt x="4413" y="2676"/>
                  </a:lnTo>
                  <a:lnTo>
                    <a:pt x="6193" y="192"/>
                  </a:lnTo>
                  <a:lnTo>
                    <a:pt x="6180" y="160"/>
                  </a:lnTo>
                  <a:lnTo>
                    <a:pt x="6167" y="130"/>
                  </a:lnTo>
                  <a:lnTo>
                    <a:pt x="6155" y="103"/>
                  </a:lnTo>
                  <a:lnTo>
                    <a:pt x="6143" y="78"/>
                  </a:lnTo>
                  <a:lnTo>
                    <a:pt x="6133" y="55"/>
                  </a:lnTo>
                  <a:lnTo>
                    <a:pt x="6126" y="34"/>
                  </a:lnTo>
                  <a:lnTo>
                    <a:pt x="6120" y="16"/>
                  </a:lnTo>
                  <a:lnTo>
                    <a:pt x="6117" y="0"/>
                  </a:lnTo>
                  <a:close/>
                  <a:moveTo>
                    <a:pt x="11585" y="4856"/>
                  </a:moveTo>
                  <a:lnTo>
                    <a:pt x="11585" y="4856"/>
                  </a:lnTo>
                  <a:lnTo>
                    <a:pt x="11586" y="4856"/>
                  </a:lnTo>
                  <a:lnTo>
                    <a:pt x="11588" y="4856"/>
                  </a:lnTo>
                  <a:lnTo>
                    <a:pt x="11589" y="4856"/>
                  </a:lnTo>
                  <a:lnTo>
                    <a:pt x="11590" y="4856"/>
                  </a:lnTo>
                  <a:lnTo>
                    <a:pt x="11590" y="4856"/>
                  </a:lnTo>
                  <a:lnTo>
                    <a:pt x="11591" y="4856"/>
                  </a:lnTo>
                  <a:lnTo>
                    <a:pt x="11591" y="4856"/>
                  </a:lnTo>
                  <a:lnTo>
                    <a:pt x="11591" y="4856"/>
                  </a:lnTo>
                  <a:lnTo>
                    <a:pt x="11590" y="4856"/>
                  </a:lnTo>
                  <a:lnTo>
                    <a:pt x="11590" y="4856"/>
                  </a:lnTo>
                  <a:lnTo>
                    <a:pt x="11589" y="4856"/>
                  </a:lnTo>
                  <a:lnTo>
                    <a:pt x="11588" y="4856"/>
                  </a:lnTo>
                  <a:lnTo>
                    <a:pt x="11586" y="4856"/>
                  </a:lnTo>
                  <a:lnTo>
                    <a:pt x="11585" y="4856"/>
                  </a:lnTo>
                  <a:lnTo>
                    <a:pt x="11585" y="4856"/>
                  </a:lnTo>
                  <a:close/>
                  <a:moveTo>
                    <a:pt x="4029" y="1824"/>
                  </a:moveTo>
                  <a:lnTo>
                    <a:pt x="3107" y="3120"/>
                  </a:lnTo>
                  <a:lnTo>
                    <a:pt x="3098" y="3171"/>
                  </a:lnTo>
                  <a:lnTo>
                    <a:pt x="3087" y="3223"/>
                  </a:lnTo>
                  <a:lnTo>
                    <a:pt x="3077" y="3273"/>
                  </a:lnTo>
                  <a:lnTo>
                    <a:pt x="3068" y="3323"/>
                  </a:lnTo>
                  <a:lnTo>
                    <a:pt x="3060" y="3372"/>
                  </a:lnTo>
                  <a:lnTo>
                    <a:pt x="3052" y="3419"/>
                  </a:lnTo>
                  <a:lnTo>
                    <a:pt x="3044" y="3466"/>
                  </a:lnTo>
                  <a:lnTo>
                    <a:pt x="3038" y="3510"/>
                  </a:lnTo>
                  <a:lnTo>
                    <a:pt x="4076" y="2064"/>
                  </a:lnTo>
                  <a:lnTo>
                    <a:pt x="4073" y="2034"/>
                  </a:lnTo>
                  <a:lnTo>
                    <a:pt x="4069" y="2006"/>
                  </a:lnTo>
                  <a:lnTo>
                    <a:pt x="4064" y="1976"/>
                  </a:lnTo>
                  <a:lnTo>
                    <a:pt x="4059" y="1947"/>
                  </a:lnTo>
                  <a:lnTo>
                    <a:pt x="4052" y="1916"/>
                  </a:lnTo>
                  <a:lnTo>
                    <a:pt x="4045" y="1886"/>
                  </a:lnTo>
                  <a:lnTo>
                    <a:pt x="4038" y="1855"/>
                  </a:lnTo>
                  <a:lnTo>
                    <a:pt x="4029" y="1824"/>
                  </a:lnTo>
                  <a:close/>
                  <a:moveTo>
                    <a:pt x="9865" y="5632"/>
                  </a:moveTo>
                  <a:lnTo>
                    <a:pt x="9870" y="5664"/>
                  </a:lnTo>
                  <a:lnTo>
                    <a:pt x="9874" y="5698"/>
                  </a:lnTo>
                  <a:lnTo>
                    <a:pt x="9876" y="5731"/>
                  </a:lnTo>
                  <a:lnTo>
                    <a:pt x="9880" y="5763"/>
                  </a:lnTo>
                  <a:lnTo>
                    <a:pt x="9882" y="5796"/>
                  </a:lnTo>
                  <a:lnTo>
                    <a:pt x="9884" y="5828"/>
                  </a:lnTo>
                  <a:lnTo>
                    <a:pt x="9887" y="5862"/>
                  </a:lnTo>
                  <a:lnTo>
                    <a:pt x="9889" y="5895"/>
                  </a:lnTo>
                  <a:lnTo>
                    <a:pt x="10945" y="4419"/>
                  </a:lnTo>
                  <a:lnTo>
                    <a:pt x="10922" y="4410"/>
                  </a:lnTo>
                  <a:lnTo>
                    <a:pt x="10902" y="4402"/>
                  </a:lnTo>
                  <a:lnTo>
                    <a:pt x="10880" y="4393"/>
                  </a:lnTo>
                  <a:lnTo>
                    <a:pt x="10860" y="4384"/>
                  </a:lnTo>
                  <a:lnTo>
                    <a:pt x="10840" y="4376"/>
                  </a:lnTo>
                  <a:lnTo>
                    <a:pt x="10820" y="4366"/>
                  </a:lnTo>
                  <a:lnTo>
                    <a:pt x="10801" y="4358"/>
                  </a:lnTo>
                  <a:lnTo>
                    <a:pt x="10781" y="4350"/>
                  </a:lnTo>
                  <a:lnTo>
                    <a:pt x="9865" y="5632"/>
                  </a:lnTo>
                  <a:close/>
                  <a:moveTo>
                    <a:pt x="3470" y="6961"/>
                  </a:moveTo>
                  <a:lnTo>
                    <a:pt x="2344" y="8548"/>
                  </a:lnTo>
                  <a:lnTo>
                    <a:pt x="2370" y="8547"/>
                  </a:lnTo>
                  <a:lnTo>
                    <a:pt x="2396" y="8547"/>
                  </a:lnTo>
                  <a:lnTo>
                    <a:pt x="2423" y="8546"/>
                  </a:lnTo>
                  <a:lnTo>
                    <a:pt x="2449" y="8544"/>
                  </a:lnTo>
                  <a:lnTo>
                    <a:pt x="2475" y="8543"/>
                  </a:lnTo>
                  <a:lnTo>
                    <a:pt x="2501" y="8543"/>
                  </a:lnTo>
                  <a:lnTo>
                    <a:pt x="2527" y="8542"/>
                  </a:lnTo>
                  <a:lnTo>
                    <a:pt x="2553" y="8542"/>
                  </a:lnTo>
                  <a:lnTo>
                    <a:pt x="3539" y="7166"/>
                  </a:lnTo>
                  <a:lnTo>
                    <a:pt x="3530" y="7142"/>
                  </a:lnTo>
                  <a:lnTo>
                    <a:pt x="3522" y="7117"/>
                  </a:lnTo>
                  <a:lnTo>
                    <a:pt x="3512" y="7092"/>
                  </a:lnTo>
                  <a:lnTo>
                    <a:pt x="3504" y="7066"/>
                  </a:lnTo>
                  <a:lnTo>
                    <a:pt x="3496" y="7040"/>
                  </a:lnTo>
                  <a:lnTo>
                    <a:pt x="3486" y="7013"/>
                  </a:lnTo>
                  <a:lnTo>
                    <a:pt x="3478" y="6987"/>
                  </a:lnTo>
                  <a:lnTo>
                    <a:pt x="3470" y="6961"/>
                  </a:lnTo>
                  <a:close/>
                  <a:moveTo>
                    <a:pt x="4676" y="3399"/>
                  </a:moveTo>
                  <a:lnTo>
                    <a:pt x="5918" y="1655"/>
                  </a:lnTo>
                  <a:lnTo>
                    <a:pt x="5916" y="1637"/>
                  </a:lnTo>
                  <a:lnTo>
                    <a:pt x="5915" y="1620"/>
                  </a:lnTo>
                  <a:lnTo>
                    <a:pt x="5915" y="1601"/>
                  </a:lnTo>
                  <a:lnTo>
                    <a:pt x="5915" y="1583"/>
                  </a:lnTo>
                  <a:lnTo>
                    <a:pt x="5915" y="1563"/>
                  </a:lnTo>
                  <a:lnTo>
                    <a:pt x="5916" y="1544"/>
                  </a:lnTo>
                  <a:lnTo>
                    <a:pt x="5918" y="1523"/>
                  </a:lnTo>
                  <a:lnTo>
                    <a:pt x="5920" y="1503"/>
                  </a:lnTo>
                  <a:lnTo>
                    <a:pt x="5925" y="1483"/>
                  </a:lnTo>
                  <a:lnTo>
                    <a:pt x="5929" y="1462"/>
                  </a:lnTo>
                  <a:lnTo>
                    <a:pt x="5935" y="1440"/>
                  </a:lnTo>
                  <a:lnTo>
                    <a:pt x="5941" y="1419"/>
                  </a:lnTo>
                  <a:lnTo>
                    <a:pt x="5948" y="1396"/>
                  </a:lnTo>
                  <a:lnTo>
                    <a:pt x="5956" y="1375"/>
                  </a:lnTo>
                  <a:lnTo>
                    <a:pt x="5966" y="1352"/>
                  </a:lnTo>
                  <a:lnTo>
                    <a:pt x="5976" y="1328"/>
                  </a:lnTo>
                  <a:lnTo>
                    <a:pt x="5989" y="1303"/>
                  </a:lnTo>
                  <a:lnTo>
                    <a:pt x="6001" y="1279"/>
                  </a:lnTo>
                  <a:lnTo>
                    <a:pt x="6013" y="1255"/>
                  </a:lnTo>
                  <a:lnTo>
                    <a:pt x="6025" y="1232"/>
                  </a:lnTo>
                  <a:lnTo>
                    <a:pt x="6037" y="1210"/>
                  </a:lnTo>
                  <a:lnTo>
                    <a:pt x="6048" y="1188"/>
                  </a:lnTo>
                  <a:lnTo>
                    <a:pt x="6058" y="1168"/>
                  </a:lnTo>
                  <a:lnTo>
                    <a:pt x="6069" y="1148"/>
                  </a:lnTo>
                  <a:lnTo>
                    <a:pt x="2589" y="6023"/>
                  </a:lnTo>
                  <a:lnTo>
                    <a:pt x="2595" y="6036"/>
                  </a:lnTo>
                  <a:lnTo>
                    <a:pt x="2600" y="6050"/>
                  </a:lnTo>
                  <a:lnTo>
                    <a:pt x="2604" y="6064"/>
                  </a:lnTo>
                  <a:lnTo>
                    <a:pt x="2608" y="6078"/>
                  </a:lnTo>
                  <a:lnTo>
                    <a:pt x="2610" y="6091"/>
                  </a:lnTo>
                  <a:lnTo>
                    <a:pt x="2614" y="6104"/>
                  </a:lnTo>
                  <a:lnTo>
                    <a:pt x="2616" y="6116"/>
                  </a:lnTo>
                  <a:lnTo>
                    <a:pt x="2617" y="6128"/>
                  </a:lnTo>
                  <a:lnTo>
                    <a:pt x="2620" y="6147"/>
                  </a:lnTo>
                  <a:lnTo>
                    <a:pt x="2622" y="6165"/>
                  </a:lnTo>
                  <a:lnTo>
                    <a:pt x="2625" y="6183"/>
                  </a:lnTo>
                  <a:lnTo>
                    <a:pt x="2627" y="6198"/>
                  </a:lnTo>
                  <a:lnTo>
                    <a:pt x="2629" y="6214"/>
                  </a:lnTo>
                  <a:lnTo>
                    <a:pt x="2631" y="6229"/>
                  </a:lnTo>
                  <a:lnTo>
                    <a:pt x="2633" y="6242"/>
                  </a:lnTo>
                  <a:lnTo>
                    <a:pt x="2635" y="6256"/>
                  </a:lnTo>
                  <a:lnTo>
                    <a:pt x="3486" y="5061"/>
                  </a:lnTo>
                  <a:lnTo>
                    <a:pt x="3507" y="4998"/>
                  </a:lnTo>
                  <a:lnTo>
                    <a:pt x="3529" y="4936"/>
                  </a:lnTo>
                  <a:lnTo>
                    <a:pt x="3552" y="4874"/>
                  </a:lnTo>
                  <a:lnTo>
                    <a:pt x="3575" y="4813"/>
                  </a:lnTo>
                  <a:lnTo>
                    <a:pt x="3600" y="4753"/>
                  </a:lnTo>
                  <a:lnTo>
                    <a:pt x="3627" y="4693"/>
                  </a:lnTo>
                  <a:lnTo>
                    <a:pt x="3654" y="4634"/>
                  </a:lnTo>
                  <a:lnTo>
                    <a:pt x="3682" y="4576"/>
                  </a:lnTo>
                  <a:lnTo>
                    <a:pt x="3712" y="4517"/>
                  </a:lnTo>
                  <a:lnTo>
                    <a:pt x="3743" y="4460"/>
                  </a:lnTo>
                  <a:lnTo>
                    <a:pt x="3775" y="4403"/>
                  </a:lnTo>
                  <a:lnTo>
                    <a:pt x="3807" y="4347"/>
                  </a:lnTo>
                  <a:lnTo>
                    <a:pt x="3842" y="4293"/>
                  </a:lnTo>
                  <a:lnTo>
                    <a:pt x="3877" y="4238"/>
                  </a:lnTo>
                  <a:lnTo>
                    <a:pt x="3913" y="4185"/>
                  </a:lnTo>
                  <a:lnTo>
                    <a:pt x="3950" y="4131"/>
                  </a:lnTo>
                  <a:lnTo>
                    <a:pt x="3989" y="4079"/>
                  </a:lnTo>
                  <a:lnTo>
                    <a:pt x="4028" y="4028"/>
                  </a:lnTo>
                  <a:lnTo>
                    <a:pt x="4068" y="3977"/>
                  </a:lnTo>
                  <a:lnTo>
                    <a:pt x="4109" y="3928"/>
                  </a:lnTo>
                  <a:lnTo>
                    <a:pt x="4152" y="3878"/>
                  </a:lnTo>
                  <a:lnTo>
                    <a:pt x="4195" y="3830"/>
                  </a:lnTo>
                  <a:lnTo>
                    <a:pt x="4239" y="3783"/>
                  </a:lnTo>
                  <a:lnTo>
                    <a:pt x="4284" y="3737"/>
                  </a:lnTo>
                  <a:lnTo>
                    <a:pt x="4330" y="3691"/>
                  </a:lnTo>
                  <a:lnTo>
                    <a:pt x="4377" y="3646"/>
                  </a:lnTo>
                  <a:lnTo>
                    <a:pt x="4424" y="3602"/>
                  </a:lnTo>
                  <a:lnTo>
                    <a:pt x="4473" y="3561"/>
                  </a:lnTo>
                  <a:lnTo>
                    <a:pt x="4523" y="3518"/>
                  </a:lnTo>
                  <a:lnTo>
                    <a:pt x="4573" y="3477"/>
                  </a:lnTo>
                  <a:lnTo>
                    <a:pt x="4624" y="3438"/>
                  </a:lnTo>
                  <a:lnTo>
                    <a:pt x="4676" y="3399"/>
                  </a:lnTo>
                  <a:close/>
                  <a:moveTo>
                    <a:pt x="9591" y="4676"/>
                  </a:moveTo>
                  <a:lnTo>
                    <a:pt x="10792" y="2997"/>
                  </a:lnTo>
                  <a:lnTo>
                    <a:pt x="10782" y="2997"/>
                  </a:lnTo>
                  <a:lnTo>
                    <a:pt x="10771" y="2997"/>
                  </a:lnTo>
                  <a:lnTo>
                    <a:pt x="10762" y="2997"/>
                  </a:lnTo>
                  <a:lnTo>
                    <a:pt x="10752" y="2997"/>
                  </a:lnTo>
                  <a:lnTo>
                    <a:pt x="10741" y="2997"/>
                  </a:lnTo>
                  <a:lnTo>
                    <a:pt x="10732" y="2997"/>
                  </a:lnTo>
                  <a:lnTo>
                    <a:pt x="10721" y="2997"/>
                  </a:lnTo>
                  <a:lnTo>
                    <a:pt x="10710" y="2997"/>
                  </a:lnTo>
                  <a:lnTo>
                    <a:pt x="10695" y="2995"/>
                  </a:lnTo>
                  <a:lnTo>
                    <a:pt x="10681" y="2994"/>
                  </a:lnTo>
                  <a:lnTo>
                    <a:pt x="10665" y="2992"/>
                  </a:lnTo>
                  <a:lnTo>
                    <a:pt x="10650" y="2991"/>
                  </a:lnTo>
                  <a:lnTo>
                    <a:pt x="10634" y="2990"/>
                  </a:lnTo>
                  <a:lnTo>
                    <a:pt x="10619" y="2989"/>
                  </a:lnTo>
                  <a:lnTo>
                    <a:pt x="10603" y="2987"/>
                  </a:lnTo>
                  <a:lnTo>
                    <a:pt x="10588" y="2985"/>
                  </a:lnTo>
                  <a:lnTo>
                    <a:pt x="9510" y="4501"/>
                  </a:lnTo>
                  <a:lnTo>
                    <a:pt x="9521" y="4523"/>
                  </a:lnTo>
                  <a:lnTo>
                    <a:pt x="9531" y="4545"/>
                  </a:lnTo>
                  <a:lnTo>
                    <a:pt x="9542" y="4566"/>
                  </a:lnTo>
                  <a:lnTo>
                    <a:pt x="9553" y="4589"/>
                  </a:lnTo>
                  <a:lnTo>
                    <a:pt x="9563" y="4610"/>
                  </a:lnTo>
                  <a:lnTo>
                    <a:pt x="9573" y="4633"/>
                  </a:lnTo>
                  <a:lnTo>
                    <a:pt x="9582" y="4654"/>
                  </a:lnTo>
                  <a:lnTo>
                    <a:pt x="9591" y="4676"/>
                  </a:lnTo>
                  <a:close/>
                  <a:moveTo>
                    <a:pt x="2105" y="5067"/>
                  </a:moveTo>
                  <a:lnTo>
                    <a:pt x="2116" y="5090"/>
                  </a:lnTo>
                  <a:lnTo>
                    <a:pt x="2127" y="5114"/>
                  </a:lnTo>
                  <a:lnTo>
                    <a:pt x="2137" y="5137"/>
                  </a:lnTo>
                  <a:lnTo>
                    <a:pt x="2149" y="5158"/>
                  </a:lnTo>
                  <a:lnTo>
                    <a:pt x="2160" y="5179"/>
                  </a:lnTo>
                  <a:lnTo>
                    <a:pt x="2171" y="5201"/>
                  </a:lnTo>
                  <a:lnTo>
                    <a:pt x="2181" y="5221"/>
                  </a:lnTo>
                  <a:lnTo>
                    <a:pt x="2192" y="5241"/>
                  </a:lnTo>
                  <a:lnTo>
                    <a:pt x="4018" y="2687"/>
                  </a:lnTo>
                  <a:lnTo>
                    <a:pt x="4018" y="2643"/>
                  </a:lnTo>
                  <a:lnTo>
                    <a:pt x="4019" y="2599"/>
                  </a:lnTo>
                  <a:lnTo>
                    <a:pt x="4021" y="2555"/>
                  </a:lnTo>
                  <a:lnTo>
                    <a:pt x="4024" y="2511"/>
                  </a:lnTo>
                  <a:lnTo>
                    <a:pt x="4028" y="2468"/>
                  </a:lnTo>
                  <a:lnTo>
                    <a:pt x="4034" y="2426"/>
                  </a:lnTo>
                  <a:lnTo>
                    <a:pt x="4043" y="2384"/>
                  </a:lnTo>
                  <a:lnTo>
                    <a:pt x="4052" y="2343"/>
                  </a:lnTo>
                  <a:lnTo>
                    <a:pt x="4054" y="2343"/>
                  </a:lnTo>
                  <a:lnTo>
                    <a:pt x="4056" y="2342"/>
                  </a:lnTo>
                  <a:lnTo>
                    <a:pt x="4057" y="2342"/>
                  </a:lnTo>
                  <a:lnTo>
                    <a:pt x="4058" y="2341"/>
                  </a:lnTo>
                  <a:lnTo>
                    <a:pt x="4058" y="2340"/>
                  </a:lnTo>
                  <a:lnTo>
                    <a:pt x="4058" y="2339"/>
                  </a:lnTo>
                  <a:lnTo>
                    <a:pt x="4058" y="2338"/>
                  </a:lnTo>
                  <a:lnTo>
                    <a:pt x="4058" y="2338"/>
                  </a:lnTo>
                  <a:lnTo>
                    <a:pt x="3020" y="3790"/>
                  </a:lnTo>
                  <a:lnTo>
                    <a:pt x="3020" y="3807"/>
                  </a:lnTo>
                  <a:lnTo>
                    <a:pt x="3020" y="3823"/>
                  </a:lnTo>
                  <a:lnTo>
                    <a:pt x="3020" y="3840"/>
                  </a:lnTo>
                  <a:lnTo>
                    <a:pt x="3022" y="3855"/>
                  </a:lnTo>
                  <a:lnTo>
                    <a:pt x="3022" y="3872"/>
                  </a:lnTo>
                  <a:lnTo>
                    <a:pt x="3023" y="3887"/>
                  </a:lnTo>
                  <a:lnTo>
                    <a:pt x="3024" y="3903"/>
                  </a:lnTo>
                  <a:lnTo>
                    <a:pt x="3026" y="3918"/>
                  </a:lnTo>
                  <a:lnTo>
                    <a:pt x="3032" y="3953"/>
                  </a:lnTo>
                  <a:lnTo>
                    <a:pt x="3036" y="3979"/>
                  </a:lnTo>
                  <a:lnTo>
                    <a:pt x="3039" y="3997"/>
                  </a:lnTo>
                  <a:lnTo>
                    <a:pt x="3042" y="4010"/>
                  </a:lnTo>
                  <a:lnTo>
                    <a:pt x="3043" y="4017"/>
                  </a:lnTo>
                  <a:lnTo>
                    <a:pt x="3043" y="4021"/>
                  </a:lnTo>
                  <a:lnTo>
                    <a:pt x="3043" y="4023"/>
                  </a:lnTo>
                  <a:lnTo>
                    <a:pt x="3044" y="4023"/>
                  </a:lnTo>
                  <a:lnTo>
                    <a:pt x="3041" y="4022"/>
                  </a:lnTo>
                  <a:lnTo>
                    <a:pt x="3032" y="4019"/>
                  </a:lnTo>
                  <a:lnTo>
                    <a:pt x="3019" y="4016"/>
                  </a:lnTo>
                  <a:lnTo>
                    <a:pt x="3000" y="4010"/>
                  </a:lnTo>
                  <a:lnTo>
                    <a:pt x="2979" y="4003"/>
                  </a:lnTo>
                  <a:lnTo>
                    <a:pt x="2953" y="3993"/>
                  </a:lnTo>
                  <a:lnTo>
                    <a:pt x="2924" y="3983"/>
                  </a:lnTo>
                  <a:lnTo>
                    <a:pt x="2892" y="3971"/>
                  </a:lnTo>
                  <a:lnTo>
                    <a:pt x="2105" y="5067"/>
                  </a:lnTo>
                  <a:close/>
                  <a:moveTo>
                    <a:pt x="2519" y="5865"/>
                  </a:moveTo>
                  <a:lnTo>
                    <a:pt x="6262" y="630"/>
                  </a:lnTo>
                  <a:lnTo>
                    <a:pt x="6262" y="625"/>
                  </a:lnTo>
                  <a:lnTo>
                    <a:pt x="6262" y="620"/>
                  </a:lnTo>
                  <a:lnTo>
                    <a:pt x="6262" y="615"/>
                  </a:lnTo>
                  <a:lnTo>
                    <a:pt x="6262" y="611"/>
                  </a:lnTo>
                  <a:lnTo>
                    <a:pt x="6262" y="606"/>
                  </a:lnTo>
                  <a:lnTo>
                    <a:pt x="6262" y="601"/>
                  </a:lnTo>
                  <a:lnTo>
                    <a:pt x="6262" y="595"/>
                  </a:lnTo>
                  <a:lnTo>
                    <a:pt x="6262" y="588"/>
                  </a:lnTo>
                  <a:lnTo>
                    <a:pt x="6262" y="558"/>
                  </a:lnTo>
                  <a:lnTo>
                    <a:pt x="6260" y="529"/>
                  </a:lnTo>
                  <a:lnTo>
                    <a:pt x="6259" y="499"/>
                  </a:lnTo>
                  <a:lnTo>
                    <a:pt x="6257" y="471"/>
                  </a:lnTo>
                  <a:lnTo>
                    <a:pt x="6253" y="444"/>
                  </a:lnTo>
                  <a:lnTo>
                    <a:pt x="6250" y="417"/>
                  </a:lnTo>
                  <a:lnTo>
                    <a:pt x="6245" y="392"/>
                  </a:lnTo>
                  <a:lnTo>
                    <a:pt x="6239" y="367"/>
                  </a:lnTo>
                  <a:lnTo>
                    <a:pt x="2431" y="5697"/>
                  </a:lnTo>
                  <a:lnTo>
                    <a:pt x="2444" y="5720"/>
                  </a:lnTo>
                  <a:lnTo>
                    <a:pt x="2457" y="5743"/>
                  </a:lnTo>
                  <a:lnTo>
                    <a:pt x="2468" y="5765"/>
                  </a:lnTo>
                  <a:lnTo>
                    <a:pt x="2480" y="5787"/>
                  </a:lnTo>
                  <a:lnTo>
                    <a:pt x="2490" y="5808"/>
                  </a:lnTo>
                  <a:lnTo>
                    <a:pt x="2500" y="5828"/>
                  </a:lnTo>
                  <a:lnTo>
                    <a:pt x="2509" y="5847"/>
                  </a:lnTo>
                  <a:lnTo>
                    <a:pt x="2519" y="5865"/>
                  </a:lnTo>
                  <a:close/>
                  <a:moveTo>
                    <a:pt x="9731" y="5026"/>
                  </a:moveTo>
                  <a:lnTo>
                    <a:pt x="11154" y="3032"/>
                  </a:lnTo>
                  <a:lnTo>
                    <a:pt x="11131" y="3029"/>
                  </a:lnTo>
                  <a:lnTo>
                    <a:pt x="11109" y="3027"/>
                  </a:lnTo>
                  <a:lnTo>
                    <a:pt x="11086" y="3025"/>
                  </a:lnTo>
                  <a:lnTo>
                    <a:pt x="11062" y="3023"/>
                  </a:lnTo>
                  <a:lnTo>
                    <a:pt x="11037" y="3021"/>
                  </a:lnTo>
                  <a:lnTo>
                    <a:pt x="11012" y="3019"/>
                  </a:lnTo>
                  <a:lnTo>
                    <a:pt x="10987" y="3016"/>
                  </a:lnTo>
                  <a:lnTo>
                    <a:pt x="10961" y="3014"/>
                  </a:lnTo>
                  <a:lnTo>
                    <a:pt x="9661" y="4828"/>
                  </a:lnTo>
                  <a:lnTo>
                    <a:pt x="9670" y="4851"/>
                  </a:lnTo>
                  <a:lnTo>
                    <a:pt x="9679" y="4876"/>
                  </a:lnTo>
                  <a:lnTo>
                    <a:pt x="9687" y="4901"/>
                  </a:lnTo>
                  <a:lnTo>
                    <a:pt x="9697" y="4926"/>
                  </a:lnTo>
                  <a:lnTo>
                    <a:pt x="9705" y="4951"/>
                  </a:lnTo>
                  <a:lnTo>
                    <a:pt x="9713" y="4976"/>
                  </a:lnTo>
                  <a:lnTo>
                    <a:pt x="9723" y="5001"/>
                  </a:lnTo>
                  <a:lnTo>
                    <a:pt x="9731" y="5026"/>
                  </a:lnTo>
                  <a:close/>
                  <a:moveTo>
                    <a:pt x="9399" y="2472"/>
                  </a:moveTo>
                  <a:lnTo>
                    <a:pt x="8676" y="3492"/>
                  </a:lnTo>
                  <a:lnTo>
                    <a:pt x="8691" y="3506"/>
                  </a:lnTo>
                  <a:lnTo>
                    <a:pt x="8708" y="3519"/>
                  </a:lnTo>
                  <a:lnTo>
                    <a:pt x="8723" y="3532"/>
                  </a:lnTo>
                  <a:lnTo>
                    <a:pt x="8740" y="3545"/>
                  </a:lnTo>
                  <a:lnTo>
                    <a:pt x="8756" y="3559"/>
                  </a:lnTo>
                  <a:lnTo>
                    <a:pt x="8773" y="3574"/>
                  </a:lnTo>
                  <a:lnTo>
                    <a:pt x="8788" y="3588"/>
                  </a:lnTo>
                  <a:lnTo>
                    <a:pt x="8804" y="3603"/>
                  </a:lnTo>
                  <a:lnTo>
                    <a:pt x="9603" y="2484"/>
                  </a:lnTo>
                  <a:lnTo>
                    <a:pt x="9575" y="2479"/>
                  </a:lnTo>
                  <a:lnTo>
                    <a:pt x="9547" y="2475"/>
                  </a:lnTo>
                  <a:lnTo>
                    <a:pt x="9521" y="2473"/>
                  </a:lnTo>
                  <a:lnTo>
                    <a:pt x="9495" y="2471"/>
                  </a:lnTo>
                  <a:lnTo>
                    <a:pt x="9470" y="2469"/>
                  </a:lnTo>
                  <a:lnTo>
                    <a:pt x="9445" y="2469"/>
                  </a:lnTo>
                  <a:lnTo>
                    <a:pt x="9421" y="2471"/>
                  </a:lnTo>
                  <a:lnTo>
                    <a:pt x="9399" y="2472"/>
                  </a:lnTo>
                  <a:close/>
                  <a:moveTo>
                    <a:pt x="1907" y="4559"/>
                  </a:moveTo>
                  <a:lnTo>
                    <a:pt x="2507" y="3714"/>
                  </a:lnTo>
                  <a:lnTo>
                    <a:pt x="2493" y="3696"/>
                  </a:lnTo>
                  <a:lnTo>
                    <a:pt x="2477" y="3678"/>
                  </a:lnTo>
                  <a:lnTo>
                    <a:pt x="2464" y="3659"/>
                  </a:lnTo>
                  <a:lnTo>
                    <a:pt x="2451" y="3639"/>
                  </a:lnTo>
                  <a:lnTo>
                    <a:pt x="2439" y="3620"/>
                  </a:lnTo>
                  <a:lnTo>
                    <a:pt x="2427" y="3599"/>
                  </a:lnTo>
                  <a:lnTo>
                    <a:pt x="2418" y="3578"/>
                  </a:lnTo>
                  <a:lnTo>
                    <a:pt x="2408" y="3556"/>
                  </a:lnTo>
                  <a:lnTo>
                    <a:pt x="1843" y="4350"/>
                  </a:lnTo>
                  <a:lnTo>
                    <a:pt x="1850" y="4376"/>
                  </a:lnTo>
                  <a:lnTo>
                    <a:pt x="1857" y="4402"/>
                  </a:lnTo>
                  <a:lnTo>
                    <a:pt x="1864" y="4428"/>
                  </a:lnTo>
                  <a:lnTo>
                    <a:pt x="1872" y="4454"/>
                  </a:lnTo>
                  <a:lnTo>
                    <a:pt x="1881" y="4481"/>
                  </a:lnTo>
                  <a:lnTo>
                    <a:pt x="1889" y="4507"/>
                  </a:lnTo>
                  <a:lnTo>
                    <a:pt x="1898" y="4533"/>
                  </a:lnTo>
                  <a:lnTo>
                    <a:pt x="1907" y="4559"/>
                  </a:lnTo>
                  <a:close/>
                  <a:moveTo>
                    <a:pt x="7714" y="2950"/>
                  </a:moveTo>
                  <a:lnTo>
                    <a:pt x="8583" y="1737"/>
                  </a:lnTo>
                  <a:lnTo>
                    <a:pt x="8546" y="1748"/>
                  </a:lnTo>
                  <a:lnTo>
                    <a:pt x="8508" y="1761"/>
                  </a:lnTo>
                  <a:lnTo>
                    <a:pt x="8471" y="1774"/>
                  </a:lnTo>
                  <a:lnTo>
                    <a:pt x="8434" y="1788"/>
                  </a:lnTo>
                  <a:lnTo>
                    <a:pt x="8399" y="1804"/>
                  </a:lnTo>
                  <a:lnTo>
                    <a:pt x="8362" y="1821"/>
                  </a:lnTo>
                  <a:lnTo>
                    <a:pt x="8326" y="1836"/>
                  </a:lnTo>
                  <a:lnTo>
                    <a:pt x="8292" y="1854"/>
                  </a:lnTo>
                  <a:lnTo>
                    <a:pt x="7545" y="2897"/>
                  </a:lnTo>
                  <a:lnTo>
                    <a:pt x="7567" y="2905"/>
                  </a:lnTo>
                  <a:lnTo>
                    <a:pt x="7588" y="2910"/>
                  </a:lnTo>
                  <a:lnTo>
                    <a:pt x="7608" y="2918"/>
                  </a:lnTo>
                  <a:lnTo>
                    <a:pt x="7630" y="2924"/>
                  </a:lnTo>
                  <a:lnTo>
                    <a:pt x="7650" y="2931"/>
                  </a:lnTo>
                  <a:lnTo>
                    <a:pt x="7671" y="2937"/>
                  </a:lnTo>
                  <a:lnTo>
                    <a:pt x="7693" y="2944"/>
                  </a:lnTo>
                  <a:lnTo>
                    <a:pt x="7714" y="2950"/>
                  </a:lnTo>
                  <a:close/>
                  <a:moveTo>
                    <a:pt x="2356" y="3381"/>
                  </a:moveTo>
                  <a:lnTo>
                    <a:pt x="2348" y="3348"/>
                  </a:lnTo>
                  <a:lnTo>
                    <a:pt x="2339" y="3317"/>
                  </a:lnTo>
                  <a:lnTo>
                    <a:pt x="2331" y="3287"/>
                  </a:lnTo>
                  <a:lnTo>
                    <a:pt x="2324" y="3260"/>
                  </a:lnTo>
                  <a:lnTo>
                    <a:pt x="2317" y="3235"/>
                  </a:lnTo>
                  <a:lnTo>
                    <a:pt x="2311" y="3211"/>
                  </a:lnTo>
                  <a:lnTo>
                    <a:pt x="2304" y="3187"/>
                  </a:lnTo>
                  <a:lnTo>
                    <a:pt x="2298" y="3166"/>
                  </a:lnTo>
                  <a:lnTo>
                    <a:pt x="1796" y="3865"/>
                  </a:lnTo>
                  <a:lnTo>
                    <a:pt x="1794" y="3901"/>
                  </a:lnTo>
                  <a:lnTo>
                    <a:pt x="1793" y="3936"/>
                  </a:lnTo>
                  <a:lnTo>
                    <a:pt x="1793" y="3973"/>
                  </a:lnTo>
                  <a:lnTo>
                    <a:pt x="1793" y="4009"/>
                  </a:lnTo>
                  <a:lnTo>
                    <a:pt x="1793" y="4046"/>
                  </a:lnTo>
                  <a:lnTo>
                    <a:pt x="1795" y="4082"/>
                  </a:lnTo>
                  <a:lnTo>
                    <a:pt x="1797" y="4119"/>
                  </a:lnTo>
                  <a:lnTo>
                    <a:pt x="1802" y="4157"/>
                  </a:lnTo>
                  <a:lnTo>
                    <a:pt x="2356" y="3381"/>
                  </a:lnTo>
                  <a:close/>
                  <a:moveTo>
                    <a:pt x="3452" y="1848"/>
                  </a:moveTo>
                  <a:lnTo>
                    <a:pt x="3801" y="1358"/>
                  </a:lnTo>
                  <a:lnTo>
                    <a:pt x="3786" y="1343"/>
                  </a:lnTo>
                  <a:lnTo>
                    <a:pt x="3770" y="1327"/>
                  </a:lnTo>
                  <a:lnTo>
                    <a:pt x="3755" y="1313"/>
                  </a:lnTo>
                  <a:lnTo>
                    <a:pt x="3739" y="1298"/>
                  </a:lnTo>
                  <a:lnTo>
                    <a:pt x="3724" y="1283"/>
                  </a:lnTo>
                  <a:lnTo>
                    <a:pt x="3707" y="1269"/>
                  </a:lnTo>
                  <a:lnTo>
                    <a:pt x="3691" y="1255"/>
                  </a:lnTo>
                  <a:lnTo>
                    <a:pt x="3673" y="1242"/>
                  </a:lnTo>
                  <a:lnTo>
                    <a:pt x="3464" y="1533"/>
                  </a:lnTo>
                  <a:lnTo>
                    <a:pt x="3465" y="1569"/>
                  </a:lnTo>
                  <a:lnTo>
                    <a:pt x="3466" y="1605"/>
                  </a:lnTo>
                  <a:lnTo>
                    <a:pt x="3467" y="1643"/>
                  </a:lnTo>
                  <a:lnTo>
                    <a:pt x="3466" y="1681"/>
                  </a:lnTo>
                  <a:lnTo>
                    <a:pt x="3465" y="1722"/>
                  </a:lnTo>
                  <a:lnTo>
                    <a:pt x="3461" y="1762"/>
                  </a:lnTo>
                  <a:lnTo>
                    <a:pt x="3458" y="1805"/>
                  </a:lnTo>
                  <a:lnTo>
                    <a:pt x="3452" y="1848"/>
                  </a:lnTo>
                  <a:close/>
                  <a:moveTo>
                    <a:pt x="11055" y="5346"/>
                  </a:moveTo>
                  <a:lnTo>
                    <a:pt x="11040" y="5334"/>
                  </a:lnTo>
                  <a:lnTo>
                    <a:pt x="11023" y="5321"/>
                  </a:lnTo>
                  <a:lnTo>
                    <a:pt x="11006" y="5309"/>
                  </a:lnTo>
                  <a:lnTo>
                    <a:pt x="10990" y="5297"/>
                  </a:lnTo>
                  <a:lnTo>
                    <a:pt x="10972" y="5285"/>
                  </a:lnTo>
                  <a:lnTo>
                    <a:pt x="10953" y="5272"/>
                  </a:lnTo>
                  <a:lnTo>
                    <a:pt x="10934" y="5260"/>
                  </a:lnTo>
                  <a:lnTo>
                    <a:pt x="10915" y="5247"/>
                  </a:lnTo>
                  <a:lnTo>
                    <a:pt x="9801" y="6810"/>
                  </a:lnTo>
                  <a:lnTo>
                    <a:pt x="9782" y="6884"/>
                  </a:lnTo>
                  <a:lnTo>
                    <a:pt x="9762" y="6956"/>
                  </a:lnTo>
                  <a:lnTo>
                    <a:pt x="9739" y="7029"/>
                  </a:lnTo>
                  <a:lnTo>
                    <a:pt x="9716" y="7099"/>
                  </a:lnTo>
                  <a:lnTo>
                    <a:pt x="9691" y="7169"/>
                  </a:lnTo>
                  <a:lnTo>
                    <a:pt x="9664" y="7239"/>
                  </a:lnTo>
                  <a:lnTo>
                    <a:pt x="9637" y="7307"/>
                  </a:lnTo>
                  <a:lnTo>
                    <a:pt x="9609" y="7376"/>
                  </a:lnTo>
                  <a:lnTo>
                    <a:pt x="11055" y="5346"/>
                  </a:lnTo>
                  <a:close/>
                  <a:moveTo>
                    <a:pt x="11148" y="4128"/>
                  </a:moveTo>
                  <a:lnTo>
                    <a:pt x="11924" y="3050"/>
                  </a:lnTo>
                  <a:lnTo>
                    <a:pt x="11913" y="3050"/>
                  </a:lnTo>
                  <a:lnTo>
                    <a:pt x="11903" y="3050"/>
                  </a:lnTo>
                  <a:lnTo>
                    <a:pt x="11893" y="3050"/>
                  </a:lnTo>
                  <a:lnTo>
                    <a:pt x="11884" y="3050"/>
                  </a:lnTo>
                  <a:lnTo>
                    <a:pt x="11874" y="3051"/>
                  </a:lnTo>
                  <a:lnTo>
                    <a:pt x="11866" y="3052"/>
                  </a:lnTo>
                  <a:lnTo>
                    <a:pt x="11856" y="3053"/>
                  </a:lnTo>
                  <a:lnTo>
                    <a:pt x="11848" y="3055"/>
                  </a:lnTo>
                  <a:lnTo>
                    <a:pt x="11829" y="3057"/>
                  </a:lnTo>
                  <a:lnTo>
                    <a:pt x="11810" y="3059"/>
                  </a:lnTo>
                  <a:lnTo>
                    <a:pt x="11791" y="3061"/>
                  </a:lnTo>
                  <a:lnTo>
                    <a:pt x="11772" y="3063"/>
                  </a:lnTo>
                  <a:lnTo>
                    <a:pt x="11753" y="3065"/>
                  </a:lnTo>
                  <a:lnTo>
                    <a:pt x="11735" y="3065"/>
                  </a:lnTo>
                  <a:lnTo>
                    <a:pt x="11716" y="3066"/>
                  </a:lnTo>
                  <a:lnTo>
                    <a:pt x="11696" y="3066"/>
                  </a:lnTo>
                  <a:lnTo>
                    <a:pt x="10927" y="4145"/>
                  </a:lnTo>
                  <a:lnTo>
                    <a:pt x="10958" y="4145"/>
                  </a:lnTo>
                  <a:lnTo>
                    <a:pt x="10987" y="4144"/>
                  </a:lnTo>
                  <a:lnTo>
                    <a:pt x="11017" y="4143"/>
                  </a:lnTo>
                  <a:lnTo>
                    <a:pt x="11046" y="4141"/>
                  </a:lnTo>
                  <a:lnTo>
                    <a:pt x="11074" y="4138"/>
                  </a:lnTo>
                  <a:lnTo>
                    <a:pt x="11100" y="4136"/>
                  </a:lnTo>
                  <a:lnTo>
                    <a:pt x="11125" y="4132"/>
                  </a:lnTo>
                  <a:lnTo>
                    <a:pt x="11148" y="4128"/>
                  </a:lnTo>
                  <a:close/>
                  <a:moveTo>
                    <a:pt x="8559" y="3399"/>
                  </a:moveTo>
                  <a:lnTo>
                    <a:pt x="9102" y="2641"/>
                  </a:lnTo>
                  <a:lnTo>
                    <a:pt x="9095" y="2630"/>
                  </a:lnTo>
                  <a:lnTo>
                    <a:pt x="9089" y="2618"/>
                  </a:lnTo>
                  <a:lnTo>
                    <a:pt x="9083" y="2606"/>
                  </a:lnTo>
                  <a:lnTo>
                    <a:pt x="9079" y="2593"/>
                  </a:lnTo>
                  <a:lnTo>
                    <a:pt x="9075" y="2579"/>
                  </a:lnTo>
                  <a:lnTo>
                    <a:pt x="9071" y="2566"/>
                  </a:lnTo>
                  <a:lnTo>
                    <a:pt x="9069" y="2550"/>
                  </a:lnTo>
                  <a:lnTo>
                    <a:pt x="9068" y="2535"/>
                  </a:lnTo>
                  <a:lnTo>
                    <a:pt x="9067" y="2519"/>
                  </a:lnTo>
                  <a:lnTo>
                    <a:pt x="9068" y="2503"/>
                  </a:lnTo>
                  <a:lnTo>
                    <a:pt x="9070" y="2486"/>
                  </a:lnTo>
                  <a:lnTo>
                    <a:pt x="9075" y="2468"/>
                  </a:lnTo>
                  <a:lnTo>
                    <a:pt x="9080" y="2449"/>
                  </a:lnTo>
                  <a:lnTo>
                    <a:pt x="9087" y="2430"/>
                  </a:lnTo>
                  <a:lnTo>
                    <a:pt x="9096" y="2410"/>
                  </a:lnTo>
                  <a:lnTo>
                    <a:pt x="9107" y="2390"/>
                  </a:lnTo>
                  <a:lnTo>
                    <a:pt x="9126" y="2359"/>
                  </a:lnTo>
                  <a:lnTo>
                    <a:pt x="9145" y="2330"/>
                  </a:lnTo>
                  <a:lnTo>
                    <a:pt x="9165" y="2304"/>
                  </a:lnTo>
                  <a:lnTo>
                    <a:pt x="9187" y="2279"/>
                  </a:lnTo>
                  <a:lnTo>
                    <a:pt x="9208" y="2258"/>
                  </a:lnTo>
                  <a:lnTo>
                    <a:pt x="9229" y="2238"/>
                  </a:lnTo>
                  <a:lnTo>
                    <a:pt x="9253" y="2219"/>
                  </a:lnTo>
                  <a:lnTo>
                    <a:pt x="9277" y="2202"/>
                  </a:lnTo>
                  <a:lnTo>
                    <a:pt x="9301" y="2187"/>
                  </a:lnTo>
                  <a:lnTo>
                    <a:pt x="9326" y="2171"/>
                  </a:lnTo>
                  <a:lnTo>
                    <a:pt x="9352" y="2158"/>
                  </a:lnTo>
                  <a:lnTo>
                    <a:pt x="9379" y="2144"/>
                  </a:lnTo>
                  <a:lnTo>
                    <a:pt x="9436" y="2119"/>
                  </a:lnTo>
                  <a:lnTo>
                    <a:pt x="9498" y="2093"/>
                  </a:lnTo>
                  <a:lnTo>
                    <a:pt x="10128" y="1206"/>
                  </a:lnTo>
                  <a:lnTo>
                    <a:pt x="10129" y="1193"/>
                  </a:lnTo>
                  <a:lnTo>
                    <a:pt x="10132" y="1183"/>
                  </a:lnTo>
                  <a:lnTo>
                    <a:pt x="10132" y="1176"/>
                  </a:lnTo>
                  <a:lnTo>
                    <a:pt x="10133" y="1170"/>
                  </a:lnTo>
                  <a:lnTo>
                    <a:pt x="10133" y="1168"/>
                  </a:lnTo>
                  <a:lnTo>
                    <a:pt x="10134" y="1167"/>
                  </a:lnTo>
                  <a:lnTo>
                    <a:pt x="10134" y="1166"/>
                  </a:lnTo>
                  <a:lnTo>
                    <a:pt x="10134" y="1166"/>
                  </a:lnTo>
                  <a:lnTo>
                    <a:pt x="10126" y="1176"/>
                  </a:lnTo>
                  <a:lnTo>
                    <a:pt x="10104" y="1205"/>
                  </a:lnTo>
                  <a:lnTo>
                    <a:pt x="10089" y="1224"/>
                  </a:lnTo>
                  <a:lnTo>
                    <a:pt x="10071" y="1245"/>
                  </a:lnTo>
                  <a:lnTo>
                    <a:pt x="10050" y="1269"/>
                  </a:lnTo>
                  <a:lnTo>
                    <a:pt x="10026" y="1295"/>
                  </a:lnTo>
                  <a:lnTo>
                    <a:pt x="10000" y="1321"/>
                  </a:lnTo>
                  <a:lnTo>
                    <a:pt x="9971" y="1347"/>
                  </a:lnTo>
                  <a:lnTo>
                    <a:pt x="9940" y="1374"/>
                  </a:lnTo>
                  <a:lnTo>
                    <a:pt x="9907" y="1400"/>
                  </a:lnTo>
                  <a:lnTo>
                    <a:pt x="9890" y="1412"/>
                  </a:lnTo>
                  <a:lnTo>
                    <a:pt x="9872" y="1424"/>
                  </a:lnTo>
                  <a:lnTo>
                    <a:pt x="9855" y="1434"/>
                  </a:lnTo>
                  <a:lnTo>
                    <a:pt x="9837" y="1445"/>
                  </a:lnTo>
                  <a:lnTo>
                    <a:pt x="9818" y="1456"/>
                  </a:lnTo>
                  <a:lnTo>
                    <a:pt x="9799" y="1464"/>
                  </a:lnTo>
                  <a:lnTo>
                    <a:pt x="9780" y="1473"/>
                  </a:lnTo>
                  <a:lnTo>
                    <a:pt x="9761" y="1481"/>
                  </a:lnTo>
                  <a:lnTo>
                    <a:pt x="9754" y="1483"/>
                  </a:lnTo>
                  <a:lnTo>
                    <a:pt x="9748" y="1485"/>
                  </a:lnTo>
                  <a:lnTo>
                    <a:pt x="9741" y="1488"/>
                  </a:lnTo>
                  <a:lnTo>
                    <a:pt x="9735" y="1489"/>
                  </a:lnTo>
                  <a:lnTo>
                    <a:pt x="9727" y="1491"/>
                  </a:lnTo>
                  <a:lnTo>
                    <a:pt x="9722" y="1494"/>
                  </a:lnTo>
                  <a:lnTo>
                    <a:pt x="9714" y="1496"/>
                  </a:lnTo>
                  <a:lnTo>
                    <a:pt x="9708" y="1498"/>
                  </a:lnTo>
                  <a:lnTo>
                    <a:pt x="8419" y="3306"/>
                  </a:lnTo>
                  <a:lnTo>
                    <a:pt x="8437" y="3317"/>
                  </a:lnTo>
                  <a:lnTo>
                    <a:pt x="8455" y="3329"/>
                  </a:lnTo>
                  <a:lnTo>
                    <a:pt x="8472" y="3341"/>
                  </a:lnTo>
                  <a:lnTo>
                    <a:pt x="8489" y="3353"/>
                  </a:lnTo>
                  <a:lnTo>
                    <a:pt x="8507" y="3365"/>
                  </a:lnTo>
                  <a:lnTo>
                    <a:pt x="8525" y="3376"/>
                  </a:lnTo>
                  <a:lnTo>
                    <a:pt x="8541" y="3388"/>
                  </a:lnTo>
                  <a:lnTo>
                    <a:pt x="8559" y="3399"/>
                  </a:lnTo>
                  <a:close/>
                  <a:moveTo>
                    <a:pt x="8017" y="3078"/>
                  </a:moveTo>
                  <a:lnTo>
                    <a:pt x="9049" y="1627"/>
                  </a:lnTo>
                  <a:lnTo>
                    <a:pt x="9018" y="1633"/>
                  </a:lnTo>
                  <a:lnTo>
                    <a:pt x="8988" y="1639"/>
                  </a:lnTo>
                  <a:lnTo>
                    <a:pt x="8957" y="1645"/>
                  </a:lnTo>
                  <a:lnTo>
                    <a:pt x="8926" y="1649"/>
                  </a:lnTo>
                  <a:lnTo>
                    <a:pt x="8895" y="1655"/>
                  </a:lnTo>
                  <a:lnTo>
                    <a:pt x="8866" y="1661"/>
                  </a:lnTo>
                  <a:lnTo>
                    <a:pt x="8835" y="1667"/>
                  </a:lnTo>
                  <a:lnTo>
                    <a:pt x="8804" y="1673"/>
                  </a:lnTo>
                  <a:lnTo>
                    <a:pt x="7854" y="3008"/>
                  </a:lnTo>
                  <a:lnTo>
                    <a:pt x="7873" y="3015"/>
                  </a:lnTo>
                  <a:lnTo>
                    <a:pt x="7894" y="3022"/>
                  </a:lnTo>
                  <a:lnTo>
                    <a:pt x="7915" y="3031"/>
                  </a:lnTo>
                  <a:lnTo>
                    <a:pt x="7935" y="3039"/>
                  </a:lnTo>
                  <a:lnTo>
                    <a:pt x="7957" y="3048"/>
                  </a:lnTo>
                  <a:lnTo>
                    <a:pt x="7977" y="3058"/>
                  </a:lnTo>
                  <a:lnTo>
                    <a:pt x="7997" y="3067"/>
                  </a:lnTo>
                  <a:lnTo>
                    <a:pt x="8017" y="3078"/>
                  </a:lnTo>
                  <a:close/>
                  <a:moveTo>
                    <a:pt x="11621" y="3824"/>
                  </a:moveTo>
                  <a:lnTo>
                    <a:pt x="11634" y="3795"/>
                  </a:lnTo>
                  <a:lnTo>
                    <a:pt x="11648" y="3765"/>
                  </a:lnTo>
                  <a:lnTo>
                    <a:pt x="11662" y="3738"/>
                  </a:lnTo>
                  <a:lnTo>
                    <a:pt x="11679" y="3710"/>
                  </a:lnTo>
                  <a:lnTo>
                    <a:pt x="11696" y="3684"/>
                  </a:lnTo>
                  <a:lnTo>
                    <a:pt x="11714" y="3660"/>
                  </a:lnTo>
                  <a:lnTo>
                    <a:pt x="11734" y="3637"/>
                  </a:lnTo>
                  <a:lnTo>
                    <a:pt x="11754" y="3615"/>
                  </a:lnTo>
                  <a:lnTo>
                    <a:pt x="11778" y="3595"/>
                  </a:lnTo>
                  <a:lnTo>
                    <a:pt x="11802" y="3576"/>
                  </a:lnTo>
                  <a:lnTo>
                    <a:pt x="11815" y="3568"/>
                  </a:lnTo>
                  <a:lnTo>
                    <a:pt x="11828" y="3559"/>
                  </a:lnTo>
                  <a:lnTo>
                    <a:pt x="11842" y="3551"/>
                  </a:lnTo>
                  <a:lnTo>
                    <a:pt x="11856" y="3543"/>
                  </a:lnTo>
                  <a:lnTo>
                    <a:pt x="11872" y="3536"/>
                  </a:lnTo>
                  <a:lnTo>
                    <a:pt x="11887" y="3530"/>
                  </a:lnTo>
                  <a:lnTo>
                    <a:pt x="11904" y="3523"/>
                  </a:lnTo>
                  <a:lnTo>
                    <a:pt x="11920" y="3517"/>
                  </a:lnTo>
                  <a:lnTo>
                    <a:pt x="11937" y="3512"/>
                  </a:lnTo>
                  <a:lnTo>
                    <a:pt x="11956" y="3507"/>
                  </a:lnTo>
                  <a:lnTo>
                    <a:pt x="11974" y="3502"/>
                  </a:lnTo>
                  <a:lnTo>
                    <a:pt x="11994" y="3498"/>
                  </a:lnTo>
                  <a:lnTo>
                    <a:pt x="12273" y="3096"/>
                  </a:lnTo>
                  <a:lnTo>
                    <a:pt x="12251" y="3090"/>
                  </a:lnTo>
                  <a:lnTo>
                    <a:pt x="12228" y="3084"/>
                  </a:lnTo>
                  <a:lnTo>
                    <a:pt x="12206" y="3078"/>
                  </a:lnTo>
                  <a:lnTo>
                    <a:pt x="12183" y="3073"/>
                  </a:lnTo>
                  <a:lnTo>
                    <a:pt x="12160" y="3070"/>
                  </a:lnTo>
                  <a:lnTo>
                    <a:pt x="12137" y="3066"/>
                  </a:lnTo>
                  <a:lnTo>
                    <a:pt x="12115" y="3064"/>
                  </a:lnTo>
                  <a:lnTo>
                    <a:pt x="12093" y="3061"/>
                  </a:lnTo>
                  <a:lnTo>
                    <a:pt x="11364" y="4075"/>
                  </a:lnTo>
                  <a:lnTo>
                    <a:pt x="11384" y="4067"/>
                  </a:lnTo>
                  <a:lnTo>
                    <a:pt x="11405" y="4059"/>
                  </a:lnTo>
                  <a:lnTo>
                    <a:pt x="11424" y="4048"/>
                  </a:lnTo>
                  <a:lnTo>
                    <a:pt x="11443" y="4037"/>
                  </a:lnTo>
                  <a:lnTo>
                    <a:pt x="11460" y="4027"/>
                  </a:lnTo>
                  <a:lnTo>
                    <a:pt x="11478" y="4013"/>
                  </a:lnTo>
                  <a:lnTo>
                    <a:pt x="11495" y="3999"/>
                  </a:lnTo>
                  <a:lnTo>
                    <a:pt x="11511" y="3985"/>
                  </a:lnTo>
                  <a:lnTo>
                    <a:pt x="11528" y="3969"/>
                  </a:lnTo>
                  <a:lnTo>
                    <a:pt x="11542" y="3952"/>
                  </a:lnTo>
                  <a:lnTo>
                    <a:pt x="11558" y="3934"/>
                  </a:lnTo>
                  <a:lnTo>
                    <a:pt x="11571" y="3915"/>
                  </a:lnTo>
                  <a:lnTo>
                    <a:pt x="11584" y="3895"/>
                  </a:lnTo>
                  <a:lnTo>
                    <a:pt x="11597" y="3872"/>
                  </a:lnTo>
                  <a:lnTo>
                    <a:pt x="11609" y="3849"/>
                  </a:lnTo>
                  <a:lnTo>
                    <a:pt x="11621" y="3824"/>
                  </a:lnTo>
                  <a:close/>
                  <a:moveTo>
                    <a:pt x="8296" y="3224"/>
                  </a:moveTo>
                  <a:lnTo>
                    <a:pt x="9492" y="1551"/>
                  </a:lnTo>
                  <a:lnTo>
                    <a:pt x="9464" y="1555"/>
                  </a:lnTo>
                  <a:lnTo>
                    <a:pt x="9434" y="1560"/>
                  </a:lnTo>
                  <a:lnTo>
                    <a:pt x="9405" y="1565"/>
                  </a:lnTo>
                  <a:lnTo>
                    <a:pt x="9374" y="1571"/>
                  </a:lnTo>
                  <a:lnTo>
                    <a:pt x="9345" y="1577"/>
                  </a:lnTo>
                  <a:lnTo>
                    <a:pt x="9314" y="1582"/>
                  </a:lnTo>
                  <a:lnTo>
                    <a:pt x="9284" y="1586"/>
                  </a:lnTo>
                  <a:lnTo>
                    <a:pt x="9253" y="1591"/>
                  </a:lnTo>
                  <a:lnTo>
                    <a:pt x="8145" y="3142"/>
                  </a:lnTo>
                  <a:lnTo>
                    <a:pt x="8164" y="3153"/>
                  </a:lnTo>
                  <a:lnTo>
                    <a:pt x="8184" y="3164"/>
                  </a:lnTo>
                  <a:lnTo>
                    <a:pt x="8203" y="3173"/>
                  </a:lnTo>
                  <a:lnTo>
                    <a:pt x="8222" y="3183"/>
                  </a:lnTo>
                  <a:lnTo>
                    <a:pt x="8239" y="3193"/>
                  </a:lnTo>
                  <a:lnTo>
                    <a:pt x="8258" y="3203"/>
                  </a:lnTo>
                  <a:lnTo>
                    <a:pt x="8277" y="3214"/>
                  </a:lnTo>
                  <a:lnTo>
                    <a:pt x="8296" y="3224"/>
                  </a:lnTo>
                  <a:close/>
                  <a:moveTo>
                    <a:pt x="12787" y="3469"/>
                  </a:moveTo>
                  <a:lnTo>
                    <a:pt x="12880" y="3341"/>
                  </a:lnTo>
                  <a:lnTo>
                    <a:pt x="12869" y="3336"/>
                  </a:lnTo>
                  <a:lnTo>
                    <a:pt x="12858" y="3331"/>
                  </a:lnTo>
                  <a:lnTo>
                    <a:pt x="12846" y="3325"/>
                  </a:lnTo>
                  <a:lnTo>
                    <a:pt x="12834" y="3321"/>
                  </a:lnTo>
                  <a:lnTo>
                    <a:pt x="12822" y="3315"/>
                  </a:lnTo>
                  <a:lnTo>
                    <a:pt x="12809" y="3310"/>
                  </a:lnTo>
                  <a:lnTo>
                    <a:pt x="12795" y="3304"/>
                  </a:lnTo>
                  <a:lnTo>
                    <a:pt x="12781" y="3300"/>
                  </a:lnTo>
                  <a:lnTo>
                    <a:pt x="12774" y="3296"/>
                  </a:lnTo>
                  <a:lnTo>
                    <a:pt x="12767" y="3291"/>
                  </a:lnTo>
                  <a:lnTo>
                    <a:pt x="12759" y="3287"/>
                  </a:lnTo>
                  <a:lnTo>
                    <a:pt x="12751" y="3282"/>
                  </a:lnTo>
                  <a:lnTo>
                    <a:pt x="12744" y="3279"/>
                  </a:lnTo>
                  <a:lnTo>
                    <a:pt x="12737" y="3277"/>
                  </a:lnTo>
                  <a:lnTo>
                    <a:pt x="12729" y="3273"/>
                  </a:lnTo>
                  <a:lnTo>
                    <a:pt x="12723" y="3271"/>
                  </a:lnTo>
                  <a:lnTo>
                    <a:pt x="12571" y="3475"/>
                  </a:lnTo>
                  <a:lnTo>
                    <a:pt x="12599" y="3475"/>
                  </a:lnTo>
                  <a:lnTo>
                    <a:pt x="12628" y="3475"/>
                  </a:lnTo>
                  <a:lnTo>
                    <a:pt x="12655" y="3474"/>
                  </a:lnTo>
                  <a:lnTo>
                    <a:pt x="12683" y="3474"/>
                  </a:lnTo>
                  <a:lnTo>
                    <a:pt x="12710" y="3474"/>
                  </a:lnTo>
                  <a:lnTo>
                    <a:pt x="12737" y="3473"/>
                  </a:lnTo>
                  <a:lnTo>
                    <a:pt x="12762" y="3470"/>
                  </a:lnTo>
                  <a:lnTo>
                    <a:pt x="12787" y="3469"/>
                  </a:lnTo>
                  <a:close/>
                  <a:moveTo>
                    <a:pt x="6285" y="2781"/>
                  </a:moveTo>
                  <a:lnTo>
                    <a:pt x="7375" y="1254"/>
                  </a:lnTo>
                  <a:lnTo>
                    <a:pt x="7343" y="1259"/>
                  </a:lnTo>
                  <a:lnTo>
                    <a:pt x="7310" y="1268"/>
                  </a:lnTo>
                  <a:lnTo>
                    <a:pt x="7278" y="1275"/>
                  </a:lnTo>
                  <a:lnTo>
                    <a:pt x="7245" y="1283"/>
                  </a:lnTo>
                  <a:lnTo>
                    <a:pt x="7211" y="1293"/>
                  </a:lnTo>
                  <a:lnTo>
                    <a:pt x="7179" y="1302"/>
                  </a:lnTo>
                  <a:lnTo>
                    <a:pt x="7146" y="1313"/>
                  </a:lnTo>
                  <a:lnTo>
                    <a:pt x="7114" y="1324"/>
                  </a:lnTo>
                  <a:lnTo>
                    <a:pt x="6046" y="2811"/>
                  </a:lnTo>
                  <a:lnTo>
                    <a:pt x="6076" y="2806"/>
                  </a:lnTo>
                  <a:lnTo>
                    <a:pt x="6107" y="2801"/>
                  </a:lnTo>
                  <a:lnTo>
                    <a:pt x="6137" y="2798"/>
                  </a:lnTo>
                  <a:lnTo>
                    <a:pt x="6165" y="2793"/>
                  </a:lnTo>
                  <a:lnTo>
                    <a:pt x="6195" y="2789"/>
                  </a:lnTo>
                  <a:lnTo>
                    <a:pt x="6225" y="2786"/>
                  </a:lnTo>
                  <a:lnTo>
                    <a:pt x="6254" y="2783"/>
                  </a:lnTo>
                  <a:lnTo>
                    <a:pt x="6285" y="2781"/>
                  </a:lnTo>
                  <a:close/>
                  <a:moveTo>
                    <a:pt x="53" y="7399"/>
                  </a:moveTo>
                  <a:lnTo>
                    <a:pt x="41" y="7390"/>
                  </a:lnTo>
                  <a:lnTo>
                    <a:pt x="30" y="7383"/>
                  </a:lnTo>
                  <a:lnTo>
                    <a:pt x="20" y="7377"/>
                  </a:lnTo>
                  <a:lnTo>
                    <a:pt x="13" y="7372"/>
                  </a:lnTo>
                  <a:lnTo>
                    <a:pt x="7" y="7369"/>
                  </a:lnTo>
                  <a:lnTo>
                    <a:pt x="4" y="7367"/>
                  </a:lnTo>
                  <a:lnTo>
                    <a:pt x="0" y="7364"/>
                  </a:lnTo>
                  <a:lnTo>
                    <a:pt x="0" y="7364"/>
                  </a:lnTo>
                  <a:lnTo>
                    <a:pt x="0" y="7365"/>
                  </a:lnTo>
                  <a:lnTo>
                    <a:pt x="3" y="7368"/>
                  </a:lnTo>
                  <a:lnTo>
                    <a:pt x="5" y="7374"/>
                  </a:lnTo>
                  <a:lnTo>
                    <a:pt x="9" y="7381"/>
                  </a:lnTo>
                  <a:lnTo>
                    <a:pt x="12" y="7390"/>
                  </a:lnTo>
                  <a:lnTo>
                    <a:pt x="17" y="7401"/>
                  </a:lnTo>
                  <a:lnTo>
                    <a:pt x="23" y="7414"/>
                  </a:lnTo>
                  <a:lnTo>
                    <a:pt x="29" y="7428"/>
                  </a:lnTo>
                  <a:lnTo>
                    <a:pt x="37" y="7444"/>
                  </a:lnTo>
                  <a:lnTo>
                    <a:pt x="45" y="7462"/>
                  </a:lnTo>
                  <a:lnTo>
                    <a:pt x="55" y="7481"/>
                  </a:lnTo>
                  <a:lnTo>
                    <a:pt x="67" y="7502"/>
                  </a:lnTo>
                  <a:lnTo>
                    <a:pt x="79" y="7523"/>
                  </a:lnTo>
                  <a:lnTo>
                    <a:pt x="91" y="7547"/>
                  </a:lnTo>
                  <a:lnTo>
                    <a:pt x="104" y="7571"/>
                  </a:lnTo>
                  <a:lnTo>
                    <a:pt x="117" y="7597"/>
                  </a:lnTo>
                  <a:lnTo>
                    <a:pt x="205" y="7475"/>
                  </a:lnTo>
                  <a:lnTo>
                    <a:pt x="179" y="7463"/>
                  </a:lnTo>
                  <a:lnTo>
                    <a:pt x="156" y="7451"/>
                  </a:lnTo>
                  <a:lnTo>
                    <a:pt x="135" y="7440"/>
                  </a:lnTo>
                  <a:lnTo>
                    <a:pt x="116" y="7431"/>
                  </a:lnTo>
                  <a:lnTo>
                    <a:pt x="98" y="7421"/>
                  </a:lnTo>
                  <a:lnTo>
                    <a:pt x="81" y="7413"/>
                  </a:lnTo>
                  <a:lnTo>
                    <a:pt x="67" y="7406"/>
                  </a:lnTo>
                  <a:lnTo>
                    <a:pt x="53" y="7399"/>
                  </a:lnTo>
                  <a:close/>
                  <a:moveTo>
                    <a:pt x="12390" y="3475"/>
                  </a:moveTo>
                  <a:lnTo>
                    <a:pt x="12582" y="3212"/>
                  </a:lnTo>
                  <a:lnTo>
                    <a:pt x="12562" y="3204"/>
                  </a:lnTo>
                  <a:lnTo>
                    <a:pt x="12542" y="3195"/>
                  </a:lnTo>
                  <a:lnTo>
                    <a:pt x="12522" y="3186"/>
                  </a:lnTo>
                  <a:lnTo>
                    <a:pt x="12500" y="3178"/>
                  </a:lnTo>
                  <a:lnTo>
                    <a:pt x="12480" y="3168"/>
                  </a:lnTo>
                  <a:lnTo>
                    <a:pt x="12460" y="3160"/>
                  </a:lnTo>
                  <a:lnTo>
                    <a:pt x="12439" y="3151"/>
                  </a:lnTo>
                  <a:lnTo>
                    <a:pt x="12420" y="3142"/>
                  </a:lnTo>
                  <a:lnTo>
                    <a:pt x="12179" y="3481"/>
                  </a:lnTo>
                  <a:lnTo>
                    <a:pt x="12204" y="3481"/>
                  </a:lnTo>
                  <a:lnTo>
                    <a:pt x="12231" y="3481"/>
                  </a:lnTo>
                  <a:lnTo>
                    <a:pt x="12257" y="3480"/>
                  </a:lnTo>
                  <a:lnTo>
                    <a:pt x="12283" y="3480"/>
                  </a:lnTo>
                  <a:lnTo>
                    <a:pt x="12310" y="3479"/>
                  </a:lnTo>
                  <a:lnTo>
                    <a:pt x="12336" y="3479"/>
                  </a:lnTo>
                  <a:lnTo>
                    <a:pt x="12364" y="3476"/>
                  </a:lnTo>
                  <a:lnTo>
                    <a:pt x="12390" y="3475"/>
                  </a:lnTo>
                  <a:close/>
                  <a:moveTo>
                    <a:pt x="2490" y="7248"/>
                  </a:moveTo>
                  <a:lnTo>
                    <a:pt x="1574" y="8530"/>
                  </a:lnTo>
                  <a:lnTo>
                    <a:pt x="1600" y="8533"/>
                  </a:lnTo>
                  <a:lnTo>
                    <a:pt x="1626" y="8534"/>
                  </a:lnTo>
                  <a:lnTo>
                    <a:pt x="1651" y="8535"/>
                  </a:lnTo>
                  <a:lnTo>
                    <a:pt x="1676" y="8536"/>
                  </a:lnTo>
                  <a:lnTo>
                    <a:pt x="1701" y="8537"/>
                  </a:lnTo>
                  <a:lnTo>
                    <a:pt x="1727" y="8538"/>
                  </a:lnTo>
                  <a:lnTo>
                    <a:pt x="1752" y="8540"/>
                  </a:lnTo>
                  <a:lnTo>
                    <a:pt x="1778" y="8542"/>
                  </a:lnTo>
                  <a:lnTo>
                    <a:pt x="2688" y="7270"/>
                  </a:lnTo>
                  <a:lnTo>
                    <a:pt x="2670" y="7267"/>
                  </a:lnTo>
                  <a:lnTo>
                    <a:pt x="2648" y="7262"/>
                  </a:lnTo>
                  <a:lnTo>
                    <a:pt x="2626" y="7258"/>
                  </a:lnTo>
                  <a:lnTo>
                    <a:pt x="2602" y="7255"/>
                  </a:lnTo>
                  <a:lnTo>
                    <a:pt x="2576" y="7251"/>
                  </a:lnTo>
                  <a:lnTo>
                    <a:pt x="2549" y="7249"/>
                  </a:lnTo>
                  <a:lnTo>
                    <a:pt x="2520" y="7248"/>
                  </a:lnTo>
                  <a:lnTo>
                    <a:pt x="2490" y="7248"/>
                  </a:lnTo>
                  <a:close/>
                  <a:moveTo>
                    <a:pt x="7050" y="2793"/>
                  </a:moveTo>
                  <a:lnTo>
                    <a:pt x="7813" y="1731"/>
                  </a:lnTo>
                  <a:lnTo>
                    <a:pt x="7817" y="1718"/>
                  </a:lnTo>
                  <a:lnTo>
                    <a:pt x="7823" y="1706"/>
                  </a:lnTo>
                  <a:lnTo>
                    <a:pt x="7828" y="1693"/>
                  </a:lnTo>
                  <a:lnTo>
                    <a:pt x="7835" y="1681"/>
                  </a:lnTo>
                  <a:lnTo>
                    <a:pt x="7841" y="1670"/>
                  </a:lnTo>
                  <a:lnTo>
                    <a:pt x="7850" y="1658"/>
                  </a:lnTo>
                  <a:lnTo>
                    <a:pt x="7857" y="1645"/>
                  </a:lnTo>
                  <a:lnTo>
                    <a:pt x="7865" y="1633"/>
                  </a:lnTo>
                  <a:lnTo>
                    <a:pt x="7952" y="1511"/>
                  </a:lnTo>
                  <a:lnTo>
                    <a:pt x="8027" y="1408"/>
                  </a:lnTo>
                  <a:lnTo>
                    <a:pt x="8091" y="1320"/>
                  </a:lnTo>
                  <a:lnTo>
                    <a:pt x="8144" y="1243"/>
                  </a:lnTo>
                  <a:lnTo>
                    <a:pt x="8168" y="1207"/>
                  </a:lnTo>
                  <a:lnTo>
                    <a:pt x="8188" y="1173"/>
                  </a:lnTo>
                  <a:lnTo>
                    <a:pt x="8206" y="1139"/>
                  </a:lnTo>
                  <a:lnTo>
                    <a:pt x="8223" y="1106"/>
                  </a:lnTo>
                  <a:lnTo>
                    <a:pt x="8236" y="1073"/>
                  </a:lnTo>
                  <a:lnTo>
                    <a:pt x="8247" y="1038"/>
                  </a:lnTo>
                  <a:lnTo>
                    <a:pt x="8251" y="1022"/>
                  </a:lnTo>
                  <a:lnTo>
                    <a:pt x="8255" y="1004"/>
                  </a:lnTo>
                  <a:lnTo>
                    <a:pt x="8258" y="986"/>
                  </a:lnTo>
                  <a:lnTo>
                    <a:pt x="8262" y="967"/>
                  </a:lnTo>
                  <a:lnTo>
                    <a:pt x="8260" y="968"/>
                  </a:lnTo>
                  <a:lnTo>
                    <a:pt x="8252" y="971"/>
                  </a:lnTo>
                  <a:lnTo>
                    <a:pt x="8241" y="975"/>
                  </a:lnTo>
                  <a:lnTo>
                    <a:pt x="8224" y="983"/>
                  </a:lnTo>
                  <a:lnTo>
                    <a:pt x="8201" y="991"/>
                  </a:lnTo>
                  <a:lnTo>
                    <a:pt x="8173" y="1002"/>
                  </a:lnTo>
                  <a:lnTo>
                    <a:pt x="8140" y="1016"/>
                  </a:lnTo>
                  <a:lnTo>
                    <a:pt x="8099" y="1031"/>
                  </a:lnTo>
                  <a:lnTo>
                    <a:pt x="6857" y="2769"/>
                  </a:lnTo>
                  <a:lnTo>
                    <a:pt x="6881" y="2771"/>
                  </a:lnTo>
                  <a:lnTo>
                    <a:pt x="6905" y="2774"/>
                  </a:lnTo>
                  <a:lnTo>
                    <a:pt x="6928" y="2776"/>
                  </a:lnTo>
                  <a:lnTo>
                    <a:pt x="6953" y="2779"/>
                  </a:lnTo>
                  <a:lnTo>
                    <a:pt x="6977" y="2782"/>
                  </a:lnTo>
                  <a:lnTo>
                    <a:pt x="7001" y="2784"/>
                  </a:lnTo>
                  <a:lnTo>
                    <a:pt x="7025" y="2788"/>
                  </a:lnTo>
                  <a:lnTo>
                    <a:pt x="7050" y="2793"/>
                  </a:lnTo>
                  <a:close/>
                  <a:moveTo>
                    <a:pt x="11487" y="4746"/>
                  </a:moveTo>
                  <a:lnTo>
                    <a:pt x="11472" y="4733"/>
                  </a:lnTo>
                  <a:lnTo>
                    <a:pt x="11458" y="4720"/>
                  </a:lnTo>
                  <a:lnTo>
                    <a:pt x="11443" y="4706"/>
                  </a:lnTo>
                  <a:lnTo>
                    <a:pt x="11426" y="4692"/>
                  </a:lnTo>
                  <a:lnTo>
                    <a:pt x="11408" y="4679"/>
                  </a:lnTo>
                  <a:lnTo>
                    <a:pt x="11390" y="4665"/>
                  </a:lnTo>
                  <a:lnTo>
                    <a:pt x="11371" y="4651"/>
                  </a:lnTo>
                  <a:lnTo>
                    <a:pt x="11352" y="4635"/>
                  </a:lnTo>
                  <a:lnTo>
                    <a:pt x="11148" y="4920"/>
                  </a:lnTo>
                  <a:lnTo>
                    <a:pt x="11186" y="4912"/>
                  </a:lnTo>
                  <a:lnTo>
                    <a:pt x="11223" y="4905"/>
                  </a:lnTo>
                  <a:lnTo>
                    <a:pt x="11257" y="4897"/>
                  </a:lnTo>
                  <a:lnTo>
                    <a:pt x="11289" y="4891"/>
                  </a:lnTo>
                  <a:lnTo>
                    <a:pt x="11319" y="4884"/>
                  </a:lnTo>
                  <a:lnTo>
                    <a:pt x="11347" y="4878"/>
                  </a:lnTo>
                  <a:lnTo>
                    <a:pt x="11374" y="4873"/>
                  </a:lnTo>
                  <a:lnTo>
                    <a:pt x="11399" y="4868"/>
                  </a:lnTo>
                  <a:lnTo>
                    <a:pt x="11487" y="4746"/>
                  </a:lnTo>
                  <a:close/>
                  <a:moveTo>
                    <a:pt x="10746" y="4145"/>
                  </a:moveTo>
                  <a:lnTo>
                    <a:pt x="11521" y="3066"/>
                  </a:lnTo>
                  <a:lnTo>
                    <a:pt x="11497" y="3065"/>
                  </a:lnTo>
                  <a:lnTo>
                    <a:pt x="11473" y="3063"/>
                  </a:lnTo>
                  <a:lnTo>
                    <a:pt x="11448" y="3060"/>
                  </a:lnTo>
                  <a:lnTo>
                    <a:pt x="11425" y="3058"/>
                  </a:lnTo>
                  <a:lnTo>
                    <a:pt x="11400" y="3055"/>
                  </a:lnTo>
                  <a:lnTo>
                    <a:pt x="11375" y="3053"/>
                  </a:lnTo>
                  <a:lnTo>
                    <a:pt x="11349" y="3051"/>
                  </a:lnTo>
                  <a:lnTo>
                    <a:pt x="11323" y="3050"/>
                  </a:lnTo>
                  <a:lnTo>
                    <a:pt x="10536" y="4145"/>
                  </a:lnTo>
                  <a:lnTo>
                    <a:pt x="10557" y="4145"/>
                  </a:lnTo>
                  <a:lnTo>
                    <a:pt x="10580" y="4147"/>
                  </a:lnTo>
                  <a:lnTo>
                    <a:pt x="10603" y="4147"/>
                  </a:lnTo>
                  <a:lnTo>
                    <a:pt x="10630" y="4148"/>
                  </a:lnTo>
                  <a:lnTo>
                    <a:pt x="10657" y="4148"/>
                  </a:lnTo>
                  <a:lnTo>
                    <a:pt x="10685" y="4148"/>
                  </a:lnTo>
                  <a:lnTo>
                    <a:pt x="10715" y="4147"/>
                  </a:lnTo>
                  <a:lnTo>
                    <a:pt x="10746" y="4145"/>
                  </a:lnTo>
                  <a:close/>
                  <a:moveTo>
                    <a:pt x="10046" y="2664"/>
                  </a:moveTo>
                  <a:lnTo>
                    <a:pt x="10084" y="2653"/>
                  </a:lnTo>
                  <a:lnTo>
                    <a:pt x="10121" y="2642"/>
                  </a:lnTo>
                  <a:lnTo>
                    <a:pt x="10155" y="2634"/>
                  </a:lnTo>
                  <a:lnTo>
                    <a:pt x="10189" y="2628"/>
                  </a:lnTo>
                  <a:lnTo>
                    <a:pt x="10218" y="2622"/>
                  </a:lnTo>
                  <a:lnTo>
                    <a:pt x="10246" y="2618"/>
                  </a:lnTo>
                  <a:lnTo>
                    <a:pt x="10269" y="2614"/>
                  </a:lnTo>
                  <a:lnTo>
                    <a:pt x="10291" y="2612"/>
                  </a:lnTo>
                  <a:lnTo>
                    <a:pt x="10311" y="2607"/>
                  </a:lnTo>
                  <a:lnTo>
                    <a:pt x="10329" y="2605"/>
                  </a:lnTo>
                  <a:lnTo>
                    <a:pt x="10344" y="2603"/>
                  </a:lnTo>
                  <a:lnTo>
                    <a:pt x="10356" y="2601"/>
                  </a:lnTo>
                  <a:lnTo>
                    <a:pt x="10366" y="2600"/>
                  </a:lnTo>
                  <a:lnTo>
                    <a:pt x="10373" y="2600"/>
                  </a:lnTo>
                  <a:lnTo>
                    <a:pt x="10378" y="2600"/>
                  </a:lnTo>
                  <a:lnTo>
                    <a:pt x="10379" y="2600"/>
                  </a:lnTo>
                  <a:lnTo>
                    <a:pt x="10378" y="2600"/>
                  </a:lnTo>
                  <a:lnTo>
                    <a:pt x="10374" y="2599"/>
                  </a:lnTo>
                  <a:lnTo>
                    <a:pt x="10368" y="2598"/>
                  </a:lnTo>
                  <a:lnTo>
                    <a:pt x="10361" y="2595"/>
                  </a:lnTo>
                  <a:lnTo>
                    <a:pt x="10351" y="2593"/>
                  </a:lnTo>
                  <a:lnTo>
                    <a:pt x="10340" y="2591"/>
                  </a:lnTo>
                  <a:lnTo>
                    <a:pt x="10325" y="2587"/>
                  </a:lnTo>
                  <a:lnTo>
                    <a:pt x="10309" y="2582"/>
                  </a:lnTo>
                  <a:lnTo>
                    <a:pt x="10292" y="2578"/>
                  </a:lnTo>
                  <a:lnTo>
                    <a:pt x="10274" y="2573"/>
                  </a:lnTo>
                  <a:lnTo>
                    <a:pt x="10253" y="2568"/>
                  </a:lnTo>
                  <a:lnTo>
                    <a:pt x="10231" y="2562"/>
                  </a:lnTo>
                  <a:lnTo>
                    <a:pt x="10208" y="2556"/>
                  </a:lnTo>
                  <a:lnTo>
                    <a:pt x="10183" y="2552"/>
                  </a:lnTo>
                  <a:lnTo>
                    <a:pt x="10155" y="2547"/>
                  </a:lnTo>
                  <a:lnTo>
                    <a:pt x="10128" y="2542"/>
                  </a:lnTo>
                  <a:lnTo>
                    <a:pt x="10046" y="2664"/>
                  </a:lnTo>
                  <a:close/>
                  <a:moveTo>
                    <a:pt x="6618" y="2763"/>
                  </a:moveTo>
                  <a:lnTo>
                    <a:pt x="6624" y="2763"/>
                  </a:lnTo>
                  <a:lnTo>
                    <a:pt x="6632" y="2763"/>
                  </a:lnTo>
                  <a:lnTo>
                    <a:pt x="6640" y="2763"/>
                  </a:lnTo>
                  <a:lnTo>
                    <a:pt x="6648" y="2763"/>
                  </a:lnTo>
                  <a:lnTo>
                    <a:pt x="6656" y="2763"/>
                  </a:lnTo>
                  <a:lnTo>
                    <a:pt x="6665" y="2763"/>
                  </a:lnTo>
                  <a:lnTo>
                    <a:pt x="6673" y="2763"/>
                  </a:lnTo>
                  <a:lnTo>
                    <a:pt x="6682" y="2763"/>
                  </a:lnTo>
                  <a:lnTo>
                    <a:pt x="7854" y="1119"/>
                  </a:lnTo>
                  <a:lnTo>
                    <a:pt x="7852" y="1122"/>
                  </a:lnTo>
                  <a:lnTo>
                    <a:pt x="7848" y="1124"/>
                  </a:lnTo>
                  <a:lnTo>
                    <a:pt x="7845" y="1125"/>
                  </a:lnTo>
                  <a:lnTo>
                    <a:pt x="7841" y="1128"/>
                  </a:lnTo>
                  <a:lnTo>
                    <a:pt x="7838" y="1130"/>
                  </a:lnTo>
                  <a:lnTo>
                    <a:pt x="7833" y="1132"/>
                  </a:lnTo>
                  <a:lnTo>
                    <a:pt x="7829" y="1135"/>
                  </a:lnTo>
                  <a:lnTo>
                    <a:pt x="7825" y="1137"/>
                  </a:lnTo>
                  <a:lnTo>
                    <a:pt x="7795" y="1145"/>
                  </a:lnTo>
                  <a:lnTo>
                    <a:pt x="7764" y="1154"/>
                  </a:lnTo>
                  <a:lnTo>
                    <a:pt x="7734" y="1162"/>
                  </a:lnTo>
                  <a:lnTo>
                    <a:pt x="7706" y="1170"/>
                  </a:lnTo>
                  <a:lnTo>
                    <a:pt x="7676" y="1179"/>
                  </a:lnTo>
                  <a:lnTo>
                    <a:pt x="7646" y="1187"/>
                  </a:lnTo>
                  <a:lnTo>
                    <a:pt x="7615" y="1194"/>
                  </a:lnTo>
                  <a:lnTo>
                    <a:pt x="7586" y="1200"/>
                  </a:lnTo>
                  <a:lnTo>
                    <a:pt x="6472" y="2763"/>
                  </a:lnTo>
                  <a:lnTo>
                    <a:pt x="6490" y="2763"/>
                  </a:lnTo>
                  <a:lnTo>
                    <a:pt x="6506" y="2763"/>
                  </a:lnTo>
                  <a:lnTo>
                    <a:pt x="6524" y="2763"/>
                  </a:lnTo>
                  <a:lnTo>
                    <a:pt x="6542" y="2763"/>
                  </a:lnTo>
                  <a:lnTo>
                    <a:pt x="6561" y="2763"/>
                  </a:lnTo>
                  <a:lnTo>
                    <a:pt x="6579" y="2763"/>
                  </a:lnTo>
                  <a:lnTo>
                    <a:pt x="6598" y="2763"/>
                  </a:lnTo>
                  <a:lnTo>
                    <a:pt x="6618" y="2763"/>
                  </a:lnTo>
                  <a:close/>
                  <a:moveTo>
                    <a:pt x="653" y="7649"/>
                  </a:moveTo>
                  <a:lnTo>
                    <a:pt x="402" y="7994"/>
                  </a:lnTo>
                  <a:lnTo>
                    <a:pt x="416" y="8011"/>
                  </a:lnTo>
                  <a:lnTo>
                    <a:pt x="429" y="8027"/>
                  </a:lnTo>
                  <a:lnTo>
                    <a:pt x="444" y="8044"/>
                  </a:lnTo>
                  <a:lnTo>
                    <a:pt x="459" y="8061"/>
                  </a:lnTo>
                  <a:lnTo>
                    <a:pt x="475" y="8076"/>
                  </a:lnTo>
                  <a:lnTo>
                    <a:pt x="491" y="8092"/>
                  </a:lnTo>
                  <a:lnTo>
                    <a:pt x="508" y="8107"/>
                  </a:lnTo>
                  <a:lnTo>
                    <a:pt x="524" y="8122"/>
                  </a:lnTo>
                  <a:lnTo>
                    <a:pt x="839" y="7685"/>
                  </a:lnTo>
                  <a:lnTo>
                    <a:pt x="816" y="7680"/>
                  </a:lnTo>
                  <a:lnTo>
                    <a:pt x="793" y="7676"/>
                  </a:lnTo>
                  <a:lnTo>
                    <a:pt x="769" y="7672"/>
                  </a:lnTo>
                  <a:lnTo>
                    <a:pt x="747" y="7667"/>
                  </a:lnTo>
                  <a:lnTo>
                    <a:pt x="723" y="7662"/>
                  </a:lnTo>
                  <a:lnTo>
                    <a:pt x="700" y="7659"/>
                  </a:lnTo>
                  <a:lnTo>
                    <a:pt x="677" y="7654"/>
                  </a:lnTo>
                  <a:lnTo>
                    <a:pt x="653" y="7649"/>
                  </a:lnTo>
                  <a:close/>
                  <a:moveTo>
                    <a:pt x="10501" y="4198"/>
                  </a:moveTo>
                  <a:lnTo>
                    <a:pt x="9783" y="5201"/>
                  </a:lnTo>
                  <a:lnTo>
                    <a:pt x="9790" y="5229"/>
                  </a:lnTo>
                  <a:lnTo>
                    <a:pt x="9796" y="5258"/>
                  </a:lnTo>
                  <a:lnTo>
                    <a:pt x="9804" y="5286"/>
                  </a:lnTo>
                  <a:lnTo>
                    <a:pt x="9809" y="5314"/>
                  </a:lnTo>
                  <a:lnTo>
                    <a:pt x="9817" y="5342"/>
                  </a:lnTo>
                  <a:lnTo>
                    <a:pt x="9823" y="5371"/>
                  </a:lnTo>
                  <a:lnTo>
                    <a:pt x="9830" y="5399"/>
                  </a:lnTo>
                  <a:lnTo>
                    <a:pt x="9836" y="5428"/>
                  </a:lnTo>
                  <a:lnTo>
                    <a:pt x="10652" y="4286"/>
                  </a:lnTo>
                  <a:lnTo>
                    <a:pt x="10624" y="4270"/>
                  </a:lnTo>
                  <a:lnTo>
                    <a:pt x="10596" y="4257"/>
                  </a:lnTo>
                  <a:lnTo>
                    <a:pt x="10574" y="4244"/>
                  </a:lnTo>
                  <a:lnTo>
                    <a:pt x="10552" y="4232"/>
                  </a:lnTo>
                  <a:lnTo>
                    <a:pt x="10534" y="4223"/>
                  </a:lnTo>
                  <a:lnTo>
                    <a:pt x="10520" y="4213"/>
                  </a:lnTo>
                  <a:lnTo>
                    <a:pt x="10510" y="4205"/>
                  </a:lnTo>
                  <a:lnTo>
                    <a:pt x="10501" y="4198"/>
                  </a:lnTo>
                  <a:close/>
                  <a:moveTo>
                    <a:pt x="7854" y="2191"/>
                  </a:moveTo>
                  <a:lnTo>
                    <a:pt x="7851" y="2189"/>
                  </a:lnTo>
                  <a:lnTo>
                    <a:pt x="7845" y="2182"/>
                  </a:lnTo>
                  <a:lnTo>
                    <a:pt x="7834" y="2170"/>
                  </a:lnTo>
                  <a:lnTo>
                    <a:pt x="7821" y="2153"/>
                  </a:lnTo>
                  <a:lnTo>
                    <a:pt x="7807" y="2132"/>
                  </a:lnTo>
                  <a:lnTo>
                    <a:pt x="7792" y="2106"/>
                  </a:lnTo>
                  <a:lnTo>
                    <a:pt x="7785" y="2092"/>
                  </a:lnTo>
                  <a:lnTo>
                    <a:pt x="7778" y="2075"/>
                  </a:lnTo>
                  <a:lnTo>
                    <a:pt x="7772" y="2058"/>
                  </a:lnTo>
                  <a:lnTo>
                    <a:pt x="7766" y="2040"/>
                  </a:lnTo>
                  <a:lnTo>
                    <a:pt x="7212" y="2815"/>
                  </a:lnTo>
                  <a:lnTo>
                    <a:pt x="7235" y="2820"/>
                  </a:lnTo>
                  <a:lnTo>
                    <a:pt x="7258" y="2825"/>
                  </a:lnTo>
                  <a:lnTo>
                    <a:pt x="7280" y="2830"/>
                  </a:lnTo>
                  <a:lnTo>
                    <a:pt x="7303" y="2834"/>
                  </a:lnTo>
                  <a:lnTo>
                    <a:pt x="7325" y="2839"/>
                  </a:lnTo>
                  <a:lnTo>
                    <a:pt x="7349" y="2845"/>
                  </a:lnTo>
                  <a:lnTo>
                    <a:pt x="7371" y="2850"/>
                  </a:lnTo>
                  <a:lnTo>
                    <a:pt x="7393" y="2857"/>
                  </a:lnTo>
                  <a:lnTo>
                    <a:pt x="7971" y="2046"/>
                  </a:lnTo>
                  <a:lnTo>
                    <a:pt x="7951" y="2064"/>
                  </a:lnTo>
                  <a:lnTo>
                    <a:pt x="7933" y="2082"/>
                  </a:lnTo>
                  <a:lnTo>
                    <a:pt x="7915" y="2101"/>
                  </a:lnTo>
                  <a:lnTo>
                    <a:pt x="7899" y="2119"/>
                  </a:lnTo>
                  <a:lnTo>
                    <a:pt x="7884" y="2138"/>
                  </a:lnTo>
                  <a:lnTo>
                    <a:pt x="7872" y="2156"/>
                  </a:lnTo>
                  <a:lnTo>
                    <a:pt x="7861" y="2175"/>
                  </a:lnTo>
                  <a:lnTo>
                    <a:pt x="7854" y="2191"/>
                  </a:lnTo>
                  <a:close/>
                  <a:moveTo>
                    <a:pt x="2304" y="7260"/>
                  </a:moveTo>
                  <a:lnTo>
                    <a:pt x="2279" y="7264"/>
                  </a:lnTo>
                  <a:lnTo>
                    <a:pt x="2255" y="7269"/>
                  </a:lnTo>
                  <a:lnTo>
                    <a:pt x="2232" y="7275"/>
                  </a:lnTo>
                  <a:lnTo>
                    <a:pt x="2211" y="7281"/>
                  </a:lnTo>
                  <a:lnTo>
                    <a:pt x="2191" y="7287"/>
                  </a:lnTo>
                  <a:lnTo>
                    <a:pt x="2172" y="7294"/>
                  </a:lnTo>
                  <a:lnTo>
                    <a:pt x="2153" y="7301"/>
                  </a:lnTo>
                  <a:lnTo>
                    <a:pt x="2135" y="7309"/>
                  </a:lnTo>
                  <a:lnTo>
                    <a:pt x="2100" y="7326"/>
                  </a:lnTo>
                  <a:lnTo>
                    <a:pt x="2068" y="7344"/>
                  </a:lnTo>
                  <a:lnTo>
                    <a:pt x="2036" y="7362"/>
                  </a:lnTo>
                  <a:lnTo>
                    <a:pt x="2005" y="7382"/>
                  </a:lnTo>
                  <a:lnTo>
                    <a:pt x="1207" y="8500"/>
                  </a:lnTo>
                  <a:lnTo>
                    <a:pt x="1222" y="8503"/>
                  </a:lnTo>
                  <a:lnTo>
                    <a:pt x="1238" y="8505"/>
                  </a:lnTo>
                  <a:lnTo>
                    <a:pt x="1253" y="8508"/>
                  </a:lnTo>
                  <a:lnTo>
                    <a:pt x="1268" y="8510"/>
                  </a:lnTo>
                  <a:lnTo>
                    <a:pt x="1284" y="8512"/>
                  </a:lnTo>
                  <a:lnTo>
                    <a:pt x="1299" y="8514"/>
                  </a:lnTo>
                  <a:lnTo>
                    <a:pt x="1314" y="8516"/>
                  </a:lnTo>
                  <a:lnTo>
                    <a:pt x="1329" y="8518"/>
                  </a:lnTo>
                  <a:lnTo>
                    <a:pt x="1340" y="8518"/>
                  </a:lnTo>
                  <a:lnTo>
                    <a:pt x="1350" y="8518"/>
                  </a:lnTo>
                  <a:lnTo>
                    <a:pt x="1360" y="8518"/>
                  </a:lnTo>
                  <a:lnTo>
                    <a:pt x="1369" y="8519"/>
                  </a:lnTo>
                  <a:lnTo>
                    <a:pt x="1379" y="8519"/>
                  </a:lnTo>
                  <a:lnTo>
                    <a:pt x="1387" y="8521"/>
                  </a:lnTo>
                  <a:lnTo>
                    <a:pt x="1397" y="8522"/>
                  </a:lnTo>
                  <a:lnTo>
                    <a:pt x="1405" y="8524"/>
                  </a:lnTo>
                  <a:lnTo>
                    <a:pt x="2304" y="7260"/>
                  </a:lnTo>
                  <a:close/>
                  <a:moveTo>
                    <a:pt x="338" y="7539"/>
                  </a:moveTo>
                  <a:lnTo>
                    <a:pt x="205" y="7731"/>
                  </a:lnTo>
                  <a:lnTo>
                    <a:pt x="215" y="7749"/>
                  </a:lnTo>
                  <a:lnTo>
                    <a:pt x="227" y="7767"/>
                  </a:lnTo>
                  <a:lnTo>
                    <a:pt x="239" y="7786"/>
                  </a:lnTo>
                  <a:lnTo>
                    <a:pt x="252" y="7805"/>
                  </a:lnTo>
                  <a:lnTo>
                    <a:pt x="265" y="7824"/>
                  </a:lnTo>
                  <a:lnTo>
                    <a:pt x="280" y="7843"/>
                  </a:lnTo>
                  <a:lnTo>
                    <a:pt x="294" y="7863"/>
                  </a:lnTo>
                  <a:lnTo>
                    <a:pt x="309" y="7882"/>
                  </a:lnTo>
                  <a:lnTo>
                    <a:pt x="502" y="7603"/>
                  </a:lnTo>
                  <a:lnTo>
                    <a:pt x="482" y="7596"/>
                  </a:lnTo>
                  <a:lnTo>
                    <a:pt x="463" y="7590"/>
                  </a:lnTo>
                  <a:lnTo>
                    <a:pt x="442" y="7583"/>
                  </a:lnTo>
                  <a:lnTo>
                    <a:pt x="422" y="7576"/>
                  </a:lnTo>
                  <a:lnTo>
                    <a:pt x="402" y="7567"/>
                  </a:lnTo>
                  <a:lnTo>
                    <a:pt x="381" y="7559"/>
                  </a:lnTo>
                  <a:lnTo>
                    <a:pt x="360" y="7550"/>
                  </a:lnTo>
                  <a:lnTo>
                    <a:pt x="338" y="7539"/>
                  </a:lnTo>
                  <a:close/>
                  <a:moveTo>
                    <a:pt x="9702" y="2891"/>
                  </a:moveTo>
                  <a:lnTo>
                    <a:pt x="9698" y="2887"/>
                  </a:lnTo>
                  <a:lnTo>
                    <a:pt x="9693" y="2881"/>
                  </a:lnTo>
                  <a:lnTo>
                    <a:pt x="9689" y="2875"/>
                  </a:lnTo>
                  <a:lnTo>
                    <a:pt x="9687" y="2868"/>
                  </a:lnTo>
                  <a:lnTo>
                    <a:pt x="9685" y="2861"/>
                  </a:lnTo>
                  <a:lnTo>
                    <a:pt x="9683" y="2852"/>
                  </a:lnTo>
                  <a:lnTo>
                    <a:pt x="9685" y="2843"/>
                  </a:lnTo>
                  <a:lnTo>
                    <a:pt x="9687" y="2833"/>
                  </a:lnTo>
                  <a:lnTo>
                    <a:pt x="9693" y="2824"/>
                  </a:lnTo>
                  <a:lnTo>
                    <a:pt x="9700" y="2813"/>
                  </a:lnTo>
                  <a:lnTo>
                    <a:pt x="9710" y="2801"/>
                  </a:lnTo>
                  <a:lnTo>
                    <a:pt x="9724" y="2790"/>
                  </a:lnTo>
                  <a:lnTo>
                    <a:pt x="9741" y="2779"/>
                  </a:lnTo>
                  <a:lnTo>
                    <a:pt x="9761" y="2765"/>
                  </a:lnTo>
                  <a:lnTo>
                    <a:pt x="9785" y="2754"/>
                  </a:lnTo>
                  <a:lnTo>
                    <a:pt x="9813" y="2740"/>
                  </a:lnTo>
                  <a:lnTo>
                    <a:pt x="9970" y="2518"/>
                  </a:lnTo>
                  <a:lnTo>
                    <a:pt x="9959" y="2517"/>
                  </a:lnTo>
                  <a:lnTo>
                    <a:pt x="9949" y="2515"/>
                  </a:lnTo>
                  <a:lnTo>
                    <a:pt x="9937" y="2515"/>
                  </a:lnTo>
                  <a:lnTo>
                    <a:pt x="9926" y="2513"/>
                  </a:lnTo>
                  <a:lnTo>
                    <a:pt x="9914" y="2513"/>
                  </a:lnTo>
                  <a:lnTo>
                    <a:pt x="9902" y="2512"/>
                  </a:lnTo>
                  <a:lnTo>
                    <a:pt x="9890" y="2512"/>
                  </a:lnTo>
                  <a:lnTo>
                    <a:pt x="9877" y="2512"/>
                  </a:lnTo>
                  <a:lnTo>
                    <a:pt x="9864" y="2511"/>
                  </a:lnTo>
                  <a:lnTo>
                    <a:pt x="9851" y="2509"/>
                  </a:lnTo>
                  <a:lnTo>
                    <a:pt x="9838" y="2508"/>
                  </a:lnTo>
                  <a:lnTo>
                    <a:pt x="9825" y="2506"/>
                  </a:lnTo>
                  <a:lnTo>
                    <a:pt x="9812" y="2505"/>
                  </a:lnTo>
                  <a:lnTo>
                    <a:pt x="9799" y="2504"/>
                  </a:lnTo>
                  <a:lnTo>
                    <a:pt x="9786" y="2503"/>
                  </a:lnTo>
                  <a:lnTo>
                    <a:pt x="9771" y="2500"/>
                  </a:lnTo>
                  <a:lnTo>
                    <a:pt x="8910" y="3702"/>
                  </a:lnTo>
                  <a:lnTo>
                    <a:pt x="8926" y="3718"/>
                  </a:lnTo>
                  <a:lnTo>
                    <a:pt x="8942" y="3733"/>
                  </a:lnTo>
                  <a:lnTo>
                    <a:pt x="8957" y="3748"/>
                  </a:lnTo>
                  <a:lnTo>
                    <a:pt x="8973" y="3764"/>
                  </a:lnTo>
                  <a:lnTo>
                    <a:pt x="8987" y="3778"/>
                  </a:lnTo>
                  <a:lnTo>
                    <a:pt x="9002" y="3794"/>
                  </a:lnTo>
                  <a:lnTo>
                    <a:pt x="9017" y="3809"/>
                  </a:lnTo>
                  <a:lnTo>
                    <a:pt x="9032" y="3824"/>
                  </a:lnTo>
                  <a:lnTo>
                    <a:pt x="9702" y="2891"/>
                  </a:lnTo>
                  <a:close/>
                  <a:moveTo>
                    <a:pt x="1009" y="7696"/>
                  </a:moveTo>
                  <a:lnTo>
                    <a:pt x="630" y="8221"/>
                  </a:lnTo>
                  <a:lnTo>
                    <a:pt x="647" y="8234"/>
                  </a:lnTo>
                  <a:lnTo>
                    <a:pt x="665" y="8246"/>
                  </a:lnTo>
                  <a:lnTo>
                    <a:pt x="682" y="8259"/>
                  </a:lnTo>
                  <a:lnTo>
                    <a:pt x="700" y="8271"/>
                  </a:lnTo>
                  <a:lnTo>
                    <a:pt x="717" y="8283"/>
                  </a:lnTo>
                  <a:lnTo>
                    <a:pt x="735" y="8295"/>
                  </a:lnTo>
                  <a:lnTo>
                    <a:pt x="753" y="8308"/>
                  </a:lnTo>
                  <a:lnTo>
                    <a:pt x="769" y="8320"/>
                  </a:lnTo>
                  <a:lnTo>
                    <a:pt x="1224" y="7685"/>
                  </a:lnTo>
                  <a:lnTo>
                    <a:pt x="1198" y="7687"/>
                  </a:lnTo>
                  <a:lnTo>
                    <a:pt x="1172" y="7689"/>
                  </a:lnTo>
                  <a:lnTo>
                    <a:pt x="1145" y="7691"/>
                  </a:lnTo>
                  <a:lnTo>
                    <a:pt x="1119" y="7692"/>
                  </a:lnTo>
                  <a:lnTo>
                    <a:pt x="1091" y="7695"/>
                  </a:lnTo>
                  <a:lnTo>
                    <a:pt x="1064" y="7696"/>
                  </a:lnTo>
                  <a:lnTo>
                    <a:pt x="1037" y="7696"/>
                  </a:lnTo>
                  <a:lnTo>
                    <a:pt x="1009" y="7696"/>
                  </a:lnTo>
                  <a:close/>
                  <a:moveTo>
                    <a:pt x="1429" y="7649"/>
                  </a:moveTo>
                  <a:lnTo>
                    <a:pt x="898" y="8390"/>
                  </a:lnTo>
                  <a:lnTo>
                    <a:pt x="918" y="8401"/>
                  </a:lnTo>
                  <a:lnTo>
                    <a:pt x="937" y="8411"/>
                  </a:lnTo>
                  <a:lnTo>
                    <a:pt x="957" y="8421"/>
                  </a:lnTo>
                  <a:lnTo>
                    <a:pt x="977" y="8429"/>
                  </a:lnTo>
                  <a:lnTo>
                    <a:pt x="997" y="8437"/>
                  </a:lnTo>
                  <a:lnTo>
                    <a:pt x="1019" y="8446"/>
                  </a:lnTo>
                  <a:lnTo>
                    <a:pt x="1039" y="8453"/>
                  </a:lnTo>
                  <a:lnTo>
                    <a:pt x="1062" y="8460"/>
                  </a:lnTo>
                  <a:lnTo>
                    <a:pt x="1702" y="7557"/>
                  </a:lnTo>
                  <a:lnTo>
                    <a:pt x="1675" y="7567"/>
                  </a:lnTo>
                  <a:lnTo>
                    <a:pt x="1645" y="7579"/>
                  </a:lnTo>
                  <a:lnTo>
                    <a:pt x="1614" y="7591"/>
                  </a:lnTo>
                  <a:lnTo>
                    <a:pt x="1581" y="7603"/>
                  </a:lnTo>
                  <a:lnTo>
                    <a:pt x="1545" y="7615"/>
                  </a:lnTo>
                  <a:lnTo>
                    <a:pt x="1509" y="7627"/>
                  </a:lnTo>
                  <a:lnTo>
                    <a:pt x="1469" y="7639"/>
                  </a:lnTo>
                  <a:lnTo>
                    <a:pt x="1429" y="7649"/>
                  </a:lnTo>
                  <a:close/>
                  <a:moveTo>
                    <a:pt x="9241" y="4081"/>
                  </a:moveTo>
                  <a:lnTo>
                    <a:pt x="10052" y="2944"/>
                  </a:lnTo>
                  <a:lnTo>
                    <a:pt x="10025" y="2940"/>
                  </a:lnTo>
                  <a:lnTo>
                    <a:pt x="9997" y="2937"/>
                  </a:lnTo>
                  <a:lnTo>
                    <a:pt x="9971" y="2933"/>
                  </a:lnTo>
                  <a:lnTo>
                    <a:pt x="9947" y="2931"/>
                  </a:lnTo>
                  <a:lnTo>
                    <a:pt x="9924" y="2927"/>
                  </a:lnTo>
                  <a:lnTo>
                    <a:pt x="9901" y="2925"/>
                  </a:lnTo>
                  <a:lnTo>
                    <a:pt x="9880" y="2924"/>
                  </a:lnTo>
                  <a:lnTo>
                    <a:pt x="9859" y="2921"/>
                  </a:lnTo>
                  <a:lnTo>
                    <a:pt x="9131" y="3941"/>
                  </a:lnTo>
                  <a:lnTo>
                    <a:pt x="9146" y="3959"/>
                  </a:lnTo>
                  <a:lnTo>
                    <a:pt x="9161" y="3977"/>
                  </a:lnTo>
                  <a:lnTo>
                    <a:pt x="9175" y="3993"/>
                  </a:lnTo>
                  <a:lnTo>
                    <a:pt x="9188" y="4011"/>
                  </a:lnTo>
                  <a:lnTo>
                    <a:pt x="9202" y="4029"/>
                  </a:lnTo>
                  <a:lnTo>
                    <a:pt x="9215" y="4047"/>
                  </a:lnTo>
                  <a:lnTo>
                    <a:pt x="9228" y="4063"/>
                  </a:lnTo>
                  <a:lnTo>
                    <a:pt x="9241" y="4081"/>
                  </a:lnTo>
                  <a:close/>
                  <a:moveTo>
                    <a:pt x="2379" y="6070"/>
                  </a:moveTo>
                  <a:lnTo>
                    <a:pt x="2361" y="6063"/>
                  </a:lnTo>
                  <a:lnTo>
                    <a:pt x="2341" y="6057"/>
                  </a:lnTo>
                  <a:lnTo>
                    <a:pt x="2319" y="6051"/>
                  </a:lnTo>
                  <a:lnTo>
                    <a:pt x="2298" y="6045"/>
                  </a:lnTo>
                  <a:lnTo>
                    <a:pt x="2274" y="6040"/>
                  </a:lnTo>
                  <a:lnTo>
                    <a:pt x="2249" y="6035"/>
                  </a:lnTo>
                  <a:lnTo>
                    <a:pt x="2224" y="6032"/>
                  </a:lnTo>
                  <a:lnTo>
                    <a:pt x="2198" y="6028"/>
                  </a:lnTo>
                  <a:lnTo>
                    <a:pt x="1708" y="6710"/>
                  </a:lnTo>
                  <a:lnTo>
                    <a:pt x="1732" y="6718"/>
                  </a:lnTo>
                  <a:lnTo>
                    <a:pt x="1756" y="6723"/>
                  </a:lnTo>
                  <a:lnTo>
                    <a:pt x="1778" y="6728"/>
                  </a:lnTo>
                  <a:lnTo>
                    <a:pt x="1801" y="6733"/>
                  </a:lnTo>
                  <a:lnTo>
                    <a:pt x="1824" y="6738"/>
                  </a:lnTo>
                  <a:lnTo>
                    <a:pt x="1845" y="6742"/>
                  </a:lnTo>
                  <a:lnTo>
                    <a:pt x="1867" y="6747"/>
                  </a:lnTo>
                  <a:lnTo>
                    <a:pt x="1889" y="6752"/>
                  </a:lnTo>
                  <a:lnTo>
                    <a:pt x="2379" y="6070"/>
                  </a:lnTo>
                  <a:close/>
                  <a:moveTo>
                    <a:pt x="2607" y="6297"/>
                  </a:moveTo>
                  <a:lnTo>
                    <a:pt x="2597" y="6279"/>
                  </a:lnTo>
                  <a:lnTo>
                    <a:pt x="2587" y="6260"/>
                  </a:lnTo>
                  <a:lnTo>
                    <a:pt x="2575" y="6241"/>
                  </a:lnTo>
                  <a:lnTo>
                    <a:pt x="2563" y="6221"/>
                  </a:lnTo>
                  <a:lnTo>
                    <a:pt x="2549" y="6202"/>
                  </a:lnTo>
                  <a:lnTo>
                    <a:pt x="2534" y="6183"/>
                  </a:lnTo>
                  <a:lnTo>
                    <a:pt x="2519" y="6164"/>
                  </a:lnTo>
                  <a:lnTo>
                    <a:pt x="2501" y="6146"/>
                  </a:lnTo>
                  <a:lnTo>
                    <a:pt x="2041" y="6792"/>
                  </a:lnTo>
                  <a:lnTo>
                    <a:pt x="2062" y="6797"/>
                  </a:lnTo>
                  <a:lnTo>
                    <a:pt x="2085" y="6802"/>
                  </a:lnTo>
                  <a:lnTo>
                    <a:pt x="2106" y="6808"/>
                  </a:lnTo>
                  <a:lnTo>
                    <a:pt x="2128" y="6815"/>
                  </a:lnTo>
                  <a:lnTo>
                    <a:pt x="2150" y="6821"/>
                  </a:lnTo>
                  <a:lnTo>
                    <a:pt x="2172" y="6828"/>
                  </a:lnTo>
                  <a:lnTo>
                    <a:pt x="2194" y="6836"/>
                  </a:lnTo>
                  <a:lnTo>
                    <a:pt x="2216" y="6845"/>
                  </a:lnTo>
                  <a:lnTo>
                    <a:pt x="2607" y="6297"/>
                  </a:lnTo>
                  <a:close/>
                  <a:moveTo>
                    <a:pt x="13008" y="3411"/>
                  </a:moveTo>
                  <a:lnTo>
                    <a:pt x="12967" y="3469"/>
                  </a:lnTo>
                  <a:lnTo>
                    <a:pt x="12990" y="3467"/>
                  </a:lnTo>
                  <a:lnTo>
                    <a:pt x="13010" y="3466"/>
                  </a:lnTo>
                  <a:lnTo>
                    <a:pt x="13028" y="3464"/>
                  </a:lnTo>
                  <a:lnTo>
                    <a:pt x="13044" y="3464"/>
                  </a:lnTo>
                  <a:lnTo>
                    <a:pt x="13055" y="3463"/>
                  </a:lnTo>
                  <a:lnTo>
                    <a:pt x="13065" y="3463"/>
                  </a:lnTo>
                  <a:lnTo>
                    <a:pt x="13071" y="3463"/>
                  </a:lnTo>
                  <a:lnTo>
                    <a:pt x="13072" y="3463"/>
                  </a:lnTo>
                  <a:lnTo>
                    <a:pt x="13072" y="3462"/>
                  </a:lnTo>
                  <a:lnTo>
                    <a:pt x="13072" y="3461"/>
                  </a:lnTo>
                  <a:lnTo>
                    <a:pt x="13071" y="3457"/>
                  </a:lnTo>
                  <a:lnTo>
                    <a:pt x="13066" y="3452"/>
                  </a:lnTo>
                  <a:lnTo>
                    <a:pt x="13059" y="3445"/>
                  </a:lnTo>
                  <a:lnTo>
                    <a:pt x="13047" y="3436"/>
                  </a:lnTo>
                  <a:lnTo>
                    <a:pt x="13030" y="3425"/>
                  </a:lnTo>
                  <a:lnTo>
                    <a:pt x="13008" y="3411"/>
                  </a:lnTo>
                  <a:close/>
                  <a:moveTo>
                    <a:pt x="2350" y="6903"/>
                  </a:moveTo>
                  <a:lnTo>
                    <a:pt x="2366" y="6910"/>
                  </a:lnTo>
                  <a:lnTo>
                    <a:pt x="2380" y="6917"/>
                  </a:lnTo>
                  <a:lnTo>
                    <a:pt x="2395" y="6926"/>
                  </a:lnTo>
                  <a:lnTo>
                    <a:pt x="2411" y="6934"/>
                  </a:lnTo>
                  <a:lnTo>
                    <a:pt x="2425" y="6943"/>
                  </a:lnTo>
                  <a:lnTo>
                    <a:pt x="2439" y="6953"/>
                  </a:lnTo>
                  <a:lnTo>
                    <a:pt x="2453" y="6962"/>
                  </a:lnTo>
                  <a:lnTo>
                    <a:pt x="2467" y="6973"/>
                  </a:lnTo>
                  <a:lnTo>
                    <a:pt x="2470" y="6975"/>
                  </a:lnTo>
                  <a:lnTo>
                    <a:pt x="2474" y="6978"/>
                  </a:lnTo>
                  <a:lnTo>
                    <a:pt x="2477" y="6980"/>
                  </a:lnTo>
                  <a:lnTo>
                    <a:pt x="2481" y="6983"/>
                  </a:lnTo>
                  <a:lnTo>
                    <a:pt x="2484" y="6986"/>
                  </a:lnTo>
                  <a:lnTo>
                    <a:pt x="2488" y="6989"/>
                  </a:lnTo>
                  <a:lnTo>
                    <a:pt x="2491" y="6992"/>
                  </a:lnTo>
                  <a:lnTo>
                    <a:pt x="2495" y="6997"/>
                  </a:lnTo>
                  <a:lnTo>
                    <a:pt x="3347" y="5801"/>
                  </a:lnTo>
                  <a:lnTo>
                    <a:pt x="3351" y="5755"/>
                  </a:lnTo>
                  <a:lnTo>
                    <a:pt x="3356" y="5710"/>
                  </a:lnTo>
                  <a:lnTo>
                    <a:pt x="3360" y="5663"/>
                  </a:lnTo>
                  <a:lnTo>
                    <a:pt x="3366" y="5618"/>
                  </a:lnTo>
                  <a:lnTo>
                    <a:pt x="3371" y="5573"/>
                  </a:lnTo>
                  <a:lnTo>
                    <a:pt x="3378" y="5528"/>
                  </a:lnTo>
                  <a:lnTo>
                    <a:pt x="3385" y="5484"/>
                  </a:lnTo>
                  <a:lnTo>
                    <a:pt x="3394" y="5440"/>
                  </a:lnTo>
                  <a:lnTo>
                    <a:pt x="2350" y="6903"/>
                  </a:lnTo>
                  <a:close/>
                  <a:moveTo>
                    <a:pt x="4024" y="2927"/>
                  </a:moveTo>
                  <a:lnTo>
                    <a:pt x="2268" y="5387"/>
                  </a:lnTo>
                  <a:lnTo>
                    <a:pt x="2279" y="5409"/>
                  </a:lnTo>
                  <a:lnTo>
                    <a:pt x="2289" y="5431"/>
                  </a:lnTo>
                  <a:lnTo>
                    <a:pt x="2301" y="5453"/>
                  </a:lnTo>
                  <a:lnTo>
                    <a:pt x="2312" y="5474"/>
                  </a:lnTo>
                  <a:lnTo>
                    <a:pt x="2323" y="5496"/>
                  </a:lnTo>
                  <a:lnTo>
                    <a:pt x="2333" y="5516"/>
                  </a:lnTo>
                  <a:lnTo>
                    <a:pt x="2344" y="5536"/>
                  </a:lnTo>
                  <a:lnTo>
                    <a:pt x="2356" y="5556"/>
                  </a:lnTo>
                  <a:lnTo>
                    <a:pt x="4058" y="3178"/>
                  </a:lnTo>
                  <a:lnTo>
                    <a:pt x="4053" y="3151"/>
                  </a:lnTo>
                  <a:lnTo>
                    <a:pt x="4050" y="3122"/>
                  </a:lnTo>
                  <a:lnTo>
                    <a:pt x="4045" y="3092"/>
                  </a:lnTo>
                  <a:lnTo>
                    <a:pt x="4040" y="3060"/>
                  </a:lnTo>
                  <a:lnTo>
                    <a:pt x="4037" y="3028"/>
                  </a:lnTo>
                  <a:lnTo>
                    <a:pt x="4032" y="2995"/>
                  </a:lnTo>
                  <a:lnTo>
                    <a:pt x="4027" y="2962"/>
                  </a:lnTo>
                  <a:lnTo>
                    <a:pt x="4024" y="292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3320" y="4698360"/>
              <a:ext cx="1812240" cy="1702440"/>
            </a:xfrm>
            <a:custGeom>
              <a:avLst/>
              <a:gdLst/>
              <a:ahLst/>
              <a:rect l="l" t="t" r="r" b="b"/>
              <a:pathLst>
                <a:path w="12127" h="11329">
                  <a:moveTo>
                    <a:pt x="9853" y="7533"/>
                  </a:moveTo>
                  <a:lnTo>
                    <a:pt x="9346" y="8239"/>
                  </a:lnTo>
                  <a:lnTo>
                    <a:pt x="9359" y="8259"/>
                  </a:lnTo>
                  <a:lnTo>
                    <a:pt x="9372" y="8278"/>
                  </a:lnTo>
                  <a:lnTo>
                    <a:pt x="9385" y="8298"/>
                  </a:lnTo>
                  <a:lnTo>
                    <a:pt x="9398" y="8318"/>
                  </a:lnTo>
                  <a:lnTo>
                    <a:pt x="9410" y="8338"/>
                  </a:lnTo>
                  <a:lnTo>
                    <a:pt x="9422" y="8357"/>
                  </a:lnTo>
                  <a:lnTo>
                    <a:pt x="9434" y="8377"/>
                  </a:lnTo>
                  <a:lnTo>
                    <a:pt x="9446" y="8397"/>
                  </a:lnTo>
                  <a:lnTo>
                    <a:pt x="9883" y="7790"/>
                  </a:lnTo>
                  <a:lnTo>
                    <a:pt x="9878" y="7758"/>
                  </a:lnTo>
                  <a:lnTo>
                    <a:pt x="9875" y="7726"/>
                  </a:lnTo>
                  <a:lnTo>
                    <a:pt x="9871" y="7693"/>
                  </a:lnTo>
                  <a:lnTo>
                    <a:pt x="9868" y="7661"/>
                  </a:lnTo>
                  <a:lnTo>
                    <a:pt x="9865" y="7631"/>
                  </a:lnTo>
                  <a:lnTo>
                    <a:pt x="9862" y="7598"/>
                  </a:lnTo>
                  <a:lnTo>
                    <a:pt x="9858" y="7566"/>
                  </a:lnTo>
                  <a:lnTo>
                    <a:pt x="9853" y="7533"/>
                  </a:lnTo>
                  <a:close/>
                  <a:moveTo>
                    <a:pt x="338" y="5370"/>
                  </a:moveTo>
                  <a:lnTo>
                    <a:pt x="677" y="4898"/>
                  </a:lnTo>
                  <a:lnTo>
                    <a:pt x="669" y="4898"/>
                  </a:lnTo>
                  <a:lnTo>
                    <a:pt x="662" y="4899"/>
                  </a:lnTo>
                  <a:lnTo>
                    <a:pt x="655" y="4900"/>
                  </a:lnTo>
                  <a:lnTo>
                    <a:pt x="647" y="4901"/>
                  </a:lnTo>
                  <a:lnTo>
                    <a:pt x="640" y="4904"/>
                  </a:lnTo>
                  <a:lnTo>
                    <a:pt x="631" y="4905"/>
                  </a:lnTo>
                  <a:lnTo>
                    <a:pt x="624" y="4907"/>
                  </a:lnTo>
                  <a:lnTo>
                    <a:pt x="618" y="4910"/>
                  </a:lnTo>
                  <a:lnTo>
                    <a:pt x="584" y="4923"/>
                  </a:lnTo>
                  <a:lnTo>
                    <a:pt x="553" y="4934"/>
                  </a:lnTo>
                  <a:lnTo>
                    <a:pt x="524" y="4944"/>
                  </a:lnTo>
                  <a:lnTo>
                    <a:pt x="497" y="4954"/>
                  </a:lnTo>
                  <a:lnTo>
                    <a:pt x="471" y="4963"/>
                  </a:lnTo>
                  <a:lnTo>
                    <a:pt x="447" y="4972"/>
                  </a:lnTo>
                  <a:lnTo>
                    <a:pt x="425" y="4979"/>
                  </a:lnTo>
                  <a:lnTo>
                    <a:pt x="402" y="4986"/>
                  </a:lnTo>
                  <a:lnTo>
                    <a:pt x="215" y="5247"/>
                  </a:lnTo>
                  <a:lnTo>
                    <a:pt x="228" y="5263"/>
                  </a:lnTo>
                  <a:lnTo>
                    <a:pt x="243" y="5278"/>
                  </a:lnTo>
                  <a:lnTo>
                    <a:pt x="257" y="5294"/>
                  </a:lnTo>
                  <a:lnTo>
                    <a:pt x="272" y="5309"/>
                  </a:lnTo>
                  <a:lnTo>
                    <a:pt x="288" y="5325"/>
                  </a:lnTo>
                  <a:lnTo>
                    <a:pt x="305" y="5340"/>
                  </a:lnTo>
                  <a:lnTo>
                    <a:pt x="321" y="5356"/>
                  </a:lnTo>
                  <a:lnTo>
                    <a:pt x="338" y="5370"/>
                  </a:lnTo>
                  <a:close/>
                  <a:moveTo>
                    <a:pt x="880" y="4863"/>
                  </a:moveTo>
                  <a:lnTo>
                    <a:pt x="454" y="5452"/>
                  </a:lnTo>
                  <a:lnTo>
                    <a:pt x="472" y="5463"/>
                  </a:lnTo>
                  <a:lnTo>
                    <a:pt x="491" y="5473"/>
                  </a:lnTo>
                  <a:lnTo>
                    <a:pt x="509" y="5482"/>
                  </a:lnTo>
                  <a:lnTo>
                    <a:pt x="528" y="5491"/>
                  </a:lnTo>
                  <a:lnTo>
                    <a:pt x="547" y="5498"/>
                  </a:lnTo>
                  <a:lnTo>
                    <a:pt x="567" y="5505"/>
                  </a:lnTo>
                  <a:lnTo>
                    <a:pt x="586" y="5511"/>
                  </a:lnTo>
                  <a:lnTo>
                    <a:pt x="606" y="5516"/>
                  </a:lnTo>
                  <a:lnTo>
                    <a:pt x="608" y="5516"/>
                  </a:lnTo>
                  <a:lnTo>
                    <a:pt x="610" y="5516"/>
                  </a:lnTo>
                  <a:lnTo>
                    <a:pt x="611" y="5516"/>
                  </a:lnTo>
                  <a:lnTo>
                    <a:pt x="612" y="5517"/>
                  </a:lnTo>
                  <a:lnTo>
                    <a:pt x="614" y="5517"/>
                  </a:lnTo>
                  <a:lnTo>
                    <a:pt x="615" y="5518"/>
                  </a:lnTo>
                  <a:lnTo>
                    <a:pt x="616" y="5520"/>
                  </a:lnTo>
                  <a:lnTo>
                    <a:pt x="618" y="5522"/>
                  </a:lnTo>
                  <a:lnTo>
                    <a:pt x="1090" y="4858"/>
                  </a:lnTo>
                  <a:lnTo>
                    <a:pt x="1064" y="4858"/>
                  </a:lnTo>
                  <a:lnTo>
                    <a:pt x="1038" y="4858"/>
                  </a:lnTo>
                  <a:lnTo>
                    <a:pt x="1012" y="4858"/>
                  </a:lnTo>
                  <a:lnTo>
                    <a:pt x="986" y="4858"/>
                  </a:lnTo>
                  <a:lnTo>
                    <a:pt x="959" y="4859"/>
                  </a:lnTo>
                  <a:lnTo>
                    <a:pt x="933" y="4860"/>
                  </a:lnTo>
                  <a:lnTo>
                    <a:pt x="906" y="4861"/>
                  </a:lnTo>
                  <a:lnTo>
                    <a:pt x="880" y="4863"/>
                  </a:lnTo>
                  <a:close/>
                  <a:moveTo>
                    <a:pt x="1102" y="3760"/>
                  </a:moveTo>
                  <a:lnTo>
                    <a:pt x="1819" y="2753"/>
                  </a:lnTo>
                  <a:lnTo>
                    <a:pt x="1801" y="2742"/>
                  </a:lnTo>
                  <a:lnTo>
                    <a:pt x="1783" y="2730"/>
                  </a:lnTo>
                  <a:lnTo>
                    <a:pt x="1764" y="2719"/>
                  </a:lnTo>
                  <a:lnTo>
                    <a:pt x="1746" y="2707"/>
                  </a:lnTo>
                  <a:lnTo>
                    <a:pt x="1727" y="2697"/>
                  </a:lnTo>
                  <a:lnTo>
                    <a:pt x="1709" y="2684"/>
                  </a:lnTo>
                  <a:lnTo>
                    <a:pt x="1690" y="2672"/>
                  </a:lnTo>
                  <a:lnTo>
                    <a:pt x="1674" y="2659"/>
                  </a:lnTo>
                  <a:lnTo>
                    <a:pt x="1026" y="3569"/>
                  </a:lnTo>
                  <a:lnTo>
                    <a:pt x="1034" y="3593"/>
                  </a:lnTo>
                  <a:lnTo>
                    <a:pt x="1044" y="3617"/>
                  </a:lnTo>
                  <a:lnTo>
                    <a:pt x="1052" y="3640"/>
                  </a:lnTo>
                  <a:lnTo>
                    <a:pt x="1062" y="3664"/>
                  </a:lnTo>
                  <a:lnTo>
                    <a:pt x="1071" y="3689"/>
                  </a:lnTo>
                  <a:lnTo>
                    <a:pt x="1081" y="3713"/>
                  </a:lnTo>
                  <a:lnTo>
                    <a:pt x="1091" y="3737"/>
                  </a:lnTo>
                  <a:lnTo>
                    <a:pt x="1102" y="3760"/>
                  </a:lnTo>
                  <a:close/>
                  <a:moveTo>
                    <a:pt x="9912" y="5819"/>
                  </a:moveTo>
                  <a:lnTo>
                    <a:pt x="9643" y="6192"/>
                  </a:lnTo>
                  <a:lnTo>
                    <a:pt x="9660" y="6196"/>
                  </a:lnTo>
                  <a:lnTo>
                    <a:pt x="9678" y="6201"/>
                  </a:lnTo>
                  <a:lnTo>
                    <a:pt x="9697" y="6207"/>
                  </a:lnTo>
                  <a:lnTo>
                    <a:pt x="9717" y="6215"/>
                  </a:lnTo>
                  <a:lnTo>
                    <a:pt x="9738" y="6224"/>
                  </a:lnTo>
                  <a:lnTo>
                    <a:pt x="9760" y="6235"/>
                  </a:lnTo>
                  <a:lnTo>
                    <a:pt x="9783" y="6248"/>
                  </a:lnTo>
                  <a:lnTo>
                    <a:pt x="9807" y="6262"/>
                  </a:lnTo>
                  <a:lnTo>
                    <a:pt x="9982" y="6012"/>
                  </a:lnTo>
                  <a:lnTo>
                    <a:pt x="9977" y="6001"/>
                  </a:lnTo>
                  <a:lnTo>
                    <a:pt x="9973" y="5991"/>
                  </a:lnTo>
                  <a:lnTo>
                    <a:pt x="9969" y="5982"/>
                  </a:lnTo>
                  <a:lnTo>
                    <a:pt x="9965" y="5972"/>
                  </a:lnTo>
                  <a:lnTo>
                    <a:pt x="9962" y="5964"/>
                  </a:lnTo>
                  <a:lnTo>
                    <a:pt x="9958" y="5956"/>
                  </a:lnTo>
                  <a:lnTo>
                    <a:pt x="9954" y="5949"/>
                  </a:lnTo>
                  <a:lnTo>
                    <a:pt x="9952" y="5942"/>
                  </a:lnTo>
                  <a:lnTo>
                    <a:pt x="9947" y="5928"/>
                  </a:lnTo>
                  <a:lnTo>
                    <a:pt x="9943" y="5914"/>
                  </a:lnTo>
                  <a:lnTo>
                    <a:pt x="9938" y="5899"/>
                  </a:lnTo>
                  <a:lnTo>
                    <a:pt x="9932" y="5882"/>
                  </a:lnTo>
                  <a:lnTo>
                    <a:pt x="9927" y="5867"/>
                  </a:lnTo>
                  <a:lnTo>
                    <a:pt x="9921" y="5851"/>
                  </a:lnTo>
                  <a:lnTo>
                    <a:pt x="9916" y="5835"/>
                  </a:lnTo>
                  <a:lnTo>
                    <a:pt x="9912" y="5819"/>
                  </a:lnTo>
                  <a:close/>
                  <a:moveTo>
                    <a:pt x="9574" y="6292"/>
                  </a:moveTo>
                  <a:lnTo>
                    <a:pt x="8664" y="7563"/>
                  </a:lnTo>
                  <a:lnTo>
                    <a:pt x="8681" y="7565"/>
                  </a:lnTo>
                  <a:lnTo>
                    <a:pt x="8701" y="7569"/>
                  </a:lnTo>
                  <a:lnTo>
                    <a:pt x="8720" y="7573"/>
                  </a:lnTo>
                  <a:lnTo>
                    <a:pt x="8740" y="7579"/>
                  </a:lnTo>
                  <a:lnTo>
                    <a:pt x="8761" y="7588"/>
                  </a:lnTo>
                  <a:lnTo>
                    <a:pt x="8784" y="7598"/>
                  </a:lnTo>
                  <a:lnTo>
                    <a:pt x="8807" y="7611"/>
                  </a:lnTo>
                  <a:lnTo>
                    <a:pt x="8832" y="7627"/>
                  </a:lnTo>
                  <a:lnTo>
                    <a:pt x="9655" y="6473"/>
                  </a:lnTo>
                  <a:lnTo>
                    <a:pt x="9647" y="6447"/>
                  </a:lnTo>
                  <a:lnTo>
                    <a:pt x="9637" y="6423"/>
                  </a:lnTo>
                  <a:lnTo>
                    <a:pt x="9626" y="6400"/>
                  </a:lnTo>
                  <a:lnTo>
                    <a:pt x="9617" y="6378"/>
                  </a:lnTo>
                  <a:lnTo>
                    <a:pt x="9606" y="6356"/>
                  </a:lnTo>
                  <a:lnTo>
                    <a:pt x="9595" y="6335"/>
                  </a:lnTo>
                  <a:lnTo>
                    <a:pt x="9585" y="6314"/>
                  </a:lnTo>
                  <a:lnTo>
                    <a:pt x="9574" y="6292"/>
                  </a:lnTo>
                  <a:close/>
                  <a:moveTo>
                    <a:pt x="9713" y="6642"/>
                  </a:moveTo>
                  <a:lnTo>
                    <a:pt x="8944" y="7715"/>
                  </a:lnTo>
                  <a:lnTo>
                    <a:pt x="8960" y="7729"/>
                  </a:lnTo>
                  <a:lnTo>
                    <a:pt x="8974" y="7745"/>
                  </a:lnTo>
                  <a:lnTo>
                    <a:pt x="8989" y="7760"/>
                  </a:lnTo>
                  <a:lnTo>
                    <a:pt x="9005" y="7777"/>
                  </a:lnTo>
                  <a:lnTo>
                    <a:pt x="9020" y="7792"/>
                  </a:lnTo>
                  <a:lnTo>
                    <a:pt x="9036" y="7809"/>
                  </a:lnTo>
                  <a:lnTo>
                    <a:pt x="9051" y="7825"/>
                  </a:lnTo>
                  <a:lnTo>
                    <a:pt x="9067" y="7842"/>
                  </a:lnTo>
                  <a:lnTo>
                    <a:pt x="9761" y="6869"/>
                  </a:lnTo>
                  <a:lnTo>
                    <a:pt x="9754" y="6837"/>
                  </a:lnTo>
                  <a:lnTo>
                    <a:pt x="9748" y="6806"/>
                  </a:lnTo>
                  <a:lnTo>
                    <a:pt x="9740" y="6776"/>
                  </a:lnTo>
                  <a:lnTo>
                    <a:pt x="9735" y="6746"/>
                  </a:lnTo>
                  <a:lnTo>
                    <a:pt x="9729" y="6719"/>
                  </a:lnTo>
                  <a:lnTo>
                    <a:pt x="9724" y="6692"/>
                  </a:lnTo>
                  <a:lnTo>
                    <a:pt x="9718" y="6667"/>
                  </a:lnTo>
                  <a:lnTo>
                    <a:pt x="9713" y="6642"/>
                  </a:lnTo>
                  <a:close/>
                  <a:moveTo>
                    <a:pt x="8413" y="8647"/>
                  </a:moveTo>
                  <a:lnTo>
                    <a:pt x="8415" y="8660"/>
                  </a:lnTo>
                  <a:lnTo>
                    <a:pt x="8418" y="8672"/>
                  </a:lnTo>
                  <a:lnTo>
                    <a:pt x="8420" y="8682"/>
                  </a:lnTo>
                  <a:lnTo>
                    <a:pt x="8422" y="8693"/>
                  </a:lnTo>
                  <a:lnTo>
                    <a:pt x="8425" y="8704"/>
                  </a:lnTo>
                  <a:lnTo>
                    <a:pt x="8426" y="8713"/>
                  </a:lnTo>
                  <a:lnTo>
                    <a:pt x="8428" y="8724"/>
                  </a:lnTo>
                  <a:lnTo>
                    <a:pt x="8431" y="8735"/>
                  </a:lnTo>
                  <a:lnTo>
                    <a:pt x="8577" y="8524"/>
                  </a:lnTo>
                  <a:lnTo>
                    <a:pt x="8586" y="8480"/>
                  </a:lnTo>
                  <a:lnTo>
                    <a:pt x="8596" y="8435"/>
                  </a:lnTo>
                  <a:lnTo>
                    <a:pt x="8604" y="8390"/>
                  </a:lnTo>
                  <a:lnTo>
                    <a:pt x="8610" y="8345"/>
                  </a:lnTo>
                  <a:lnTo>
                    <a:pt x="8616" y="8300"/>
                  </a:lnTo>
                  <a:lnTo>
                    <a:pt x="8620" y="8255"/>
                  </a:lnTo>
                  <a:lnTo>
                    <a:pt x="8622" y="8212"/>
                  </a:lnTo>
                  <a:lnTo>
                    <a:pt x="8623" y="8169"/>
                  </a:lnTo>
                  <a:lnTo>
                    <a:pt x="8367" y="8524"/>
                  </a:lnTo>
                  <a:lnTo>
                    <a:pt x="8374" y="8540"/>
                  </a:lnTo>
                  <a:lnTo>
                    <a:pt x="8380" y="8555"/>
                  </a:lnTo>
                  <a:lnTo>
                    <a:pt x="8386" y="8571"/>
                  </a:lnTo>
                  <a:lnTo>
                    <a:pt x="8393" y="8586"/>
                  </a:lnTo>
                  <a:lnTo>
                    <a:pt x="8399" y="8602"/>
                  </a:lnTo>
                  <a:lnTo>
                    <a:pt x="8403" y="8617"/>
                  </a:lnTo>
                  <a:lnTo>
                    <a:pt x="8408" y="8632"/>
                  </a:lnTo>
                  <a:lnTo>
                    <a:pt x="8413" y="8647"/>
                  </a:lnTo>
                  <a:close/>
                  <a:moveTo>
                    <a:pt x="8589" y="7673"/>
                  </a:moveTo>
                  <a:lnTo>
                    <a:pt x="8174" y="8251"/>
                  </a:lnTo>
                  <a:lnTo>
                    <a:pt x="8187" y="8266"/>
                  </a:lnTo>
                  <a:lnTo>
                    <a:pt x="8201" y="8283"/>
                  </a:lnTo>
                  <a:lnTo>
                    <a:pt x="8216" y="8300"/>
                  </a:lnTo>
                  <a:lnTo>
                    <a:pt x="8230" y="8316"/>
                  </a:lnTo>
                  <a:lnTo>
                    <a:pt x="8244" y="8334"/>
                  </a:lnTo>
                  <a:lnTo>
                    <a:pt x="8258" y="8352"/>
                  </a:lnTo>
                  <a:lnTo>
                    <a:pt x="8271" y="8371"/>
                  </a:lnTo>
                  <a:lnTo>
                    <a:pt x="8285" y="8391"/>
                  </a:lnTo>
                  <a:lnTo>
                    <a:pt x="8611" y="7936"/>
                  </a:lnTo>
                  <a:lnTo>
                    <a:pt x="8609" y="7896"/>
                  </a:lnTo>
                  <a:lnTo>
                    <a:pt x="8607" y="7856"/>
                  </a:lnTo>
                  <a:lnTo>
                    <a:pt x="8603" y="7819"/>
                  </a:lnTo>
                  <a:lnTo>
                    <a:pt x="8599" y="7785"/>
                  </a:lnTo>
                  <a:lnTo>
                    <a:pt x="8597" y="7753"/>
                  </a:lnTo>
                  <a:lnTo>
                    <a:pt x="8594" y="7723"/>
                  </a:lnTo>
                  <a:lnTo>
                    <a:pt x="8591" y="7697"/>
                  </a:lnTo>
                  <a:lnTo>
                    <a:pt x="8589" y="7673"/>
                  </a:lnTo>
                  <a:close/>
                  <a:moveTo>
                    <a:pt x="9801" y="7137"/>
                  </a:moveTo>
                  <a:lnTo>
                    <a:pt x="9801" y="7129"/>
                  </a:lnTo>
                  <a:lnTo>
                    <a:pt x="9800" y="7121"/>
                  </a:lnTo>
                  <a:lnTo>
                    <a:pt x="9799" y="7112"/>
                  </a:lnTo>
                  <a:lnTo>
                    <a:pt x="9798" y="7105"/>
                  </a:lnTo>
                  <a:lnTo>
                    <a:pt x="9796" y="7097"/>
                  </a:lnTo>
                  <a:lnTo>
                    <a:pt x="9796" y="7090"/>
                  </a:lnTo>
                  <a:lnTo>
                    <a:pt x="9795" y="7081"/>
                  </a:lnTo>
                  <a:lnTo>
                    <a:pt x="9795" y="7073"/>
                  </a:lnTo>
                  <a:lnTo>
                    <a:pt x="9159" y="7964"/>
                  </a:lnTo>
                  <a:lnTo>
                    <a:pt x="9172" y="7982"/>
                  </a:lnTo>
                  <a:lnTo>
                    <a:pt x="9185" y="8000"/>
                  </a:lnTo>
                  <a:lnTo>
                    <a:pt x="9199" y="8018"/>
                  </a:lnTo>
                  <a:lnTo>
                    <a:pt x="9212" y="8036"/>
                  </a:lnTo>
                  <a:lnTo>
                    <a:pt x="9225" y="8054"/>
                  </a:lnTo>
                  <a:lnTo>
                    <a:pt x="9238" y="8073"/>
                  </a:lnTo>
                  <a:lnTo>
                    <a:pt x="9252" y="8092"/>
                  </a:lnTo>
                  <a:lnTo>
                    <a:pt x="9265" y="8111"/>
                  </a:lnTo>
                  <a:lnTo>
                    <a:pt x="9830" y="7318"/>
                  </a:lnTo>
                  <a:lnTo>
                    <a:pt x="9826" y="7295"/>
                  </a:lnTo>
                  <a:lnTo>
                    <a:pt x="9823" y="7273"/>
                  </a:lnTo>
                  <a:lnTo>
                    <a:pt x="9819" y="7250"/>
                  </a:lnTo>
                  <a:lnTo>
                    <a:pt x="9815" y="7228"/>
                  </a:lnTo>
                  <a:lnTo>
                    <a:pt x="9812" y="7205"/>
                  </a:lnTo>
                  <a:lnTo>
                    <a:pt x="9808" y="7181"/>
                  </a:lnTo>
                  <a:lnTo>
                    <a:pt x="9805" y="7159"/>
                  </a:lnTo>
                  <a:lnTo>
                    <a:pt x="9801" y="7137"/>
                  </a:lnTo>
                  <a:close/>
                  <a:moveTo>
                    <a:pt x="9906" y="8006"/>
                  </a:moveTo>
                  <a:lnTo>
                    <a:pt x="9527" y="8530"/>
                  </a:lnTo>
                  <a:lnTo>
                    <a:pt x="9537" y="8548"/>
                  </a:lnTo>
                  <a:lnTo>
                    <a:pt x="9548" y="8566"/>
                  </a:lnTo>
                  <a:lnTo>
                    <a:pt x="9557" y="8583"/>
                  </a:lnTo>
                  <a:lnTo>
                    <a:pt x="9567" y="8600"/>
                  </a:lnTo>
                  <a:lnTo>
                    <a:pt x="9576" y="8617"/>
                  </a:lnTo>
                  <a:lnTo>
                    <a:pt x="9585" y="8634"/>
                  </a:lnTo>
                  <a:lnTo>
                    <a:pt x="9594" y="8649"/>
                  </a:lnTo>
                  <a:lnTo>
                    <a:pt x="9603" y="8665"/>
                  </a:lnTo>
                  <a:lnTo>
                    <a:pt x="9607" y="8669"/>
                  </a:lnTo>
                  <a:lnTo>
                    <a:pt x="9611" y="8673"/>
                  </a:lnTo>
                  <a:lnTo>
                    <a:pt x="9613" y="8676"/>
                  </a:lnTo>
                  <a:lnTo>
                    <a:pt x="9617" y="8679"/>
                  </a:lnTo>
                  <a:lnTo>
                    <a:pt x="9619" y="8682"/>
                  </a:lnTo>
                  <a:lnTo>
                    <a:pt x="9622" y="8686"/>
                  </a:lnTo>
                  <a:lnTo>
                    <a:pt x="9624" y="8690"/>
                  </a:lnTo>
                  <a:lnTo>
                    <a:pt x="9626" y="8694"/>
                  </a:lnTo>
                  <a:lnTo>
                    <a:pt x="9935" y="8251"/>
                  </a:lnTo>
                  <a:lnTo>
                    <a:pt x="9931" y="8220"/>
                  </a:lnTo>
                  <a:lnTo>
                    <a:pt x="9927" y="8189"/>
                  </a:lnTo>
                  <a:lnTo>
                    <a:pt x="9924" y="8159"/>
                  </a:lnTo>
                  <a:lnTo>
                    <a:pt x="9920" y="8129"/>
                  </a:lnTo>
                  <a:lnTo>
                    <a:pt x="9918" y="8098"/>
                  </a:lnTo>
                  <a:lnTo>
                    <a:pt x="9914" y="8067"/>
                  </a:lnTo>
                  <a:lnTo>
                    <a:pt x="9910" y="8037"/>
                  </a:lnTo>
                  <a:lnTo>
                    <a:pt x="9906" y="8006"/>
                  </a:lnTo>
                  <a:close/>
                  <a:moveTo>
                    <a:pt x="7387" y="11283"/>
                  </a:moveTo>
                  <a:lnTo>
                    <a:pt x="7414" y="11295"/>
                  </a:lnTo>
                  <a:lnTo>
                    <a:pt x="7437" y="11304"/>
                  </a:lnTo>
                  <a:lnTo>
                    <a:pt x="7455" y="11313"/>
                  </a:lnTo>
                  <a:lnTo>
                    <a:pt x="7467" y="11319"/>
                  </a:lnTo>
                  <a:lnTo>
                    <a:pt x="7476" y="11323"/>
                  </a:lnTo>
                  <a:lnTo>
                    <a:pt x="7482" y="11327"/>
                  </a:lnTo>
                  <a:lnTo>
                    <a:pt x="7486" y="11329"/>
                  </a:lnTo>
                  <a:lnTo>
                    <a:pt x="7486" y="11329"/>
                  </a:lnTo>
                  <a:lnTo>
                    <a:pt x="7487" y="11326"/>
                  </a:lnTo>
                  <a:lnTo>
                    <a:pt x="7487" y="11314"/>
                  </a:lnTo>
                  <a:lnTo>
                    <a:pt x="7488" y="11295"/>
                  </a:lnTo>
                  <a:lnTo>
                    <a:pt x="7489" y="11270"/>
                  </a:lnTo>
                  <a:lnTo>
                    <a:pt x="7492" y="11240"/>
                  </a:lnTo>
                  <a:lnTo>
                    <a:pt x="7494" y="11205"/>
                  </a:lnTo>
                  <a:lnTo>
                    <a:pt x="7495" y="11164"/>
                  </a:lnTo>
                  <a:lnTo>
                    <a:pt x="7498" y="11119"/>
                  </a:lnTo>
                  <a:lnTo>
                    <a:pt x="7500" y="11086"/>
                  </a:lnTo>
                  <a:lnTo>
                    <a:pt x="7502" y="11051"/>
                  </a:lnTo>
                  <a:lnTo>
                    <a:pt x="7504" y="11014"/>
                  </a:lnTo>
                  <a:lnTo>
                    <a:pt x="7506" y="10976"/>
                  </a:lnTo>
                  <a:lnTo>
                    <a:pt x="7507" y="10938"/>
                  </a:lnTo>
                  <a:lnTo>
                    <a:pt x="7508" y="10898"/>
                  </a:lnTo>
                  <a:lnTo>
                    <a:pt x="7510" y="10858"/>
                  </a:lnTo>
                  <a:lnTo>
                    <a:pt x="7510" y="10816"/>
                  </a:lnTo>
                  <a:lnTo>
                    <a:pt x="7218" y="11219"/>
                  </a:lnTo>
                  <a:lnTo>
                    <a:pt x="7246" y="11230"/>
                  </a:lnTo>
                  <a:lnTo>
                    <a:pt x="7271" y="11239"/>
                  </a:lnTo>
                  <a:lnTo>
                    <a:pt x="7294" y="11247"/>
                  </a:lnTo>
                  <a:lnTo>
                    <a:pt x="7316" y="11256"/>
                  </a:lnTo>
                  <a:lnTo>
                    <a:pt x="7336" y="11263"/>
                  </a:lnTo>
                  <a:lnTo>
                    <a:pt x="7354" y="11270"/>
                  </a:lnTo>
                  <a:lnTo>
                    <a:pt x="7372" y="11276"/>
                  </a:lnTo>
                  <a:lnTo>
                    <a:pt x="7387" y="11283"/>
                  </a:lnTo>
                  <a:close/>
                  <a:moveTo>
                    <a:pt x="7078" y="11173"/>
                  </a:moveTo>
                  <a:lnTo>
                    <a:pt x="7504" y="10571"/>
                  </a:lnTo>
                  <a:lnTo>
                    <a:pt x="7502" y="10531"/>
                  </a:lnTo>
                  <a:lnTo>
                    <a:pt x="7504" y="10489"/>
                  </a:lnTo>
                  <a:lnTo>
                    <a:pt x="7507" y="10445"/>
                  </a:lnTo>
                  <a:lnTo>
                    <a:pt x="7512" y="10400"/>
                  </a:lnTo>
                  <a:lnTo>
                    <a:pt x="7519" y="10354"/>
                  </a:lnTo>
                  <a:lnTo>
                    <a:pt x="7527" y="10306"/>
                  </a:lnTo>
                  <a:lnTo>
                    <a:pt x="7538" y="10258"/>
                  </a:lnTo>
                  <a:lnTo>
                    <a:pt x="7550" y="10210"/>
                  </a:lnTo>
                  <a:lnTo>
                    <a:pt x="6926" y="11091"/>
                  </a:lnTo>
                  <a:lnTo>
                    <a:pt x="6944" y="11101"/>
                  </a:lnTo>
                  <a:lnTo>
                    <a:pt x="6962" y="11112"/>
                  </a:lnTo>
                  <a:lnTo>
                    <a:pt x="6979" y="11123"/>
                  </a:lnTo>
                  <a:lnTo>
                    <a:pt x="6998" y="11133"/>
                  </a:lnTo>
                  <a:lnTo>
                    <a:pt x="7016" y="11144"/>
                  </a:lnTo>
                  <a:lnTo>
                    <a:pt x="7037" y="11154"/>
                  </a:lnTo>
                  <a:lnTo>
                    <a:pt x="7057" y="11163"/>
                  </a:lnTo>
                  <a:lnTo>
                    <a:pt x="7078" y="11173"/>
                  </a:lnTo>
                  <a:close/>
                  <a:moveTo>
                    <a:pt x="1375" y="1597"/>
                  </a:moveTo>
                  <a:lnTo>
                    <a:pt x="1385" y="1569"/>
                  </a:lnTo>
                  <a:lnTo>
                    <a:pt x="1393" y="1547"/>
                  </a:lnTo>
                  <a:lnTo>
                    <a:pt x="1398" y="1532"/>
                  </a:lnTo>
                  <a:lnTo>
                    <a:pt x="1402" y="1521"/>
                  </a:lnTo>
                  <a:lnTo>
                    <a:pt x="1404" y="1515"/>
                  </a:lnTo>
                  <a:lnTo>
                    <a:pt x="1404" y="1512"/>
                  </a:lnTo>
                  <a:lnTo>
                    <a:pt x="1405" y="1510"/>
                  </a:lnTo>
                  <a:lnTo>
                    <a:pt x="1405" y="1510"/>
                  </a:lnTo>
                  <a:lnTo>
                    <a:pt x="1391" y="1527"/>
                  </a:lnTo>
                  <a:lnTo>
                    <a:pt x="1350" y="1575"/>
                  </a:lnTo>
                  <a:lnTo>
                    <a:pt x="1323" y="1609"/>
                  </a:lnTo>
                  <a:lnTo>
                    <a:pt x="1292" y="1651"/>
                  </a:lnTo>
                  <a:lnTo>
                    <a:pt x="1257" y="1699"/>
                  </a:lnTo>
                  <a:lnTo>
                    <a:pt x="1220" y="1754"/>
                  </a:lnTo>
                  <a:lnTo>
                    <a:pt x="1180" y="1814"/>
                  </a:lnTo>
                  <a:lnTo>
                    <a:pt x="1141" y="1880"/>
                  </a:lnTo>
                  <a:lnTo>
                    <a:pt x="1121" y="1915"/>
                  </a:lnTo>
                  <a:lnTo>
                    <a:pt x="1101" y="1951"/>
                  </a:lnTo>
                  <a:lnTo>
                    <a:pt x="1081" y="1988"/>
                  </a:lnTo>
                  <a:lnTo>
                    <a:pt x="1060" y="2026"/>
                  </a:lnTo>
                  <a:lnTo>
                    <a:pt x="1041" y="2067"/>
                  </a:lnTo>
                  <a:lnTo>
                    <a:pt x="1022" y="2107"/>
                  </a:lnTo>
                  <a:lnTo>
                    <a:pt x="1003" y="2149"/>
                  </a:lnTo>
                  <a:lnTo>
                    <a:pt x="986" y="2193"/>
                  </a:lnTo>
                  <a:lnTo>
                    <a:pt x="968" y="2235"/>
                  </a:lnTo>
                  <a:lnTo>
                    <a:pt x="951" y="2281"/>
                  </a:lnTo>
                  <a:lnTo>
                    <a:pt x="936" y="2327"/>
                  </a:lnTo>
                  <a:lnTo>
                    <a:pt x="921" y="2373"/>
                  </a:lnTo>
                  <a:lnTo>
                    <a:pt x="1329" y="1808"/>
                  </a:lnTo>
                  <a:lnTo>
                    <a:pt x="1330" y="1787"/>
                  </a:lnTo>
                  <a:lnTo>
                    <a:pt x="1333" y="1766"/>
                  </a:lnTo>
                  <a:lnTo>
                    <a:pt x="1336" y="1742"/>
                  </a:lnTo>
                  <a:lnTo>
                    <a:pt x="1342" y="1718"/>
                  </a:lnTo>
                  <a:lnTo>
                    <a:pt x="1348" y="1691"/>
                  </a:lnTo>
                  <a:lnTo>
                    <a:pt x="1356" y="1663"/>
                  </a:lnTo>
                  <a:lnTo>
                    <a:pt x="1366" y="1632"/>
                  </a:lnTo>
                  <a:lnTo>
                    <a:pt x="1375" y="1597"/>
                  </a:lnTo>
                  <a:close/>
                  <a:moveTo>
                    <a:pt x="123" y="5125"/>
                  </a:moveTo>
                  <a:lnTo>
                    <a:pt x="203" y="5008"/>
                  </a:lnTo>
                  <a:lnTo>
                    <a:pt x="195" y="5006"/>
                  </a:lnTo>
                  <a:lnTo>
                    <a:pt x="187" y="5004"/>
                  </a:lnTo>
                  <a:lnTo>
                    <a:pt x="180" y="5001"/>
                  </a:lnTo>
                  <a:lnTo>
                    <a:pt x="171" y="4999"/>
                  </a:lnTo>
                  <a:lnTo>
                    <a:pt x="163" y="4997"/>
                  </a:lnTo>
                  <a:lnTo>
                    <a:pt x="154" y="4993"/>
                  </a:lnTo>
                  <a:lnTo>
                    <a:pt x="144" y="4989"/>
                  </a:lnTo>
                  <a:lnTo>
                    <a:pt x="135" y="4986"/>
                  </a:lnTo>
                  <a:lnTo>
                    <a:pt x="119" y="4979"/>
                  </a:lnTo>
                  <a:lnTo>
                    <a:pt x="105" y="4973"/>
                  </a:lnTo>
                  <a:lnTo>
                    <a:pt x="93" y="4968"/>
                  </a:lnTo>
                  <a:lnTo>
                    <a:pt x="81" y="4963"/>
                  </a:lnTo>
                  <a:lnTo>
                    <a:pt x="69" y="4959"/>
                  </a:lnTo>
                  <a:lnTo>
                    <a:pt x="60" y="4954"/>
                  </a:lnTo>
                  <a:lnTo>
                    <a:pt x="50" y="4949"/>
                  </a:lnTo>
                  <a:lnTo>
                    <a:pt x="41" y="4944"/>
                  </a:lnTo>
                  <a:lnTo>
                    <a:pt x="28" y="4938"/>
                  </a:lnTo>
                  <a:lnTo>
                    <a:pt x="17" y="4935"/>
                  </a:lnTo>
                  <a:lnTo>
                    <a:pt x="10" y="4931"/>
                  </a:lnTo>
                  <a:lnTo>
                    <a:pt x="5" y="4929"/>
                  </a:lnTo>
                  <a:lnTo>
                    <a:pt x="1" y="4928"/>
                  </a:lnTo>
                  <a:lnTo>
                    <a:pt x="0" y="4928"/>
                  </a:lnTo>
                  <a:lnTo>
                    <a:pt x="0" y="4928"/>
                  </a:lnTo>
                  <a:lnTo>
                    <a:pt x="0" y="4928"/>
                  </a:lnTo>
                  <a:lnTo>
                    <a:pt x="0" y="4928"/>
                  </a:lnTo>
                  <a:lnTo>
                    <a:pt x="1" y="4930"/>
                  </a:lnTo>
                  <a:lnTo>
                    <a:pt x="3" y="4934"/>
                  </a:lnTo>
                  <a:lnTo>
                    <a:pt x="5" y="4938"/>
                  </a:lnTo>
                  <a:lnTo>
                    <a:pt x="9" y="4944"/>
                  </a:lnTo>
                  <a:lnTo>
                    <a:pt x="12" y="4951"/>
                  </a:lnTo>
                  <a:lnTo>
                    <a:pt x="17" y="4960"/>
                  </a:lnTo>
                  <a:lnTo>
                    <a:pt x="23" y="4968"/>
                  </a:lnTo>
                  <a:lnTo>
                    <a:pt x="30" y="4985"/>
                  </a:lnTo>
                  <a:lnTo>
                    <a:pt x="39" y="5001"/>
                  </a:lnTo>
                  <a:lnTo>
                    <a:pt x="50" y="5020"/>
                  </a:lnTo>
                  <a:lnTo>
                    <a:pt x="62" y="5041"/>
                  </a:lnTo>
                  <a:lnTo>
                    <a:pt x="75" y="5061"/>
                  </a:lnTo>
                  <a:lnTo>
                    <a:pt x="89" y="5082"/>
                  </a:lnTo>
                  <a:lnTo>
                    <a:pt x="105" y="5104"/>
                  </a:lnTo>
                  <a:lnTo>
                    <a:pt x="123" y="5125"/>
                  </a:lnTo>
                  <a:close/>
                  <a:moveTo>
                    <a:pt x="10104" y="8811"/>
                  </a:moveTo>
                  <a:lnTo>
                    <a:pt x="9958" y="9020"/>
                  </a:lnTo>
                  <a:lnTo>
                    <a:pt x="9968" y="9022"/>
                  </a:lnTo>
                  <a:lnTo>
                    <a:pt x="9977" y="9024"/>
                  </a:lnTo>
                  <a:lnTo>
                    <a:pt x="9987" y="9025"/>
                  </a:lnTo>
                  <a:lnTo>
                    <a:pt x="9997" y="9026"/>
                  </a:lnTo>
                  <a:lnTo>
                    <a:pt x="10009" y="9026"/>
                  </a:lnTo>
                  <a:lnTo>
                    <a:pt x="10021" y="9026"/>
                  </a:lnTo>
                  <a:lnTo>
                    <a:pt x="10033" y="9026"/>
                  </a:lnTo>
                  <a:lnTo>
                    <a:pt x="10046" y="9026"/>
                  </a:lnTo>
                  <a:lnTo>
                    <a:pt x="10063" y="9026"/>
                  </a:lnTo>
                  <a:lnTo>
                    <a:pt x="10079" y="9026"/>
                  </a:lnTo>
                  <a:lnTo>
                    <a:pt x="10096" y="9026"/>
                  </a:lnTo>
                  <a:lnTo>
                    <a:pt x="10110" y="9026"/>
                  </a:lnTo>
                  <a:lnTo>
                    <a:pt x="10126" y="9026"/>
                  </a:lnTo>
                  <a:lnTo>
                    <a:pt x="10139" y="9026"/>
                  </a:lnTo>
                  <a:lnTo>
                    <a:pt x="10151" y="9026"/>
                  </a:lnTo>
                  <a:lnTo>
                    <a:pt x="10162" y="9026"/>
                  </a:lnTo>
                  <a:lnTo>
                    <a:pt x="10200" y="9024"/>
                  </a:lnTo>
                  <a:lnTo>
                    <a:pt x="10233" y="9021"/>
                  </a:lnTo>
                  <a:lnTo>
                    <a:pt x="10259" y="9019"/>
                  </a:lnTo>
                  <a:lnTo>
                    <a:pt x="10280" y="9015"/>
                  </a:lnTo>
                  <a:lnTo>
                    <a:pt x="10296" y="9013"/>
                  </a:lnTo>
                  <a:lnTo>
                    <a:pt x="10306" y="9010"/>
                  </a:lnTo>
                  <a:lnTo>
                    <a:pt x="10312" y="9009"/>
                  </a:lnTo>
                  <a:lnTo>
                    <a:pt x="10315" y="9009"/>
                  </a:lnTo>
                  <a:lnTo>
                    <a:pt x="10312" y="9008"/>
                  </a:lnTo>
                  <a:lnTo>
                    <a:pt x="10306" y="9006"/>
                  </a:lnTo>
                  <a:lnTo>
                    <a:pt x="10298" y="9001"/>
                  </a:lnTo>
                  <a:lnTo>
                    <a:pt x="10287" y="8994"/>
                  </a:lnTo>
                  <a:lnTo>
                    <a:pt x="10273" y="8986"/>
                  </a:lnTo>
                  <a:lnTo>
                    <a:pt x="10258" y="8975"/>
                  </a:lnTo>
                  <a:lnTo>
                    <a:pt x="10240" y="8961"/>
                  </a:lnTo>
                  <a:lnTo>
                    <a:pt x="10221" y="8945"/>
                  </a:lnTo>
                  <a:lnTo>
                    <a:pt x="10208" y="8933"/>
                  </a:lnTo>
                  <a:lnTo>
                    <a:pt x="10193" y="8920"/>
                  </a:lnTo>
                  <a:lnTo>
                    <a:pt x="10179" y="8905"/>
                  </a:lnTo>
                  <a:lnTo>
                    <a:pt x="10165" y="8888"/>
                  </a:lnTo>
                  <a:lnTo>
                    <a:pt x="10149" y="8871"/>
                  </a:lnTo>
                  <a:lnTo>
                    <a:pt x="10135" y="8852"/>
                  </a:lnTo>
                  <a:lnTo>
                    <a:pt x="10120" y="8832"/>
                  </a:lnTo>
                  <a:lnTo>
                    <a:pt x="10104" y="8811"/>
                  </a:lnTo>
                  <a:close/>
                  <a:moveTo>
                    <a:pt x="9970" y="8460"/>
                  </a:moveTo>
                  <a:lnTo>
                    <a:pt x="9707" y="8823"/>
                  </a:lnTo>
                  <a:lnTo>
                    <a:pt x="9723" y="8845"/>
                  </a:lnTo>
                  <a:lnTo>
                    <a:pt x="9737" y="8867"/>
                  </a:lnTo>
                  <a:lnTo>
                    <a:pt x="9751" y="8886"/>
                  </a:lnTo>
                  <a:lnTo>
                    <a:pt x="9765" y="8903"/>
                  </a:lnTo>
                  <a:lnTo>
                    <a:pt x="9780" y="8919"/>
                  </a:lnTo>
                  <a:lnTo>
                    <a:pt x="9795" y="8934"/>
                  </a:lnTo>
                  <a:lnTo>
                    <a:pt x="9809" y="8949"/>
                  </a:lnTo>
                  <a:lnTo>
                    <a:pt x="9824" y="8962"/>
                  </a:lnTo>
                  <a:lnTo>
                    <a:pt x="10028" y="8671"/>
                  </a:lnTo>
                  <a:lnTo>
                    <a:pt x="10020" y="8647"/>
                  </a:lnTo>
                  <a:lnTo>
                    <a:pt x="10011" y="8622"/>
                  </a:lnTo>
                  <a:lnTo>
                    <a:pt x="10003" y="8596"/>
                  </a:lnTo>
                  <a:lnTo>
                    <a:pt x="9995" y="8569"/>
                  </a:lnTo>
                  <a:lnTo>
                    <a:pt x="9988" y="8543"/>
                  </a:lnTo>
                  <a:lnTo>
                    <a:pt x="9981" y="8516"/>
                  </a:lnTo>
                  <a:lnTo>
                    <a:pt x="9975" y="8489"/>
                  </a:lnTo>
                  <a:lnTo>
                    <a:pt x="9970" y="8460"/>
                  </a:lnTo>
                  <a:close/>
                  <a:moveTo>
                    <a:pt x="2070" y="10017"/>
                  </a:moveTo>
                  <a:lnTo>
                    <a:pt x="2116" y="9953"/>
                  </a:lnTo>
                  <a:lnTo>
                    <a:pt x="2072" y="9958"/>
                  </a:lnTo>
                  <a:lnTo>
                    <a:pt x="2034" y="9960"/>
                  </a:lnTo>
                  <a:lnTo>
                    <a:pt x="2003" y="9963"/>
                  </a:lnTo>
                  <a:lnTo>
                    <a:pt x="1978" y="9964"/>
                  </a:lnTo>
                  <a:lnTo>
                    <a:pt x="1959" y="9965"/>
                  </a:lnTo>
                  <a:lnTo>
                    <a:pt x="1946" y="9965"/>
                  </a:lnTo>
                  <a:lnTo>
                    <a:pt x="1938" y="9965"/>
                  </a:lnTo>
                  <a:lnTo>
                    <a:pt x="1935" y="9965"/>
                  </a:lnTo>
                  <a:lnTo>
                    <a:pt x="1938" y="9966"/>
                  </a:lnTo>
                  <a:lnTo>
                    <a:pt x="1945" y="9970"/>
                  </a:lnTo>
                  <a:lnTo>
                    <a:pt x="1957" y="9974"/>
                  </a:lnTo>
                  <a:lnTo>
                    <a:pt x="1972" y="9980"/>
                  </a:lnTo>
                  <a:lnTo>
                    <a:pt x="1991" y="9989"/>
                  </a:lnTo>
                  <a:lnTo>
                    <a:pt x="2014" y="9997"/>
                  </a:lnTo>
                  <a:lnTo>
                    <a:pt x="2040" y="10007"/>
                  </a:lnTo>
                  <a:lnTo>
                    <a:pt x="2070" y="10017"/>
                  </a:lnTo>
                  <a:close/>
                  <a:moveTo>
                    <a:pt x="2600" y="23"/>
                  </a:moveTo>
                  <a:lnTo>
                    <a:pt x="2578" y="19"/>
                  </a:lnTo>
                  <a:lnTo>
                    <a:pt x="2557" y="15"/>
                  </a:lnTo>
                  <a:lnTo>
                    <a:pt x="2534" y="12"/>
                  </a:lnTo>
                  <a:lnTo>
                    <a:pt x="2512" y="9"/>
                  </a:lnTo>
                  <a:lnTo>
                    <a:pt x="2489" y="7"/>
                  </a:lnTo>
                  <a:lnTo>
                    <a:pt x="2466" y="7"/>
                  </a:lnTo>
                  <a:lnTo>
                    <a:pt x="2443" y="8"/>
                  </a:lnTo>
                  <a:lnTo>
                    <a:pt x="2419" y="12"/>
                  </a:lnTo>
                  <a:lnTo>
                    <a:pt x="2421" y="15"/>
                  </a:lnTo>
                  <a:lnTo>
                    <a:pt x="2426" y="23"/>
                  </a:lnTo>
                  <a:lnTo>
                    <a:pt x="2432" y="38"/>
                  </a:lnTo>
                  <a:lnTo>
                    <a:pt x="2442" y="57"/>
                  </a:lnTo>
                  <a:lnTo>
                    <a:pt x="2452" y="82"/>
                  </a:lnTo>
                  <a:lnTo>
                    <a:pt x="2464" y="110"/>
                  </a:lnTo>
                  <a:lnTo>
                    <a:pt x="2476" y="144"/>
                  </a:lnTo>
                  <a:lnTo>
                    <a:pt x="2489" y="180"/>
                  </a:lnTo>
                  <a:lnTo>
                    <a:pt x="2600" y="23"/>
                  </a:lnTo>
                  <a:close/>
                  <a:moveTo>
                    <a:pt x="6582" y="10478"/>
                  </a:moveTo>
                  <a:lnTo>
                    <a:pt x="6587" y="10507"/>
                  </a:lnTo>
                  <a:lnTo>
                    <a:pt x="6592" y="10534"/>
                  </a:lnTo>
                  <a:lnTo>
                    <a:pt x="6598" y="10562"/>
                  </a:lnTo>
                  <a:lnTo>
                    <a:pt x="6605" y="10588"/>
                  </a:lnTo>
                  <a:lnTo>
                    <a:pt x="6612" y="10615"/>
                  </a:lnTo>
                  <a:lnTo>
                    <a:pt x="6621" y="10641"/>
                  </a:lnTo>
                  <a:lnTo>
                    <a:pt x="6630" y="10667"/>
                  </a:lnTo>
                  <a:lnTo>
                    <a:pt x="6641" y="10694"/>
                  </a:lnTo>
                  <a:lnTo>
                    <a:pt x="8046" y="8723"/>
                  </a:lnTo>
                  <a:lnTo>
                    <a:pt x="8054" y="8672"/>
                  </a:lnTo>
                  <a:lnTo>
                    <a:pt x="8061" y="8622"/>
                  </a:lnTo>
                  <a:lnTo>
                    <a:pt x="8067" y="8574"/>
                  </a:lnTo>
                  <a:lnTo>
                    <a:pt x="8072" y="8529"/>
                  </a:lnTo>
                  <a:lnTo>
                    <a:pt x="8077" y="8487"/>
                  </a:lnTo>
                  <a:lnTo>
                    <a:pt x="8079" y="8447"/>
                  </a:lnTo>
                  <a:lnTo>
                    <a:pt x="8080" y="8411"/>
                  </a:lnTo>
                  <a:lnTo>
                    <a:pt x="8081" y="8379"/>
                  </a:lnTo>
                  <a:lnTo>
                    <a:pt x="6582" y="10478"/>
                  </a:lnTo>
                  <a:close/>
                  <a:moveTo>
                    <a:pt x="11218" y="5079"/>
                  </a:moveTo>
                  <a:lnTo>
                    <a:pt x="10652" y="5871"/>
                  </a:lnTo>
                  <a:lnTo>
                    <a:pt x="10676" y="5874"/>
                  </a:lnTo>
                  <a:lnTo>
                    <a:pt x="10701" y="5877"/>
                  </a:lnTo>
                  <a:lnTo>
                    <a:pt x="10725" y="5880"/>
                  </a:lnTo>
                  <a:lnTo>
                    <a:pt x="10748" y="5883"/>
                  </a:lnTo>
                  <a:lnTo>
                    <a:pt x="10772" y="5887"/>
                  </a:lnTo>
                  <a:lnTo>
                    <a:pt x="10797" y="5889"/>
                  </a:lnTo>
                  <a:lnTo>
                    <a:pt x="10821" y="5893"/>
                  </a:lnTo>
                  <a:lnTo>
                    <a:pt x="10845" y="5895"/>
                  </a:lnTo>
                  <a:lnTo>
                    <a:pt x="11369" y="5167"/>
                  </a:lnTo>
                  <a:lnTo>
                    <a:pt x="11350" y="5155"/>
                  </a:lnTo>
                  <a:lnTo>
                    <a:pt x="11331" y="5144"/>
                  </a:lnTo>
                  <a:lnTo>
                    <a:pt x="11312" y="5133"/>
                  </a:lnTo>
                  <a:lnTo>
                    <a:pt x="11294" y="5123"/>
                  </a:lnTo>
                  <a:lnTo>
                    <a:pt x="11275" y="5112"/>
                  </a:lnTo>
                  <a:lnTo>
                    <a:pt x="11256" y="5101"/>
                  </a:lnTo>
                  <a:lnTo>
                    <a:pt x="11237" y="5089"/>
                  </a:lnTo>
                  <a:lnTo>
                    <a:pt x="11218" y="5079"/>
                  </a:lnTo>
                  <a:close/>
                  <a:moveTo>
                    <a:pt x="10937" y="4928"/>
                  </a:moveTo>
                  <a:lnTo>
                    <a:pt x="10319" y="5796"/>
                  </a:lnTo>
                  <a:lnTo>
                    <a:pt x="10342" y="5802"/>
                  </a:lnTo>
                  <a:lnTo>
                    <a:pt x="10364" y="5808"/>
                  </a:lnTo>
                  <a:lnTo>
                    <a:pt x="10387" y="5816"/>
                  </a:lnTo>
                  <a:lnTo>
                    <a:pt x="10410" y="5821"/>
                  </a:lnTo>
                  <a:lnTo>
                    <a:pt x="10432" y="5827"/>
                  </a:lnTo>
                  <a:lnTo>
                    <a:pt x="10454" y="5833"/>
                  </a:lnTo>
                  <a:lnTo>
                    <a:pt x="10475" y="5838"/>
                  </a:lnTo>
                  <a:lnTo>
                    <a:pt x="10495" y="5843"/>
                  </a:lnTo>
                  <a:lnTo>
                    <a:pt x="11090" y="5008"/>
                  </a:lnTo>
                  <a:lnTo>
                    <a:pt x="11070" y="5000"/>
                  </a:lnTo>
                  <a:lnTo>
                    <a:pt x="11051" y="4991"/>
                  </a:lnTo>
                  <a:lnTo>
                    <a:pt x="11032" y="4980"/>
                  </a:lnTo>
                  <a:lnTo>
                    <a:pt x="11013" y="4970"/>
                  </a:lnTo>
                  <a:lnTo>
                    <a:pt x="10996" y="4960"/>
                  </a:lnTo>
                  <a:lnTo>
                    <a:pt x="10977" y="4949"/>
                  </a:lnTo>
                  <a:lnTo>
                    <a:pt x="10958" y="4938"/>
                  </a:lnTo>
                  <a:lnTo>
                    <a:pt x="10937" y="4928"/>
                  </a:lnTo>
                  <a:close/>
                  <a:moveTo>
                    <a:pt x="11760" y="5411"/>
                  </a:moveTo>
                  <a:lnTo>
                    <a:pt x="11381" y="5936"/>
                  </a:lnTo>
                  <a:lnTo>
                    <a:pt x="11385" y="5936"/>
                  </a:lnTo>
                  <a:lnTo>
                    <a:pt x="11390" y="5937"/>
                  </a:lnTo>
                  <a:lnTo>
                    <a:pt x="11396" y="5938"/>
                  </a:lnTo>
                  <a:lnTo>
                    <a:pt x="11401" y="5939"/>
                  </a:lnTo>
                  <a:lnTo>
                    <a:pt x="11407" y="5940"/>
                  </a:lnTo>
                  <a:lnTo>
                    <a:pt x="11412" y="5940"/>
                  </a:lnTo>
                  <a:lnTo>
                    <a:pt x="11418" y="5942"/>
                  </a:lnTo>
                  <a:lnTo>
                    <a:pt x="11422" y="5942"/>
                  </a:lnTo>
                  <a:lnTo>
                    <a:pt x="11445" y="5942"/>
                  </a:lnTo>
                  <a:lnTo>
                    <a:pt x="11467" y="5942"/>
                  </a:lnTo>
                  <a:lnTo>
                    <a:pt x="11490" y="5942"/>
                  </a:lnTo>
                  <a:lnTo>
                    <a:pt x="11510" y="5942"/>
                  </a:lnTo>
                  <a:lnTo>
                    <a:pt x="11532" y="5942"/>
                  </a:lnTo>
                  <a:lnTo>
                    <a:pt x="11552" y="5942"/>
                  </a:lnTo>
                  <a:lnTo>
                    <a:pt x="11571" y="5942"/>
                  </a:lnTo>
                  <a:lnTo>
                    <a:pt x="11591" y="5942"/>
                  </a:lnTo>
                  <a:lnTo>
                    <a:pt x="11900" y="5510"/>
                  </a:lnTo>
                  <a:lnTo>
                    <a:pt x="11882" y="5497"/>
                  </a:lnTo>
                  <a:lnTo>
                    <a:pt x="11864" y="5484"/>
                  </a:lnTo>
                  <a:lnTo>
                    <a:pt x="11848" y="5471"/>
                  </a:lnTo>
                  <a:lnTo>
                    <a:pt x="11830" y="5459"/>
                  </a:lnTo>
                  <a:lnTo>
                    <a:pt x="11812" y="5446"/>
                  </a:lnTo>
                  <a:lnTo>
                    <a:pt x="11796" y="5434"/>
                  </a:lnTo>
                  <a:lnTo>
                    <a:pt x="11778" y="5422"/>
                  </a:lnTo>
                  <a:lnTo>
                    <a:pt x="11760" y="5411"/>
                  </a:lnTo>
                  <a:close/>
                  <a:moveTo>
                    <a:pt x="6815" y="10992"/>
                  </a:moveTo>
                  <a:lnTo>
                    <a:pt x="7725" y="9714"/>
                  </a:lnTo>
                  <a:lnTo>
                    <a:pt x="7735" y="9694"/>
                  </a:lnTo>
                  <a:lnTo>
                    <a:pt x="7746" y="9674"/>
                  </a:lnTo>
                  <a:lnTo>
                    <a:pt x="7757" y="9653"/>
                  </a:lnTo>
                  <a:lnTo>
                    <a:pt x="7766" y="9633"/>
                  </a:lnTo>
                  <a:lnTo>
                    <a:pt x="7776" y="9613"/>
                  </a:lnTo>
                  <a:lnTo>
                    <a:pt x="7787" y="9594"/>
                  </a:lnTo>
                  <a:lnTo>
                    <a:pt x="7796" y="9575"/>
                  </a:lnTo>
                  <a:lnTo>
                    <a:pt x="7807" y="9557"/>
                  </a:lnTo>
                  <a:lnTo>
                    <a:pt x="7819" y="9533"/>
                  </a:lnTo>
                  <a:lnTo>
                    <a:pt x="7830" y="9508"/>
                  </a:lnTo>
                  <a:lnTo>
                    <a:pt x="7842" y="9482"/>
                  </a:lnTo>
                  <a:lnTo>
                    <a:pt x="7854" y="9456"/>
                  </a:lnTo>
                  <a:lnTo>
                    <a:pt x="7877" y="9399"/>
                  </a:lnTo>
                  <a:lnTo>
                    <a:pt x="7898" y="9339"/>
                  </a:lnTo>
                  <a:lnTo>
                    <a:pt x="7918" y="9276"/>
                  </a:lnTo>
                  <a:lnTo>
                    <a:pt x="7939" y="9210"/>
                  </a:lnTo>
                  <a:lnTo>
                    <a:pt x="7958" y="9142"/>
                  </a:lnTo>
                  <a:lnTo>
                    <a:pt x="7975" y="9073"/>
                  </a:lnTo>
                  <a:lnTo>
                    <a:pt x="6711" y="10846"/>
                  </a:lnTo>
                  <a:lnTo>
                    <a:pt x="6722" y="10865"/>
                  </a:lnTo>
                  <a:lnTo>
                    <a:pt x="6733" y="10884"/>
                  </a:lnTo>
                  <a:lnTo>
                    <a:pt x="6747" y="10903"/>
                  </a:lnTo>
                  <a:lnTo>
                    <a:pt x="6758" y="10921"/>
                  </a:lnTo>
                  <a:lnTo>
                    <a:pt x="6773" y="10938"/>
                  </a:lnTo>
                  <a:lnTo>
                    <a:pt x="6786" y="10956"/>
                  </a:lnTo>
                  <a:lnTo>
                    <a:pt x="6801" y="10974"/>
                  </a:lnTo>
                  <a:lnTo>
                    <a:pt x="6815" y="10992"/>
                  </a:lnTo>
                  <a:close/>
                  <a:moveTo>
                    <a:pt x="11492" y="5237"/>
                  </a:moveTo>
                  <a:lnTo>
                    <a:pt x="11013" y="5913"/>
                  </a:lnTo>
                  <a:lnTo>
                    <a:pt x="11038" y="5914"/>
                  </a:lnTo>
                  <a:lnTo>
                    <a:pt x="11062" y="5917"/>
                  </a:lnTo>
                  <a:lnTo>
                    <a:pt x="11087" y="5919"/>
                  </a:lnTo>
                  <a:lnTo>
                    <a:pt x="11113" y="5921"/>
                  </a:lnTo>
                  <a:lnTo>
                    <a:pt x="11138" y="5924"/>
                  </a:lnTo>
                  <a:lnTo>
                    <a:pt x="11163" y="5926"/>
                  </a:lnTo>
                  <a:lnTo>
                    <a:pt x="11188" y="5928"/>
                  </a:lnTo>
                  <a:lnTo>
                    <a:pt x="11212" y="5930"/>
                  </a:lnTo>
                  <a:lnTo>
                    <a:pt x="11637" y="5329"/>
                  </a:lnTo>
                  <a:lnTo>
                    <a:pt x="11620" y="5316"/>
                  </a:lnTo>
                  <a:lnTo>
                    <a:pt x="11603" y="5304"/>
                  </a:lnTo>
                  <a:lnTo>
                    <a:pt x="11585" y="5293"/>
                  </a:lnTo>
                  <a:lnTo>
                    <a:pt x="11567" y="5281"/>
                  </a:lnTo>
                  <a:lnTo>
                    <a:pt x="11548" y="5269"/>
                  </a:lnTo>
                  <a:lnTo>
                    <a:pt x="11530" y="5258"/>
                  </a:lnTo>
                  <a:lnTo>
                    <a:pt x="11511" y="5247"/>
                  </a:lnTo>
                  <a:lnTo>
                    <a:pt x="11492" y="5237"/>
                  </a:lnTo>
                  <a:close/>
                  <a:moveTo>
                    <a:pt x="10810" y="4858"/>
                  </a:moveTo>
                  <a:lnTo>
                    <a:pt x="10790" y="4847"/>
                  </a:lnTo>
                  <a:lnTo>
                    <a:pt x="10771" y="4835"/>
                  </a:lnTo>
                  <a:lnTo>
                    <a:pt x="10753" y="4824"/>
                  </a:lnTo>
                  <a:lnTo>
                    <a:pt x="10734" y="4812"/>
                  </a:lnTo>
                  <a:lnTo>
                    <a:pt x="10716" y="4802"/>
                  </a:lnTo>
                  <a:lnTo>
                    <a:pt x="10698" y="4789"/>
                  </a:lnTo>
                  <a:lnTo>
                    <a:pt x="10682" y="4777"/>
                  </a:lnTo>
                  <a:lnTo>
                    <a:pt x="10664" y="4764"/>
                  </a:lnTo>
                  <a:lnTo>
                    <a:pt x="10010" y="5679"/>
                  </a:lnTo>
                  <a:lnTo>
                    <a:pt x="10029" y="5688"/>
                  </a:lnTo>
                  <a:lnTo>
                    <a:pt x="10048" y="5697"/>
                  </a:lnTo>
                  <a:lnTo>
                    <a:pt x="10067" y="5705"/>
                  </a:lnTo>
                  <a:lnTo>
                    <a:pt x="10089" y="5713"/>
                  </a:lnTo>
                  <a:lnTo>
                    <a:pt x="10109" y="5722"/>
                  </a:lnTo>
                  <a:lnTo>
                    <a:pt x="10130" y="5729"/>
                  </a:lnTo>
                  <a:lnTo>
                    <a:pt x="10152" y="5737"/>
                  </a:lnTo>
                  <a:lnTo>
                    <a:pt x="10174" y="5743"/>
                  </a:lnTo>
                  <a:lnTo>
                    <a:pt x="10810" y="4858"/>
                  </a:lnTo>
                  <a:close/>
                  <a:moveTo>
                    <a:pt x="12028" y="5621"/>
                  </a:moveTo>
                  <a:lnTo>
                    <a:pt x="12026" y="5619"/>
                  </a:lnTo>
                  <a:lnTo>
                    <a:pt x="12023" y="5617"/>
                  </a:lnTo>
                  <a:lnTo>
                    <a:pt x="12020" y="5615"/>
                  </a:lnTo>
                  <a:lnTo>
                    <a:pt x="12017" y="5612"/>
                  </a:lnTo>
                  <a:lnTo>
                    <a:pt x="12013" y="5610"/>
                  </a:lnTo>
                  <a:lnTo>
                    <a:pt x="12011" y="5608"/>
                  </a:lnTo>
                  <a:lnTo>
                    <a:pt x="12007" y="5606"/>
                  </a:lnTo>
                  <a:lnTo>
                    <a:pt x="12005" y="5604"/>
                  </a:lnTo>
                  <a:lnTo>
                    <a:pt x="11766" y="5947"/>
                  </a:lnTo>
                  <a:lnTo>
                    <a:pt x="11787" y="5950"/>
                  </a:lnTo>
                  <a:lnTo>
                    <a:pt x="11809" y="5953"/>
                  </a:lnTo>
                  <a:lnTo>
                    <a:pt x="11830" y="5957"/>
                  </a:lnTo>
                  <a:lnTo>
                    <a:pt x="11851" y="5962"/>
                  </a:lnTo>
                  <a:lnTo>
                    <a:pt x="11873" y="5969"/>
                  </a:lnTo>
                  <a:lnTo>
                    <a:pt x="11894" y="5976"/>
                  </a:lnTo>
                  <a:lnTo>
                    <a:pt x="11917" y="5984"/>
                  </a:lnTo>
                  <a:lnTo>
                    <a:pt x="11941" y="5994"/>
                  </a:lnTo>
                  <a:lnTo>
                    <a:pt x="12127" y="5737"/>
                  </a:lnTo>
                  <a:lnTo>
                    <a:pt x="12116" y="5723"/>
                  </a:lnTo>
                  <a:lnTo>
                    <a:pt x="12105" y="5707"/>
                  </a:lnTo>
                  <a:lnTo>
                    <a:pt x="12093" y="5692"/>
                  </a:lnTo>
                  <a:lnTo>
                    <a:pt x="12080" y="5678"/>
                  </a:lnTo>
                  <a:lnTo>
                    <a:pt x="12068" y="5662"/>
                  </a:lnTo>
                  <a:lnTo>
                    <a:pt x="12055" y="5648"/>
                  </a:lnTo>
                  <a:lnTo>
                    <a:pt x="12042" y="5635"/>
                  </a:lnTo>
                  <a:lnTo>
                    <a:pt x="12028" y="5621"/>
                  </a:lnTo>
                  <a:close/>
                  <a:moveTo>
                    <a:pt x="3837" y="467"/>
                  </a:moveTo>
                  <a:lnTo>
                    <a:pt x="4174" y="0"/>
                  </a:lnTo>
                  <a:lnTo>
                    <a:pt x="4122" y="43"/>
                  </a:lnTo>
                  <a:lnTo>
                    <a:pt x="4072" y="86"/>
                  </a:lnTo>
                  <a:lnTo>
                    <a:pt x="4048" y="108"/>
                  </a:lnTo>
                  <a:lnTo>
                    <a:pt x="4026" y="132"/>
                  </a:lnTo>
                  <a:lnTo>
                    <a:pt x="4004" y="155"/>
                  </a:lnTo>
                  <a:lnTo>
                    <a:pt x="3983" y="180"/>
                  </a:lnTo>
                  <a:lnTo>
                    <a:pt x="3963" y="208"/>
                  </a:lnTo>
                  <a:lnTo>
                    <a:pt x="3944" y="237"/>
                  </a:lnTo>
                  <a:lnTo>
                    <a:pt x="3924" y="268"/>
                  </a:lnTo>
                  <a:lnTo>
                    <a:pt x="3906" y="302"/>
                  </a:lnTo>
                  <a:lnTo>
                    <a:pt x="3888" y="338"/>
                  </a:lnTo>
                  <a:lnTo>
                    <a:pt x="3870" y="378"/>
                  </a:lnTo>
                  <a:lnTo>
                    <a:pt x="3852" y="420"/>
                  </a:lnTo>
                  <a:lnTo>
                    <a:pt x="3837" y="467"/>
                  </a:lnTo>
                  <a:close/>
                  <a:moveTo>
                    <a:pt x="8046" y="8134"/>
                  </a:moveTo>
                  <a:lnTo>
                    <a:pt x="8047" y="8134"/>
                  </a:lnTo>
                  <a:lnTo>
                    <a:pt x="8048" y="8136"/>
                  </a:lnTo>
                  <a:lnTo>
                    <a:pt x="8050" y="8137"/>
                  </a:lnTo>
                  <a:lnTo>
                    <a:pt x="8053" y="8138"/>
                  </a:lnTo>
                  <a:lnTo>
                    <a:pt x="8056" y="8140"/>
                  </a:lnTo>
                  <a:lnTo>
                    <a:pt x="8061" y="8144"/>
                  </a:lnTo>
                  <a:lnTo>
                    <a:pt x="8065" y="8148"/>
                  </a:lnTo>
                  <a:lnTo>
                    <a:pt x="8069" y="8151"/>
                  </a:lnTo>
                  <a:lnTo>
                    <a:pt x="9865" y="5632"/>
                  </a:lnTo>
                  <a:lnTo>
                    <a:pt x="9865" y="5630"/>
                  </a:lnTo>
                  <a:lnTo>
                    <a:pt x="9865" y="5629"/>
                  </a:lnTo>
                  <a:lnTo>
                    <a:pt x="9865" y="5627"/>
                  </a:lnTo>
                  <a:lnTo>
                    <a:pt x="9865" y="5624"/>
                  </a:lnTo>
                  <a:lnTo>
                    <a:pt x="9865" y="5623"/>
                  </a:lnTo>
                  <a:lnTo>
                    <a:pt x="9865" y="5622"/>
                  </a:lnTo>
                  <a:lnTo>
                    <a:pt x="9865" y="5622"/>
                  </a:lnTo>
                  <a:lnTo>
                    <a:pt x="9865" y="5621"/>
                  </a:lnTo>
                  <a:lnTo>
                    <a:pt x="9865" y="5622"/>
                  </a:lnTo>
                  <a:lnTo>
                    <a:pt x="9865" y="5622"/>
                  </a:lnTo>
                  <a:lnTo>
                    <a:pt x="9865" y="5623"/>
                  </a:lnTo>
                  <a:lnTo>
                    <a:pt x="9865" y="5624"/>
                  </a:lnTo>
                  <a:lnTo>
                    <a:pt x="9866" y="5625"/>
                  </a:lnTo>
                  <a:lnTo>
                    <a:pt x="9868" y="5627"/>
                  </a:lnTo>
                  <a:lnTo>
                    <a:pt x="9869" y="5627"/>
                  </a:lnTo>
                  <a:lnTo>
                    <a:pt x="9871" y="5627"/>
                  </a:lnTo>
                  <a:lnTo>
                    <a:pt x="10553" y="4677"/>
                  </a:lnTo>
                  <a:lnTo>
                    <a:pt x="10536" y="4661"/>
                  </a:lnTo>
                  <a:lnTo>
                    <a:pt x="10519" y="4646"/>
                  </a:lnTo>
                  <a:lnTo>
                    <a:pt x="10502" y="4630"/>
                  </a:lnTo>
                  <a:lnTo>
                    <a:pt x="10487" y="4615"/>
                  </a:lnTo>
                  <a:lnTo>
                    <a:pt x="10471" y="4600"/>
                  </a:lnTo>
                  <a:lnTo>
                    <a:pt x="10456" y="4584"/>
                  </a:lnTo>
                  <a:lnTo>
                    <a:pt x="10441" y="4569"/>
                  </a:lnTo>
                  <a:lnTo>
                    <a:pt x="10425" y="4554"/>
                  </a:lnTo>
                  <a:lnTo>
                    <a:pt x="6588" y="9924"/>
                  </a:lnTo>
                  <a:lnTo>
                    <a:pt x="6582" y="9964"/>
                  </a:lnTo>
                  <a:lnTo>
                    <a:pt x="6577" y="10004"/>
                  </a:lnTo>
                  <a:lnTo>
                    <a:pt x="6572" y="10045"/>
                  </a:lnTo>
                  <a:lnTo>
                    <a:pt x="6568" y="10086"/>
                  </a:lnTo>
                  <a:lnTo>
                    <a:pt x="6565" y="10128"/>
                  </a:lnTo>
                  <a:lnTo>
                    <a:pt x="6563" y="10171"/>
                  </a:lnTo>
                  <a:lnTo>
                    <a:pt x="6563" y="10213"/>
                  </a:lnTo>
                  <a:lnTo>
                    <a:pt x="6565" y="10256"/>
                  </a:lnTo>
                  <a:lnTo>
                    <a:pt x="8052" y="8169"/>
                  </a:lnTo>
                  <a:lnTo>
                    <a:pt x="8050" y="8157"/>
                  </a:lnTo>
                  <a:lnTo>
                    <a:pt x="8048" y="8149"/>
                  </a:lnTo>
                  <a:lnTo>
                    <a:pt x="8048" y="8143"/>
                  </a:lnTo>
                  <a:lnTo>
                    <a:pt x="8047" y="8138"/>
                  </a:lnTo>
                  <a:lnTo>
                    <a:pt x="8047" y="8136"/>
                  </a:lnTo>
                  <a:lnTo>
                    <a:pt x="8046" y="8134"/>
                  </a:lnTo>
                  <a:lnTo>
                    <a:pt x="8046" y="8134"/>
                  </a:lnTo>
                  <a:lnTo>
                    <a:pt x="8046" y="8134"/>
                  </a:lnTo>
                  <a:close/>
                  <a:moveTo>
                    <a:pt x="3813" y="7581"/>
                  </a:moveTo>
                  <a:lnTo>
                    <a:pt x="3795" y="7568"/>
                  </a:lnTo>
                  <a:lnTo>
                    <a:pt x="3777" y="7554"/>
                  </a:lnTo>
                  <a:lnTo>
                    <a:pt x="3761" y="7541"/>
                  </a:lnTo>
                  <a:lnTo>
                    <a:pt x="3743" y="7528"/>
                  </a:lnTo>
                  <a:lnTo>
                    <a:pt x="3725" y="7514"/>
                  </a:lnTo>
                  <a:lnTo>
                    <a:pt x="3709" y="7501"/>
                  </a:lnTo>
                  <a:lnTo>
                    <a:pt x="3691" y="7488"/>
                  </a:lnTo>
                  <a:lnTo>
                    <a:pt x="3673" y="7475"/>
                  </a:lnTo>
                  <a:lnTo>
                    <a:pt x="2892" y="8572"/>
                  </a:lnTo>
                  <a:lnTo>
                    <a:pt x="2923" y="8567"/>
                  </a:lnTo>
                  <a:lnTo>
                    <a:pt x="2953" y="8561"/>
                  </a:lnTo>
                  <a:lnTo>
                    <a:pt x="2984" y="8556"/>
                  </a:lnTo>
                  <a:lnTo>
                    <a:pt x="3014" y="8549"/>
                  </a:lnTo>
                  <a:lnTo>
                    <a:pt x="3045" y="8543"/>
                  </a:lnTo>
                  <a:lnTo>
                    <a:pt x="3075" y="8535"/>
                  </a:lnTo>
                  <a:lnTo>
                    <a:pt x="3106" y="8528"/>
                  </a:lnTo>
                  <a:lnTo>
                    <a:pt x="3137" y="8518"/>
                  </a:lnTo>
                  <a:lnTo>
                    <a:pt x="3813" y="7581"/>
                  </a:lnTo>
                  <a:close/>
                  <a:moveTo>
                    <a:pt x="5679" y="8163"/>
                  </a:moveTo>
                  <a:lnTo>
                    <a:pt x="5659" y="8163"/>
                  </a:lnTo>
                  <a:lnTo>
                    <a:pt x="5640" y="8163"/>
                  </a:lnTo>
                  <a:lnTo>
                    <a:pt x="5620" y="8163"/>
                  </a:lnTo>
                  <a:lnTo>
                    <a:pt x="5600" y="8163"/>
                  </a:lnTo>
                  <a:lnTo>
                    <a:pt x="5581" y="8162"/>
                  </a:lnTo>
                  <a:lnTo>
                    <a:pt x="5560" y="8161"/>
                  </a:lnTo>
                  <a:lnTo>
                    <a:pt x="5541" y="8159"/>
                  </a:lnTo>
                  <a:lnTo>
                    <a:pt x="5521" y="8157"/>
                  </a:lnTo>
                  <a:lnTo>
                    <a:pt x="4560" y="9505"/>
                  </a:lnTo>
                  <a:lnTo>
                    <a:pt x="4657" y="9413"/>
                  </a:lnTo>
                  <a:lnTo>
                    <a:pt x="4749" y="9325"/>
                  </a:lnTo>
                  <a:lnTo>
                    <a:pt x="4836" y="9241"/>
                  </a:lnTo>
                  <a:lnTo>
                    <a:pt x="4919" y="9159"/>
                  </a:lnTo>
                  <a:lnTo>
                    <a:pt x="4997" y="9083"/>
                  </a:lnTo>
                  <a:lnTo>
                    <a:pt x="5072" y="9010"/>
                  </a:lnTo>
                  <a:lnTo>
                    <a:pt x="5143" y="8943"/>
                  </a:lnTo>
                  <a:lnTo>
                    <a:pt x="5212" y="8881"/>
                  </a:lnTo>
                  <a:lnTo>
                    <a:pt x="5726" y="8163"/>
                  </a:lnTo>
                  <a:lnTo>
                    <a:pt x="5720" y="8163"/>
                  </a:lnTo>
                  <a:lnTo>
                    <a:pt x="5714" y="8163"/>
                  </a:lnTo>
                  <a:lnTo>
                    <a:pt x="5708" y="8163"/>
                  </a:lnTo>
                  <a:lnTo>
                    <a:pt x="5702" y="8163"/>
                  </a:lnTo>
                  <a:lnTo>
                    <a:pt x="5697" y="8163"/>
                  </a:lnTo>
                  <a:lnTo>
                    <a:pt x="5691" y="8163"/>
                  </a:lnTo>
                  <a:lnTo>
                    <a:pt x="5685" y="8163"/>
                  </a:lnTo>
                  <a:lnTo>
                    <a:pt x="5679" y="8163"/>
                  </a:lnTo>
                  <a:close/>
                  <a:moveTo>
                    <a:pt x="5160" y="8123"/>
                  </a:moveTo>
                  <a:lnTo>
                    <a:pt x="3854" y="9947"/>
                  </a:lnTo>
                  <a:lnTo>
                    <a:pt x="3894" y="9932"/>
                  </a:lnTo>
                  <a:lnTo>
                    <a:pt x="3933" y="9915"/>
                  </a:lnTo>
                  <a:lnTo>
                    <a:pt x="3974" y="9897"/>
                  </a:lnTo>
                  <a:lnTo>
                    <a:pt x="4014" y="9878"/>
                  </a:lnTo>
                  <a:lnTo>
                    <a:pt x="4054" y="9859"/>
                  </a:lnTo>
                  <a:lnTo>
                    <a:pt x="4095" y="9839"/>
                  </a:lnTo>
                  <a:lnTo>
                    <a:pt x="4135" y="9818"/>
                  </a:lnTo>
                  <a:lnTo>
                    <a:pt x="4174" y="9796"/>
                  </a:lnTo>
                  <a:lnTo>
                    <a:pt x="5352" y="8146"/>
                  </a:lnTo>
                  <a:lnTo>
                    <a:pt x="5327" y="8144"/>
                  </a:lnTo>
                  <a:lnTo>
                    <a:pt x="5304" y="8142"/>
                  </a:lnTo>
                  <a:lnTo>
                    <a:pt x="5279" y="8139"/>
                  </a:lnTo>
                  <a:lnTo>
                    <a:pt x="5254" y="8137"/>
                  </a:lnTo>
                  <a:lnTo>
                    <a:pt x="5230" y="8133"/>
                  </a:lnTo>
                  <a:lnTo>
                    <a:pt x="5205" y="8130"/>
                  </a:lnTo>
                  <a:lnTo>
                    <a:pt x="5182" y="8126"/>
                  </a:lnTo>
                  <a:lnTo>
                    <a:pt x="5160" y="8123"/>
                  </a:lnTo>
                  <a:close/>
                  <a:moveTo>
                    <a:pt x="4822" y="8047"/>
                  </a:moveTo>
                  <a:lnTo>
                    <a:pt x="3352" y="10105"/>
                  </a:lnTo>
                  <a:lnTo>
                    <a:pt x="3383" y="10097"/>
                  </a:lnTo>
                  <a:lnTo>
                    <a:pt x="3415" y="10089"/>
                  </a:lnTo>
                  <a:lnTo>
                    <a:pt x="3447" y="10080"/>
                  </a:lnTo>
                  <a:lnTo>
                    <a:pt x="3479" y="10072"/>
                  </a:lnTo>
                  <a:lnTo>
                    <a:pt x="3512" y="10064"/>
                  </a:lnTo>
                  <a:lnTo>
                    <a:pt x="3546" y="10055"/>
                  </a:lnTo>
                  <a:lnTo>
                    <a:pt x="3580" y="10046"/>
                  </a:lnTo>
                  <a:lnTo>
                    <a:pt x="3615" y="10035"/>
                  </a:lnTo>
                  <a:lnTo>
                    <a:pt x="5003" y="8093"/>
                  </a:lnTo>
                  <a:lnTo>
                    <a:pt x="4979" y="8088"/>
                  </a:lnTo>
                  <a:lnTo>
                    <a:pt x="4955" y="8083"/>
                  </a:lnTo>
                  <a:lnTo>
                    <a:pt x="4933" y="8079"/>
                  </a:lnTo>
                  <a:lnTo>
                    <a:pt x="4910" y="8073"/>
                  </a:lnTo>
                  <a:lnTo>
                    <a:pt x="4888" y="8066"/>
                  </a:lnTo>
                  <a:lnTo>
                    <a:pt x="4865" y="8060"/>
                  </a:lnTo>
                  <a:lnTo>
                    <a:pt x="4844" y="8054"/>
                  </a:lnTo>
                  <a:lnTo>
                    <a:pt x="4822" y="8047"/>
                  </a:lnTo>
                  <a:close/>
                  <a:moveTo>
                    <a:pt x="6600" y="8029"/>
                  </a:moveTo>
                  <a:lnTo>
                    <a:pt x="6567" y="8038"/>
                  </a:lnTo>
                  <a:lnTo>
                    <a:pt x="6535" y="8047"/>
                  </a:lnTo>
                  <a:lnTo>
                    <a:pt x="6503" y="8055"/>
                  </a:lnTo>
                  <a:lnTo>
                    <a:pt x="6472" y="8063"/>
                  </a:lnTo>
                  <a:lnTo>
                    <a:pt x="6440" y="8071"/>
                  </a:lnTo>
                  <a:lnTo>
                    <a:pt x="6408" y="8080"/>
                  </a:lnTo>
                  <a:lnTo>
                    <a:pt x="6376" y="8087"/>
                  </a:lnTo>
                  <a:lnTo>
                    <a:pt x="6344" y="8093"/>
                  </a:lnTo>
                  <a:lnTo>
                    <a:pt x="5947" y="8647"/>
                  </a:lnTo>
                  <a:lnTo>
                    <a:pt x="5970" y="8650"/>
                  </a:lnTo>
                  <a:lnTo>
                    <a:pt x="5991" y="8653"/>
                  </a:lnTo>
                  <a:lnTo>
                    <a:pt x="6008" y="8655"/>
                  </a:lnTo>
                  <a:lnTo>
                    <a:pt x="6024" y="8659"/>
                  </a:lnTo>
                  <a:lnTo>
                    <a:pt x="6036" y="8661"/>
                  </a:lnTo>
                  <a:lnTo>
                    <a:pt x="6044" y="8663"/>
                  </a:lnTo>
                  <a:lnTo>
                    <a:pt x="6050" y="8665"/>
                  </a:lnTo>
                  <a:lnTo>
                    <a:pt x="6052" y="8665"/>
                  </a:lnTo>
                  <a:lnTo>
                    <a:pt x="6045" y="8673"/>
                  </a:lnTo>
                  <a:lnTo>
                    <a:pt x="6025" y="8697"/>
                  </a:lnTo>
                  <a:lnTo>
                    <a:pt x="6011" y="8715"/>
                  </a:lnTo>
                  <a:lnTo>
                    <a:pt x="5995" y="8737"/>
                  </a:lnTo>
                  <a:lnTo>
                    <a:pt x="5978" y="8762"/>
                  </a:lnTo>
                  <a:lnTo>
                    <a:pt x="5958" y="8792"/>
                  </a:lnTo>
                  <a:lnTo>
                    <a:pt x="5938" y="8825"/>
                  </a:lnTo>
                  <a:lnTo>
                    <a:pt x="5917" y="8861"/>
                  </a:lnTo>
                  <a:lnTo>
                    <a:pt x="5897" y="8901"/>
                  </a:lnTo>
                  <a:lnTo>
                    <a:pt x="5875" y="8945"/>
                  </a:lnTo>
                  <a:lnTo>
                    <a:pt x="5854" y="8993"/>
                  </a:lnTo>
                  <a:lnTo>
                    <a:pt x="5834" y="9043"/>
                  </a:lnTo>
                  <a:lnTo>
                    <a:pt x="5813" y="9097"/>
                  </a:lnTo>
                  <a:lnTo>
                    <a:pt x="5796" y="9154"/>
                  </a:lnTo>
                  <a:lnTo>
                    <a:pt x="6600" y="8029"/>
                  </a:lnTo>
                  <a:close/>
                  <a:moveTo>
                    <a:pt x="6139" y="8129"/>
                  </a:moveTo>
                  <a:lnTo>
                    <a:pt x="6111" y="8132"/>
                  </a:lnTo>
                  <a:lnTo>
                    <a:pt x="6082" y="8136"/>
                  </a:lnTo>
                  <a:lnTo>
                    <a:pt x="6054" y="8139"/>
                  </a:lnTo>
                  <a:lnTo>
                    <a:pt x="6026" y="8142"/>
                  </a:lnTo>
                  <a:lnTo>
                    <a:pt x="5998" y="8145"/>
                  </a:lnTo>
                  <a:lnTo>
                    <a:pt x="5969" y="8148"/>
                  </a:lnTo>
                  <a:lnTo>
                    <a:pt x="5941" y="8150"/>
                  </a:lnTo>
                  <a:lnTo>
                    <a:pt x="5912" y="8151"/>
                  </a:lnTo>
                  <a:lnTo>
                    <a:pt x="5527" y="8688"/>
                  </a:lnTo>
                  <a:lnTo>
                    <a:pt x="5533" y="8686"/>
                  </a:lnTo>
                  <a:lnTo>
                    <a:pt x="5539" y="8685"/>
                  </a:lnTo>
                  <a:lnTo>
                    <a:pt x="5545" y="8684"/>
                  </a:lnTo>
                  <a:lnTo>
                    <a:pt x="5550" y="8682"/>
                  </a:lnTo>
                  <a:lnTo>
                    <a:pt x="5554" y="8681"/>
                  </a:lnTo>
                  <a:lnTo>
                    <a:pt x="5559" y="8680"/>
                  </a:lnTo>
                  <a:lnTo>
                    <a:pt x="5564" y="8679"/>
                  </a:lnTo>
                  <a:lnTo>
                    <a:pt x="5567" y="8676"/>
                  </a:lnTo>
                  <a:lnTo>
                    <a:pt x="5596" y="8672"/>
                  </a:lnTo>
                  <a:lnTo>
                    <a:pt x="5622" y="8668"/>
                  </a:lnTo>
                  <a:lnTo>
                    <a:pt x="5648" y="8663"/>
                  </a:lnTo>
                  <a:lnTo>
                    <a:pt x="5673" y="8660"/>
                  </a:lnTo>
                  <a:lnTo>
                    <a:pt x="5698" y="8657"/>
                  </a:lnTo>
                  <a:lnTo>
                    <a:pt x="5721" y="8655"/>
                  </a:lnTo>
                  <a:lnTo>
                    <a:pt x="5745" y="8654"/>
                  </a:lnTo>
                  <a:lnTo>
                    <a:pt x="5766" y="8653"/>
                  </a:lnTo>
                  <a:lnTo>
                    <a:pt x="6139" y="8129"/>
                  </a:lnTo>
                  <a:close/>
                  <a:moveTo>
                    <a:pt x="6833" y="7954"/>
                  </a:moveTo>
                  <a:lnTo>
                    <a:pt x="5685" y="9563"/>
                  </a:lnTo>
                  <a:lnTo>
                    <a:pt x="5678" y="9593"/>
                  </a:lnTo>
                  <a:lnTo>
                    <a:pt x="5672" y="9624"/>
                  </a:lnTo>
                  <a:lnTo>
                    <a:pt x="5667" y="9653"/>
                  </a:lnTo>
                  <a:lnTo>
                    <a:pt x="5664" y="9683"/>
                  </a:lnTo>
                  <a:lnTo>
                    <a:pt x="5660" y="9714"/>
                  </a:lnTo>
                  <a:lnTo>
                    <a:pt x="5658" y="9746"/>
                  </a:lnTo>
                  <a:lnTo>
                    <a:pt x="5655" y="9779"/>
                  </a:lnTo>
                  <a:lnTo>
                    <a:pt x="5655" y="9814"/>
                  </a:lnTo>
                  <a:lnTo>
                    <a:pt x="5655" y="9825"/>
                  </a:lnTo>
                  <a:lnTo>
                    <a:pt x="5655" y="9835"/>
                  </a:lnTo>
                  <a:lnTo>
                    <a:pt x="5655" y="9846"/>
                  </a:lnTo>
                  <a:lnTo>
                    <a:pt x="5655" y="9857"/>
                  </a:lnTo>
                  <a:lnTo>
                    <a:pt x="5655" y="9866"/>
                  </a:lnTo>
                  <a:lnTo>
                    <a:pt x="5655" y="9877"/>
                  </a:lnTo>
                  <a:lnTo>
                    <a:pt x="5655" y="9886"/>
                  </a:lnTo>
                  <a:lnTo>
                    <a:pt x="5655" y="9895"/>
                  </a:lnTo>
                  <a:lnTo>
                    <a:pt x="7142" y="7819"/>
                  </a:lnTo>
                  <a:lnTo>
                    <a:pt x="7104" y="7837"/>
                  </a:lnTo>
                  <a:lnTo>
                    <a:pt x="7067" y="7854"/>
                  </a:lnTo>
                  <a:lnTo>
                    <a:pt x="7028" y="7872"/>
                  </a:lnTo>
                  <a:lnTo>
                    <a:pt x="6990" y="7888"/>
                  </a:lnTo>
                  <a:lnTo>
                    <a:pt x="6951" y="7905"/>
                  </a:lnTo>
                  <a:lnTo>
                    <a:pt x="6912" y="7922"/>
                  </a:lnTo>
                  <a:lnTo>
                    <a:pt x="6872" y="7938"/>
                  </a:lnTo>
                  <a:lnTo>
                    <a:pt x="6833" y="7954"/>
                  </a:lnTo>
                  <a:close/>
                  <a:moveTo>
                    <a:pt x="4507" y="7948"/>
                  </a:moveTo>
                  <a:lnTo>
                    <a:pt x="4267" y="8279"/>
                  </a:lnTo>
                  <a:lnTo>
                    <a:pt x="4295" y="8284"/>
                  </a:lnTo>
                  <a:lnTo>
                    <a:pt x="4318" y="8290"/>
                  </a:lnTo>
                  <a:lnTo>
                    <a:pt x="4338" y="8296"/>
                  </a:lnTo>
                  <a:lnTo>
                    <a:pt x="4354" y="8302"/>
                  </a:lnTo>
                  <a:lnTo>
                    <a:pt x="4367" y="8307"/>
                  </a:lnTo>
                  <a:lnTo>
                    <a:pt x="4377" y="8312"/>
                  </a:lnTo>
                  <a:lnTo>
                    <a:pt x="4382" y="8314"/>
                  </a:lnTo>
                  <a:lnTo>
                    <a:pt x="4385" y="8315"/>
                  </a:lnTo>
                  <a:lnTo>
                    <a:pt x="4380" y="8318"/>
                  </a:lnTo>
                  <a:lnTo>
                    <a:pt x="4367" y="8326"/>
                  </a:lnTo>
                  <a:lnTo>
                    <a:pt x="4344" y="8338"/>
                  </a:lnTo>
                  <a:lnTo>
                    <a:pt x="4316" y="8356"/>
                  </a:lnTo>
                  <a:lnTo>
                    <a:pt x="4279" y="8378"/>
                  </a:lnTo>
                  <a:lnTo>
                    <a:pt x="4236" y="8403"/>
                  </a:lnTo>
                  <a:lnTo>
                    <a:pt x="4188" y="8433"/>
                  </a:lnTo>
                  <a:lnTo>
                    <a:pt x="4134" y="8466"/>
                  </a:lnTo>
                  <a:lnTo>
                    <a:pt x="2909" y="10181"/>
                  </a:lnTo>
                  <a:lnTo>
                    <a:pt x="2934" y="10179"/>
                  </a:lnTo>
                  <a:lnTo>
                    <a:pt x="2961" y="10175"/>
                  </a:lnTo>
                  <a:lnTo>
                    <a:pt x="2988" y="10172"/>
                  </a:lnTo>
                  <a:lnTo>
                    <a:pt x="3017" y="10168"/>
                  </a:lnTo>
                  <a:lnTo>
                    <a:pt x="3048" y="10163"/>
                  </a:lnTo>
                  <a:lnTo>
                    <a:pt x="3079" y="10157"/>
                  </a:lnTo>
                  <a:lnTo>
                    <a:pt x="3110" y="10152"/>
                  </a:lnTo>
                  <a:lnTo>
                    <a:pt x="3143" y="10146"/>
                  </a:lnTo>
                  <a:lnTo>
                    <a:pt x="4676" y="8006"/>
                  </a:lnTo>
                  <a:lnTo>
                    <a:pt x="4653" y="7999"/>
                  </a:lnTo>
                  <a:lnTo>
                    <a:pt x="4632" y="7992"/>
                  </a:lnTo>
                  <a:lnTo>
                    <a:pt x="4611" y="7985"/>
                  </a:lnTo>
                  <a:lnTo>
                    <a:pt x="4589" y="7976"/>
                  </a:lnTo>
                  <a:lnTo>
                    <a:pt x="4568" y="7969"/>
                  </a:lnTo>
                  <a:lnTo>
                    <a:pt x="4548" y="7962"/>
                  </a:lnTo>
                  <a:lnTo>
                    <a:pt x="4526" y="7955"/>
                  </a:lnTo>
                  <a:lnTo>
                    <a:pt x="4507" y="7948"/>
                  </a:lnTo>
                  <a:close/>
                  <a:moveTo>
                    <a:pt x="3329" y="7172"/>
                  </a:moveTo>
                  <a:lnTo>
                    <a:pt x="3314" y="7155"/>
                  </a:lnTo>
                  <a:lnTo>
                    <a:pt x="3298" y="7138"/>
                  </a:lnTo>
                  <a:lnTo>
                    <a:pt x="3283" y="7122"/>
                  </a:lnTo>
                  <a:lnTo>
                    <a:pt x="3268" y="7105"/>
                  </a:lnTo>
                  <a:lnTo>
                    <a:pt x="3252" y="7089"/>
                  </a:lnTo>
                  <a:lnTo>
                    <a:pt x="3237" y="7072"/>
                  </a:lnTo>
                  <a:lnTo>
                    <a:pt x="3222" y="7055"/>
                  </a:lnTo>
                  <a:lnTo>
                    <a:pt x="3207" y="7037"/>
                  </a:lnTo>
                  <a:lnTo>
                    <a:pt x="2892" y="7487"/>
                  </a:lnTo>
                  <a:lnTo>
                    <a:pt x="2916" y="7494"/>
                  </a:lnTo>
                  <a:lnTo>
                    <a:pt x="2938" y="7500"/>
                  </a:lnTo>
                  <a:lnTo>
                    <a:pt x="2961" y="7507"/>
                  </a:lnTo>
                  <a:lnTo>
                    <a:pt x="2982" y="7514"/>
                  </a:lnTo>
                  <a:lnTo>
                    <a:pt x="3004" y="7521"/>
                  </a:lnTo>
                  <a:lnTo>
                    <a:pt x="3024" y="7528"/>
                  </a:lnTo>
                  <a:lnTo>
                    <a:pt x="3043" y="7537"/>
                  </a:lnTo>
                  <a:lnTo>
                    <a:pt x="3061" y="7545"/>
                  </a:lnTo>
                  <a:lnTo>
                    <a:pt x="3329" y="7172"/>
                  </a:lnTo>
                  <a:close/>
                  <a:moveTo>
                    <a:pt x="4082" y="7749"/>
                  </a:moveTo>
                  <a:lnTo>
                    <a:pt x="4062" y="7739"/>
                  </a:lnTo>
                  <a:lnTo>
                    <a:pt x="4043" y="7728"/>
                  </a:lnTo>
                  <a:lnTo>
                    <a:pt x="4024" y="7716"/>
                  </a:lnTo>
                  <a:lnTo>
                    <a:pt x="4006" y="7705"/>
                  </a:lnTo>
                  <a:lnTo>
                    <a:pt x="3987" y="7695"/>
                  </a:lnTo>
                  <a:lnTo>
                    <a:pt x="3968" y="7684"/>
                  </a:lnTo>
                  <a:lnTo>
                    <a:pt x="3949" y="7673"/>
                  </a:lnTo>
                  <a:lnTo>
                    <a:pt x="3930" y="7661"/>
                  </a:lnTo>
                  <a:lnTo>
                    <a:pt x="3358" y="8460"/>
                  </a:lnTo>
                  <a:lnTo>
                    <a:pt x="3395" y="8449"/>
                  </a:lnTo>
                  <a:lnTo>
                    <a:pt x="3432" y="8439"/>
                  </a:lnTo>
                  <a:lnTo>
                    <a:pt x="3467" y="8428"/>
                  </a:lnTo>
                  <a:lnTo>
                    <a:pt x="3502" y="8417"/>
                  </a:lnTo>
                  <a:lnTo>
                    <a:pt x="3536" y="8405"/>
                  </a:lnTo>
                  <a:lnTo>
                    <a:pt x="3569" y="8395"/>
                  </a:lnTo>
                  <a:lnTo>
                    <a:pt x="3602" y="8384"/>
                  </a:lnTo>
                  <a:lnTo>
                    <a:pt x="3632" y="8373"/>
                  </a:lnTo>
                  <a:lnTo>
                    <a:pt x="4082" y="7749"/>
                  </a:lnTo>
                  <a:close/>
                  <a:moveTo>
                    <a:pt x="2676" y="8600"/>
                  </a:moveTo>
                  <a:lnTo>
                    <a:pt x="2678" y="8600"/>
                  </a:lnTo>
                  <a:lnTo>
                    <a:pt x="2680" y="8600"/>
                  </a:lnTo>
                  <a:lnTo>
                    <a:pt x="2683" y="8600"/>
                  </a:lnTo>
                  <a:lnTo>
                    <a:pt x="2685" y="8600"/>
                  </a:lnTo>
                  <a:lnTo>
                    <a:pt x="2686" y="8600"/>
                  </a:lnTo>
                  <a:lnTo>
                    <a:pt x="2689" y="8600"/>
                  </a:lnTo>
                  <a:lnTo>
                    <a:pt x="2691" y="8600"/>
                  </a:lnTo>
                  <a:lnTo>
                    <a:pt x="2694" y="8600"/>
                  </a:lnTo>
                  <a:lnTo>
                    <a:pt x="3562" y="7388"/>
                  </a:lnTo>
                  <a:lnTo>
                    <a:pt x="3545" y="7373"/>
                  </a:lnTo>
                  <a:lnTo>
                    <a:pt x="3528" y="7358"/>
                  </a:lnTo>
                  <a:lnTo>
                    <a:pt x="3512" y="7344"/>
                  </a:lnTo>
                  <a:lnTo>
                    <a:pt x="3496" y="7330"/>
                  </a:lnTo>
                  <a:lnTo>
                    <a:pt x="3480" y="7316"/>
                  </a:lnTo>
                  <a:lnTo>
                    <a:pt x="3465" y="7301"/>
                  </a:lnTo>
                  <a:lnTo>
                    <a:pt x="3449" y="7286"/>
                  </a:lnTo>
                  <a:lnTo>
                    <a:pt x="3434" y="7272"/>
                  </a:lnTo>
                  <a:lnTo>
                    <a:pt x="3195" y="7609"/>
                  </a:lnTo>
                  <a:lnTo>
                    <a:pt x="3095" y="7743"/>
                  </a:lnTo>
                  <a:lnTo>
                    <a:pt x="2478" y="8606"/>
                  </a:lnTo>
                  <a:lnTo>
                    <a:pt x="2502" y="8609"/>
                  </a:lnTo>
                  <a:lnTo>
                    <a:pt x="2526" y="8609"/>
                  </a:lnTo>
                  <a:lnTo>
                    <a:pt x="2550" y="8609"/>
                  </a:lnTo>
                  <a:lnTo>
                    <a:pt x="2575" y="8608"/>
                  </a:lnTo>
                  <a:lnTo>
                    <a:pt x="2600" y="8606"/>
                  </a:lnTo>
                  <a:lnTo>
                    <a:pt x="2625" y="8605"/>
                  </a:lnTo>
                  <a:lnTo>
                    <a:pt x="2650" y="8603"/>
                  </a:lnTo>
                  <a:lnTo>
                    <a:pt x="2676" y="8600"/>
                  </a:lnTo>
                  <a:close/>
                  <a:moveTo>
                    <a:pt x="2776" y="7942"/>
                  </a:moveTo>
                  <a:lnTo>
                    <a:pt x="2707" y="7999"/>
                  </a:lnTo>
                  <a:lnTo>
                    <a:pt x="2642" y="8052"/>
                  </a:lnTo>
                  <a:lnTo>
                    <a:pt x="2583" y="8101"/>
                  </a:lnTo>
                  <a:lnTo>
                    <a:pt x="2527" y="8146"/>
                  </a:lnTo>
                  <a:lnTo>
                    <a:pt x="2500" y="8168"/>
                  </a:lnTo>
                  <a:lnTo>
                    <a:pt x="2474" y="8188"/>
                  </a:lnTo>
                  <a:lnTo>
                    <a:pt x="2447" y="8207"/>
                  </a:lnTo>
                  <a:lnTo>
                    <a:pt x="2421" y="8225"/>
                  </a:lnTo>
                  <a:lnTo>
                    <a:pt x="2394" y="8241"/>
                  </a:lnTo>
                  <a:lnTo>
                    <a:pt x="2368" y="8257"/>
                  </a:lnTo>
                  <a:lnTo>
                    <a:pt x="2342" y="8272"/>
                  </a:lnTo>
                  <a:lnTo>
                    <a:pt x="2314" y="8285"/>
                  </a:lnTo>
                  <a:lnTo>
                    <a:pt x="2128" y="8548"/>
                  </a:lnTo>
                  <a:lnTo>
                    <a:pt x="2150" y="8554"/>
                  </a:lnTo>
                  <a:lnTo>
                    <a:pt x="2172" y="8560"/>
                  </a:lnTo>
                  <a:lnTo>
                    <a:pt x="2194" y="8566"/>
                  </a:lnTo>
                  <a:lnTo>
                    <a:pt x="2217" y="8571"/>
                  </a:lnTo>
                  <a:lnTo>
                    <a:pt x="2239" y="8575"/>
                  </a:lnTo>
                  <a:lnTo>
                    <a:pt x="2264" y="8580"/>
                  </a:lnTo>
                  <a:lnTo>
                    <a:pt x="2288" y="8585"/>
                  </a:lnTo>
                  <a:lnTo>
                    <a:pt x="2314" y="8589"/>
                  </a:lnTo>
                  <a:lnTo>
                    <a:pt x="2776" y="7942"/>
                  </a:lnTo>
                  <a:close/>
                  <a:moveTo>
                    <a:pt x="2087" y="8361"/>
                  </a:moveTo>
                  <a:lnTo>
                    <a:pt x="2042" y="8367"/>
                  </a:lnTo>
                  <a:lnTo>
                    <a:pt x="2002" y="8373"/>
                  </a:lnTo>
                  <a:lnTo>
                    <a:pt x="1966" y="8379"/>
                  </a:lnTo>
                  <a:lnTo>
                    <a:pt x="1935" y="8383"/>
                  </a:lnTo>
                  <a:lnTo>
                    <a:pt x="1908" y="8388"/>
                  </a:lnTo>
                  <a:lnTo>
                    <a:pt x="1884" y="8391"/>
                  </a:lnTo>
                  <a:lnTo>
                    <a:pt x="1865" y="8394"/>
                  </a:lnTo>
                  <a:lnTo>
                    <a:pt x="1848" y="8397"/>
                  </a:lnTo>
                  <a:lnTo>
                    <a:pt x="1833" y="8401"/>
                  </a:lnTo>
                  <a:lnTo>
                    <a:pt x="1821" y="8403"/>
                  </a:lnTo>
                  <a:lnTo>
                    <a:pt x="1813" y="8405"/>
                  </a:lnTo>
                  <a:lnTo>
                    <a:pt x="1807" y="8407"/>
                  </a:lnTo>
                  <a:lnTo>
                    <a:pt x="1803" y="8408"/>
                  </a:lnTo>
                  <a:lnTo>
                    <a:pt x="1802" y="8408"/>
                  </a:lnTo>
                  <a:lnTo>
                    <a:pt x="1802" y="8408"/>
                  </a:lnTo>
                  <a:lnTo>
                    <a:pt x="1801" y="8408"/>
                  </a:lnTo>
                  <a:lnTo>
                    <a:pt x="1802" y="8409"/>
                  </a:lnTo>
                  <a:lnTo>
                    <a:pt x="1803" y="8409"/>
                  </a:lnTo>
                  <a:lnTo>
                    <a:pt x="1806" y="8410"/>
                  </a:lnTo>
                  <a:lnTo>
                    <a:pt x="1809" y="8413"/>
                  </a:lnTo>
                  <a:lnTo>
                    <a:pt x="1814" y="8415"/>
                  </a:lnTo>
                  <a:lnTo>
                    <a:pt x="1819" y="8419"/>
                  </a:lnTo>
                  <a:lnTo>
                    <a:pt x="1825" y="8422"/>
                  </a:lnTo>
                  <a:lnTo>
                    <a:pt x="1831" y="8426"/>
                  </a:lnTo>
                  <a:lnTo>
                    <a:pt x="1843" y="8433"/>
                  </a:lnTo>
                  <a:lnTo>
                    <a:pt x="1857" y="8441"/>
                  </a:lnTo>
                  <a:lnTo>
                    <a:pt x="1873" y="8449"/>
                  </a:lnTo>
                  <a:lnTo>
                    <a:pt x="1891" y="8459"/>
                  </a:lnTo>
                  <a:lnTo>
                    <a:pt x="1913" y="8470"/>
                  </a:lnTo>
                  <a:lnTo>
                    <a:pt x="1935" y="8480"/>
                  </a:lnTo>
                  <a:lnTo>
                    <a:pt x="1960" y="8491"/>
                  </a:lnTo>
                  <a:lnTo>
                    <a:pt x="1988" y="8502"/>
                  </a:lnTo>
                  <a:lnTo>
                    <a:pt x="2087" y="8361"/>
                  </a:lnTo>
                  <a:close/>
                  <a:moveTo>
                    <a:pt x="2437" y="9919"/>
                  </a:moveTo>
                  <a:lnTo>
                    <a:pt x="2419" y="9921"/>
                  </a:lnTo>
                  <a:lnTo>
                    <a:pt x="2402" y="9923"/>
                  </a:lnTo>
                  <a:lnTo>
                    <a:pt x="2386" y="9924"/>
                  </a:lnTo>
                  <a:lnTo>
                    <a:pt x="2369" y="9927"/>
                  </a:lnTo>
                  <a:lnTo>
                    <a:pt x="2352" y="9929"/>
                  </a:lnTo>
                  <a:lnTo>
                    <a:pt x="2337" y="9932"/>
                  </a:lnTo>
                  <a:lnTo>
                    <a:pt x="2323" y="9934"/>
                  </a:lnTo>
                  <a:lnTo>
                    <a:pt x="2308" y="9936"/>
                  </a:lnTo>
                  <a:lnTo>
                    <a:pt x="2216" y="10064"/>
                  </a:lnTo>
                  <a:lnTo>
                    <a:pt x="2236" y="10073"/>
                  </a:lnTo>
                  <a:lnTo>
                    <a:pt x="2256" y="10080"/>
                  </a:lnTo>
                  <a:lnTo>
                    <a:pt x="2276" y="10089"/>
                  </a:lnTo>
                  <a:lnTo>
                    <a:pt x="2298" y="10096"/>
                  </a:lnTo>
                  <a:lnTo>
                    <a:pt x="2319" y="10103"/>
                  </a:lnTo>
                  <a:lnTo>
                    <a:pt x="2341" y="10109"/>
                  </a:lnTo>
                  <a:lnTo>
                    <a:pt x="2363" y="10116"/>
                  </a:lnTo>
                  <a:lnTo>
                    <a:pt x="2384" y="10123"/>
                  </a:lnTo>
                  <a:lnTo>
                    <a:pt x="2543" y="9901"/>
                  </a:lnTo>
                  <a:lnTo>
                    <a:pt x="2528" y="9903"/>
                  </a:lnTo>
                  <a:lnTo>
                    <a:pt x="2515" y="9905"/>
                  </a:lnTo>
                  <a:lnTo>
                    <a:pt x="2502" y="9908"/>
                  </a:lnTo>
                  <a:lnTo>
                    <a:pt x="2489" y="9910"/>
                  </a:lnTo>
                  <a:lnTo>
                    <a:pt x="2476" y="9911"/>
                  </a:lnTo>
                  <a:lnTo>
                    <a:pt x="2463" y="9914"/>
                  </a:lnTo>
                  <a:lnTo>
                    <a:pt x="2450" y="9916"/>
                  </a:lnTo>
                  <a:lnTo>
                    <a:pt x="2437" y="9919"/>
                  </a:lnTo>
                  <a:close/>
                  <a:moveTo>
                    <a:pt x="3189" y="9417"/>
                  </a:moveTo>
                  <a:lnTo>
                    <a:pt x="3129" y="9474"/>
                  </a:lnTo>
                  <a:lnTo>
                    <a:pt x="3074" y="9528"/>
                  </a:lnTo>
                  <a:lnTo>
                    <a:pt x="3024" y="9577"/>
                  </a:lnTo>
                  <a:lnTo>
                    <a:pt x="2978" y="9624"/>
                  </a:lnTo>
                  <a:lnTo>
                    <a:pt x="2934" y="9667"/>
                  </a:lnTo>
                  <a:lnTo>
                    <a:pt x="2892" y="9707"/>
                  </a:lnTo>
                  <a:lnTo>
                    <a:pt x="2852" y="9744"/>
                  </a:lnTo>
                  <a:lnTo>
                    <a:pt x="2810" y="9778"/>
                  </a:lnTo>
                  <a:lnTo>
                    <a:pt x="2535" y="10157"/>
                  </a:lnTo>
                  <a:lnTo>
                    <a:pt x="2560" y="10163"/>
                  </a:lnTo>
                  <a:lnTo>
                    <a:pt x="2584" y="10169"/>
                  </a:lnTo>
                  <a:lnTo>
                    <a:pt x="2608" y="10174"/>
                  </a:lnTo>
                  <a:lnTo>
                    <a:pt x="2632" y="10179"/>
                  </a:lnTo>
                  <a:lnTo>
                    <a:pt x="2655" y="10184"/>
                  </a:lnTo>
                  <a:lnTo>
                    <a:pt x="2678" y="10187"/>
                  </a:lnTo>
                  <a:lnTo>
                    <a:pt x="2701" y="10190"/>
                  </a:lnTo>
                  <a:lnTo>
                    <a:pt x="2723" y="10192"/>
                  </a:lnTo>
                  <a:lnTo>
                    <a:pt x="3783" y="8705"/>
                  </a:lnTo>
                  <a:lnTo>
                    <a:pt x="3763" y="8724"/>
                  </a:lnTo>
                  <a:lnTo>
                    <a:pt x="3743" y="8742"/>
                  </a:lnTo>
                  <a:lnTo>
                    <a:pt x="3724" y="8761"/>
                  </a:lnTo>
                  <a:lnTo>
                    <a:pt x="3705" y="8781"/>
                  </a:lnTo>
                  <a:lnTo>
                    <a:pt x="3669" y="8820"/>
                  </a:lnTo>
                  <a:lnTo>
                    <a:pt x="3636" y="8862"/>
                  </a:lnTo>
                  <a:lnTo>
                    <a:pt x="3604" y="8905"/>
                  </a:lnTo>
                  <a:lnTo>
                    <a:pt x="3573" y="8947"/>
                  </a:lnTo>
                  <a:lnTo>
                    <a:pt x="3542" y="8991"/>
                  </a:lnTo>
                  <a:lnTo>
                    <a:pt x="3510" y="9038"/>
                  </a:lnTo>
                  <a:lnTo>
                    <a:pt x="3479" y="9083"/>
                  </a:lnTo>
                  <a:lnTo>
                    <a:pt x="3446" y="9129"/>
                  </a:lnTo>
                  <a:lnTo>
                    <a:pt x="3410" y="9177"/>
                  </a:lnTo>
                  <a:lnTo>
                    <a:pt x="3373" y="9224"/>
                  </a:lnTo>
                  <a:lnTo>
                    <a:pt x="3353" y="9248"/>
                  </a:lnTo>
                  <a:lnTo>
                    <a:pt x="3333" y="9272"/>
                  </a:lnTo>
                  <a:lnTo>
                    <a:pt x="3312" y="9297"/>
                  </a:lnTo>
                  <a:lnTo>
                    <a:pt x="3289" y="9321"/>
                  </a:lnTo>
                  <a:lnTo>
                    <a:pt x="3265" y="9344"/>
                  </a:lnTo>
                  <a:lnTo>
                    <a:pt x="3241" y="9368"/>
                  </a:lnTo>
                  <a:lnTo>
                    <a:pt x="3215" y="9393"/>
                  </a:lnTo>
                  <a:lnTo>
                    <a:pt x="3189" y="9417"/>
                  </a:lnTo>
                  <a:close/>
                  <a:moveTo>
                    <a:pt x="4098" y="8263"/>
                  </a:moveTo>
                  <a:lnTo>
                    <a:pt x="4367" y="7890"/>
                  </a:lnTo>
                  <a:lnTo>
                    <a:pt x="4347" y="7880"/>
                  </a:lnTo>
                  <a:lnTo>
                    <a:pt x="4328" y="7872"/>
                  </a:lnTo>
                  <a:lnTo>
                    <a:pt x="4308" y="7862"/>
                  </a:lnTo>
                  <a:lnTo>
                    <a:pt x="4289" y="7854"/>
                  </a:lnTo>
                  <a:lnTo>
                    <a:pt x="4268" y="7844"/>
                  </a:lnTo>
                  <a:lnTo>
                    <a:pt x="4249" y="7834"/>
                  </a:lnTo>
                  <a:lnTo>
                    <a:pt x="4229" y="7824"/>
                  </a:lnTo>
                  <a:lnTo>
                    <a:pt x="4209" y="7814"/>
                  </a:lnTo>
                  <a:lnTo>
                    <a:pt x="3859" y="8303"/>
                  </a:lnTo>
                  <a:lnTo>
                    <a:pt x="3881" y="8297"/>
                  </a:lnTo>
                  <a:lnTo>
                    <a:pt x="3902" y="8291"/>
                  </a:lnTo>
                  <a:lnTo>
                    <a:pt x="3922" y="8287"/>
                  </a:lnTo>
                  <a:lnTo>
                    <a:pt x="3942" y="8282"/>
                  </a:lnTo>
                  <a:lnTo>
                    <a:pt x="3961" y="8277"/>
                  </a:lnTo>
                  <a:lnTo>
                    <a:pt x="3978" y="8274"/>
                  </a:lnTo>
                  <a:lnTo>
                    <a:pt x="3995" y="8271"/>
                  </a:lnTo>
                  <a:lnTo>
                    <a:pt x="4012" y="8269"/>
                  </a:lnTo>
                  <a:lnTo>
                    <a:pt x="4022" y="8268"/>
                  </a:lnTo>
                  <a:lnTo>
                    <a:pt x="4033" y="8268"/>
                  </a:lnTo>
                  <a:lnTo>
                    <a:pt x="4044" y="8266"/>
                  </a:lnTo>
                  <a:lnTo>
                    <a:pt x="4054" y="8265"/>
                  </a:lnTo>
                  <a:lnTo>
                    <a:pt x="4066" y="8264"/>
                  </a:lnTo>
                  <a:lnTo>
                    <a:pt x="4077" y="8263"/>
                  </a:lnTo>
                  <a:lnTo>
                    <a:pt x="4088" y="8263"/>
                  </a:lnTo>
                  <a:lnTo>
                    <a:pt x="4098" y="8263"/>
                  </a:lnTo>
                  <a:close/>
                  <a:moveTo>
                    <a:pt x="2384" y="7400"/>
                  </a:moveTo>
                  <a:lnTo>
                    <a:pt x="2921" y="6653"/>
                  </a:lnTo>
                  <a:lnTo>
                    <a:pt x="2907" y="6633"/>
                  </a:lnTo>
                  <a:lnTo>
                    <a:pt x="2894" y="6614"/>
                  </a:lnTo>
                  <a:lnTo>
                    <a:pt x="2881" y="6594"/>
                  </a:lnTo>
                  <a:lnTo>
                    <a:pt x="2869" y="6574"/>
                  </a:lnTo>
                  <a:lnTo>
                    <a:pt x="2856" y="6555"/>
                  </a:lnTo>
                  <a:lnTo>
                    <a:pt x="2844" y="6535"/>
                  </a:lnTo>
                  <a:lnTo>
                    <a:pt x="2833" y="6516"/>
                  </a:lnTo>
                  <a:lnTo>
                    <a:pt x="2822" y="6495"/>
                  </a:lnTo>
                  <a:lnTo>
                    <a:pt x="2180" y="7388"/>
                  </a:lnTo>
                  <a:lnTo>
                    <a:pt x="2206" y="7389"/>
                  </a:lnTo>
                  <a:lnTo>
                    <a:pt x="2232" y="7392"/>
                  </a:lnTo>
                  <a:lnTo>
                    <a:pt x="2258" y="7393"/>
                  </a:lnTo>
                  <a:lnTo>
                    <a:pt x="2285" y="7394"/>
                  </a:lnTo>
                  <a:lnTo>
                    <a:pt x="2310" y="7395"/>
                  </a:lnTo>
                  <a:lnTo>
                    <a:pt x="2336" y="7396"/>
                  </a:lnTo>
                  <a:lnTo>
                    <a:pt x="2361" y="7398"/>
                  </a:lnTo>
                  <a:lnTo>
                    <a:pt x="2384" y="7400"/>
                  </a:lnTo>
                  <a:close/>
                  <a:moveTo>
                    <a:pt x="6810" y="8827"/>
                  </a:moveTo>
                  <a:lnTo>
                    <a:pt x="7911" y="7277"/>
                  </a:lnTo>
                  <a:lnTo>
                    <a:pt x="7857" y="7329"/>
                  </a:lnTo>
                  <a:lnTo>
                    <a:pt x="7801" y="7379"/>
                  </a:lnTo>
                  <a:lnTo>
                    <a:pt x="7743" y="7427"/>
                  </a:lnTo>
                  <a:lnTo>
                    <a:pt x="7684" y="7474"/>
                  </a:lnTo>
                  <a:lnTo>
                    <a:pt x="7625" y="7519"/>
                  </a:lnTo>
                  <a:lnTo>
                    <a:pt x="7564" y="7563"/>
                  </a:lnTo>
                  <a:lnTo>
                    <a:pt x="7502" y="7604"/>
                  </a:lnTo>
                  <a:lnTo>
                    <a:pt x="7439" y="7645"/>
                  </a:lnTo>
                  <a:lnTo>
                    <a:pt x="6430" y="9056"/>
                  </a:lnTo>
                  <a:lnTo>
                    <a:pt x="6510" y="8993"/>
                  </a:lnTo>
                  <a:lnTo>
                    <a:pt x="6577" y="8939"/>
                  </a:lnTo>
                  <a:lnTo>
                    <a:pt x="6606" y="8915"/>
                  </a:lnTo>
                  <a:lnTo>
                    <a:pt x="6634" y="8895"/>
                  </a:lnTo>
                  <a:lnTo>
                    <a:pt x="6659" y="8876"/>
                  </a:lnTo>
                  <a:lnTo>
                    <a:pt x="6681" y="8861"/>
                  </a:lnTo>
                  <a:lnTo>
                    <a:pt x="6703" y="8848"/>
                  </a:lnTo>
                  <a:lnTo>
                    <a:pt x="6722" y="8837"/>
                  </a:lnTo>
                  <a:lnTo>
                    <a:pt x="6739" y="8829"/>
                  </a:lnTo>
                  <a:lnTo>
                    <a:pt x="6756" y="8824"/>
                  </a:lnTo>
                  <a:lnTo>
                    <a:pt x="6763" y="8821"/>
                  </a:lnTo>
                  <a:lnTo>
                    <a:pt x="6770" y="8820"/>
                  </a:lnTo>
                  <a:lnTo>
                    <a:pt x="6777" y="8820"/>
                  </a:lnTo>
                  <a:lnTo>
                    <a:pt x="6785" y="8820"/>
                  </a:lnTo>
                  <a:lnTo>
                    <a:pt x="6792" y="8821"/>
                  </a:lnTo>
                  <a:lnTo>
                    <a:pt x="6798" y="8823"/>
                  </a:lnTo>
                  <a:lnTo>
                    <a:pt x="6804" y="8825"/>
                  </a:lnTo>
                  <a:lnTo>
                    <a:pt x="6810" y="8827"/>
                  </a:lnTo>
                  <a:close/>
                  <a:moveTo>
                    <a:pt x="2740" y="7446"/>
                  </a:moveTo>
                  <a:lnTo>
                    <a:pt x="3113" y="6927"/>
                  </a:lnTo>
                  <a:lnTo>
                    <a:pt x="3099" y="6909"/>
                  </a:lnTo>
                  <a:lnTo>
                    <a:pt x="3083" y="6891"/>
                  </a:lnTo>
                  <a:lnTo>
                    <a:pt x="3069" y="6873"/>
                  </a:lnTo>
                  <a:lnTo>
                    <a:pt x="3056" y="6854"/>
                  </a:lnTo>
                  <a:lnTo>
                    <a:pt x="3042" y="6835"/>
                  </a:lnTo>
                  <a:lnTo>
                    <a:pt x="3029" y="6818"/>
                  </a:lnTo>
                  <a:lnTo>
                    <a:pt x="3016" y="6800"/>
                  </a:lnTo>
                  <a:lnTo>
                    <a:pt x="3003" y="6782"/>
                  </a:lnTo>
                  <a:lnTo>
                    <a:pt x="2553" y="7411"/>
                  </a:lnTo>
                  <a:lnTo>
                    <a:pt x="2573" y="7413"/>
                  </a:lnTo>
                  <a:lnTo>
                    <a:pt x="2592" y="7417"/>
                  </a:lnTo>
                  <a:lnTo>
                    <a:pt x="2613" y="7420"/>
                  </a:lnTo>
                  <a:lnTo>
                    <a:pt x="2632" y="7424"/>
                  </a:lnTo>
                  <a:lnTo>
                    <a:pt x="2651" y="7427"/>
                  </a:lnTo>
                  <a:lnTo>
                    <a:pt x="2670" y="7432"/>
                  </a:lnTo>
                  <a:lnTo>
                    <a:pt x="2688" y="7436"/>
                  </a:lnTo>
                  <a:lnTo>
                    <a:pt x="2705" y="7440"/>
                  </a:lnTo>
                  <a:lnTo>
                    <a:pt x="2710" y="7440"/>
                  </a:lnTo>
                  <a:lnTo>
                    <a:pt x="2714" y="7440"/>
                  </a:lnTo>
                  <a:lnTo>
                    <a:pt x="2718" y="7440"/>
                  </a:lnTo>
                  <a:lnTo>
                    <a:pt x="2723" y="7442"/>
                  </a:lnTo>
                  <a:lnTo>
                    <a:pt x="2727" y="7442"/>
                  </a:lnTo>
                  <a:lnTo>
                    <a:pt x="2732" y="7443"/>
                  </a:lnTo>
                  <a:lnTo>
                    <a:pt x="2736" y="7444"/>
                  </a:lnTo>
                  <a:lnTo>
                    <a:pt x="2740" y="7446"/>
                  </a:lnTo>
                  <a:close/>
                  <a:moveTo>
                    <a:pt x="1668" y="5930"/>
                  </a:moveTo>
                  <a:lnTo>
                    <a:pt x="1688" y="5950"/>
                  </a:lnTo>
                  <a:lnTo>
                    <a:pt x="1707" y="5968"/>
                  </a:lnTo>
                  <a:lnTo>
                    <a:pt x="1724" y="5987"/>
                  </a:lnTo>
                  <a:lnTo>
                    <a:pt x="1739" y="6003"/>
                  </a:lnTo>
                  <a:lnTo>
                    <a:pt x="1752" y="6019"/>
                  </a:lnTo>
                  <a:lnTo>
                    <a:pt x="1764" y="6033"/>
                  </a:lnTo>
                  <a:lnTo>
                    <a:pt x="1775" y="6046"/>
                  </a:lnTo>
                  <a:lnTo>
                    <a:pt x="1784" y="6058"/>
                  </a:lnTo>
                  <a:lnTo>
                    <a:pt x="2414" y="5183"/>
                  </a:lnTo>
                  <a:lnTo>
                    <a:pt x="2412" y="5149"/>
                  </a:lnTo>
                  <a:lnTo>
                    <a:pt x="2409" y="5114"/>
                  </a:lnTo>
                  <a:lnTo>
                    <a:pt x="2407" y="5081"/>
                  </a:lnTo>
                  <a:lnTo>
                    <a:pt x="2406" y="5046"/>
                  </a:lnTo>
                  <a:lnTo>
                    <a:pt x="2404" y="5013"/>
                  </a:lnTo>
                  <a:lnTo>
                    <a:pt x="2402" y="4979"/>
                  </a:lnTo>
                  <a:lnTo>
                    <a:pt x="2402" y="4944"/>
                  </a:lnTo>
                  <a:lnTo>
                    <a:pt x="2402" y="4910"/>
                  </a:lnTo>
                  <a:lnTo>
                    <a:pt x="1668" y="5930"/>
                  </a:lnTo>
                  <a:close/>
                  <a:moveTo>
                    <a:pt x="6757" y="9447"/>
                  </a:moveTo>
                  <a:lnTo>
                    <a:pt x="10331" y="4438"/>
                  </a:lnTo>
                  <a:lnTo>
                    <a:pt x="10317" y="4418"/>
                  </a:lnTo>
                  <a:lnTo>
                    <a:pt x="10301" y="4399"/>
                  </a:lnTo>
                  <a:lnTo>
                    <a:pt x="10287" y="4380"/>
                  </a:lnTo>
                  <a:lnTo>
                    <a:pt x="10274" y="4361"/>
                  </a:lnTo>
                  <a:lnTo>
                    <a:pt x="10260" y="4343"/>
                  </a:lnTo>
                  <a:lnTo>
                    <a:pt x="10247" y="4326"/>
                  </a:lnTo>
                  <a:lnTo>
                    <a:pt x="10234" y="4311"/>
                  </a:lnTo>
                  <a:lnTo>
                    <a:pt x="10221" y="4298"/>
                  </a:lnTo>
                  <a:lnTo>
                    <a:pt x="6880" y="8974"/>
                  </a:lnTo>
                  <a:lnTo>
                    <a:pt x="6881" y="8994"/>
                  </a:lnTo>
                  <a:lnTo>
                    <a:pt x="6880" y="9015"/>
                  </a:lnTo>
                  <a:lnTo>
                    <a:pt x="6877" y="9038"/>
                  </a:lnTo>
                  <a:lnTo>
                    <a:pt x="6875" y="9062"/>
                  </a:lnTo>
                  <a:lnTo>
                    <a:pt x="6870" y="9087"/>
                  </a:lnTo>
                  <a:lnTo>
                    <a:pt x="6865" y="9113"/>
                  </a:lnTo>
                  <a:lnTo>
                    <a:pt x="6858" y="9140"/>
                  </a:lnTo>
                  <a:lnTo>
                    <a:pt x="6851" y="9169"/>
                  </a:lnTo>
                  <a:lnTo>
                    <a:pt x="6833" y="9229"/>
                  </a:lnTo>
                  <a:lnTo>
                    <a:pt x="6812" y="9296"/>
                  </a:lnTo>
                  <a:lnTo>
                    <a:pt x="6787" y="9368"/>
                  </a:lnTo>
                  <a:lnTo>
                    <a:pt x="6757" y="944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12440" y="5274000"/>
              <a:ext cx="11160" cy="10080"/>
            </a:xfrm>
            <a:custGeom>
              <a:avLst/>
              <a:gdLst/>
              <a:ahLst/>
              <a:rect l="l" t="t" r="r" b="b"/>
              <a:pathLst>
                <a:path w="75" h="70">
                  <a:moveTo>
                    <a:pt x="75" y="58"/>
                  </a:moveTo>
                  <a:lnTo>
                    <a:pt x="52" y="0"/>
                  </a:lnTo>
                  <a:lnTo>
                    <a:pt x="0" y="35"/>
                  </a:lnTo>
                  <a:lnTo>
                    <a:pt x="11" y="70"/>
                  </a:lnTo>
                  <a:lnTo>
                    <a:pt x="75" y="5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139960" y="5206320"/>
              <a:ext cx="44280" cy="37440"/>
            </a:xfrm>
            <a:custGeom>
              <a:avLst/>
              <a:gdLst/>
              <a:ahLst/>
              <a:rect l="l" t="t" r="r" b="b"/>
              <a:pathLst>
                <a:path w="297" h="250">
                  <a:moveTo>
                    <a:pt x="257" y="123"/>
                  </a:moveTo>
                  <a:lnTo>
                    <a:pt x="233" y="87"/>
                  </a:lnTo>
                  <a:lnTo>
                    <a:pt x="216" y="93"/>
                  </a:lnTo>
                  <a:lnTo>
                    <a:pt x="221" y="129"/>
                  </a:lnTo>
                  <a:lnTo>
                    <a:pt x="187" y="157"/>
                  </a:lnTo>
                  <a:lnTo>
                    <a:pt x="187" y="198"/>
                  </a:lnTo>
                  <a:lnTo>
                    <a:pt x="163" y="233"/>
                  </a:lnTo>
                  <a:lnTo>
                    <a:pt x="175" y="250"/>
                  </a:lnTo>
                  <a:lnTo>
                    <a:pt x="211" y="222"/>
                  </a:lnTo>
                  <a:lnTo>
                    <a:pt x="291" y="210"/>
                  </a:lnTo>
                  <a:lnTo>
                    <a:pt x="297" y="163"/>
                  </a:lnTo>
                  <a:lnTo>
                    <a:pt x="257" y="123"/>
                  </a:lnTo>
                  <a:close/>
                  <a:moveTo>
                    <a:pt x="175" y="151"/>
                  </a:moveTo>
                  <a:lnTo>
                    <a:pt x="175" y="117"/>
                  </a:lnTo>
                  <a:lnTo>
                    <a:pt x="169" y="99"/>
                  </a:lnTo>
                  <a:lnTo>
                    <a:pt x="181" y="93"/>
                  </a:lnTo>
                  <a:lnTo>
                    <a:pt x="175" y="11"/>
                  </a:lnTo>
                  <a:lnTo>
                    <a:pt x="111" y="0"/>
                  </a:lnTo>
                  <a:lnTo>
                    <a:pt x="76" y="41"/>
                  </a:lnTo>
                  <a:lnTo>
                    <a:pt x="64" y="41"/>
                  </a:lnTo>
                  <a:lnTo>
                    <a:pt x="58" y="23"/>
                  </a:lnTo>
                  <a:lnTo>
                    <a:pt x="24" y="11"/>
                  </a:lnTo>
                  <a:lnTo>
                    <a:pt x="12" y="0"/>
                  </a:lnTo>
                  <a:lnTo>
                    <a:pt x="0" y="17"/>
                  </a:lnTo>
                  <a:lnTo>
                    <a:pt x="47" y="53"/>
                  </a:lnTo>
                  <a:lnTo>
                    <a:pt x="64" y="53"/>
                  </a:lnTo>
                  <a:lnTo>
                    <a:pt x="70" y="105"/>
                  </a:lnTo>
                  <a:lnTo>
                    <a:pt x="82" y="123"/>
                  </a:lnTo>
                  <a:lnTo>
                    <a:pt x="117" y="129"/>
                  </a:lnTo>
                  <a:lnTo>
                    <a:pt x="129" y="151"/>
                  </a:lnTo>
                  <a:lnTo>
                    <a:pt x="163" y="157"/>
                  </a:lnTo>
                  <a:lnTo>
                    <a:pt x="175" y="15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951320" y="5226120"/>
              <a:ext cx="106200" cy="64800"/>
            </a:xfrm>
            <a:custGeom>
              <a:avLst/>
              <a:gdLst/>
              <a:ahLst/>
              <a:rect l="l" t="t" r="r" b="b"/>
              <a:pathLst>
                <a:path w="706" h="431">
                  <a:moveTo>
                    <a:pt x="636" y="17"/>
                  </a:moveTo>
                  <a:lnTo>
                    <a:pt x="624" y="29"/>
                  </a:lnTo>
                  <a:lnTo>
                    <a:pt x="543" y="23"/>
                  </a:lnTo>
                  <a:lnTo>
                    <a:pt x="526" y="0"/>
                  </a:lnTo>
                  <a:lnTo>
                    <a:pt x="496" y="0"/>
                  </a:lnTo>
                  <a:lnTo>
                    <a:pt x="496" y="6"/>
                  </a:lnTo>
                  <a:lnTo>
                    <a:pt x="415" y="0"/>
                  </a:lnTo>
                  <a:lnTo>
                    <a:pt x="385" y="23"/>
                  </a:lnTo>
                  <a:lnTo>
                    <a:pt x="363" y="17"/>
                  </a:lnTo>
                  <a:lnTo>
                    <a:pt x="339" y="6"/>
                  </a:lnTo>
                  <a:lnTo>
                    <a:pt x="333" y="35"/>
                  </a:lnTo>
                  <a:lnTo>
                    <a:pt x="275" y="64"/>
                  </a:lnTo>
                  <a:lnTo>
                    <a:pt x="269" y="105"/>
                  </a:lnTo>
                  <a:lnTo>
                    <a:pt x="240" y="82"/>
                  </a:lnTo>
                  <a:lnTo>
                    <a:pt x="187" y="76"/>
                  </a:lnTo>
                  <a:lnTo>
                    <a:pt x="205" y="122"/>
                  </a:lnTo>
                  <a:lnTo>
                    <a:pt x="181" y="140"/>
                  </a:lnTo>
                  <a:lnTo>
                    <a:pt x="152" y="128"/>
                  </a:lnTo>
                  <a:lnTo>
                    <a:pt x="135" y="146"/>
                  </a:lnTo>
                  <a:lnTo>
                    <a:pt x="106" y="140"/>
                  </a:lnTo>
                  <a:lnTo>
                    <a:pt x="100" y="170"/>
                  </a:lnTo>
                  <a:lnTo>
                    <a:pt x="59" y="192"/>
                  </a:lnTo>
                  <a:lnTo>
                    <a:pt x="42" y="180"/>
                  </a:lnTo>
                  <a:lnTo>
                    <a:pt x="0" y="222"/>
                  </a:lnTo>
                  <a:lnTo>
                    <a:pt x="18" y="244"/>
                  </a:lnTo>
                  <a:lnTo>
                    <a:pt x="42" y="262"/>
                  </a:lnTo>
                  <a:lnTo>
                    <a:pt x="12" y="262"/>
                  </a:lnTo>
                  <a:lnTo>
                    <a:pt x="0" y="250"/>
                  </a:lnTo>
                  <a:lnTo>
                    <a:pt x="6" y="286"/>
                  </a:lnTo>
                  <a:lnTo>
                    <a:pt x="0" y="298"/>
                  </a:lnTo>
                  <a:lnTo>
                    <a:pt x="30" y="292"/>
                  </a:lnTo>
                  <a:lnTo>
                    <a:pt x="42" y="304"/>
                  </a:lnTo>
                  <a:lnTo>
                    <a:pt x="12" y="332"/>
                  </a:lnTo>
                  <a:lnTo>
                    <a:pt x="30" y="356"/>
                  </a:lnTo>
                  <a:lnTo>
                    <a:pt x="36" y="379"/>
                  </a:lnTo>
                  <a:lnTo>
                    <a:pt x="59" y="379"/>
                  </a:lnTo>
                  <a:lnTo>
                    <a:pt x="64" y="408"/>
                  </a:lnTo>
                  <a:lnTo>
                    <a:pt x="82" y="408"/>
                  </a:lnTo>
                  <a:lnTo>
                    <a:pt x="88" y="431"/>
                  </a:lnTo>
                  <a:lnTo>
                    <a:pt x="112" y="426"/>
                  </a:lnTo>
                  <a:lnTo>
                    <a:pt x="112" y="315"/>
                  </a:lnTo>
                  <a:lnTo>
                    <a:pt x="113" y="311"/>
                  </a:lnTo>
                  <a:lnTo>
                    <a:pt x="120" y="299"/>
                  </a:lnTo>
                  <a:lnTo>
                    <a:pt x="129" y="284"/>
                  </a:lnTo>
                  <a:lnTo>
                    <a:pt x="138" y="266"/>
                  </a:lnTo>
                  <a:lnTo>
                    <a:pt x="149" y="247"/>
                  </a:lnTo>
                  <a:lnTo>
                    <a:pt x="158" y="231"/>
                  </a:lnTo>
                  <a:lnTo>
                    <a:pt x="166" y="221"/>
                  </a:lnTo>
                  <a:lnTo>
                    <a:pt x="170" y="216"/>
                  </a:lnTo>
                  <a:lnTo>
                    <a:pt x="176" y="214"/>
                  </a:lnTo>
                  <a:lnTo>
                    <a:pt x="192" y="206"/>
                  </a:lnTo>
                  <a:lnTo>
                    <a:pt x="214" y="196"/>
                  </a:lnTo>
                  <a:lnTo>
                    <a:pt x="239" y="184"/>
                  </a:lnTo>
                  <a:lnTo>
                    <a:pt x="265" y="172"/>
                  </a:lnTo>
                  <a:lnTo>
                    <a:pt x="288" y="161"/>
                  </a:lnTo>
                  <a:lnTo>
                    <a:pt x="303" y="154"/>
                  </a:lnTo>
                  <a:lnTo>
                    <a:pt x="309" y="152"/>
                  </a:lnTo>
                  <a:lnTo>
                    <a:pt x="357" y="122"/>
                  </a:lnTo>
                  <a:lnTo>
                    <a:pt x="508" y="93"/>
                  </a:lnTo>
                  <a:lnTo>
                    <a:pt x="648" y="93"/>
                  </a:lnTo>
                  <a:lnTo>
                    <a:pt x="706" y="59"/>
                  </a:lnTo>
                  <a:lnTo>
                    <a:pt x="694" y="17"/>
                  </a:lnTo>
                  <a:lnTo>
                    <a:pt x="636" y="1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570160" y="5304240"/>
              <a:ext cx="1440" cy="3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2" y="0"/>
                  </a:moveTo>
                  <a:lnTo>
                    <a:pt x="4" y="2"/>
                  </a:lnTo>
                  <a:lnTo>
                    <a:pt x="5" y="5"/>
                  </a:lnTo>
                  <a:lnTo>
                    <a:pt x="5" y="7"/>
                  </a:lnTo>
                  <a:lnTo>
                    <a:pt x="6" y="9"/>
                  </a:lnTo>
                  <a:lnTo>
                    <a:pt x="6" y="12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8" y="19"/>
                  </a:lnTo>
                  <a:lnTo>
                    <a:pt x="0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520480" y="5538960"/>
              <a:ext cx="50400" cy="95760"/>
            </a:xfrm>
            <a:custGeom>
              <a:avLst/>
              <a:gdLst/>
              <a:ahLst/>
              <a:rect l="l" t="t" r="r" b="b"/>
              <a:pathLst>
                <a:path w="333" h="640">
                  <a:moveTo>
                    <a:pt x="333" y="153"/>
                  </a:moveTo>
                  <a:lnTo>
                    <a:pt x="327" y="170"/>
                  </a:lnTo>
                  <a:lnTo>
                    <a:pt x="323" y="187"/>
                  </a:lnTo>
                  <a:lnTo>
                    <a:pt x="317" y="204"/>
                  </a:lnTo>
                  <a:lnTo>
                    <a:pt x="312" y="221"/>
                  </a:lnTo>
                  <a:lnTo>
                    <a:pt x="306" y="238"/>
                  </a:lnTo>
                  <a:lnTo>
                    <a:pt x="300" y="254"/>
                  </a:lnTo>
                  <a:lnTo>
                    <a:pt x="294" y="271"/>
                  </a:lnTo>
                  <a:lnTo>
                    <a:pt x="288" y="288"/>
                  </a:lnTo>
                  <a:lnTo>
                    <a:pt x="280" y="273"/>
                  </a:lnTo>
                  <a:lnTo>
                    <a:pt x="262" y="175"/>
                  </a:lnTo>
                  <a:lnTo>
                    <a:pt x="309" y="140"/>
                  </a:lnTo>
                  <a:lnTo>
                    <a:pt x="333" y="153"/>
                  </a:lnTo>
                  <a:close/>
                  <a:moveTo>
                    <a:pt x="275" y="323"/>
                  </a:moveTo>
                  <a:lnTo>
                    <a:pt x="260" y="364"/>
                  </a:lnTo>
                  <a:lnTo>
                    <a:pt x="244" y="404"/>
                  </a:lnTo>
                  <a:lnTo>
                    <a:pt x="227" y="443"/>
                  </a:lnTo>
                  <a:lnTo>
                    <a:pt x="210" y="484"/>
                  </a:lnTo>
                  <a:lnTo>
                    <a:pt x="192" y="523"/>
                  </a:lnTo>
                  <a:lnTo>
                    <a:pt x="174" y="562"/>
                  </a:lnTo>
                  <a:lnTo>
                    <a:pt x="155" y="600"/>
                  </a:lnTo>
                  <a:lnTo>
                    <a:pt x="136" y="640"/>
                  </a:lnTo>
                  <a:lnTo>
                    <a:pt x="129" y="600"/>
                  </a:lnTo>
                  <a:lnTo>
                    <a:pt x="123" y="542"/>
                  </a:lnTo>
                  <a:lnTo>
                    <a:pt x="135" y="530"/>
                  </a:lnTo>
                  <a:lnTo>
                    <a:pt x="129" y="496"/>
                  </a:lnTo>
                  <a:lnTo>
                    <a:pt x="135" y="338"/>
                  </a:lnTo>
                  <a:lnTo>
                    <a:pt x="105" y="315"/>
                  </a:lnTo>
                  <a:lnTo>
                    <a:pt x="105" y="267"/>
                  </a:lnTo>
                  <a:lnTo>
                    <a:pt x="75" y="227"/>
                  </a:lnTo>
                  <a:lnTo>
                    <a:pt x="35" y="163"/>
                  </a:lnTo>
                  <a:lnTo>
                    <a:pt x="23" y="117"/>
                  </a:lnTo>
                  <a:lnTo>
                    <a:pt x="0" y="76"/>
                  </a:lnTo>
                  <a:lnTo>
                    <a:pt x="6" y="0"/>
                  </a:lnTo>
                  <a:lnTo>
                    <a:pt x="23" y="12"/>
                  </a:lnTo>
                  <a:lnTo>
                    <a:pt x="71" y="29"/>
                  </a:lnTo>
                  <a:lnTo>
                    <a:pt x="111" y="99"/>
                  </a:lnTo>
                  <a:lnTo>
                    <a:pt x="163" y="163"/>
                  </a:lnTo>
                  <a:lnTo>
                    <a:pt x="239" y="297"/>
                  </a:lnTo>
                  <a:lnTo>
                    <a:pt x="274" y="321"/>
                  </a:lnTo>
                  <a:lnTo>
                    <a:pt x="275" y="32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749720" y="5325480"/>
              <a:ext cx="9000" cy="20520"/>
            </a:xfrm>
            <a:custGeom>
              <a:avLst/>
              <a:gdLst/>
              <a:ahLst/>
              <a:rect l="l" t="t" r="r" b="b"/>
              <a:pathLst>
                <a:path w="64" h="135">
                  <a:moveTo>
                    <a:pt x="64" y="135"/>
                  </a:moveTo>
                  <a:lnTo>
                    <a:pt x="63" y="135"/>
                  </a:lnTo>
                  <a:lnTo>
                    <a:pt x="58" y="135"/>
                  </a:lnTo>
                  <a:lnTo>
                    <a:pt x="51" y="135"/>
                  </a:lnTo>
                  <a:lnTo>
                    <a:pt x="44" y="135"/>
                  </a:lnTo>
                  <a:lnTo>
                    <a:pt x="37" y="135"/>
                  </a:lnTo>
                  <a:lnTo>
                    <a:pt x="29" y="135"/>
                  </a:lnTo>
                  <a:lnTo>
                    <a:pt x="25" y="135"/>
                  </a:lnTo>
                  <a:lnTo>
                    <a:pt x="23" y="135"/>
                  </a:lnTo>
                  <a:lnTo>
                    <a:pt x="6" y="117"/>
                  </a:lnTo>
                  <a:lnTo>
                    <a:pt x="6" y="81"/>
                  </a:lnTo>
                  <a:lnTo>
                    <a:pt x="0" y="76"/>
                  </a:lnTo>
                  <a:lnTo>
                    <a:pt x="12" y="64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23" y="47"/>
                  </a:lnTo>
                  <a:lnTo>
                    <a:pt x="35" y="70"/>
                  </a:lnTo>
                  <a:lnTo>
                    <a:pt x="52" y="47"/>
                  </a:lnTo>
                  <a:lnTo>
                    <a:pt x="41" y="29"/>
                  </a:lnTo>
                  <a:lnTo>
                    <a:pt x="46" y="12"/>
                  </a:lnTo>
                  <a:lnTo>
                    <a:pt x="58" y="23"/>
                  </a:lnTo>
                  <a:lnTo>
                    <a:pt x="58" y="58"/>
                  </a:lnTo>
                  <a:lnTo>
                    <a:pt x="52" y="76"/>
                  </a:lnTo>
                  <a:lnTo>
                    <a:pt x="53" y="79"/>
                  </a:lnTo>
                  <a:lnTo>
                    <a:pt x="54" y="85"/>
                  </a:lnTo>
                  <a:lnTo>
                    <a:pt x="56" y="94"/>
                  </a:lnTo>
                  <a:lnTo>
                    <a:pt x="58" y="105"/>
                  </a:lnTo>
                  <a:lnTo>
                    <a:pt x="60" y="116"/>
                  </a:lnTo>
                  <a:lnTo>
                    <a:pt x="63" y="125"/>
                  </a:lnTo>
                  <a:lnTo>
                    <a:pt x="64" y="131"/>
                  </a:lnTo>
                  <a:lnTo>
                    <a:pt x="64" y="13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769520" y="5314320"/>
              <a:ext cx="2880" cy="6840"/>
            </a:xfrm>
            <a:custGeom>
              <a:avLst/>
              <a:gdLst/>
              <a:ahLst/>
              <a:rect l="l" t="t" r="r" b="b"/>
              <a:pathLst>
                <a:path w="24" h="52">
                  <a:moveTo>
                    <a:pt x="6" y="52"/>
                  </a:moveTo>
                  <a:lnTo>
                    <a:pt x="0" y="24"/>
                  </a:lnTo>
                  <a:lnTo>
                    <a:pt x="12" y="0"/>
                  </a:lnTo>
                  <a:lnTo>
                    <a:pt x="24" y="18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70960" y="5270760"/>
              <a:ext cx="20520" cy="28080"/>
            </a:xfrm>
            <a:custGeom>
              <a:avLst/>
              <a:gdLst/>
              <a:ahLst/>
              <a:rect l="l" t="t" r="r" b="b"/>
              <a:pathLst>
                <a:path w="134" h="193">
                  <a:moveTo>
                    <a:pt x="134" y="93"/>
                  </a:moveTo>
                  <a:lnTo>
                    <a:pt x="93" y="111"/>
                  </a:lnTo>
                  <a:lnTo>
                    <a:pt x="64" y="187"/>
                  </a:lnTo>
                  <a:lnTo>
                    <a:pt x="6" y="193"/>
                  </a:lnTo>
                  <a:lnTo>
                    <a:pt x="0" y="175"/>
                  </a:lnTo>
                  <a:lnTo>
                    <a:pt x="28" y="169"/>
                  </a:lnTo>
                  <a:lnTo>
                    <a:pt x="40" y="122"/>
                  </a:lnTo>
                  <a:lnTo>
                    <a:pt x="34" y="99"/>
                  </a:lnTo>
                  <a:lnTo>
                    <a:pt x="58" y="75"/>
                  </a:lnTo>
                  <a:lnTo>
                    <a:pt x="87" y="52"/>
                  </a:lnTo>
                  <a:lnTo>
                    <a:pt x="87" y="81"/>
                  </a:lnTo>
                  <a:lnTo>
                    <a:pt x="99" y="99"/>
                  </a:lnTo>
                  <a:lnTo>
                    <a:pt x="122" y="75"/>
                  </a:lnTo>
                  <a:lnTo>
                    <a:pt x="110" y="40"/>
                  </a:lnTo>
                  <a:lnTo>
                    <a:pt x="128" y="0"/>
                  </a:lnTo>
                  <a:lnTo>
                    <a:pt x="134" y="40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01880" y="5597280"/>
              <a:ext cx="49680" cy="74160"/>
            </a:xfrm>
            <a:custGeom>
              <a:avLst/>
              <a:gdLst/>
              <a:ahLst/>
              <a:rect l="l" t="t" r="r" b="b"/>
              <a:pathLst>
                <a:path w="333" h="496">
                  <a:moveTo>
                    <a:pt x="327" y="63"/>
                  </a:moveTo>
                  <a:lnTo>
                    <a:pt x="309" y="87"/>
                  </a:lnTo>
                  <a:lnTo>
                    <a:pt x="315" y="117"/>
                  </a:lnTo>
                  <a:lnTo>
                    <a:pt x="309" y="145"/>
                  </a:lnTo>
                  <a:lnTo>
                    <a:pt x="315" y="169"/>
                  </a:lnTo>
                  <a:lnTo>
                    <a:pt x="309" y="187"/>
                  </a:lnTo>
                  <a:lnTo>
                    <a:pt x="297" y="221"/>
                  </a:lnTo>
                  <a:lnTo>
                    <a:pt x="286" y="209"/>
                  </a:lnTo>
                  <a:lnTo>
                    <a:pt x="268" y="239"/>
                  </a:lnTo>
                  <a:lnTo>
                    <a:pt x="286" y="251"/>
                  </a:lnTo>
                  <a:lnTo>
                    <a:pt x="291" y="268"/>
                  </a:lnTo>
                  <a:lnTo>
                    <a:pt x="268" y="268"/>
                  </a:lnTo>
                  <a:lnTo>
                    <a:pt x="262" y="279"/>
                  </a:lnTo>
                  <a:lnTo>
                    <a:pt x="234" y="338"/>
                  </a:lnTo>
                  <a:lnTo>
                    <a:pt x="210" y="344"/>
                  </a:lnTo>
                  <a:lnTo>
                    <a:pt x="192" y="361"/>
                  </a:lnTo>
                  <a:lnTo>
                    <a:pt x="175" y="378"/>
                  </a:lnTo>
                  <a:lnTo>
                    <a:pt x="140" y="396"/>
                  </a:lnTo>
                  <a:lnTo>
                    <a:pt x="140" y="448"/>
                  </a:lnTo>
                  <a:lnTo>
                    <a:pt x="82" y="496"/>
                  </a:lnTo>
                  <a:lnTo>
                    <a:pt x="0" y="484"/>
                  </a:lnTo>
                  <a:lnTo>
                    <a:pt x="30" y="466"/>
                  </a:lnTo>
                  <a:lnTo>
                    <a:pt x="52" y="460"/>
                  </a:lnTo>
                  <a:lnTo>
                    <a:pt x="47" y="426"/>
                  </a:lnTo>
                  <a:lnTo>
                    <a:pt x="64" y="442"/>
                  </a:lnTo>
                  <a:lnTo>
                    <a:pt x="110" y="414"/>
                  </a:lnTo>
                  <a:lnTo>
                    <a:pt x="122" y="378"/>
                  </a:lnTo>
                  <a:lnTo>
                    <a:pt x="175" y="326"/>
                  </a:lnTo>
                  <a:lnTo>
                    <a:pt x="180" y="303"/>
                  </a:lnTo>
                  <a:lnTo>
                    <a:pt x="204" y="268"/>
                  </a:lnTo>
                  <a:lnTo>
                    <a:pt x="216" y="239"/>
                  </a:lnTo>
                  <a:lnTo>
                    <a:pt x="245" y="209"/>
                  </a:lnTo>
                  <a:lnTo>
                    <a:pt x="245" y="187"/>
                  </a:lnTo>
                  <a:lnTo>
                    <a:pt x="246" y="184"/>
                  </a:lnTo>
                  <a:lnTo>
                    <a:pt x="248" y="178"/>
                  </a:lnTo>
                  <a:lnTo>
                    <a:pt x="251" y="169"/>
                  </a:lnTo>
                  <a:lnTo>
                    <a:pt x="254" y="159"/>
                  </a:lnTo>
                  <a:lnTo>
                    <a:pt x="259" y="149"/>
                  </a:lnTo>
                  <a:lnTo>
                    <a:pt x="262" y="139"/>
                  </a:lnTo>
                  <a:lnTo>
                    <a:pt x="266" y="132"/>
                  </a:lnTo>
                  <a:lnTo>
                    <a:pt x="268" y="127"/>
                  </a:lnTo>
                  <a:lnTo>
                    <a:pt x="268" y="125"/>
                  </a:lnTo>
                  <a:lnTo>
                    <a:pt x="268" y="119"/>
                  </a:lnTo>
                  <a:lnTo>
                    <a:pt x="268" y="112"/>
                  </a:lnTo>
                  <a:lnTo>
                    <a:pt x="268" y="105"/>
                  </a:lnTo>
                  <a:lnTo>
                    <a:pt x="268" y="99"/>
                  </a:lnTo>
                  <a:lnTo>
                    <a:pt x="268" y="93"/>
                  </a:lnTo>
                  <a:lnTo>
                    <a:pt x="268" y="88"/>
                  </a:lnTo>
                  <a:lnTo>
                    <a:pt x="268" y="87"/>
                  </a:lnTo>
                  <a:lnTo>
                    <a:pt x="286" y="69"/>
                  </a:lnTo>
                  <a:lnTo>
                    <a:pt x="286" y="5"/>
                  </a:lnTo>
                  <a:lnTo>
                    <a:pt x="303" y="0"/>
                  </a:lnTo>
                  <a:lnTo>
                    <a:pt x="333" y="29"/>
                  </a:lnTo>
                  <a:lnTo>
                    <a:pt x="327" y="6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2560" cy="91440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 rot="5400000">
            <a:off x="7962840" y="723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be8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2129-B675-4FA4-960B-F2234DCAE88A}" type="slidenum">
              <a:rPr b="0" lang="ru-RU" sz="1400" spc="-1" strike="noStrike">
                <a:solidFill>
                  <a:srgbClr val="eebe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7333560" y="6400800"/>
            <a:ext cx="177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ebe84"/>
                </a:solidFill>
                <a:latin typeface="Arial Black"/>
              </a:rPr>
              <a:t>Энергетичес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ebe84"/>
                </a:solidFill>
                <a:latin typeface="Arial Black"/>
              </a:rPr>
              <a:t>Углеродный Фон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3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9984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i="1" lang="en-GB" sz="4000" spc="-1" strike="noStrike">
                <a:solidFill>
                  <a:srgbClr val="808000"/>
                </a:solidFill>
                <a:latin typeface="Times New Roman"/>
              </a:rPr>
              <a:t>JI </a:t>
            </a:r>
            <a:r>
              <a:rPr b="1" i="1" lang="en-US" sz="4000" spc="-1" strike="noStrike">
                <a:solidFill>
                  <a:srgbClr val="808000"/>
                </a:solidFill>
                <a:latin typeface="Times New Roman"/>
              </a:rPr>
              <a:t>Projects </a:t>
            </a:r>
            <a:br>
              <a:rPr sz="4000"/>
            </a:br>
            <a:r>
              <a:rPr b="1" i="1" lang="en-US" sz="4000" spc="-1" strike="noStrike">
                <a:solidFill>
                  <a:srgbClr val="808000"/>
                </a:solidFill>
                <a:latin typeface="Times New Roman"/>
              </a:rPr>
              <a:t>in the Russian Power Indust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ikhail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 Rogankov</a:t>
            </a:r>
            <a:br>
              <a:rPr sz="2000"/>
            </a:b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Chief Executive Officer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cting</a:t>
            </a:r>
            <a:br>
              <a:rPr sz="2000"/>
            </a:b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Energy Carbon Fun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el.: +7 (095) 727 30 74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ax: +7 (095) 727 30 96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-mail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: ecf@ecf.elektra.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Web-site: сarbonfund.ru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3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RAO “UESR’s” Carbon Potential</a:t>
            </a:r>
            <a:endParaRPr b="1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1143000"/>
          <a:ext cx="8686800" cy="2573280"/>
        </p:xfrm>
        <a:graphic>
          <a:graphicData uri="http://schemas.openxmlformats.org/drawingml/2006/table">
            <a:tbl>
              <a:tblPr/>
              <a:tblGrid>
                <a:gridCol w="4419720"/>
                <a:gridCol w="2286000"/>
                <a:gridCol w="198108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ission reductions, M ton for the peri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bon incomes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Eu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Us from JI in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08-201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7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mall- and medium scale projec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-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0-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mission reductions from JI in early stag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-2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289080" y="3927600"/>
            <a:ext cx="8626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u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ission Trading at international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f UESR is authorized to do that with the gained emission reductions versus quo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ission Trading through National ETS and Intercorporate 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oth compatible with EU ETS. Both are under develo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3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9 PDDs  have been developed by Energy Carbon Fund</a:t>
            </a:r>
            <a:endParaRPr b="1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37880"/>
            <a:ext cx="7772400" cy="50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fa CHP plant No. 4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gas tur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x3.15 MW Pravdinsk Hydro No. 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mall Hyd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0 MW off-shore wind park in Kaliningrad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50 MW unit at Shekinsky TPP - combined cycle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50 MW unit at Tomsk CHP No. 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bined cycle + flar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5 MW unit at Mutnovckaya Geo Power Plan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othermal 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Mednogorsk CHP  - 2x10 MW combined cycle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district heating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Kirishi TPP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–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witch from heavy oil to gas (2 boil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Amursk CHP No. 1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 switch from coal to gas (2 boilers)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optimization of the plant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00000"/>
                </a:solidFill>
                <a:uFillTx/>
                <a:latin typeface="Times New Roman"/>
              </a:rPr>
              <a:t>RED – are the projects participating  in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800000"/>
                </a:solidFill>
                <a:uFillTx/>
                <a:latin typeface="Times New Roman"/>
              </a:rPr>
              <a:t>ERUPT-4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800000"/>
                </a:solidFill>
                <a:uFillTx/>
                <a:latin typeface="Times New Roman"/>
              </a:rPr>
              <a:t>they have been  validated by TUV Sueddeutschland in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3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Times New Roman"/>
              </a:rPr>
              <a:t>You are welcome to UESR and Energy Carbon Fund both for JI development and  R&amp;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066680"/>
            <a:ext cx="8305920" cy="55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Times New Roman"/>
              </a:rPr>
              <a:t>You will deal with the company whi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52% is owned by the Russian Govern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the full GHG inventory for 365 power plants from 1990 approved by independent entity (Environmental Defense – USA) and by Russian independent exper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a functioning  GHG monitoring system throughout the Company and regional utiliti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an experience in participating in 4 foreign tende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9 PDDs already developed, 3 validat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its own methodologies, standardized baselines, etc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a project database (320 project proposals and 27 of priority) and criteria to select carbon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Times New Roman"/>
              </a:rPr>
              <a:t>HAS A WILL TO ACHIEVE REASULTS 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3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Times New Roman"/>
              </a:rPr>
              <a:t>PROBLEMS OF JI PROJECTS</a:t>
            </a:r>
            <a:endParaRPr b="1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ity – projects have a double origin: efficiency and GHG reduction. There is no means to separate them from each other. Host company will not deal with economically non-efficient pro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 procedures were not discussed at COP 9 (CDM methodologies are u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ifference between large scale projects and small-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echnologies go without saying for JI (renewables, switch for gas and biomass, use of flare gas, methane from coal mine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double validation: national and international (some outcomes could be recognized by another validator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 requirements are becoming more and more compl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little time left to prepare and start JI projects before 2008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CF database on JI projects: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3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Times New Roman"/>
              </a:rPr>
              <a:t>GHG Emissions in the Power Sector according to the Inventory</a:t>
            </a:r>
            <a:endParaRPr b="1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40" y="7920"/>
            <a:ext cx="9108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82480" y="1165320"/>
          <a:ext cx="801684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2480" y="1165320"/>
                    <a:ext cx="801684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524960" y="175248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8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24680" y="289548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70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0" y="289548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87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28954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75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3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08000"/>
                </a:solidFill>
                <a:latin typeface="Times New Roman"/>
              </a:rPr>
              <a:t>ECF organisational structure</a:t>
            </a:r>
            <a:endParaRPr b="1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3733920"/>
            <a:ext cx="1904760" cy="6094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anagement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5181480"/>
            <a:ext cx="1600200" cy="10670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ventory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ni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676520"/>
            <a:ext cx="24382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Founder - RAO U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28195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ounc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3124080"/>
            <a:ext cx="182880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hairma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r. A.Chub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5181480"/>
            <a:ext cx="1219320" cy="1143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&amp;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5181480"/>
            <a:ext cx="1447920" cy="1143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op &amp; Mark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8" idx="4"/>
            <a:endCxn id="59" idx="0"/>
          </p:cNvCxnSpPr>
          <p:nvPr/>
        </p:nvCxnSpPr>
        <p:spPr>
          <a:xfrm>
            <a:off x="3352680" y="2437920"/>
            <a:ext cx="76680" cy="381960"/>
          </a:xfrm>
          <a:prstGeom prst="straightConnector1">
            <a:avLst/>
          </a:prstGeom>
          <a:ln w="88920">
            <a:solidFill>
              <a:srgbClr val="0000ff"/>
            </a:solidFill>
            <a:miter/>
          </a:ln>
        </p:spPr>
      </p:cxnSp>
      <p:cxnSp>
        <p:nvCxnSpPr>
          <p:cNvPr id="64" name=""/>
          <p:cNvCxnSpPr>
            <a:stCxn id="60" idx="2"/>
            <a:endCxn id="60" idx="2"/>
          </p:cNvCxnSpPr>
          <p:nvPr/>
        </p:nvCxnSpPr>
        <p:spPr>
          <a:xfrm>
            <a:off x="3885840" y="3466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59" idx="4"/>
            <a:endCxn id="56" idx="0"/>
          </p:cNvCxnSpPr>
          <p:nvPr/>
        </p:nvCxnSpPr>
        <p:spPr>
          <a:xfrm flipH="1">
            <a:off x="2856960" y="3504960"/>
            <a:ext cx="572040" cy="229320"/>
          </a:xfrm>
          <a:prstGeom prst="straightConnector1">
            <a:avLst/>
          </a:prstGeom>
          <a:ln w="88920">
            <a:solidFill>
              <a:srgbClr val="0000ff"/>
            </a:solidFill>
            <a:miter/>
          </a:ln>
        </p:spPr>
      </p:cxnSp>
      <p:cxnSp>
        <p:nvCxnSpPr>
          <p:cNvPr id="66" name=""/>
          <p:cNvCxnSpPr>
            <a:stCxn id="56" idx="2"/>
            <a:endCxn id="62" idx="0"/>
          </p:cNvCxnSpPr>
          <p:nvPr/>
        </p:nvCxnSpPr>
        <p:spPr>
          <a:xfrm>
            <a:off x="2857680" y="4343400"/>
            <a:ext cx="2134080" cy="838800"/>
          </a:xfrm>
          <a:prstGeom prst="straightConnector1">
            <a:avLst/>
          </a:prstGeom>
          <a:ln w="88920">
            <a:solidFill>
              <a:srgbClr val="0000ff"/>
            </a:solidFill>
            <a:miter/>
          </a:ln>
        </p:spPr>
      </p:cxnSp>
      <p:cxnSp>
        <p:nvCxnSpPr>
          <p:cNvPr id="67" name=""/>
          <p:cNvCxnSpPr>
            <a:stCxn id="56" idx="2"/>
            <a:endCxn id="61" idx="0"/>
          </p:cNvCxnSpPr>
          <p:nvPr/>
        </p:nvCxnSpPr>
        <p:spPr>
          <a:xfrm>
            <a:off x="2857680" y="4343400"/>
            <a:ext cx="267120" cy="838800"/>
          </a:xfrm>
          <a:prstGeom prst="straightConnector1">
            <a:avLst/>
          </a:prstGeom>
          <a:ln w="88920">
            <a:solidFill>
              <a:srgbClr val="0000ff"/>
            </a:solidFill>
            <a:miter/>
          </a:ln>
        </p:spPr>
      </p:cxnSp>
      <p:cxnSp>
        <p:nvCxnSpPr>
          <p:cNvPr id="68" name=""/>
          <p:cNvCxnSpPr>
            <a:stCxn id="56" idx="2"/>
            <a:endCxn id="57" idx="0"/>
          </p:cNvCxnSpPr>
          <p:nvPr/>
        </p:nvCxnSpPr>
        <p:spPr>
          <a:xfrm flipH="1">
            <a:off x="1104120" y="4343400"/>
            <a:ext cx="1753560" cy="838800"/>
          </a:xfrm>
          <a:prstGeom prst="straightConnector1">
            <a:avLst/>
          </a:prstGeom>
          <a:ln w="88920">
            <a:solidFill>
              <a:srgbClr val="0000ff"/>
            </a:solidFill>
            <a:miter/>
          </a:ln>
        </p:spPr>
      </p:cxnSp>
      <p:sp>
        <p:nvSpPr>
          <p:cNvPr id="69" name=""/>
          <p:cNvSpPr/>
          <p:nvPr/>
        </p:nvSpPr>
        <p:spPr>
          <a:xfrm>
            <a:off x="6477120" y="19051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1066680" cy="839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867280" y="1447920"/>
            <a:ext cx="29718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ff"/>
                </a:solidFill>
                <a:latin typeface="Times New Roman"/>
              </a:rPr>
              <a:t>Established in: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ff"/>
                </a:solidFill>
                <a:latin typeface="Times New Roman"/>
              </a:rPr>
              <a:t>Status: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Non-commercial investment environmental organ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ff"/>
                </a:solidFill>
                <a:latin typeface="Times New Roman"/>
              </a:rPr>
              <a:t>Mission: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upport environmentally sustainable development of the energy sector by using market based mechanisms to reduce GHG and other pollutants e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ff"/>
                </a:solidFill>
                <a:latin typeface="Times New Roman"/>
              </a:rPr>
              <a:t>Founder: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RAO UE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3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08000"/>
                </a:solidFill>
                <a:latin typeface="Times New Roman"/>
              </a:rPr>
              <a:t>RAO UESR on a Country’s Energy Sector Scale</a:t>
            </a:r>
            <a:br>
              <a:rPr sz="3000"/>
            </a:br>
            <a:endParaRPr b="1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49960" y="2759040"/>
            <a:ext cx="180360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143000"/>
            <a:ext cx="8305920" cy="54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hare of power production  in RF = 69.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hare of heat production in RF    =  32.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lled capacities               = 156.6  G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generation          = 635.8 T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 generation                    = 468.8 mln. G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Employees          = 577,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3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08000"/>
                </a:solidFill>
                <a:latin typeface="Times New Roman"/>
              </a:rPr>
              <a:t>Structure of GHG emissions in Russia </a:t>
            </a:r>
            <a:br>
              <a:rPr sz="3000"/>
            </a:br>
            <a:r>
              <a:rPr b="1" lang="en-GB" sz="2000" spc="-1" strike="noStrike">
                <a:solidFill>
                  <a:srgbClr val="808000"/>
                </a:solidFill>
                <a:latin typeface="Times New Roman"/>
              </a:rPr>
              <a:t>(according to the Third National Communication)</a:t>
            </a:r>
            <a:endParaRPr b="1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960480"/>
          <a:ext cx="9144000" cy="58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60480"/>
                    <a:ext cx="914400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3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PRIMARY ENERGY RESOURCES DEMAND</a:t>
            </a:r>
            <a:r>
              <a:rPr b="1" lang="en-US" sz="2000" spc="-1" strike="noStrike">
                <a:solidFill>
                  <a:srgbClr val="808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808000"/>
                </a:solidFill>
                <a:latin typeface="Times New Roman"/>
              </a:rPr>
              <a:t> (according to the Ministry of Energy</a:t>
            </a: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8000"/>
                </a:solidFill>
                <a:latin typeface="Times New Roman"/>
              </a:rPr>
              <a:t>in </a:t>
            </a: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2003</a:t>
            </a:r>
            <a:r>
              <a:rPr b="1" lang="en-US" sz="2000" spc="-1" strike="noStrike">
                <a:solidFill>
                  <a:srgbClr val="808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6440" y="228600"/>
            <a:ext cx="77724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886040"/>
            <a:ext cx="8178840" cy="43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24920" y="1998720"/>
            <a:ext cx="1440" cy="498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24920" y="1998720"/>
            <a:ext cx="19080" cy="498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762120" y="1638360"/>
          <a:ext cx="7869240" cy="50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38360"/>
                    <a:ext cx="7869240" cy="50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258920" y="206064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ln. t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3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Times New Roman"/>
              </a:rPr>
              <a:t>Potential of organizational/technological measures of energy resources saving by sectors for the period till 2020</a:t>
            </a:r>
            <a:endParaRPr b="1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8600" y="533520"/>
          <a:ext cx="441972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441972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762120" y="4267080"/>
          <a:ext cx="7810560" cy="2286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267080"/>
                    <a:ext cx="78105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484520" y="914400"/>
          <a:ext cx="4659480" cy="5202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914400"/>
                    <a:ext cx="465948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3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UESR  IS “CONDEMNED” TO  JI</a:t>
            </a:r>
            <a:endParaRPr b="1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% of equipment has reached the end of its lifetime (needs replacement/refurbish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% of gas in the fuel mix – a nice opportunity for combined cycle technology and gas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conventional renewables are less than 1% in the power mix while a lot of regional power utilities wants to develop them (a number of projects are well develo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000 small hydro  - in oblivion and needs rehabil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ical situation: CHP plants can replace old and low efficient boiler-houses’  and provide district heating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some cases switch from coal/heavy oil to gas can be prov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great number of project proposals are facing the investment  bar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3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28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Diversity of pro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219320"/>
            <a:ext cx="3429000" cy="2133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1219320"/>
            <a:ext cx="3809880" cy="2133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4038480"/>
            <a:ext cx="3505320" cy="22100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038480"/>
            <a:ext cx="3581280" cy="22100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ograph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Kaliningr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Vladivos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219320"/>
            <a:ext cx="335268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chnolog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bined 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witch to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new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cal improvements (program proje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12952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cale of pro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1 MW to 45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1 mln. Euro to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4267080"/>
            <a:ext cx="3352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rt-te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rom 1.5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d-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ng-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3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24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bined Cycle instead of Steam turb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pgrading TPPs with gas turb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itch from coal/heavy oil to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ments in CHP and district heating systems (including decommissioning of old low efficient boiler hou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newables: rehabilitation of mini hydro (5,000 stations from 1 to 5 MW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 stations (on-shore and off-shore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othermal plants at Kamchatka peninsular (big progra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um-scale hyd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 projects (a number of  small-scale measures of the same type united in one progra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 steam turbines instead of steam pressure reduction  and             cooling devic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 hydro plan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able speed motor drives,  etc.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00000"/>
                </a:solidFill>
                <a:uFillTx/>
                <a:latin typeface="Times New Roman"/>
              </a:rPr>
              <a:t>THERE IS ROOM FOR JI AT MOST OF UESR’s POWER PL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52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Project Technology Diversity in RAO “UES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13:53:29Z</dcterms:created>
  <dc:creator>Mikhail Rogankov</dc:creator>
  <dc:description/>
  <cp:keywords>joint implementation</cp:keywords>
  <dc:language>en-US</dc:language>
  <cp:lastModifiedBy>Jens Wilhelm</cp:lastModifiedBy>
  <cp:lastPrinted>2002-01-25T15:53:44Z</cp:lastPrinted>
  <dcterms:modified xsi:type="dcterms:W3CDTF">2004-09-17T12:13:47Z</dcterms:modified>
  <cp:revision>35</cp:revision>
  <dc:subject/>
  <dc:title>JI Projects in the Russian Power Industry</dc:title>
</cp:coreProperties>
</file>