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474660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474660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57480" y="474660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8520" y="24379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8400" y="24379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474660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28520" y="474660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8400" y="474660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40080" y="1068480"/>
            <a:ext cx="67024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474660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57480" y="474660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474660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6464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437920" y="1066680"/>
            <a:ext cx="6705720" cy="1143000"/>
            <a:chOff x="2437920" y="1066680"/>
            <a:chExt cx="6705720" cy="1143000"/>
          </a:xfrm>
        </p:grpSpPr>
        <p:sp>
          <p:nvSpPr>
            <p:cNvPr id="3" name=""/>
            <p:cNvSpPr/>
            <p:nvPr/>
          </p:nvSpPr>
          <p:spPr>
            <a:xfrm flipH="1">
              <a:off x="2437920" y="1066680"/>
              <a:ext cx="6705720" cy="0"/>
            </a:xfrm>
            <a:prstGeom prst="line">
              <a:avLst/>
            </a:prstGeom>
            <a:ln w="28440">
              <a:solidFill>
                <a:srgbClr val="0a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437920" y="2209680"/>
              <a:ext cx="6705720" cy="0"/>
            </a:xfrm>
            <a:prstGeom prst="line">
              <a:avLst/>
            </a:prstGeom>
            <a:ln w="28440">
              <a:solidFill>
                <a:srgbClr val="0a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38280" y="1066680"/>
              <a:ext cx="0" cy="1143000"/>
            </a:xfrm>
            <a:prstGeom prst="line">
              <a:avLst/>
            </a:prstGeom>
            <a:ln w="28440">
              <a:solidFill>
                <a:srgbClr val="0a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" name=""/>
          <p:cNvGraphicFramePr/>
          <p:nvPr/>
        </p:nvGraphicFramePr>
        <p:xfrm>
          <a:off x="0" y="0"/>
          <a:ext cx="8683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6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The Danish JI Program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UNFCCC Workshop on the Implementation of Article 6 projects under the Kyoto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oscow, 26-27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y Ulla Blatt Bendtsen, Chief Programme Co-ordinator, DE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868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Overview of Presentation</a:t>
            </a:r>
            <a:br>
              <a:rPr sz="3600"/>
            </a:b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acilitating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Facilitating Arrangements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G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xperience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Russian TA project on JI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EPA project started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Key elements: GHG Inventories, JI project portfolio, Emission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eneficiaries: MoEDT, Roshydromet, MoE, MNR, Mo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ntracted parties: COWI, ECON, Denmark’s National Environmental Research Institute, Russian REC, Russian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JI Potential in Russia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normous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missing projects: biomass/cleaner fuel, energy efficiency in industry, landfill methane capture, coal mine methane capture, N2O reduction from fertilizer produc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elected pilot project: Moscow landfills Iksha and Khmetyev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868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a6464"/>
                </a:solidFill>
                <a:latin typeface="Arial"/>
              </a:rPr>
              <a:t>Benefits to Russia from Kyoto ratification</a:t>
            </a:r>
            <a:endParaRPr b="0" lang="en-US" sz="28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ssia will benefit economically by ratifying the Kyoto protoc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fication will enhance the necessary public and private sector investments in energy effici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fication will attract foreign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ssia will be a key market player, and will be able to optimise its economic benefi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Greening AAUs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Greening of AAUs an important part of the Danish JI strateg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arly credits / Late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ceeds from AAU sales invested  in environmental improvements at indust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ceeds from AAU sales used to finance costs of implementing Kyoto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Experience sharing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ransfer of Danish experience implementing IPCC Good Practice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missions trading (former DK and UK experiences and EU 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mplementing EU ETS in practice (Allocation plans and national legis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egal aspects of JI and 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More information on the Danish JI program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ww.mst.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ww.DanishCarbon.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1:33:43Z</dcterms:created>
  <dc:creator>Ulla Blatt Bendtsen</dc:creator>
  <dc:description/>
  <cp:keywords>joint implementation</cp:keywords>
  <dc:language>en-US</dc:language>
  <cp:lastModifiedBy>Jens Wilhelm</cp:lastModifiedBy>
  <cp:lastPrinted>2004-05-24T13:45:26Z</cp:lastPrinted>
  <dcterms:modified xsi:type="dcterms:W3CDTF">2004-09-17T11:55:37Z</dcterms:modified>
  <cp:revision>26</cp:revision>
  <dc:subject/>
  <dc:title>The Danish JI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8051358</vt:r8>
  </property>
  <property fmtid="{D5CDD505-2E9C-101B-9397-08002B2CF9AE}" pid="3" name="_AuthorEmail">
    <vt:lpwstr>jso@netpartner.dk</vt:lpwstr>
  </property>
  <property fmtid="{D5CDD505-2E9C-101B-9397-08002B2CF9AE}" pid="4" name="_AuthorEmailDisplayName">
    <vt:lpwstr>Jesper Sørensen</vt:lpwstr>
  </property>
  <property fmtid="{D5CDD505-2E9C-101B-9397-08002B2CF9AE}" pid="5" name="_EmailSubject">
    <vt:lpwstr>præsentationer</vt:lpwstr>
  </property>
</Properties>
</file>