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42D-5A9D-4F12-B0D9-31BC5DF5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3E1-6475-4BCC-A9D7-CF702AED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C81-9EE5-41F4-AA56-E8A9C7A8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36C-6167-46A5-ADF1-A05B26E5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797-4A40-4037-9F0E-C5497A41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401-1B1B-48F3-99F2-86FEB45F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CA13-95A3-44ED-8CA4-A4495D28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E28-15B0-4CFF-B303-78DCB4AE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B91-8AA3-47ED-A34E-7D7BD74E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832-ED72-4D03-82B5-3660DDBC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748-0412-4A95-9E9F-7AAC2C6B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E11-9A3D-4F84-8409-47EDA56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aili Kajast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400" spc="-1" strike="noStrike">
                <a:solidFill>
                  <a:srgbClr val="000000"/>
                </a:solidFill>
                <a:latin typeface="Times New Roman"/>
              </a:rPr>
              <a:t>Moscow 30.09.2003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FF50-847C-4E88-94CF-C8D9AE107D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209680"/>
            <a:ext cx="6096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ltic Se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sting Ground Fac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Nefco_logo%20tif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121932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914400"/>
            <a:ext cx="74674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5791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05120" y="3808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efco_logo%20tif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1219320" cy="501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1523880"/>
            <a:ext cx="746748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TGF established in December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itial subscribed capital € 1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vernments of Denmark, Finland, Iceland, Norway and Sweden as founding investors. Discussions ongoing with Germany.The intention is to also invite private investo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d management services provided by NEF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05120" y="3808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 OF TG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acilitate &amp; finance a number of concrete pilot projects and acquire cost effective carbon credits for the benefit of the Inv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the JI mechanism, in particular seeking to clarify rules and methodological issues in the context of concrete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mplement the testing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Nefco_logo%20tif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121932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62120"/>
            <a:ext cx="95248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noAutofit/>
          </a:bodyPr>
          <a:p>
            <a:pPr marL="343080" indent="-343080">
              <a:spcBef>
                <a:spcPts val="575"/>
              </a:spcBef>
              <a:buClr>
                <a:srgbClr val="00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52280"/>
          <a:ext cx="1301760" cy="5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13017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04920" y="914400"/>
            <a:ext cx="82296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371600"/>
            <a:ext cx="2556000" cy="79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PHAS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GOVER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1371600"/>
            <a:ext cx="2633400" cy="79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ENTE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819520"/>
            <a:ext cx="40924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INVESTORS’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962520"/>
            <a:ext cx="10062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TG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3962520"/>
            <a:ext cx="1393920" cy="459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NEF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191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3" idx="2"/>
            <a:endCxn id="65" idx="0"/>
          </p:cNvCxnSpPr>
          <p:nvPr/>
        </p:nvCxnSpPr>
        <p:spPr>
          <a:xfrm flipH="1" rot="16200000">
            <a:off x="3126240" y="1384560"/>
            <a:ext cx="653400" cy="2216880"/>
          </a:xfrm>
          <a:prstGeom prst="bentConnector3">
            <a:avLst>
              <a:gd name="adj1" fmla="val 498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5" idx="0"/>
            <a:endCxn id="64" idx="2"/>
          </p:cNvCxnSpPr>
          <p:nvPr/>
        </p:nvCxnSpPr>
        <p:spPr>
          <a:xfrm flipH="1" flipV="1" rot="5400000">
            <a:off x="5393880" y="1332720"/>
            <a:ext cx="653400" cy="2320200"/>
          </a:xfrm>
          <a:prstGeom prst="bentConnector3">
            <a:avLst>
              <a:gd name="adj1" fmla="val 4983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" name=""/>
          <p:cNvSpPr/>
          <p:nvPr/>
        </p:nvSpPr>
        <p:spPr>
          <a:xfrm>
            <a:off x="3276720" y="5105520"/>
            <a:ext cx="2090520" cy="860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533412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4191120"/>
            <a:ext cx="1440" cy="9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05120" y="3808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GF operates as a “purchase fund”, acquir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Us and, if possible, A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s against delivery. Possible up-fro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s to be decided case-by-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assistance can be financed only case-by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Nefco_logo%20tif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121932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533520"/>
            <a:ext cx="93870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no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0"/>
          <a:ext cx="128124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128124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33520" y="685800"/>
            <a:ext cx="83818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2743200"/>
            <a:ext cx="175248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43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3581280"/>
            <a:ext cx="243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Non-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1828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Incremental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1523880"/>
            <a:ext cx="17524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1523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4572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4114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68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TG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028840" y="106668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800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Times New Roman"/>
              </a:rPr>
              <a:t>Sponsor’s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40384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Times New Roman"/>
              </a:rPr>
              <a:t>Investor f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3200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Times New Roman"/>
              </a:rPr>
              <a:t>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438280" y="4800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4343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286000" y="182844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362320" y="2361960"/>
            <a:ext cx="167616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438280" y="2590560"/>
            <a:ext cx="18288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5791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financing with other sources, inclu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FCO (which fund the “baseline” invest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05120" y="3808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742644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74264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host countries for the time being: Russia, Estonia, Latvia, Lithuania, Poland. The intention is to identify projects in all host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74264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74264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 2 procedure (until Track 1 may become pos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74264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74264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ll for projects to be issued in 2004, but projects are also identified continu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74264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74264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74264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742644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742644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742644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"/>
              <a:tabLst>
                <a:tab algn="l" pos="742644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fco_logo%20tif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121932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09760" y="1306440"/>
            <a:ext cx="7850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LE/S OF THE PRIVATE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owner/spon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or in TG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 of equipment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 of AAUs / 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2680" y="457200"/>
          <a:ext cx="107136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457200"/>
                    <a:ext cx="10713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46040" y="979560"/>
            <a:ext cx="81565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4:17:43Z</dcterms:created>
  <dc:creator>Raili Kajaste</dc:creator>
  <dc:description/>
  <cp:keywords>clean development mechanism</cp:keywords>
  <dc:language>en-US</dc:language>
  <cp:lastModifiedBy>Jens Wilhelm</cp:lastModifiedBy>
  <cp:lastPrinted>2002-02-15T07:14:16Z</cp:lastPrinted>
  <dcterms:modified xsi:type="dcterms:W3CDTF">2004-09-17T11:53:55Z</dcterms:modified>
  <cp:revision>33</cp:revision>
  <dc:subject/>
  <dc:title>Baltic Sea Region- Testing Ground Facility</dc:title>
</cp:coreProperties>
</file>