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83413" cy="10148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516C9-12E3-4DDB-8E31-2F3376C070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9DD2C-00C1-4DB4-941E-39DB814590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814CA-6FF8-4C02-B8E8-1F0A7B7107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2FA24-428B-4350-9072-1FAA1C5100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0505C-8A51-4157-9C42-BCDADAA7C6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A17BC-A8E0-4AEC-9886-1D4868E058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802E9-702F-4520-9789-F10A00C680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C58F4-637B-4E30-A7FB-9BC11CBF63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86156-C613-400A-A40C-8ED97E9956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40FE3-47FE-4471-89B8-2B6C79EE2D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78DC5-D02B-4D0C-B882-38EF938C0A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FDE25-C175-4437-B385-DA698EDBC9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RANSP_P" descr="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552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162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A397-CB02-43E8-8FEE-55BCA8CD4ACB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-6480"/>
            <a:ext cx="914256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1440" y="-4680"/>
            <a:ext cx="0" cy="685476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850080"/>
            <a:ext cx="9142560" cy="144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142560" y="-6480"/>
            <a:ext cx="0" cy="685512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5040" y="4419720"/>
            <a:ext cx="261756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drew Ho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NFCCC secretari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ww.unfccc.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howard@unfccc.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102120" y="1684080"/>
            <a:ext cx="0" cy="439884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62240" y="1523880"/>
            <a:ext cx="56768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ernational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ransaction lo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hecks, public inform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d moda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sessional consul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registry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8-10 November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A9ABB-41B7-4FDA-B193-BA51DB99EC6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urrent ITL administrator activ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ntain the communications hu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 checks to verify the validity of transaction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 registries of discrepa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ward discrepancy record to Article 8 review te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rd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ncile data with regist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information public and available for review te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nd notifications of action to be done in 30 days, monitor progress, send non-replacement records to Article 8 re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14E4E-F0BF-46D0-9B74-468CA00C32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rther ITL administrator activitie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sh authoritative versions of the data exchange standar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cilitate administrators’ technical cooperation grou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gal arrangements with registries and ST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lization of registry commun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ort for secure registry systems netwo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itional notification types for action in 30 da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ess data in external sources to facilitate check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C&amp;A database, CDM and JI information system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ss through messages to ST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2F8BB-58CC-4540-AF24-5B6E5813FB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/MOP and fund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P/MOP iss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ture and frequency of repor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mmendations for further actions and deci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uidance to the ITL administr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ng-term operational fu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e budget of the secretari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oluntary funding provided to the secretari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 or transaction fees for the IT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E1AEF-0D69-46CF-823B-CAC794563B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L develop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chnical design specifications develop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L checklist develop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L developer and host to be selected through open ten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ment will build upon common elements of the CITL (which is based on the ITL technical design specification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im to initialize first registries in mid-20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ment subject to receipt of Parties’ voluntary fu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16395-FDA4-4964-A345-569D7A03FE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L check specific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Policy-type descrip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aft note for publication by ITL … web add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ITL technical specifications (annex 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eck descriptions, response codes, process ste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DES technical specifications (annex 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eck descriptions and response co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EED33-A89C-4F9A-A7EC-1563F9D853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955600" y="1695240"/>
            <a:ext cx="591012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TL rep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ssible public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847960" y="1817280"/>
            <a:ext cx="0" cy="426564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6C211-90E3-4619-8CD2-59BAB82D85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ation held in the IT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1752480"/>
          <a:ext cx="7772400" cy="4267440"/>
        </p:xfrm>
        <a:graphic>
          <a:graphicData uri="http://schemas.openxmlformats.org/drawingml/2006/table">
            <a:tbl>
              <a:tblPr/>
              <a:tblGrid>
                <a:gridCol w="2787480"/>
                <a:gridCol w="4984920"/>
              </a:tblGrid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Unit blo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ch unit issued, its status and the registry in which it is currently h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Transaction lo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rrent and historical transaction rec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conciliation lo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reconciliation actions performed, inconsistent unit blocks identified and cases of manual intervention carried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Notification lo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notifications to sent to registries and record of whether actions are carried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DD15E-513D-436F-82FA-1DC8E3375B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dated public inform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ision 19/CP.7, annex, para 43 (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transaction record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e/time of transaction comple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58598-BDB4-492C-8E28-14B26BF395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urposes of public information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the value-added of ITL informati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cilitate Article 8 review 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olidate information from all registri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 information not available from registri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confidentiality criteria should be applied, if an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03C34-1517-4353-9DCB-FB0327A6FF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ublic information type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4316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ldings and transaction information equivalent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nual reporting by Par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gregated for individual Par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gregated across all Par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, annual and historical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ation on units in unresolved discrepa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gistry reconciliation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us of requirements in ITL notif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 of ITL checks (on basis of annex 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rd of each transaction in each registr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e/time of completion of each registr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38C30-0E6A-49BD-BF1E-0666EEAD46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955600" y="1695240"/>
            <a:ext cx="591012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TL administra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ssible modal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47960" y="1817280"/>
            <a:ext cx="0" cy="426564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C623E-A2D0-4F36-AE98-53EFD8C242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18:11:20Z</dcterms:created>
  <dc:creator>Howard</dc:creator>
  <dc:description/>
  <dc:language>en-US</dc:language>
  <cp:lastModifiedBy>nagata</cp:lastModifiedBy>
  <dcterms:modified xsi:type="dcterms:W3CDTF">2004-12-08T16:35:46Z</dcterms:modified>
  <cp:revision>177</cp:revision>
  <dc:subject/>
  <dc:title>PowerPoint Presentation</dc:title>
</cp:coreProperties>
</file>