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983413" cy="10148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92519-A444-45AF-A10A-1720DDC029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83356-6A8A-4F77-96B9-437EEF47D4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7A0E7-5CBC-4EAA-B77C-F4CB05BE3A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E1700-06F1-482D-9FD3-BFB5C18235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CA80C-F200-498A-A66C-D792EAAA95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9B9C0-7B5B-4D53-8DDF-17BF393AB7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8A852-16C0-43C8-BFF4-A6D28170AD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91E18-2086-4B6F-AEF7-42A14C197A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D20ED-D5EA-4199-93E9-828A069760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F75E7-97D6-4D58-B345-DBA19835A5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6DC35-E0A2-4F5E-9B9E-EB057A5E80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BF201-706E-4A6E-A7D4-F3EBCC1BCE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TRANSP_P" descr=""/>
          <p:cNvPicPr/>
          <p:nvPr/>
        </p:nvPicPr>
        <p:blipFill>
          <a:blip r:embed="rId2"/>
          <a:stretch/>
        </p:blipFill>
        <p:spPr>
          <a:xfrm>
            <a:off x="0" y="6248520"/>
            <a:ext cx="9144000" cy="552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1625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C91C5-3762-4A71-A587-5439333C7A54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-6480"/>
            <a:ext cx="9142560" cy="0"/>
          </a:xfrm>
          <a:prstGeom prst="line">
            <a:avLst/>
          </a:prstGeom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1440" y="-4680"/>
            <a:ext cx="0" cy="6854760"/>
          </a:xfrm>
          <a:prstGeom prst="line">
            <a:avLst/>
          </a:prstGeom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850080"/>
            <a:ext cx="9142560" cy="1440"/>
          </a:xfrm>
          <a:prstGeom prst="line">
            <a:avLst/>
          </a:prstGeom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142560" y="-6480"/>
            <a:ext cx="0" cy="6855120"/>
          </a:xfrm>
          <a:prstGeom prst="line">
            <a:avLst/>
          </a:prstGeom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85040" y="4454640"/>
            <a:ext cx="2617560" cy="17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drew How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NFCCC secretari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ww.unfccc.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howard@unfccc.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102120" y="1829880"/>
            <a:ext cx="0" cy="426564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162240" y="1657440"/>
            <a:ext cx="5676840" cy="45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International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ransaction lo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ansaction che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rsessional consul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 registry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o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8-10 November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207E7-D183-42C5-B33D-BF51E11D00E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ssage sequence check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838080"/>
            <a:ext cx="82296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380880" y="2165400"/>
          <a:ext cx="8381880" cy="3473280"/>
        </p:xfrm>
        <a:graphic>
          <a:graphicData uri="http://schemas.openxmlformats.org/drawingml/2006/table">
            <a:tbl>
              <a:tblPr/>
              <a:tblGrid>
                <a:gridCol w="838080"/>
                <a:gridCol w="4267080"/>
                <a:gridCol w="327672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Transaction ID not uni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posed transaction requires a new identif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Prior record of transaction 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quired for subsequent messages after propos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Transaction status out of sequence for rejected trans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jected transactions cannot be comple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Transaction status out of sequence for ITL discrepancy sta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ansactions with ITL discrepancies cannot be comple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Transaction status not compatible with initiating regis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itiating registries cannot give those statu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43FF2-6852-4458-AFDF-1FEE5FF999B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2955600" y="1695240"/>
            <a:ext cx="591012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olicy-related che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nsuring conformity to Kyoto rul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847960" y="1817280"/>
            <a:ext cx="0" cy="426564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8F589-D04B-482C-9C1F-83FE1E69F7B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eneral transaction check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838080"/>
            <a:ext cx="82296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457200" y="1955880"/>
          <a:ext cx="8229600" cy="3951360"/>
        </p:xfrm>
        <a:graphic>
          <a:graphicData uri="http://schemas.openxmlformats.org/drawingml/2006/table">
            <a:tbl>
              <a:tblPr/>
              <a:tblGrid>
                <a:gridCol w="914400"/>
                <a:gridCol w="3733920"/>
                <a:gridCol w="358128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Applicable commitment peri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st correspond to current or next period (incl. true-up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Registry holds un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st be in initiating regis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Unit block attribu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st match those in IT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Single applicable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commitment peri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l units have same commitment period 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Units are avail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subject to transa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Units are reti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not be further transac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Units previously used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in replac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not be further transac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25F1D-9BDE-44DE-9475-1C2FFAF9800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nsaction proces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3333cc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Issu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vers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ternal transf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rnal transf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-</a:t>
            </a: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Cancell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place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tire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rry-ov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piry date chan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rnal transfer (for an STL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838080"/>
            <a:ext cx="82296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1C64E-3E5B-4F0A-8747-379944D9A8B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ternal data sour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Compilation and accounting (C&amp;A) datab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antity of AAUs that may be issu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antity of RMUs that may be issu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y LULUCF co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nually or for the commitment perio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2500"/>
              </a:spcBef>
              <a:buNone/>
              <a:tabLst>
                <a:tab algn="l" pos="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CDM information syst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antity of CDM credits that may be issu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oice between CER or tCER/lCER issu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2500"/>
              </a:spcBef>
              <a:buNone/>
              <a:tabLst>
                <a:tab algn="l" pos="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JI information system (track 2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antity of ERUs that may be convert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oice between AAUs or RMUs for the convers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838080"/>
            <a:ext cx="82296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D0111-4167-4C9C-8E96-F6880BB8606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suance check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838080"/>
            <a:ext cx="82296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33520" y="1574640"/>
          <a:ext cx="8229600" cy="4444920"/>
        </p:xfrm>
        <a:graphic>
          <a:graphicData uri="http://schemas.openxmlformats.org/drawingml/2006/table">
            <a:tbl>
              <a:tblPr/>
              <a:tblGrid>
                <a:gridCol w="914400"/>
                <a:gridCol w="3733560"/>
                <a:gridCol w="358164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CDM registry issu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Rs, tCERs and lCERs must be issued in CDM regis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Consistent applicable commitment peri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plicable CP identifier same as original CP identif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AAU issuance quant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st not exceed amount specified in C&amp;A datab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CDM issuance unit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it type must be consistent with CDM project ac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5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Consistency of unit type for CDM LULUCF proje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it type must be consistent with previous issuan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CDM project identif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st be pres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tCER expiry 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st be pres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57D2B-367B-4B4F-A21D-8C8511362A8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ncell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838080"/>
            <a:ext cx="82296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04920" y="1371600"/>
          <a:ext cx="8458200" cy="4662360"/>
        </p:xfrm>
        <a:graphic>
          <a:graphicData uri="http://schemas.openxmlformats.org/drawingml/2006/table">
            <a:tbl>
              <a:tblPr/>
              <a:tblGrid>
                <a:gridCol w="838080"/>
                <a:gridCol w="4038480"/>
                <a:gridCol w="358164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1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Net-source, non-compliance and voluntary cancellation must take place in a national regis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st not be attempted by the CDM regis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1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Acquiring account for cancellation must be a cancellation accou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st not be attempted for other account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1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Cancellation account identif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ount identifier must be suppli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1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Cancellation account commitment peri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plicable CP identifier same as cancellation accou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1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tCER and lCER cancellation to net-source and non-compliance cancellation accou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st not be attemp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1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Notification ID for net source cancell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L notification identifier must be provid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7A50F-E18E-44E8-8149-C50BF0428DF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L transaction check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dependently checks transactions proposed by registrie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140 checks defin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imarily </a:t>
            </a: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technical natur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o ensure standard communic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46 checks defin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imarily </a:t>
            </a: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policy-related nature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ensure conformity to modalities, rules and limits under Kyo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15 general check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78 transaction-specific check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838080"/>
            <a:ext cx="82296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D2E23-EF1D-4FA8-868C-D868628F65F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eck categ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838080"/>
            <a:ext cx="82296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519120" y="1143000"/>
          <a:ext cx="8153280" cy="5029200"/>
        </p:xfrm>
        <a:graphic>
          <a:graphicData uri="http://schemas.openxmlformats.org/drawingml/2006/table">
            <a:tbl>
              <a:tblPr/>
              <a:tblGrid>
                <a:gridCol w="3198960"/>
                <a:gridCol w="4954320"/>
              </a:tblGrid>
              <a:tr h="63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Verdana"/>
                          <a:ea typeface="Times New Roman"/>
                        </a:rPr>
                        <a:t>Version and authent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an the ITL verify submitter’s identity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Verdana"/>
                          <a:ea typeface="Times New Roman"/>
                        </a:rPr>
                        <a:t>Message valid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s the message readable and complete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Verdana"/>
                          <a:ea typeface="Times New Roman"/>
                        </a:rPr>
                        <a:t>Registry valid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re registries involved able to operate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Verdana"/>
                          <a:ea typeface="Times New Roman"/>
                        </a:rPr>
                        <a:t>Transaction data integr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oes the data makes sense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Verdana"/>
                          <a:ea typeface="Times New Roman"/>
                        </a:rPr>
                        <a:t>Message sequen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s the message in the correct order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838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Verdana"/>
                          <a:ea typeface="Times New Roman"/>
                        </a:rPr>
                        <a:t>General transaction chec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oes the message comply with general requirements for transactions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Verdana"/>
                          <a:ea typeface="Times New Roman"/>
                        </a:rPr>
                        <a:t>Transaction-specific chec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oes the message comply with Kyoto requirements for the type of transaction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16712-29BE-41B3-B038-102BCCFCD52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L response code ex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838080"/>
            <a:ext cx="82296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504720" y="1482840"/>
          <a:ext cx="8229600" cy="4613040"/>
        </p:xfrm>
        <a:graphic>
          <a:graphicData uri="http://schemas.openxmlformats.org/drawingml/2006/table">
            <a:tbl>
              <a:tblPr/>
              <a:tblGrid>
                <a:gridCol w="2438640"/>
                <a:gridCol w="2895480"/>
                <a:gridCol w="2895480"/>
              </a:tblGrid>
              <a:tr h="726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Response c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Check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ject identif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AU issuance quant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160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Check 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Rs, tCERs, lCERs and ERUs must have a valid project identif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quantity of AAUs issued must not exceed allowed quantity for the commitment peri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Check categ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ta integr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ansaction-specif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Transaction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ssu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196DE-7D9E-47B2-90B4-231A0CBC3C4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2955600" y="1695240"/>
            <a:ext cx="591012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chnical che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king the communication wor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847960" y="1817280"/>
            <a:ext cx="0" cy="426564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85896-3F64-4C2A-9541-42366293A0B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sion and authentication check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838080"/>
            <a:ext cx="82296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533520" y="3301920"/>
          <a:ext cx="8076960" cy="2031840"/>
        </p:xfrm>
        <a:graphic>
          <a:graphicData uri="http://schemas.openxmlformats.org/drawingml/2006/table">
            <a:tbl>
              <a:tblPr/>
              <a:tblGrid>
                <a:gridCol w="914400"/>
                <a:gridCol w="3733560"/>
                <a:gridCol w="3429000"/>
              </a:tblGrid>
              <a:tr h="507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Certific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st be recogniz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WSDL che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ssage conforms to WSD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Major ver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 is up-to-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Minor ver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 is up-to-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0C006-3F21-4687-9023-BA9B5FCD275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ssage viability check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838080"/>
            <a:ext cx="82296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533520" y="4216320"/>
          <a:ext cx="8076960" cy="507960"/>
        </p:xfrm>
        <a:graphic>
          <a:graphicData uri="http://schemas.openxmlformats.org/drawingml/2006/table">
            <a:tbl>
              <a:tblPr/>
              <a:tblGrid>
                <a:gridCol w="914400"/>
                <a:gridCol w="3733560"/>
                <a:gridCol w="3429000"/>
              </a:tblGrid>
              <a:tr h="507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Message 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lder than 24 ho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0D015-9878-44D6-9E6F-4822C814274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gistry check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838080"/>
            <a:ext cx="82296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533520" y="2743200"/>
          <a:ext cx="8076960" cy="2981160"/>
        </p:xfrm>
        <a:graphic>
          <a:graphicData uri="http://schemas.openxmlformats.org/drawingml/2006/table">
            <a:tbl>
              <a:tblPr/>
              <a:tblGrid>
                <a:gridCol w="914400"/>
                <a:gridCol w="3733560"/>
                <a:gridCol w="3429000"/>
              </a:tblGrid>
              <a:tr h="695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Initiating regis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st be known to the IT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Initiating registry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transaction sta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st allow transa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Acquiring registry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transaction sta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st allow transa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Registry reconciliation sta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st allow reconcili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4282A-5623-4421-BA95-5AC0648590C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ta integrity check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838080"/>
            <a:ext cx="82296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533520" y="1662120"/>
          <a:ext cx="8076960" cy="4357440"/>
        </p:xfrm>
        <a:graphic>
          <a:graphicData uri="http://schemas.openxmlformats.org/drawingml/2006/table">
            <a:tbl>
              <a:tblPr/>
              <a:tblGrid>
                <a:gridCol w="914400"/>
                <a:gridCol w="3733560"/>
                <a:gridCol w="3429000"/>
              </a:tblGrid>
              <a:tr h="504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Transaction type c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st be val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Transaction status c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st be val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Account type c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st be val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Initiating account identif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st be between zero and 999,999,999,999,9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Unit serial r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lock-end must be greater than block-st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LULUCF activity c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MUs, ERUs (from RMUs), tCERs and lCERs must have a valid c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Expiry 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CERs and lCERs must have a valid expiry 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BB856-C7C0-4D5D-96E3-BEA669697BA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18:11:20Z</dcterms:created>
  <dc:creator>Howard</dc:creator>
  <dc:description/>
  <dc:language>en-US</dc:language>
  <cp:lastModifiedBy>nagata</cp:lastModifiedBy>
  <dcterms:modified xsi:type="dcterms:W3CDTF">2004-12-08T16:38:17Z</dcterms:modified>
  <cp:revision>167</cp:revision>
  <dc:subject/>
  <dc:title>PowerPoint Presentation</dc:title>
</cp:coreProperties>
</file>