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2825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688680" y="753480"/>
            <a:ext cx="5368320" cy="37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4640" y="4709160"/>
            <a:ext cx="539676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cks transactions when they are 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sures the integrity of transactions before comp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ransaction log conducts automated check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ppropriate issuance of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Units previously retired or cance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Eligibility of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nfringements on the commitment period res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nfringements on the limits for carbon sinks and carry-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ducts regular reconciliation of registr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 start, at end, by account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ssu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transfers/acquisitions (by reg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ance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ret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may elect to account for specific activities (fores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elected, Party must account for activity throughout commitment peri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95B5-BA94-4A90-AB82-1F3EA1117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040" y="394848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C256-F40E-4DDE-9B0A-71F24A91E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620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B8E2-5CD5-4717-A282-3FC4AEB66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884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500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304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884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500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DE49-2EDD-4758-A2C6-7C44F46519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8F67-FCD0-45F2-9889-400FD9B3F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0346-1218-4165-9529-9B9315B7F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E196-BFC0-4578-9969-D33EC29B7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A981-5562-4633-A722-1CCA7F4EF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-3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7569-8D98-4826-988D-9EA875033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1DC2-2DBA-402E-829F-2AE0001BD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620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B75A-2606-45FC-8F36-9DB3AA0FD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AB02-EAC6-44A4-B776-304682715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90288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75620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D656-09CC-4F5E-8BB0-545BA4A7264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901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90108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108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5080" y="4416480"/>
            <a:ext cx="2518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97180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6960" y="1700280"/>
            <a:ext cx="6802200" cy="52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ss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требованиям приемле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й семинар РКИК по осуществлению проектов в соответствии со Статьей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иотского прото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6-27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чальный отчет и рассмот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3440" y="112536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чальный отчет и рассмотрение служит для того, чтобы 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легчи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ение установленного количества 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демонстрировать способность учитывать выбросы и установленное количеств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вентаризация эмисси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отношению к базовому год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990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другом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сист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ый регист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чет начального установленного количества в соотв. со Ст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7/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чет резерва за период обязательст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 действий по стокам в соотв. со Ст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3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жегодн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лада и обзо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3040" y="1599840"/>
            <a:ext cx="841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жегодная инвентаризация П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жегодный данные по установленному количеств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менения в национальном регист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менения в национальной сист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чет резерва за период обязательст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558720" y="112536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724280"/>
            <a:ext cx="853452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6240" y="48769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Информация заносится в компиляцию и базу данных Секретариата </a:t>
            </a:r>
            <a:r>
              <a:rPr b="0" i="1" lang="ru-RU" sz="2000" spc="-1" strike="noStrike">
                <a:solidFill>
                  <a:srgbClr val="3333cc"/>
                </a:solidFill>
                <a:latin typeface="Verdana"/>
              </a:rPr>
              <a:t>после</a:t>
            </a: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 обзора и рассмотрения                    Комитетом по соблюд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92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итет по соблюдению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Подразделение по стимулировани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матривает вопросы, касающиеся предоставления докладов и учета до начала периода обязательст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уществляет консультативные услуги, стимулирует предоставление финансовой и технической помощ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Подразделение по обеспечению соблюд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жет применять корректировки к инвентаризация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рректирует  базу данных для компиляции и уч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останавливает и восстанавливает приемлемость для участия в механизм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00400" y="1695240"/>
            <a:ext cx="586728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ования в части эмисс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новные элементы требовани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части эмисс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4720" y="1196640"/>
            <a:ext cx="841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ежные данные об инвентаризациях – главное при определении соблюдения Сторонами их обязательств по КП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чет установленного количества в соотв. со Ст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7/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хранение приемлемости для участия в механизм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рка соблюдения в конце периода обязательст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ие между Вариантом 1 и Вариантом 2 связано с продолжением представления ежегодных инвентаризаций удовлетворяющих требования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счета установленного количества при Вариантах 1 и 2 необходима начальная инвентаризация с полными временными ряд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58720" y="112536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ые систе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оценки эмисс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Устанавливающие меры,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ые для подготовки национальных инвентаризаций в соответствии с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ние отдельной уполномоченной организ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анировани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ответственных, выбор методик и данных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готовк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ие хорошей практики, оценка инвентаризации, документац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рка качества и соответствующие процеду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рхивация информации по инвентаризаци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Условия функциональ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ибкость при учете национальных особенност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блюдение зависит от возможности системы предоставлять надежные данные по инвентариз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4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87440" y="105264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национальной инвентаризации П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8416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ПГ и источники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базового года не требуется информация по поглотителям в  ЗИЗЛ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ное географическое покрыт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олненные ряды да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года начиная с базового (1990 или другой) до самого последнего из досту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етодологии совместимой с руководящей практикой и методологиями МГЭ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Формата общей отчетност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электронные таблиц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ый доклад по инвентаризаци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ние используемых методик, источников данных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87440" y="105264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а корректировок инвентариза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03440" y="980640"/>
            <a:ext cx="841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дентификация проблемы во время индивидуального обз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оставление возможности Стороне скорректировать пробл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анда по обзору рассчитывает и рекомендует корректировки основываясь на техническом руководств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рона имеет возможность принять или отвергнуть корректиро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Сторона не принимает корректировки, подразделение по обеспечению соблюдения определяет возможность их примен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рректировки могут быть устранены в дальнейшем, в течении периода обязательств, если проблема с инвентаризацией устран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для базисного года, начиная с которого зафиксировано  установленное коли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87440" y="105264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рректировки инвентариз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125000"/>
            <a:ext cx="850248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назначены для исправления проблем с инвентаризацией для учета эмиссий и установленного колич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рректировки умерен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ьшение в базовом г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величение в году в периоде обязательст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яются только после того, как Сторона имела возможность исправить пробл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корректировка применялась, то скорректированная оценка записывается в компиляции и базу данных уч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76920"/>
            <a:ext cx="80010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495936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Корректировки позволяют Стороне соблюдать инвентаризацию и условия приемлемости в случае незначительных проблем с инвентаризац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0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истрация установленного количеств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ть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.7/8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3040" y="1125000"/>
            <a:ext cx="8416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ана на обзоре первоначальной инвентаризации П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ценка совместимости с методологиями МГЭИК и руководящими принципа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полных временных ря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омендуются поправки к базовому году, если некорректно используются руководящие принцип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ленное количество регистрируется только после обзора и рассмотрения Комитетом по соблюде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ленное количество основывается на скорректированном базовом годе, если корректировки были примене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жды зафиксированное, установленное количество остается неизменным весь период обязательст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487440" y="1125360"/>
            <a:ext cx="8994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зор презент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Условия приемлемости гарантируют цельность сист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иотского проток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ектов ПСО и кредитов по ни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еродного рынка в цел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Здесь будут рассмотрены три связанных вопро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требуется от Сторон Приложения В, чтобы удовлетворять условиям приемлемости для ПСО 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носительно эмисс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носительно установленных количе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им образом кредиты по ПСО вписываются в цели Киотского протокол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им образом проверяется соблюдение Сторонами целей Киотского протокол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0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удовлетворение требований по ежегодной инвентаризац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8461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ем Стать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.1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П определены следующие причин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ная годовая инвентаризация (Формат общей отчетности и Национальный доклад по инвентаризации ) не представлен в течении 6 недель по истечении срока пода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ущение крупного источника эмиссий составляющего 7% и более от ежегодных эмисс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ие корректировки за любой год больше чем 7% от представляемой инвентар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мма общих корректировок за любые годы периода обязательств превосходит 20 % от представленных инвентаризаций эмисс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имый источник составляющий 2% и более от эмисси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вергался корректировке 3 года подря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487440" y="105264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00400" y="1695240"/>
            <a:ext cx="586728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ования, связанные с установленным коли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новные элементы требований по установленным количеств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0280" y="1268280"/>
            <a:ext cx="9299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Стороны Приложения В должны образовать национальные регист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гистры должны взаимодействовать с другими регистрами и с журналом операц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блюдение точного учета в соответствии со Статьей 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ление докладов по зачетам и вычетам в установленное коли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87440" y="112536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вы функц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ого регис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487440" y="105264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2680" y="1447560"/>
            <a:ext cx="8705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Национальные регистры созданные сторонами Приложения В -Электронные базы данных должны отслежива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вод в обращение и владение единиц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едача единиц в соответствии с механизм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мена и ликвидация едини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ъятие из обращения единиц для целей соблюд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енос единиц на следующие периоды обязатель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для правительств и юр.ли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Независимый журнал регистраций операций созданный Секретариат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ряет операции с единицами, когда они предложены не по правил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рантирует целостность сделок перед завершени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ый Регистр у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82440" y="1384200"/>
            <a:ext cx="1650600" cy="1178640"/>
            <a:chOff x="-82440" y="1384200"/>
            <a:chExt cx="1650600" cy="1178640"/>
          </a:xfrm>
        </p:grpSpPr>
        <p:sp>
          <p:nvSpPr>
            <p:cNvPr id="204" name=""/>
            <p:cNvSpPr/>
            <p:nvPr/>
          </p:nvSpPr>
          <p:spPr>
            <a:xfrm>
              <a:off x="-82440" y="1384200"/>
              <a:ext cx="1650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"/>
                </a:rPr>
                <a:t>ввод в действие ЕУК и Е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 rot="6277800">
              <a:off x="983520" y="2038680"/>
              <a:ext cx="106200" cy="75348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756560" y="3581280"/>
            <a:ext cx="1980720" cy="1571400"/>
            <a:chOff x="7756560" y="3581280"/>
            <a:chExt cx="1980720" cy="1571400"/>
          </a:xfrm>
        </p:grpSpPr>
        <p:sp>
          <p:nvSpPr>
            <p:cNvPr id="207" name=""/>
            <p:cNvSpPr/>
            <p:nvPr/>
          </p:nvSpPr>
          <p:spPr>
            <a:xfrm>
              <a:off x="7756560" y="4572000"/>
              <a:ext cx="19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"/>
                </a:rPr>
                <a:t>Ликвидация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 (</a:t>
              </a:r>
              <a:r>
                <a:rPr b="0" lang="ru-RU" sz="1600" spc="-1" strike="noStrike">
                  <a:solidFill>
                    <a:srgbClr val="3333cc"/>
                  </a:solidFill>
                  <a:latin typeface="Arial"/>
                </a:rPr>
                <a:t>не для соблюдения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47080" y="3581280"/>
              <a:ext cx="314640" cy="8384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756560" y="3200400"/>
            <a:ext cx="1980720" cy="762120"/>
            <a:chOff x="7756560" y="3200400"/>
            <a:chExt cx="1980720" cy="762120"/>
          </a:xfrm>
        </p:grpSpPr>
        <p:sp>
          <p:nvSpPr>
            <p:cNvPr id="210" name=""/>
            <p:cNvSpPr/>
            <p:nvPr/>
          </p:nvSpPr>
          <p:spPr>
            <a:xfrm>
              <a:off x="7949160" y="3581280"/>
              <a:ext cx="149040" cy="3812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56560" y="3200400"/>
              <a:ext cx="19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"/>
                </a:rPr>
                <a:t>Изъятие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 (</a:t>
              </a:r>
              <a:r>
                <a:rPr b="0" lang="ru-RU" sz="1600" spc="-1" strike="noStrike">
                  <a:solidFill>
                    <a:srgbClr val="3333cc"/>
                  </a:solidFill>
                  <a:latin typeface="Arial"/>
                </a:rPr>
                <a:t>для соблюдения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486080" y="1828800"/>
            <a:ext cx="2465280" cy="4038480"/>
            <a:chOff x="1486080" y="1828800"/>
            <a:chExt cx="2465280" cy="4038480"/>
          </a:xfrm>
        </p:grpSpPr>
        <p:sp>
          <p:nvSpPr>
            <p:cNvPr id="213" name=""/>
            <p:cNvSpPr/>
            <p:nvPr/>
          </p:nvSpPr>
          <p:spPr>
            <a:xfrm>
              <a:off x="1486080" y="18669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шский регист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33680" y="2298600"/>
              <a:ext cx="2152440" cy="3505320"/>
            </a:xfrm>
            <a:prstGeom prst="rect">
              <a:avLst/>
            </a:prstGeom>
            <a:solidFill>
              <a:srgbClr val="75ff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33680" y="275580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33680" y="530532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33680" y="551484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3680" y="567684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33680" y="326376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3680" y="377208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3680" y="428004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3680" y="478800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58800" y="1828800"/>
              <a:ext cx="2292480" cy="4038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00280" y="236232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чет Сторон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00280" y="281952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че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00280" y="332748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че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00280" y="383544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ъяти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00280" y="434340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иквид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485784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мещ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529240" y="1828800"/>
            <a:ext cx="2465280" cy="4038480"/>
            <a:chOff x="5529240" y="1828800"/>
            <a:chExt cx="2465280" cy="4038480"/>
          </a:xfrm>
        </p:grpSpPr>
        <p:sp>
          <p:nvSpPr>
            <p:cNvPr id="231" name=""/>
            <p:cNvSpPr/>
            <p:nvPr/>
          </p:nvSpPr>
          <p:spPr>
            <a:xfrm>
              <a:off x="5529240" y="18669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анадский регист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6840" y="2298600"/>
              <a:ext cx="2152800" cy="3505320"/>
            </a:xfrm>
            <a:prstGeom prst="rect">
              <a:avLst/>
            </a:prstGeom>
            <a:solidFill>
              <a:srgbClr val="75ff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6840" y="275580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6840" y="530532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76840" y="551484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76840" y="567684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76840" y="326376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76840" y="377208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76840" y="428004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76840" y="478800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2320" y="1828800"/>
              <a:ext cx="2292480" cy="4038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43440" y="236232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Учет Сторон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43440" y="281952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че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3440" y="332748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че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43440" y="383544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ъят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43440" y="434340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иквид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000" y="485784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мещ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795840" y="2178000"/>
            <a:ext cx="1981080" cy="1860480"/>
            <a:chOff x="3795840" y="2178000"/>
            <a:chExt cx="1981080" cy="1860480"/>
          </a:xfrm>
        </p:grpSpPr>
        <p:sp>
          <p:nvSpPr>
            <p:cNvPr id="249" name=""/>
            <p:cNvSpPr/>
            <p:nvPr/>
          </p:nvSpPr>
          <p:spPr>
            <a:xfrm flipH="1" flipV="1" rot="6183600">
              <a:off x="4706280" y="1919880"/>
              <a:ext cx="76320" cy="156852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0720" y="2666880"/>
              <a:ext cx="149400" cy="3812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95840" y="21780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Arial"/>
                </a:rPr>
                <a:t>Передач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91120" y="3776760"/>
              <a:ext cx="533160" cy="261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Verdana"/>
                </a:rPr>
                <a:t>вСС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1120" y="3395520"/>
              <a:ext cx="53316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Verdana"/>
                </a:rPr>
                <a:t>ЕС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00600" y="3776760"/>
              <a:ext cx="533520" cy="261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Verdana"/>
                </a:rPr>
                <a:t>дСС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00600" y="3395520"/>
              <a:ext cx="53352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Verdana"/>
                </a:rPr>
                <a:t>СС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0600" y="3014640"/>
              <a:ext cx="53352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Verdana"/>
                </a:rPr>
                <a:t>Е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91120" y="3014640"/>
              <a:ext cx="53316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cc"/>
                  </a:solidFill>
                  <a:latin typeface="Verdana"/>
                </a:rPr>
                <a:t>ЕУ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истры, НЖО и ДЖО</a:t>
            </a: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зависимый 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полнительный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рналы регистраци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ераций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5334120"/>
            <a:ext cx="1219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5334120"/>
            <a:ext cx="12189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5334120"/>
            <a:ext cx="12189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0120" y="5334120"/>
            <a:ext cx="12189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Ч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5334120"/>
            <a:ext cx="1219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36600" y="2781360"/>
            <a:ext cx="7511760" cy="2475720"/>
            <a:chOff x="336600" y="2781360"/>
            <a:chExt cx="7511760" cy="2475720"/>
          </a:xfrm>
        </p:grpSpPr>
        <p:grpSp>
          <p:nvGrpSpPr>
            <p:cNvPr id="266" name=""/>
            <p:cNvGrpSpPr/>
            <p:nvPr/>
          </p:nvGrpSpPr>
          <p:grpSpPr>
            <a:xfrm>
              <a:off x="2133720" y="2941200"/>
              <a:ext cx="5714640" cy="2315880"/>
              <a:chOff x="2133720" y="2941200"/>
              <a:chExt cx="5714640" cy="2315880"/>
            </a:xfrm>
          </p:grpSpPr>
          <p:sp>
            <p:nvSpPr>
              <p:cNvPr id="267" name=""/>
              <p:cNvSpPr/>
              <p:nvPr/>
            </p:nvSpPr>
            <p:spPr>
              <a:xfrm>
                <a:off x="3124080" y="2941200"/>
                <a:ext cx="3733920" cy="399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Независимый журнал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регистрации операци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24080" y="3340440"/>
                <a:ext cx="3733920" cy="399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Центр коммуникаци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4080" y="3739680"/>
                <a:ext cx="3733920" cy="399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Виртуальная частная сет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133720" y="4218840"/>
                <a:ext cx="1218960" cy="10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3276720" y="4218840"/>
                <a:ext cx="609480" cy="10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6171840" y="4218840"/>
                <a:ext cx="609480" cy="10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6629040" y="4218840"/>
                <a:ext cx="1219320" cy="10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5029200" y="4218840"/>
                <a:ext cx="0" cy="10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797120" y="2781360"/>
              <a:ext cx="152280" cy="15177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240 h 1517760"/>
                <a:gd name="textAreaBottom" fmla="*/ 1478520 h 151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6600" y="3254040"/>
              <a:ext cx="12016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Verdana"/>
                </a:rPr>
                <a:t>Базов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ru-RU" sz="1600" spc="-1" strike="noStrike">
                  <a:solidFill>
                    <a:srgbClr val="3333cc"/>
                  </a:solidFill>
                  <a:latin typeface="Verdana"/>
                </a:rPr>
                <a:t>проверк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81320" y="1371600"/>
            <a:ext cx="4167000" cy="1600200"/>
            <a:chOff x="481320" y="1371600"/>
            <a:chExt cx="4167000" cy="1600200"/>
          </a:xfrm>
        </p:grpSpPr>
        <p:grpSp>
          <p:nvGrpSpPr>
            <p:cNvPr id="278" name=""/>
            <p:cNvGrpSpPr/>
            <p:nvPr/>
          </p:nvGrpSpPr>
          <p:grpSpPr>
            <a:xfrm>
              <a:off x="2362320" y="1447920"/>
              <a:ext cx="2286000" cy="1523880"/>
              <a:chOff x="2362320" y="1447920"/>
              <a:chExt cx="2286000" cy="1523880"/>
            </a:xfrm>
          </p:grpSpPr>
          <p:sp>
            <p:nvSpPr>
              <p:cNvPr id="279" name=""/>
              <p:cNvSpPr/>
              <p:nvPr/>
            </p:nvSpPr>
            <p:spPr>
              <a:xfrm>
                <a:off x="2362320" y="1447920"/>
                <a:ext cx="2286000" cy="8380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3333cc"/>
                    </a:solidFill>
                    <a:latin typeface="Verdana"/>
                  </a:rPr>
                  <a:t>Дополнительный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3333cc"/>
                    </a:solidFill>
                    <a:latin typeface="Verdana"/>
                  </a:rPr>
                  <a:t> </a:t>
                </a:r>
                <a:r>
                  <a:rPr b="0" lang="ru-RU" sz="2000" spc="-1" strike="noStrike">
                    <a:solidFill>
                      <a:srgbClr val="3333cc"/>
                    </a:solidFill>
                    <a:latin typeface="Verdana"/>
                  </a:rPr>
                  <a:t>журна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3333cc"/>
                    </a:solidFill>
                    <a:latin typeface="Verdana"/>
                  </a:rPr>
                  <a:t> </a:t>
                </a:r>
                <a:r>
                  <a:rPr b="0" lang="ru-RU" sz="2000" spc="-1" strike="noStrike">
                    <a:solidFill>
                      <a:srgbClr val="3333cc"/>
                    </a:solidFill>
                    <a:latin typeface="Verdana"/>
                  </a:rPr>
                  <a:t>операций</a:t>
                </a:r>
                <a:r>
                  <a:rPr b="0" lang="en-US" sz="2000" spc="-1" strike="noStrike" baseline="-25000">
                    <a:solidFill>
                      <a:srgbClr val="3333cc"/>
                    </a:solidFill>
                    <a:latin typeface="Verdan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3504960" y="2361960"/>
                <a:ext cx="152280" cy="609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09880" y="2362320"/>
                <a:ext cx="304920" cy="609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797120" y="1371600"/>
              <a:ext cx="152280" cy="10666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1320" y="1593720"/>
              <a:ext cx="114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Verdana"/>
                </a:rPr>
                <a:t>Дополни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Verdana"/>
                </a:rPr>
                <a:t>тельные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Verdana"/>
                </a:rPr>
                <a:t>проверк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334120" y="1447920"/>
            <a:ext cx="2286000" cy="1523880"/>
            <a:chOff x="5334120" y="1447920"/>
            <a:chExt cx="2286000" cy="1523880"/>
          </a:xfrm>
        </p:grpSpPr>
        <p:sp>
          <p:nvSpPr>
            <p:cNvPr id="285" name=""/>
            <p:cNvSpPr/>
            <p:nvPr/>
          </p:nvSpPr>
          <p:spPr>
            <a:xfrm flipV="1">
              <a:off x="5867280" y="2361960"/>
              <a:ext cx="152640" cy="609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171840" y="2362320"/>
              <a:ext cx="304920" cy="609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4120" y="1447920"/>
              <a:ext cx="2286000" cy="838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Verdana"/>
                </a:rPr>
                <a:t>Дополнительны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3333cc"/>
                  </a:solidFill>
                  <a:latin typeface="Verdana"/>
                </a:rPr>
                <a:t>журна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3333cc"/>
                  </a:solidFill>
                  <a:latin typeface="Verdana"/>
                </a:rPr>
                <a:t>операций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мон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909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ждународные правила определяю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Основные требования к регистру</a:t>
            </a: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решение </a:t>
            </a: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19/CP.7)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роны имею достаточно возможностей действовать как они пожелаю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Основные стандарты обмена данными</a:t>
            </a: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решение</a:t>
            </a: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 24/CP.8)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знается, что требуются точные технические специфик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Подробные спецификации стандартов обмена данны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яют, как регистры сопровождают механиз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рабатывается Секретариатом с  разработчиками регистр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рсия 1.0 будет закончена к июлю 2004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т расширены через кооперацию администраторов регист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6600" y="-360"/>
            <a:ext cx="868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ы обмена данн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909972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защищенными коммуникациями через интерн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гласование последовательности опер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рийные номера, номера счетов и опер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ды возврата журнала опер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ты сообщений для возможности прочтения всех коммуникационных проце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цессы для начала работы с Независимым журналом регистрации опер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менение управляющих процедур для изменения стандартов обмена данны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ставление докладов об установленных количеств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487440" y="105264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43040" y="2666880"/>
            <a:ext cx="841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Ежегодный доклад в электронной фор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вокупная информация из регистра о владении и операция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ЗИЗЛХ в соотв. со Статьей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3 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язательн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ЗИЗЛХ в соотв. со Статьей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3.4 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язательно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Доклад по окончанию периода обязатель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бавления и изъятия из установленного количе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ее изъятие для целей соблюд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диницы, доступные для переноса на следующий период обязатель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469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Точный учет зачетов в- и вычетов из установленного количества требуется для сохранения условий приемлем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371600"/>
            <a:ext cx="8305920" cy="119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200400" y="1695240"/>
            <a:ext cx="586728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едитование проектов П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62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образовани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“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вод в обращени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”)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ществующих единиц принимающей Стороны в </a:t>
            </a: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единицы сокращения выбросо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Verdana"/>
              </a:rPr>
              <a:t>(ЕСВ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зависимости от типа проек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В передаются Стороне - инвестор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В могут быть использованы Стороной Приложения В для выполнения ее обязательств по К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В отличаются от кредитов МЧР, которые являются вновь образованными единиц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895480"/>
            <a:ext cx="1219320" cy="609840"/>
          </a:xfrm>
          <a:prstGeom prst="flowChartPunchedTap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ЕУ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581280"/>
            <a:ext cx="1219320" cy="609840"/>
          </a:xfrm>
          <a:prstGeom prst="flowChartPunchedTap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Е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1360" y="3124080"/>
            <a:ext cx="723960" cy="190800"/>
          </a:xfrm>
          <a:prstGeom prst="rightArrow">
            <a:avLst>
              <a:gd name="adj1" fmla="val 50000"/>
              <a:gd name="adj2" fmla="val 948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81360" y="3772080"/>
            <a:ext cx="723960" cy="190440"/>
          </a:xfrm>
          <a:prstGeom prst="rightArrow">
            <a:avLst>
              <a:gd name="adj1" fmla="val 50000"/>
              <a:gd name="adj2" fmla="val 950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895480"/>
            <a:ext cx="1219320" cy="609840"/>
          </a:xfrm>
          <a:prstGeom prst="flowChartPunchedTap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ЕС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581280"/>
            <a:ext cx="1219320" cy="609840"/>
          </a:xfrm>
          <a:prstGeom prst="flowChartPunchedTap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ЕС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64480" y="3068640"/>
            <a:ext cx="47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для проектов по снижению эмисс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97600" y="373392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для проектов ЗИЗ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гда все это должно произой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ловия приемлемости для Сторон Приложения 1 интегрированы с общей системой для гарантии целостности Киотского протоко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ороны должны удовлетворять следующим условиям до 2007 г. (или через один год после вступления КП в силу в этой Стороне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.е. должны существов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сист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вентаризация П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чет установленного количества в соотв. со Ст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7/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ый регист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ведомление об информации в Ст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3.3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 действий в соотв. со Ст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3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целям Сторон Приложения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847800" y="105264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4520" y="3213000"/>
            <a:ext cx="990720" cy="243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6080" y="576252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и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01360" y="577548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ленные колич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1612800"/>
            <a:ext cx="990720" cy="4038840"/>
          </a:xfrm>
          <a:prstGeom prst="rect">
            <a:avLst/>
          </a:pr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320" y="1765440"/>
            <a:ext cx="235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Прогнозируе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эми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92760" y="4203720"/>
            <a:ext cx="299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Установлен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количест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Сторон Приложения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994040"/>
            <a:ext cx="457200" cy="75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06280" y="1689120"/>
            <a:ext cx="3870000" cy="3962520"/>
            <a:chOff x="206280" y="1689120"/>
            <a:chExt cx="3870000" cy="3962520"/>
          </a:xfrm>
        </p:grpSpPr>
        <p:sp>
          <p:nvSpPr>
            <p:cNvPr id="74" name=""/>
            <p:cNvSpPr/>
            <p:nvPr/>
          </p:nvSpPr>
          <p:spPr>
            <a:xfrm>
              <a:off x="3048120" y="2527200"/>
              <a:ext cx="990360" cy="31244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6280" y="4203720"/>
              <a:ext cx="235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Результирующ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эмисс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400000">
              <a:off x="3619080" y="1955880"/>
              <a:ext cx="723960" cy="190440"/>
            </a:xfrm>
            <a:prstGeom prst="rightArrow">
              <a:avLst>
                <a:gd name="adj1" fmla="val 50000"/>
                <a:gd name="adj2" fmla="val 9503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981080" y="4279680"/>
              <a:ext cx="12193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49240" y="1917720"/>
            <a:ext cx="4298040" cy="1465560"/>
            <a:chOff x="5349240" y="1917720"/>
            <a:chExt cx="4298040" cy="1465560"/>
          </a:xfrm>
        </p:grpSpPr>
        <p:sp>
          <p:nvSpPr>
            <p:cNvPr id="79" name=""/>
            <p:cNvSpPr/>
            <p:nvPr/>
          </p:nvSpPr>
          <p:spPr>
            <a:xfrm>
              <a:off x="5654520" y="2971800"/>
              <a:ext cx="990720" cy="2286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54520" y="2514600"/>
              <a:ext cx="990720" cy="431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46840" y="2984400"/>
              <a:ext cx="28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8000"/>
                  </a:solidFill>
                  <a:latin typeface="Verdana"/>
                </a:rPr>
                <a:t>Деятельность ЗИЗЛ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9600" y="1917720"/>
              <a:ext cx="199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Механизмы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приобрет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 rot="5400000">
              <a:off x="5158440" y="2780640"/>
              <a:ext cx="571320" cy="19044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797520" y="2257200"/>
              <a:ext cx="517680" cy="34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81680" y="3124080"/>
              <a:ext cx="336600" cy="763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81680" y="4191120"/>
            <a:ext cx="685800" cy="3175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114800" y="2514600"/>
            <a:ext cx="1447920" cy="2672280"/>
            <a:chOff x="4114800" y="2514600"/>
            <a:chExt cx="1447920" cy="2672280"/>
          </a:xfrm>
        </p:grpSpPr>
        <p:sp>
          <p:nvSpPr>
            <p:cNvPr id="88" name=""/>
            <p:cNvSpPr/>
            <p:nvPr/>
          </p:nvSpPr>
          <p:spPr>
            <a:xfrm>
              <a:off x="4114800" y="25146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7520" y="3529080"/>
              <a:ext cx="41400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Verdana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ка соответствия обязательств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747320" y="4830480"/>
            <a:ext cx="3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360" y="105264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26960" y="4648320"/>
            <a:ext cx="6752880" cy="1523880"/>
            <a:chOff x="426960" y="4648320"/>
            <a:chExt cx="6752880" cy="1523880"/>
          </a:xfrm>
        </p:grpSpPr>
        <p:sp>
          <p:nvSpPr>
            <p:cNvPr id="94" name=""/>
            <p:cNvSpPr/>
            <p:nvPr/>
          </p:nvSpPr>
          <p:spPr>
            <a:xfrm>
              <a:off x="2627280" y="5056560"/>
              <a:ext cx="209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миссии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2008 - 2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19880" y="4775040"/>
              <a:ext cx="1733040" cy="1251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1840" y="4736160"/>
              <a:ext cx="2092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аза данных Секретариата по компиляции и учет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6960" y="4648320"/>
              <a:ext cx="6752880" cy="1523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327800" y="4653000"/>
            <a:ext cx="2379240" cy="1523880"/>
            <a:chOff x="7327800" y="4653000"/>
            <a:chExt cx="2379240" cy="1523880"/>
          </a:xfrm>
        </p:grpSpPr>
        <p:sp>
          <p:nvSpPr>
            <p:cNvPr id="99" name=""/>
            <p:cNvSpPr/>
            <p:nvPr/>
          </p:nvSpPr>
          <p:spPr>
            <a:xfrm>
              <a:off x="7974000" y="4761360"/>
              <a:ext cx="1733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Arial"/>
                </a:rPr>
                <a:t>Комитет по соблюдению Киотского протокол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74000" y="4653000"/>
              <a:ext cx="1733040" cy="1523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7228440" y="5170680"/>
              <a:ext cx="762120" cy="563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98360" y="3429000"/>
            <a:ext cx="7273800" cy="1172520"/>
            <a:chOff x="198360" y="3429000"/>
            <a:chExt cx="7273800" cy="1172520"/>
          </a:xfrm>
        </p:grpSpPr>
        <p:sp>
          <p:nvSpPr>
            <p:cNvPr id="103" name=""/>
            <p:cNvSpPr/>
            <p:nvPr/>
          </p:nvSpPr>
          <p:spPr>
            <a:xfrm>
              <a:off x="213120" y="3720960"/>
              <a:ext cx="7259040" cy="7614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360" y="3592800"/>
              <a:ext cx="2995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оцедуры обзора, проверки соблюдения, корректировки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303720" y="3429000"/>
              <a:ext cx="885240" cy="1155240"/>
              <a:chOff x="3303720" y="3429000"/>
              <a:chExt cx="885240" cy="1155240"/>
            </a:xfrm>
          </p:grpSpPr>
          <p:sp>
            <p:nvSpPr>
              <p:cNvPr id="106" name=""/>
              <p:cNvSpPr/>
              <p:nvPr/>
            </p:nvSpPr>
            <p:spPr>
              <a:xfrm>
                <a:off x="3303720" y="3430440"/>
                <a:ext cx="885240" cy="1153800"/>
              </a:xfrm>
              <a:prstGeom prst="downArrow">
                <a:avLst>
                  <a:gd name="adj1" fmla="val 50000"/>
                  <a:gd name="adj2" fmla="val 3258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03720" y="3429000"/>
                <a:ext cx="885240" cy="1153800"/>
              </a:xfrm>
              <a:prstGeom prst="downArrow">
                <a:avLst>
                  <a:gd name="adj1" fmla="val 50000"/>
                  <a:gd name="adj2" fmla="val 32584"/>
                </a:avLst>
              </a:prstGeom>
              <a:solidFill>
                <a:srgbClr val="3333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08680" y="1320840"/>
            <a:ext cx="4085640" cy="2108160"/>
            <a:chOff x="508680" y="1320840"/>
            <a:chExt cx="4085640" cy="2108160"/>
          </a:xfrm>
        </p:grpSpPr>
        <p:sp>
          <p:nvSpPr>
            <p:cNvPr id="109" name=""/>
            <p:cNvSpPr/>
            <p:nvPr/>
          </p:nvSpPr>
          <p:spPr>
            <a:xfrm>
              <a:off x="2860560" y="1396080"/>
              <a:ext cx="173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"/>
                </a:rPr>
                <a:t>Национальные сист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8680" y="1403280"/>
              <a:ext cx="221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"/>
                </a:rPr>
                <a:t>Система Сторон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"/>
                </a:rPr>
                <a:t>Приложения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19520" y="1320840"/>
              <a:ext cx="173340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1920" y="2158920"/>
              <a:ext cx="825480" cy="3556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20960" y="2665800"/>
              <a:ext cx="173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"/>
                </a:rPr>
                <a:t>Инвентаризация эмисс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1800" y="2666880"/>
              <a:ext cx="126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"/>
                </a:rPr>
                <a:t>Процесс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"/>
                </a:rPr>
                <a:t>отчет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9520" y="2590920"/>
              <a:ext cx="173340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095800" y="1197000"/>
            <a:ext cx="2392200" cy="4827240"/>
            <a:chOff x="5095800" y="1197000"/>
            <a:chExt cx="2392200" cy="4827240"/>
          </a:xfrm>
        </p:grpSpPr>
        <p:sp>
          <p:nvSpPr>
            <p:cNvPr id="117" name=""/>
            <p:cNvSpPr/>
            <p:nvPr/>
          </p:nvSpPr>
          <p:spPr>
            <a:xfrm>
              <a:off x="5151240" y="1283040"/>
              <a:ext cx="224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"/>
                </a:rPr>
                <a:t>Национальные регистр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95800" y="2433960"/>
              <a:ext cx="234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Arial"/>
                </a:rPr>
                <a:t>Данные по установленному количеств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5800" y="4897440"/>
              <a:ext cx="234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становленные количеств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8 - 2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95800" y="4740480"/>
              <a:ext cx="2340720" cy="1283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5600" y="2057040"/>
              <a:ext cx="1115640" cy="36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95800" y="1197000"/>
              <a:ext cx="2340720" cy="860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745600" y="3373560"/>
              <a:ext cx="1115280" cy="1185840"/>
              <a:chOff x="5745600" y="3373560"/>
              <a:chExt cx="1115280" cy="1185840"/>
            </a:xfrm>
          </p:grpSpPr>
          <p:sp>
            <p:nvSpPr>
              <p:cNvPr id="124" name=""/>
              <p:cNvSpPr/>
              <p:nvPr/>
            </p:nvSpPr>
            <p:spPr>
              <a:xfrm>
                <a:off x="5745600" y="3375360"/>
                <a:ext cx="1115280" cy="1184040"/>
              </a:xfrm>
              <a:prstGeom prst="downArrow">
                <a:avLst>
                  <a:gd name="adj1" fmla="val 50000"/>
                  <a:gd name="adj2" fmla="val 2654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45600" y="3373560"/>
                <a:ext cx="1115280" cy="1184040"/>
              </a:xfrm>
              <a:prstGeom prst="downArrow">
                <a:avLst>
                  <a:gd name="adj1" fmla="val 50000"/>
                  <a:gd name="adj2" fmla="val 26541"/>
                </a:avLst>
              </a:prstGeom>
              <a:solidFill>
                <a:srgbClr val="3333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147280" y="2500200"/>
              <a:ext cx="2340720" cy="860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ловия приемлемости для П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638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рона К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считано установленное колич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на нац. система для               оценок эмиссий/сто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н нац. регистр для отслеживания установленного количе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ставлены самые последние запрашиваемые инвентаризации   эмисс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чный учет установленного количества и представление необходимой информ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752480"/>
            <a:ext cx="5639040" cy="4343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4600" y="1355760"/>
            <a:ext cx="48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Verdana"/>
              </a:rPr>
              <a:t>Вариант 1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3333cc"/>
                </a:solidFill>
                <a:latin typeface="Verdana"/>
              </a:rPr>
              <a:t>Полная приемлемос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043600" y="2133720"/>
            <a:ext cx="4788720" cy="2880720"/>
            <a:chOff x="5043600" y="2133720"/>
            <a:chExt cx="4788720" cy="2880720"/>
          </a:xfrm>
        </p:grpSpPr>
        <p:sp>
          <p:nvSpPr>
            <p:cNvPr id="133" name=""/>
            <p:cNvSpPr/>
            <p:nvPr/>
          </p:nvSpPr>
          <p:spPr>
            <a:xfrm>
              <a:off x="5043600" y="2630160"/>
              <a:ext cx="4664520" cy="238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23520" y="2820600"/>
              <a:ext cx="442368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.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торона К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Verdana"/>
                <a:buAutoNum type="alphaL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ассчитано установленное количеств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Verdana"/>
                <a:buAutoNum type="alphaL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оздан нац. регистр для отслеживания установленного количеств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07360" y="2133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Вариант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 в обращ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ача и приобретение един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87440" y="105264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5105520"/>
            <a:ext cx="8762760" cy="1203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245200"/>
            <a:ext cx="793440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Все Стороны Приложения В могут осуществлять ПС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приемлемость касается только выпуска, передачи и приобретения ЕС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8360" y="3429000"/>
            <a:ext cx="8991720" cy="1066680"/>
            <a:chOff x="198360" y="3429000"/>
            <a:chExt cx="8991720" cy="1066680"/>
          </a:xfrm>
        </p:grpSpPr>
        <p:sp>
          <p:nvSpPr>
            <p:cNvPr id="141" name=""/>
            <p:cNvSpPr/>
            <p:nvPr/>
          </p:nvSpPr>
          <p:spPr>
            <a:xfrm>
              <a:off x="4236840" y="3429000"/>
              <a:ext cx="49532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marL="214200" indent="-214200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Право выпускать, передавать и приобретать ЕС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4200" indent="-21420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применение национальных процедур для проверки проекта и его результат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75080" y="3638520"/>
              <a:ext cx="68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360" y="3429000"/>
              <a:ext cx="3886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marL="246960" indent="-24696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Verdana"/>
                </a:rPr>
                <a:t>Вариант 1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46960" indent="-24696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(</a:t>
              </a:r>
              <a:r>
                <a:rPr b="0" lang="ru-RU" sz="2000" spc="-1" strike="noStrike">
                  <a:solidFill>
                    <a:srgbClr val="3333cc"/>
                  </a:solidFill>
                  <a:latin typeface="Verdana"/>
                </a:rPr>
                <a:t>Полная приемлемость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87440" y="1125360"/>
            <a:ext cx="8991000" cy="457200"/>
            <a:chOff x="487440" y="1125360"/>
            <a:chExt cx="8991000" cy="457200"/>
          </a:xfrm>
        </p:grpSpPr>
        <p:sp>
          <p:nvSpPr>
            <p:cNvPr id="145" name=""/>
            <p:cNvSpPr/>
            <p:nvPr/>
          </p:nvSpPr>
          <p:spPr>
            <a:xfrm>
              <a:off x="2468160" y="1353960"/>
              <a:ext cx="1981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440" y="1125360"/>
              <a:ext cx="388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Verdana"/>
                </a:rPr>
                <a:t>Нет приемлемост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25560" y="1125360"/>
              <a:ext cx="4952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marL="219960" indent="-21996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права выпускать или передавать ЕС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440" y="1773360"/>
            <a:ext cx="8991000" cy="1523880"/>
            <a:chOff x="487440" y="1773360"/>
            <a:chExt cx="8991000" cy="1523880"/>
          </a:xfrm>
        </p:grpSpPr>
        <p:sp>
          <p:nvSpPr>
            <p:cNvPr id="149" name=""/>
            <p:cNvSpPr/>
            <p:nvPr/>
          </p:nvSpPr>
          <p:spPr>
            <a:xfrm>
              <a:off x="1858680" y="1982880"/>
              <a:ext cx="2590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7440" y="1773360"/>
              <a:ext cx="388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Verdana"/>
                </a:rPr>
                <a:t>Вариант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25560" y="1773360"/>
              <a:ext cx="4952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265680" indent="-265680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Право выпускать и передавать ЕС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5680" indent="-26568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олько после проверки проекта и его результатом Комитетом по надзору за соблюдением    Статьи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00400" y="1695240"/>
            <a:ext cx="6400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цедуры рассмотрения и отчетности, связанные с приемлемость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3960" y="-360"/>
            <a:ext cx="89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новные элементы процеду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отчета /рассмот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условий приемлемости очевидно следует из процедур отчетности, обзора и проверки соблюд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е Стороны Приложения 1 отчитываются и могут быть проверены ежегод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е отчеты по проверкам рассматриваются Комитетом по соблюдению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аз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ьный отчет и обзор с расчетом установленного количества в соответствии со ст. 3.7 и 3.8 и определяет приемлем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ущий (годовой) отчет и обзор поддерживает или приостанавливает приемлемость в течении периода обязатель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млемость определяет Комитет по соблюде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558720" y="105264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13:23:48Z</dcterms:created>
  <dc:creator>Andrew Howard</dc:creator>
  <dc:description/>
  <cp:keywords>registry systems</cp:keywords>
  <dc:language>en-US</dc:language>
  <cp:lastModifiedBy>Jens Wilhelm</cp:lastModifiedBy>
  <cp:lastPrinted>2002-10-15T13:38:34Z</cp:lastPrinted>
  <dcterms:modified xsi:type="dcterms:W3CDTF">2004-09-17T11:12:34Z</dcterms:modified>
  <cp:revision>358</cp:revision>
  <dc:subject/>
  <dc:title>Meeting eligibility requir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6848406</vt:r8>
  </property>
  <property fmtid="{D5CDD505-2E9C-101B-9397-08002B2CF9AE}" pid="3" name="_AuthorEmail">
    <vt:lpwstr>tulinovs@mecom.ru</vt:lpwstr>
  </property>
  <property fmtid="{D5CDD505-2E9C-101B-9397-08002B2CF9AE}" pid="4" name="_AuthorEmailDisplayName">
    <vt:lpwstr>Sergey Tulinov</vt:lpwstr>
  </property>
  <property fmtid="{D5CDD505-2E9C-101B-9397-08002B2CF9AE}" pid="5" name="_EmailSubject">
    <vt:lpwstr>Pres N3</vt:lpwstr>
  </property>
</Properties>
</file>