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C7AA-8352-418A-8820-8BEFFCA3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03DC-3230-4ECB-B03A-E94CDE52B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7CB0-57CF-4E8D-9743-7831EFFB7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7FFF-E814-4D64-A9AB-B1681F74C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02AF-C2BB-4E5E-8FC9-1C2227DA9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4E4-950A-4753-BFC1-C128EC2FD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5CFC-FF0A-4309-AB1B-34DA9498A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5545-9CE7-4A66-876B-5D014827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F6D9-6807-48C1-A02B-0392EA4C0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B998-3878-4988-AED6-87AFA9CA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DFA3-B755-4D82-9413-C7C22AE3A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437C-D1C5-498E-94BC-004BACB11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716B-88EB-4448-BBD8-348D7A40C6B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445464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102120" y="18298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1657440"/>
            <a:ext cx="56768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ernation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action 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les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2D51-7265-4E9F-A182-4DB4DEE59E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TL not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cating required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7893-2146-417B-90F3-E8E460CA5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notifications to regist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1266840"/>
          <a:ext cx="8153280" cy="4876920"/>
        </p:xfrm>
        <a:graphic>
          <a:graphicData uri="http://schemas.openxmlformats.org/drawingml/2006/table">
            <a:tbl>
              <a:tblPr/>
              <a:tblGrid>
                <a:gridCol w="2133360"/>
                <a:gridCol w="601992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plac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s for tCER or lCER replacement due to impending expiry, reversal of storage, or failure to submit a certification report for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ancel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s for units to be cancelled due to net LULUCF emissions or non-compliance of a Party with its emissions target in the previous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xcess Issu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s for operational entities to compensate for excess issuance for a CDM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PR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s to raise unit holdings to meet the CPR level, where a CPR level change, cancellation or replacement leaves a Party below this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 carry-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indicate the quantity of units which may be carried-over or which must be cance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126B-A3EA-4DE1-9E4A-760D46CB1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cellation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143000"/>
          <a:ext cx="7925040" cy="5029200"/>
        </p:xfrm>
        <a:graphic>
          <a:graphicData uri="http://schemas.openxmlformats.org/drawingml/2006/table">
            <a:tbl>
              <a:tblPr/>
              <a:tblGrid>
                <a:gridCol w="2286000"/>
                <a:gridCol w="563904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et source 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net LULUCF emissions (Articles 3.3/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n-compliance 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non-compliance with an emissions target in the previous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Voluntary 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cellation voluntarily carried out by unit 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xcess issuance 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 CDM Executive Board requires an operational entity to compensate for prior excess issuance of CERs, tCERs or l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Mandatory 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removing units from holding accounts: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expired tCERs and lCERs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lCERs permanently ineligible for transfer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any units not been carried over after 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DAB1-BEE7-4106-A33C-4070F5750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011320"/>
          <a:ext cx="7925040" cy="3932280"/>
        </p:xfrm>
        <a:graphic>
          <a:graphicData uri="http://schemas.openxmlformats.org/drawingml/2006/table">
            <a:tbl>
              <a:tblPr/>
              <a:tblGrid>
                <a:gridCol w="2895840"/>
                <a:gridCol w="502920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CER replacement for expi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taken upon expiry of a t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CER replacement for expi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taken upon expiry of a l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CER replacement for reversal in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taken for a reversal of net removals from a CDM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CER replacement for non-submission of certific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taken where a certification report has not been provided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E927-1F53-4644-B7B5-8546EAB2CF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filment of ITL notif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 days to fulfil required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ification identifier is given by registries for each transaction relating to the no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associates relevant transactions with identifier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TL assesses when required actions are 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notifications by the ITL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indicate when a required action is complete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provide status updates on fulfil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fulfilled cancellation and replacement notifications taken into account in CPR calculations (after 30 d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5289-45CE-4A06-BD00-25F74227E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TL response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cating negative check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626F-D963-465A-BCAC-8BAB1010A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respons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iscrepancies identifi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itive message, transaction contin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repancies identifi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gative message, registry terminates transactio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onse code indicates reason for check 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hecks are primarily technical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suring that registry systems communicate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hecks are primarily policy-rela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suring conformity with Kyoto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categories define order in which checks are ap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01DB-90B2-4333-9636-4F3586BF0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 categ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9120" y="1143000"/>
          <a:ext cx="8153280" cy="5029200"/>
        </p:xfrm>
        <a:graphic>
          <a:graphicData uri="http://schemas.openxmlformats.org/drawingml/2006/table">
            <a:tbl>
              <a:tblPr/>
              <a:tblGrid>
                <a:gridCol w="3198960"/>
                <a:gridCol w="49543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Version and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the ITL verify submitter’s ident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Message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the message readable and comple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Registry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registries involved able to opera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ransaction data 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data makes sen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Message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the message in the correct ord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General transaction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message comply with general requirements for transac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ransaction-specific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message comply with Kyoto requirements for the type of transa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4ED2-7AA8-4DBD-AA57-D47E843EA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response code ex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04720" y="1482840"/>
          <a:ext cx="8229600" cy="4613040"/>
        </p:xfrm>
        <a:graphic>
          <a:graphicData uri="http://schemas.openxmlformats.org/drawingml/2006/table">
            <a:tbl>
              <a:tblPr/>
              <a:tblGrid>
                <a:gridCol w="2438640"/>
                <a:gridCol w="2895480"/>
                <a:gridCol w="2895480"/>
              </a:tblGrid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U issuanc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s, tCERs, lCERs and ERUs must have a valid projec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quantity of AAUs issued must not exceed allowed quantity for the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-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E78C-38D1-4026-AD29-F715729AF0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tion of the IT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048120"/>
            <a:ext cx="373356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dependent transaction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429000"/>
            <a:ext cx="373356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mmunications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73356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Virtual privat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3360" y="1371600"/>
            <a:ext cx="8201160" cy="4495680"/>
            <a:chOff x="333360" y="1371600"/>
            <a:chExt cx="8201160" cy="4495680"/>
          </a:xfrm>
        </p:grpSpPr>
        <p:sp>
          <p:nvSpPr>
            <p:cNvPr id="53" name=""/>
            <p:cNvSpPr/>
            <p:nvPr/>
          </p:nvSpPr>
          <p:spPr>
            <a:xfrm>
              <a:off x="1492200" y="289548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3280" y="3346560"/>
              <a:ext cx="82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Base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3360" y="1593720"/>
              <a:ext cx="98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upple-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ntar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5334120"/>
              <a:ext cx="1219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4800" y="5334120"/>
              <a:ext cx="1219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15000" y="5334120"/>
              <a:ext cx="1219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5200" y="5334120"/>
              <a:ext cx="1219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DM-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5334120"/>
              <a:ext cx="12193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828800" y="426708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971800" y="426708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5867280" y="42670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6324120" y="4267080"/>
              <a:ext cx="1219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72428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7400" y="1447920"/>
              <a:ext cx="22860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pplementa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ransaction lo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00040" y="236196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2362320"/>
              <a:ext cx="304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92200" y="137160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562720" y="2361960"/>
              <a:ext cx="152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866920" y="236232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1447920"/>
              <a:ext cx="22860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pplementa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ransaction lo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E205-05A0-4EF0-A303-0954243D3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roles and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ly checks transactions proposed by registries against modalities, rules and limits set out in COP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ies required to terminate transactions where discrepancies from the rules are ident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and its communications hub are integrated in the processing and stages of the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r reconciliation of registry data with the I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notifications informing registries of required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57800"/>
            <a:ext cx="83822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410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TL ensures integrity of transactions before their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B67C-1B9C-4FEB-A2EF-0E2E761AF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chnically sp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555920"/>
          <a:ext cx="845820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55920"/>
                    <a:ext cx="845820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682F-DC14-40BA-B5E4-3953F8E0A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design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, high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age queuing to handle high volu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sight of the secure network with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ar design to allow growth and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 to add or change ITL che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8CA1-6834-41EA-B501-187F568BB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ing technical spec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design and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ical flows for transaction and reconciliatio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specifications for ITL che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ks to other databases for some che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ilation and accounting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 informatio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 information system (track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specifications for ITL not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A5B6-82EC-41EC-8F39-7B79A08E2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e data in the IT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752480"/>
          <a:ext cx="7772400" cy="4267440"/>
        </p:xfrm>
        <a:graphic>
          <a:graphicData uri="http://schemas.openxmlformats.org/drawingml/2006/table">
            <a:tbl>
              <a:tblPr/>
              <a:tblGrid>
                <a:gridCol w="2787480"/>
                <a:gridCol w="498492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 blo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unit issued, its status and the registry in which it is currently h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and historical transaction rec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concilia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reconciliation actions performed, inconsistent unit blocks identified and cases of manual intervention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tification l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notifications to sent to registries and record of whether actions are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F9B1-C7CB-43EB-A5D9-0E97C9AFE4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tion with ST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passes messages to STLs where involved Parties belong to a regional trading scheme (eg EU trad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transactio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transfers under EU t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 pass through of information where desir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g account management messag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processing by ITL in order to maintain consistent records with STLs (eg splitting unit block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DEDC-2BFB-4B20-A3C4-835A18FFA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essage sequence with ST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4520" y="1600200"/>
          <a:ext cx="7381800" cy="45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600200"/>
                    <a:ext cx="738180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95280" y="3048120"/>
          <a:ext cx="30492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0481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495680" y="44197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orm ITL checks on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29718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Route propos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priate S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11430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ecific EC checks applied by CI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6240" y="22096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Retur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7432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ropos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4267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orward proposal to acquiring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72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Finaliz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952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Finaliz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01004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Notify I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45924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Notify CI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9560" y="2666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Finaliz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19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Notify I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1240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Notify transferring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3623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Finaliz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9718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Notif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96C1-1301-4A9B-8F4B-4BC9ECB1E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32:54Z</dcterms:modified>
  <cp:revision>161</cp:revision>
  <dc:subject/>
  <dc:title>PowerPoint Presentation</dc:title>
</cp:coreProperties>
</file>