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2825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688680" y="753480"/>
            <a:ext cx="5368320" cy="37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4640" y="4709160"/>
            <a:ext cx="539676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0480" y="743040"/>
            <a:ext cx="5365800" cy="3717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ll to enhance timeliness and cost-effec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similarity of CDM-R to national registries and other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requir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esign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 development work/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chmark to test subsequent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 is the technical basis for transactions:  issuance, transfers, cance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A4E0-DB9B-411E-AAAA-E4FEA5663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040" y="394848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471F-901C-4EAE-8E81-E8F18B721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620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8C58-2585-496A-928C-9FE818ED5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884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5000" y="160020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304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884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5000" y="3948480"/>
            <a:ext cx="2710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BB59-95DA-48BC-BE4C-8957C757B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6FCF-1BF8-438B-BE45-610D0A2D6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FBE5-B67B-4B92-9693-42B8529A3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F5AF-1F1E-4F51-9F9E-AD5E7474B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83B3-3CF7-4E18-9399-54DF94989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-3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A449-644C-4D59-8290-CE58B2765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7264-37C7-4426-B581-15A2815D3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6200" y="394848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4643-FF50-4ABB-95B6-F687B3B78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6200" y="1600200"/>
            <a:ext cx="4107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3040" y="3948480"/>
            <a:ext cx="841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6873-0F02-4E60-A667-176551BF8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90288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75620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D847-0B7F-4053-8FB1-FF110B87F10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9010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90108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108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3040" y="1600200"/>
            <a:ext cx="841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2160" y="4416480"/>
            <a:ext cx="24955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кретариат РК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08448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49640" y="1700280"/>
            <a:ext cx="680256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ss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ящие принципы осуществления проектов 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ье 6 Киотского проток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й семинар РКИК по осуществлению проектов по Статье 6 Киотского прото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6-27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680" y="-360"/>
            <a:ext cx="955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рядок деятельности по проек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989600" y="3559320"/>
            <a:ext cx="4620960" cy="2101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кредитованная независимая орган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Н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итет по надзору за соблюдением Статьи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цы сокращения выбро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частная или общественная организация может быть аккредитована КН6 и назначена КС/СС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Автоматически, если в течении 60 дней Сторона – участник  проекта или 3 члена КН6 не потребуют пересмот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чески, если в течении 15 дней Сторона – участник  проекта или 3 члена КН6 не потребуют пересмотра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25480" y="1371600"/>
            <a:ext cx="8841600" cy="1676520"/>
            <a:chOff x="825480" y="1371600"/>
            <a:chExt cx="8841600" cy="1676520"/>
          </a:xfrm>
        </p:grpSpPr>
        <p:cxnSp>
          <p:nvCxnSpPr>
            <p:cNvPr id="88" name=""/>
            <p:cNvCxnSpPr>
              <a:stCxn id="89" idx="2"/>
              <a:endCxn id="90" idx="0"/>
            </p:cNvCxnSpPr>
            <p:nvPr/>
          </p:nvCxnSpPr>
          <p:spPr>
            <a:xfrm flipH="1">
              <a:off x="6257520" y="1873080"/>
              <a:ext cx="14400" cy="108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91" name=""/>
            <p:cNvCxnSpPr>
              <a:stCxn id="90" idx="2"/>
              <a:endCxn id="92" idx="0"/>
            </p:cNvCxnSpPr>
            <p:nvPr/>
          </p:nvCxnSpPr>
          <p:spPr>
            <a:xfrm>
              <a:off x="6257880" y="2438280"/>
              <a:ext cx="1440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93" name=""/>
            <p:cNvGrpSpPr/>
            <p:nvPr/>
          </p:nvGrpSpPr>
          <p:grpSpPr>
            <a:xfrm>
              <a:off x="825480" y="1371600"/>
              <a:ext cx="8841600" cy="1676520"/>
              <a:chOff x="825480" y="1371600"/>
              <a:chExt cx="8841600" cy="1676520"/>
            </a:xfrm>
          </p:grpSpPr>
          <p:sp>
            <p:nvSpPr>
              <p:cNvPr id="89" name=""/>
              <p:cNvSpPr/>
              <p:nvPr/>
            </p:nvSpPr>
            <p:spPr>
              <a:xfrm>
                <a:off x="5859000" y="1415880"/>
                <a:ext cx="825120" cy="457200"/>
              </a:xfrm>
              <a:prstGeom prst="flowChartAlternate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80880" y="1981080"/>
                <a:ext cx="2754360" cy="457200"/>
              </a:xfrm>
              <a:prstGeom prst="flowChartAlternate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КН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КС/С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59000" y="2514600"/>
                <a:ext cx="825120" cy="457200"/>
              </a:xfrm>
              <a:prstGeom prst="flowChartAlternate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Н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57280" y="1981080"/>
                <a:ext cx="1909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Аккредитация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br>
                  <a:rPr sz="1400"/>
                </a:b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назнач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74480" y="1371600"/>
                <a:ext cx="0" cy="1676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" name=""/>
              <p:cNvCxnSpPr>
                <a:endCxn id="92" idx="1"/>
              </p:cNvCxnSpPr>
              <p:nvPr/>
            </p:nvCxnSpPr>
            <p:spPr>
              <a:xfrm flipH="1" rot="16200000">
                <a:off x="2999160" y="-117720"/>
                <a:ext cx="686520" cy="5034240"/>
              </a:xfrm>
              <a:prstGeom prst="curvedConnector5">
                <a:avLst>
                  <a:gd name="adj1" fmla="val -33315"/>
                  <a:gd name="adj2" fmla="val 40105"/>
                  <a:gd name="adj3" fmla="val -33315"/>
                </a:avLst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</p:cxnSp>
        </p:grpSp>
      </p:grpSp>
      <p:sp>
        <p:nvSpPr>
          <p:cNvPr id="97" name=""/>
          <p:cNvSpPr/>
          <p:nvPr/>
        </p:nvSpPr>
        <p:spPr>
          <a:xfrm>
            <a:off x="2557440" y="2438280"/>
            <a:ext cx="23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ано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57440" y="335268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51040" y="42768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7440" y="4572000"/>
            <a:ext cx="191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7440" y="1447920"/>
            <a:ext cx="23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зайн-Проек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806040" y="1872720"/>
            <a:ext cx="1080" cy="197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3" name=""/>
          <p:cNvSpPr/>
          <p:nvPr/>
        </p:nvSpPr>
        <p:spPr>
          <a:xfrm>
            <a:off x="355680" y="266688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3" idx="2"/>
          </p:cNvCxnSpPr>
          <p:nvPr/>
        </p:nvCxnSpPr>
        <p:spPr>
          <a:xfrm>
            <a:off x="806400" y="3124080"/>
            <a:ext cx="7200" cy="153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5" name=""/>
          <p:cNvCxnSpPr/>
          <p:nvPr/>
        </p:nvCxnSpPr>
        <p:spPr>
          <a:xfrm>
            <a:off x="806040" y="4343040"/>
            <a:ext cx="1080" cy="15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6" name=""/>
          <p:cNvCxnSpPr>
            <a:endCxn id="103" idx="0"/>
          </p:cNvCxnSpPr>
          <p:nvPr/>
        </p:nvCxnSpPr>
        <p:spPr>
          <a:xfrm flipH="1">
            <a:off x="806040" y="2527200"/>
            <a:ext cx="7200" cy="140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7" name=""/>
          <p:cNvCxnSpPr/>
          <p:nvPr/>
        </p:nvCxnSpPr>
        <p:spPr>
          <a:xfrm>
            <a:off x="806040" y="3733560"/>
            <a:ext cx="1080" cy="15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8" name=""/>
          <p:cNvCxnSpPr/>
          <p:nvPr/>
        </p:nvCxnSpPr>
        <p:spPr>
          <a:xfrm>
            <a:off x="806040" y="495252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9" name=""/>
          <p:cNvSpPr/>
          <p:nvPr/>
        </p:nvSpPr>
        <p:spPr>
          <a:xfrm>
            <a:off x="2557440" y="3200400"/>
            <a:ext cx="0" cy="60948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57440" y="3886200"/>
            <a:ext cx="0" cy="107172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7440" y="1371600"/>
            <a:ext cx="0" cy="53352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2057400"/>
            <a:ext cx="0" cy="60948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57440" y="2590920"/>
            <a:ext cx="0" cy="53316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80" y="450072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: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680" y="520380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5680" y="203832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5680" y="139212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" y="386388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5680" y="3281400"/>
            <a:ext cx="103356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9200" y="433440"/>
            <a:ext cx="841860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риант 2 – Как работает аккредитаци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95320" y="1836720"/>
            <a:ext cx="8254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192480"/>
            <a:ext cx="115560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887640"/>
            <a:ext cx="82548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20800" y="236232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кред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345440" y="4800600"/>
            <a:ext cx="1809360" cy="1673280"/>
            <a:chOff x="7345440" y="4800600"/>
            <a:chExt cx="1809360" cy="1673280"/>
          </a:xfrm>
        </p:grpSpPr>
        <p:sp>
          <p:nvSpPr>
            <p:cNvPr id="126" name=""/>
            <p:cNvSpPr/>
            <p:nvPr/>
          </p:nvSpPr>
          <p:spPr>
            <a:xfrm>
              <a:off x="7345440" y="4800600"/>
              <a:ext cx="1809360" cy="836640"/>
            </a:xfrm>
            <a:prstGeom prst="rightArrow">
              <a:avLst>
                <a:gd name="adj1" fmla="val 50000"/>
                <a:gd name="adj2" fmla="val 54066"/>
              </a:avLst>
            </a:prstGeom>
            <a:solidFill>
              <a:srgbClr val="66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ерификация проек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45440" y="5637240"/>
              <a:ext cx="1809360" cy="836640"/>
            </a:xfrm>
            <a:prstGeom prst="rightArrow">
              <a:avLst>
                <a:gd name="adj1" fmla="val 50000"/>
                <a:gd name="adj2" fmla="val 54066"/>
              </a:avLst>
            </a:prstGeom>
            <a:solidFill>
              <a:srgbClr val="66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ерификация ЕС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8" name=""/>
          <p:cNvCxnSpPr>
            <a:stCxn id="123" idx="2"/>
            <a:endCxn id="126" idx="0"/>
          </p:cNvCxnSpPr>
          <p:nvPr/>
        </p:nvCxnSpPr>
        <p:spPr>
          <a:xfrm flipH="1" rot="16200000">
            <a:off x="5570280" y="4008960"/>
            <a:ext cx="87552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3" idx="2"/>
            <a:endCxn id="127" idx="0"/>
          </p:cNvCxnSpPr>
          <p:nvPr/>
        </p:nvCxnSpPr>
        <p:spPr>
          <a:xfrm flipH="1" rot="16200000">
            <a:off x="5151960" y="4427280"/>
            <a:ext cx="171216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1" idx="3"/>
            <a:endCxn id="122" idx="0"/>
          </p:cNvCxnSpPr>
          <p:nvPr/>
        </p:nvCxnSpPr>
        <p:spPr>
          <a:xfrm>
            <a:off x="1588680" y="2064960"/>
            <a:ext cx="143892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2"/>
            <a:endCxn id="126" idx="1"/>
          </p:cNvCxnSpPr>
          <p:nvPr/>
        </p:nvCxnSpPr>
        <p:spPr>
          <a:xfrm flipH="1" rot="16200000">
            <a:off x="5570280" y="4008960"/>
            <a:ext cx="87552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3" idx="2"/>
            <a:endCxn id="127" idx="1"/>
          </p:cNvCxnSpPr>
          <p:nvPr/>
        </p:nvCxnSpPr>
        <p:spPr>
          <a:xfrm flipH="1" rot="16200000">
            <a:off x="5151960" y="4427280"/>
            <a:ext cx="1712160" cy="154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3"/>
            <a:endCxn id="123" idx="0"/>
          </p:cNvCxnSpPr>
          <p:nvPr/>
        </p:nvCxnSpPr>
        <p:spPr>
          <a:xfrm>
            <a:off x="3855600" y="3421080"/>
            <a:ext cx="1815480" cy="467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125600" y="3116160"/>
            <a:ext cx="137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АН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418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 2 – Процедура Вер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98360" y="1533600"/>
            <a:ext cx="824040" cy="457200"/>
          </a:xfrm>
          <a:prstGeom prst="flowChartAlternateProcess">
            <a:avLst/>
          </a:prstGeom>
          <a:solidFill>
            <a:srgbClr val="2ab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3"/>
            <a:endCxn id="138" idx="0"/>
          </p:cNvCxnSpPr>
          <p:nvPr/>
        </p:nvCxnSpPr>
        <p:spPr>
          <a:xfrm>
            <a:off x="944640" y="1762200"/>
            <a:ext cx="1087920" cy="388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993600" y="1273320"/>
            <a:ext cx="210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ляет дизай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роек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666880"/>
            <a:ext cx="187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вергается если не соответствует критер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1"/>
            <a:endCxn id="136" idx="2"/>
          </p:cNvCxnSpPr>
          <p:nvPr/>
        </p:nvCxnSpPr>
        <p:spPr>
          <a:xfrm rot="10800000">
            <a:off x="562680" y="1990080"/>
            <a:ext cx="1064520" cy="388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762200" y="2149560"/>
            <a:ext cx="87480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3040" y="649440"/>
            <a:ext cx="2855880" cy="1004760"/>
          </a:xfrm>
          <a:prstGeom prst="horizontalScroll">
            <a:avLst>
              <a:gd name="adj" fmla="val 12500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ерий базовой лини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ниторинга и кредит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иод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ложени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2" idx="1"/>
            <a:endCxn id="136" idx="0"/>
          </p:cNvCxnSpPr>
          <p:nvPr/>
        </p:nvCxnSpPr>
        <p:spPr>
          <a:xfrm flipV="1" rot="10800000">
            <a:off x="562680" y="1151280"/>
            <a:ext cx="2034360" cy="381960"/>
          </a:xfrm>
          <a:prstGeom prst="bentConnector2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541920" y="2025720"/>
            <a:ext cx="2241720" cy="796680"/>
          </a:xfrm>
          <a:prstGeom prst="flowChartPredefinedProcess">
            <a:avLst/>
          </a:prstGeom>
          <a:solidFill>
            <a:srgbClr val="2ab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уществл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69200" y="2792520"/>
            <a:ext cx="825480" cy="457200"/>
          </a:xfrm>
          <a:prstGeom prst="flowChartAlternateProcess">
            <a:avLst/>
          </a:prstGeom>
          <a:solidFill>
            <a:srgbClr val="2ab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5800" y="3637080"/>
            <a:ext cx="1224000" cy="457200"/>
          </a:xfrm>
          <a:prstGeom prst="flowChartInputOutput">
            <a:avLst/>
          </a:prstGeom>
          <a:solidFill>
            <a:srgbClr val="2ab2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е в установленной форм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5" idx="2"/>
            <a:endCxn id="146" idx="1"/>
          </p:cNvCxnSpPr>
          <p:nvPr/>
        </p:nvCxnSpPr>
        <p:spPr>
          <a:xfrm flipH="1">
            <a:off x="7181640" y="3249720"/>
            <a:ext cx="3600" cy="388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6" idx="4"/>
            <a:endCxn id="149" idx="0"/>
          </p:cNvCxnSpPr>
          <p:nvPr/>
        </p:nvCxnSpPr>
        <p:spPr>
          <a:xfrm>
            <a:off x="7181640" y="409392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272360" y="4376880"/>
            <a:ext cx="1011240" cy="560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2"/>
            <a:endCxn id="151" idx="0"/>
          </p:cNvCxnSpPr>
          <p:nvPr/>
        </p:nvCxnSpPr>
        <p:spPr>
          <a:xfrm>
            <a:off x="7778520" y="4936680"/>
            <a:ext cx="1332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2" idx="1"/>
            <a:endCxn id="138" idx="0"/>
          </p:cNvCxnSpPr>
          <p:nvPr/>
        </p:nvCxnSpPr>
        <p:spPr>
          <a:xfrm flipH="1">
            <a:off x="2031480" y="1152360"/>
            <a:ext cx="565920" cy="997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638440" y="2096640"/>
            <a:ext cx="2008080" cy="791640"/>
          </a:xfrm>
          <a:prstGeom prst="flowChartAlternate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ановле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Секр. РК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840" y="3580560"/>
            <a:ext cx="1993680" cy="1586160"/>
          </a:xfrm>
          <a:prstGeom prst="wedgeRectCallout">
            <a:avLst>
              <a:gd name="adj1" fmla="val 43009"/>
              <a:gd name="adj2" fmla="val -124629"/>
            </a:avLst>
          </a:prstGeom>
          <a:solidFill>
            <a:srgbClr val="bfb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ктный план делается открытым для комментариев Сторон или аккредитованных РКИК НПО через 30 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0000" y="1990800"/>
            <a:ext cx="1658880" cy="1039320"/>
          </a:xfrm>
          <a:prstGeom prst="rightArrow">
            <a:avLst>
              <a:gd name="adj1" fmla="val 50000"/>
              <a:gd name="adj2" fmla="val 39903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45 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68560" y="3503160"/>
            <a:ext cx="2270160" cy="946800"/>
          </a:xfrm>
          <a:prstGeom prst="wedgeRectCallout">
            <a:avLst>
              <a:gd name="adj1" fmla="val 41356"/>
              <a:gd name="adj2" fmla="val -92490"/>
            </a:avLst>
          </a:prstGeom>
          <a:solidFill>
            <a:srgbClr val="a9e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аче пересмотр КН6 по требованию Стороны-участника или 3 членов КН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16480" y="5312520"/>
            <a:ext cx="3148200" cy="5763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рификация ЕСВ Информирование Секр. РК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37000" y="5430600"/>
            <a:ext cx="2268360" cy="946800"/>
          </a:xfrm>
          <a:prstGeom prst="wedgeRectCallout">
            <a:avLst>
              <a:gd name="adj1" fmla="val 91953"/>
              <a:gd name="adj2" fmla="val 34527"/>
            </a:avLst>
          </a:prstGeom>
          <a:solidFill>
            <a:srgbClr val="a9e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аче пересмотр КН6 по требованию Стороны-участника или 3 членов КН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9600" y="6002280"/>
            <a:ext cx="1893960" cy="5202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15 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аключительные замеч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891720"/>
            <a:ext cx="936936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ятельность по определению деталей национальных руководящих принцип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ятельность по определению деталей руководящих принципов и процедур по Вариантам 1 и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ыт МЧР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же специфичная раб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ULUC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ругая чем в облесении и лесовосстановл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креди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уск и передача ЕС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и развития формата данных отчетности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такое ПС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ему существует два варианта осуществления ПС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отличаются вариант 1 от варианта 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0"/>
            <a:ext cx="863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ханизмы совмест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2860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отский протокол Стать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6, 12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53352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29080" y="3276720"/>
            <a:ext cx="2895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хани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5800" y="446076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Ч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11320" y="4419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4459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114800"/>
            <a:ext cx="350532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4114800"/>
            <a:ext cx="350496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9760" y="533412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азе про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533412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ограничивающая эмиссии П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0666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венция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Art. 3.3, 4.2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вместное выполнение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)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676520"/>
            <a:ext cx="53316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431760" y="1263960"/>
            <a:ext cx="53316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12193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ятельность осуществляемая совместно в пилотной ф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такое П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9158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диницы сокращения выбросов (ЕСВ)полученные одной Стороной Приложения 1 с помощью реализации проекта в другой Стороне Приложения 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вестиции на проектной основе должны обеспечивать снижение эмиссий или увеличение абсорбции поглотителями дополнительно к тем, которые могли бы иметь место в случае отсутствия проек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екты, начинал с 2000 года, могут подпадать под категорию проектов во исполнение статьи 6, если они удовлетворяют требованиям руководящих принципов для осуществления статьи 6 Киотского протокола, ЕСВ вводятся в обращение только для периода кредитования начиная с 2008 год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рона может перенести ЕСВ на следующий период действия обязательств вплоть до максимального уровня в 2,5% установленного количества данной Стороны согласно Статьям 3.7 и 3.8 (Статья 7.4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екты в области Землепользования и лесном хозяйстве по Стать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 =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ть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3.3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3.4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роны должны уполномочить юридические 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-171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ему существует два варианта осуществления ПС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4720" y="1267920"/>
            <a:ext cx="841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в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”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орона удовлетворяет требованиям для допуска с торговле эмиссиями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ь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17) -&g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ует национальные правила осуществления ПСО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ариант 1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 “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хоже на  схему торговли квотами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”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орона не удовлетворяет указанным требованиям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язательство использовать «верификационную процедуру» с международным надзором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ариант 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 “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хоже на  схему МЧР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Сторона может следовать Варианту 1, то она может выбирать верификационную процедуру по Варианту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е детально по условиям приемлемости в Сессии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62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отличаются Вариант 1 от Варианта 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792000"/>
          <a:ext cx="9902880" cy="5791320"/>
        </p:xfrm>
        <a:graphic>
          <a:graphicData uri="http://schemas.openxmlformats.org/drawingml/2006/table">
            <a:tbl>
              <a:tblPr/>
              <a:tblGrid>
                <a:gridCol w="2359080"/>
                <a:gridCol w="3672000"/>
                <a:gridCol w="3871800"/>
              </a:tblGrid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зовая лини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н мониторинг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руководящие принци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итет по надзору за соблюдением Статьи 6 (с учетом работы, проделанной МЧС/И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проекта на соответствие требова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руководящие принцип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жно использовать Вариант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дение верификации уполномоченной независимой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выполнения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руководящие принцип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жно использовать Вариант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дение верификации уполномоченной независимой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дача Е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K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ли Сторона соответствует требова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ополнение, если исп. Вариант 2: ЕСВ свободны от ограничений на условия учас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лько если Сторона соответствует требованиям приемлемост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21, a, b &amp; 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ботанные ЕСВ свободны от ограничений на условия учас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риант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891720"/>
            <a:ext cx="936936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ючевая роль у принимающей стор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назначенный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координацион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ый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центр по утверждению проек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националь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руководящ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принцип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ы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и процеду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ы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проек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тверждение проек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ниторин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рифик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а напрямую или через Секретариат делать доступной информацию о выполняемых проект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жна удовлетворять условиям учас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требуются международные процедуры утверждения, верификации, определения базовой линии, мониторинга и.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риант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20320"/>
            <a:ext cx="936936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лючевая роль у международного надзора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итет по надзору за соблюдением Статьи 6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кредитует независимые организации (АН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авливает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азовую линию и методологии мониторин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ификац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матривает решения А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О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авливает проекты по Статье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ет снижение эмисс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5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риан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установле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1440" y="1341360"/>
            <a:ext cx="931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кредитованная независимая организация определяет по проек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тверждение участвующими Сторон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ение принципа дополн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чет базовой линии и плана проверки в соотв. с руководящими принципами Статьи 6 (Приложение В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воздействия на окружающую сред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495360" y="838080"/>
            <a:ext cx="891216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3:23:48Z</dcterms:created>
  <dc:creator>Chrisine Zumkeller</dc:creator>
  <dc:description/>
  <cp:keywords>clean development mechanism</cp:keywords>
  <dc:language>en-US</dc:language>
  <cp:lastModifiedBy>Jens Wilhelm</cp:lastModifiedBy>
  <cp:lastPrinted>2002-10-15T13:38:34Z</cp:lastPrinted>
  <dcterms:modified xsi:type="dcterms:W3CDTF">2004-09-17T11:08:47Z</dcterms:modified>
  <cp:revision>360</cp:revision>
  <dc:subject/>
  <dc:title>Session 1:Guidelines for projects under Article 6 of the Kyoto Protoc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6059932</vt:r8>
  </property>
  <property fmtid="{D5CDD505-2E9C-101B-9397-08002B2CF9AE}" pid="3" name="_AuthorEmail">
    <vt:lpwstr>tulinovs@mecom.ru</vt:lpwstr>
  </property>
  <property fmtid="{D5CDD505-2E9C-101B-9397-08002B2CF9AE}" pid="4" name="_AuthorEmailDisplayName">
    <vt:lpwstr>Sergey Tulinov</vt:lpwstr>
  </property>
  <property fmtid="{D5CDD505-2E9C-101B-9397-08002B2CF9AE}" pid="5" name="_EmailSubject">
    <vt:lpwstr>Translation</vt:lpwstr>
  </property>
</Properties>
</file>