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2825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688680" y="753480"/>
            <a:ext cx="5368320" cy="37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4640" y="4709160"/>
            <a:ext cx="539676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s transactions when they are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sures the integrity of transactions before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ransaction log conducts automated check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ppropriate issuance of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Units previously retired or cance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Eligibility of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nfringements on the commitment period res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nfringements on the limits for carbon sinks and carry-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ducts regular reconciliation of registr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 start, at end, by accoun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ssu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transfers/acquisitions (by reg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ance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ret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may elect to account for specific activities (fores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elected, Party must account for activity throughout commitment peri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9CAA-8857-49A9-B219-9FBAAD953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A930-5A0B-4F18-B719-9DECCC8AD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3325-DEF6-49AC-9770-E16F4917C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88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30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88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B771-1BB6-405A-B0E3-DEF091354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40A8-8D37-4886-BBE5-2EAB352A4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3FB0-F092-43F9-91F7-D3B4B760B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977D-3069-49B3-80FC-B626C430B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1007-E258-4CE6-9997-B3BFB3975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-3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B9B0-1A4A-4BCE-9029-476EE054D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30A2-067C-417E-A946-8C1308EA1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8B1B-786F-4F52-A1A8-03F1D772A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1D6E-DA95-4227-86CA-A3B4AB215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90288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5620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808E-C6FF-4526-BDC2-07715DA6E45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901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90108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108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080" y="4416480"/>
            <a:ext cx="2518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7180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6960" y="1700280"/>
            <a:ext cx="6802200" cy="44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ss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eligibility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NFCCC workshop on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Article 6 projects under the Kyoto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c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6-27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itial reporting and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report and review is “to facilitate calculation of assigned amount and demonstrate capacity to account for emissions and assigned amount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HG invent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cus on base year (1990 or other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ion of initial assigned amount under Articles 3.7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ion of commitment period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on of sinks activities under Article 3.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ual reporting and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3040" y="1599840"/>
            <a:ext cx="841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 greenhouse gas 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 assigned amount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in the national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in national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culation of commitment period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724280"/>
            <a:ext cx="853452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6240" y="48769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Information recorded in the compilation and accounting database of the secretariat </a:t>
            </a:r>
            <a:r>
              <a:rPr b="0" i="1" lang="en-GB" sz="2000" spc="-1" strike="noStrike">
                <a:solidFill>
                  <a:srgbClr val="3333cc"/>
                </a:solidFill>
                <a:latin typeface="Verdana"/>
              </a:rPr>
              <a:t>after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 review and consideration by Compliance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92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Committe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acilitative Bran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s questions related to reporting and accounting prior to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provide advice, and facilitate financial and technical as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nforcement Bran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pply adjustments to inven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corrections to Party’s ac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spend and reinstate eligibility to participate in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5867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irements rela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the emissions 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points on the emissions s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le inventories are fundamental for determining compliance of Parties with their Kyoto tar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ion of assigned amount under Articles 3.7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ing mechanisms eli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 of commitment period compliance t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ce between track 1 and 2 hinges on ongoing provision of annual inventory that meets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inventory with full time-series is important for calculation of assigned amount under both track 1 and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tional systems for estimating emi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stitutional, legal and procedural arrangem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cessary to prepare national greenhouse gas inventory in accordance with 7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national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ning (define responsibilities, choice of methods and da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ation (Use of good practice, inventory estimati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document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and quality control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chive inventory inform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quirements are func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ty for national circum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ance depends on ability of system to produce reli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5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GHG inventory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 gases and sourc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LULUCF removals not required for base y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ll geographic cove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te time-se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ll years from base year (1990 or other) up to most recent avail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se of methods that are consistent with IPCC methodologies and Good Practice Guid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 Reporting Form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ndardized electronic reporting 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tional inventory re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cription of methods used, data sources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ntory adjustment proced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cation of problem during individual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portunity for Party to correct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view team calculates and recommends adjustm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based on technical guid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y has opportunity to accept or reject adjus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Party does not accept adjustment, Enforcement Branch of Compliance Committee determines whether to apply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justments can be removed later during commitment period if inventory problem is corr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for base year, since initial assigned amount fix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ntory adjus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502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to correct inventory problems for purpose of accounting for emissions and assigned amo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ments are conserv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imates adjusted downwards in base y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pward for year of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ed only after Party has had opportunity to correct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djustment applied, then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adjusted estimat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recorded in compilation and accounting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76920"/>
            <a:ext cx="80010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49593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djustments allow Party to remain in compliance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with inventory and eligibility requirements in event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f minor inventory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ing assigned amount (Articles 3.7/8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reviewed initial GHG invento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ssment of consistency with the IPCC methodologies and Good Practice Guidance (GP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view of entire time-s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justments recommended to base year inventory if GPG not correctly ap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igned amount recorded only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view and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y the Compliance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A based on adjusted base year, if ap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ce recorded, is fixed for entire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453960" y="914400"/>
            <a:ext cx="89949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view of pres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ligibility requirements safeguard the integrity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yoto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 projects and their cred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nderlying carbon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hree linked questions to be examined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Annex B Parties require for JI eligibil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arding e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arding assigned am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JI credits fit into the targets of the Kyoto Protoco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is the compliance of Parties with targets verifi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meet annual inventory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8461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on Article 7.1 of the Kyoto Protocol def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annual inventory (both Common Reporting Format and National Inventory Report) not submitted within 6 weeks of du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ission of large key source that accounts for 7% or more of annual e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djustments in any year greater than 7% of submitted 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m of the total adjustments for any years of commitment period exceeds 20% of submitted e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ey source that accounts for 2% or more of emissions is adjusted in three consecutive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5867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irements rela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the assigned amount 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points on the assigned amount s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0280" y="1600200"/>
            <a:ext cx="929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registries to be established by all Annex B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ies to interact with other registries and the transaction lo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te accounting in accordance with Article 7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 of additions and subtractions to assigned amo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national registries have to 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447560"/>
            <a:ext cx="8705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National registries established by Annex B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ectronic databases for tracking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suance and holdings of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nsfers of units under the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lacement and cancellation of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tirement of units for compliance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rry-over of units to the next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counts for governments and 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Independent transaction log established by the secretari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ecks transactions when they are proposed against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sures the integrity of transactions before comple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tional registry accou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82440" y="1384200"/>
            <a:ext cx="1650600" cy="1178640"/>
            <a:chOff x="-82440" y="1384200"/>
            <a:chExt cx="1650600" cy="1178640"/>
          </a:xfrm>
        </p:grpSpPr>
        <p:sp>
          <p:nvSpPr>
            <p:cNvPr id="204" name=""/>
            <p:cNvSpPr/>
            <p:nvPr/>
          </p:nvSpPr>
          <p:spPr>
            <a:xfrm>
              <a:off x="-82440" y="1384200"/>
              <a:ext cx="1650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Issu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of AAU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nd R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 rot="6277800">
              <a:off x="983520" y="2038680"/>
              <a:ext cx="106200" cy="75348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756560" y="3581280"/>
            <a:ext cx="1980720" cy="1571400"/>
            <a:chOff x="7756560" y="3581280"/>
            <a:chExt cx="1980720" cy="1571400"/>
          </a:xfrm>
        </p:grpSpPr>
        <p:sp>
          <p:nvSpPr>
            <p:cNvPr id="207" name=""/>
            <p:cNvSpPr/>
            <p:nvPr/>
          </p:nvSpPr>
          <p:spPr>
            <a:xfrm>
              <a:off x="7756560" y="45720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Cancellation (not for compli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47080" y="3581280"/>
              <a:ext cx="314640" cy="8384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756560" y="3200400"/>
            <a:ext cx="1980720" cy="762120"/>
            <a:chOff x="7756560" y="3200400"/>
            <a:chExt cx="1980720" cy="762120"/>
          </a:xfrm>
        </p:grpSpPr>
        <p:sp>
          <p:nvSpPr>
            <p:cNvPr id="210" name=""/>
            <p:cNvSpPr/>
            <p:nvPr/>
          </p:nvSpPr>
          <p:spPr>
            <a:xfrm>
              <a:off x="7949160" y="3581280"/>
              <a:ext cx="149040" cy="3812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56560" y="32004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Retirement (for compli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486080" y="1828800"/>
            <a:ext cx="2465280" cy="4038480"/>
            <a:chOff x="1486080" y="1828800"/>
            <a:chExt cx="2465280" cy="4038480"/>
          </a:xfrm>
        </p:grpSpPr>
        <p:sp>
          <p:nvSpPr>
            <p:cNvPr id="213" name=""/>
            <p:cNvSpPr/>
            <p:nvPr/>
          </p:nvSpPr>
          <p:spPr>
            <a:xfrm>
              <a:off x="1486080" y="18669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zech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33680" y="2298600"/>
              <a:ext cx="2152440" cy="3505320"/>
            </a:xfrm>
            <a:prstGeom prst="rect">
              <a:avLst/>
            </a:prstGeom>
            <a:solidFill>
              <a:srgbClr val="75ff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33680" y="275580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3680" y="530532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33680" y="55148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3680" y="56768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3680" y="326376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3680" y="377208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3680" y="42800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3680" y="478800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58800" y="1828800"/>
              <a:ext cx="2292480" cy="4038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00280" y="23623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y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00280" y="28195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00280" y="332748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00280" y="38354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ir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0280" y="434340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llation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48578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ac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529240" y="1828800"/>
            <a:ext cx="2465280" cy="4038480"/>
            <a:chOff x="5529240" y="1828800"/>
            <a:chExt cx="2465280" cy="4038480"/>
          </a:xfrm>
        </p:grpSpPr>
        <p:sp>
          <p:nvSpPr>
            <p:cNvPr id="231" name=""/>
            <p:cNvSpPr/>
            <p:nvPr/>
          </p:nvSpPr>
          <p:spPr>
            <a:xfrm>
              <a:off x="5529240" y="18669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ian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6840" y="2298600"/>
              <a:ext cx="2152800" cy="3505320"/>
            </a:xfrm>
            <a:prstGeom prst="rect">
              <a:avLst/>
            </a:prstGeom>
            <a:solidFill>
              <a:srgbClr val="75ff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6840" y="275580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6840" y="530532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76840" y="55148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76840" y="56768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6840" y="326376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76840" y="377208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76840" y="42800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76840" y="478800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2320" y="1828800"/>
              <a:ext cx="2292480" cy="4038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43440" y="23623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y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43440" y="28195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3440" y="332748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43440" y="383544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ir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3440" y="434340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llation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48578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ac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795840" y="2178000"/>
            <a:ext cx="1981080" cy="1860480"/>
            <a:chOff x="3795840" y="2178000"/>
            <a:chExt cx="1981080" cy="1860480"/>
          </a:xfrm>
        </p:grpSpPr>
        <p:sp>
          <p:nvSpPr>
            <p:cNvPr id="249" name=""/>
            <p:cNvSpPr/>
            <p:nvPr/>
          </p:nvSpPr>
          <p:spPr>
            <a:xfrm flipH="1" flipV="1" rot="6183600">
              <a:off x="4706280" y="1919880"/>
              <a:ext cx="76320" cy="15685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0720" y="2666880"/>
              <a:ext cx="149400" cy="3812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95840" y="2178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Transf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91120" y="3776760"/>
              <a:ext cx="533160" cy="261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t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1120" y="3395520"/>
              <a:ext cx="53316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ER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3776760"/>
              <a:ext cx="533520" cy="261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l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395520"/>
              <a:ext cx="53352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3014640"/>
              <a:ext cx="53352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R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1120" y="3014640"/>
              <a:ext cx="53316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A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ies, the ITL and ST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5334120"/>
            <a:ext cx="1218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5334120"/>
            <a:ext cx="1218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0120" y="5334120"/>
            <a:ext cx="12189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-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18200" y="2895480"/>
            <a:ext cx="7130160" cy="2362320"/>
            <a:chOff x="718200" y="2895480"/>
            <a:chExt cx="7130160" cy="2362320"/>
          </a:xfrm>
        </p:grpSpPr>
        <p:grpSp>
          <p:nvGrpSpPr>
            <p:cNvPr id="266" name=""/>
            <p:cNvGrpSpPr/>
            <p:nvPr/>
          </p:nvGrpSpPr>
          <p:grpSpPr>
            <a:xfrm>
              <a:off x="2133720" y="3048120"/>
              <a:ext cx="5714640" cy="2209680"/>
              <a:chOff x="2133720" y="3048120"/>
              <a:chExt cx="5714640" cy="2209680"/>
            </a:xfrm>
          </p:grpSpPr>
          <p:sp>
            <p:nvSpPr>
              <p:cNvPr id="267" name=""/>
              <p:cNvSpPr/>
              <p:nvPr/>
            </p:nvSpPr>
            <p:spPr>
              <a:xfrm>
                <a:off x="3124080" y="3048120"/>
                <a:ext cx="37339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ndependent transaction lo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24080" y="3429000"/>
                <a:ext cx="37339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ommunications hu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4080" y="3809880"/>
                <a:ext cx="3733920" cy="38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Virtual private 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133720" y="4267080"/>
                <a:ext cx="121896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276720" y="4267080"/>
                <a:ext cx="6094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6171840" y="4267080"/>
                <a:ext cx="6094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629040" y="4267080"/>
                <a:ext cx="12193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5029200" y="4267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797120" y="289548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200" y="3346560"/>
              <a:ext cx="82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Base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38280" y="1371600"/>
            <a:ext cx="4010040" cy="1600200"/>
            <a:chOff x="638280" y="1371600"/>
            <a:chExt cx="4010040" cy="1600200"/>
          </a:xfrm>
        </p:grpSpPr>
        <p:grpSp>
          <p:nvGrpSpPr>
            <p:cNvPr id="278" name=""/>
            <p:cNvGrpSpPr/>
            <p:nvPr/>
          </p:nvGrpSpPr>
          <p:grpSpPr>
            <a:xfrm>
              <a:off x="2362320" y="1447920"/>
              <a:ext cx="2286000" cy="1523880"/>
              <a:chOff x="2362320" y="1447920"/>
              <a:chExt cx="2286000" cy="1523880"/>
            </a:xfrm>
          </p:grpSpPr>
          <p:sp>
            <p:nvSpPr>
              <p:cNvPr id="279" name=""/>
              <p:cNvSpPr/>
              <p:nvPr/>
            </p:nvSpPr>
            <p:spPr>
              <a:xfrm>
                <a:off x="2362320" y="1447920"/>
                <a:ext cx="2286000" cy="8380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Verdana"/>
                  </a:rPr>
                  <a:t>Supplementary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333cc"/>
                    </a:solidFill>
                    <a:latin typeface="Verdana"/>
                  </a:rPr>
                  <a:t>transaction log</a:t>
                </a:r>
                <a:r>
                  <a:rPr b="0" lang="en-US" sz="2000" spc="-1" strike="noStrike" baseline="-25000">
                    <a:solidFill>
                      <a:srgbClr val="3333cc"/>
                    </a:solidFill>
                    <a:latin typeface="Verdan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3504960" y="2361960"/>
                <a:ext cx="15228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09880" y="2362320"/>
                <a:ext cx="30492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797120" y="1371600"/>
              <a:ext cx="152280" cy="1066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8280" y="1593720"/>
              <a:ext cx="98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Supple-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mentary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34120" y="1447920"/>
            <a:ext cx="2286000" cy="1523880"/>
            <a:chOff x="5334120" y="1447920"/>
            <a:chExt cx="2286000" cy="1523880"/>
          </a:xfrm>
        </p:grpSpPr>
        <p:sp>
          <p:nvSpPr>
            <p:cNvPr id="285" name=""/>
            <p:cNvSpPr/>
            <p:nvPr/>
          </p:nvSpPr>
          <p:spPr>
            <a:xfrm flipV="1">
              <a:off x="5867280" y="2361960"/>
              <a:ext cx="15264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171840" y="2362320"/>
              <a:ext cx="30492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1447920"/>
              <a:ext cx="2286000" cy="838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Supplementary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transaction log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ufficient harmon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909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tional rules def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Bas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registry requirements (decision 19/CP.7)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Parties have significant scope to implement as they w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Bas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data exchange standards (decision 24/CP.8)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Recognized that exact technical specifications are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Detailed specifications of the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how registries enact the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ing developed by the secretariat, with registry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sion 1.0 to be completed by July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be enhanced through registry administrator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6600" y="-360"/>
            <a:ext cx="868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 exchang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909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secure communications over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nsaction and reconciliation sequ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ial numbers, account numbers and transaction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nsaction log response c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ssage formats to ensure all communications can be r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es for initializing registry activities with the IT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 management procedures for the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ed amount info in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43040" y="2666880"/>
            <a:ext cx="841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nnual electronic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gate registry information on holdings and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ULUCF accounting under Article 3.3 (manda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ULUCF accounting under Article 3.4 (optio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Reporting at end of the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itions and subtractions to assigned amo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retirement for compliance purp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ts available for carry-over the next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469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ccurate accounting of additions and subtractions to assigned amount required for continued eli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371600"/>
            <a:ext cx="83059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5867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diting JI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629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 (“issuance”) of existing units of the host Par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mission reduction units (ERU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ased on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Us are transferred to investing Party/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Us may be used by Annex B Parties for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Us differ from CDM credits, which are newly generated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8954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5812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1360" y="3124080"/>
            <a:ext cx="723960" cy="190800"/>
          </a:xfrm>
          <a:prstGeom prst="rightArrow">
            <a:avLst>
              <a:gd name="adj1" fmla="val 50000"/>
              <a:gd name="adj2" fmla="val 948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81360" y="3772080"/>
            <a:ext cx="723960" cy="190440"/>
          </a:xfrm>
          <a:prstGeom prst="rightArrow">
            <a:avLst>
              <a:gd name="adj1" fmla="val 50000"/>
              <a:gd name="adj2" fmla="val 950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8954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581280"/>
            <a:ext cx="1219320" cy="609840"/>
          </a:xfrm>
          <a:prstGeom prst="flowChartPunchedTap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41520" y="30322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or emission reducing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9480" y="373392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or LULUCF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ing … when is it all to happe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igibility requirements for Annex B Parties are integral to the system to safeguard the integrity of the Kyoto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ties are to meet requirements for the following prior to 2007 (or one year after entry into force of the Protocol for the Party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tional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HG 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culation of assigned amount under Articles 3.7/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tional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ification of Article 3.3/4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ion of Article 3.4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with Annex B targ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13000"/>
            <a:ext cx="990720" cy="243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57625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s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2400" y="57754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 amount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612800"/>
            <a:ext cx="990720" cy="403884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4160" y="176544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8200" y="420372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nnex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994040"/>
            <a:ext cx="457200" cy="75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98040" y="1689120"/>
            <a:ext cx="3378240" cy="3962520"/>
            <a:chOff x="698040" y="1689120"/>
            <a:chExt cx="3378240" cy="3962520"/>
          </a:xfrm>
        </p:grpSpPr>
        <p:sp>
          <p:nvSpPr>
            <p:cNvPr id="74" name=""/>
            <p:cNvSpPr/>
            <p:nvPr/>
          </p:nvSpPr>
          <p:spPr>
            <a:xfrm>
              <a:off x="3048120" y="2527200"/>
              <a:ext cx="990360" cy="31244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8040" y="4203720"/>
              <a:ext cx="136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emis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3619080" y="1955880"/>
              <a:ext cx="723960" cy="190440"/>
            </a:xfrm>
            <a:prstGeom prst="rightArrow">
              <a:avLst>
                <a:gd name="adj1" fmla="val 50000"/>
                <a:gd name="adj2" fmla="val 9503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981080" y="4279680"/>
              <a:ext cx="12193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49240" y="1917720"/>
            <a:ext cx="4006080" cy="1465560"/>
            <a:chOff x="5349240" y="1917720"/>
            <a:chExt cx="4006080" cy="1465560"/>
          </a:xfrm>
        </p:grpSpPr>
        <p:sp>
          <p:nvSpPr>
            <p:cNvPr id="79" name=""/>
            <p:cNvSpPr/>
            <p:nvPr/>
          </p:nvSpPr>
          <p:spPr>
            <a:xfrm>
              <a:off x="5654520" y="2971800"/>
              <a:ext cx="990720" cy="2286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54520" y="2514600"/>
              <a:ext cx="990720" cy="431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35560" y="2984400"/>
              <a:ext cx="22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Verdana"/>
                </a:rPr>
                <a:t>LULUCF activ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01240" y="1917720"/>
              <a:ext cx="168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Mechanis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acquis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5400000">
              <a:off x="5158440" y="2780640"/>
              <a:ext cx="571320" cy="19044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797520" y="2257200"/>
              <a:ext cx="517680" cy="34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81680" y="3124080"/>
              <a:ext cx="336600" cy="763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81680" y="4191120"/>
            <a:ext cx="685800" cy="317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114800" y="2514600"/>
            <a:ext cx="1447920" cy="2672280"/>
            <a:chOff x="4114800" y="2514600"/>
            <a:chExt cx="1447920" cy="2672280"/>
          </a:xfrm>
        </p:grpSpPr>
        <p:sp>
          <p:nvSpPr>
            <p:cNvPr id="88" name=""/>
            <p:cNvSpPr/>
            <p:nvPr/>
          </p:nvSpPr>
          <p:spPr>
            <a:xfrm>
              <a:off x="4114800" y="25146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7520" y="3529080"/>
              <a:ext cx="41400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Verdana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ing compliance with the targ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747320" y="4830480"/>
            <a:ext cx="3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9125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26960" y="4648320"/>
            <a:ext cx="6752880" cy="1523880"/>
            <a:chOff x="426960" y="4648320"/>
            <a:chExt cx="6752880" cy="1523880"/>
          </a:xfrm>
        </p:grpSpPr>
        <p:sp>
          <p:nvSpPr>
            <p:cNvPr id="94" name=""/>
            <p:cNvSpPr/>
            <p:nvPr/>
          </p:nvSpPr>
          <p:spPr>
            <a:xfrm>
              <a:off x="2627280" y="5056560"/>
              <a:ext cx="209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missions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2008 - 2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19880" y="4775040"/>
              <a:ext cx="1733040" cy="125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1840" y="4736160"/>
              <a:ext cx="2092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retariat compilation and accou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6960" y="4648320"/>
              <a:ext cx="6752880" cy="1523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027920" y="4648320"/>
            <a:ext cx="2379240" cy="1523880"/>
            <a:chOff x="7027920" y="4648320"/>
            <a:chExt cx="2379240" cy="1523880"/>
          </a:xfrm>
        </p:grpSpPr>
        <p:sp>
          <p:nvSpPr>
            <p:cNvPr id="99" name=""/>
            <p:cNvSpPr/>
            <p:nvPr/>
          </p:nvSpPr>
          <p:spPr>
            <a:xfrm>
              <a:off x="7674120" y="4756680"/>
              <a:ext cx="1733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</a:rPr>
                <a:t>Kyo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</a:rPr>
                <a:t>Compli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</a:rPr>
                <a:t>Committ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74120" y="4648320"/>
              <a:ext cx="1733040" cy="1523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6928560" y="5166000"/>
              <a:ext cx="762120" cy="5637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12920" y="3441600"/>
            <a:ext cx="6767280" cy="1155960"/>
            <a:chOff x="412920" y="3441600"/>
            <a:chExt cx="6767280" cy="1155960"/>
          </a:xfrm>
        </p:grpSpPr>
        <p:sp>
          <p:nvSpPr>
            <p:cNvPr id="103" name=""/>
            <p:cNvSpPr/>
            <p:nvPr/>
          </p:nvSpPr>
          <p:spPr>
            <a:xfrm>
              <a:off x="426960" y="3733920"/>
              <a:ext cx="6753240" cy="76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2920" y="3758040"/>
              <a:ext cx="278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view, adjustment, compliance proc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301920" y="3441600"/>
              <a:ext cx="823680" cy="1155960"/>
              <a:chOff x="3301920" y="3441600"/>
              <a:chExt cx="823680" cy="1155960"/>
            </a:xfrm>
          </p:grpSpPr>
          <p:sp>
            <p:nvSpPr>
              <p:cNvPr id="106" name=""/>
              <p:cNvSpPr/>
              <p:nvPr/>
            </p:nvSpPr>
            <p:spPr>
              <a:xfrm>
                <a:off x="3301920" y="3443400"/>
                <a:ext cx="823680" cy="1154160"/>
              </a:xfrm>
              <a:prstGeom prst="downArrow">
                <a:avLst>
                  <a:gd name="adj1" fmla="val 50000"/>
                  <a:gd name="adj2" fmla="val 350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01920" y="3441600"/>
                <a:ext cx="823680" cy="1154160"/>
              </a:xfrm>
              <a:prstGeom prst="downArrow">
                <a:avLst>
                  <a:gd name="adj1" fmla="val 50000"/>
                  <a:gd name="adj2" fmla="val 35031"/>
                </a:avLst>
              </a:prstGeom>
              <a:solidFill>
                <a:srgbClr val="3333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54920" y="1320840"/>
            <a:ext cx="3839400" cy="2108160"/>
            <a:chOff x="754920" y="1320840"/>
            <a:chExt cx="3839400" cy="2108160"/>
          </a:xfrm>
        </p:grpSpPr>
        <p:sp>
          <p:nvSpPr>
            <p:cNvPr id="109" name=""/>
            <p:cNvSpPr/>
            <p:nvPr/>
          </p:nvSpPr>
          <p:spPr>
            <a:xfrm>
              <a:off x="2860560" y="1396080"/>
              <a:ext cx="173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National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920" y="1403280"/>
              <a:ext cx="170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Annex I Pa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19520" y="1320840"/>
              <a:ext cx="173340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01920" y="2158920"/>
              <a:ext cx="825480" cy="355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20960" y="2665800"/>
              <a:ext cx="173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Emis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invento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73080" y="2666880"/>
              <a:ext cx="128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Re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9520" y="2590920"/>
              <a:ext cx="173340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295960" y="1320840"/>
            <a:ext cx="1770120" cy="4703760"/>
            <a:chOff x="5295960" y="1320840"/>
            <a:chExt cx="1770120" cy="4703760"/>
          </a:xfrm>
        </p:grpSpPr>
        <p:sp>
          <p:nvSpPr>
            <p:cNvPr id="117" name=""/>
            <p:cNvSpPr/>
            <p:nvPr/>
          </p:nvSpPr>
          <p:spPr>
            <a:xfrm>
              <a:off x="5337000" y="1396080"/>
              <a:ext cx="1663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National regis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95960" y="2665800"/>
              <a:ext cx="173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Arial"/>
                </a:rPr>
                <a:t>Assigned amount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5960" y="4914000"/>
              <a:ext cx="173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igned am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8 - 2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95960" y="4773600"/>
              <a:ext cx="1731960" cy="125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6920" y="2158920"/>
              <a:ext cx="825480" cy="355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95960" y="1320840"/>
              <a:ext cx="173196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776920" y="3441600"/>
              <a:ext cx="825120" cy="1155960"/>
              <a:chOff x="5776920" y="3441600"/>
              <a:chExt cx="825120" cy="1155960"/>
            </a:xfrm>
          </p:grpSpPr>
          <p:sp>
            <p:nvSpPr>
              <p:cNvPr id="124" name=""/>
              <p:cNvSpPr/>
              <p:nvPr/>
            </p:nvSpPr>
            <p:spPr>
              <a:xfrm>
                <a:off x="5776920" y="3443400"/>
                <a:ext cx="825120" cy="1154160"/>
              </a:xfrm>
              <a:prstGeom prst="downArrow">
                <a:avLst>
                  <a:gd name="adj1" fmla="val 50000"/>
                  <a:gd name="adj2" fmla="val 3496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76920" y="3441600"/>
                <a:ext cx="825120" cy="1154160"/>
              </a:xfrm>
              <a:prstGeom prst="downArrow">
                <a:avLst>
                  <a:gd name="adj1" fmla="val 50000"/>
                  <a:gd name="adj2" fmla="val 34969"/>
                </a:avLst>
              </a:prstGeom>
              <a:solidFill>
                <a:srgbClr val="3333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334120" y="2590920"/>
              <a:ext cx="173196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igibility requirements for 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38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y to the Kyoto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 amount calcu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system in plac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ing emissions/remov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registry in plac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king assigned amo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mission of most recent required emissions 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te accounting of assigned amount and submission of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752480"/>
            <a:ext cx="563904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8680" y="135576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Track 1 (full eligi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105520" y="1660680"/>
            <a:ext cx="4419360" cy="2301840"/>
            <a:chOff x="5105520" y="1660680"/>
            <a:chExt cx="4419360" cy="2301840"/>
          </a:xfrm>
        </p:grpSpPr>
        <p:sp>
          <p:nvSpPr>
            <p:cNvPr id="133" name=""/>
            <p:cNvSpPr/>
            <p:nvPr/>
          </p:nvSpPr>
          <p:spPr>
            <a:xfrm>
              <a:off x="5105520" y="2057400"/>
              <a:ext cx="441936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1480" y="2209680"/>
              <a:ext cx="419112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rty to the Kyoto 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ssigned amount calcu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.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tional registry in place fo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racking assigned am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01880" y="166068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Track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ance, transfer and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105520"/>
            <a:ext cx="876276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245200"/>
            <a:ext cx="79344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ll Annex B Parties may develop and run JI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ligibility relates to ERU issuance, transfer and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7200" y="3733920"/>
            <a:ext cx="8991720" cy="1066680"/>
            <a:chOff x="457200" y="3733920"/>
            <a:chExt cx="8991720" cy="1066680"/>
          </a:xfrm>
        </p:grpSpPr>
        <p:sp>
          <p:nvSpPr>
            <p:cNvPr id="141" name=""/>
            <p:cNvSpPr/>
            <p:nvPr/>
          </p:nvSpPr>
          <p:spPr>
            <a:xfrm>
              <a:off x="4495680" y="3733920"/>
              <a:ext cx="4953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an issue, transfer and acquire E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y verify the project and reductions by its own 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394344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3733920"/>
              <a:ext cx="3886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Track 1 (full eligibilit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200" y="1523880"/>
            <a:ext cx="8991720" cy="457200"/>
            <a:chOff x="457200" y="1523880"/>
            <a:chExt cx="8991720" cy="457200"/>
          </a:xfrm>
        </p:grpSpPr>
        <p:sp>
          <p:nvSpPr>
            <p:cNvPr id="145" name=""/>
            <p:cNvSpPr/>
            <p:nvPr/>
          </p:nvSpPr>
          <p:spPr>
            <a:xfrm>
              <a:off x="2438280" y="1752480"/>
              <a:ext cx="1981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52388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No eligi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5680" y="1523880"/>
              <a:ext cx="495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annot issue or transfer E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7200" y="2133720"/>
            <a:ext cx="8991720" cy="1523880"/>
            <a:chOff x="457200" y="2133720"/>
            <a:chExt cx="8991720" cy="1523880"/>
          </a:xfrm>
        </p:grpSpPr>
        <p:sp>
          <p:nvSpPr>
            <p:cNvPr id="149" name=""/>
            <p:cNvSpPr/>
            <p:nvPr/>
          </p:nvSpPr>
          <p:spPr>
            <a:xfrm>
              <a:off x="1828800" y="2343240"/>
              <a:ext cx="2590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213372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Track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2133720"/>
              <a:ext cx="4953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an issue and transfer ER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663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nly after verification of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ject and reductions by the Article 6 Supervisory Committ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00400" y="1695240"/>
            <a:ext cx="6400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porting and review processes relating to eligibili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3960" y="-360"/>
            <a:ext cx="89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points on reporting/review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ation of eligibility requirements is normal outcome of reporting, review and compliance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Annex I Parties report and are subject to review annu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review reports considered by the Compliance Committ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ph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reporting and review calculates and records assigned amount under 3.7 and 3.8 and determines eli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(annual) reporting and review maintains or suspends eligibility during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ance Committee makes determination of elig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91440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Andrew Howard</dc:creator>
  <dc:description/>
  <cp:keywords>registry systems</cp:keywords>
  <dc:language>en-US</dc:language>
  <cp:lastModifiedBy>Jens Wilhelm</cp:lastModifiedBy>
  <cp:lastPrinted>2002-10-15T13:38:34Z</cp:lastPrinted>
  <dcterms:modified xsi:type="dcterms:W3CDTF">2004-09-17T11:10:40Z</dcterms:modified>
  <cp:revision>349</cp:revision>
  <dc:subject/>
  <dc:title>Meeting eligibility requirements</dc:title>
</cp:coreProperties>
</file>