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84000" cy="1014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7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57480" y="-360"/>
            <a:ext cx="3027600" cy="507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55440" y="760320"/>
            <a:ext cx="5073480" cy="38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1680" y="4819320"/>
            <a:ext cx="5121000" cy="4567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639000"/>
            <a:ext cx="3027240" cy="507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57480" y="9639000"/>
            <a:ext cx="3027600" cy="507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D7F7B1B-EBDC-4B73-A068-2713565FB60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1920" y="779400"/>
            <a:ext cx="5096160" cy="3822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6080" y="4835520"/>
            <a:ext cx="5127840" cy="4524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 start, at end, by account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ssu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transfers/acquisitions (by reg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ance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ret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5800" y="760320"/>
            <a:ext cx="5073480" cy="3805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819320"/>
            <a:ext cx="5121000" cy="4567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ner of working and making deci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poration within the intergovernmental proc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ing to a subsidiary body or the C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65BD-589E-49B8-966F-28FF27D67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9017-1EA9-4604-BB32-611F959BC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1412-B467-4558-8372-610A0FB49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F2A4-8AFD-4195-936C-2661BDF1A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C2BA-FF9B-4F9E-85CD-5CE1071C3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0433-75E0-4187-A978-5F667ABA0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6B2D-3727-4BC1-89D6-80BEC6152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62C1-4E4A-436D-8AC0-787B78BEC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D9F5-F1F3-402D-8DC7-078931997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6D28-CA55-4F29-98D6-4038BF629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A6EB-5709-4E94-A079-97A7973BC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531E-FBC8-4371-A0E8-58B0F1DB9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B321-A797-4351-8FD9-6D0AC828D58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5040" y="4365720"/>
            <a:ext cx="2617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rew Ho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howard@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02120" y="1830240"/>
            <a:ext cx="0" cy="418968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62240" y="1657440"/>
            <a:ext cx="567684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gistry systems and the data exchange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essional consul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registr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-10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2241-EF38-4BA8-B41A-32EB6207AA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ies’ reporting and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nnual electronic 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gregate registry information on holdings and trans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format to be adopted at COP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Reporting at end of the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itions and subtractions to assigned amo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tal retirement for compliance purpo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its available for carry-over the next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Review of national regi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-commitment period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ngoing testing, recording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2530-1233-4C4F-9434-179FD0E578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276720" y="3505320"/>
            <a:ext cx="2057400" cy="6141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85" y="0"/>
                </a:lnTo>
                <a:lnTo>
                  <a:pt x="21600" y="10800"/>
                </a:lnTo>
                <a:lnTo>
                  <a:pt x="191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U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438280"/>
            <a:ext cx="1523880" cy="3049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8-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2438280"/>
            <a:ext cx="1219320" cy="304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53" y="0"/>
                </a:lnTo>
                <a:lnTo>
                  <a:pt x="21600" y="10800"/>
                </a:lnTo>
                <a:lnTo>
                  <a:pt x="188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14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438280"/>
            <a:ext cx="1066680" cy="3049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2438280"/>
            <a:ext cx="990720" cy="3049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2438280"/>
            <a:ext cx="990720" cy="3049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2438280"/>
            <a:ext cx="990360" cy="3049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2438280"/>
            <a:ext cx="990720" cy="3049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2438280"/>
            <a:ext cx="990720" cy="3049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02560" y="3817440"/>
            <a:ext cx="7040880" cy="1668960"/>
            <a:chOff x="502560" y="3817440"/>
            <a:chExt cx="7040880" cy="1668960"/>
          </a:xfrm>
        </p:grpSpPr>
        <p:sp>
          <p:nvSpPr>
            <p:cNvPr id="200" name=""/>
            <p:cNvSpPr/>
            <p:nvPr/>
          </p:nvSpPr>
          <p:spPr>
            <a:xfrm>
              <a:off x="1371600" y="4064040"/>
              <a:ext cx="3962520" cy="66204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85" y="0"/>
                  </a:lnTo>
                  <a:lnTo>
                    <a:pt x="21600" y="10800"/>
                  </a:lnTo>
                  <a:lnTo>
                    <a:pt x="1918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arties develop regis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81440" y="4724280"/>
              <a:ext cx="990360" cy="76212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0" y="0"/>
                  </a:lnTo>
                  <a:lnTo>
                    <a:pt x="21600" y="10800"/>
                  </a:lnTo>
                  <a:lnTo>
                    <a:pt x="198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343400"/>
              <a:ext cx="1676160" cy="1143000"/>
            </a:xfrm>
            <a:prstGeom prst="upArrowCallout">
              <a:avLst>
                <a:gd name="adj1" fmla="val 36665"/>
                <a:gd name="adj2" fmla="val 36661"/>
                <a:gd name="adj3" fmla="val 13125"/>
                <a:gd name="adj4" fmla="val 399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andar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5400000">
              <a:off x="5676120" y="3314520"/>
              <a:ext cx="1218960" cy="2514600"/>
            </a:xfrm>
            <a:custGeom>
              <a:avLst/>
              <a:gdLst>
                <a:gd name="textAreaLeft" fmla="*/ 360 w 1218960"/>
                <a:gd name="textAreaRight" fmla="*/ 1219680 w 121896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rot="10800000">
              <a:off x="501840" y="3817440"/>
              <a:ext cx="663480" cy="1668600"/>
            </a:xfrm>
            <a:custGeom>
              <a:avLst/>
              <a:gdLst>
                <a:gd name="textAreaLeft" fmla="*/ -360 w 663480"/>
                <a:gd name="textAreaRight" fmla="*/ 663480 w 663480"/>
                <a:gd name="textAreaTop" fmla="*/ 0 h 1668600"/>
                <a:gd name="textAreaBottom" fmla="*/ 1668960 h 166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" y="2819520"/>
            <a:ext cx="8763120" cy="761760"/>
            <a:chOff x="228600" y="2819520"/>
            <a:chExt cx="8763120" cy="761760"/>
          </a:xfrm>
        </p:grpSpPr>
        <p:sp>
          <p:nvSpPr>
            <p:cNvPr id="206" name=""/>
            <p:cNvSpPr/>
            <p:nvPr/>
          </p:nvSpPr>
          <p:spPr>
            <a:xfrm>
              <a:off x="6248520" y="2819520"/>
              <a:ext cx="15238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ommi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eri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2400" y="2819520"/>
              <a:ext cx="121932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omplianc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ssess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2819520"/>
              <a:ext cx="1066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arrak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ccor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0947-2C6C-4297-88E6-9DA843F6D8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sessional consul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the data exchange standards specifications conform to previous COP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stock of progress by registry system administ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cooperation between administ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on operational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alities for the cooperation (SBSTA 2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role of the ITL administ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L checks and public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al issues (SBSTA 2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3E03-ED79-4EAD-8FB7-5418E5E14B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ing compli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Annex B Parties to comply with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Kyoto Protocol tar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ts may be used to demonstrate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 amount (target valu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als from LULUCF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credits under the CDM and 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te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ccoun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ccordance with Article 7.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ing of additions and subtractions to assigned amo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13CD-C674-492C-9159-8062891AF5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iance with Annex B targ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3213000"/>
            <a:ext cx="990720" cy="243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60280" y="57625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s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40600" y="57754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 amount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81400" y="1612800"/>
            <a:ext cx="990360" cy="4038840"/>
          </a:xfrm>
          <a:prstGeom prst="rect">
            <a:avLst/>
          </a:pr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360" y="176544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6400" y="420372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nnex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1994040"/>
            <a:ext cx="457200" cy="75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36240" y="1689120"/>
            <a:ext cx="3378240" cy="3962520"/>
            <a:chOff x="336240" y="1689120"/>
            <a:chExt cx="3378240" cy="3962520"/>
          </a:xfrm>
        </p:grpSpPr>
        <p:sp>
          <p:nvSpPr>
            <p:cNvPr id="67" name=""/>
            <p:cNvSpPr/>
            <p:nvPr/>
          </p:nvSpPr>
          <p:spPr>
            <a:xfrm>
              <a:off x="2686320" y="2527200"/>
              <a:ext cx="990360" cy="31244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6240" y="4203720"/>
              <a:ext cx="136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emis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3257280" y="1955880"/>
              <a:ext cx="723960" cy="190440"/>
            </a:xfrm>
            <a:prstGeom prst="rightArrow">
              <a:avLst>
                <a:gd name="adj1" fmla="val 50000"/>
                <a:gd name="adj2" fmla="val 9503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619280" y="4279680"/>
              <a:ext cx="12193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987080" y="1917720"/>
            <a:ext cx="4006080" cy="1465560"/>
            <a:chOff x="4987080" y="1917720"/>
            <a:chExt cx="4006080" cy="1465560"/>
          </a:xfrm>
        </p:grpSpPr>
        <p:sp>
          <p:nvSpPr>
            <p:cNvPr id="72" name=""/>
            <p:cNvSpPr/>
            <p:nvPr/>
          </p:nvSpPr>
          <p:spPr>
            <a:xfrm>
              <a:off x="5292360" y="2971800"/>
              <a:ext cx="990720" cy="2286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92360" y="2514600"/>
              <a:ext cx="990720" cy="431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73400" y="2984400"/>
              <a:ext cx="22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Verdana"/>
                </a:rPr>
                <a:t>LULUCF activ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39080" y="1917720"/>
              <a:ext cx="168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Mechanis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acquis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 rot="5400000">
              <a:off x="4796280" y="2780640"/>
              <a:ext cx="571320" cy="19044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435360" y="2257200"/>
              <a:ext cx="517680" cy="34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19520" y="3124080"/>
              <a:ext cx="336600" cy="763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419880" y="4191120"/>
            <a:ext cx="685800" cy="3175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53000" y="2514600"/>
            <a:ext cx="1447560" cy="2672280"/>
            <a:chOff x="3753000" y="2514600"/>
            <a:chExt cx="1447560" cy="2672280"/>
          </a:xfrm>
        </p:grpSpPr>
        <p:sp>
          <p:nvSpPr>
            <p:cNvPr id="81" name=""/>
            <p:cNvSpPr/>
            <p:nvPr/>
          </p:nvSpPr>
          <p:spPr>
            <a:xfrm>
              <a:off x="3753000" y="25146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85000" y="3529080"/>
              <a:ext cx="41400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Verdana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A2B7-7054-4519-87F9-A6597DDC5F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registry systems have to 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National registries established by Annex B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databases for tracking 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suance and holdings of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ers of units under the mechan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lacement and cancellation of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ement of units for compliance purpo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-over of units to the next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ounts for governments and ent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nternational transaction log (ITL) established by the secretari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transactions when they are proposed against r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s the integrity of transactions before comple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DA63-7EF3-465D-9903-4B0D624103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ounts and trans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-262080" y="1384200"/>
            <a:ext cx="1651320" cy="1179000"/>
            <a:chOff x="-262080" y="1384200"/>
            <a:chExt cx="1651320" cy="1179000"/>
          </a:xfrm>
        </p:grpSpPr>
        <p:sp>
          <p:nvSpPr>
            <p:cNvPr id="89" name=""/>
            <p:cNvSpPr/>
            <p:nvPr/>
          </p:nvSpPr>
          <p:spPr>
            <a:xfrm>
              <a:off x="-262080" y="1384200"/>
              <a:ext cx="1651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Issu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of AAU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nd R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 rot="6277800">
              <a:off x="628200" y="2038680"/>
              <a:ext cx="106200" cy="75420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120080" y="3581280"/>
            <a:ext cx="1981080" cy="1571400"/>
            <a:chOff x="7120080" y="3581280"/>
            <a:chExt cx="1981080" cy="1571400"/>
          </a:xfrm>
        </p:grpSpPr>
        <p:sp>
          <p:nvSpPr>
            <p:cNvPr id="92" name=""/>
            <p:cNvSpPr/>
            <p:nvPr/>
          </p:nvSpPr>
          <p:spPr>
            <a:xfrm>
              <a:off x="7120080" y="457200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Cancellation (not for compli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2880" y="3581280"/>
              <a:ext cx="314280" cy="8384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120080" y="3152880"/>
            <a:ext cx="1981080" cy="809640"/>
            <a:chOff x="7120080" y="3152880"/>
            <a:chExt cx="1981080" cy="809640"/>
          </a:xfrm>
        </p:grpSpPr>
        <p:sp>
          <p:nvSpPr>
            <p:cNvPr id="95" name=""/>
            <p:cNvSpPr/>
            <p:nvPr/>
          </p:nvSpPr>
          <p:spPr>
            <a:xfrm>
              <a:off x="7464600" y="3581280"/>
              <a:ext cx="150840" cy="3812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20080" y="315288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Retirement (for compli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066680" y="1828800"/>
            <a:ext cx="2465280" cy="4038480"/>
            <a:chOff x="1066680" y="1828800"/>
            <a:chExt cx="2465280" cy="4038480"/>
          </a:xfrm>
        </p:grpSpPr>
        <p:sp>
          <p:nvSpPr>
            <p:cNvPr id="98" name=""/>
            <p:cNvSpPr/>
            <p:nvPr/>
          </p:nvSpPr>
          <p:spPr>
            <a:xfrm>
              <a:off x="1066680" y="18669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rman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2298600"/>
              <a:ext cx="2152440" cy="3505320"/>
            </a:xfrm>
            <a:prstGeom prst="rect">
              <a:avLst/>
            </a:prstGeom>
            <a:solidFill>
              <a:srgbClr val="75ff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4280" y="275580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4280" y="530532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14280" y="551484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567684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4280" y="326376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377208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4280" y="428004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4280" y="4788000"/>
              <a:ext cx="21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39400" y="1828800"/>
              <a:ext cx="2292480" cy="4038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0880" y="236232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y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80880" y="281952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 entity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0880" y="332748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 entity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80880" y="383544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irement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0880" y="434340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cellation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7120" y="485784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acement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29200" y="1828800"/>
            <a:ext cx="2465280" cy="4038480"/>
            <a:chOff x="5029200" y="1828800"/>
            <a:chExt cx="2465280" cy="4038480"/>
          </a:xfrm>
        </p:grpSpPr>
        <p:sp>
          <p:nvSpPr>
            <p:cNvPr id="116" name=""/>
            <p:cNvSpPr/>
            <p:nvPr/>
          </p:nvSpPr>
          <p:spPr>
            <a:xfrm>
              <a:off x="5029200" y="18669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adian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76800" y="2298600"/>
              <a:ext cx="2152800" cy="3505320"/>
            </a:xfrm>
            <a:prstGeom prst="rect">
              <a:avLst/>
            </a:prstGeom>
            <a:solidFill>
              <a:srgbClr val="75ff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76800" y="275580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76800" y="530532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76800" y="551484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76800" y="567684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76800" y="326376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76800" y="377208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76800" y="428004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76800" y="4788000"/>
              <a:ext cx="21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2280" y="1828800"/>
              <a:ext cx="2292480" cy="4038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43400" y="236232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y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43400" y="281952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 entity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43400" y="332748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 entity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43400" y="383544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irement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3400" y="434340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cellation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4960" y="485784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acement a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352680" y="2178000"/>
            <a:ext cx="1981080" cy="1860480"/>
            <a:chOff x="3352680" y="2178000"/>
            <a:chExt cx="1981080" cy="1860480"/>
          </a:xfrm>
        </p:grpSpPr>
        <p:sp>
          <p:nvSpPr>
            <p:cNvPr id="134" name=""/>
            <p:cNvSpPr/>
            <p:nvPr/>
          </p:nvSpPr>
          <p:spPr>
            <a:xfrm flipH="1" flipV="1" rot="6183600">
              <a:off x="4263120" y="1919880"/>
              <a:ext cx="76320" cy="156852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17560" y="2666880"/>
              <a:ext cx="149400" cy="381240"/>
            </a:xfrm>
            <a:custGeom>
              <a:avLst/>
              <a:gdLst/>
              <a:ahLst/>
              <a:rect l="l" t="t" r="r" b="b"/>
              <a:pathLst>
                <a:path w="288" h="480">
                  <a:moveTo>
                    <a:pt x="0" y="0"/>
                  </a:moveTo>
                  <a:cubicBezTo>
                    <a:pt x="144" y="80"/>
                    <a:pt x="288" y="160"/>
                    <a:pt x="288" y="240"/>
                  </a:cubicBezTo>
                  <a:cubicBezTo>
                    <a:pt x="288" y="320"/>
                    <a:pt x="144" y="400"/>
                    <a:pt x="0" y="48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2680" y="217800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Transf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7960" y="3776760"/>
              <a:ext cx="533160" cy="261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t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47960" y="3395520"/>
              <a:ext cx="53316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ER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7440" y="3776760"/>
              <a:ext cx="533520" cy="261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l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7440" y="3395520"/>
              <a:ext cx="53352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7440" y="3014640"/>
              <a:ext cx="53352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R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7960" y="3014640"/>
              <a:ext cx="533160" cy="26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Verdana"/>
                </a:rPr>
                <a:t>A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500960" y="1905120"/>
            <a:ext cx="1218960" cy="936000"/>
            <a:chOff x="7500960" y="1905120"/>
            <a:chExt cx="1218960" cy="936000"/>
          </a:xfrm>
        </p:grpSpPr>
        <p:sp>
          <p:nvSpPr>
            <p:cNvPr id="144" name=""/>
            <p:cNvSpPr/>
            <p:nvPr/>
          </p:nvSpPr>
          <p:spPr>
            <a:xfrm>
              <a:off x="7500960" y="2180880"/>
              <a:ext cx="635040" cy="660240"/>
            </a:xfrm>
            <a:custGeom>
              <a:avLst/>
              <a:gdLst/>
              <a:ahLst/>
              <a:rect l="l" t="t" r="r" b="b"/>
              <a:pathLst>
                <a:path w="400" h="416">
                  <a:moveTo>
                    <a:pt x="0" y="160"/>
                  </a:moveTo>
                  <a:cubicBezTo>
                    <a:pt x="44" y="96"/>
                    <a:pt x="88" y="32"/>
                    <a:pt x="144" y="16"/>
                  </a:cubicBezTo>
                  <a:cubicBezTo>
                    <a:pt x="200" y="0"/>
                    <a:pt x="296" y="24"/>
                    <a:pt x="336" y="64"/>
                  </a:cubicBezTo>
                  <a:cubicBezTo>
                    <a:pt x="376" y="104"/>
                    <a:pt x="400" y="200"/>
                    <a:pt x="384" y="256"/>
                  </a:cubicBezTo>
                  <a:cubicBezTo>
                    <a:pt x="368" y="312"/>
                    <a:pt x="288" y="384"/>
                    <a:pt x="240" y="400"/>
                  </a:cubicBezTo>
                  <a:cubicBezTo>
                    <a:pt x="192" y="416"/>
                    <a:pt x="120" y="376"/>
                    <a:pt x="96" y="352"/>
                  </a:cubicBezTo>
                  <a:cubicBezTo>
                    <a:pt x="72" y="328"/>
                    <a:pt x="88" y="288"/>
                    <a:pt x="96" y="256"/>
                  </a:cubicBezTo>
                  <a:cubicBezTo>
                    <a:pt x="104" y="224"/>
                    <a:pt x="124" y="192"/>
                    <a:pt x="144" y="16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58160" y="1905120"/>
              <a:ext cx="76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Carry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D2A9-BEE4-4F6E-9EE9-2D6BEEE4E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ies, ITL and ST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5334120"/>
            <a:ext cx="1219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5334120"/>
            <a:ext cx="1219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5334120"/>
            <a:ext cx="1219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5334120"/>
            <a:ext cx="1219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-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5334120"/>
            <a:ext cx="1219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13280" y="2895480"/>
            <a:ext cx="7130160" cy="2362320"/>
            <a:chOff x="413280" y="2895480"/>
            <a:chExt cx="7130160" cy="2362320"/>
          </a:xfrm>
        </p:grpSpPr>
        <p:grpSp>
          <p:nvGrpSpPr>
            <p:cNvPr id="154" name=""/>
            <p:cNvGrpSpPr/>
            <p:nvPr/>
          </p:nvGrpSpPr>
          <p:grpSpPr>
            <a:xfrm>
              <a:off x="1828800" y="3048120"/>
              <a:ext cx="5714640" cy="2209680"/>
              <a:chOff x="1828800" y="3048120"/>
              <a:chExt cx="5714640" cy="2209680"/>
            </a:xfrm>
          </p:grpSpPr>
          <p:sp>
            <p:nvSpPr>
              <p:cNvPr id="155" name=""/>
              <p:cNvSpPr/>
              <p:nvPr/>
            </p:nvSpPr>
            <p:spPr>
              <a:xfrm>
                <a:off x="2819160" y="3048120"/>
                <a:ext cx="373392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Independent transaction lo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19160" y="3429000"/>
                <a:ext cx="373392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ommunications hu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19160" y="3809880"/>
                <a:ext cx="3733920" cy="38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Virtual private 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828800" y="4267080"/>
                <a:ext cx="121896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971800" y="4267080"/>
                <a:ext cx="6094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5866920" y="4267080"/>
                <a:ext cx="6094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324120" y="4267080"/>
                <a:ext cx="121932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4724280" y="42670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1492200" y="289548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3280" y="3346560"/>
              <a:ext cx="82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Base</a:t>
              </a:r>
              <a:br>
                <a:rPr sz="1600"/>
              </a:b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che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33360" y="1371600"/>
            <a:ext cx="4009680" cy="1600200"/>
            <a:chOff x="333360" y="1371600"/>
            <a:chExt cx="4009680" cy="1600200"/>
          </a:xfrm>
        </p:grpSpPr>
        <p:grpSp>
          <p:nvGrpSpPr>
            <p:cNvPr id="166" name=""/>
            <p:cNvGrpSpPr/>
            <p:nvPr/>
          </p:nvGrpSpPr>
          <p:grpSpPr>
            <a:xfrm>
              <a:off x="2057400" y="1447920"/>
              <a:ext cx="2285640" cy="1523880"/>
              <a:chOff x="2057400" y="1447920"/>
              <a:chExt cx="2285640" cy="1523880"/>
            </a:xfrm>
          </p:grpSpPr>
          <p:sp>
            <p:nvSpPr>
              <p:cNvPr id="167" name=""/>
              <p:cNvSpPr/>
              <p:nvPr/>
            </p:nvSpPr>
            <p:spPr>
              <a:xfrm>
                <a:off x="2057400" y="1447920"/>
                <a:ext cx="2285640" cy="8380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Verdana"/>
                  </a:rPr>
                  <a:t>Supplementary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333cc"/>
                    </a:solidFill>
                    <a:latin typeface="Verdana"/>
                  </a:rPr>
                  <a:t>transaction log</a:t>
                </a:r>
                <a:r>
                  <a:rPr b="0" lang="en-US" sz="2000" spc="-1" strike="noStrike" baseline="-25000">
                    <a:solidFill>
                      <a:srgbClr val="3333cc"/>
                    </a:solidFill>
                    <a:latin typeface="Verdan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3200040" y="2361960"/>
                <a:ext cx="151920" cy="609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04600" y="2362320"/>
                <a:ext cx="304560" cy="6094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492200" y="1371600"/>
              <a:ext cx="151920" cy="106668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3360" y="1593720"/>
              <a:ext cx="98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Supple-</a:t>
              </a:r>
              <a:br>
                <a:rPr sz="1600"/>
              </a:b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mentary</a:t>
              </a:r>
              <a:br>
                <a:rPr sz="1600"/>
              </a:br>
              <a:r>
                <a:rPr b="0" lang="en-US" sz="1600" spc="-1" strike="noStrike">
                  <a:solidFill>
                    <a:srgbClr val="3333cc"/>
                  </a:solidFill>
                  <a:latin typeface="Verdana"/>
                </a:rPr>
                <a:t>che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029200" y="1447920"/>
            <a:ext cx="2286000" cy="1523880"/>
            <a:chOff x="5029200" y="1447920"/>
            <a:chExt cx="2286000" cy="1523880"/>
          </a:xfrm>
        </p:grpSpPr>
        <p:sp>
          <p:nvSpPr>
            <p:cNvPr id="173" name=""/>
            <p:cNvSpPr/>
            <p:nvPr/>
          </p:nvSpPr>
          <p:spPr>
            <a:xfrm flipV="1">
              <a:off x="5562360" y="2361960"/>
              <a:ext cx="152640" cy="609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866920" y="2362320"/>
              <a:ext cx="304920" cy="609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29200" y="1447920"/>
              <a:ext cx="2286000" cy="838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Supplementary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transaction log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E1E0-28A8-40AB-AB2B-2EF0AB8E9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fficient harmon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1920" y="1447560"/>
            <a:ext cx="8402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tional rules def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gistry requirements (decision 19/CP.7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Parties have significant scope to implement as they w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ata exchange standards (decision 24/CP.8)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Recognized that exact technical specifications are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tailed specifications of the data exchang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how registries enact the mechan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ed by the secretariat, with registry develo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ion 1.0 completed in draft #7 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s for use and development are to be implemen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rough registry administrator co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D121-A4E6-4AD4-8FEB-FD9DBC1F36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exchange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1920" y="1752120"/>
            <a:ext cx="8402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of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ecure communic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ver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ransaction proces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qu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conciliation proces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qu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Message forma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ensure all communications can be rea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cluding serial, account and transaction nu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TL response cod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indicate negative check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TL notific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other administrative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ization and testing of communications with the IT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management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s for th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4979-51A8-4D47-A4E5-07D9367A22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peration among administ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ffective, long-term coope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mong administrators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regi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 regi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ependent transaction log (IT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ementary transaction logs (ST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624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facilitate and promote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ccuracy, efficiency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and transparenc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operation of registry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624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on operational procedures, recommended pract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sharing of information and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624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s on technical capability set by data exchang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624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 10 to adopt modalities for the structure and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3D8B-A8E8-4E6F-8E3D-A879E0E71F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Howard</dc:creator>
  <dc:description/>
  <dc:language>en-US</dc:language>
  <cp:lastModifiedBy>nagata</cp:lastModifiedBy>
  <dcterms:modified xsi:type="dcterms:W3CDTF">2004-12-08T16:00:29Z</dcterms:modified>
  <cp:revision>151</cp:revision>
  <dc:subject/>
  <dc:title>PowerPoint Presentation</dc:title>
</cp:coreProperties>
</file>