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A884-DCF1-457B-9845-05261464C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F454-CCFB-4121-89C3-F203511C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C52D-2518-46AB-9603-2F88B2C9C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1910-51CA-4FD1-B9CA-AB54168AB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55B6-4899-4FF5-8B86-CC22C9A27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A584-150C-463D-82F9-5BE50A05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9200-3736-4D89-AFA6-B38F4FA7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9560-6407-41CA-806B-D4E2602B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D7AB-9461-4A15-9101-9E972C52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5538-9738-4EBB-970D-47E29C8B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17F7-F758-44F9-B15C-366D0E6D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0AEE-730C-45D7-A91D-C7232632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3100-5974-4DF6-89F4-34F128A1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5443-11F1-46C9-9163-3B4120B5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831D-40B4-4C28-9556-EC9FD8EC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1A79-19B4-4261-AA3A-BD493AB36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1D45-F154-4E82-9073-93C26657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143B-B916-4D37-AD65-C210F168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9C7B-1F26-460D-8874-EE69E546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E705-C1E6-4BDD-9BE1-1BAC24A4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DE7C-62EF-484F-9409-A3077A1D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5C80-8C4A-4EE5-96A0-F284425C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7E36-C085-428F-A89F-B5005847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09B7-5441-41C4-B072-9072F477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E524-76CC-4530-A272-F8566F3534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7071-D3F9-44BF-A830-9D615D868F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imes New Roman"/>
              </a:rPr>
              <a:t>Report of  Asia and Pacific Regional Workshop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ebu, Philippin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17-19 January 2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pacity build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pe of activities include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s assessments, prioritization, planning, implementation, monitoring and eval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ft technologies” such 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eriences, knowledge, skills, &amp; know-h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hance existing capacities and technolog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tilize demonstration or pilot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hance capacity in developed coun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icularly in the private s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ssible elements of a framewor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sues and concerns regarding a frame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ggestions of possible actions of Annex II Par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ggested joint activities and partnershi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ggested intergovernmental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rriers identified in Africa workshop and reaffirmed at the Asia-Pacific worksh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ia-Pacific workshop addressed “how” these issues may be addres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puts should form basis for action to implement Article 4.5 of Conv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bjectives of the Workshop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generate and share information on the special situations and needs of countries in the Asia and Pacific reg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advance the consultative process by discussing possible elements of a framework for meaningful and effective actions to enhance the implementation of Article 4.5 of the Conventio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ey Issues Addresse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s, opportunities, and barriers relating to the transfer of ESTs to the reg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lateral initiatives to enhance the transfer of ESTs to the reg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ys and means to improve the transfer of ESTs and know-how under the Conven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pectives of governments, NGOs and the private s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sible elements of a framework for meaningful and effective 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ving Forwar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sions in Africa focussed on issues and concerns of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are the needs?, what are the barriers?, what are the roles of the different stakeholder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sions in the Philippines began to address questions of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ho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can technology needs be identified?, how can barriers be addressed?, how can stakeholders participate?, how can these ideas form a framework for actions under the UNFCCC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chnology Needs Identification and Assess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atible with national sustainable development priorities &amp; local cond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ntry-driven, transparent, multi-stakeholder, bottom-up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oritized list of ESTs: mitigation &amp; adap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ing of priority needs &amp; 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and assistance of developed countries may be needed for this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chnology Inform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ormation targeted to stakehol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hance existing organizations and cent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 information quality &amp; comparabili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 inventories/databases/registers 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technologies, indigenous technologies, technology need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se studies and demonstration projec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ology transfer projects recognized under the Conv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rriers to Technology Transf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ist in both developing &amp; developed coun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titutional, technological, information, political, economic, financi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oving barriers is an important element of a framework to enhance technology transfer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aptation technolog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c barri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ercial constra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le of governments and public s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for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astal technolog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ole of stakehold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vern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vate sector and non-governmental organis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-governmental organis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4T14:17:22Z</dcterms:created>
  <dc:creator>UNFCCC</dc:creator>
  <dc:description/>
  <dc:language>en-US</dc:language>
  <cp:lastModifiedBy>UNFCCC</cp:lastModifiedBy>
  <dcterms:modified xsi:type="dcterms:W3CDTF">2000-06-06T09:43:34Z</dcterms:modified>
  <cp:revision>31</cp:revision>
  <dc:subject/>
  <dc:title>Report of  Asia and Pacific Regional Workshop</dc:title>
</cp:coreProperties>
</file>