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1280" y="3232080"/>
            <a:ext cx="842004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12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8520" y="160020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5400" y="160020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280" y="323208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8520" y="323208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5400" y="323208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1280" y="934920"/>
            <a:ext cx="842004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012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01280" y="3232080"/>
            <a:ext cx="842004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01280" y="3232080"/>
            <a:ext cx="842004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012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8520" y="160020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5400" y="160020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01280" y="323208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8520" y="323208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5400" y="3232080"/>
            <a:ext cx="2711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1280" y="934920"/>
            <a:ext cx="8420040" cy="27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12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323208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600200"/>
            <a:ext cx="4108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1280" y="3232080"/>
            <a:ext cx="842004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00"/>
              </a:spcBef>
              <a:buClr>
                <a:srgbClr val="ffff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00"/>
              </a:spcBef>
              <a:buClr>
                <a:srgbClr val="ffff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40" y="5715000"/>
            <a:ext cx="9902880" cy="988920"/>
            <a:chOff x="3240" y="5715000"/>
            <a:chExt cx="9902880" cy="988920"/>
          </a:xfrm>
        </p:grpSpPr>
        <p:sp>
          <p:nvSpPr>
            <p:cNvPr id="3" name=""/>
            <p:cNvSpPr/>
            <p:nvPr/>
          </p:nvSpPr>
          <p:spPr>
            <a:xfrm>
              <a:off x="3240" y="5715000"/>
              <a:ext cx="990288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e"/>
                </a:solidFill>
                <a:latin typeface="Times New Roman"/>
              </a:endParaRPr>
            </a:p>
          </p:txBody>
        </p:sp>
        <p:pic>
          <p:nvPicPr>
            <p:cNvPr id="4" name="defra_logo" descr=""/>
            <p:cNvPicPr/>
            <p:nvPr/>
          </p:nvPicPr>
          <p:blipFill>
            <a:blip r:embed="rId2"/>
            <a:stretch/>
          </p:blipFill>
          <p:spPr>
            <a:xfrm>
              <a:off x="8448840" y="5881320"/>
              <a:ext cx="1079280" cy="654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640" y="934560"/>
            <a:ext cx="842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5467320"/>
            <a:ext cx="9902880" cy="1236600"/>
            <a:chOff x="3240" y="5467320"/>
            <a:chExt cx="9902880" cy="1236600"/>
          </a:xfrm>
        </p:grpSpPr>
        <p:sp>
          <p:nvSpPr>
            <p:cNvPr id="43" name=""/>
            <p:cNvSpPr/>
            <p:nvPr/>
          </p:nvSpPr>
          <p:spPr>
            <a:xfrm>
              <a:off x="3240" y="5467320"/>
              <a:ext cx="990288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e"/>
                </a:solidFill>
                <a:latin typeface="Times New Roman"/>
              </a:endParaRPr>
            </a:p>
          </p:txBody>
        </p:sp>
        <p:pic>
          <p:nvPicPr>
            <p:cNvPr id="44" name="defra_logo" descr=""/>
            <p:cNvPicPr/>
            <p:nvPr/>
          </p:nvPicPr>
          <p:blipFill>
            <a:blip r:embed="rId2"/>
            <a:stretch/>
          </p:blipFill>
          <p:spPr>
            <a:xfrm>
              <a:off x="8448840" y="5675400"/>
              <a:ext cx="1079280" cy="8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ne%20tree%207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1640" y="934560"/>
            <a:ext cx="842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/UN Emissions Trading Regis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01640" y="16765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FCCC Intersessional Consultations on Regist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8 – 10 Nov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 Hy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" y="5715000"/>
            <a:ext cx="9902880" cy="988920"/>
            <a:chOff x="3240" y="5715000"/>
            <a:chExt cx="9902880" cy="988920"/>
          </a:xfrm>
        </p:grpSpPr>
        <p:sp>
          <p:nvSpPr>
            <p:cNvPr id="86" name=""/>
            <p:cNvSpPr/>
            <p:nvPr/>
          </p:nvSpPr>
          <p:spPr>
            <a:xfrm>
              <a:off x="3240" y="5715000"/>
              <a:ext cx="9902880" cy="9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e"/>
                </a:solidFill>
                <a:latin typeface="Times New Roman"/>
              </a:endParaRPr>
            </a:p>
          </p:txBody>
        </p:sp>
        <p:pic>
          <p:nvPicPr>
            <p:cNvPr id="87" name="defra_logo" descr=""/>
            <p:cNvPicPr/>
            <p:nvPr/>
          </p:nvPicPr>
          <p:blipFill>
            <a:blip r:embed="rId2"/>
            <a:stretch/>
          </p:blipFill>
          <p:spPr>
            <a:xfrm>
              <a:off x="8448840" y="5881320"/>
              <a:ext cx="1079280" cy="65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/UN Emissions Trading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Applica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Registr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ing the EU/UN E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Prog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 Registry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/UN ET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develop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’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TA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end users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280" y="16002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delive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rther information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_unregistry.development@defra.gsi.gov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1280" y="934920"/>
            <a:ext cx="84200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43:21Z</dcterms:created>
  <dc:creator>Henry</dc:creator>
  <dc:description/>
  <dc:language>en-US</dc:language>
  <cp:lastModifiedBy>nagata</cp:lastModifiedBy>
  <dcterms:modified xsi:type="dcterms:W3CDTF">2004-12-08T16:50:52Z</dcterms:modified>
  <cp:revision>16</cp:revision>
  <dc:subject/>
  <dc:title>PowerPoint Presentation</dc:title>
</cp:coreProperties>
</file>