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gif" ContentType="image/gif"/>
  <Override PartName="/ppt/media/image8.wmf" ContentType="image/x-wmf"/>
  <Override PartName="/ppt/media/image10.gif" ContentType="image/gif"/>
  <Override PartName="/ppt/media/image13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11.gif" ContentType="image/gi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5522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-6480"/>
            <a:ext cx="91425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440" y="-4680"/>
            <a:ext cx="0" cy="685476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850080"/>
            <a:ext cx="9142560" cy="14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2560" y="-6480"/>
            <a:ext cx="0" cy="68551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4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2.wmf"/><Relationship Id="rId1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00400" y="2133720"/>
            <a:ext cx="594360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ata Exchange Standards for the interaction with the IT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8 November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onn, 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191120"/>
            <a:ext cx="289548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ggy Quar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rin Quarle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ociate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ggyquarles@pq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048120" y="1980720"/>
            <a:ext cx="0" cy="41785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95280" y="4267080"/>
            <a:ext cx="2895840" cy="1143000"/>
          </a:xfrm>
          <a:prstGeom prst="leftArrow">
            <a:avLst>
              <a:gd name="adj1" fmla="val 50000"/>
              <a:gd name="adj2" fmla="val 63339"/>
            </a:avLst>
          </a:prstGeom>
          <a:solidFill>
            <a:srgbClr val="ccffcc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3352680"/>
            <a:ext cx="13716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ypical Notification Proce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6576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43876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336920" y="2025720"/>
            <a:ext cx="919440" cy="2012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280" y="2209680"/>
            <a:ext cx="1524240" cy="1444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23880" y="1219320"/>
            <a:ext cx="2819520" cy="990360"/>
          </a:xfrm>
          <a:prstGeom prst="leftArrow">
            <a:avLst>
              <a:gd name="adj1" fmla="val 50000"/>
              <a:gd name="adj2" fmla="val 71174"/>
            </a:avLst>
          </a:prstGeom>
          <a:solidFill>
            <a:srgbClr val="ccffcc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2286000"/>
            <a:ext cx="2514600" cy="1066680"/>
          </a:xfrm>
          <a:prstGeom prst="rightArrow">
            <a:avLst>
              <a:gd name="adj1" fmla="val 50000"/>
              <a:gd name="adj2" fmla="val 58935"/>
            </a:avLst>
          </a:prstGeom>
          <a:solidFill>
            <a:srgbClr val="ffff00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144792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L sends notification of transaction requirements including Notification 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25909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istry responds with transactions including the Notification 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344484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L monitors compliance with transaction requir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26680" y="4572000"/>
            <a:ext cx="28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L send updates to Registry indic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gress or completion of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620120" y="3505320"/>
            <a:ext cx="1371600" cy="730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8001000" y="4267080"/>
            <a:ext cx="685800" cy="409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7896240" y="1809720"/>
            <a:ext cx="1019160" cy="933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10080" y="4038480"/>
            <a:ext cx="2514600" cy="990720"/>
          </a:xfrm>
          <a:prstGeom prst="rightArrow">
            <a:avLst>
              <a:gd name="adj1" fmla="val 50000"/>
              <a:gd name="adj2" fmla="val 63454"/>
            </a:avLst>
          </a:prstGeom>
          <a:solidFill>
            <a:srgbClr val="ccffcc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4343400"/>
            <a:ext cx="26668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L reports to CDM Execu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ard and other ent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1752480"/>
            <a:ext cx="2362320" cy="914400"/>
          </a:xfrm>
          <a:prstGeom prst="leftArrow">
            <a:avLst>
              <a:gd name="adj1" fmla="val 50000"/>
              <a:gd name="adj2" fmla="val 64587"/>
            </a:avLst>
          </a:prstGeom>
          <a:solidFill>
            <a:srgbClr val="ffff00">
              <a:alpha val="3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19810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L Administrator initiates no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2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equirements in the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co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y Testing and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 Registry Systems Reco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28800" y="1295280"/>
            <a:ext cx="5943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nsactions, including detail about unit blocks and response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conciliation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ot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nternal activity (who changed what and wh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ssage archive (storage of XML 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management is the process by which the Data Exchange Specifications can be modifi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2362320"/>
            <a:ext cx="632484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or enhancements are unavoi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will be minimized to provide stability and redu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ies and ITL will cooperate to implement changes meth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L Administrator will have key role in coordinating and communicating regarding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y Init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 is the process of bringing a registry system on-line, allowing it to fully participate with the ITL in a trading sche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technical process, not related to elig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 Registry Need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6477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test commun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and perform testing with ITL, per Annex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submit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government accou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Registry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120" y="1371240"/>
            <a:ext cx="6629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up and Recovery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ster Recovery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Validation and Data Logg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and Change Manage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lans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by which data from different registry systems are compared and inconsistencies resolv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you need Reconcili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6248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o identify and correct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nciliation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43000" y="2666880"/>
          <a:ext cx="6240600" cy="22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66880"/>
                    <a:ext cx="6240600" cy="22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2952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gistry and ITL agree on ti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52280" y="1498680"/>
            <a:ext cx="990720" cy="93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1828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352680" y="1447920"/>
            <a:ext cx="617760" cy="1218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>
            <a:off x="2971440" y="1828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2133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292880" y="2895480"/>
            <a:ext cx="1851120" cy="1905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05520" y="4648320"/>
            <a:ext cx="0" cy="106668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48769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WEVER, if discrepancies exist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48769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 alternate process takes pl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ciliation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685440"/>
            <a:ext cx="3962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Data discrepancies exi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66680" y="2692440"/>
          <a:ext cx="174636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92440"/>
                    <a:ext cx="17463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04920" y="2666880"/>
            <a:ext cx="617400" cy="1219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" y="609480"/>
            <a:ext cx="8458200" cy="0"/>
          </a:xfrm>
          <a:prstGeom prst="line">
            <a:avLst/>
          </a:prstGeom>
          <a:ln w="3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1746360" cy="60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1600200"/>
                    <a:ext cx="174636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066680" y="3568680"/>
          <a:ext cx="1746360" cy="77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66680" y="3568680"/>
                    <a:ext cx="17463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324480" y="3092400"/>
          <a:ext cx="2318040" cy="71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24480" y="3092400"/>
                    <a:ext cx="23180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752480" y="22096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800000">
              <a:alpha val="3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31240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800000">
              <a:alpha val="3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3434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>
              <a:alpha val="3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2638440"/>
            <a:ext cx="2057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TL works to isolate and identify units in question to facilitate the final step in the reconciliation proces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3276720"/>
            <a:ext cx="1295280" cy="380880"/>
          </a:xfrm>
          <a:prstGeom prst="rightArrow">
            <a:avLst>
              <a:gd name="adj1" fmla="val 50000"/>
              <a:gd name="adj2" fmla="val 85019"/>
            </a:avLst>
          </a:prstGeom>
          <a:solidFill>
            <a:srgbClr val="800000">
              <a:alpha val="3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6858000" y="1600200"/>
            <a:ext cx="1371600" cy="1255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7010280" y="4191120"/>
            <a:ext cx="914400" cy="900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3886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4724280"/>
          <a:ext cx="1746360" cy="774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66680" y="4724280"/>
                    <a:ext cx="17463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Elements of Reconci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28440" y="14475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 in timing, starting point and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fea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6933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tification is a communication to a registry from the ITL about a required or recommended action involving unit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source cancel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mpliance 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nding tCER or lCER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al of storage for CDM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ubmission of Certification Report for CDM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 issuance for CDM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R level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carry-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of a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 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r status report for earlier no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8:11:20Z</dcterms:created>
  <dc:creator>Leah Daniel</dc:creator>
  <dc:description/>
  <dc:language>en-US</dc:language>
  <cp:lastModifiedBy>nagata</cp:lastModifiedBy>
  <dcterms:modified xsi:type="dcterms:W3CDTF">2004-12-08T16:27:53Z</dcterms:modified>
  <cp:revision>364</cp:revision>
  <dc:subject/>
  <dc:title>UN Technical Specifications for Data Exchange</dc:title>
</cp:coreProperties>
</file>