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59563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69674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43120" y="4438800"/>
            <a:ext cx="69674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324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3120" y="443880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13240" y="443880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960" y="261432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54440" y="261432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43120" y="443880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960" y="443880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54440" y="4438800"/>
            <a:ext cx="224316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43120" y="2614320"/>
            <a:ext cx="69674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69674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33998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13240" y="2614320"/>
            <a:ext cx="33998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43120" y="1468080"/>
            <a:ext cx="71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3240" y="2614320"/>
            <a:ext cx="33998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43120" y="443880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33998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1324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3240" y="443880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312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3240" y="2614320"/>
            <a:ext cx="33998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43120" y="4438800"/>
            <a:ext cx="6967440" cy="1665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3120" y="146808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3120" y="2614320"/>
            <a:ext cx="6967440" cy="3492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8640" indent="-280800">
              <a:buClr>
                <a:srgbClr val="ffffff"/>
              </a:buClr>
              <a:buFont typeface="Arial Narrow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20680" indent="-223920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2017800" indent="-225360">
              <a:buClr>
                <a:srgbClr val="000000"/>
              </a:buClr>
              <a:buFont typeface="Times New Roman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2017800" indent="-225360">
              <a:buClr>
                <a:srgbClr val="000000"/>
              </a:buClr>
              <a:buFont typeface="Times New Roman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2017800" indent="-225360">
              <a:buClr>
                <a:srgbClr val="000000"/>
              </a:buClr>
              <a:buFont typeface="Times New Roman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772400" y="1447920"/>
            <a:ext cx="1085760" cy="54100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3960" y="5943600"/>
            <a:ext cx="406440" cy="431640"/>
          </a:xfrm>
          <a:prstGeom prst="rect">
            <a:avLst/>
          </a:prstGeom>
          <a:solidFill>
            <a:srgbClr val="ff80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600200"/>
            <a:ext cx="0" cy="1447920"/>
          </a:xfrm>
          <a:prstGeom prst="line">
            <a:avLst/>
          </a:prstGeom>
          <a:ln w="12600">
            <a:solidFill>
              <a:srgbClr val="ff8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400800"/>
            <a:ext cx="7010640" cy="0"/>
          </a:xfrm>
          <a:prstGeom prst="line">
            <a:avLst/>
          </a:prstGeom>
          <a:ln w="12600">
            <a:solidFill>
              <a:srgbClr val="ff8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7924"/>
          <a:stretch/>
        </p:blipFill>
        <p:spPr>
          <a:xfrm>
            <a:off x="7848720" y="0"/>
            <a:ext cx="1454040" cy="708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165564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nl-NL" sz="4800" spc="-1" strike="noStrike">
                <a:solidFill>
                  <a:srgbClr val="ffff00"/>
                </a:solidFill>
                <a:latin typeface="Arial Narrow"/>
              </a:rPr>
              <a:t>JI project potentia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3068640"/>
            <a:ext cx="6934320" cy="3255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Narrow"/>
              </a:rPr>
              <a:t>ERUP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 Narrow"/>
              </a:rPr>
              <a:t>Lennard de Kler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 Narrow"/>
              </a:rPr>
              <a:t>Moscow, 27 May 2004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esults of ERUPT 1 – 3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189560" cy="402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0">
              <a:buNone/>
              <a:tabLst>
                <a:tab algn="l" pos="0"/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ontracted </a:t>
            </a:r>
            <a:r>
              <a:rPr b="1" lang="en-GB" sz="2000" spc="-1" strike="noStrike">
                <a:solidFill>
                  <a:srgbClr val="ffff00"/>
                </a:solidFill>
                <a:latin typeface="Arial Narrow"/>
              </a:rPr>
              <a:t>10 JI-projects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, reducing 8.3 million tonne in: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stonia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Wind park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zech republic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iomas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Slovakia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Landfill Ga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Hungary (2x)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iomas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Romania (3x)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ement and Hydropower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ulgaria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Fuel switch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New Zealand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Wind park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268452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DM tender: 11 CDM-projects reducing 7 million tonne in India, China, Costa Rica, Panama, and Brazil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14564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Potential ERUPT 4 - 5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6967800" cy="4022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7000"/>
          </a:bodyPr>
          <a:p>
            <a:pPr marL="326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Potential of ERUPT 4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-32616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26 projects are participating with a potential of 23 Mtonn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-32616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First participation of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Ukraine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and Germany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-326160">
              <a:buClr>
                <a:srgbClr val="ffff00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Seven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Russian companies are preparing an offer with a potential of 7 million tonn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6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ERUPT 5 is now open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for new projects until 7 October 2004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1179360"/>
          <a:ext cx="9250200" cy="113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79360"/>
                    <a:ext cx="9250200" cy="113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36400" y="1197000"/>
            <a:ext cx="56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 Narrow"/>
              </a:rPr>
              <a:t>Reduction potential in Ukra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 Narrow"/>
              </a:rPr>
              <a:t>(Marginal Abatement Cost &lt; 8 U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14564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ussian JI potential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6967800" cy="349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3000"/>
          </a:bodyPr>
          <a:p>
            <a:pPr marL="425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Russian opportuniti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buClr>
                <a:srgbClr val="ffffff"/>
              </a:buClr>
              <a:buFont typeface="Arial Narrow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Fuel Switch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buClr>
                <a:srgbClr val="ffffff"/>
              </a:buClr>
              <a:buFont typeface="Arial Narrow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Coal Mine Methan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buClr>
                <a:srgbClr val="ffffff"/>
              </a:buClr>
              <a:buFont typeface="Arial Narrow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Energy efficiency (additionality issu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buClr>
                <a:srgbClr val="ffffff"/>
              </a:buClr>
              <a:buFont typeface="Arial Narrow"/>
              <a:buAutoNum type="arabicPeriod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Forestry projec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he absence of a Russian authority to approve projects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prohibits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he development of the Russian JI market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Window of opportunity for 2008-2012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s closing so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14564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 Narrow"/>
              </a:rPr>
              <a:t>Doing JI in Russia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6967800" cy="41749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’s: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uge potentia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arge size project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o interference with ET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n’s: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o ratification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o JI authority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isk of not meeting eligibility requirement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-336600">
              <a:buClr>
                <a:srgbClr val="ffffff"/>
              </a:buClr>
              <a:buFont typeface="Symbol" charset="2"/>
              <a:buChar char="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arallel Russian accreditation and verification system?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he higher the risk, the lower the price!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468080"/>
            <a:ext cx="744876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ERUPT 4 Russian projec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2614320"/>
            <a:ext cx="7270920" cy="3909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ype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Switch from coal to g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Seller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Khabarovskenerg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Location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mursk (Russian Far East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Emission Reduction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2,100,000 tonne CO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Contribution of JI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6600" indent="0">
              <a:buNone/>
              <a:tabLst>
                <a:tab algn="l" pos="0"/>
                <a:tab algn="l" pos="304812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o investment sum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90% (!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2:34:22Z</dcterms:created>
  <dc:creator>Lennard de Klerk</dc:creator>
  <dc:description/>
  <cp:keywords>clean development mechanism</cp:keywords>
  <dc:language>en-US</dc:language>
  <cp:lastModifiedBy>Jens Wilhelm</cp:lastModifiedBy>
  <cp:lastPrinted>2002-11-12T13:37:04Z</cp:lastPrinted>
  <dcterms:modified xsi:type="dcterms:W3CDTF">2004-09-17T12:12:21Z</dcterms:modified>
  <cp:revision>207</cp:revision>
  <dc:subject/>
  <dc:title>JI project potential</dc:title>
</cp:coreProperties>
</file>