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1025-64F7-4B9E-B304-02725503E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2971800"/>
            <a:ext cx="7620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440" y="4922280"/>
            <a:ext cx="7620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2367-8170-4CAC-BB14-27E6E8919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297180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90360" y="297180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440" y="492228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90360" y="492228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2736-FDA5-4144-9C3B-637645E10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2971800"/>
            <a:ext cx="2453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61960" y="2971800"/>
            <a:ext cx="2453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838480" y="2971800"/>
            <a:ext cx="2453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440" y="4922280"/>
            <a:ext cx="2453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61960" y="4922280"/>
            <a:ext cx="2453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838480" y="4922280"/>
            <a:ext cx="2453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A97D-E054-4B04-A072-2EC404F27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CB9C0-288D-48B9-9D21-E608C979D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440" y="297180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96E43-6DCE-49DB-B86B-8643D1926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297180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7256C-0672-4F47-9B17-CDF64E11E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2971800"/>
            <a:ext cx="37184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90360" y="2971800"/>
            <a:ext cx="37184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03591-C119-46B5-AE34-6B5254D6A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3A11A-A8BB-4F44-87A8-F932BB4A8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990360" y="1294920"/>
            <a:ext cx="6933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CDD73-6B2D-4471-A1FC-5BBB085D4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297180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90360" y="2971800"/>
            <a:ext cx="37184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440" y="492228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2CDC3-EB3E-4771-824E-0BDEC676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440" y="297180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36A0-6163-4E5E-9643-F22ABC3D0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2971800"/>
            <a:ext cx="37184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90360" y="297180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90360" y="492228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E211D-4AE8-457E-AF3A-69BF966A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297180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90360" y="297180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440" y="4922280"/>
            <a:ext cx="7620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EE975-1E4E-4AC7-AB5B-85DC144A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2971800"/>
            <a:ext cx="7620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85440" y="4922280"/>
            <a:ext cx="7620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72629-0845-4CAA-9299-19A23B237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297180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90360" y="297180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440" y="492228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90360" y="492228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5445B-597B-4337-8D76-C35570509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2971800"/>
            <a:ext cx="2453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61960" y="2971800"/>
            <a:ext cx="2453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838480" y="2971800"/>
            <a:ext cx="2453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85440" y="4922280"/>
            <a:ext cx="2453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61960" y="4922280"/>
            <a:ext cx="2453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838480" y="4922280"/>
            <a:ext cx="2453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2EC65-F6B1-4892-87BA-6BBF40728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297180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7348-CA40-4C31-8F51-F315A8506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2971800"/>
            <a:ext cx="37184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90360" y="2971800"/>
            <a:ext cx="37184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F810-DB05-4C38-8C07-DE0DE0858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C512-044F-4DCF-862D-B86C8E11E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990360" y="1294920"/>
            <a:ext cx="6933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0665-FA78-42D7-A007-917B91AA5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297180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0360" y="2971800"/>
            <a:ext cx="37184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92228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4290-4EBF-47B2-BFB8-8A2F01D0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2971800"/>
            <a:ext cx="37184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90360" y="297180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90360" y="492228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CB08-A0B2-4BD2-B270-F2461EBF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440" y="297180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90360" y="297180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440" y="4922280"/>
            <a:ext cx="7620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D3DC-5D0D-42FB-95FC-37A4C122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4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297180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B665A-70EE-4E34-A77F-04F36BF92A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topleft" descr=""/>
          <p:cNvPicPr/>
          <p:nvPr/>
        </p:nvPicPr>
        <p:blipFill>
          <a:blip r:embed="rId2"/>
          <a:stretch/>
        </p:blipFill>
        <p:spPr>
          <a:xfrm>
            <a:off x="0" y="990720"/>
            <a:ext cx="2057400" cy="623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"/>
          <p:cNvGraphicFramePr/>
          <p:nvPr/>
        </p:nvGraphicFramePr>
        <p:xfrm>
          <a:off x="5710320" y="914400"/>
          <a:ext cx="3454200" cy="594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0320" y="914400"/>
                    <a:ext cx="34542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09B92-7FCD-4299-B41D-66E85C620C28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7086600" y="10666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6699ff"/>
                </a:solidFill>
                <a:latin typeface="Tahoma"/>
              </a:rPr>
              <a:t>Canada’s CDM &amp; JI Off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81960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381960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" name="banner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100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" name=""/>
          <p:cNvGraphicFramePr/>
          <p:nvPr/>
        </p:nvGraphicFramePr>
        <p:xfrm>
          <a:off x="0" y="6518160"/>
          <a:ext cx="2971800" cy="308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518160"/>
                    <a:ext cx="2971800" cy="3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" name=""/>
          <p:cNvGraphicFramePr/>
          <p:nvPr/>
        </p:nvGraphicFramePr>
        <p:xfrm>
          <a:off x="8229600" y="6512040"/>
          <a:ext cx="914400" cy="345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229600" y="6512040"/>
                    <a:ext cx="91440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66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4C777-3509-451E-8BBB-6EC8C3F3C406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238880" y="1066680"/>
            <a:ext cx="2438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100" spc="-1" strike="noStrike">
                <a:solidFill>
                  <a:srgbClr val="6699ff"/>
                </a:solidFill>
                <a:latin typeface="Tahoma"/>
              </a:rPr>
              <a:t>Canada’s CDM &amp; JI Offi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1960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960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0" y="6518160"/>
          <a:ext cx="2971800" cy="308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518160"/>
                    <a:ext cx="2971800" cy="3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8229600" y="6512040"/>
          <a:ext cx="914400" cy="345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229600" y="6512040"/>
                    <a:ext cx="91440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66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2362320" y="2693880"/>
            <a:ext cx="4322520" cy="2563560"/>
            <a:chOff x="2362320" y="2693880"/>
            <a:chExt cx="4322520" cy="2563560"/>
          </a:xfrm>
        </p:grpSpPr>
        <p:sp>
          <p:nvSpPr>
            <p:cNvPr id="69" name=""/>
            <p:cNvSpPr/>
            <p:nvPr/>
          </p:nvSpPr>
          <p:spPr>
            <a:xfrm>
              <a:off x="2362320" y="2693880"/>
              <a:ext cx="43225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711160"/>
              <a:ext cx="4287600" cy="25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CA" sz="14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en-CA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                   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1" name="splash" descr="Canada's Clean Development Mechanism &amp; Joint Implementation Office / Bureau canadien du mécanisme pour un développement propre et de l'application conjointe"/>
          <p:cNvPicPr/>
          <p:nvPr/>
        </p:nvPicPr>
        <p:blipFill>
          <a:blip r:embed="rId6"/>
          <a:stretch/>
        </p:blipFill>
        <p:spPr>
          <a:xfrm>
            <a:off x="0" y="0"/>
            <a:ext cx="9144000" cy="3778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360" y="137124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ancing Investment in J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 Entry into force will be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 Canadian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ting mechanisms eligibility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 and streamlined JI approval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t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tory and political b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to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 acc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y of JI focal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6T12:23:07Z</dcterms:created>
  <dc:creator>lauzonma</dc:creator>
  <dc:description/>
  <cp:keywords>joint implementation</cp:keywords>
  <dc:language>en-US</dc:language>
  <cp:lastModifiedBy>Jens Wilhelm</cp:lastModifiedBy>
  <cp:lastPrinted>2003-02-16T13:11:38Z</cp:lastPrinted>
  <dcterms:modified xsi:type="dcterms:W3CDTF">2004-09-17T12:08:52Z</dcterms:modified>
  <cp:revision>140</cp:revision>
  <dc:subject/>
  <dc:title>Advancing Investment in JI</dc:title>
</cp:coreProperties>
</file>