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845-6F6B-47D1-B362-FD81C052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BB3-5379-4F95-9451-33FDC4F8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5D0-A415-4AE8-9301-7917D991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3464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856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3464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856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DE8-6F2C-40AC-B990-C0A557AF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7C22-1E19-4043-9AB1-A90E815B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3E5F-3D90-43B9-AB66-B5031417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9635-022E-485F-8052-4611EBE7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CA41-656D-4FF4-9DAE-330E9720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4D1C-03A3-4B83-A4AE-3B6E8A54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78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C037-A070-4EAC-AC93-A26E7F36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CDCC-A45D-4C17-A130-FA70FDF2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176-5A83-4C07-8BEB-E01ED042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E6B4-1AB1-4D74-886E-A2D0E62C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7054-9BA7-452B-A29A-E0869D8A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8A01-F1EF-462A-8BA2-AEB885FA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48BB-558B-4369-BF92-EF8B55C3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3464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7856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3464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7856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6902-070E-4C79-AC8E-6C56287E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2D7-0366-4074-8E99-C9B68548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CAC-9352-4143-A333-AC87C1B7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B97-2EBD-4EC5-9BD8-6F664FFA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78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2A6-A179-4FE2-815E-94FB1AEB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822-7A29-4347-89D2-67D066C9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CBB-1E44-4D6B-9C39-A52E350F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2FF-451D-478D-93D2-25580D9E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2AB5-6201-45DF-9E8A-843CD10CDC47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RANSP_P" descr=""/>
          <p:cNvPicPr/>
          <p:nvPr/>
        </p:nvPicPr>
        <p:blipFill>
          <a:blip r:embed="rId4"/>
          <a:stretch/>
        </p:blipFill>
        <p:spPr>
          <a:xfrm>
            <a:off x="0" y="6305400"/>
            <a:ext cx="9144000" cy="552600"/>
          </a:xfrm>
          <a:prstGeom prst="rect">
            <a:avLst/>
          </a:prstGeom>
          <a:ln w="0">
            <a:noFill/>
          </a:ln>
        </p:spPr>
      </p:pic>
      <p:pic>
        <p:nvPicPr>
          <p:cNvPr id="6" name="TRANSP_P" descr=""/>
          <p:cNvPicPr/>
          <p:nvPr/>
        </p:nvPicPr>
        <p:blipFill>
          <a:blip r:embed="rId5"/>
          <a:stretch/>
        </p:blipFill>
        <p:spPr>
          <a:xfrm>
            <a:off x="0" y="6305400"/>
            <a:ext cx="914400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66D8-536D-4537-9CBD-EC8629F9FDD9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RANSP_P" descr=""/>
          <p:cNvPicPr/>
          <p:nvPr/>
        </p:nvPicPr>
        <p:blipFill>
          <a:blip r:embed="rId3"/>
          <a:stretch/>
        </p:blipFill>
        <p:spPr>
          <a:xfrm>
            <a:off x="0" y="6305400"/>
            <a:ext cx="9144000" cy="552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24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Learning from the CDM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297144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UNFCCC workshop on Article 6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 the Kyot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6-27 May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cow, 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ohn Shaibu KIL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ir of the CDM Executiv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Arial"/>
              </a:rPr>
              <a:t>Lessons from the CDM process – conclusions</a:t>
            </a:r>
            <a:endParaRPr b="0" i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249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3373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ioneers need to be applauded for taking the risk of early expos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al ent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pro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ake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3373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ssons can be drawn from tangible results of the CDM process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n methodologies (baselines and monito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n accred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e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3373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ssons are particularly relevant for JI track 2, but also instructive for track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3373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ank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Arial"/>
              </a:rPr>
              <a:t>Structure of the presentation</a:t>
            </a:r>
            <a:endParaRPr b="0" i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15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atus of the CDM in May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allenges ahead for the CDM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ssons from the C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Arial"/>
              </a:rPr>
              <a:t>Status of the CDM in May 2004</a:t>
            </a:r>
            <a:endParaRPr b="0" i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15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Board is delivering its share of the “prompt start” of the CDM.  After 2 + ye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l elements for operating the CDM are up and running.  COP satisfied with pro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ey outputs are being generated by the 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ologies are being approved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al entities are accredited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projects to be registered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credits may be issued in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ance structures (Board, procedures) and technical support (panels, experts) are in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Arial"/>
              </a:rPr>
              <a:t>Challenges ahead for the CDM Board</a:t>
            </a:r>
            <a:br>
              <a:rPr sz="3600"/>
            </a:br>
            <a:endParaRPr b="0" i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15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a large caseload on methodologies and accred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vancing on the consolidation of methodolo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racing for a series of registration of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tting up the CDM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rther streamlining processes, wherever feasible, for the timely and cost-effective delivery so that transaction costs are conta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Arial"/>
              </a:rPr>
              <a:t>Challenges ahead </a:t>
            </a: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 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15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 addition, COP 9 reques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Board to do additional work to include CDM afforestation and reforestation projects in the first commitment period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intensify work on methodologies, guidance to promote broader applicability of method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es to advance on capacity-building, including a role for NGOs and IGOs (for promoting designated national authorities (DNAs) and designated operational entities (DOEs) - regional distribu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Arial"/>
              </a:rPr>
              <a:t>Lessons from the CDM - general</a:t>
            </a:r>
            <a:endParaRPr b="0" i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SzPct val="10683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DM attracts increasing interest as a promising concept for South-North collaboration, coupling environment and sustainable development, departing from ODA patterns, being built from bottom up, participatory and open for public scrut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SzPct val="10683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for CER-financing of projects, which would otherwise have been left aside (e.g. renewables), needs to be seen against perceived market and regulatory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SzPct val="10683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mechanism, such as the CDM, can successfully be set up and operated under international auth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SzPct val="10683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structures for the CDM are rapidly exp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SzPct val="10683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od up-front quality (of methodologies, applications, project design documents) is essential for the process to work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Arial"/>
              </a:rPr>
              <a:t>Lessons from the CDM - governance</a:t>
            </a:r>
            <a:endParaRPr b="0" i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SzPct val="10683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ody constituted by Parties can exercise operational functions if it has, such as the CDM-E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-making power (e.g. on accreditation and provisional designation), while being under the COP’s overall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tion to vote on a matter if consensus is im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683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de regional representation of membership is important for the acceptability/legitimacy of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683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mpetence and personal integrity of members are essential: they act in their personal capacity, take an oath of service and disclose if they have any conflict-of-inte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Arial"/>
              </a:rPr>
              <a:t>Lessons from the CDM - governance</a:t>
            </a:r>
            <a:endParaRPr b="0" i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SzPct val="10683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ertise of high quality needs to be acquired for technic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683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ear rules must be in place (rules of procedure, clear terms of reference for panels).  They must be intelligible and easy to tr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683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ules and procedures must be kept under review so that they can be adjusted when needed.  Learning-by-doing is c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683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ware of overreacting to teething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Arial"/>
              </a:rPr>
              <a:t>Lessons from the CDM - communication</a:t>
            </a:r>
            <a:endParaRPr b="0" i="1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20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187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ood and steady communication through various means (e.g. meetings, intranet) among Board and panel members is essent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187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oard meetings are webcast live and are also available on dem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187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FCCC CDM web site is widely used as authoritative source of information.  Invaluable to ensure a level playing field and transparenc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187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action with stakeholders and public input are among the resources for achieving “efficiency, cost-effectiveness and transparency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09:36:53Z</dcterms:created>
  <dc:creator>John Shaibu Kilani</dc:creator>
  <dc:description/>
  <cp:keywords>clean development mechanism</cp:keywords>
  <dc:language>en-US</dc:language>
  <cp:lastModifiedBy>Jens Wilhelm</cp:lastModifiedBy>
  <cp:lastPrinted>2001-09-10T16:02:44Z</cp:lastPrinted>
  <dcterms:modified xsi:type="dcterms:W3CDTF">2004-09-17T12:02:34Z</dcterms:modified>
  <cp:revision>29</cp:revision>
  <dc:subject/>
  <dc:title>Learning from the CDM</dc:title>
</cp:coreProperties>
</file>