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480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64800" y="1980720"/>
            <a:ext cx="814068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64800" y="3997440"/>
            <a:ext cx="814068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64800" y="1980720"/>
            <a:ext cx="3972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6480" y="1980720"/>
            <a:ext cx="3972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64800" y="3997440"/>
            <a:ext cx="3972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6480" y="3997440"/>
            <a:ext cx="3972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6480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64800" y="1980720"/>
            <a:ext cx="26211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7360" y="1980720"/>
            <a:ext cx="26211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69920" y="1980720"/>
            <a:ext cx="26211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64800" y="3997440"/>
            <a:ext cx="26211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7360" y="3997440"/>
            <a:ext cx="26211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69920" y="3997440"/>
            <a:ext cx="26211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6480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64800" y="1980720"/>
            <a:ext cx="8140680" cy="38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480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64800" y="1980720"/>
            <a:ext cx="814068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480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64800" y="1980720"/>
            <a:ext cx="39726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6480" y="1980720"/>
            <a:ext cx="39726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480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64800" y="6091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480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64800" y="1980720"/>
            <a:ext cx="3972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6480" y="1980720"/>
            <a:ext cx="39726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64800" y="3997440"/>
            <a:ext cx="3972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6480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64800" y="1980720"/>
            <a:ext cx="8140680" cy="38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64800" y="1980720"/>
            <a:ext cx="39726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6480" y="1980720"/>
            <a:ext cx="3972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6480" y="3997440"/>
            <a:ext cx="3972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64800" y="1980720"/>
            <a:ext cx="3972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6480" y="1980720"/>
            <a:ext cx="3972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64800" y="3997440"/>
            <a:ext cx="814068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6480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64800" y="1980720"/>
            <a:ext cx="814068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64800" y="3997440"/>
            <a:ext cx="814068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480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64800" y="1980720"/>
            <a:ext cx="3972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6480" y="1980720"/>
            <a:ext cx="3972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64800" y="3997440"/>
            <a:ext cx="3972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6480" y="3997440"/>
            <a:ext cx="3972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6480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64800" y="1980720"/>
            <a:ext cx="26211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7360" y="1980720"/>
            <a:ext cx="26211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69920" y="1980720"/>
            <a:ext cx="26211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64800" y="3997440"/>
            <a:ext cx="26211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7360" y="3997440"/>
            <a:ext cx="26211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69920" y="3997440"/>
            <a:ext cx="26211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6480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64800" y="1980720"/>
            <a:ext cx="814068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480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64800" y="1980720"/>
            <a:ext cx="39726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6480" y="1980720"/>
            <a:ext cx="39726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64800" y="6091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64800" y="1980720"/>
            <a:ext cx="3972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6480" y="1980720"/>
            <a:ext cx="39726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64800" y="3997440"/>
            <a:ext cx="3972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480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64800" y="1980720"/>
            <a:ext cx="39726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6480" y="1980720"/>
            <a:ext cx="3972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6480" y="3997440"/>
            <a:ext cx="3972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480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64800" y="1980720"/>
            <a:ext cx="3972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6480" y="1980720"/>
            <a:ext cx="3972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64800" y="3997440"/>
            <a:ext cx="814068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6480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42896"/>
                </a:solidFill>
                <a:latin typeface="TradeGothic"/>
              </a:rPr>
              <a:t>Click to edit the title text format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64800" y="1980720"/>
            <a:ext cx="814068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radeGothic Ligh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585120"/>
            <a:ext cx="7058160" cy="123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30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07880" y="6551640"/>
            <a:ext cx="72122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radeGothic"/>
              </a:rPr>
              <a:t>M i n i s t r y   o f   I n d u s t r y ,   E m p l o y m e n t   a n d     C o m m u n i c a t i o n s     S w e d e 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736040" y="6004080"/>
            <a:ext cx="1722240" cy="74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42896"/>
                </a:solidFill>
                <a:latin typeface="TradeGothic"/>
              </a:rPr>
              <a:t>Click to edit the title text format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585120"/>
            <a:ext cx="7058160" cy="123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30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7880" y="6551640"/>
            <a:ext cx="72122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radeGothic"/>
              </a:rPr>
              <a:t>M i n i s t r y   o f   I n d u s t r y ,   E m p l o y m e n t   a n d     C o m m u n i c a t i o n s     S w e d e 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736040" y="6004080"/>
            <a:ext cx="1722240" cy="74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adeGothic Ligh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adeGothic Light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adeGothic Light"/>
              <a:buChar char="•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igh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adeGothic Light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adeGothic Light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adeGothic Light"/>
              <a:buChar char="•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adeGothic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adeGothic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www@basrec.org" TargetMode="External"/><Relationship Id="rId2" Type="http://schemas.openxmlformats.org/officeDocument/2006/relationships/hyperlink" Target="mailto:www@basrec.org" TargetMode="External"/><Relationship Id="rId3" Type="http://schemas.openxmlformats.org/officeDocument/2006/relationships/hyperlink" Target="mailto:www@basrec.org" TargetMode="External"/><Relationship Id="rId4" Type="http://schemas.openxmlformats.org/officeDocument/2006/relationships/hyperlink" Target="mailto:www@basrec.org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8381880" cy="1143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TradeGothic"/>
              </a:rPr>
              <a:t>A regional response to global climate change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99840" y="2437920"/>
            <a:ext cx="7010280" cy="266724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The Baltic Sea region as a testing ground for for the Kyoto protocol 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A climate policy initiative by the Baltic Sea Region Energy Cooperation – BASREC -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under the CBSS umbrella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8001000" cy="68580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42896"/>
                </a:solidFill>
                <a:latin typeface="TradeGothic"/>
              </a:rPr>
              <a:t>Starting points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64800" y="1447560"/>
            <a:ext cx="8140680" cy="4724280"/>
          </a:xfrm>
          <a:prstGeom prst="rect">
            <a:avLst/>
          </a:prstGeom>
          <a:solidFill>
            <a:srgbClr val="ebedfa"/>
          </a:solidFill>
          <a:ln w="2844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Climate change is a global issue.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Reduction of emissions of greenhouse gases is the main abatement instrument 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From a climate point of view it does not matter where you reduce emissions - the effect is the same on the GHG concentration in the atmosphere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Cost-efficiency is of major importance 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The Climate convention and the Kyoto protocol therefore acknowledge the use of flexible mechanisms like joint implementation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533520"/>
            <a:ext cx="8420040" cy="121896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TradeGothic"/>
              </a:rPr>
              <a:t>Baltic Sea Region: a testing ground for mechanisms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2640" y="2514600"/>
            <a:ext cx="8140680" cy="320040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000000"/>
                </a:solidFill>
                <a:latin typeface="TradeGothic"/>
              </a:rPr>
              <a:t>Tasks decided by the BASREC energy ministers: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000000"/>
                </a:solidFill>
                <a:latin typeface="TradeGothic"/>
              </a:rPr>
              <a:t>Write a JI handbook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000000"/>
                </a:solidFill>
                <a:latin typeface="TradeGothic"/>
              </a:rPr>
              <a:t>Simulation of emissions trading and arranging a conference on the results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000000"/>
                </a:solidFill>
                <a:latin typeface="TradeGothic"/>
              </a:rPr>
              <a:t>Prepare and set up a JI investment facility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000000"/>
                </a:solidFill>
                <a:latin typeface="TradeGothic"/>
              </a:rPr>
              <a:t>Prepare a Testing Ground Agreement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000000"/>
                </a:solidFill>
                <a:latin typeface="TradeGothic"/>
              </a:rPr>
              <a:t>Information: </a:t>
            </a:r>
            <a:r>
              <a:rPr b="1" lang="sv-SE" sz="2600" spc="-1" strike="noStrike" u="sng">
                <a:solidFill>
                  <a:srgbClr val="cc0000"/>
                </a:solidFill>
                <a:uFillTx/>
                <a:latin typeface="TradeGothic"/>
                <a:hlinkClick r:id="rId1"/>
              </a:rPr>
              <a:t>www@</a:t>
            </a:r>
            <a:r>
              <a:rPr b="1" lang="sv-SE" sz="2600" spc="-1" strike="noStrike" u="sng">
                <a:solidFill>
                  <a:srgbClr val="cc0000"/>
                </a:solidFill>
                <a:uFillTx/>
                <a:latin typeface="TradeGothic"/>
                <a:hlinkClick r:id="rId2"/>
              </a:rPr>
              <a:t>basrec</a:t>
            </a:r>
            <a:r>
              <a:rPr b="1" lang="sv-SE" sz="2600" spc="-1" strike="noStrike" u="sng">
                <a:solidFill>
                  <a:srgbClr val="cc0000"/>
                </a:solidFill>
                <a:uFillTx/>
                <a:latin typeface="TradeGothic"/>
                <a:hlinkClick r:id="rId3"/>
              </a:rPr>
              <a:t>.</a:t>
            </a:r>
            <a:r>
              <a:rPr b="1" lang="sv-SE" sz="2600" spc="-1" strike="noStrike" u="sng">
                <a:solidFill>
                  <a:srgbClr val="cc0000"/>
                </a:solidFill>
                <a:uFillTx/>
                <a:latin typeface="TradeGothic"/>
                <a:hlinkClick r:id="rId4"/>
              </a:rPr>
              <a:t>org</a:t>
            </a:r>
            <a:r>
              <a:rPr b="1" lang="sv-SE" sz="2600" spc="-1" strike="noStrike">
                <a:solidFill>
                  <a:srgbClr val="000000"/>
                </a:solidFill>
                <a:latin typeface="TradeGothic"/>
              </a:rPr>
              <a:t> and www@cbss.org 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609120"/>
            <a:ext cx="8001000" cy="6858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radeGothic"/>
              </a:rPr>
              <a:t>The BASREC JI handbook</a:t>
            </a:r>
            <a:r>
              <a:rPr b="1" lang="en-GB" sz="3600" spc="-1" strike="noStrike">
                <a:solidFill>
                  <a:srgbClr val="042896"/>
                </a:solidFill>
                <a:latin typeface="TradeGothic"/>
              </a:rPr>
              <a:t> 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140680" cy="40384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a-DK" sz="2200" spc="-1" strike="noStrike">
                <a:solidFill>
                  <a:srgbClr val="000000"/>
                </a:solidFill>
                <a:latin typeface="TradeGothic"/>
              </a:rPr>
              <a:t>First version of the handbook – now ready – but on-going process, subject to revisions</a:t>
            </a:r>
            <a:endParaRPr b="1" lang="en-US" sz="2200" spc="-1" strike="noStrike">
              <a:solidFill>
                <a:srgbClr val="000000"/>
              </a:solidFill>
              <a:latin typeface="TradeGothic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a-DK" sz="2200" spc="-1" strike="noStrike">
                <a:solidFill>
                  <a:srgbClr val="000000"/>
                </a:solidFill>
                <a:latin typeface="TradeGothic"/>
              </a:rPr>
              <a:t>Interpretation of the international agreements– Kyoto Protocol and the Marrakech Accords (COP7), Nov 2001</a:t>
            </a:r>
            <a:endParaRPr b="1" lang="en-US" sz="2200" spc="-1" strike="noStrike">
              <a:solidFill>
                <a:srgbClr val="000000"/>
              </a:solidFill>
              <a:latin typeface="TradeGothic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a-DK" sz="2200" spc="-1" strike="noStrike">
                <a:solidFill>
                  <a:srgbClr val="000000"/>
                </a:solidFill>
                <a:latin typeface="TradeGothic"/>
              </a:rPr>
              <a:t>Covers two key areas:</a:t>
            </a:r>
            <a:endParaRPr b="1" lang="en-US" sz="2200" spc="-1" strike="noStrike">
              <a:solidFill>
                <a:srgbClr val="000000"/>
              </a:solidFill>
              <a:latin typeface="TradeGothic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radeGothic Light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radeGothic Light"/>
              </a:rPr>
              <a:t>Requirements that Parties have to meet to participate in JI - BSR status in meeting them 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radeGothic Light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radeGothic Light"/>
              </a:rPr>
              <a:t> </a:t>
            </a:r>
            <a:r>
              <a:rPr b="1" lang="da-DK" sz="2000" spc="-1" strike="noStrike">
                <a:solidFill>
                  <a:srgbClr val="000000"/>
                </a:solidFill>
                <a:latin typeface="TradeGothic Light"/>
              </a:rPr>
              <a:t>Advice to project developers on the Track 2 procedures, &amp; steps to a succesful ERU purchase agreement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radeGothic"/>
              </a:rPr>
              <a:t>translated into Russian and available on website</a:t>
            </a:r>
            <a:endParaRPr b="1" lang="en-US" sz="22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42896"/>
                </a:solidFill>
                <a:latin typeface="TradeGothic"/>
              </a:rPr>
              <a:t>Testing ground framework agreement   </a:t>
            </a:r>
            <a:r>
              <a:rPr b="1" lang="en-GB" sz="3200" spc="-1" strike="noStrike">
                <a:solidFill>
                  <a:srgbClr val="042896"/>
                </a:solidFill>
                <a:latin typeface="TradeGothic"/>
              </a:rPr>
              <a:t>       Objectives</a:t>
            </a:r>
            <a:endParaRPr b="1" lang="en-US" sz="32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40680" cy="4876560"/>
          </a:xfrm>
          <a:prstGeom prst="rect">
            <a:avLst/>
          </a:prstGeom>
          <a:solidFill>
            <a:srgbClr val="dddddd"/>
          </a:solidFill>
          <a:ln w="2844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radeGothic"/>
                <a:ea typeface="Times New Roman"/>
              </a:rPr>
              <a:t>to build capacity and competence to use the Kyoto mechanisms and promote common understanding of concepts </a:t>
            </a:r>
            <a:endParaRPr b="1" lang="en-US" sz="2200" spc="-1" strike="noStrike">
              <a:solidFill>
                <a:srgbClr val="000000"/>
              </a:solidFill>
              <a:latin typeface="TradeGothic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radeGothic"/>
                <a:ea typeface="Times New Roman"/>
              </a:rPr>
              <a:t>to promote realisation of high quality projects in the energy sector generating emissions reductions</a:t>
            </a:r>
            <a:endParaRPr b="1" lang="en-US" sz="2200" spc="-1" strike="noStrike">
              <a:solidFill>
                <a:srgbClr val="000000"/>
              </a:solidFill>
              <a:latin typeface="TradeGothic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radeGothic"/>
                <a:ea typeface="Times New Roman"/>
              </a:rPr>
              <a:t>to gain experience with the Joint Implementation (JI) mechanism in the energy sector </a:t>
            </a:r>
            <a:endParaRPr b="1" lang="en-US" sz="2200" spc="-1" strike="noStrike">
              <a:solidFill>
                <a:srgbClr val="000000"/>
              </a:solidFill>
              <a:latin typeface="TradeGothic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radeGothic"/>
                <a:ea typeface="Times New Roman"/>
              </a:rPr>
              <a:t>to develop methods and procedures </a:t>
            </a:r>
            <a:endParaRPr b="1" lang="en-US" sz="2200" spc="-1" strike="noStrike">
              <a:solidFill>
                <a:srgbClr val="000000"/>
              </a:solidFill>
              <a:latin typeface="TradeGothic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radeGothic"/>
                <a:ea typeface="Times New Roman"/>
              </a:rPr>
              <a:t>to collaborate in addressing administrative and financial barriers, especially regarding small scale JI projects</a:t>
            </a:r>
            <a:endParaRPr b="1" lang="en-US" sz="2200" spc="-1" strike="noStrike">
              <a:solidFill>
                <a:srgbClr val="000000"/>
              </a:solidFill>
              <a:latin typeface="TradeGothic"/>
            </a:endParaRPr>
          </a:p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radeGothic"/>
                <a:ea typeface="Times New Roman"/>
              </a:rPr>
              <a:t>to facilitate generation, ensure issuance and transfer  of ERUs from JI projects</a:t>
            </a:r>
            <a:endParaRPr b="1" lang="en-US" sz="2200" spc="-1" strike="noStrike">
              <a:solidFill>
                <a:srgbClr val="000000"/>
              </a:solidFill>
              <a:latin typeface="TradeGothic"/>
            </a:endParaRPr>
          </a:p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adeGothic"/>
                <a:ea typeface="Times New Roman"/>
              </a:rPr>
              <a:t>to implement projects early and offer credits for emission reductions prior to 2008 by appropriate means</a:t>
            </a:r>
            <a:endParaRPr b="1" lang="en-US" sz="22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8001000" cy="114300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42896"/>
                </a:solidFill>
                <a:latin typeface="TradeGothic"/>
              </a:rPr>
              <a:t>The BASREC Testing Ground  Agreement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140680" cy="4647960"/>
          </a:xfrm>
          <a:prstGeom prst="rect">
            <a:avLst/>
          </a:prstGeom>
          <a:solidFill>
            <a:srgbClr val="dddddd"/>
          </a:solidFill>
          <a:ln w="2844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Open to participation for BASREC governments and companies ( and others! )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“</a:t>
            </a: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As if” application of Kyoto rules before start in 2008 on projects within the energy sector. From 2008 and onwards Kyoto rules apply in ful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Projects to be approved by investor and host country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Core element: already decided </a:t>
            </a:r>
            <a:r>
              <a:rPr b="1" lang="en-GB" sz="2600" spc="-1" strike="noStrike">
                <a:solidFill>
                  <a:srgbClr val="a50021"/>
                </a:solidFill>
                <a:latin typeface="TradeGothic"/>
              </a:rPr>
              <a:t>Testing Ground Facility</a:t>
            </a: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 to invest in JI projects for 10-20 million Euros in BASREC TGA countries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adeGothic"/>
              </a:rPr>
              <a:t>Model project agreements and handbook to support activities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64800" y="761760"/>
            <a:ext cx="8001000" cy="990360"/>
          </a:xfrm>
          <a:prstGeom prst="rect">
            <a:avLst/>
          </a:prstGeom>
          <a:solidFill>
            <a:srgbClr val="6e0015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3600" spc="-1" strike="noStrike">
                <a:solidFill>
                  <a:srgbClr val="ccffff"/>
                </a:solidFill>
                <a:latin typeface="TradeGothic"/>
              </a:rPr>
              <a:t>Testing Ground Facility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8140680" cy="3504960"/>
          </a:xfrm>
          <a:prstGeom prst="rect">
            <a:avLst/>
          </a:prstGeom>
          <a:solidFill>
            <a:srgbClr val="afc3eb"/>
          </a:solidFill>
          <a:ln w="28440">
            <a:solidFill>
              <a:srgbClr val="6e0015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600" spc="-1" strike="noStrike">
                <a:solidFill>
                  <a:srgbClr val="000000"/>
                </a:solidFill>
                <a:latin typeface="TradeGothic"/>
              </a:rPr>
              <a:t>Managed by NEFCO – Nordic Environment Financing Corporation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600" spc="-1" strike="noStrike">
                <a:solidFill>
                  <a:srgbClr val="000000"/>
                </a:solidFill>
                <a:latin typeface="TradeGothic"/>
              </a:rPr>
              <a:t>Decision by the Nordic Council of Ministers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600" spc="-1" strike="noStrike">
                <a:solidFill>
                  <a:srgbClr val="000000"/>
                </a:solidFill>
                <a:latin typeface="TradeGothic"/>
              </a:rPr>
              <a:t>Initially BASREC investor countries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600" spc="-1" strike="noStrike">
                <a:solidFill>
                  <a:srgbClr val="000000"/>
                </a:solidFill>
                <a:latin typeface="TradeGothic"/>
              </a:rPr>
              <a:t>Open for others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600" spc="-1" strike="noStrike">
                <a:solidFill>
                  <a:srgbClr val="000000"/>
                </a:solidFill>
                <a:latin typeface="TradeGothic"/>
              </a:rPr>
              <a:t>Fund Management Agreement with NEFCO being finalized right now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4800" y="609120"/>
            <a:ext cx="80010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42896"/>
                </a:solidFill>
                <a:latin typeface="TradeGothic"/>
              </a:rPr>
              <a:t>BASREC work ahead in the climate field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64800" y="1980720"/>
            <a:ext cx="8140680" cy="3861000"/>
          </a:xfrm>
          <a:prstGeom prst="rect">
            <a:avLst/>
          </a:prstGeom>
          <a:solidFill>
            <a:srgbClr val="6e0015"/>
          </a:solidFill>
          <a:ln w="2844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Implement the testing ground agreement and facility (the agreement has been signed by 9 countries and the TGF is being capitalised) 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Analyse effects of EU accession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Revise and improve the JI-handbook as needed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Baseline development in Arkangelsk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Continue building capacity and knowledge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20:59:46Z</dcterms:created>
  <dc:creator>Olle Björk</dc:creator>
  <dc:description/>
  <cp:keywords>clean development mechanism</cp:keywords>
  <dc:language>en-US</dc:language>
  <cp:lastModifiedBy>Jens Wilhelm</cp:lastModifiedBy>
  <cp:lastPrinted>1999-06-29T12:53:15Z</cp:lastPrinted>
  <dcterms:modified xsi:type="dcterms:W3CDTF">2004-09-17T11:52:19Z</dcterms:modified>
  <cp:revision>170</cp:revision>
  <dc:subject/>
  <dc:title>A regional response to the global climate cha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pID">
    <vt:lpwstr>10;0;0;298</vt:lpwstr>
  </property>
  <property fmtid="{D5CDD505-2E9C-101B-9397-08002B2CF9AE}" pid="3" name="DokID">
    <vt:r8>44</vt:r8>
  </property>
  <property fmtid="{D5CDD505-2E9C-101B-9397-08002B2CF9AE}" pid="4" name="SprakID">
    <vt:lpwstr>Engelska</vt:lpwstr>
  </property>
</Properties>
</file>