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28F5-0DE2-4F38-A34D-1C76CB7E0BA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5480" cy="34542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77994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5040" y="4186800"/>
            <a:ext cx="77994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5040" y="418680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1760" y="418680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2040" y="213372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9040" y="213372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5040" y="418680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2040" y="418680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9040" y="418680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5040" y="507600"/>
            <a:ext cx="779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5040" y="418680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1760" y="418680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5040" y="4186800"/>
            <a:ext cx="77994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a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17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17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17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17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17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a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2997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Netherlands-EBRD Carbon Fund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92640"/>
            <a:ext cx="640080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acilitating the JI Carbon mark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gbert Lie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a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Risks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yoto Protocol r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r into force of Kyoto Protoc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line r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ing to other trading sc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n price r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ward sale of carbon cred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hange rate r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yment of cash flows in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a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Risks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risks (under performa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alty or liquidated damages claus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dge for under perform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137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ll option on EUA at EUR 20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137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ut option on EUA at EUR 0.75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dit r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h flow from reliable buye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prepayments from buye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 in rights with bankruptcy of project compan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a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ffff99"/>
                </a:solidFill>
                <a:latin typeface="Arial"/>
              </a:rPr>
              <a:t>EBRD’s objectives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5040" y="1841040"/>
            <a:ext cx="7799400" cy="39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64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mote transition to market econom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64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bilise significant foreign direct invest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64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pport privatisation, restructuring and better municipal servi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64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courage environmentally sound and sustainable develop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a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Netherlands-EBRD Carbon Fund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5040" y="1773000"/>
            <a:ext cx="7799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pose: purchase as much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ductions as possibl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or the accou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Nether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get:  EUR 32 million incl.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projects: 10 -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ment period: until 30 September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a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Facilitating the JI Carbon Market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ion linked to investment projec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JI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a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69840" y="50760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Donor funding -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echnical Cooperation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rly half of all signed EBRD investments have been supported by TC fu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3,400 projects fun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Over €894 million of funds mobili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a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232000" y="1924200"/>
          <a:ext cx="5729400" cy="49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1924200"/>
                    <a:ext cx="5729400" cy="49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Technical Cooperation commitments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49600" y="5627520"/>
            <a:ext cx="418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ject implementation 46%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00960" y="2862360"/>
            <a:ext cx="142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ining 3%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8160" y="2803680"/>
            <a:ext cx="328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visory services 26%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27280" y="2728800"/>
            <a:ext cx="142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tor studies 1%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0400" y="4400640"/>
            <a:ext cx="170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ject preparation 24%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87480" y="1677960"/>
            <a:ext cx="7899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cus on investment projects: </a:t>
            </a:r>
            <a:r>
              <a:rPr b="0" i="1" lang="en-US" sz="2500" spc="-1" strike="noStrike">
                <a:solidFill>
                  <a:srgbClr val="ffff99"/>
                </a:solidFill>
                <a:latin typeface="Arial"/>
              </a:rPr>
              <a:t>70% of commitments for project implementation or preparation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a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Facilitation by the Fund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ncial support for Project Design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ooperation fun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m to retrieve after sig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s risk in project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ice on Project Design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s development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a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Project Finance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4076640"/>
            <a:ext cx="1728720" cy="1295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3645000"/>
            <a:ext cx="533160" cy="4572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84720" y="3645000"/>
            <a:ext cx="533520" cy="4572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3645000"/>
            <a:ext cx="533160" cy="4572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2720" y="2997360"/>
            <a:ext cx="216000" cy="10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3645000"/>
            <a:ext cx="88920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04000" y="333144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Arial Narrow"/>
              </a:rPr>
              <a:t>CO</a:t>
            </a:r>
            <a:r>
              <a:rPr b="1" lang="en-US" sz="2400" spc="-1" strike="noStrike" baseline="-25000">
                <a:solidFill>
                  <a:srgbClr val="66ff66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66ff66"/>
                </a:solidFill>
                <a:latin typeface="Arial Narrow"/>
              </a:rPr>
              <a:t> redu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88000" y="4219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 Narrow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88000" y="4796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lectr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0360" y="4508640"/>
            <a:ext cx="8892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4365720"/>
            <a:ext cx="8892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5013360"/>
            <a:ext cx="8892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0360" y="5084640"/>
            <a:ext cx="8892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472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 Narrow"/>
              </a:rPr>
              <a:t>deb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41486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 Narrow"/>
              </a:rPr>
              <a:t>equ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a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50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Project finance with carbon credits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bon credi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hancing return on equ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ducing debt levera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fort for lend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pporting debt service with carbon cash flow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uritising with ERP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4:28:12Z</dcterms:created>
  <dc:creator>Egbert Liese</dc:creator>
  <dc:description/>
  <cp:keywords>joint implementation</cp:keywords>
  <dc:language>en-US</dc:language>
  <cp:lastModifiedBy>Jens Wilhelm</cp:lastModifiedBy>
  <dcterms:modified xsi:type="dcterms:W3CDTF">2004-09-17T12:00:35Z</dcterms:modified>
  <cp:revision>57</cp:revision>
  <dc:subject/>
  <dc:title>Facilitating the JI Carbon market</dc:title>
</cp:coreProperties>
</file>