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5522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-6480"/>
            <a:ext cx="914256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1440" y="-4680"/>
            <a:ext cx="0" cy="685476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850080"/>
            <a:ext cx="9142560" cy="144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42560" y="-6480"/>
            <a:ext cx="0" cy="685512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00400" y="2133720"/>
            <a:ext cx="5943600" cy="42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raf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Operational procedures for registry syste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9 November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onn, 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373392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chnical Breakout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048120" y="1980720"/>
            <a:ext cx="0" cy="417852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on Re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 the word “test” and use “review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language is inclusive of ITL and ST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technical criteria and information to Article 8 review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for audit capability to supplement Article 8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sensitive national information is not pu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otential outcome of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required qualifications for independent aud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multiple ITL deployment environments for testing of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-Produc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possible problems or issues/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, tracking and resolution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avoidance and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0666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on Issue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eseen problems appear to fit within the domain of other workgroups’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foreseen problems should go to the main committee to appoint appropriate resources to address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orkgroup is not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0666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ry Susp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s of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suspension (emergency or norm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s of suspension (partial or fu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 for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 for rein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0666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on Registry Susp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:  only technical reasons for suspending a 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operational capability enables “self-imposed”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rules and procedures for rein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interaction of ITL and STL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s on time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0666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reas of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ing questions and other dialog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0666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out Session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y scope of activities to be conside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es and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proposed content of operations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to full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9072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ing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interruptions in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ccuracy and data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fairness and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effective operation of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ppropriate burdens and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and timely processing of trans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ability to C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on Guiding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a ‘Code of Conduct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with Kyoto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hierarchical organizational structure in which workgroups are assigned responsibility for specific 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ciliation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cheduled reconciliations, either requested or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for manual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on Reconciliation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y timing of message exchange for Reconc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ransaction type and volume as criteria for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clear and specific process for manual intervention, includ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time expectation for completing manual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need for suspension procedure in the event of persisten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ion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of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 for determ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on Chang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ise change types and guidance on i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criticality by categ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critical changes on a fast-track and prioritize non-critical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he change management process 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ll costs to all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issues log is available going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of development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oing Testing/Aud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and targ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 with the Art. 8 Supervisory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18:11:20Z</dcterms:created>
  <dc:creator>Leah Daniel</dc:creator>
  <dc:description/>
  <dc:language>en-US</dc:language>
  <cp:lastModifiedBy>nagata</cp:lastModifiedBy>
  <dcterms:modified xsi:type="dcterms:W3CDTF">2004-12-08T16:58:04Z</dcterms:modified>
  <cp:revision>383</cp:revision>
  <dc:subject/>
  <dc:title>UN Technical Specifications for Data Exchange</dc:title>
</cp:coreProperties>
</file>