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9FC0-B02B-43D0-8C75-7F6D866C8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4E1D-1076-4990-A86B-6A82E84C0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187C-E143-4ACD-94D5-B827E5942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15B4-95E2-4D0F-8B1A-9FF23BAE1A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6C67-346C-4D05-A4A9-BDA8B472E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AC72-94EA-4966-A8FE-F1010C525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264A-C557-46ED-93FE-73713839B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3F1C-23F5-474E-9406-14280C879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1AA1-6C27-4A99-897D-DD8EEA5CF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DA3E-DAE3-4733-9265-1CB9DC74A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1B11-A387-4601-B1A4-0707282BB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D448-03CD-4203-A974-6ABA31004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B02F-F42F-47C7-BC3A-23A19A0BBFC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5040" y="4454640"/>
            <a:ext cx="2617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rew Ho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howard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102120" y="18298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1657440"/>
            <a:ext cx="685800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operation among administr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verview and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essional consul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E82A-B84B-478F-B1A5-45F9F72586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co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14400" y="1600200"/>
          <a:ext cx="7391160" cy="4495680"/>
        </p:xfrm>
        <a:graphic>
          <a:graphicData uri="http://schemas.openxmlformats.org/drawingml/2006/table">
            <a:tbl>
              <a:tblPr/>
              <a:tblGrid>
                <a:gridCol w="3581280"/>
                <a:gridCol w="3809880"/>
              </a:tblGrid>
              <a:tr h="20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commended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very of systems or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access and agre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ical impro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haring of informa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nd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t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 spec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al issues and agre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ional t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ization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FDCC-3DF1-4781-8D8F-38824A130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ucture and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75960"/>
            <a:ext cx="81532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pe of activities and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ion of activities and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s for participation a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of reporting to the intergovernmental bo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e role in contributing to Article 8 review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ing of activities under co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E113-3AE0-4232-941E-04836A4B72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are administrato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gistry administrato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TL administ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gistry/ITL man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371600"/>
            <a:ext cx="4495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 designated to maintain a national 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ically a government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outsource the hosting and operation of the 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outsource the hosting and operation of the I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viduals responsible for day-to-day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be in an outsourced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A94C-D312-4153-8CAE-BF6813E664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peration among administ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for cooperation has been growing since COP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BSTA 20 conclu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ed need for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ffective, long-term co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reg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tional transaction log (IT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ementary transaction logs (STLs) (eg CIT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 and promote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ccuracy, efficiency and transparenc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operation of registry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 at COP 10 on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tructures and procedu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co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7B49-727F-4674-A2C1-C4F7CC3E0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pe of co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mmon operational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registry systems agree to implement th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commended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practices not requiring common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haring of information and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 from other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E882-7971-4F3B-BE10-B100B6312D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ncili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4280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conciliation process defined in data exchang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greement needed on how to use the proce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 and timing of reconciliation pha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eria for reducing / increasing frequenc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s for requesting or triggering reconcili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s for manual interven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0305-8A01-4389-8AE5-C055CE48D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 change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866600"/>
            <a:ext cx="81532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ata exchange standards specifications (version 1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greement needed on procedures for ongoing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ository of change reques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on and development of proposa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ment and decision-making proces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of decis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on and monitoring of implement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E320-FD7E-4A7D-B59E-7F27EDAAF5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75960"/>
            <a:ext cx="81532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tialization process sets a basis for common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greement needed on how to continue common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 of ongoing tests and their tim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ensure impartial assess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communicate test resul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o be taken if tests fa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ntribution to Kyoto protocol review proces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7B98-B203-4E1C-BFDD-02DA5EF7F8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e re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342800"/>
            <a:ext cx="85341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ata exchange standards provide basis for coordinated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greement needed to avoid and resolve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procedures to help avoid problematic issu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ion and arbitration to resolve any disagre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pe of disagre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learn from disagre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07CC-D399-44B4-8EAA-F3371D4958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spension of ITL commun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866600"/>
            <a:ext cx="8686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ata exchange standards provide basis for coordinated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greement needed to temporarily suspend ITL commun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procedures on communications standards and criter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registry systems on basis of standards and criter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of suspens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ergency suspens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s for suspending and re-starting servi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B1BB-7534-43AC-B24E-818CB5A8A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6:55:54Z</dcterms:modified>
  <cp:revision>152</cp:revision>
  <dc:subject/>
  <dc:title>PowerPoint Presentation</dc:title>
</cp:coreProperties>
</file>