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E33A-20B4-44DB-8CF8-BED54160E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6895-4B6B-4AB2-A078-81033958B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BB9F-0397-44CE-9277-9CC33F3EE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985E-1164-4F87-A05B-13B2C9497F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34BA-8AB1-4C54-9D4E-30165D6D5F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4D14-2721-4E50-BAF8-AF7EF4835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66CF-4F36-4DA8-8715-2499C420E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FB30-641B-4FB1-9B5C-E27365F3E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496F-F39F-41E2-B4A4-97E22EAE6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DC6D-ED8E-4809-B659-B17D8D2C3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C683-CE78-4455-99DB-B13BC1960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0F6F-156A-46A7-9AC7-89766A6D7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RANSP_P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55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162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93BF-1955-4BC6-BD3B-95CE4A9C69CB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6480"/>
            <a:ext cx="91425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440" y="-4680"/>
            <a:ext cx="0" cy="68547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0080"/>
            <a:ext cx="9142560" cy="14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2560" y="-6480"/>
            <a:ext cx="0" cy="68551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2240" y="4429080"/>
            <a:ext cx="25185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shiaki Nag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FCC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ww.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nagata@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292560" y="1760040"/>
            <a:ext cx="0" cy="433548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1625760"/>
            <a:ext cx="4953240" cy="45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gress 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DM registr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-sessional consultations on registry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nn, Germa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-10 Novem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26ED-F2F8-4C39-BB06-508CE21434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DM Regist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ndardized electronic database for ensuring accurate accounting of CERs, tCERs and lC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ssue units and them to national regist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have temporary holding accounts for Annex I Parties to receive credits, until national registries are establish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be administered by the secretariat under authority of E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start operation in 2004 and connect to the ITL in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er selected through UN procurement proced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2D7A-4B19-48E9-BAAD-3B52A921E0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ected ven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6634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errin Quarles Associates Inc (PQ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ed in Virginia, U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ed in 197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6634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Business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 and support of informatio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for regulation development and 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stry system for SO2 and NOx trading in US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ment of Emission Allowance Tracking System (EA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olvement in state-level trading schemes in U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review of transaction log development under the EU trading scheme (for the European Commiss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808D-9D08-483A-ABCD-477BB7BC56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all approa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hase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Registry not connected to the IT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ance and distribution within the CDM regist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the end of November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Registry connected to the IT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ransfer to participants’ accounts in national registr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June/July 2005 (in parallel with ITL developme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or to ensure registry functio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deploy, test, handover, initialize, document, trai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s still open on longer-term ho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or available for operational support for 3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7AC0-715A-44C8-B3D3-40C8633E9F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1:20Z</dcterms:created>
  <dc:creator>Howard</dc:creator>
  <dc:description/>
  <dc:language>en-US</dc:language>
  <cp:lastModifiedBy>nagata</cp:lastModifiedBy>
  <dcterms:modified xsi:type="dcterms:W3CDTF">2004-12-08T16:52:53Z</dcterms:modified>
  <cp:revision>127</cp:revision>
  <dc:subject/>
  <dc:title>PowerPoint Presentation</dc:title>
</cp:coreProperties>
</file>