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83413" cy="10148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5280" y="3964320"/>
            <a:ext cx="82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4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4000" y="1600200"/>
            <a:ext cx="404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404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4000" y="3964320"/>
            <a:ext cx="404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26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8960" y="1600200"/>
            <a:ext cx="26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2640" y="1600200"/>
            <a:ext cx="26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95280" y="3964320"/>
            <a:ext cx="26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8960" y="3964320"/>
            <a:ext cx="26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2640" y="3964320"/>
            <a:ext cx="26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4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000" y="1600200"/>
            <a:ext cx="404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4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000" y="1600200"/>
            <a:ext cx="404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404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4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000" y="1600200"/>
            <a:ext cx="404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4000" y="3964320"/>
            <a:ext cx="404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4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4000" y="1600200"/>
            <a:ext cx="404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82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55640" y="1341360"/>
          <a:ext cx="7848720" cy="468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>
                    <a:alphaModFix amt="52000"/>
                  </a:blip>
                  <a:stretch/>
                </p:blipFill>
                <p:spPr>
                  <a:xfrm>
                    <a:off x="755640" y="1341360"/>
                    <a:ext cx="784872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95280" y="624492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6095880" y="1125360"/>
            <a:ext cx="3048120" cy="4762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6084720" cy="1125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788000" y="6237360"/>
            <a:ext cx="388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F5B1-B7C2-4285-805E-294033DFF71C}" type="slidenum">
              <a:rPr b="1" lang="fr-FR" sz="1000" spc="-1" strike="noStrike">
                <a:solidFill>
                  <a:srgbClr val="333399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issedesdepots.fr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aissedesdepots.fr/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aissedesdepots.fr/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aissedesdepots.fr/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hyperlink" Target="http://www.caissedesdepots.fr/" TargetMode="External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000" y="1773000"/>
            <a:ext cx="730404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9000"/>
            <a:ext cx="9144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700280"/>
            <a:ext cx="864072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90000"/>
              </a:lnSpc>
              <a:spcBef>
                <a:spcPts val="1125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SERIN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FRENCH GHG NATIONAL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fr-FR" sz="1400" spc="-1" strike="noStrike">
                <a:solidFill>
                  <a:srgbClr val="333399"/>
                </a:solidFill>
                <a:latin typeface="Times New Roman"/>
              </a:rPr>
              <a:t>UNFCCC Intersessional Consultations on Registry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8-10 November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835280" y="249228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579640" y="2492280"/>
            <a:ext cx="1513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64000" y="6094440"/>
            <a:ext cx="18716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9000"/>
            <a:ext cx="9144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G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341360"/>
            <a:ext cx="830556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Decision was made early on to concentrate on the EU version fir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and to work on the UN version from 2005 (save for 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processes foreseen under the EU Regulation have been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rrently testing those processes against the CITL and make adjustments according to test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 of November 8th, tests reconciliation and external transfers have not been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r interface changes are also under development to obtain Commission's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bjective is to obtain approval around mid November to concentrate on internal requests from the French back-office and to assist other countries during their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675640" y="1773360"/>
            <a:ext cx="217440" cy="4680000"/>
            <a:chOff x="8675640" y="1773360"/>
            <a:chExt cx="217440" cy="4680000"/>
          </a:xfrm>
        </p:grpSpPr>
        <p:sp>
          <p:nvSpPr>
            <p:cNvPr id="59" name=""/>
            <p:cNvSpPr/>
            <p:nvPr/>
          </p:nvSpPr>
          <p:spPr>
            <a:xfrm>
              <a:off x="8675640" y="1773360"/>
              <a:ext cx="217440" cy="4680000"/>
            </a:xfrm>
            <a:prstGeom prst="rect">
              <a:avLst/>
            </a:prstGeom>
            <a:solidFill>
              <a:srgbClr val="cce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>
              <a:hlinkClick r:id="" action="ppaction://hlinkshowjump?jump=nextslide"/>
            </p:cNvPr>
            <p:cNvSpPr/>
            <p:nvPr/>
          </p:nvSpPr>
          <p:spPr>
            <a:xfrm rot="5400000">
              <a:off x="8641080" y="6201720"/>
              <a:ext cx="287640" cy="215640"/>
            </a:xfrm>
            <a:custGeom>
              <a:avLst/>
              <a:gdLst>
                <a:gd name="textAreaLeft" fmla="*/ 13680 w 287640"/>
                <a:gd name="textAreaRight" fmla="*/ 273960 w 2876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17899" y="10800"/>
                  </a:moveTo>
                  <a:lnTo>
                    <a:pt x="7394" y="17806"/>
                  </a:lnTo>
                  <a:lnTo>
                    <a:pt x="7394" y="3794"/>
                  </a:lnTo>
                  <a:close/>
                </a:path>
                <a:path fill="darken" w="28800" h="21600">
                  <a:moveTo>
                    <a:pt x="19744" y="3794"/>
                  </a:moveTo>
                  <a:lnTo>
                    <a:pt x="19744" y="17806"/>
                  </a:lnTo>
                  <a:lnTo>
                    <a:pt x="21406" y="17806"/>
                  </a:lnTo>
                  <a:lnTo>
                    <a:pt x="21406" y="3794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>
              <a:hlinkClick r:id="" action="ppaction://hlinkshowjump?jump=previousslide"/>
            </p:cNvPr>
            <p:cNvSpPr/>
            <p:nvPr/>
          </p:nvSpPr>
          <p:spPr>
            <a:xfrm rot="16200000">
              <a:off x="8641440" y="1809000"/>
              <a:ext cx="287280" cy="215640"/>
            </a:xfrm>
            <a:custGeom>
              <a:avLst/>
              <a:gdLst>
                <a:gd name="textAreaLeft" fmla="*/ 13680 w 287280"/>
                <a:gd name="textAreaRight" fmla="*/ 273600 w 28728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28764" h="21600">
                  <a:moveTo>
                    <a:pt x="0" y="0"/>
                  </a:moveTo>
                  <a:lnTo>
                    <a:pt x="28764" y="0"/>
                  </a:lnTo>
                  <a:lnTo>
                    <a:pt x="28764" y="21600"/>
                  </a:lnTo>
                  <a:lnTo>
                    <a:pt x="0" y="21600"/>
                  </a:lnTo>
                  <a:close/>
                </a:path>
                <a:path fill="lightenLess" w="28764" h="21600">
                  <a:moveTo>
                    <a:pt x="0" y="0"/>
                  </a:moveTo>
                  <a:lnTo>
                    <a:pt x="28764" y="0"/>
                  </a:lnTo>
                  <a:lnTo>
                    <a:pt x="27364" y="1400"/>
                  </a:lnTo>
                  <a:lnTo>
                    <a:pt x="1400" y="1400"/>
                  </a:lnTo>
                  <a:close/>
                </a:path>
                <a:path fill="darken" w="28764" h="21600">
                  <a:moveTo>
                    <a:pt x="28764" y="0"/>
                  </a:moveTo>
                  <a:lnTo>
                    <a:pt x="28764" y="21600"/>
                  </a:lnTo>
                  <a:lnTo>
                    <a:pt x="27364" y="20200"/>
                  </a:lnTo>
                  <a:lnTo>
                    <a:pt x="27364" y="1400"/>
                  </a:lnTo>
                  <a:close/>
                </a:path>
                <a:path fill="darkenLess" w="28764" h="21600">
                  <a:moveTo>
                    <a:pt x="287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4" y="20200"/>
                  </a:lnTo>
                  <a:close/>
                </a:path>
                <a:path fill="lighten" w="287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4" h="21600">
                  <a:moveTo>
                    <a:pt x="17881" y="10800"/>
                  </a:moveTo>
                  <a:lnTo>
                    <a:pt x="7376" y="17806"/>
                  </a:lnTo>
                  <a:lnTo>
                    <a:pt x="7376" y="3794"/>
                  </a:lnTo>
                  <a:close/>
                </a:path>
                <a:path fill="darken" w="28764" h="21600">
                  <a:moveTo>
                    <a:pt x="19726" y="3794"/>
                  </a:moveTo>
                  <a:lnTo>
                    <a:pt x="19726" y="17806"/>
                  </a:lnTo>
                  <a:lnTo>
                    <a:pt x="21388" y="17806"/>
                  </a:lnTo>
                  <a:lnTo>
                    <a:pt x="21388" y="3794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>
            <a:hlinkClick r:id="rId1"/>
          </p:cNvPr>
          <p:cNvSpPr/>
          <p:nvPr/>
        </p:nvSpPr>
        <p:spPr>
          <a:xfrm>
            <a:off x="468360" y="623736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21564" y="3837"/>
                </a:moveTo>
                <a:lnTo>
                  <a:pt x="24140" y="6448"/>
                </a:lnTo>
                <a:lnTo>
                  <a:pt x="24140" y="4707"/>
                </a:lnTo>
                <a:lnTo>
                  <a:pt x="25916" y="4707"/>
                </a:lnTo>
                <a:lnTo>
                  <a:pt x="25916" y="8224"/>
                </a:lnTo>
                <a:lnTo>
                  <a:pt x="28527" y="10800"/>
                </a:lnTo>
                <a:lnTo>
                  <a:pt x="26873" y="10800"/>
                </a:lnTo>
                <a:lnTo>
                  <a:pt x="26873" y="17989"/>
                </a:lnTo>
                <a:lnTo>
                  <a:pt x="16255" y="17989"/>
                </a:lnTo>
                <a:lnTo>
                  <a:pt x="16255" y="10800"/>
                </a:lnTo>
                <a:lnTo>
                  <a:pt x="14601" y="10800"/>
                </a:lnTo>
                <a:close/>
              </a:path>
              <a:path fill="darkenLess" w="43128" h="21600">
                <a:moveTo>
                  <a:pt x="24140" y="6448"/>
                </a:moveTo>
                <a:lnTo>
                  <a:pt x="24140" y="4707"/>
                </a:lnTo>
                <a:lnTo>
                  <a:pt x="25916" y="4707"/>
                </a:lnTo>
                <a:lnTo>
                  <a:pt x="25916" y="8224"/>
                </a:lnTo>
                <a:close/>
              </a:path>
              <a:path fill="darkenLess" w="43128" h="21600">
                <a:moveTo>
                  <a:pt x="20641" y="14299"/>
                </a:moveTo>
                <a:lnTo>
                  <a:pt x="22487" y="14299"/>
                </a:lnTo>
                <a:lnTo>
                  <a:pt x="22487" y="17989"/>
                </a:lnTo>
                <a:lnTo>
                  <a:pt x="26873" y="17989"/>
                </a:lnTo>
                <a:lnTo>
                  <a:pt x="26873" y="10800"/>
                </a:lnTo>
                <a:lnTo>
                  <a:pt x="16255" y="10800"/>
                </a:lnTo>
                <a:lnTo>
                  <a:pt x="16255" y="17989"/>
                </a:lnTo>
                <a:lnTo>
                  <a:pt x="20641" y="17989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89000"/>
            <a:ext cx="9144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NCTIONAL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341360"/>
            <a:ext cx="830556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ur first idea was to base the development of Seringas on an existing financial securities registry because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33480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erial numbering management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33480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ccounting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underlying system is still a financial registry today but it was greatly simplified be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33480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o accounting plan in the EU Regulation so we had to simplify our accounting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33480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mpletely different technology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terms of specifications, we used a classic UML approach ("together" tool used for generating UML diagr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33480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8675640" y="1773360"/>
            <a:ext cx="217440" cy="4680000"/>
            <a:chOff x="8675640" y="1773360"/>
            <a:chExt cx="217440" cy="4680000"/>
          </a:xfrm>
        </p:grpSpPr>
        <p:sp>
          <p:nvSpPr>
            <p:cNvPr id="69" name=""/>
            <p:cNvSpPr/>
            <p:nvPr/>
          </p:nvSpPr>
          <p:spPr>
            <a:xfrm>
              <a:off x="8675640" y="1773360"/>
              <a:ext cx="217440" cy="4680000"/>
            </a:xfrm>
            <a:prstGeom prst="rect">
              <a:avLst/>
            </a:prstGeom>
            <a:solidFill>
              <a:srgbClr val="cce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>
              <a:hlinkClick r:id="" action="ppaction://hlinkshowjump?jump=nextslide"/>
            </p:cNvPr>
            <p:cNvSpPr/>
            <p:nvPr/>
          </p:nvSpPr>
          <p:spPr>
            <a:xfrm rot="5400000">
              <a:off x="8641080" y="6201720"/>
              <a:ext cx="287640" cy="215640"/>
            </a:xfrm>
            <a:custGeom>
              <a:avLst/>
              <a:gdLst>
                <a:gd name="textAreaLeft" fmla="*/ 13680 w 287640"/>
                <a:gd name="textAreaRight" fmla="*/ 273960 w 2876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17899" y="10800"/>
                  </a:moveTo>
                  <a:lnTo>
                    <a:pt x="7394" y="17806"/>
                  </a:lnTo>
                  <a:lnTo>
                    <a:pt x="7394" y="3794"/>
                  </a:lnTo>
                  <a:close/>
                </a:path>
                <a:path fill="darken" w="28800" h="21600">
                  <a:moveTo>
                    <a:pt x="19744" y="3794"/>
                  </a:moveTo>
                  <a:lnTo>
                    <a:pt x="19744" y="17806"/>
                  </a:lnTo>
                  <a:lnTo>
                    <a:pt x="21406" y="17806"/>
                  </a:lnTo>
                  <a:lnTo>
                    <a:pt x="21406" y="3794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>
              <a:hlinkClick r:id="" action="ppaction://hlinkshowjump?jump=previousslide"/>
            </p:cNvPr>
            <p:cNvSpPr/>
            <p:nvPr/>
          </p:nvSpPr>
          <p:spPr>
            <a:xfrm rot="16200000">
              <a:off x="8641440" y="1809000"/>
              <a:ext cx="287280" cy="215640"/>
            </a:xfrm>
            <a:custGeom>
              <a:avLst/>
              <a:gdLst>
                <a:gd name="textAreaLeft" fmla="*/ 13680 w 287280"/>
                <a:gd name="textAreaRight" fmla="*/ 273600 w 28728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28764" h="21600">
                  <a:moveTo>
                    <a:pt x="0" y="0"/>
                  </a:moveTo>
                  <a:lnTo>
                    <a:pt x="28764" y="0"/>
                  </a:lnTo>
                  <a:lnTo>
                    <a:pt x="28764" y="21600"/>
                  </a:lnTo>
                  <a:lnTo>
                    <a:pt x="0" y="21600"/>
                  </a:lnTo>
                  <a:close/>
                </a:path>
                <a:path fill="lightenLess" w="28764" h="21600">
                  <a:moveTo>
                    <a:pt x="0" y="0"/>
                  </a:moveTo>
                  <a:lnTo>
                    <a:pt x="28764" y="0"/>
                  </a:lnTo>
                  <a:lnTo>
                    <a:pt x="27364" y="1400"/>
                  </a:lnTo>
                  <a:lnTo>
                    <a:pt x="1400" y="1400"/>
                  </a:lnTo>
                  <a:close/>
                </a:path>
                <a:path fill="darken" w="28764" h="21600">
                  <a:moveTo>
                    <a:pt x="28764" y="0"/>
                  </a:moveTo>
                  <a:lnTo>
                    <a:pt x="28764" y="21600"/>
                  </a:lnTo>
                  <a:lnTo>
                    <a:pt x="27364" y="20200"/>
                  </a:lnTo>
                  <a:lnTo>
                    <a:pt x="27364" y="1400"/>
                  </a:lnTo>
                  <a:close/>
                </a:path>
                <a:path fill="darkenLess" w="28764" h="21600">
                  <a:moveTo>
                    <a:pt x="287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4" y="20200"/>
                  </a:lnTo>
                  <a:close/>
                </a:path>
                <a:path fill="lighten" w="287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4" h="21600">
                  <a:moveTo>
                    <a:pt x="17881" y="10800"/>
                  </a:moveTo>
                  <a:lnTo>
                    <a:pt x="7376" y="17806"/>
                  </a:lnTo>
                  <a:lnTo>
                    <a:pt x="7376" y="3794"/>
                  </a:lnTo>
                  <a:close/>
                </a:path>
                <a:path fill="darken" w="28764" h="21600">
                  <a:moveTo>
                    <a:pt x="19726" y="3794"/>
                  </a:moveTo>
                  <a:lnTo>
                    <a:pt x="19726" y="17806"/>
                  </a:lnTo>
                  <a:lnTo>
                    <a:pt x="21388" y="17806"/>
                  </a:lnTo>
                  <a:lnTo>
                    <a:pt x="21388" y="3794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>
            <a:hlinkClick r:id="rId1"/>
          </p:cNvPr>
          <p:cNvSpPr/>
          <p:nvPr/>
        </p:nvSpPr>
        <p:spPr>
          <a:xfrm>
            <a:off x="468360" y="623736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21564" y="3837"/>
                </a:moveTo>
                <a:lnTo>
                  <a:pt x="24140" y="6448"/>
                </a:lnTo>
                <a:lnTo>
                  <a:pt x="24140" y="4707"/>
                </a:lnTo>
                <a:lnTo>
                  <a:pt x="25916" y="4707"/>
                </a:lnTo>
                <a:lnTo>
                  <a:pt x="25916" y="8224"/>
                </a:lnTo>
                <a:lnTo>
                  <a:pt x="28527" y="10800"/>
                </a:lnTo>
                <a:lnTo>
                  <a:pt x="26873" y="10800"/>
                </a:lnTo>
                <a:lnTo>
                  <a:pt x="26873" y="17989"/>
                </a:lnTo>
                <a:lnTo>
                  <a:pt x="16255" y="17989"/>
                </a:lnTo>
                <a:lnTo>
                  <a:pt x="16255" y="10800"/>
                </a:lnTo>
                <a:lnTo>
                  <a:pt x="14601" y="10800"/>
                </a:lnTo>
                <a:close/>
              </a:path>
              <a:path fill="darkenLess" w="43128" h="21600">
                <a:moveTo>
                  <a:pt x="24140" y="6448"/>
                </a:moveTo>
                <a:lnTo>
                  <a:pt x="24140" y="4707"/>
                </a:lnTo>
                <a:lnTo>
                  <a:pt x="25916" y="4707"/>
                </a:lnTo>
                <a:lnTo>
                  <a:pt x="25916" y="8224"/>
                </a:lnTo>
                <a:close/>
              </a:path>
              <a:path fill="darkenLess" w="43128" h="21600">
                <a:moveTo>
                  <a:pt x="20641" y="14299"/>
                </a:moveTo>
                <a:lnTo>
                  <a:pt x="22487" y="14299"/>
                </a:lnTo>
                <a:lnTo>
                  <a:pt x="22487" y="17989"/>
                </a:lnTo>
                <a:lnTo>
                  <a:pt x="26873" y="17989"/>
                </a:lnTo>
                <a:lnTo>
                  <a:pt x="26873" y="10800"/>
                </a:lnTo>
                <a:lnTo>
                  <a:pt x="16255" y="10800"/>
                </a:lnTo>
                <a:lnTo>
                  <a:pt x="16255" y="17989"/>
                </a:lnTo>
                <a:lnTo>
                  <a:pt x="20641" y="17989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89000"/>
            <a:ext cx="9144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imes New Roman"/>
              </a:rPr>
              <a:t>TECHNICAL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341360"/>
            <a:ext cx="8305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675640" y="1773360"/>
            <a:ext cx="217440" cy="4680000"/>
            <a:chOff x="8675640" y="1773360"/>
            <a:chExt cx="217440" cy="4680000"/>
          </a:xfrm>
        </p:grpSpPr>
        <p:sp>
          <p:nvSpPr>
            <p:cNvPr id="79" name=""/>
            <p:cNvSpPr/>
            <p:nvPr/>
          </p:nvSpPr>
          <p:spPr>
            <a:xfrm>
              <a:off x="8675640" y="1773360"/>
              <a:ext cx="217440" cy="4680000"/>
            </a:xfrm>
            <a:prstGeom prst="rect">
              <a:avLst/>
            </a:prstGeom>
            <a:solidFill>
              <a:srgbClr val="cce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>
              <a:hlinkClick r:id="" action="ppaction://hlinkshowjump?jump=nextslide"/>
            </p:cNvPr>
            <p:cNvSpPr/>
            <p:nvPr/>
          </p:nvSpPr>
          <p:spPr>
            <a:xfrm rot="5400000">
              <a:off x="8641080" y="6201720"/>
              <a:ext cx="287640" cy="215640"/>
            </a:xfrm>
            <a:custGeom>
              <a:avLst/>
              <a:gdLst>
                <a:gd name="textAreaLeft" fmla="*/ 13680 w 287640"/>
                <a:gd name="textAreaRight" fmla="*/ 273960 w 2876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17899" y="10800"/>
                  </a:moveTo>
                  <a:lnTo>
                    <a:pt x="7394" y="17806"/>
                  </a:lnTo>
                  <a:lnTo>
                    <a:pt x="7394" y="3794"/>
                  </a:lnTo>
                  <a:close/>
                </a:path>
                <a:path fill="darken" w="28800" h="21600">
                  <a:moveTo>
                    <a:pt x="19744" y="3794"/>
                  </a:moveTo>
                  <a:lnTo>
                    <a:pt x="19744" y="17806"/>
                  </a:lnTo>
                  <a:lnTo>
                    <a:pt x="21406" y="17806"/>
                  </a:lnTo>
                  <a:lnTo>
                    <a:pt x="21406" y="3794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>
              <a:hlinkClick r:id="" action="ppaction://hlinkshowjump?jump=previousslide"/>
            </p:cNvPr>
            <p:cNvSpPr/>
            <p:nvPr/>
          </p:nvSpPr>
          <p:spPr>
            <a:xfrm rot="16200000">
              <a:off x="8641440" y="1809000"/>
              <a:ext cx="287280" cy="215640"/>
            </a:xfrm>
            <a:custGeom>
              <a:avLst/>
              <a:gdLst>
                <a:gd name="textAreaLeft" fmla="*/ 13680 w 287280"/>
                <a:gd name="textAreaRight" fmla="*/ 273600 w 28728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28764" h="21600">
                  <a:moveTo>
                    <a:pt x="0" y="0"/>
                  </a:moveTo>
                  <a:lnTo>
                    <a:pt x="28764" y="0"/>
                  </a:lnTo>
                  <a:lnTo>
                    <a:pt x="28764" y="21600"/>
                  </a:lnTo>
                  <a:lnTo>
                    <a:pt x="0" y="21600"/>
                  </a:lnTo>
                  <a:close/>
                </a:path>
                <a:path fill="lightenLess" w="28764" h="21600">
                  <a:moveTo>
                    <a:pt x="0" y="0"/>
                  </a:moveTo>
                  <a:lnTo>
                    <a:pt x="28764" y="0"/>
                  </a:lnTo>
                  <a:lnTo>
                    <a:pt x="27364" y="1400"/>
                  </a:lnTo>
                  <a:lnTo>
                    <a:pt x="1400" y="1400"/>
                  </a:lnTo>
                  <a:close/>
                </a:path>
                <a:path fill="darken" w="28764" h="21600">
                  <a:moveTo>
                    <a:pt x="28764" y="0"/>
                  </a:moveTo>
                  <a:lnTo>
                    <a:pt x="28764" y="21600"/>
                  </a:lnTo>
                  <a:lnTo>
                    <a:pt x="27364" y="20200"/>
                  </a:lnTo>
                  <a:lnTo>
                    <a:pt x="27364" y="1400"/>
                  </a:lnTo>
                  <a:close/>
                </a:path>
                <a:path fill="darkenLess" w="28764" h="21600">
                  <a:moveTo>
                    <a:pt x="287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4" y="20200"/>
                  </a:lnTo>
                  <a:close/>
                </a:path>
                <a:path fill="lighten" w="287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4" h="21600">
                  <a:moveTo>
                    <a:pt x="17881" y="10800"/>
                  </a:moveTo>
                  <a:lnTo>
                    <a:pt x="7376" y="17806"/>
                  </a:lnTo>
                  <a:lnTo>
                    <a:pt x="7376" y="3794"/>
                  </a:lnTo>
                  <a:close/>
                </a:path>
                <a:path fill="darken" w="28764" h="21600">
                  <a:moveTo>
                    <a:pt x="19726" y="3794"/>
                  </a:moveTo>
                  <a:lnTo>
                    <a:pt x="19726" y="17806"/>
                  </a:lnTo>
                  <a:lnTo>
                    <a:pt x="21388" y="17806"/>
                  </a:lnTo>
                  <a:lnTo>
                    <a:pt x="21388" y="3794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>
            <a:hlinkClick r:id="rId1"/>
          </p:cNvPr>
          <p:cNvSpPr/>
          <p:nvPr/>
        </p:nvSpPr>
        <p:spPr>
          <a:xfrm>
            <a:off x="468360" y="623736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21564" y="3837"/>
                </a:moveTo>
                <a:lnTo>
                  <a:pt x="24140" y="6448"/>
                </a:lnTo>
                <a:lnTo>
                  <a:pt x="24140" y="4707"/>
                </a:lnTo>
                <a:lnTo>
                  <a:pt x="25916" y="4707"/>
                </a:lnTo>
                <a:lnTo>
                  <a:pt x="25916" y="8224"/>
                </a:lnTo>
                <a:lnTo>
                  <a:pt x="28527" y="10800"/>
                </a:lnTo>
                <a:lnTo>
                  <a:pt x="26873" y="10800"/>
                </a:lnTo>
                <a:lnTo>
                  <a:pt x="26873" y="17989"/>
                </a:lnTo>
                <a:lnTo>
                  <a:pt x="16255" y="17989"/>
                </a:lnTo>
                <a:lnTo>
                  <a:pt x="16255" y="10800"/>
                </a:lnTo>
                <a:lnTo>
                  <a:pt x="14601" y="10800"/>
                </a:lnTo>
                <a:close/>
              </a:path>
              <a:path fill="darkenLess" w="43128" h="21600">
                <a:moveTo>
                  <a:pt x="24140" y="6448"/>
                </a:moveTo>
                <a:lnTo>
                  <a:pt x="24140" y="4707"/>
                </a:lnTo>
                <a:lnTo>
                  <a:pt x="25916" y="4707"/>
                </a:lnTo>
                <a:lnTo>
                  <a:pt x="25916" y="8224"/>
                </a:lnTo>
                <a:close/>
              </a:path>
              <a:path fill="darkenLess" w="43128" h="21600">
                <a:moveTo>
                  <a:pt x="20641" y="14299"/>
                </a:moveTo>
                <a:lnTo>
                  <a:pt x="22487" y="14299"/>
                </a:lnTo>
                <a:lnTo>
                  <a:pt x="22487" y="17989"/>
                </a:lnTo>
                <a:lnTo>
                  <a:pt x="26873" y="17989"/>
                </a:lnTo>
                <a:lnTo>
                  <a:pt x="26873" y="10800"/>
                </a:lnTo>
                <a:lnTo>
                  <a:pt x="16255" y="10800"/>
                </a:lnTo>
                <a:lnTo>
                  <a:pt x="16255" y="17989"/>
                </a:lnTo>
                <a:lnTo>
                  <a:pt x="20641" y="17989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251000"/>
            <a:ext cx="830556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velopment using full Microsoft Dot Net package - first application developed by CDC with this technology (quite challeng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osen for its flexibility and willingness to use one provider for the framework, database and configuration managemen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S were inserted very early in the development but constant changes in drafts and problem of consistencies between EU and UN drafts delayed developments at the beg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rrently DES draft # 5 have been implemented and will be in place for the start of the scheme on 1 January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ision was made with the Commission to skip draft # 6 and to implement DES # 7 early next year, at the time of the release of the version 1.1 of the CITL (in February - March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89000"/>
            <a:ext cx="9144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imes New Roman"/>
              </a:rPr>
              <a:t>LEGISLATIVE BA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341360"/>
            <a:ext cx="8305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675640" y="1773360"/>
            <a:ext cx="217440" cy="4680000"/>
            <a:chOff x="8675640" y="1773360"/>
            <a:chExt cx="217440" cy="4680000"/>
          </a:xfrm>
        </p:grpSpPr>
        <p:sp>
          <p:nvSpPr>
            <p:cNvPr id="90" name=""/>
            <p:cNvSpPr/>
            <p:nvPr/>
          </p:nvSpPr>
          <p:spPr>
            <a:xfrm>
              <a:off x="8675640" y="1773360"/>
              <a:ext cx="217440" cy="4680000"/>
            </a:xfrm>
            <a:prstGeom prst="rect">
              <a:avLst/>
            </a:prstGeom>
            <a:solidFill>
              <a:srgbClr val="cce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>
              <a:hlinkClick r:id="" action="ppaction://hlinkshowjump?jump=nextslide"/>
            </p:cNvPr>
            <p:cNvSpPr/>
            <p:nvPr/>
          </p:nvSpPr>
          <p:spPr>
            <a:xfrm rot="5400000">
              <a:off x="8641080" y="6201720"/>
              <a:ext cx="287640" cy="215640"/>
            </a:xfrm>
            <a:custGeom>
              <a:avLst/>
              <a:gdLst>
                <a:gd name="textAreaLeft" fmla="*/ 13680 w 287640"/>
                <a:gd name="textAreaRight" fmla="*/ 273960 w 2876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17899" y="10800"/>
                  </a:moveTo>
                  <a:lnTo>
                    <a:pt x="7394" y="17806"/>
                  </a:lnTo>
                  <a:lnTo>
                    <a:pt x="7394" y="3794"/>
                  </a:lnTo>
                  <a:close/>
                </a:path>
                <a:path fill="darken" w="28800" h="21600">
                  <a:moveTo>
                    <a:pt x="19744" y="3794"/>
                  </a:moveTo>
                  <a:lnTo>
                    <a:pt x="19744" y="17806"/>
                  </a:lnTo>
                  <a:lnTo>
                    <a:pt x="21406" y="17806"/>
                  </a:lnTo>
                  <a:lnTo>
                    <a:pt x="21406" y="3794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>
              <a:hlinkClick r:id="" action="ppaction://hlinkshowjump?jump=previousslide"/>
            </p:cNvPr>
            <p:cNvSpPr/>
            <p:nvPr/>
          </p:nvSpPr>
          <p:spPr>
            <a:xfrm rot="16200000">
              <a:off x="8641440" y="1809000"/>
              <a:ext cx="287280" cy="215640"/>
            </a:xfrm>
            <a:custGeom>
              <a:avLst/>
              <a:gdLst>
                <a:gd name="textAreaLeft" fmla="*/ 13680 w 287280"/>
                <a:gd name="textAreaRight" fmla="*/ 273600 w 28728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28764" h="21600">
                  <a:moveTo>
                    <a:pt x="0" y="0"/>
                  </a:moveTo>
                  <a:lnTo>
                    <a:pt x="28764" y="0"/>
                  </a:lnTo>
                  <a:lnTo>
                    <a:pt x="28764" y="21600"/>
                  </a:lnTo>
                  <a:lnTo>
                    <a:pt x="0" y="21600"/>
                  </a:lnTo>
                  <a:close/>
                </a:path>
                <a:path fill="lightenLess" w="28764" h="21600">
                  <a:moveTo>
                    <a:pt x="0" y="0"/>
                  </a:moveTo>
                  <a:lnTo>
                    <a:pt x="28764" y="0"/>
                  </a:lnTo>
                  <a:lnTo>
                    <a:pt x="27364" y="1400"/>
                  </a:lnTo>
                  <a:lnTo>
                    <a:pt x="1400" y="1400"/>
                  </a:lnTo>
                  <a:close/>
                </a:path>
                <a:path fill="darken" w="28764" h="21600">
                  <a:moveTo>
                    <a:pt x="28764" y="0"/>
                  </a:moveTo>
                  <a:lnTo>
                    <a:pt x="28764" y="21600"/>
                  </a:lnTo>
                  <a:lnTo>
                    <a:pt x="27364" y="20200"/>
                  </a:lnTo>
                  <a:lnTo>
                    <a:pt x="27364" y="1400"/>
                  </a:lnTo>
                  <a:close/>
                </a:path>
                <a:path fill="darkenLess" w="28764" h="21600">
                  <a:moveTo>
                    <a:pt x="287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4" y="20200"/>
                  </a:lnTo>
                  <a:close/>
                </a:path>
                <a:path fill="lighten" w="287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4" h="21600">
                  <a:moveTo>
                    <a:pt x="17881" y="10800"/>
                  </a:moveTo>
                  <a:lnTo>
                    <a:pt x="7376" y="17806"/>
                  </a:lnTo>
                  <a:lnTo>
                    <a:pt x="7376" y="3794"/>
                  </a:lnTo>
                  <a:close/>
                </a:path>
                <a:path fill="darken" w="28764" h="21600">
                  <a:moveTo>
                    <a:pt x="19726" y="3794"/>
                  </a:moveTo>
                  <a:lnTo>
                    <a:pt x="19726" y="17806"/>
                  </a:lnTo>
                  <a:lnTo>
                    <a:pt x="21388" y="17806"/>
                  </a:lnTo>
                  <a:lnTo>
                    <a:pt x="21388" y="3794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68360" y="623736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21564" y="3837"/>
                </a:moveTo>
                <a:lnTo>
                  <a:pt x="24140" y="6448"/>
                </a:lnTo>
                <a:lnTo>
                  <a:pt x="24140" y="4707"/>
                </a:lnTo>
                <a:lnTo>
                  <a:pt x="25916" y="4707"/>
                </a:lnTo>
                <a:lnTo>
                  <a:pt x="25916" y="8224"/>
                </a:lnTo>
                <a:lnTo>
                  <a:pt x="28527" y="10800"/>
                </a:lnTo>
                <a:lnTo>
                  <a:pt x="26873" y="10800"/>
                </a:lnTo>
                <a:lnTo>
                  <a:pt x="26873" y="17989"/>
                </a:lnTo>
                <a:lnTo>
                  <a:pt x="16255" y="17989"/>
                </a:lnTo>
                <a:lnTo>
                  <a:pt x="16255" y="10800"/>
                </a:lnTo>
                <a:lnTo>
                  <a:pt x="14601" y="10800"/>
                </a:lnTo>
                <a:close/>
              </a:path>
              <a:path fill="darkenLess" w="43128" h="21600">
                <a:moveTo>
                  <a:pt x="24140" y="6448"/>
                </a:moveTo>
                <a:lnTo>
                  <a:pt x="24140" y="4707"/>
                </a:lnTo>
                <a:lnTo>
                  <a:pt x="25916" y="4707"/>
                </a:lnTo>
                <a:lnTo>
                  <a:pt x="25916" y="8224"/>
                </a:lnTo>
                <a:close/>
              </a:path>
              <a:path fill="darkenLess" w="43128" h="21600">
                <a:moveTo>
                  <a:pt x="20641" y="14299"/>
                </a:moveTo>
                <a:lnTo>
                  <a:pt x="22487" y="14299"/>
                </a:lnTo>
                <a:lnTo>
                  <a:pt x="22487" y="17989"/>
                </a:lnTo>
                <a:lnTo>
                  <a:pt x="26873" y="17989"/>
                </a:lnTo>
                <a:lnTo>
                  <a:pt x="26873" y="10800"/>
                </a:lnTo>
                <a:lnTo>
                  <a:pt x="16255" y="10800"/>
                </a:lnTo>
                <a:lnTo>
                  <a:pt x="16255" y="17989"/>
                </a:lnTo>
                <a:lnTo>
                  <a:pt x="20641" y="17989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251000"/>
            <a:ext cx="830556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DC started to develop its registry without firm legal basis two years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gistry was considered as a national interest activity (no profit), so CDC, as a public institution, was legitimate for running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mitments from the government were given early on this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 decree to transpose the Directive mentions CDC last 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ree of nomination of CDC passed by the government and about to be pu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other legal text is elaborated to detail relationships and responsibilities between registry administrator (CDC) and the Competent Authority (Ministry of Environ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89000"/>
            <a:ext cx="9144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imes New Roman"/>
              </a:rPr>
              <a:t>SERINGAS DELIVERY PLA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675640" y="1773360"/>
            <a:ext cx="217440" cy="4680000"/>
            <a:chOff x="8675640" y="1773360"/>
            <a:chExt cx="217440" cy="4680000"/>
          </a:xfrm>
        </p:grpSpPr>
        <p:sp>
          <p:nvSpPr>
            <p:cNvPr id="100" name=""/>
            <p:cNvSpPr/>
            <p:nvPr/>
          </p:nvSpPr>
          <p:spPr>
            <a:xfrm>
              <a:off x="8675640" y="1773360"/>
              <a:ext cx="217440" cy="4680000"/>
            </a:xfrm>
            <a:prstGeom prst="rect">
              <a:avLst/>
            </a:prstGeom>
            <a:solidFill>
              <a:srgbClr val="cce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>
              <a:hlinkClick r:id="" action="ppaction://hlinkshowjump?jump=nextslide"/>
            </p:cNvPr>
            <p:cNvSpPr/>
            <p:nvPr/>
          </p:nvSpPr>
          <p:spPr>
            <a:xfrm rot="5400000">
              <a:off x="8641080" y="6201720"/>
              <a:ext cx="287640" cy="215640"/>
            </a:xfrm>
            <a:custGeom>
              <a:avLst/>
              <a:gdLst>
                <a:gd name="textAreaLeft" fmla="*/ 13680 w 287640"/>
                <a:gd name="textAreaRight" fmla="*/ 273960 w 2876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17899" y="10800"/>
                  </a:moveTo>
                  <a:lnTo>
                    <a:pt x="7394" y="17806"/>
                  </a:lnTo>
                  <a:lnTo>
                    <a:pt x="7394" y="3794"/>
                  </a:lnTo>
                  <a:close/>
                </a:path>
                <a:path fill="darken" w="28800" h="21600">
                  <a:moveTo>
                    <a:pt x="19744" y="3794"/>
                  </a:moveTo>
                  <a:lnTo>
                    <a:pt x="19744" y="17806"/>
                  </a:lnTo>
                  <a:lnTo>
                    <a:pt x="21406" y="17806"/>
                  </a:lnTo>
                  <a:lnTo>
                    <a:pt x="21406" y="3794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" action="ppaction://hlinkshowjump?jump=previousslide"/>
            </p:cNvPr>
            <p:cNvSpPr/>
            <p:nvPr/>
          </p:nvSpPr>
          <p:spPr>
            <a:xfrm rot="16200000">
              <a:off x="8641440" y="1809000"/>
              <a:ext cx="287280" cy="215640"/>
            </a:xfrm>
            <a:custGeom>
              <a:avLst/>
              <a:gdLst>
                <a:gd name="textAreaLeft" fmla="*/ 13680 w 287280"/>
                <a:gd name="textAreaRight" fmla="*/ 273600 w 28728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28764" h="21600">
                  <a:moveTo>
                    <a:pt x="0" y="0"/>
                  </a:moveTo>
                  <a:lnTo>
                    <a:pt x="28764" y="0"/>
                  </a:lnTo>
                  <a:lnTo>
                    <a:pt x="28764" y="21600"/>
                  </a:lnTo>
                  <a:lnTo>
                    <a:pt x="0" y="21600"/>
                  </a:lnTo>
                  <a:close/>
                </a:path>
                <a:path fill="lightenLess" w="28764" h="21600">
                  <a:moveTo>
                    <a:pt x="0" y="0"/>
                  </a:moveTo>
                  <a:lnTo>
                    <a:pt x="28764" y="0"/>
                  </a:lnTo>
                  <a:lnTo>
                    <a:pt x="27364" y="1400"/>
                  </a:lnTo>
                  <a:lnTo>
                    <a:pt x="1400" y="1400"/>
                  </a:lnTo>
                  <a:close/>
                </a:path>
                <a:path fill="darken" w="28764" h="21600">
                  <a:moveTo>
                    <a:pt x="28764" y="0"/>
                  </a:moveTo>
                  <a:lnTo>
                    <a:pt x="28764" y="21600"/>
                  </a:lnTo>
                  <a:lnTo>
                    <a:pt x="27364" y="20200"/>
                  </a:lnTo>
                  <a:lnTo>
                    <a:pt x="27364" y="1400"/>
                  </a:lnTo>
                  <a:close/>
                </a:path>
                <a:path fill="darkenLess" w="28764" h="21600">
                  <a:moveTo>
                    <a:pt x="287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4" y="20200"/>
                  </a:lnTo>
                  <a:close/>
                </a:path>
                <a:path fill="lighten" w="287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4" h="21600">
                  <a:moveTo>
                    <a:pt x="17881" y="10800"/>
                  </a:moveTo>
                  <a:lnTo>
                    <a:pt x="7376" y="17806"/>
                  </a:lnTo>
                  <a:lnTo>
                    <a:pt x="7376" y="3794"/>
                  </a:lnTo>
                  <a:close/>
                </a:path>
                <a:path fill="darken" w="28764" h="21600">
                  <a:moveTo>
                    <a:pt x="19726" y="3794"/>
                  </a:moveTo>
                  <a:lnTo>
                    <a:pt x="19726" y="17806"/>
                  </a:lnTo>
                  <a:lnTo>
                    <a:pt x="21388" y="17806"/>
                  </a:lnTo>
                  <a:lnTo>
                    <a:pt x="21388" y="3794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8360" y="623736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21564" y="3837"/>
                </a:moveTo>
                <a:lnTo>
                  <a:pt x="24140" y="6448"/>
                </a:lnTo>
                <a:lnTo>
                  <a:pt x="24140" y="4707"/>
                </a:lnTo>
                <a:lnTo>
                  <a:pt x="25916" y="4707"/>
                </a:lnTo>
                <a:lnTo>
                  <a:pt x="25916" y="8224"/>
                </a:lnTo>
                <a:lnTo>
                  <a:pt x="28527" y="10800"/>
                </a:lnTo>
                <a:lnTo>
                  <a:pt x="26873" y="10800"/>
                </a:lnTo>
                <a:lnTo>
                  <a:pt x="26873" y="17989"/>
                </a:lnTo>
                <a:lnTo>
                  <a:pt x="16255" y="17989"/>
                </a:lnTo>
                <a:lnTo>
                  <a:pt x="16255" y="10800"/>
                </a:lnTo>
                <a:lnTo>
                  <a:pt x="14601" y="10800"/>
                </a:lnTo>
                <a:close/>
              </a:path>
              <a:path fill="darkenLess" w="43128" h="21600">
                <a:moveTo>
                  <a:pt x="24140" y="6448"/>
                </a:moveTo>
                <a:lnTo>
                  <a:pt x="24140" y="4707"/>
                </a:lnTo>
                <a:lnTo>
                  <a:pt x="25916" y="4707"/>
                </a:lnTo>
                <a:lnTo>
                  <a:pt x="25916" y="8224"/>
                </a:lnTo>
                <a:close/>
              </a:path>
              <a:path fill="darkenLess" w="43128" h="21600">
                <a:moveTo>
                  <a:pt x="20641" y="14299"/>
                </a:moveTo>
                <a:lnTo>
                  <a:pt x="22487" y="14299"/>
                </a:lnTo>
                <a:lnTo>
                  <a:pt x="22487" y="17989"/>
                </a:lnTo>
                <a:lnTo>
                  <a:pt x="26873" y="17989"/>
                </a:lnTo>
                <a:lnTo>
                  <a:pt x="26873" y="10800"/>
                </a:lnTo>
                <a:lnTo>
                  <a:pt x="16255" y="10800"/>
                </a:lnTo>
                <a:lnTo>
                  <a:pt x="16255" y="17989"/>
                </a:lnTo>
                <a:lnTo>
                  <a:pt x="20641" y="17989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700280"/>
            <a:ext cx="8280360" cy="144360"/>
          </a:xfrm>
          <a:prstGeom prst="rect">
            <a:avLst/>
          </a:prstGeom>
          <a:solidFill>
            <a:srgbClr val="3333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2003                                              2004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213372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905120"/>
            <a:ext cx="8280360" cy="144360"/>
          </a:xfrm>
          <a:prstGeom prst="rect">
            <a:avLst/>
          </a:prstGeom>
          <a:solidFill>
            <a:srgbClr val="3333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06    07    08    09    10    11    12    06    07    08    09    10   11    12    01    02    03    04    05    06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19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19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19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19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19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19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87640" y="17002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87640" y="19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19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19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1640" y="19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19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19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5640" y="19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19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0720" y="19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59640" y="19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3080" y="19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85080" y="19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24720" y="19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17002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2565360"/>
            <a:ext cx="2376360" cy="576360"/>
          </a:xfrm>
          <a:prstGeom prst="rightArrow">
            <a:avLst>
              <a:gd name="adj1" fmla="val 50000"/>
              <a:gd name="adj2" fmla="val 10307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DOMESTIC 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13372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276720"/>
            <a:ext cx="3048120" cy="576000"/>
          </a:xfrm>
          <a:prstGeom prst="rightArrow">
            <a:avLst>
              <a:gd name="adj1" fmla="val 36093"/>
              <a:gd name="adj2" fmla="val 10559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EU INTERMEDIATE 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2136600"/>
            <a:ext cx="0" cy="235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962520"/>
            <a:ext cx="4537080" cy="576000"/>
          </a:xfrm>
          <a:prstGeom prst="rightArrow">
            <a:avLst>
              <a:gd name="adj1" fmla="val 40500"/>
              <a:gd name="adj2" fmla="val 12351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EU FULL 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21337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5977080"/>
            <a:ext cx="1800360" cy="576000"/>
          </a:xfrm>
          <a:prstGeom prst="rightArrow">
            <a:avLst>
              <a:gd name="adj1" fmla="val 50000"/>
              <a:gd name="adj2" fmla="val 7814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LAUNCH OF EU SCHE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4114800"/>
            <a:ext cx="1922400" cy="360360"/>
          </a:xfrm>
          <a:prstGeom prst="leftRightArrow">
            <a:avLst>
              <a:gd name="adj1" fmla="val 50000"/>
              <a:gd name="adj2" fmla="val 10619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EU 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2133720"/>
            <a:ext cx="380880" cy="2286000"/>
          </a:xfrm>
          <a:prstGeom prst="bracePair">
            <a:avLst>
              <a:gd name="adj" fmla="val 8333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INTERNATIONAL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4495680"/>
            <a:ext cx="380880" cy="1828800"/>
          </a:xfrm>
          <a:prstGeom prst="bracePair">
            <a:avLst>
              <a:gd name="adj" fmla="val 8333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NATIONAL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2133720"/>
            <a:ext cx="0" cy="235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4114800"/>
            <a:ext cx="1219320" cy="360360"/>
          </a:xfrm>
          <a:prstGeom prst="leftRightArrow">
            <a:avLst>
              <a:gd name="adj1" fmla="val 50000"/>
              <a:gd name="adj2" fmla="val 6735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U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4876920"/>
            <a:ext cx="2743200" cy="360360"/>
          </a:xfrm>
          <a:prstGeom prst="leftRightArrow">
            <a:avLst>
              <a:gd name="adj1" fmla="val 50000"/>
              <a:gd name="adj2" fmla="val 151543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COOPERATION MIN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5410080"/>
            <a:ext cx="1371600" cy="609840"/>
          </a:xfrm>
          <a:prstGeom prst="leftRightArrow">
            <a:avLst>
              <a:gd name="adj1" fmla="val 50000"/>
              <a:gd name="adj2" fmla="val 4477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imes New Roman"/>
              </a:rPr>
              <a:t>CONTRACTS 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imes New Roman"/>
              </a:rPr>
              <a:t>BO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54864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629040" y="5714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5943600"/>
            <a:ext cx="1295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100" spc="-1" strike="noStrike">
                <a:solidFill>
                  <a:srgbClr val="000000"/>
                </a:solidFill>
                <a:latin typeface="Times New Roman"/>
              </a:rPr>
              <a:t>28/02/05: real start of the sche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6386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5029200"/>
            <a:ext cx="1752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100" spc="-1" strike="noStrike">
                <a:solidFill>
                  <a:srgbClr val="000000"/>
                </a:solidFill>
                <a:latin typeface="Times New Roman"/>
              </a:rPr>
              <a:t>Contract phase with account holders, traning and development of back-office t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54864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89000"/>
            <a:ext cx="9144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imes New Roman"/>
              </a:rPr>
              <a:t>PROBLEMS AND LESS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8675640" y="1773360"/>
            <a:ext cx="217440" cy="4680000"/>
            <a:chOff x="8675640" y="1773360"/>
            <a:chExt cx="217440" cy="4680000"/>
          </a:xfrm>
        </p:grpSpPr>
        <p:sp>
          <p:nvSpPr>
            <p:cNvPr id="153" name=""/>
            <p:cNvSpPr/>
            <p:nvPr/>
          </p:nvSpPr>
          <p:spPr>
            <a:xfrm>
              <a:off x="8675640" y="1773360"/>
              <a:ext cx="217440" cy="4680000"/>
            </a:xfrm>
            <a:prstGeom prst="rect">
              <a:avLst/>
            </a:prstGeom>
            <a:solidFill>
              <a:srgbClr val="cce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>
              <a:hlinkClick r:id="" action="ppaction://hlinkshowjump?jump=nextslide"/>
            </p:cNvPr>
            <p:cNvSpPr/>
            <p:nvPr/>
          </p:nvSpPr>
          <p:spPr>
            <a:xfrm rot="5400000">
              <a:off x="8641080" y="6201720"/>
              <a:ext cx="287640" cy="215640"/>
            </a:xfrm>
            <a:custGeom>
              <a:avLst/>
              <a:gdLst>
                <a:gd name="textAreaLeft" fmla="*/ 13680 w 287640"/>
                <a:gd name="textAreaRight" fmla="*/ 273960 w 2876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17899" y="10800"/>
                  </a:moveTo>
                  <a:lnTo>
                    <a:pt x="7394" y="17806"/>
                  </a:lnTo>
                  <a:lnTo>
                    <a:pt x="7394" y="3794"/>
                  </a:lnTo>
                  <a:close/>
                </a:path>
                <a:path fill="darken" w="28800" h="21600">
                  <a:moveTo>
                    <a:pt x="19744" y="3794"/>
                  </a:moveTo>
                  <a:lnTo>
                    <a:pt x="19744" y="17806"/>
                  </a:lnTo>
                  <a:lnTo>
                    <a:pt x="21406" y="17806"/>
                  </a:lnTo>
                  <a:lnTo>
                    <a:pt x="21406" y="3794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>
              <a:hlinkClick r:id="" action="ppaction://hlinkshowjump?jump=previousslide"/>
            </p:cNvPr>
            <p:cNvSpPr/>
            <p:nvPr/>
          </p:nvSpPr>
          <p:spPr>
            <a:xfrm rot="16200000">
              <a:off x="8641440" y="1809000"/>
              <a:ext cx="287280" cy="215640"/>
            </a:xfrm>
            <a:custGeom>
              <a:avLst/>
              <a:gdLst>
                <a:gd name="textAreaLeft" fmla="*/ 13680 w 287280"/>
                <a:gd name="textAreaRight" fmla="*/ 273600 w 28728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28764" h="21600">
                  <a:moveTo>
                    <a:pt x="0" y="0"/>
                  </a:moveTo>
                  <a:lnTo>
                    <a:pt x="28764" y="0"/>
                  </a:lnTo>
                  <a:lnTo>
                    <a:pt x="28764" y="21600"/>
                  </a:lnTo>
                  <a:lnTo>
                    <a:pt x="0" y="21600"/>
                  </a:lnTo>
                  <a:close/>
                </a:path>
                <a:path fill="lightenLess" w="28764" h="21600">
                  <a:moveTo>
                    <a:pt x="0" y="0"/>
                  </a:moveTo>
                  <a:lnTo>
                    <a:pt x="28764" y="0"/>
                  </a:lnTo>
                  <a:lnTo>
                    <a:pt x="27364" y="1400"/>
                  </a:lnTo>
                  <a:lnTo>
                    <a:pt x="1400" y="1400"/>
                  </a:lnTo>
                  <a:close/>
                </a:path>
                <a:path fill="darken" w="28764" h="21600">
                  <a:moveTo>
                    <a:pt x="28764" y="0"/>
                  </a:moveTo>
                  <a:lnTo>
                    <a:pt x="28764" y="21600"/>
                  </a:lnTo>
                  <a:lnTo>
                    <a:pt x="27364" y="20200"/>
                  </a:lnTo>
                  <a:lnTo>
                    <a:pt x="27364" y="1400"/>
                  </a:lnTo>
                  <a:close/>
                </a:path>
                <a:path fill="darkenLess" w="28764" h="21600">
                  <a:moveTo>
                    <a:pt x="287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4" y="20200"/>
                  </a:lnTo>
                  <a:close/>
                </a:path>
                <a:path fill="lighten" w="287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4" h="21600">
                  <a:moveTo>
                    <a:pt x="17881" y="10800"/>
                  </a:moveTo>
                  <a:lnTo>
                    <a:pt x="7376" y="17806"/>
                  </a:lnTo>
                  <a:lnTo>
                    <a:pt x="7376" y="3794"/>
                  </a:lnTo>
                  <a:close/>
                </a:path>
                <a:path fill="darken" w="28764" h="21600">
                  <a:moveTo>
                    <a:pt x="19726" y="3794"/>
                  </a:moveTo>
                  <a:lnTo>
                    <a:pt x="19726" y="17806"/>
                  </a:lnTo>
                  <a:lnTo>
                    <a:pt x="21388" y="17806"/>
                  </a:lnTo>
                  <a:lnTo>
                    <a:pt x="21388" y="3794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>
            <a:hlinkClick r:id="rId1"/>
          </p:cNvPr>
          <p:cNvSpPr/>
          <p:nvPr/>
        </p:nvSpPr>
        <p:spPr>
          <a:xfrm>
            <a:off x="468360" y="623736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21564" y="3837"/>
                </a:moveTo>
                <a:lnTo>
                  <a:pt x="24140" y="6448"/>
                </a:lnTo>
                <a:lnTo>
                  <a:pt x="24140" y="4707"/>
                </a:lnTo>
                <a:lnTo>
                  <a:pt x="25916" y="4707"/>
                </a:lnTo>
                <a:lnTo>
                  <a:pt x="25916" y="8224"/>
                </a:lnTo>
                <a:lnTo>
                  <a:pt x="28527" y="10800"/>
                </a:lnTo>
                <a:lnTo>
                  <a:pt x="26873" y="10800"/>
                </a:lnTo>
                <a:lnTo>
                  <a:pt x="26873" y="17989"/>
                </a:lnTo>
                <a:lnTo>
                  <a:pt x="16255" y="17989"/>
                </a:lnTo>
                <a:lnTo>
                  <a:pt x="16255" y="10800"/>
                </a:lnTo>
                <a:lnTo>
                  <a:pt x="14601" y="10800"/>
                </a:lnTo>
                <a:close/>
              </a:path>
              <a:path fill="darkenLess" w="43128" h="21600">
                <a:moveTo>
                  <a:pt x="24140" y="6448"/>
                </a:moveTo>
                <a:lnTo>
                  <a:pt x="24140" y="4707"/>
                </a:lnTo>
                <a:lnTo>
                  <a:pt x="25916" y="4707"/>
                </a:lnTo>
                <a:lnTo>
                  <a:pt x="25916" y="8224"/>
                </a:lnTo>
                <a:close/>
              </a:path>
              <a:path fill="darkenLess" w="43128" h="21600">
                <a:moveTo>
                  <a:pt x="20641" y="14299"/>
                </a:moveTo>
                <a:lnTo>
                  <a:pt x="22487" y="14299"/>
                </a:lnTo>
                <a:lnTo>
                  <a:pt x="22487" y="17989"/>
                </a:lnTo>
                <a:lnTo>
                  <a:pt x="26873" y="17989"/>
                </a:lnTo>
                <a:lnTo>
                  <a:pt x="26873" y="10800"/>
                </a:lnTo>
                <a:lnTo>
                  <a:pt x="16255" y="10800"/>
                </a:lnTo>
                <a:lnTo>
                  <a:pt x="16255" y="17989"/>
                </a:lnTo>
                <a:lnTo>
                  <a:pt x="20641" y="17989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125360"/>
            <a:ext cx="8305560" cy="43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5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o not start early an IT project while functional environment not stable!!! Early start implies higher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blems of legal interpretations on sometimes vague texts - lack of detailed functional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fficulties with security due to our technical architecture (connectivity te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igh availability of the transaction log's development staff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gistry developers cooperation forum very useful ( I-trac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89000"/>
            <a:ext cx="9144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imes New Roman"/>
              </a:rPr>
              <a:t>CONT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03280" y="1341360"/>
          <a:ext cx="5977080" cy="47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341360"/>
                    <a:ext cx="5977080" cy="4751640"/>
                  </a:xfrm>
                  <a:prstGeom prst="rect">
                    <a:avLst/>
                  </a:prstGeom>
                  <a:ln w="19080">
                    <a:solidFill>
                      <a:srgbClr val="6699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916360" y="1484280"/>
            <a:ext cx="3024000" cy="2872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87640" y="1916280"/>
            <a:ext cx="2879640" cy="43164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4000" y="2492280"/>
            <a:ext cx="4680000" cy="1368360"/>
          </a:xfrm>
          <a:prstGeom prst="rect">
            <a:avLst/>
          </a:prstGeom>
          <a:solidFill>
            <a:srgbClr val="6699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ENCH 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romain.fremont@caissedesdepots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8675640" y="1773360"/>
            <a:ext cx="217440" cy="4680000"/>
            <a:chOff x="8675640" y="1773360"/>
            <a:chExt cx="217440" cy="4680000"/>
          </a:xfrm>
        </p:grpSpPr>
        <p:sp>
          <p:nvSpPr>
            <p:cNvPr id="168" name=""/>
            <p:cNvSpPr/>
            <p:nvPr/>
          </p:nvSpPr>
          <p:spPr>
            <a:xfrm>
              <a:off x="8675640" y="1773360"/>
              <a:ext cx="217440" cy="4680000"/>
            </a:xfrm>
            <a:prstGeom prst="rect">
              <a:avLst/>
            </a:prstGeom>
            <a:solidFill>
              <a:srgbClr val="cce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 rot="5400000">
              <a:off x="8641080" y="6201720"/>
              <a:ext cx="287640" cy="215640"/>
            </a:xfrm>
            <a:custGeom>
              <a:avLst/>
              <a:gdLst>
                <a:gd name="textAreaLeft" fmla="*/ 13680 w 287640"/>
                <a:gd name="textAreaRight" fmla="*/ 273960 w 28764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17899" y="10800"/>
                  </a:moveTo>
                  <a:lnTo>
                    <a:pt x="7394" y="17806"/>
                  </a:lnTo>
                  <a:lnTo>
                    <a:pt x="7394" y="3794"/>
                  </a:lnTo>
                  <a:close/>
                </a:path>
                <a:path fill="darken" w="28800" h="21600">
                  <a:moveTo>
                    <a:pt x="19744" y="3794"/>
                  </a:moveTo>
                  <a:lnTo>
                    <a:pt x="19744" y="17806"/>
                  </a:lnTo>
                  <a:lnTo>
                    <a:pt x="21406" y="17806"/>
                  </a:lnTo>
                  <a:lnTo>
                    <a:pt x="21406" y="3794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 rot="16200000">
              <a:off x="8641440" y="1809000"/>
              <a:ext cx="287280" cy="215640"/>
            </a:xfrm>
            <a:custGeom>
              <a:avLst/>
              <a:gdLst>
                <a:gd name="textAreaLeft" fmla="*/ 13680 w 287280"/>
                <a:gd name="textAreaRight" fmla="*/ 273600 w 287280"/>
                <a:gd name="textAreaTop" fmla="*/ 13680 h 215640"/>
                <a:gd name="textAreaBottom" fmla="*/ 201960 h 215640"/>
              </a:gdLst>
              <a:ahLst/>
              <a:rect l="textAreaLeft" t="textAreaTop" r="textAreaRight" b="textAreaBottom"/>
              <a:pathLst>
                <a:path w="28764" h="21600">
                  <a:moveTo>
                    <a:pt x="0" y="0"/>
                  </a:moveTo>
                  <a:lnTo>
                    <a:pt x="28764" y="0"/>
                  </a:lnTo>
                  <a:lnTo>
                    <a:pt x="28764" y="21600"/>
                  </a:lnTo>
                  <a:lnTo>
                    <a:pt x="0" y="21600"/>
                  </a:lnTo>
                  <a:close/>
                </a:path>
                <a:path fill="lightenLess" w="28764" h="21600">
                  <a:moveTo>
                    <a:pt x="0" y="0"/>
                  </a:moveTo>
                  <a:lnTo>
                    <a:pt x="28764" y="0"/>
                  </a:lnTo>
                  <a:lnTo>
                    <a:pt x="27364" y="1400"/>
                  </a:lnTo>
                  <a:lnTo>
                    <a:pt x="1400" y="1400"/>
                  </a:lnTo>
                  <a:close/>
                </a:path>
                <a:path fill="darken" w="28764" h="21600">
                  <a:moveTo>
                    <a:pt x="28764" y="0"/>
                  </a:moveTo>
                  <a:lnTo>
                    <a:pt x="28764" y="21600"/>
                  </a:lnTo>
                  <a:lnTo>
                    <a:pt x="27364" y="20200"/>
                  </a:lnTo>
                  <a:lnTo>
                    <a:pt x="27364" y="1400"/>
                  </a:lnTo>
                  <a:close/>
                </a:path>
                <a:path fill="darkenLess" w="28764" h="21600">
                  <a:moveTo>
                    <a:pt x="287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4" y="20200"/>
                  </a:lnTo>
                  <a:close/>
                </a:path>
                <a:path fill="lighten" w="287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4" h="21600">
                  <a:moveTo>
                    <a:pt x="17881" y="10800"/>
                  </a:moveTo>
                  <a:lnTo>
                    <a:pt x="7376" y="17806"/>
                  </a:lnTo>
                  <a:lnTo>
                    <a:pt x="7376" y="3794"/>
                  </a:lnTo>
                  <a:close/>
                </a:path>
                <a:path fill="darken" w="28764" h="21600">
                  <a:moveTo>
                    <a:pt x="19726" y="3794"/>
                  </a:moveTo>
                  <a:lnTo>
                    <a:pt x="19726" y="17806"/>
                  </a:lnTo>
                  <a:lnTo>
                    <a:pt x="21388" y="17806"/>
                  </a:lnTo>
                  <a:lnTo>
                    <a:pt x="21388" y="3794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>
            <a:hlinkClick r:id="rId3"/>
          </p:cNvPr>
          <p:cNvSpPr/>
          <p:nvPr/>
        </p:nvSpPr>
        <p:spPr>
          <a:xfrm>
            <a:off x="468360" y="623736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21564" y="3837"/>
                </a:moveTo>
                <a:lnTo>
                  <a:pt x="24140" y="6448"/>
                </a:lnTo>
                <a:lnTo>
                  <a:pt x="24140" y="4707"/>
                </a:lnTo>
                <a:lnTo>
                  <a:pt x="25916" y="4707"/>
                </a:lnTo>
                <a:lnTo>
                  <a:pt x="25916" y="8224"/>
                </a:lnTo>
                <a:lnTo>
                  <a:pt x="28527" y="10800"/>
                </a:lnTo>
                <a:lnTo>
                  <a:pt x="26873" y="10800"/>
                </a:lnTo>
                <a:lnTo>
                  <a:pt x="26873" y="17989"/>
                </a:lnTo>
                <a:lnTo>
                  <a:pt x="16255" y="17989"/>
                </a:lnTo>
                <a:lnTo>
                  <a:pt x="16255" y="10800"/>
                </a:lnTo>
                <a:lnTo>
                  <a:pt x="14601" y="10800"/>
                </a:lnTo>
                <a:close/>
              </a:path>
              <a:path fill="darkenLess" w="43128" h="21600">
                <a:moveTo>
                  <a:pt x="24140" y="6448"/>
                </a:moveTo>
                <a:lnTo>
                  <a:pt x="24140" y="4707"/>
                </a:lnTo>
                <a:lnTo>
                  <a:pt x="25916" y="4707"/>
                </a:lnTo>
                <a:lnTo>
                  <a:pt x="25916" y="8224"/>
                </a:lnTo>
                <a:close/>
              </a:path>
              <a:path fill="darkenLess" w="43128" h="21600">
                <a:moveTo>
                  <a:pt x="20641" y="14299"/>
                </a:moveTo>
                <a:lnTo>
                  <a:pt x="22487" y="14299"/>
                </a:lnTo>
                <a:lnTo>
                  <a:pt x="22487" y="17989"/>
                </a:lnTo>
                <a:lnTo>
                  <a:pt x="26873" y="17989"/>
                </a:lnTo>
                <a:lnTo>
                  <a:pt x="26873" y="10800"/>
                </a:lnTo>
                <a:lnTo>
                  <a:pt x="16255" y="10800"/>
                </a:lnTo>
                <a:lnTo>
                  <a:pt x="16255" y="17989"/>
                </a:lnTo>
                <a:lnTo>
                  <a:pt x="20641" y="17989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308720" y="0"/>
            <a:ext cx="1565280" cy="1154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47640" y="4508640"/>
            <a:ext cx="5688360" cy="1368360"/>
          </a:xfrm>
          <a:prstGeom prst="rect">
            <a:avLst/>
          </a:prstGeom>
          <a:solidFill>
            <a:srgbClr val="6699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ENCH REGISTRY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TTPS://WWW.SERINGAS.CAISSEDESDEPOTS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3:23:56Z</dcterms:created>
  <dc:creator>rfremont</dc:creator>
  <dc:description/>
  <dc:language>en-US</dc:language>
  <cp:lastModifiedBy>nagata</cp:lastModifiedBy>
  <dcterms:modified xsi:type="dcterms:W3CDTF">2004-12-08T16:48:22Z</dcterms:modified>
  <cp:revision>89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79556071</vt:r8>
  </property>
  <property fmtid="{D5CDD505-2E9C-101B-9397-08002B2CF9AE}" pid="3" name="_AuthorEmail">
    <vt:lpwstr>J.NouiMehidi@cdcixis.com</vt:lpwstr>
  </property>
  <property fmtid="{D5CDD505-2E9C-101B-9397-08002B2CF9AE}" pid="4" name="_AuthorEmailDisplayName">
    <vt:lpwstr>Noui Mehidi, Jamil (Ext)</vt:lpwstr>
  </property>
  <property fmtid="{D5CDD505-2E9C-101B-9397-08002B2CF9AE}" pid="5" name="_EmailSubject">
    <vt:lpwstr>présentation Espagne</vt:lpwstr>
  </property>
  <property fmtid="{D5CDD505-2E9C-101B-9397-08002B2CF9AE}" pid="6" name="_PreviousAdHocReviewCycleID">
    <vt:r8>-1287938767</vt:r8>
  </property>
</Properties>
</file>