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9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5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9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040" y="50760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997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etherlands-EBRD Carbon Fund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nlocking Project Potent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gbert Lie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Project portfolio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69920" y="2054160"/>
          <a:ext cx="7002360" cy="41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2054160"/>
                    <a:ext cx="700236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422360" y="573084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017 sign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19640" y="5730840"/>
            <a:ext cx="24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burs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7080" y="18399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6200" y="2992320"/>
            <a:ext cx="87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46560" y="4660920"/>
            <a:ext cx="87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57680" y="3792600"/>
            <a:ext cx="87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54800" y="5037120"/>
            <a:ext cx="87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57440" y="2025720"/>
          <a:ext cx="60973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2025720"/>
                    <a:ext cx="60973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Portfolio over the region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2840" y="2655720"/>
            <a:ext cx="174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ussia &amp; Central Asia 30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29200" y="24717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 Europe &amp; Caucasus 29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4080" y="5683320"/>
            <a:ext cx="307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ntral Europe 41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03520" y="1746360"/>
            <a:ext cx="638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99"/>
                </a:solidFill>
                <a:latin typeface="Arial"/>
              </a:rPr>
              <a:t>Cumulative commitments €22.7 b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849320" y="847800"/>
          <a:ext cx="609768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847800"/>
                    <a:ext cx="609768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Portfolio by sector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46320" y="4804920"/>
            <a:ext cx="1008000" cy="18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90920" y="1733400"/>
            <a:ext cx="377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nancial Institutions 30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1360" y="2381400"/>
            <a:ext cx="158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 Industry 13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11840" y="4451400"/>
            <a:ext cx="17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gribusiness 8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78480" y="4751280"/>
            <a:ext cx="179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ural Resources 7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84640" y="4843440"/>
            <a:ext cx="159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perty &amp; Tourism 3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1760" y="5224320"/>
            <a:ext cx="19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ecoms 8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58720" y="4916520"/>
            <a:ext cx="684360" cy="40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88840" y="4757760"/>
            <a:ext cx="15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ergy Efficiency 1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2280" y="4424400"/>
            <a:ext cx="154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I 7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7920" y="3220920"/>
            <a:ext cx="15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wer &amp; Energy 8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5840" y="210672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port 15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Track 1 (limited procedure)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8948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y to participation requirements (5, 7 &amp; 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ri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ance to participatio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ough capacity to comp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yer ‘between a rock and a hard plac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Track 2 (similar to CDM)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894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visory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05?, 2006?, 2007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lin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e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itionality of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ensive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ig potential for smaller projects (50,000 – 80,000 p/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4:28:12Z</dcterms:created>
  <dc:creator>Egbert Liese</dc:creator>
  <dc:description/>
  <cp:keywords>clean development mechanism</cp:keywords>
  <dc:language>en-US</dc:language>
  <cp:lastModifiedBy>Jens Wilhelm</cp:lastModifiedBy>
  <dcterms:modified xsi:type="dcterms:W3CDTF">2004-09-17T12:10:54Z</dcterms:modified>
  <cp:revision>65</cp:revision>
  <dc:subject/>
  <dc:title>Netherlands-EBRD Carbon Fund - Unlocking Project Potential</dc:title>
</cp:coreProperties>
</file>