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1DC6-40C4-44A9-A398-E000C0A6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5FD-7249-4B8C-96B3-80648DF1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908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575A-6D94-4CAC-8ECD-B8BE2B7F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3464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856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3464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856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B70-7687-4FA9-A7C2-A171CAB7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19B6-4CF3-4CF6-81FF-070167F4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0F62-4041-409A-BFBC-E541F7D6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E1D1-DBC4-47C1-9C46-B8DC8B14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B416-52E4-4FBB-9DC0-C79A0611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DCD5-3100-41C8-BD81-F0DF190C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78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18AD-48C5-4870-A410-5F25922D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E0E8-4CA6-4040-ACC8-FBDF0692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C9F-1F5A-4EB7-BD4C-3E500523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908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1FB3-883B-4629-8F70-FF617A3E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6D9D-ED6B-4664-9040-6E2BD2FF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6952-B11D-438D-8577-B23D2922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4908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E452-ECA1-4443-8BA0-F545A1CF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3464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7856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3464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7856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8806-18FF-4FAA-AA24-AE78257E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647-A917-43CF-9AC2-7BA64A74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366-D915-403B-9E45-2C7985ED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B27C-3656-48A9-87E8-6D233513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78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62E-2875-450F-A922-8AC15007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7125-87BE-4FD3-87A7-E5931634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908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030-DA56-4858-8147-404AB839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994-9390-4F47-95E7-5606141C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6A6D-8FA5-45CD-98E8-77B48DA0846E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TRANSP_P" descr=""/>
          <p:cNvPicPr/>
          <p:nvPr/>
        </p:nvPicPr>
        <p:blipFill>
          <a:blip r:embed="rId4"/>
          <a:stretch/>
        </p:blipFill>
        <p:spPr>
          <a:xfrm>
            <a:off x="0" y="6305400"/>
            <a:ext cx="9144000" cy="552600"/>
          </a:xfrm>
          <a:prstGeom prst="rect">
            <a:avLst/>
          </a:prstGeom>
          <a:ln w="0">
            <a:noFill/>
          </a:ln>
        </p:spPr>
      </p:pic>
      <p:pic>
        <p:nvPicPr>
          <p:cNvPr id="6" name="TRANSP_P" descr=""/>
          <p:cNvPicPr/>
          <p:nvPr/>
        </p:nvPicPr>
        <p:blipFill>
          <a:blip r:embed="rId5"/>
          <a:stretch/>
        </p:blipFill>
        <p:spPr>
          <a:xfrm>
            <a:off x="0" y="6305400"/>
            <a:ext cx="914400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AB42-FC15-4BA1-BDE0-788CDF64A3CC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RANSP_P" descr=""/>
          <p:cNvPicPr/>
          <p:nvPr/>
        </p:nvPicPr>
        <p:blipFill>
          <a:blip r:embed="rId3"/>
          <a:stretch/>
        </p:blipFill>
        <p:spPr>
          <a:xfrm>
            <a:off x="0" y="6305400"/>
            <a:ext cx="9144000" cy="552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53280" cy="24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Update on the CDM</a:t>
            </a: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440" y="297144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200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FCCC/Cooperative Mechanism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M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Status of the CDM after COP 9 …</a:t>
            </a: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mpt start of the CDM is a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 9 welcomed progress in 2003 as all elements for operating the CDM are up and running (see UNFCCC CDM web 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pproval of proposed methodolog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creditation of operational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action with stakeholders 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Status of the CDM after COP 9 …</a:t>
            </a: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15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couragement to intensify work on methodologies, guidance to promote broader applicability of 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or Parties to advance on capacity-building, role for NGOs and IGOs (for promoting DNAs and DO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clusion of CDM afforestation and reforestation projects in the first commitment period: lots of additional work (need for expertise, re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ied modalities and procedures for small-scale A&amp;R projects to be ready at COP 1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Arial"/>
              </a:rPr>
              <a:t>Update on the approval of methodologies</a:t>
            </a:r>
            <a:endParaRPr b="0" i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24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1 approved methodologies – 5 available on UNFCCC CDM web site, 2 more to come soon, 4 are undergoing forma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 recommended to next EB meeting in J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 proposals are under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tion efforts under way: LFG, renewable energy for power to the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jor other types: HFC 23 decomposition, fuel switching, biomass use, energy effici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all-scale methodologies available for 14 area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Update on project registration</a:t>
            </a: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rst submissions expected in early June by one of the two accredited and provisionally designated operational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 week objection period for regular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 weeks for small-scale proj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Update on accreditation</a:t>
            </a: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rst two entities accredited in March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4 applications at various stages in the accreditation process, some very adva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ation measures for entities from developing countries to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rst applications from developing countries (from companies in Republic of Korea, Malaysia, Colom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Update at any time</a:t>
            </a: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FCCC CDM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UNFCCc.jpg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5699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5105520"/>
            <a:ext cx="85345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NFCCC CDM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websit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</a:rPr>
              <a:t>(http://unfccc.int/cd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NFCCC CDM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News Facility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</a:rPr>
              <a:t>(If you register as a UNFCCC CDM web site user -&gt; automatically subscrib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09:36:53Z</dcterms:created>
  <dc:creator>Christine Zumkeller</dc:creator>
  <dc:description/>
  <cp:keywords>clean development mechanism</cp:keywords>
  <dc:language>en-US</dc:language>
  <cp:lastModifiedBy>Jens Wilhelm</cp:lastModifiedBy>
  <cp:lastPrinted>2001-09-10T16:02:44Z</cp:lastPrinted>
  <dcterms:modified xsi:type="dcterms:W3CDTF">2004-09-17T12:04:47Z</dcterms:modified>
  <cp:revision>22</cp:revision>
  <dc:subject/>
  <dc:title>Update on the CDM</dc:title>
</cp:coreProperties>
</file>