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4687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8C0-2A38-4870-A7EE-13D6DAE3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97836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8F7-5AA5-4ABC-8BF7-3131A2F1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53600" y="18288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053600" y="3978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4BF2-AFA4-44FF-9B29-C3FD63E0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778120" y="182880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251320" y="182880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97836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778120" y="397836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251320" y="397836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71F-8F58-47C8-83A7-E0094887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E45F-1A47-40BB-B22B-990FA334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804-224B-4108-888C-E6C19CE6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53600" y="182880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294-4762-4ADA-BF9F-E5AD3832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F07-9CDF-4D8A-9311-5880743F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5331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436A-47E9-492C-A160-CE2B2609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53600" y="182880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C65-0B37-4EF4-8B8E-DA37227F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53600" y="18288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053600" y="3978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41C-5576-4D5D-A6FA-5081A207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53600" y="18288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185C-BB80-4E39-B4E9-2C4048C3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84872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848720" y="0"/>
            <a:ext cx="1527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3808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47600" indent="-285480">
              <a:spcBef>
                <a:spcPts val="700"/>
              </a:spcBef>
              <a:buClr>
                <a:srgbClr val="000000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467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8860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3050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3050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3050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7E0E-ED0C-46EB-A152-E93BBF66139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Joint Implementation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y the Netherl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22860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Maurits Henkema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Ministry of Economic Affai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Netherl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6-5-2004  Mosc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Dutch Approach to J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8120" indent="-3502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rst track J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untry in compliance art 5.7 and 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8120" indent="-3502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ond track J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idation by Independent Ent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ccreditation IE by Supervisory Bo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8120" indent="-3502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utch approach start with JI Second then first  tr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I Credits before 2008 change in AA 2008/2012 use Trading art 1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Why start with JI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3808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olitical more attractive to start with real pro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for Russian Compani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vestor countries get used to decision structure in Russ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3808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Dutch and EU companies and Governments interested i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- Gas and Oil from Russ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- Interested in JI cre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vestment in Energy secto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I and GIS can help Russian Compan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Quick decisions needed otherwise money goes to CD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425520"/>
          <a:ext cx="7315200" cy="5472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25520"/>
                    <a:ext cx="731520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ro’s and Con’s for JI in Russ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 clear counterp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37692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 instit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37692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vestment climate not posi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37692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ig JI potent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37692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ositive for Russian Compan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37692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eign interest for J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1240" indent="-37692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U trading demand for JI not E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More info about Dutch JI and             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DM and ET policy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www.carboncredits.n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l.j.m.blansonhenkemans@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minez.n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o is buying?</a:t>
            </a:r>
            <a:br>
              <a:rPr sz="3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percent of volume purcha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16893" b="0"/>
          <a:stretch/>
        </p:blipFill>
        <p:spPr>
          <a:xfrm>
            <a:off x="-252360" y="938160"/>
            <a:ext cx="7197840" cy="5919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7360" y="4648320"/>
            <a:ext cx="568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8920" y="6165720"/>
            <a:ext cx="147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002-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Intended realisation by the Netherl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90240" indent="0">
              <a:spcBef>
                <a:spcPts val="499"/>
              </a:spcBef>
              <a:buNone/>
              <a:tabLst>
                <a:tab algn="l" pos="0"/>
                <a:tab algn="ctr" pos="4127400"/>
                <a:tab algn="ctr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strumen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acte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lan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0240" indent="-312120">
              <a:spcBef>
                <a:spcPts val="4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ctr" pos="4127400"/>
                <a:tab algn="ctr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upt1-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0240" indent="-312120">
              <a:spcBef>
                <a:spcPts val="4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ctr" pos="4127400"/>
                <a:tab algn="ctr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rupt       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0240" indent="0">
              <a:spcBef>
                <a:spcPts val="499"/>
              </a:spcBef>
              <a:buNone/>
              <a:tabLst>
                <a:tab algn="l" pos="0"/>
                <a:tab algn="ctr" pos="4127400"/>
                <a:tab algn="ctr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 Instit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0240" indent="0">
              <a:spcBef>
                <a:spcPts val="499"/>
              </a:spcBef>
              <a:buNone/>
              <a:tabLst>
                <a:tab algn="l" pos="0"/>
                <a:tab algn="ctr" pos="4127400"/>
                <a:tab algn="ctr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F (CDM)     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0240" indent="0">
              <a:spcBef>
                <a:spcPts val="499"/>
              </a:spcBef>
              <a:buNone/>
              <a:tabLst>
                <a:tab algn="l" pos="0"/>
                <a:tab algn="ctr" pos="4127400"/>
                <a:tab algn="ctr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B (PCF/IFC) CDM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0240" indent="0">
              <a:spcBef>
                <a:spcPts val="499"/>
              </a:spcBef>
              <a:buNone/>
              <a:tabLst>
                <a:tab algn="l" pos="0"/>
                <a:tab algn="ctr" pos="4127400"/>
                <a:tab algn="ctr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BRD (JI)       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0240" indent="0">
              <a:spcBef>
                <a:spcPts val="499"/>
              </a:spcBef>
              <a:buNone/>
              <a:tabLst>
                <a:tab algn="l" pos="0"/>
                <a:tab algn="ctr" pos="4127400"/>
                <a:tab algn="ctr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abo CDM     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0240" indent="0">
              <a:spcBef>
                <a:spcPts val="499"/>
              </a:spcBef>
              <a:buNone/>
              <a:tabLst>
                <a:tab algn="l" pos="0"/>
                <a:tab algn="ctr" pos="4127400"/>
                <a:tab algn="ctr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Part PCF CDCF          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4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0240" indent="0">
              <a:spcBef>
                <a:spcPts val="499"/>
              </a:spcBef>
              <a:buNone/>
              <a:tabLst>
                <a:tab algn="l" pos="0"/>
                <a:tab algn="ctr" pos="4127400"/>
                <a:tab algn="ctr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b Total      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0240" indent="0">
              <a:spcBef>
                <a:spcPts val="499"/>
              </a:spcBef>
              <a:buNone/>
              <a:tabLst>
                <a:tab algn="l" pos="0"/>
                <a:tab algn="ctr" pos="4127400"/>
                <a:tab algn="ctr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0240" indent="0">
              <a:spcBef>
                <a:spcPts val="499"/>
              </a:spcBef>
              <a:buNone/>
              <a:tabLst>
                <a:tab algn="l" pos="0"/>
                <a:tab algn="ctr" pos="4127400"/>
                <a:tab algn="ctr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UPT 4/5 JI (WB) CDM option              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0240" indent="0">
              <a:spcBef>
                <a:spcPts val="700"/>
              </a:spcBef>
              <a:buNone/>
              <a:tabLst>
                <a:tab algn="l" pos="0"/>
                <a:tab algn="ctr" pos="4127400"/>
                <a:tab algn="ctr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ta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What is Needed for JI in Russia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3808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atification of Kyoto Protoc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sponsible Minister that can sign letter of Approval (before 27 Ju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plementation article 5, 7 and 8 Kyo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ortfolio of CO2 reduction Pro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ublic awareness /Transparency and Dialo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ad Time Impact on CDM and J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1195560" y="3657600"/>
            <a:ext cx="6965640" cy="533520"/>
          </a:xfrm>
          <a:prstGeom prst="flowChartProcess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5560" y="3657600"/>
            <a:ext cx="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61200" y="3657600"/>
            <a:ext cx="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3657600"/>
            <a:ext cx="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95560" y="2209680"/>
            <a:ext cx="2041200" cy="2286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95560" y="3048120"/>
            <a:ext cx="4503600" cy="2286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36760" y="2209680"/>
            <a:ext cx="4854600" cy="22860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99160" y="3048120"/>
            <a:ext cx="2392200" cy="22860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03520" y="3657600"/>
            <a:ext cx="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4480" y="495288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4720" y="5029200"/>
            <a:ext cx="8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21000" y="495288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38920" y="50292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0080" y="3657600"/>
            <a:ext cx="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06600" y="3657600"/>
            <a:ext cx="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10040" y="3657600"/>
            <a:ext cx="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03520" y="2209680"/>
            <a:ext cx="633240" cy="228600"/>
          </a:xfrm>
          <a:prstGeom prst="rect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pe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5560" y="3048120"/>
            <a:ext cx="633600" cy="228600"/>
          </a:xfrm>
          <a:prstGeom prst="rect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pe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03600" y="2133720"/>
            <a:ext cx="211320" cy="1371600"/>
          </a:xfrm>
          <a:prstGeom prst="downArrow">
            <a:avLst>
              <a:gd name="adj1" fmla="val 50000"/>
              <a:gd name="adj2" fmla="val 162266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68400" y="1752480"/>
            <a:ext cx="39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, Efficiency, Waste to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6560" y="2590920"/>
            <a:ext cx="51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 Hydro, Geothermal, Coal to Gas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4720" y="5791320"/>
            <a:ext cx="541656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cond Commitment Period Rules and Targets Need to be decided by 2006 to ensure continuity in CDM Market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55960" y="5410080"/>
            <a:ext cx="70308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573080" y="1828800"/>
            <a:ext cx="1055880" cy="60948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29320" y="152388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year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971800"/>
            <a:ext cx="119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-feas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09680"/>
            <a:ext cx="119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-feas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209680"/>
            <a:ext cx="141120" cy="228600"/>
          </a:xfrm>
          <a:prstGeom prst="diamond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84320" y="3048120"/>
            <a:ext cx="141480" cy="228600"/>
          </a:xfrm>
          <a:prstGeom prst="diamond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84840" y="5867280"/>
            <a:ext cx="139680" cy="228600"/>
          </a:xfrm>
          <a:prstGeom prst="diamond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24520" y="5791320"/>
            <a:ext cx="197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Start Co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153280" y="3657600"/>
            <a:ext cx="685800" cy="533520"/>
          </a:xfrm>
          <a:custGeom>
            <a:avLst/>
            <a:gdLst/>
            <a:ahLst/>
            <a:rect l="l" t="t" r="r" b="b"/>
            <a:pathLst>
              <a:path w="432" h="336">
                <a:moveTo>
                  <a:pt x="0" y="0"/>
                </a:moveTo>
                <a:lnTo>
                  <a:pt x="0" y="336"/>
                </a:lnTo>
                <a:lnTo>
                  <a:pt x="432" y="33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583480" y="3657600"/>
            <a:ext cx="349560" cy="533520"/>
          </a:xfrm>
          <a:custGeom>
            <a:avLst/>
            <a:gdLst/>
            <a:ahLst/>
            <a:rect l="l" t="t" r="r" b="b"/>
            <a:pathLst>
              <a:path w="220" h="336">
                <a:moveTo>
                  <a:pt x="220" y="326"/>
                </a:moveTo>
                <a:lnTo>
                  <a:pt x="220" y="0"/>
                </a:lnTo>
                <a:lnTo>
                  <a:pt x="0" y="0"/>
                </a:lnTo>
                <a:lnTo>
                  <a:pt x="192" y="336"/>
                </a:lnTo>
                <a:lnTo>
                  <a:pt x="220" y="32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Narrow"/>
              </a:rPr>
              <a:t>Following Issue’s I want to discus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Dutch climate polic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762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Dutch/Russian JI coope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762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What is needed for JI and G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762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Dutch Climate Polic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3808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et a CO2 World Market for Efficient Climate Polic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-6% CO2 red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 period 1990 - 2008/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40 Mton a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50% national instru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50% flexible instru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(JI/CDM en 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Dutch JI/CDM Programme 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6560" indent="-372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udget 200 mln EURO for  JI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n of Economic Affai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372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udget 350 mln EURO for CDM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n of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372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 accordance with EU/OECD/Kyoto r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372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arget CO2 price 3-5 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372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arget 100 Mton CO2  (35% JI/65% CD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For 100 Mton CO2 we follow five roa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8120" indent="-3502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I Buy ERU’s by ERUPT (ERU-Procurement Tend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8120" indent="-3502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DM Buy CER’s  by CERU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8120" indent="-3502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uy ERU’s and CER’s by PC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8120" indent="-3502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ract with WB/EBRD/IFC and other commercial Banks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8120" indent="-3502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national Emissions Trading (Between Governments as last resort)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8120" indent="-3502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e are well on trac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12:34:22Z</dcterms:created>
  <dc:creator>Mauits Henkemans</dc:creator>
  <dc:description/>
  <cp:keywords>joint implementation</cp:keywords>
  <dc:language>en-US</dc:language>
  <cp:lastModifiedBy>Jens Wilhelm</cp:lastModifiedBy>
  <cp:lastPrinted>2002-04-23T12:18:49Z</cp:lastPrinted>
  <dcterms:modified xsi:type="dcterms:W3CDTF">2004-09-17T11:30:16Z</dcterms:modified>
  <cp:revision>148</cp:revision>
  <dc:subject/>
  <dc:title>Joint Implementation by the Netherlands</dc:title>
</cp:coreProperties>
</file>