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474660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474660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57480" y="474660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8520" y="24379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8400" y="243792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474660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28520" y="474660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8400" y="4746600"/>
            <a:ext cx="20854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40080" y="1068480"/>
            <a:ext cx="67024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474660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57480" y="474660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57480" y="2437920"/>
            <a:ext cx="3160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4746600"/>
            <a:ext cx="647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6464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437920" y="1066680"/>
            <a:ext cx="6705720" cy="1143000"/>
            <a:chOff x="2437920" y="1066680"/>
            <a:chExt cx="6705720" cy="1143000"/>
          </a:xfrm>
        </p:grpSpPr>
        <p:sp>
          <p:nvSpPr>
            <p:cNvPr id="3" name=""/>
            <p:cNvSpPr/>
            <p:nvPr/>
          </p:nvSpPr>
          <p:spPr>
            <a:xfrm flipH="1">
              <a:off x="2437920" y="1066680"/>
              <a:ext cx="6705720" cy="0"/>
            </a:xfrm>
            <a:prstGeom prst="line">
              <a:avLst/>
            </a:prstGeom>
            <a:ln w="28440">
              <a:solidFill>
                <a:srgbClr val="0a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437920" y="2209680"/>
              <a:ext cx="6705720" cy="0"/>
            </a:xfrm>
            <a:prstGeom prst="line">
              <a:avLst/>
            </a:prstGeom>
            <a:ln w="28440">
              <a:solidFill>
                <a:srgbClr val="0a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38280" y="1066680"/>
              <a:ext cx="0" cy="1143000"/>
            </a:xfrm>
            <a:prstGeom prst="line">
              <a:avLst/>
            </a:prstGeom>
            <a:ln w="28440">
              <a:solidFill>
                <a:srgbClr val="0a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" name=""/>
          <p:cNvGraphicFramePr/>
          <p:nvPr/>
        </p:nvGraphicFramePr>
        <p:xfrm>
          <a:off x="0" y="0"/>
          <a:ext cx="8683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6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The Danish JI Program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UNFCCC Workshop on the Implementation of Article 6 projects under the Kyoto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oscow, 26-27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y Ulla Blatt Bendtsen, Chief Programme Co-ordinator, DE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868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The Danish JI Program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 3-legged strategy for purchase of carbon credits from EECCA coun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349"/>
              </a:spcAft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 pipeline of projects resulting from targeted direct project development over the last few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349"/>
              </a:spcAft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n indirect pipeline through JI/CDM funds administered by selected banks and advisor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349"/>
              </a:spcAft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 newly created JI tender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6464"/>
                </a:solidFill>
                <a:latin typeface="Arial"/>
              </a:rPr>
              <a:t>New JI Tender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roject hosts and developers are invited to express their interest at 2 level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Level 1: Expression of Interest (limited documentation, may result in an agreement on further project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Level 2: Full proposal (more extensive documentation, may result in the signing of an ERPA between the Project Host and Denma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Project examples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Examples of projects currently being implemented or under negotiation with Denmark 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Establishment of 5 biomass fired heat boilers based on waste products from wood processing in Romania (project run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District heating based on utilisation of geothermal energy in the cities of Oradea and Beius in Romania (ERPA sig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Establishment of a wind farm in Türisalu in Estonia (ERPA awaiting final approval by Estonian parlia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Extraction of landfill gas in Chisinau, Moldova (PDD has been validated, ERPA is being negoti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Indirect carbon credits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wo contracts have so far been signed with suppliers of ”indirect carbon credit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NEFCO Testing Ground Facility (DKK 18 mil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co Securities and Standard Bank ”Denmark Carbon Facility” (DKK 59 mill.) Open for private sector inves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More information on the Danish JI program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ww.mst.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ww.DanishCarbon.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Overview of Presentation</a:t>
            </a:r>
            <a:br>
              <a:rPr sz="3600"/>
            </a:b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Danish Climate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emorandum of Understa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he Danish JI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ject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Facilitating Arrangements (session 2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The Danish Climate Strategy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tion Commitment 2008-12: 21% compared to bas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ess emissions in relation to reduction commitment: 20-25 Mt CO2e/y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ate Strategy adopted March 13, 2003 by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central instru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) The EU Emission Trading Scheme, incl. Linking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) An indicator of DKK 120 (EUR 16) per tonne CO2 for domestic measures outside the activities covered by The EU Emission Trad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a6464"/>
                </a:solidFill>
                <a:latin typeface="Arial"/>
              </a:rPr>
              <a:t>Excess emissions in relation to Denmark’s reduction commitments</a:t>
            </a:r>
            <a:endParaRPr b="0" lang="en-US" sz="3200" spc="-1" strike="noStrike">
              <a:solidFill>
                <a:srgbClr val="0a6464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724120" y="2438280"/>
          <a:ext cx="5905440" cy="4419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4120" y="2438280"/>
                    <a:ext cx="59054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A lot has already been done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20% of electricity supply from renewables (wind, biomass, bio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anish CO2 quotas even before the EU 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igh fuel taxes and CO2 ta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upport  for energy efficiency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aste inci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FC Phase-ou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a6464"/>
                </a:solidFill>
                <a:latin typeface="Arial"/>
              </a:rPr>
              <a:t>Using flexible mechanisms is a win-win situation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Denmark gains economically by using a combination of domestic measures and flexible mechanisms (estimated economic gain: DKK 2-3 billion (EUR 270-400) per year in 2008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he seller gains economically from the sales of AAUs/ERUs/CERs, technology transfer through FDI, reduction in local pollutants (SO2, NOx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Prices and risks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ices for JI and CDM are lower than domestic abatement costs and lower than EUA, because of ri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Kyoto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ost country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oject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240" y="1371600"/>
            <a:ext cx="66294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a6464"/>
                </a:solidFill>
                <a:latin typeface="Arial"/>
              </a:rPr>
              <a:t>Flexible mechanisms in the Danish Climate Strategy</a:t>
            </a:r>
            <a:br>
              <a:rPr sz="3200"/>
            </a:br>
            <a:endParaRPr b="0" lang="en-US" sz="32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lexible mechanisms play a central r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 funding to facilitate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KK 130 million for Joint Implementation in 2003 and DKK 100 mill./yr. in 2004-7 for 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KK 100 mill./yr. for CDM in 2004-7 (adm. By M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buyer of emission credits will be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40080" y="1068480"/>
            <a:ext cx="67024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a6464"/>
                </a:solidFill>
                <a:latin typeface="Arial"/>
              </a:rPr>
              <a:t>Memoranda of Understanding</a:t>
            </a:r>
            <a:endParaRPr b="0" lang="en-US" sz="3600" spc="-1" strike="noStrike">
              <a:solidFill>
                <a:srgbClr val="0a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243792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ig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ulgaria, Estonia, Latvia, Moldova, Romania, Slovakia, 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a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zech Republic, Hungary, Kasakhstan, Russia,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1:33:43Z</dcterms:created>
  <dc:creator>Ulla Blatt Bendtsen</dc:creator>
  <dc:description/>
  <cp:keywords>joint implementation</cp:keywords>
  <dc:language>en-US</dc:language>
  <cp:lastModifiedBy>Jens Wilhelm</cp:lastModifiedBy>
  <cp:lastPrinted>2004-05-24T13:45:26Z</cp:lastPrinted>
  <dcterms:modified xsi:type="dcterms:W3CDTF">2004-09-17T11:17:59Z</dcterms:modified>
  <cp:revision>27</cp:revision>
  <dc:subject/>
  <dc:title>The Danish JI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8051358</vt:r8>
  </property>
  <property fmtid="{D5CDD505-2E9C-101B-9397-08002B2CF9AE}" pid="3" name="_AuthorEmail">
    <vt:lpwstr>jso@netpartner.dk</vt:lpwstr>
  </property>
  <property fmtid="{D5CDD505-2E9C-101B-9397-08002B2CF9AE}" pid="4" name="_AuthorEmailDisplayName">
    <vt:lpwstr>Jesper Sørensen</vt:lpwstr>
  </property>
  <property fmtid="{D5CDD505-2E9C-101B-9397-08002B2CF9AE}" pid="5" name="_EmailSubject">
    <vt:lpwstr>præsentationer</vt:lpwstr>
  </property>
</Properties>
</file>