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14B59-C79E-4D47-8B5B-8E6C461D57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380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DB8FC-0400-4AE1-9ACE-ACA84BCC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380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63B92-D93A-457F-AC1A-FFC7502C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380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380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380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BEE4-0935-4E2A-A411-705347EE68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881A4-C5FB-4977-BB04-33D73754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B3D64-AA45-4754-A846-6287D76D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C092F-0DAC-46A7-897B-46F12390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8D8D-66AF-46E5-863D-12E48647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E7A38-3506-4E04-930A-5F055EF1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7EB08-3623-491D-84D0-23BE56BF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380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62DCE-6238-4D44-B2D8-D33007CA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90A2-AA57-469F-B770-FCC090D8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3040" y="4125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First UNFCCC Workshop on the implementation of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JI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projects under Article 6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of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the Kyoto Protocol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Moscow,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26-27 May, 2004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osal on procedures of registration and implementation of JI projects in Russian Fede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51040" y="4941720"/>
            <a:ext cx="3810240" cy="113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DAE49-7269-43EA-8CC7-3934DAC72CC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unctions of specialized ag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3640" y="1066320"/>
            <a:ext cx="8064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1400"/>
              </a:spcAft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Forming of Integrated projects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block of similar small-scale projec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1400"/>
              </a:spcAft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Arrangements of tender for selection of consultants to be hired for PDD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1400"/>
              </a:spcAft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Tender for management company assig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1400"/>
              </a:spcAft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Accreditation of verification ent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1400"/>
              </a:spcAft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Control and accounting arrang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399440" y="6240600"/>
            <a:ext cx="1439640" cy="42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2F7F0-1671-46AF-A762-735C6AABBF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0280" y="208080"/>
            <a:ext cx="814536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indings and recommend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1920" y="1114560"/>
            <a:ext cx="82119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Clear and transparent national procedure defining responsibilities of the “players” is critical for complex process of international cooperation under Article 6 of the Kyoto Protoc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Best international practice should be used for improvement of JI projects preparation and implementation procedu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Activity of the Russian Interagency Commission on climate change should be strengthened in order to co-ordinate inter-sector activity as well as to take into account variety of interests of stakeholders 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Commission could act as Authorized National JI focal point)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Specialized agency should be charged with regulation and management of the Integrated JI projects and relevant investment activit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6480" y="6240600"/>
            <a:ext cx="1389240" cy="41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12BE5-5BE3-4613-8CF7-C2C41BE8796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54920" cy="30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ina Dragan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tynova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, Vladimir Maxim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vironment &amp; Carbon Management Departmen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cy for Direct Inves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dragan@ag-di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maximov@ag-di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 site: www.ecofinance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06760" y="5211720"/>
            <a:ext cx="3809880" cy="11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6C307-FBDE-40FB-ABC7-F3D1F4ABF499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JI projects development: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benefits for Rus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79440"/>
            <a:ext cx="82756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1400"/>
              </a:spcBef>
              <a:spcAft>
                <a:spcPts val="524"/>
              </a:spcAft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Real GHG reduction under conditions of economic growth; GNP’s power intensity decre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1400"/>
              </a:spcBef>
              <a:spcAft>
                <a:spcPts val="524"/>
              </a:spcAft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Macro economical cost saving of GHG reduction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based on  results of cost curve analysis 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1400"/>
              </a:spcBef>
              <a:spcAft>
                <a:spcPts val="524"/>
              </a:spcAft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Promotion of environmental activity and inno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1400"/>
              </a:spcBef>
              <a:spcAft>
                <a:spcPts val="524"/>
              </a:spcAft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Extra ecological, social and economical benefits from JI projects implemented with public financial support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1400"/>
              </a:spcBef>
              <a:spcAft>
                <a:spcPts val="524"/>
              </a:spcAft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Observance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of the obligations on stabilization of GHG emission beyond the bound of the first commitment peri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16720" y="6197760"/>
            <a:ext cx="1501920" cy="44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0793-F84E-4164-AAAE-D889086A661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flipH="1">
            <a:off x="8618400" y="3568680"/>
            <a:ext cx="316080" cy="4111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18400" y="3571920"/>
            <a:ext cx="914400" cy="190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3581280"/>
            <a:ext cx="914400" cy="190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duction of GHG emission in 2008-2012 due to JI project implementation creates  ground for  stabilization of GHG emission in further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98108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48640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581280"/>
            <a:ext cx="384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581280"/>
            <a:ext cx="4038480" cy="685800"/>
          </a:xfrm>
          <a:custGeom>
            <a:avLst/>
            <a:gdLst/>
            <a:ahLst/>
            <a:rect l="l" t="t" r="r" b="b"/>
            <a:pathLst>
              <a:path w="2544" h="432">
                <a:moveTo>
                  <a:pt x="0" y="0"/>
                </a:moveTo>
                <a:cubicBezTo>
                  <a:pt x="76" y="88"/>
                  <a:pt x="152" y="176"/>
                  <a:pt x="240" y="240"/>
                </a:cubicBezTo>
                <a:cubicBezTo>
                  <a:pt x="328" y="304"/>
                  <a:pt x="416" y="352"/>
                  <a:pt x="528" y="384"/>
                </a:cubicBezTo>
                <a:cubicBezTo>
                  <a:pt x="640" y="416"/>
                  <a:pt x="800" y="432"/>
                  <a:pt x="912" y="432"/>
                </a:cubicBezTo>
                <a:cubicBezTo>
                  <a:pt x="1024" y="432"/>
                  <a:pt x="1104" y="408"/>
                  <a:pt x="1200" y="384"/>
                </a:cubicBezTo>
                <a:cubicBezTo>
                  <a:pt x="1296" y="360"/>
                  <a:pt x="1376" y="328"/>
                  <a:pt x="1488" y="288"/>
                </a:cubicBezTo>
                <a:cubicBezTo>
                  <a:pt x="1600" y="248"/>
                  <a:pt x="1744" y="184"/>
                  <a:pt x="1872" y="144"/>
                </a:cubicBezTo>
                <a:cubicBezTo>
                  <a:pt x="2000" y="104"/>
                  <a:pt x="2144" y="64"/>
                  <a:pt x="2256" y="48"/>
                </a:cubicBezTo>
                <a:cubicBezTo>
                  <a:pt x="2368" y="32"/>
                  <a:pt x="2496" y="48"/>
                  <a:pt x="2544" y="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7432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205740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548640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3657600"/>
            <a:ext cx="3429000" cy="685800"/>
          </a:xfrm>
          <a:custGeom>
            <a:avLst/>
            <a:gdLst/>
            <a:ahLst/>
            <a:rect l="l" t="t" r="r" b="b"/>
            <a:pathLst>
              <a:path w="2544" h="432">
                <a:moveTo>
                  <a:pt x="0" y="0"/>
                </a:moveTo>
                <a:cubicBezTo>
                  <a:pt x="76" y="88"/>
                  <a:pt x="152" y="176"/>
                  <a:pt x="240" y="240"/>
                </a:cubicBezTo>
                <a:cubicBezTo>
                  <a:pt x="328" y="304"/>
                  <a:pt x="416" y="352"/>
                  <a:pt x="528" y="384"/>
                </a:cubicBezTo>
                <a:cubicBezTo>
                  <a:pt x="640" y="416"/>
                  <a:pt x="800" y="432"/>
                  <a:pt x="912" y="432"/>
                </a:cubicBezTo>
                <a:cubicBezTo>
                  <a:pt x="1024" y="432"/>
                  <a:pt x="1104" y="408"/>
                  <a:pt x="1200" y="384"/>
                </a:cubicBezTo>
                <a:cubicBezTo>
                  <a:pt x="1296" y="360"/>
                  <a:pt x="1376" y="328"/>
                  <a:pt x="1488" y="288"/>
                </a:cubicBezTo>
                <a:cubicBezTo>
                  <a:pt x="1600" y="248"/>
                  <a:pt x="1744" y="184"/>
                  <a:pt x="1872" y="144"/>
                </a:cubicBezTo>
                <a:cubicBezTo>
                  <a:pt x="2000" y="104"/>
                  <a:pt x="2144" y="64"/>
                  <a:pt x="2256" y="48"/>
                </a:cubicBezTo>
                <a:cubicBezTo>
                  <a:pt x="2368" y="32"/>
                  <a:pt x="2496" y="48"/>
                  <a:pt x="2544" y="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162920" y="320040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35812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3924360"/>
            <a:ext cx="1676160" cy="355680"/>
          </a:xfrm>
          <a:custGeom>
            <a:avLst/>
            <a:gdLst/>
            <a:ahLst/>
            <a:rect l="l" t="t" r="r" b="b"/>
            <a:pathLst>
              <a:path w="1056" h="224">
                <a:moveTo>
                  <a:pt x="0" y="216"/>
                </a:moveTo>
                <a:cubicBezTo>
                  <a:pt x="48" y="220"/>
                  <a:pt x="96" y="224"/>
                  <a:pt x="144" y="216"/>
                </a:cubicBezTo>
                <a:cubicBezTo>
                  <a:pt x="192" y="208"/>
                  <a:pt x="200" y="200"/>
                  <a:pt x="288" y="168"/>
                </a:cubicBezTo>
                <a:cubicBezTo>
                  <a:pt x="376" y="136"/>
                  <a:pt x="544" y="48"/>
                  <a:pt x="672" y="24"/>
                </a:cubicBezTo>
                <a:cubicBezTo>
                  <a:pt x="800" y="0"/>
                  <a:pt x="984" y="24"/>
                  <a:pt x="1056" y="2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14800" y="3562200"/>
            <a:ext cx="1062000" cy="516240"/>
          </a:xfrm>
          <a:custGeom>
            <a:avLst/>
            <a:gdLst/>
            <a:ahLst/>
            <a:rect l="l" t="t" r="r" b="b"/>
            <a:pathLst>
              <a:path w="669" h="325">
                <a:moveTo>
                  <a:pt x="93" y="0"/>
                </a:moveTo>
                <a:lnTo>
                  <a:pt x="669" y="6"/>
                </a:lnTo>
                <a:lnTo>
                  <a:pt x="663" y="96"/>
                </a:lnTo>
                <a:cubicBezTo>
                  <a:pt x="653" y="98"/>
                  <a:pt x="641" y="96"/>
                  <a:pt x="633" y="102"/>
                </a:cubicBezTo>
                <a:cubicBezTo>
                  <a:pt x="628" y="106"/>
                  <a:pt x="627" y="120"/>
                  <a:pt x="627" y="120"/>
                </a:cubicBezTo>
                <a:lnTo>
                  <a:pt x="561" y="126"/>
                </a:lnTo>
                <a:lnTo>
                  <a:pt x="507" y="144"/>
                </a:lnTo>
                <a:lnTo>
                  <a:pt x="441" y="162"/>
                </a:lnTo>
                <a:lnTo>
                  <a:pt x="369" y="174"/>
                </a:lnTo>
                <a:lnTo>
                  <a:pt x="297" y="216"/>
                </a:lnTo>
                <a:lnTo>
                  <a:pt x="243" y="234"/>
                </a:lnTo>
                <a:lnTo>
                  <a:pt x="171" y="264"/>
                </a:lnTo>
                <a:lnTo>
                  <a:pt x="111" y="288"/>
                </a:lnTo>
                <a:cubicBezTo>
                  <a:pt x="0" y="325"/>
                  <a:pt x="93" y="300"/>
                  <a:pt x="93" y="0"/>
                </a:cubicBezTo>
                <a:close/>
              </a:path>
            </a:pathLst>
          </a:custGeom>
          <a:solidFill>
            <a:srgbClr val="0099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15080" y="3591000"/>
            <a:ext cx="1024200" cy="477720"/>
          </a:xfrm>
          <a:custGeom>
            <a:avLst/>
            <a:gdLst/>
            <a:ahLst/>
            <a:rect l="l" t="t" r="r" b="b"/>
            <a:pathLst>
              <a:path w="669" h="325">
                <a:moveTo>
                  <a:pt x="93" y="0"/>
                </a:moveTo>
                <a:lnTo>
                  <a:pt x="669" y="6"/>
                </a:lnTo>
                <a:lnTo>
                  <a:pt x="663" y="96"/>
                </a:lnTo>
                <a:cubicBezTo>
                  <a:pt x="653" y="98"/>
                  <a:pt x="641" y="96"/>
                  <a:pt x="633" y="102"/>
                </a:cubicBezTo>
                <a:cubicBezTo>
                  <a:pt x="628" y="106"/>
                  <a:pt x="627" y="120"/>
                  <a:pt x="627" y="120"/>
                </a:cubicBezTo>
                <a:lnTo>
                  <a:pt x="561" y="126"/>
                </a:lnTo>
                <a:lnTo>
                  <a:pt x="507" y="144"/>
                </a:lnTo>
                <a:lnTo>
                  <a:pt x="441" y="162"/>
                </a:lnTo>
                <a:lnTo>
                  <a:pt x="369" y="174"/>
                </a:lnTo>
                <a:lnTo>
                  <a:pt x="297" y="216"/>
                </a:lnTo>
                <a:lnTo>
                  <a:pt x="243" y="234"/>
                </a:lnTo>
                <a:lnTo>
                  <a:pt x="171" y="264"/>
                </a:lnTo>
                <a:lnTo>
                  <a:pt x="111" y="288"/>
                </a:lnTo>
                <a:cubicBezTo>
                  <a:pt x="0" y="325"/>
                  <a:pt x="93" y="300"/>
                  <a:pt x="93" y="0"/>
                </a:cubicBezTo>
                <a:close/>
              </a:path>
            </a:pathLst>
          </a:custGeom>
          <a:solidFill>
            <a:srgbClr val="0099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24880" y="3733920"/>
            <a:ext cx="904680" cy="419040"/>
          </a:xfrm>
          <a:custGeom>
            <a:avLst/>
            <a:gdLst/>
            <a:ahLst/>
            <a:rect l="l" t="t" r="r" b="b"/>
            <a:pathLst>
              <a:path w="570" h="264">
                <a:moveTo>
                  <a:pt x="570" y="0"/>
                </a:moveTo>
                <a:cubicBezTo>
                  <a:pt x="570" y="44"/>
                  <a:pt x="570" y="88"/>
                  <a:pt x="570" y="132"/>
                </a:cubicBezTo>
                <a:cubicBezTo>
                  <a:pt x="520" y="115"/>
                  <a:pt x="558" y="126"/>
                  <a:pt x="450" y="126"/>
                </a:cubicBezTo>
                <a:cubicBezTo>
                  <a:pt x="416" y="128"/>
                  <a:pt x="370" y="129"/>
                  <a:pt x="348" y="132"/>
                </a:cubicBezTo>
                <a:cubicBezTo>
                  <a:pt x="320" y="136"/>
                  <a:pt x="312" y="150"/>
                  <a:pt x="288" y="162"/>
                </a:cubicBezTo>
                <a:cubicBezTo>
                  <a:pt x="282" y="165"/>
                  <a:pt x="270" y="168"/>
                  <a:pt x="270" y="168"/>
                </a:cubicBezTo>
                <a:lnTo>
                  <a:pt x="216" y="162"/>
                </a:lnTo>
                <a:lnTo>
                  <a:pt x="162" y="186"/>
                </a:lnTo>
                <a:lnTo>
                  <a:pt x="126" y="204"/>
                </a:lnTo>
                <a:lnTo>
                  <a:pt x="78" y="216"/>
                </a:lnTo>
                <a:lnTo>
                  <a:pt x="42" y="240"/>
                </a:lnTo>
                <a:lnTo>
                  <a:pt x="0" y="264"/>
                </a:lnTo>
                <a:cubicBezTo>
                  <a:pt x="0" y="240"/>
                  <a:pt x="0" y="216"/>
                  <a:pt x="0" y="192"/>
                </a:cubicBezTo>
                <a:lnTo>
                  <a:pt x="132" y="150"/>
                </a:lnTo>
                <a:lnTo>
                  <a:pt x="204" y="114"/>
                </a:lnTo>
                <a:lnTo>
                  <a:pt x="246" y="102"/>
                </a:lnTo>
                <a:lnTo>
                  <a:pt x="300" y="78"/>
                </a:lnTo>
                <a:lnTo>
                  <a:pt x="336" y="66"/>
                </a:lnTo>
                <a:lnTo>
                  <a:pt x="372" y="66"/>
                </a:lnTo>
                <a:lnTo>
                  <a:pt x="444" y="36"/>
                </a:lnTo>
                <a:lnTo>
                  <a:pt x="510" y="30"/>
                </a:lnTo>
                <a:lnTo>
                  <a:pt x="570" y="0"/>
                </a:lnTo>
                <a:close/>
              </a:path>
            </a:pathLst>
          </a:custGeom>
          <a:solidFill>
            <a:srgbClr val="ff993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9120" y="5540400"/>
            <a:ext cx="806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1990                 2000     2008-2012              1990                 2000    2008-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4390920"/>
            <a:ext cx="15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8175240" y="3873600"/>
            <a:ext cx="304920" cy="555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856720" y="3298680"/>
            <a:ext cx="0" cy="27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820000" y="328140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397944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62000" y="2333520"/>
            <a:ext cx="35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Emission level without JI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8560" y="234792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Emission level with JI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2955960"/>
            <a:ext cx="182520" cy="8841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31240" y="3017880"/>
            <a:ext cx="274680" cy="9745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32720" y="6267600"/>
            <a:ext cx="1298520" cy="38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BCB1-77A2-4CCD-B44E-AF32E3A71C8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207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unctions of public administration in JI projects implementation proced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45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Registration of JI proj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Accreditation of specialized companies rendering  services on verification of GHG reduction under JI projects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State guarantees for offsets generated by JI project during the first budget period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Registration of ERU’s transfer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Accounting and control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Transactions with state  reserve of AAU including transactions with AAU’s  surpl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375680" y="6200640"/>
            <a:ext cx="1371600" cy="40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10D11-9792-4A07-ADA0-95CAEE1456A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7680" y="-360"/>
            <a:ext cx="818496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akeholders activity in JI projects preparation circle (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579600" y="1600200"/>
            <a:ext cx="2895480" cy="9907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Inve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1600200"/>
            <a:ext cx="2819520" cy="9907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3086280"/>
            <a:ext cx="1752840" cy="685800"/>
          </a:xfrm>
          <a:prstGeom prst="flowChartPunchedTape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endCxn id="82" idx="1"/>
          </p:cNvCxnSpPr>
          <p:nvPr/>
        </p:nvCxnSpPr>
        <p:spPr>
          <a:xfrm flipH="1" rot="16200000">
            <a:off x="2571840" y="2647800"/>
            <a:ext cx="800640" cy="762480"/>
          </a:xfrm>
          <a:prstGeom prst="bentConnector2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84" name=""/>
          <p:cNvSpPr txBox="1"/>
          <p:nvPr/>
        </p:nvSpPr>
        <p:spPr>
          <a:xfrm>
            <a:off x="3276360" y="4467240"/>
            <a:ext cx="1905120" cy="545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85" name=""/>
          <p:cNvCxnSpPr>
            <a:stCxn id="82" idx="3"/>
          </p:cNvCxnSpPr>
          <p:nvPr/>
        </p:nvCxnSpPr>
        <p:spPr>
          <a:xfrm flipV="1">
            <a:off x="5105520" y="2628720"/>
            <a:ext cx="800640" cy="800640"/>
          </a:xfrm>
          <a:prstGeom prst="bentConnector2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1" idx="2"/>
            <a:endCxn id="84" idx="3"/>
          </p:cNvCxnSpPr>
          <p:nvPr/>
        </p:nvCxnSpPr>
        <p:spPr>
          <a:xfrm rot="5400000">
            <a:off x="4849200" y="2922480"/>
            <a:ext cx="2149920" cy="1486800"/>
          </a:xfrm>
          <a:prstGeom prst="bent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endCxn id="80" idx="2"/>
          </p:cNvCxnSpPr>
          <p:nvPr/>
        </p:nvCxnSpPr>
        <p:spPr>
          <a:xfrm flipV="1" rot="16200000">
            <a:off x="1474200" y="3142440"/>
            <a:ext cx="2400840" cy="1296360"/>
          </a:xfrm>
          <a:prstGeom prst="bentConnector3">
            <a:avLst>
              <a:gd name="adj1" fmla="val 0"/>
            </a:avLst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292560" y="4937040"/>
            <a:ext cx="1904760" cy="1143000"/>
          </a:xfrm>
          <a:prstGeom prst="flowChartPunchedTape">
            <a:avLst/>
          </a:prstGeom>
          <a:solidFill>
            <a:srgbClr val="99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Letter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7223040" y="2606400"/>
            <a:ext cx="15840" cy="249876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91" idx="1"/>
            <a:endCxn id="88" idx="3"/>
          </p:cNvCxnSpPr>
          <p:nvPr/>
        </p:nvCxnSpPr>
        <p:spPr>
          <a:xfrm rot="10800000">
            <a:off x="5196600" y="5508000"/>
            <a:ext cx="686520" cy="1080"/>
          </a:xfrm>
          <a:prstGeom prst="bentConnector2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883120" y="5045040"/>
            <a:ext cx="2590920" cy="927000"/>
          </a:xfrm>
          <a:prstGeom prst="flowChartProcess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Author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national JI foc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39920" y="4862520"/>
            <a:ext cx="381240" cy="3049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009900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D773F-5687-4893-8A9A-F353492221C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akeholders activity in JI projects preparation circle (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69960" y="1371600"/>
            <a:ext cx="2362320" cy="685800"/>
          </a:xfrm>
          <a:prstGeom prst="flowChartProcess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ve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1371600"/>
            <a:ext cx="2362320" cy="685800"/>
          </a:xfrm>
          <a:prstGeom prst="flowChartProcess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68560" y="2286000"/>
            <a:ext cx="2940120" cy="1328760"/>
          </a:xfrm>
          <a:prstGeom prst="flowChartPunchedTape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Decision to start J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preparation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4" idx="2"/>
            <a:endCxn id="96" idx="1"/>
          </p:cNvCxnSpPr>
          <p:nvPr/>
        </p:nvCxnSpPr>
        <p:spPr>
          <a:xfrm flipH="1" rot="16200000">
            <a:off x="1512720" y="2395080"/>
            <a:ext cx="894600" cy="218160"/>
          </a:xfrm>
          <a:prstGeom prst="bent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96" idx="3"/>
            <a:endCxn id="95" idx="1"/>
          </p:cNvCxnSpPr>
          <p:nvPr/>
        </p:nvCxnSpPr>
        <p:spPr>
          <a:xfrm flipV="1">
            <a:off x="5008680" y="1714320"/>
            <a:ext cx="1087920" cy="1236960"/>
          </a:xfrm>
          <a:prstGeom prst="bentConnector3">
            <a:avLst>
              <a:gd name="adj1" fmla="val 49917"/>
            </a:avLst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 txBox="1"/>
          <p:nvPr/>
        </p:nvSpPr>
        <p:spPr>
          <a:xfrm>
            <a:off x="1218960" y="4510800"/>
            <a:ext cx="3740400" cy="9766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Project Design Docum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(P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0" name=""/>
          <p:cNvCxnSpPr>
            <a:stCxn id="99" idx="1"/>
            <a:endCxn id="94" idx="1"/>
          </p:cNvCxnSpPr>
          <p:nvPr/>
        </p:nvCxnSpPr>
        <p:spPr>
          <a:xfrm rot="10800000">
            <a:off x="669240" y="1713960"/>
            <a:ext cx="550080" cy="3285000"/>
          </a:xfrm>
          <a:prstGeom prst="bentConnector3">
            <a:avLst>
              <a:gd name="adj1" fmla="val 141584"/>
            </a:avLst>
          </a:prstGeom>
          <a:ln w="0">
            <a:noFill/>
          </a:ln>
        </p:spPr>
      </p:cxnSp>
      <p:cxnSp>
        <p:nvCxnSpPr>
          <p:cNvPr id="101" name=""/>
          <p:cNvCxnSpPr>
            <a:stCxn id="94" idx="1"/>
            <a:endCxn id="99" idx="1"/>
          </p:cNvCxnSpPr>
          <p:nvPr/>
        </p:nvCxnSpPr>
        <p:spPr>
          <a:xfrm flipH="1" flipV="1" rot="10800000">
            <a:off x="669600" y="1713600"/>
            <a:ext cx="550080" cy="3285000"/>
          </a:xfrm>
          <a:prstGeom prst="bentConnector3">
            <a:avLst>
              <a:gd name="adj1" fmla="val -4158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6400800" y="4267080"/>
            <a:ext cx="2438280" cy="1219320"/>
          </a:xfrm>
          <a:prstGeom prst="flowChartProcess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developer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29600" y="2057400"/>
            <a:ext cx="0" cy="22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019920"/>
            <a:ext cx="7680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Option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1 –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  enterprise is a 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*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Option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2  -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specialized company is a 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2" idx="1"/>
            <a:endCxn id="99" idx="3"/>
          </p:cNvCxnSpPr>
          <p:nvPr/>
        </p:nvCxnSpPr>
        <p:spPr>
          <a:xfrm flipV="1" rot="10800000">
            <a:off x="5562000" y="4875480"/>
            <a:ext cx="838800" cy="12240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867280" y="2514600"/>
            <a:ext cx="2194200" cy="914400"/>
          </a:xfrm>
          <a:prstGeom prst="flowChartProcess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Authorized 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JI foc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83120" y="313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31082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F7149-2253-4FDB-A1A3-A6DDED12E3D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akeholders activity in JI projects preparation circle (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440" y="1294920"/>
            <a:ext cx="2438280" cy="6858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Inves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1295280"/>
            <a:ext cx="2438280" cy="685800"/>
          </a:xfrm>
          <a:prstGeom prst="flowChartProcess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0" idx="2"/>
          </p:cNvCxnSpPr>
          <p:nvPr/>
        </p:nvCxnSpPr>
        <p:spPr>
          <a:xfrm flipH="1" rot="16200000">
            <a:off x="2219040" y="1666440"/>
            <a:ext cx="428040" cy="1056240"/>
          </a:xfrm>
          <a:prstGeom prst="bentConnector2">
            <a:avLst/>
          </a:prstGeom>
          <a:ln w="0">
            <a:noFill/>
          </a:ln>
        </p:spPr>
      </p:cxnSp>
      <p:cxnSp>
        <p:nvCxnSpPr>
          <p:cNvPr id="113" name=""/>
          <p:cNvCxnSpPr>
            <a:stCxn id="110" idx="2"/>
            <a:endCxn id="114" idx="1"/>
          </p:cNvCxnSpPr>
          <p:nvPr/>
        </p:nvCxnSpPr>
        <p:spPr>
          <a:xfrm flipH="1" rot="16200000">
            <a:off x="2363040" y="1521360"/>
            <a:ext cx="428040" cy="13464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1" idx="2"/>
            <a:endCxn id="114" idx="3"/>
          </p:cNvCxnSpPr>
          <p:nvPr/>
        </p:nvCxnSpPr>
        <p:spPr>
          <a:xfrm rot="5400000">
            <a:off x="6526440" y="1543680"/>
            <a:ext cx="428040" cy="13024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324480" y="4495680"/>
            <a:ext cx="2592360" cy="1447920"/>
          </a:xfrm>
          <a:prstGeom prst="flowChartMultidocumen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P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60880" y="3413160"/>
            <a:ext cx="2819160" cy="838080"/>
          </a:xfrm>
          <a:prstGeom prst="flowChartProcess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Valid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independent entity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4" idx="2"/>
            <a:endCxn id="117" idx="0"/>
          </p:cNvCxnSpPr>
          <p:nvPr/>
        </p:nvCxnSpPr>
        <p:spPr>
          <a:xfrm>
            <a:off x="4669920" y="3164040"/>
            <a:ext cx="1080" cy="249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80880" y="3108240"/>
            <a:ext cx="2482920" cy="1209600"/>
          </a:xfrm>
          <a:prstGeom prst="flowChartPunchedTape">
            <a:avLst/>
          </a:prstGeom>
          <a:solidFill>
            <a:srgbClr val="cc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0"/>
            <a:endCxn id="110" idx="1"/>
          </p:cNvCxnSpPr>
          <p:nvPr/>
        </p:nvCxnSpPr>
        <p:spPr>
          <a:xfrm flipV="1" rot="16200000">
            <a:off x="358560" y="1964520"/>
            <a:ext cx="1591200" cy="937440"/>
          </a:xfrm>
          <a:prstGeom prst="bentConnector4">
            <a:avLst>
              <a:gd name="adj1" fmla="val 42996"/>
              <a:gd name="adj2" fmla="val 124394"/>
            </a:avLst>
          </a:prstGeom>
          <a:ln w="0">
            <a:noFill/>
          </a:ln>
        </p:spPr>
      </p:cxnSp>
      <p:cxnSp>
        <p:nvCxnSpPr>
          <p:cNvPr id="121" name=""/>
          <p:cNvCxnSpPr>
            <a:stCxn id="119" idx="0"/>
            <a:endCxn id="110" idx="1"/>
          </p:cNvCxnSpPr>
          <p:nvPr/>
        </p:nvCxnSpPr>
        <p:spPr>
          <a:xfrm flipV="1" rot="16200000">
            <a:off x="358560" y="1964520"/>
            <a:ext cx="1591200" cy="937440"/>
          </a:xfrm>
          <a:prstGeom prst="bentConnector4">
            <a:avLst>
              <a:gd name="adj1" fmla="val 42996"/>
              <a:gd name="adj2" fmla="val 12439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1" idx="2"/>
            <a:endCxn id="116" idx="0"/>
          </p:cNvCxnSpPr>
          <p:nvPr/>
        </p:nvCxnSpPr>
        <p:spPr>
          <a:xfrm flipH="1" rot="16200000">
            <a:off x="6248160" y="3123000"/>
            <a:ext cx="2515320" cy="23076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123" name=""/>
          <p:cNvCxnSpPr>
            <a:stCxn id="111" idx="2"/>
            <a:endCxn id="116" idx="0"/>
          </p:cNvCxnSpPr>
          <p:nvPr/>
        </p:nvCxnSpPr>
        <p:spPr>
          <a:xfrm>
            <a:off x="7391160" y="1980720"/>
            <a:ext cx="230760" cy="25153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4" name=""/>
          <p:cNvCxnSpPr>
            <a:stCxn id="111" idx="2"/>
            <a:endCxn id="116" idx="0"/>
          </p:cNvCxnSpPr>
          <p:nvPr/>
        </p:nvCxnSpPr>
        <p:spPr>
          <a:xfrm flipH="1" rot="16200000">
            <a:off x="6248160" y="3123000"/>
            <a:ext cx="2515320" cy="230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5" name=""/>
          <p:cNvCxnSpPr>
            <a:endCxn id="117" idx="1"/>
          </p:cNvCxnSpPr>
          <p:nvPr/>
        </p:nvCxnSpPr>
        <p:spPr>
          <a:xfrm rot="10800000">
            <a:off x="3260160" y="3831480"/>
            <a:ext cx="2896200" cy="1486800"/>
          </a:xfrm>
          <a:prstGeom prst="bentConnector3">
            <a:avLst>
              <a:gd name="adj1" fmla="val 107881"/>
            </a:avLst>
          </a:prstGeom>
          <a:ln w="0">
            <a:noFill/>
          </a:ln>
        </p:spPr>
      </p:cxnSp>
      <p:cxnSp>
        <p:nvCxnSpPr>
          <p:cNvPr id="126" name=""/>
          <p:cNvCxnSpPr>
            <a:stCxn id="116" idx="1"/>
            <a:endCxn id="117" idx="2"/>
          </p:cNvCxnSpPr>
          <p:nvPr/>
        </p:nvCxnSpPr>
        <p:spPr>
          <a:xfrm rot="10800000">
            <a:off x="4669560" y="4250520"/>
            <a:ext cx="1654920" cy="9691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7" idx="1"/>
            <a:endCxn id="119" idx="3"/>
          </p:cNvCxnSpPr>
          <p:nvPr/>
        </p:nvCxnSpPr>
        <p:spPr>
          <a:xfrm rot="10800000">
            <a:off x="2863080" y="3712320"/>
            <a:ext cx="397800" cy="1198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128" name=""/>
          <p:cNvCxnSpPr>
            <a:stCxn id="117" idx="1"/>
            <a:endCxn id="119" idx="3"/>
          </p:cNvCxnSpPr>
          <p:nvPr/>
        </p:nvCxnSpPr>
        <p:spPr>
          <a:xfrm rot="10800000">
            <a:off x="2863080" y="3712320"/>
            <a:ext cx="397800" cy="119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95440" y="5029200"/>
            <a:ext cx="2484360" cy="914400"/>
          </a:xfrm>
          <a:prstGeom prst="flowChartProcess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Authorized 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JI foc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4205160"/>
            <a:ext cx="0" cy="824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078000" y="5562720"/>
            <a:ext cx="3246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60880" y="1660680"/>
            <a:ext cx="2819160" cy="1493640"/>
          </a:xfrm>
          <a:prstGeom prst="flowChartDecision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-ord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f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066A5-182E-43F4-A1A1-9C2DF7734F0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akeholders activity in JI projects preparation circle (4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267080"/>
            <a:ext cx="2667240" cy="685800"/>
          </a:xfrm>
          <a:prstGeom prst="flowChartProcess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4267080"/>
            <a:ext cx="2667240" cy="685800"/>
          </a:xfrm>
          <a:prstGeom prst="flowChartProcess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ve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124080"/>
            <a:ext cx="3505320" cy="914400"/>
          </a:xfrm>
          <a:prstGeom prst="flowChartProcess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Authorized 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JI focal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4495680"/>
            <a:ext cx="3200400" cy="1752840"/>
          </a:xfrm>
          <a:prstGeom prst="flowChartDecision">
            <a:avLst/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7" idx="2"/>
            <a:endCxn id="138" idx="0"/>
          </p:cNvCxnSpPr>
          <p:nvPr/>
        </p:nvCxnSpPr>
        <p:spPr>
          <a:xfrm>
            <a:off x="4647960" y="4038480"/>
            <a:ext cx="1080" cy="448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819520" y="1371600"/>
            <a:ext cx="3657600" cy="1066680"/>
          </a:xfrm>
          <a:prstGeom prst="flowChartInputOutpu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Recording JI data i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Arial"/>
              </a:rPr>
              <a:t>UNFCCC data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2460600"/>
            <a:ext cx="380880" cy="663480"/>
          </a:xfrm>
          <a:prstGeom prst="upArrow">
            <a:avLst>
              <a:gd name="adj1" fmla="val 50000"/>
              <a:gd name="adj2" fmla="val 4354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7" idx="1"/>
            <a:endCxn id="136" idx="0"/>
          </p:cNvCxnSpPr>
          <p:nvPr/>
        </p:nvCxnSpPr>
        <p:spPr>
          <a:xfrm flipV="1" rot="10800000">
            <a:off x="1713960" y="3580200"/>
            <a:ext cx="1181520" cy="686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3" name=""/>
          <p:cNvCxnSpPr>
            <a:stCxn id="137" idx="3"/>
            <a:endCxn id="135" idx="0"/>
          </p:cNvCxnSpPr>
          <p:nvPr/>
        </p:nvCxnSpPr>
        <p:spPr>
          <a:xfrm>
            <a:off x="6400800" y="3580920"/>
            <a:ext cx="1029600" cy="686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6858000" y="32306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2004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F97A3-5182-422D-826F-3861BFBB8F6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ritical functions of the authorized national JI focal poi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1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8360" indent="-198360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Clr>
                <a:srgbClr val="660033"/>
              </a:buClr>
              <a:buFont typeface="Times New Roman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National JI log maintenance and submission information to the UNFCCC  data b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98360" indent="-198360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Clr>
                <a:srgbClr val="660033"/>
              </a:buClr>
              <a:buFont typeface="Times New Roman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Guarantees for offsets trans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98360" indent="-198360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Clr>
                <a:srgbClr val="660033"/>
              </a:buClr>
              <a:buFont typeface="Times New Roman"/>
              <a:buChar char="•"/>
              <a:tabLst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ERU issue and 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98360" indent="0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98360"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8360"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370640" y="6219720"/>
            <a:ext cx="1513080" cy="4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2382-D610-4CAD-ACA9-37B4BA34815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gency for direct invesments</dc:creator>
  <dc:description/>
  <cp:keywords>joint implementation</cp:keywords>
  <dc:language>en-US</dc:language>
  <cp:lastModifiedBy>Jens Wilhelm</cp:lastModifiedBy>
  <dcterms:modified xsi:type="dcterms:W3CDTF">2004-09-17T11:14:14Z</dcterms:modified>
  <cp:revision>163</cp:revision>
  <dc:subject/>
  <dc:title>Proposal on procedures of registration and implementation of JI projects in Russian Federation</dc:title>
</cp:coreProperties>
</file>