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0E1-045E-48B1-B052-485498D7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904-2796-4CC9-9D2F-9A7B96F8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908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6CA-5658-41C4-A626-02354DD6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3464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856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3464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856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435-7B23-47B3-B840-AD389B88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E158-88E0-496B-A126-C9664BF5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9C7A-EAEA-428C-9516-5C5D8F44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DF14-DF81-4508-AF85-08F7AF75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634E-3118-4E6D-8D1C-9062BB4D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3B89-A1ED-4379-B8E3-F34AA422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78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22F8-ED9A-4C13-83A3-DF7BEC62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D216-5FDE-4932-8222-C8D5B1AE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708-2376-48D7-9D0B-D335F92D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908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0447-F56A-4183-8C3B-32D93385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5582-3A35-4CC9-AF0B-D575739B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5A68-1EDA-4172-AADB-F148A529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4908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B447-9590-44A7-968C-1DC6743A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3464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78560" y="198108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3464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78560" y="4130640"/>
            <a:ext cx="2612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D4B1-02D0-4C86-AF14-81A46227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C9C3-57A5-4414-B54F-44158C4F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478-2175-4CDE-9125-2031F0DC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B22-04E9-4872-BBFC-AAF33B91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78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27D-CA30-4991-8636-9A0F8A14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CD8-46AA-49B6-8215-E74D1110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9080" y="413064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DFC-C7D4-4FE8-A3AC-B1317748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9080" y="1981080"/>
            <a:ext cx="396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811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C83-371C-480C-98D6-45F94A58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1F07-05F7-4378-B037-09DB6AB18631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TRANSP_P" descr=""/>
          <p:cNvPicPr/>
          <p:nvPr/>
        </p:nvPicPr>
        <p:blipFill>
          <a:blip r:embed="rId3"/>
          <a:stretch/>
        </p:blipFill>
        <p:spPr>
          <a:xfrm>
            <a:off x="0" y="6305400"/>
            <a:ext cx="9144000" cy="552600"/>
          </a:xfrm>
          <a:prstGeom prst="rect">
            <a:avLst/>
          </a:prstGeom>
          <a:ln w="0">
            <a:noFill/>
          </a:ln>
        </p:spPr>
      </p:pic>
      <p:pic>
        <p:nvPicPr>
          <p:cNvPr id="6" name="TRANSP_P" descr=""/>
          <p:cNvPicPr/>
          <p:nvPr/>
        </p:nvPicPr>
        <p:blipFill>
          <a:blip r:embed="rId4"/>
          <a:stretch/>
        </p:blipFill>
        <p:spPr>
          <a:xfrm>
            <a:off x="0" y="6305400"/>
            <a:ext cx="914400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A620-7DF7-48AA-8712-EEF43A456C60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RANSP_P" descr=""/>
          <p:cNvPicPr/>
          <p:nvPr/>
        </p:nvPicPr>
        <p:blipFill>
          <a:blip r:embed="rId2"/>
          <a:stretch/>
        </p:blipFill>
        <p:spPr>
          <a:xfrm>
            <a:off x="0" y="6305400"/>
            <a:ext cx="9144000" cy="552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24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GB" sz="4400" spc="-1" strike="noStrike">
                <a:solidFill>
                  <a:srgbClr val="996633"/>
                </a:solidFill>
                <a:latin typeface="Arial"/>
                <a:ea typeface="Times New Roman"/>
              </a:rPr>
              <a:t>Projects under Article 6 in the context of the Marrakesh Accords</a:t>
            </a:r>
            <a:endParaRPr b="0" i="1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440" y="34286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ristine ZUMKELLER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FCCC/Cooperative Mechanism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zumkelle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@unfccc.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352680"/>
            <a:ext cx="6324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UNFCCC Workshop o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Article 6 projects under the Kyoto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6-27 May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cow, Russian Fed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762120"/>
            <a:ext cx="8610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le 6 under the Kyoto Protocol –  “joint implementation (or JI)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element of the Marrakesh Acc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ative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trike the right bal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228600"/>
            <a:ext cx="8610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omise allowing the ratification of the Kyoto Protoc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environmental integrity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conomic attractiv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ing interests of hosts and investors, sellers and buyers of credits, and Annex I and non-Annex I Pa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457200"/>
            <a:ext cx="8610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 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entive for becoming eligible ear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estically-governed system with relatively low transaction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s trading-like JI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609480"/>
            <a:ext cx="8610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 2 - Alternative tr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ly exercised gover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 as CDM light”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le 6 Supervisory Committee, operating under COP/M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669960"/>
            <a:ext cx="8610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lor-made JI” to encourage the preparatory process for implementing JI pro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dits could be obtained as of the year 2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 well-understood by the markets and anticipa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380880"/>
            <a:ext cx="8610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process will drive JI once the first COP/MOP has set up the Article 6 Supervisory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 initiatives at national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through JI web mo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 workshops to exchange exper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09:36:53Z</dcterms:created>
  <dc:creator>Christine Zumkeller</dc:creator>
  <dc:description/>
  <cp:keywords>clean development mechanism</cp:keywords>
  <dc:language>en-US</dc:language>
  <cp:lastModifiedBy>Jens Wilhelm</cp:lastModifiedBy>
  <cp:lastPrinted>2001-09-10T16:02:44Z</cp:lastPrinted>
  <dcterms:modified xsi:type="dcterms:W3CDTF">2004-09-17T11:02:18Z</dcterms:modified>
  <cp:revision>39</cp:revision>
  <dc:subject/>
  <dc:title>Projects under Article 6 in the context of the Marrakesh Accords</dc:title>
</cp:coreProperties>
</file>