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D9A-DA5F-4774-AA42-B37E794B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1FF-E7E3-4C74-9BC9-D28CAC0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816-D62A-43D5-A52B-0A23DC02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DAC-4B42-487D-81D3-C8AD655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21C-6A7D-4576-B3A6-8CD3D8DD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8E2-0E7C-4CD0-827D-A25F4D8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502-826D-4564-96CD-CB432AF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036-F53E-4258-832F-283DE99C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9D3-B19C-4C53-99F5-CE73C21A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491-5501-4853-9623-5E44C0EE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C7E-F3BD-47C1-816B-CBF8CEB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A4-7C8F-45E0-A138-4D23E4C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3448-C566-491E-BE0A-09E1F31CF1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IPCC Special Report on Methodological and Technological Issues in Technology Transfer: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Key Messages related Decision 4/CP.4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GUNLADE  R DAVID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-chair IPCC Working Group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hop on Transfer of Technology Consultative Process Bonn, 7 June 2000, SBSTA 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ow to overcome barriers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sector and technology pat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analysis and prioritisation of barriers are country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ier removal requires consideration of different interests and influences of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approach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the flow of technology to th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the quality: transfer only the right technology (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ow can private sector play additional role in facilitating technology transfer and how can enabling environment for private investment be created? (1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governments may wish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ct well-enforced regulations and reform of leg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intellectual property rights and licenses to promote innovation, while  avoiding misapplication that impede diff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financial reforms, competitive capital markets, FDI, and special financial lending for EST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approval and procurement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 of open trade policies and competitive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national markets for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wareness on ESTs products, processes an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0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ow can private sector play additional role in facilitating technology transfer and how can enabling environment for private investment be created? (2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ed country governments incl. EIT may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 fair competition in EST markets by discouraging restrictive business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 export credit and risk insurance to encourage FDI in ESTs and discourage exports of lower environment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export controls and tied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multinationals to apply uniform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modalities and/or policies to improve the transfer of ESTs in the public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flows of financial assistance for targeted ESTs including patent licen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ow can private sector play additional role in facilitating technology transfer and how can enabling environment for private investment be created? (3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ing country governments may wish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assessment of local needs and soci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R&amp;D programmes on the development of ESTs including adaptation to lo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wareness about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ransfer of ESTs among developing countries incl. Joint R&amp;D and D, and opening of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ommunication infrastructure to support investments in ESTs and the operation of intermedi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macro-economic stability for transfer of 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17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dditional activities to facilitate technology transfer need priority attention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govern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se full environmental and socia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mmercial risk and actively support replication of innovative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ed country governments incl. E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national and multilateral development assistance for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DA to facilitate the transfer of 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23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as should be the focus of capacity building and how should it be undertaken? (1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uman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of technical, business, management and regulatory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countries can include broad range of training in capacity building projects and ensure integration among loc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 countries can build capacities for transfer of both technical and other associa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ganis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en networks of organisations, particularly assessment, management, financial, lega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dequate communication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ote private firms covering essential organisationa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 associations of professionals, private firms and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articipatory approaches in policy making and project formulation and decentralise decision making where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29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as should be the focus of capacity building and how should it be undertaken? (2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tion assessment and monitoring capa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focus too narrowly on information barriers; they are just one of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sector role in information exchange is growing: internet services, information speciality firms, trade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s should emphasise linking national information systems on EST’s to regional and glob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clearing houses a well defined focus is important for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3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to facilitate Transfer and Access to Emerging Technologies and Publicly Owned Technologie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public R&amp;D funding for ES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ly owned technology is small sub-set of publicly suppor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transfer of publicly supported (or owned) technology by stimulating R&amp;D partnerships with developing countries (developed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unding for patent licensing where appropriate (developed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4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Are Existing Mechanisms Sufficient?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for GEF effectivenes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ility of market development and policy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ion of successful technology transf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links with MDB’s and other technology transfer financing institutions of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ordination with activities that support national systems of innovation and international technology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on to technology of ESTs among develop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hat can Multilateral Institutions do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s can use their leverage through Boards and Councils of MDB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dimensions of lending to be strength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focussed programs to remove barriers for private sector technology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participation in building national systems of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53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54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ntents of Presentatio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and Background of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Technology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Transfer and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ds and stakeholders of Technology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ultativ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oral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Are New Mechanisms Needed? (1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yoto Protocol mechanis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t on entry into force of Kyot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to add to art 4.5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co-operation between developed and developing countries and between government and private sector and community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mplement other capacity building and enabl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59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Are New Mechanisms Needed? (2)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ystems of Inno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capacity building, access to information and creating enabl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 partnerships between all relevant private and public stakeholders, both domestically as well as intern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ocus for activities of GEF, MDB’s and other international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wide variety of activities, such as training, strengthening educational institutions, assessment of information, identification of solutions for removing barriers, innovative financing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6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6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ow can progress on Technology Transfer be better monitored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collectively a system of improved indicators and data collection on quality and flows of EST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performance benchmarks could be compiled to indicate the implementation of EST’s and the potential for technological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7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ctoral Actions for Enhancing Mitigation &amp; Adaptation Technology Transfer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vary across s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t and involvement of stakeholders differ within and across s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essons among sector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among stakeholders is essential for effective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transfers occur when focus is on products and techniques with multiple benef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77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pecific S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ctoral Actions for Enhancing  Technology Transfer (1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es and DSM programmes for Energy efficient &amp; ESTs 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Codes &amp; guidelines, equipment standards and performance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on co-operative technology agreements, joint R&amp;D, information networks, and specialised management &amp; technical train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ion of standard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 among stakeholders and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83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84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pecific S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ctoral Actions for Enhancing  Technology Transfer (2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on, regulations &amp; voluntary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ransfer on technology assessments, especially to 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support for capacity building, especially in modifying equipment &amp; products to lo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ergy Sup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ector reform programs for the  promotion of ESTs, particularly R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sation of capital for ESTs and R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89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pecific S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ctoral Actions for Enhancing  Technology Transfer (3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ransfer on crop varieties, and improved technical and management methods, incl..integration of local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 of R&amp;D networks (CIGAR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es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of sustainable management practices and techniques, and technic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ening government actions and programs including monitoring and e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19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pecific S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ctoral Actions for Enhancing  Technology Transfer (4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 Management &amp; Human Health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facilitation of stakeholders initi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 support for local initiatives by community groups especially those that involve locally appropriate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dap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proven technologies and integrated coastal-management plans an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partnership between existing institutions and use of local exper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0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urpose and Background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purpose - request to IPCC by SBSTA on its first session a list of issues to  assist Parties to the Convention to enable them to mak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ckground to repor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34 of Agenda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CCC, Articles 4.1 &amp; 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est from SB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yoto Protocol, Article l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 Decision (4/CP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finition of technology transfer in the Report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 set of processes, covering flow of knowledge, experience, equipment amongst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both hardware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echnology diffusion and technology co-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 developed and developing countries as well as within/amongst each of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learning to understand, choose, utilise, adapt and replicat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3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Technology transfer and Climate Chang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ing ultimate objective of UNFCCC (stabilisation of concentrations at “safe level”) requires rapid technological innovation and widespread transfer of environmentally sound mitigation and adaptation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echnologies should fit into the local needs and priorities and to find new sustainable paths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Trends of Technology Transfer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asurements; financial flows only a proxy indic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A declining, but primary source  for countries and sectors with low private capital flows, and can be used as leverage for  creating enabl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fferences betwee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: $27/cap aid vs $3/cap FDI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 America: $13/cap aid vs $62/cap FDI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sector role more important, but definite role for governments directly and in creating enabl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5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Stakeholders and Pathways of Technology Transfer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transfer results from the combined actions, networks of and partnerships between many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players: private firms, financiers, government and state owned institutions, NGO’s, community groups, international institutions, information providers, R&amp;D organisations, business consul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s of interaction vary with sector, country and type of technology: purchase, FDI, licensing, joint ventures, government assistance, R&amp;D co-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1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4/CP.4 :Consultative Proces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ain barriers for technology transfer and how to remove th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private sector play additional role in facilitating technology transfer and how can enabling environment for private investment be cre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dditional activities need priority atten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as should be the focus of capacity building and how should it be underta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acilitate transfer and access to emerging technologies and publicly owned techn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existing mechanisms sufficient? Are new mechanisms needed? What can multilateral institution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progress on technology transfer be better monito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7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hat are the main barriers for technology transfer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data, information, knowledge,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ransa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ccess to capital, especially for smaller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aversion in financial institutions, incl. MD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barriers such as 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human and institutional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understanding of lo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adequate codes and standards for ES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, subsidised conventional energy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ce of full-cost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60958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OVERNMENTAL PANEL ON CLIMATE CHANGE (IP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" descr=""/>
          <p:cNvPicPr/>
          <p:nvPr/>
        </p:nvPicPr>
        <p:blipFill>
          <a:blip r:embed="rId1"/>
          <a:stretch/>
        </p:blipFill>
        <p:spPr>
          <a:xfrm flipH="1" rot="10800000">
            <a:off x="0" y="64767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3" name="wmo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66024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unep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736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8:24:54Z</dcterms:created>
  <dc:creator>HANSEN_S</dc:creator>
  <dc:description/>
  <dc:language>en-US</dc:language>
  <cp:lastModifiedBy>UNFCCC</cp:lastModifiedBy>
  <cp:lastPrinted>2000-01-13T18:07:28Z</cp:lastPrinted>
  <dcterms:modified xsi:type="dcterms:W3CDTF">2000-06-08T09:35:53Z</dcterms:modified>
  <cp:revision>20</cp:revision>
  <dc:subject/>
  <dc:title>The IPCC Special Report on Technology Transfer</dc:title>
</cp:coreProperties>
</file>