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9D5-CEC2-453D-8876-398CD9D0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1F3-D617-4D77-9179-86893C1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101-FDC4-4AB9-B8C0-F623BC3F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4B2-85F2-499B-B3B5-02E48D61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69A-01B7-4F62-A630-0CE087E4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7A2-250E-45DA-AFAC-1771CC95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C65-4A64-4622-B8BD-A98277C0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08B-8F12-477E-A025-B38BF6EA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ECD-798F-4F8C-BA77-F4F6BA8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062-BAB6-4D7C-B4C1-A5AE08E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F12-0348-4E3F-8BB0-18B1E5B8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418-8570-42AB-8475-A15B9EF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56C81-8522-43D1-9D38-F1EE440D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914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Pilot inventory of technologies in climate technology cooperation projec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9810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hen Pe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Sub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mate Change Secretariat (UNFC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kshop on the transfer of technology consultativ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June 2000, Bon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04F-6AB8-4747-A0B8-212887220A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cision 13/CP.1 “inventory of technologies including terms of transfer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BSTA 2-3, secretariat compiled information submitted into an inven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PCC SAR (and a separately published annex), plus a report on policies and measures listed categories of technolo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2ED-F795-4448-A6C8-DCDE37566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New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ntory of technologies that are actually being developed, diffused and transferred as a result of climate change-relevant development assistance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on w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ppening on the ground and not on what could hap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tial step – capture the technologies incorporated into documented projects and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38F-188F-4447-B25E-37DFF5BF8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What is in the databa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climate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s cited in National Communications of Annex I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s cited in consultative process sub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s identified by the OECD DAC (in a consultant rep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 and GermanTechnology Cooperation Projects Reports (1998 and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821-FAF9-4F9B-B3CC-B904E0AB9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Current Stat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800 pro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hecked and verified as consistent with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base is a simple Microsoft Access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rchable by project title, description, donor, host (can ask the database to list, for example, all solar projects, or just those in a particular country, or those funded by a particular don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only as good as the source information and entries have not been class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1ED-D54C-4F70-8480-A07B765DA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What could be added to the datab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multilateral projects and programmes, e.g. non-GEF related activities of UNEP, UNDP, UNIDO, regional development banks and other multilateral implementing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lateral projects  not reported in National Communications of Annex I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s cited in initial national communications of non-Annex I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BB9-7949-491B-81E7-7AF6F06C3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Methodological 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52388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require some criteria for defining/identifying relevant projects, programmes or other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D65-B0FA-41C5-8A96-857A070CC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Options for further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orporate projects and programmes not currently in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on best way for Parties to submit, review and verify information (using web, hard copy, 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resource implications and how such a database could relate to other existing or planned UNFCCC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A0E-E46D-4B0D-90A4-4A22B7E538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 MT Extra Bold"/>
              </a:rPr>
              <a:t>Is this initiative usefu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uld such a database be used f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are the us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 suggestions for how to pro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ther demonstrations available, please contact the Secretaria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2560" y="0"/>
            <a:ext cx="0" cy="68565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856560"/>
            <a:ext cx="9142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593-55DB-4BCD-B8D7-428DF00498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Peggy Albrecht</dc:creator>
  <dc:description/>
  <dc:language>en-US</dc:language>
  <cp:lastModifiedBy>Peake</cp:lastModifiedBy>
  <cp:lastPrinted>2000-05-31T08:21:54Z</cp:lastPrinted>
  <dcterms:modified xsi:type="dcterms:W3CDTF">2000-06-02T09:53:42Z</dcterms:modified>
  <cp:revision>114</cp:revision>
  <dc:subject/>
  <dc:title>No Slide Title</dc:title>
</cp:coreProperties>
</file>