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4845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492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1440" cy="4935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767040" y="-360"/>
            <a:ext cx="2881440" cy="4935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61840" y="738000"/>
            <a:ext cx="492624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87400" y="4677840"/>
            <a:ext cx="4873680" cy="4434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9356400"/>
            <a:ext cx="2881440" cy="4935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767040" y="9356400"/>
            <a:ext cx="2881440" cy="4935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AD73B9F-CB45-4473-89B4-5BE4F983F89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861840" y="738360"/>
            <a:ext cx="4926240" cy="36939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87400" y="4677840"/>
            <a:ext cx="4873680" cy="4434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ner of working and making deci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poration within the intergovernmental proc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ing to a subsidiary body or the CO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DCF1-0C2E-42F9-9152-23E991425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8930-08BA-4FF2-AABB-5D56A52AD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1081-A1C8-4814-9182-399FB1324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AF33-1DB8-4CAC-B9CA-327FB6CBDB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00CA-11B8-4B12-9A54-13AFBAE66F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A144-8A58-4449-884F-EC55BBD40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9C8D-F246-4C29-89BD-2DE348C5F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06C2-BAE9-4470-95D0-F3F46FAE6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BDDD-62A5-4346-BBE1-1C0A41C5B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39CD-FC16-45A3-9F1B-565CFC6F8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8A8B-0BF4-4496-9B3B-B58E059A5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F853-D2B5-40A4-A799-471F8F180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RANSP_P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55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162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1191-121F-4BCD-8669-BDD812E741F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6480"/>
            <a:ext cx="91425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440" y="-4680"/>
            <a:ext cx="0" cy="685476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0080"/>
            <a:ext cx="9142560" cy="14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2560" y="-6480"/>
            <a:ext cx="0" cy="68551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5040" y="4286160"/>
            <a:ext cx="26175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rew Ho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FCC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ww.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howard@unfccc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102120" y="1752480"/>
            <a:ext cx="0" cy="418968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62240" y="1657440"/>
            <a:ext cx="6858000" cy="43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operation among administra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ructure and mod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sessional consul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registry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-10 Novem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286F-7B65-444F-95D9-99B96E5DCD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BSTA 21 and COP 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BSTA 21 to prepare a draft decision for COP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ucture of co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ilitation of cooperation by the ITL administ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ner of reporting to the SBs or COP/M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ft outlines inform the structure and 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724280"/>
            <a:ext cx="777240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Effective, long-term co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Accuracy, efficiency and transparency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in the operation of registry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C686-329A-49A7-B8AB-622BB86F91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ope of coop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Common operational 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Recommended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Sharing of information and exper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ment and implementation of measures to ensure technical, operational and procedural compat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 with COP and COP/MOP dec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Only greenhouse gas or Kyoto registr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DA9E-D838-44E7-BCA4-333720C320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ilitation of coop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Role of the ITL administrator or ITL hos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deposi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of information (extranet, listserv, workflow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ment tasks, preparation of draf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ment of draft plans and sched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ment of proposals and docu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ordination and support of assessment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 of assistance to registry administ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eting services and logistical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EB55-6B11-47DD-8241-C6112425FC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stry system administrators (as member organizati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mination of key administrator representa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pe for decision-mak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ision-making structures (committee, subgroups, chai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olvement of non-administ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quency and timing of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and transparency of information (within and outside the group, taking account of confidential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B39A-BFD8-4C8F-9397-F5850EE177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ure of repor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ure and frequency of reporting to the COP/M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ure of recommendations to the COP/M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ure of guidance by the COP/MOL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9FF8-F399-4CB9-BA1F-9EBE0D2841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ibution to Article 8 re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ing and quality assur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ization of regis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going testing once operations 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of test assess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and status of assessments in the Article 8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tion of Parties’ reports from regis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tibility of registries’ public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ications for administrators’ co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D457-6A50-4C42-AEFE-E95AE9930E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ding of coop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ding for staff / contributions of registry administ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ding for facilitative role of the IT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funding by administrato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verage through connection/transaction fe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6762-0BEA-49DB-93E8-86944FA2BC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y issues to resol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priority and tim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vel of formality and specificit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allow for natural growth and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ure of mandate to develop at SBSTA 21 / COP 10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A8E4-F9A2-4147-A0ED-AF9DA564F5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1:20Z</dcterms:created>
  <dc:creator>Howard</dc:creator>
  <dc:description/>
  <dc:language>en-US</dc:language>
  <cp:lastModifiedBy>nagata</cp:lastModifiedBy>
  <dcterms:modified xsi:type="dcterms:W3CDTF">2004-12-08T17:00:58Z</dcterms:modified>
  <cp:revision>154</cp:revision>
  <dc:subject/>
  <dc:title>PowerPoint Presentation</dc:title>
</cp:coreProperties>
</file>