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FF99-64DC-4E90-9722-FD264DAD1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2D46-6D8C-4CD6-9D35-1E8C0E934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02FF-7DC9-49C8-AE51-075456A6A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60A0-8B97-46D3-8B46-84F2D838D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0BC1-32B0-41D9-A5D5-4A0689F3F0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F226-F3F8-461C-AE61-AE5C6DBDB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F38D-1B27-4B43-BD3F-B85363A7D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C462-1A68-473A-A462-5F70281D9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99C5-EF93-4606-9DB1-AB1949E4E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7E75-254C-45A6-9435-6171CDF0F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39E3-6091-4C2F-9A5F-521E51519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1969-33C1-463F-97DB-75E1F6694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RANSP_P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162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F594-2237-4E5F-98F6-D786A073C19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6480"/>
            <a:ext cx="91425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0080"/>
            <a:ext cx="914256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256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00400" y="1805040"/>
            <a:ext cx="594360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Questionnaire 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ational registry develop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-sessional consultations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stry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-10 Nov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nn,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920" y="4438800"/>
            <a:ext cx="25185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shiaki Nag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FCC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.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nagata@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200400" y="1929960"/>
            <a:ext cx="0" cy="41785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E5EA-E9C7-404A-995E-09BC6C44E1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ckground of the questionn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ake stock of the development and implementation of national registries under the Kyoto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tember – October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7 responses recei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 EU Member State Parties, 5 non-EU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C5E9-FE91-4B0E-AD5F-A10180D1B2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develop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EU Member State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tly construction or testing s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me in earlier stages (preliminary planning, no development work ye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tion of registries planned to start end 2004 or         early 2005 (reflecting time table of EU emission trading schem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Non-EU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tly preliminary planning s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me Parties are advanced in some registry compon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tion of registries planned to start mid 2005 or mid 2006 (reflecting time table of initial review under the Kyoto Protocol)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20EB-8684-429B-A3CC-53D088C775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ment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U Member State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existing systems: 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 development: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decided: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Non-EU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existing systems: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 development: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decided: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D6D8-7E2E-41B6-893B-B6270F6EA6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Wide range of estim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ersonnel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ity have less than 10 persons for all st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on/maintenance tend to require more personnel than the design, construction, or implementation/testing st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Financial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ity are in the order of hundreds of thousand of US dollars for each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stage requires approximately the same level of financial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12FA-EA66-4B89-8B84-336A021821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stry administr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15 Parties have given contact details for registry administrators (2 have not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Majority are environment-related government ag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2 organizations are government agencies relating to energy or econom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No private entities identified as registry administ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ABC5-58FB-4E27-850E-78BD3B549A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for coop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Sharing of technical information, experience and know-h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ollaboration on registry software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ollaboration on initialization and tes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ollaboration on back office tas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ollaboration on system updates to maintain compati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Best practices to solve technical probl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oordination between registries and the IT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ontribution to Article 8 review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C742-32E2-4B6B-9982-A9A80A9061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1:20Z</dcterms:created>
  <dc:creator>Howard</dc:creator>
  <dc:description/>
  <dc:language>en-US</dc:language>
  <cp:lastModifiedBy>nagata</cp:lastModifiedBy>
  <dcterms:modified xsi:type="dcterms:W3CDTF">2004-12-08T16:41:13Z</dcterms:modified>
  <cp:revision>108</cp:revision>
  <dc:subject/>
  <dc:title>PowerPoint Presentation</dc:title>
</cp:coreProperties>
</file>