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2133720"/>
            <a:ext cx="59436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ata Exchange Standards in support of transaction proce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8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nn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191120"/>
            <a:ext cx="289548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ggy Quar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rrin Quarl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ociate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eggyquarles@pq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048120" y="1980720"/>
            <a:ext cx="0" cy="41785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yoto Protocol Transaction Typ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ment of tCERs and lCERs:  To take account of the temporary nature of remov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irement:  Internal transfer of units to retirement accounts to meet complianc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y-over of units to next Commit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iry Date Change:  To extend the “life” of a tCER or 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ansaction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 Transaction that has been sent to I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ccep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 External transaction approved by ITL and accepted by Acquiring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ermina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 Transaction invalidated by ITL and ended by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nali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action was validated and completed by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ance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 Transaction that was not responded to with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l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For units not designated for a specific purpose, and available to be transferr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For units issued by the CDM Registry, prior to their distribution to project particip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cel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For units no longer available for trading or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tir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For units used for compli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For units compensating for tCERs and lCERs which expire or otherwise lose their valid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Unit characteristics cannot chan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ing Registry or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Commit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LUCF Activit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Projec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Unit characteristics can change, through specific trans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le Commitment Period (through Carry-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iry Date (only tCERs and lC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ype (Conversion of AAUs and RMUs to ER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Block and End Block define “Unit Blocks” of serializ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Blocks can be “split” within a registry and within the I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t is uniquely identified by the registry in which it is created and its unique number (for example, FR100001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 Registry uses the project host Party instead of the Registry (for example IN100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109520"/>
          <a:ext cx="7696080" cy="4528800"/>
        </p:xfrm>
        <a:graphic>
          <a:graphicData uri="http://schemas.openxmlformats.org/drawingml/2006/table">
            <a:tbl>
              <a:tblPr/>
              <a:tblGrid>
                <a:gridCol w="2338920"/>
                <a:gridCol w="2037240"/>
                <a:gridCol w="3319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y Code + unique #, assigned by Reg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y Code + unique #, assigned by Reg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ciliat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y Code + unique #, assigned by I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y Code + unique #, assigned by Executive Board  or JI Committ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t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que #, assigned by IT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y Transaction Term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ns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 A series or exchange of messages relating to a single transfer of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ess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unication between the ITL and a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spon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ent about a proposed transaction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action ID, response codes, stat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-53352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267080"/>
            <a:ext cx="1981080" cy="129564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447920"/>
            <a:ext cx="1600200" cy="91440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86000"/>
            <a:ext cx="2210040" cy="167652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5943600"/>
            <a:ext cx="1828800" cy="76212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ngle Registry Trans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143000"/>
          <a:ext cx="27792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2779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0720" y="914400"/>
            <a:ext cx="7467480" cy="380880"/>
            <a:chOff x="990720" y="914400"/>
            <a:chExt cx="7467480" cy="380880"/>
          </a:xfrm>
        </p:grpSpPr>
        <p:sp>
          <p:nvSpPr>
            <p:cNvPr id="132" name=""/>
            <p:cNvSpPr/>
            <p:nvPr/>
          </p:nvSpPr>
          <p:spPr>
            <a:xfrm>
              <a:off x="990720" y="914400"/>
              <a:ext cx="2666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nitiating Regis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914400"/>
              <a:ext cx="2666880" cy="380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T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133720" y="1295280"/>
            <a:ext cx="4876560" cy="4876560"/>
            <a:chOff x="2133720" y="1295280"/>
            <a:chExt cx="4876560" cy="4876560"/>
          </a:xfrm>
        </p:grpSpPr>
        <p:sp>
          <p:nvSpPr>
            <p:cNvPr id="135" name=""/>
            <p:cNvSpPr/>
            <p:nvPr/>
          </p:nvSpPr>
          <p:spPr>
            <a:xfrm>
              <a:off x="2133720" y="1295280"/>
              <a:ext cx="0" cy="4876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1295280"/>
              <a:ext cx="0" cy="4876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6212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1981080"/>
            <a:ext cx="4876560" cy="381240"/>
          </a:xfrm>
          <a:prstGeom prst="rightArrow">
            <a:avLst>
              <a:gd name="adj1" fmla="val 50000"/>
              <a:gd name="adj2" fmla="val 1056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nd Proposal to ITL for valid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2362320"/>
            <a:ext cx="1295280" cy="3808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Vali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Propos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477120" y="2743200"/>
            <a:ext cx="1600200" cy="552240"/>
            <a:chOff x="6477120" y="2743200"/>
            <a:chExt cx="1600200" cy="5522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477120" y="2743200"/>
              <a:ext cx="42516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934320" y="2895480"/>
              <a:ext cx="1143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s it Okay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10800000">
            <a:off x="2133720" y="3886200"/>
            <a:ext cx="4876560" cy="457200"/>
          </a:xfrm>
          <a:prstGeom prst="rightArrow">
            <a:avLst>
              <a:gd name="adj1" fmla="val 50000"/>
              <a:gd name="adj2" fmla="val 880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nd result of validation to regis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562720"/>
            <a:ext cx="4876560" cy="457200"/>
          </a:xfrm>
          <a:prstGeom prst="rightArrow">
            <a:avLst>
              <a:gd name="adj1" fmla="val 50000"/>
              <a:gd name="adj2" fmla="val 880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nd notification to ITL of the update transaction 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019920"/>
            <a:ext cx="1600200" cy="4572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pdat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ransaction Stat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43400"/>
            <a:ext cx="1371600" cy="4572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pdat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tat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523880"/>
            <a:ext cx="1371600" cy="4572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enerat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Propos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3276720"/>
            <a:ext cx="1600200" cy="4572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pdat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ransaction Stat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43000" y="4800600"/>
            <a:ext cx="1263600" cy="552240"/>
            <a:chOff x="1143000" y="4800600"/>
            <a:chExt cx="1263600" cy="552240"/>
          </a:xfrm>
        </p:grpSpPr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1981080" y="4800600"/>
              <a:ext cx="42552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143000" y="4952880"/>
              <a:ext cx="761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egist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nfir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-29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866920" y="533160"/>
            <a:ext cx="2514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Registry Behaviour Diagr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anc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3733920"/>
            <a:ext cx="28195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-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31840" y="304920"/>
          <a:ext cx="5295960" cy="68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304920"/>
                    <a:ext cx="5295960" cy="68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the purpose of the D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ecure communication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registry and ITL actions in transaction and reconcili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data requirements for ITL review of registry transfers and unit block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setting and procedures for technic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consistency with Kyoto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ensure robust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y Web Services an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52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3520" y="685800"/>
          <a:ext cx="8305560" cy="5106960"/>
        </p:xfrm>
        <a:graphic>
          <a:graphicData uri="http://schemas.openxmlformats.org/drawingml/2006/table">
            <a:tbl>
              <a:tblPr/>
              <a:tblGrid>
                <a:gridCol w="3733560"/>
                <a:gridCol w="1295640"/>
                <a:gridCol w="327636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No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s transaction messages from I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s requests for external transfers from I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_Version; Data_Integrity_Check; Validate_Proposal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liminary_che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s checks for all incoming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e_Proposal; Finalise_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nd sends transaction; completes successful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_to File; Write_to_Message_Log; Write_to_Transaction; Write_to_Transaction_Block; Write_to_Transaction_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ging and Data Updat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Issu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-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00" y="87224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 Annex L for exa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of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09480" y="1143000"/>
          <a:ext cx="7772400" cy="4843080"/>
        </p:xfrm>
        <a:graphic>
          <a:graphicData uri="http://schemas.openxmlformats.org/drawingml/2006/table">
            <a:tbl>
              <a:tblPr/>
              <a:tblGrid>
                <a:gridCol w="3048120"/>
                <a:gridCol w="472428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sion and 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the ITL verify the identify of the submitte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ssage 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he message readable and comple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ry 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the registries involved authorized to opera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action Data Integ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es the data makes sens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ssage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he message in the correct orde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Transaction Che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es the message comply with general requirements for transaction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action-specific Che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es the message comply with Kyoto requirements for type of transa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-specific Check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ssu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09480" y="1447920"/>
          <a:ext cx="7848720" cy="4338360"/>
        </p:xfrm>
        <a:graphic>
          <a:graphicData uri="http://schemas.openxmlformats.org/drawingml/2006/table">
            <a:tbl>
              <a:tblPr/>
              <a:tblGrid>
                <a:gridCol w="3962520"/>
                <a:gridCol w="388620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1, 5002, 5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s on who can issue what types of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4, 5005, 5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s on the characteristics of the unit blocks to be issu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these unit blocks already been issu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8, 5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issuing these blocks exceed the allowable numbe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0, 5011, 5012, 5013, 5014, 5015,5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the units and unit characteristics for CDM projects correc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ing the Transaction – Discrepa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istry terminates the transaction, and sends a terminated message to the I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TL records the transaction as terminated and the unit blocks proposed are NOT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istry can correct the error and resend to ITL as new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ing the Transaction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Discrep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6248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istry finalizes the transaction, creates the unit blocks in the Registry database, sends a finalized message to the I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TL records the transaction as finalized and creates the new Unit Blocks in the ITL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920" y="12189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s and General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3:  Communications and Secur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4:  Unit Transac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5:  Reconcil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6:  ITL Administrative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8:  Change 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9:  Registry Tes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DES Organiz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exes for Technical Develo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371600"/>
          <a:ext cx="7772400" cy="4297320"/>
        </p:xfrm>
        <a:graphic>
          <a:graphicData uri="http://schemas.openxmlformats.org/drawingml/2006/table">
            <a:tbl>
              <a:tblPr/>
              <a:tblGrid>
                <a:gridCol w="1676520"/>
                <a:gridCol w="609588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e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ss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C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lines for Developing Technical Components and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s Performed by ITL and Response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of Identif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of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Protoc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, K,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Exchange Formats (WSDLs and Examp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list of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Registr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L Communic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09680" y="2971800"/>
            <a:ext cx="2971800" cy="1295280"/>
            <a:chOff x="2209680" y="2971800"/>
            <a:chExt cx="2971800" cy="1295280"/>
          </a:xfrm>
        </p:grpSpPr>
        <p:sp>
          <p:nvSpPr>
            <p:cNvPr id="58" name=""/>
            <p:cNvSpPr/>
            <p:nvPr/>
          </p:nvSpPr>
          <p:spPr>
            <a:xfrm>
              <a:off x="2209680" y="2971800"/>
              <a:ext cx="2971800" cy="1295280"/>
            </a:xfrm>
            <a:prstGeom prst="ellipse">
              <a:avLst/>
            </a:prstGeom>
            <a:solidFill>
              <a:srgbClr val="d7d7d7">
                <a:alpha val="3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3670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P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14600" y="3124080"/>
              <a:ext cx="2666880" cy="457200"/>
            </a:xfrm>
            <a:custGeom>
              <a:avLst/>
              <a:gdLst>
                <a:gd name="textAreaLeft" fmla="*/ 466560 w 2666880"/>
                <a:gd name="textAreaRight" fmla="*/ 1933560 w 26668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>
                <a:alpha val="35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90560" y="3733560"/>
              <a:ext cx="2514600" cy="3812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>
                <a:alpha val="35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bd06908_" descr=""/>
          <p:cNvPicPr/>
          <p:nvPr/>
        </p:nvPicPr>
        <p:blipFill>
          <a:blip r:embed="rId1"/>
          <a:stretch/>
        </p:blipFill>
        <p:spPr>
          <a:xfrm>
            <a:off x="380880" y="1628640"/>
            <a:ext cx="725760" cy="809640"/>
          </a:xfrm>
          <a:prstGeom prst="rect">
            <a:avLst/>
          </a:prstGeom>
          <a:ln w="0">
            <a:noFill/>
          </a:ln>
        </p:spPr>
      </p:pic>
      <p:pic>
        <p:nvPicPr>
          <p:cNvPr id="63" name="bs00089_" descr=""/>
          <p:cNvPicPr/>
          <p:nvPr/>
        </p:nvPicPr>
        <p:blipFill>
          <a:blip r:embed="rId2"/>
          <a:stretch/>
        </p:blipFill>
        <p:spPr>
          <a:xfrm>
            <a:off x="7696080" y="259092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Firewall" descr=""/>
          <p:cNvPicPr/>
          <p:nvPr/>
        </p:nvPicPr>
        <p:blipFill>
          <a:blip r:embed="rId3"/>
          <a:stretch/>
        </p:blipFill>
        <p:spPr>
          <a:xfrm>
            <a:off x="1447920" y="16765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Firewall" descr=""/>
          <p:cNvPicPr/>
          <p:nvPr/>
        </p:nvPicPr>
        <p:blipFill>
          <a:blip r:embed="rId4"/>
          <a:stretch/>
        </p:blipFill>
        <p:spPr>
          <a:xfrm>
            <a:off x="1600200" y="46483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bd06908_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725760" cy="809640"/>
          </a:xfrm>
          <a:prstGeom prst="rect">
            <a:avLst/>
          </a:prstGeom>
          <a:ln w="0">
            <a:noFill/>
          </a:ln>
        </p:spPr>
      </p:pic>
      <p:pic>
        <p:nvPicPr>
          <p:cNvPr id="67" name="Firewall" descr=""/>
          <p:cNvPicPr/>
          <p:nvPr/>
        </p:nvPicPr>
        <p:blipFill>
          <a:blip r:embed="rId6"/>
          <a:stretch/>
        </p:blipFill>
        <p:spPr>
          <a:xfrm>
            <a:off x="6324480" y="3124080"/>
            <a:ext cx="914400" cy="838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68480" y="1355760"/>
            <a:ext cx="2068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XML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am proposing 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another regis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81360" y="4419720"/>
            <a:ext cx="2160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XML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have a transfer propos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ease confirm or rejec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4960" y="2057400"/>
            <a:ext cx="224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XML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osal is acceptable, I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 and forward thi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90360" y="5105520"/>
            <a:ext cx="22348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XML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posal is acceptab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7524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8" idx="3"/>
          </p:cNvCxnSpPr>
          <p:nvPr/>
        </p:nvCxnSpPr>
        <p:spPr>
          <a:xfrm>
            <a:off x="5913000" y="1706040"/>
            <a:ext cx="1097640" cy="13424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endCxn id="70" idx="3"/>
          </p:cNvCxnSpPr>
          <p:nvPr/>
        </p:nvCxnSpPr>
        <p:spPr>
          <a:xfrm flipV="1" rot="16200000">
            <a:off x="5920560" y="2415600"/>
            <a:ext cx="640440" cy="624600"/>
          </a:xfrm>
          <a:prstGeom prst="curved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" name=""/>
          <p:cNvSpPr/>
          <p:nvPr/>
        </p:nvSpPr>
        <p:spPr>
          <a:xfrm>
            <a:off x="2362320" y="2438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9" idx="3"/>
          </p:cNvCxnSpPr>
          <p:nvPr/>
        </p:nvCxnSpPr>
        <p:spPr>
          <a:xfrm flipV="1">
            <a:off x="5941800" y="4037760"/>
            <a:ext cx="611640" cy="732600"/>
          </a:xfrm>
          <a:prstGeom prst="curved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2514600" y="48769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5257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1" idx="3"/>
          </p:cNvCxnSpPr>
          <p:nvPr/>
        </p:nvCxnSpPr>
        <p:spPr>
          <a:xfrm flipV="1">
            <a:off x="6013080" y="3962160"/>
            <a:ext cx="997560" cy="14040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238880" y="3429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62" idx="3"/>
            <a:endCxn id="64" idx="1"/>
          </p:cNvCxnSpPr>
          <p:nvPr/>
        </p:nvCxnSpPr>
        <p:spPr>
          <a:xfrm>
            <a:off x="1106640" y="2033640"/>
            <a:ext cx="342000" cy="62640"/>
          </a:xfrm>
          <a:prstGeom prst="bentConnector3">
            <a:avLst>
              <a:gd name="adj1" fmla="val 4973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66" idx="3"/>
            <a:endCxn id="65" idx="1"/>
          </p:cNvCxnSpPr>
          <p:nvPr/>
        </p:nvCxnSpPr>
        <p:spPr>
          <a:xfrm>
            <a:off x="1106280" y="4976640"/>
            <a:ext cx="494280" cy="91440"/>
          </a:xfrm>
          <a:prstGeom prst="bentConnector3">
            <a:avLst>
              <a:gd name="adj1" fmla="val 4978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8096760" y="43434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2438280"/>
            <a:ext cx="13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fer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4600" y="541008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qui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Makes the Exchange Secur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5486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through digital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rivate Network (VP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Communications Standard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 and the Simple Object Access Protocol (SO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rivate Network (VP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Mark-up Language (X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632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action is a unique operation on a unit or block of un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action is comprised of a series of actions related to a specific proc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nsaction is processed in stages and results in the return of a message to the registry or to the I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yoto Protocol Transaction Typ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ance:  Initial creation of an AAU, RMU, CER, tCER or l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rsion:  Transformation of an AAUs or RMUs into E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transfer:  To move units from an account in one registry to an account in ano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:  To move a unit into a cancellation account permanently (can be voluntary, mandatory, or for project-related rea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91440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Leah Daniel</dc:creator>
  <dc:description/>
  <dc:language>en-US</dc:language>
  <cp:lastModifiedBy>nagata</cp:lastModifiedBy>
  <dcterms:modified xsi:type="dcterms:W3CDTF">2004-12-08T16:20:24Z</dcterms:modified>
  <cp:revision>366</cp:revision>
  <dc:subject/>
  <dc:title>UN Technical Specifications for Data Exchange</dc:title>
</cp:coreProperties>
</file>