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0CFA-ECFD-43DD-B506-0D2EEF135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1430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9C73-5C76-4375-8B3F-19CC711F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256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430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1256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FC1E-FF22-42BF-8F3C-2BCC30CD9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710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39864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1430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7710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39864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74EC-B0A8-494D-B1D6-D72A7A8AA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1EF9-A330-419A-9BDC-17249E993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099D-5841-41F8-8B24-BB06AA1E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29AB-F6B4-407B-85A9-C32B4C3F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256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E126-48D7-4EDD-B730-020AA273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0F73-E842-48F6-9C7E-6CC5C726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143000" y="76212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6002-CC00-495E-A925-5C142A6E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7504-D7FE-40C4-90C8-399427A4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2015-C749-47AE-8E59-C782F389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256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1256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4ECA-074D-439A-99F7-367D6923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256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430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2AFB-C660-402F-B4C5-3B9CF360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1430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26515-3789-4DAC-9AE4-588F6B9A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256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1430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1256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021B-4220-4B8D-B6FE-C88BFCBE6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7710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39864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1430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7710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39864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834A-C232-438F-8F50-8F6F5AA00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BAFB-CB40-47FE-A6E1-4052E89D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4558-288A-4BA8-AD4F-94FFF75E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DFD2-F572-4CDB-BDAA-01B6C4C8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143000" y="76212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E699-481C-43C1-BB33-8D5B70FC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256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430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32B6-3111-4D58-9731-A031BBEC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256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256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750C-FD7F-4020-8090-2666BF15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256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D2B8-9349-402B-A1D7-DD0EC23A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28600" y="914400"/>
            <a:ext cx="8153280" cy="4114800"/>
            <a:chOff x="228600" y="914400"/>
            <a:chExt cx="8153280" cy="4114800"/>
          </a:xfrm>
        </p:grpSpPr>
        <p:sp>
          <p:nvSpPr>
            <p:cNvPr id="2" name=""/>
            <p:cNvSpPr/>
            <p:nvPr/>
          </p:nvSpPr>
          <p:spPr>
            <a:xfrm>
              <a:off x="228600" y="914400"/>
              <a:ext cx="2666880" cy="91440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981080" y="1371600"/>
              <a:ext cx="6400800" cy="3657600"/>
            </a:xfrm>
            <a:prstGeom prst="line">
              <a:avLst/>
            </a:prstGeom>
            <a:ln cap="sq" w="50760">
              <a:solidFill>
                <a:srgbClr val="00cccc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752480" y="1214280"/>
              <a:ext cx="762120" cy="457200"/>
            </a:xfrm>
            <a:prstGeom prst="line">
              <a:avLst/>
            </a:prstGeom>
            <a:ln cap="sq" w="50760">
              <a:solidFill>
                <a:srgbClr val="00cccc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1600200" y="3048120"/>
            <a:ext cx="3657600" cy="3504960"/>
            <a:chOff x="1600200" y="3048120"/>
            <a:chExt cx="3657600" cy="3504960"/>
          </a:xfrm>
        </p:grpSpPr>
        <p:sp>
          <p:nvSpPr>
            <p:cNvPr id="6" name=""/>
            <p:cNvSpPr/>
            <p:nvPr/>
          </p:nvSpPr>
          <p:spPr>
            <a:xfrm>
              <a:off x="1600200" y="3048120"/>
              <a:ext cx="2666880" cy="838080"/>
            </a:xfrm>
            <a:prstGeom prst="ellipse">
              <a:avLst/>
            </a:prstGeom>
            <a:solidFill>
              <a:srgbClr val="ff0033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448080" y="3805200"/>
              <a:ext cx="1809720" cy="2747880"/>
            </a:xfrm>
            <a:prstGeom prst="line">
              <a:avLst/>
            </a:prstGeom>
            <a:ln cap="sq" w="50760">
              <a:solidFill>
                <a:srgbClr val="ff0033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62240" y="3330720"/>
              <a:ext cx="351000" cy="550800"/>
            </a:xfrm>
            <a:prstGeom prst="line">
              <a:avLst/>
            </a:prstGeom>
            <a:ln cap="sq" w="50760">
              <a:solidFill>
                <a:srgbClr val="ff0033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3850920" y="457200"/>
            <a:ext cx="5064480" cy="5838840"/>
            <a:chOff x="3850920" y="457200"/>
            <a:chExt cx="5064480" cy="5838840"/>
          </a:xfrm>
        </p:grpSpPr>
        <p:sp>
          <p:nvSpPr>
            <p:cNvPr id="10" name=""/>
            <p:cNvSpPr/>
            <p:nvPr/>
          </p:nvSpPr>
          <p:spPr>
            <a:xfrm>
              <a:off x="4267080" y="457200"/>
              <a:ext cx="4648320" cy="16002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3850920" y="2057400"/>
              <a:ext cx="2282760" cy="4238640"/>
            </a:xfrm>
            <a:prstGeom prst="line">
              <a:avLst/>
            </a:prstGeom>
            <a:ln cap="sq" w="50760">
              <a:solidFill>
                <a:srgbClr val="3333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6172200" y="1071720"/>
              <a:ext cx="495360" cy="920520"/>
            </a:xfrm>
            <a:prstGeom prst="line">
              <a:avLst/>
            </a:prstGeom>
            <a:ln cap="sq" w="50760">
              <a:solidFill>
                <a:srgbClr val="3333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1430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51"/>
              </a:spcBef>
              <a:buClr>
                <a:srgbClr val="cbcbc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751"/>
              </a:spcBef>
              <a:buClr>
                <a:srgbClr val="cbcbc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751"/>
              </a:spcBef>
              <a:buClr>
                <a:srgbClr val="cbcbc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4" marL="1974960" indent="-219240">
              <a:spcBef>
                <a:spcPts val="751"/>
              </a:spcBef>
              <a:buClr>
                <a:srgbClr val="cbcbc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5" marL="1974960" indent="-21924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6" marL="1974960" indent="-21924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0" y="624960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FDA2-EF14-4799-A25C-408E7C23CE76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0" y="6554880"/>
            <a:ext cx="1905120" cy="30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3333ff">
              <a:alpha val="50000"/>
            </a:srgbClr>
          </a:solidFill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3040-4B3F-4FB6-AA86-EDA077C827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850920" y="457200"/>
            <a:ext cx="5064480" cy="5838840"/>
            <a:chOff x="3850920" y="457200"/>
            <a:chExt cx="5064480" cy="5838840"/>
          </a:xfrm>
        </p:grpSpPr>
        <p:sp>
          <p:nvSpPr>
            <p:cNvPr id="55" name=""/>
            <p:cNvSpPr/>
            <p:nvPr/>
          </p:nvSpPr>
          <p:spPr>
            <a:xfrm>
              <a:off x="4267080" y="457200"/>
              <a:ext cx="4648320" cy="16002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3850920" y="2057400"/>
              <a:ext cx="2282760" cy="4238640"/>
            </a:xfrm>
            <a:prstGeom prst="line">
              <a:avLst/>
            </a:prstGeom>
            <a:ln cap="sq" w="50760">
              <a:solidFill>
                <a:srgbClr val="3333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6172200" y="1071720"/>
              <a:ext cx="495360" cy="920520"/>
            </a:xfrm>
            <a:prstGeom prst="line">
              <a:avLst/>
            </a:prstGeom>
            <a:ln cap="sq" w="50760">
              <a:solidFill>
                <a:srgbClr val="3333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1600200" y="3048120"/>
            <a:ext cx="3657600" cy="3504960"/>
            <a:chOff x="1600200" y="3048120"/>
            <a:chExt cx="3657600" cy="3504960"/>
          </a:xfrm>
        </p:grpSpPr>
        <p:sp>
          <p:nvSpPr>
            <p:cNvPr id="59" name=""/>
            <p:cNvSpPr/>
            <p:nvPr/>
          </p:nvSpPr>
          <p:spPr>
            <a:xfrm>
              <a:off x="1600200" y="3048120"/>
              <a:ext cx="2666880" cy="838080"/>
            </a:xfrm>
            <a:prstGeom prst="ellipse">
              <a:avLst/>
            </a:prstGeom>
            <a:solidFill>
              <a:srgbClr val="ff0033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48080" y="3805200"/>
              <a:ext cx="1809720" cy="2747880"/>
            </a:xfrm>
            <a:prstGeom prst="line">
              <a:avLst/>
            </a:prstGeom>
            <a:ln cap="sq" w="50760">
              <a:solidFill>
                <a:srgbClr val="ff0033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162240" y="3330720"/>
              <a:ext cx="351000" cy="550800"/>
            </a:xfrm>
            <a:prstGeom prst="line">
              <a:avLst/>
            </a:prstGeom>
            <a:ln cap="sq" w="50760">
              <a:solidFill>
                <a:srgbClr val="ff0033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28600" y="914400"/>
            <a:ext cx="8153280" cy="4114800"/>
            <a:chOff x="228600" y="914400"/>
            <a:chExt cx="8153280" cy="4114800"/>
          </a:xfrm>
        </p:grpSpPr>
        <p:sp>
          <p:nvSpPr>
            <p:cNvPr id="63" name=""/>
            <p:cNvSpPr/>
            <p:nvPr/>
          </p:nvSpPr>
          <p:spPr>
            <a:xfrm>
              <a:off x="228600" y="914400"/>
              <a:ext cx="2666880" cy="91440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81080" y="1371600"/>
              <a:ext cx="6400800" cy="3657600"/>
            </a:xfrm>
            <a:prstGeom prst="line">
              <a:avLst/>
            </a:prstGeom>
            <a:ln cap="sq" w="50760">
              <a:solidFill>
                <a:srgbClr val="00cccc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752480" y="1214280"/>
              <a:ext cx="762120" cy="457200"/>
            </a:xfrm>
            <a:prstGeom prst="line">
              <a:avLst/>
            </a:prstGeom>
            <a:ln cap="sq" w="50760">
              <a:solidFill>
                <a:srgbClr val="00cccc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05320" y="1143000"/>
            <a:ext cx="5029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4"/>
          </p:nvPr>
        </p:nvSpPr>
        <p:spPr>
          <a:xfrm>
            <a:off x="0" y="624960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3388-EC76-429E-9929-40B3D9F5EE5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5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6"/>
          </p:nvPr>
        </p:nvSpPr>
        <p:spPr>
          <a:xfrm>
            <a:off x="8534520" y="6477120"/>
            <a:ext cx="380880" cy="380880"/>
          </a:xfrm>
          <a:prstGeom prst="rect">
            <a:avLst/>
          </a:prstGeom>
          <a:solidFill>
            <a:srgbClr val="3333ff">
              <a:alpha val="50000"/>
            </a:srgbClr>
          </a:solidFill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4DFB-A2A7-4800-BEB5-7617FA633D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bcbcb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bcbcb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bcbcb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81280" y="1600200"/>
            <a:ext cx="5029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99"/>
                </a:solidFill>
                <a:latin typeface="Tahoma"/>
              </a:rPr>
              <a:t>REPORT OF LATIN AMERICA AND CARIBBEAN REGIONAL WORKSHOP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505320" y="3505320"/>
            <a:ext cx="5029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n Salvador,  El Salvad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9 -31, March 2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eik M. Kh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YA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B09988C-295E-4130-B91B-52093FEC8F34}" type="datetime1">
              <a:rPr lang="en-US"/>
              <a:t>07/29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Tahoma"/>
              </a:rPr>
              <a:t>CAPACITY BUILD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mall Countries lose out to Large Countri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5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uman, Institutional, Technical Capacities need to be Strengthened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5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Need for Systematic Identification of Capacity Building Need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5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Lack of Indigenous Capacity to carry out R&amp;D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036A8C-D10B-4A4D-AAD1-3233ACEE99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buClr>
                <a:srgbClr val="ff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Tahoma"/>
              </a:rPr>
              <a:t>WORKING GROUPS SUGESS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uggestions for Possible Actions by all Parti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5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uggestions for Possible Actions led by ANNEX 11 Parti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5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uggestions for Possible Joint Activities and Partnership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5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uggestions for Possible Intergovernmental Action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0CB85D-90DD-4FE7-9B07-022796B2A948}" type="datetime1">
              <a:rPr lang="en-US"/>
              <a:t>07/29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buClr>
                <a:srgbClr val="ff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Tahoma"/>
              </a:rPr>
              <a:t>CTI SEMINA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spcBef>
                <a:spcPts val="75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OAL:   To understand regional - specific issues and barriers limiting more rapid adoption of climate-friendly technologies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spcBef>
                <a:spcPts val="75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ERSPECTIVES OF TECHNOLOGY TRANSFER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spcBef>
                <a:spcPts val="75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APACITY BUILDING NEED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spcBef>
                <a:spcPts val="75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NFORMATION NEED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spcBef>
                <a:spcPts val="75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NSTITUTIONAL NEED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spcBef>
                <a:spcPts val="75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NANCING AND PROJECT DEVELOPMENT CONSIDERATIO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D1DC42-35E8-485F-930B-3A585D000433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Tahoma"/>
              </a:rPr>
              <a:t>COUNTRY PAPE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E FOLLOWING WERE ADDRESSED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echnology Need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echnology Need Assessmen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echnology Information Assessmen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Barriers To Technology Transfer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apacity Building Need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0708FE-B012-42D3-A1C5-16CCFFB37585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enerate and share information on situations and needs of countries in LAC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dvance the consultative process by discussing possible elements of a framework for meaningful and effective actions to enhance the implementation of Article 4.5 of the Conventio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B3FE04-D5E8-4B63-ABB4-517C2EB2A9AF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Tahoma"/>
              </a:rPr>
              <a:t>PARTICIPAN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LAC        --  42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FRICA   --   2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SIA       --   3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NNEX 1 -- 19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(PRIVATE SECTOR  -- 14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275EE1-E504-452E-B04D-F49B70CA99C5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Tahoma"/>
              </a:rPr>
              <a:t>THE STRATEG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HANGE OF INFORMATION AND IDE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550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ESENTATIONS AND DISCUSSIONS OF THE IPCC SPECIAL REPORT ON METHODOLOGICAL AND TECHNOLOGICAL ISSUES IN TECHNOLOGY TRANSF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550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ONSIDERATION OF MULTILATERAL INITIATIVES TO ENHANCE THE TRANSFER OF ESTS IN LA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550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ISCUSSIONS  ON WAYS AND MEANS OF IMPROVING TRANSFER OF ESTS AND KNOW-HOW UNDER THE CONVEN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550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UNFCCC TECHNOLOGY WEBSI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550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EVELOPING POSSIBLE ELEMENTS OF A FRAMEWORK FOR MEANINGFUL AND EFFECTIVE ACTIONS TO ENHANCE IMPLEMENTATION OF ARTICLE 4.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6FCEF1-BB0E-4F5C-A651-0FFE79F282AF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Tahoma"/>
              </a:rPr>
              <a:t>WORKSHOP DISCUSSIONS ADDRESS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” technology transfer, under the convention could be effectively and sustainably carried out between parti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 Role and Function of the Private Sector in Technology Transfer in  LA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CCB7EA-58B2-4B9D-A570-7B3AF07115FB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Tahoma"/>
              </a:rPr>
              <a:t>TECHNOLOGY NEEDS AND TECHNOLOGY NEEDS ASSESSMEN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EW DETAILED ASSESSMENTS HAVE BEEN DONE IN LA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ONDUCTING COUNTRY-BASED TECHNOLOGY NEEDS ASSESSMENTS - A PRIORITY FIRST STE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ARTICULAR NEED OF LAC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00"/>
              </a:spcBef>
              <a:buClr>
                <a:srgbClr val="cbcbcb"/>
              </a:buClr>
              <a:buSzPct val="2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ANY SMALL COUNTRIES WITH LARGE RURAL POPULATION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00"/>
              </a:spcBef>
              <a:buClr>
                <a:srgbClr val="cbcbcb"/>
              </a:buClr>
              <a:buSzPct val="2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LACK OF NETWORKED ENERGY SUPPLI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00"/>
              </a:spcBef>
              <a:buClr>
                <a:srgbClr val="cbcbcb"/>
              </a:buClr>
              <a:buSzPct val="2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IORITY FOR SUSTAINABLE TECHNOLOGIES AND PROJECTS ON SMALL SCALES AND NOT TOO TECHNOLOGICALLY SOPHISTICAT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00"/>
              </a:spcBef>
              <a:buClr>
                <a:srgbClr val="cbcbcb"/>
              </a:buClr>
              <a:buSzPct val="2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OMOTING USE OF INDIGENOUS AND TRADITIONAL TECHNOLOGI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00"/>
              </a:spcBef>
              <a:buClr>
                <a:srgbClr val="cbcbcb"/>
              </a:buClr>
              <a:buSzPct val="2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DAPTATION TECHNOLOGIES SEEN AS VERY IMPORTANT PARTICULARLY COASTAL ADAPTATION TECHNOLOGI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BEA2A2-A446-4D08-8DA6-54F0F6FA7C7F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Tahoma"/>
              </a:rPr>
              <a:t>TECHNOLOGOGY INFORMA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echnology Information Transfer Inadequacy in LAC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echnology Needs Assessment Activiti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cbcbcb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CAPP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CT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e Role of the Private Sector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01C1AD-FAFE-4924-8060-57C6346A2750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buClr>
                <a:srgbClr val="ff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Tahoma"/>
              </a:rPr>
              <a:t>BARRIE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titutional Barri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ck of Commercial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adequate National Coordination of Technology Transfer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litical Barriers - Low Priority by Policy Mak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chnological Barri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conomic Barri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ck of 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ancial Barri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73755B-DF41-4C29-BC0C-E50C5DB5433D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9T12:39:44Z</dcterms:created>
  <dc:creator>Valued Gateway Client</dc:creator>
  <dc:description/>
  <dc:language>en-US</dc:language>
  <cp:lastModifiedBy>UNFCCC</cp:lastModifiedBy>
  <cp:lastPrinted>2000-05-29T13:45:57Z</cp:lastPrinted>
  <dcterms:modified xsi:type="dcterms:W3CDTF">2000-05-30T05:55:28Z</dcterms:modified>
  <cp:revision>4</cp:revision>
  <dc:subject/>
  <dc:title>REPORT OF LATIN AMERICA AND CARIBBEAN REGIONAL WORKSHOP</dc:title>
</cp:coreProperties>
</file>