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72288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668-A92D-460F-8747-57EFF8CB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8F5-1CAC-406B-879F-E98E568A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2ED-3987-4ADC-9BFF-8032A530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F55-7B2D-4A01-985F-796B2ACE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0F0F-928B-43A1-A951-7151D92E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529C-82AE-4501-8279-2B0F353E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1DBD-2197-4989-A30B-68D709C0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3275-5812-44B8-946D-421DFDDB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C463-02C3-40DC-B757-C372E9A1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D853-A403-4BAC-8B97-C9B1E63E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2779-2A92-46B9-B3E2-696493DC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C94-855E-49F0-96F5-A27C2B67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6416-04CE-437B-866E-73A6F957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530D-6A19-4FAE-9D22-C97B5AF3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0B65-A1CA-4DBB-8DE9-2149485E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E209-E7C7-42C2-8E03-2EE84382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DAE6-673C-4FCF-B93C-C1FC8624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F1A-6086-4324-852A-81006F2A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6DF-254D-473D-911E-70447A65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7E9-D27D-436F-9789-80C65A18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110-70D9-404C-B196-CD53D97D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113-792B-44F1-8C84-FAB058EB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CC1-82CE-493D-9063-F3E4E1C7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7AE-D1CD-46E9-84C2-7C3B5EC0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3600"/>
            <a:ext cx="8152920" cy="1599840"/>
            <a:chOff x="457200" y="99360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360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93" swAng="108515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93" swAng="10851582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600" y="1158840"/>
              <a:ext cx="572724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534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5348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0560" y="1379520"/>
              <a:ext cx="572364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53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53588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1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100D-403D-4078-AB96-3BC86AAFBB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5200"/>
            <a:ext cx="8152920" cy="1599840"/>
            <a:chOff x="457200" y="236520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520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93" swAng="108515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93" swAng="10851582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600" y="2530440"/>
              <a:ext cx="572724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534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5348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0560" y="2751120"/>
              <a:ext cx="572364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53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53588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1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F191-34C4-44B0-B9FC-FCEDDCD605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0" y="0"/>
            <a:ext cx="9141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40"/>
            <a:ext cx="0" cy="68551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0" y="6856560"/>
            <a:ext cx="9141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2560" y="1440"/>
            <a:ext cx="0" cy="68551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04920"/>
            <a:ext cx="77976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Outcome of the African Regional Workshop on Transf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of Technology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rusha, Tanzan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746440"/>
            <a:ext cx="8001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r. Peter P. Zho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ECG Consultants P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ox 402339 GABORONE. Botswa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el/fax 267-326575: mail pzhou@global.b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fric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gional Workshop on Transfer of Technolog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rusha, Tanzania, 16-18 August 199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Three Key Observations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from Africa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synergy between development and climate change policies has been under exploited. Success in RE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ctions to address climate change must simultaneously address development objectives. Past CC taken as technical Fixes/passing phase- even distorted mark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uccess with awareness/skills/information/Fiscal polic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velopment and implementation of actions &amp; initiatives must involve all key stakeholder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.g., intergovernmental and multilateral organizations, national and local governments, private sector, NGOs &amp; public society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 MT Extra Bold"/>
              </a:rPr>
              <a:t>Significant Outcomes 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Times New Roman MT Extra Bold"/>
              </a:rPr>
              <a:t>from Arusha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quire concerted effort to identify and prioritized technology needs- Public Domain for suitability- expanding sectoral sco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eneral barriers to technology transfer are known and practical actions to overcomethem should be initiat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greement on meaningful and effective actions and a framework for actions under the UNFCCC requires continued consulta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pacity Building in Africa is of paramount importance but specific priorities and strategies need to be mapp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440"/>
            <a:ext cx="0" cy="68551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0" y="0"/>
            <a:ext cx="9141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2560" y="1440"/>
            <a:ext cx="0" cy="68551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0" y="6856560"/>
            <a:ext cx="9141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 MT Extra Bold"/>
              </a:rPr>
              <a:t>Further Significant Outcomes 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Times New Roman MT Extra Bold"/>
              </a:rPr>
              <a:t>from Arusha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quire strategic partnerships between governments, private sector and other stakeholders on technology transf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quire partnerships among African countries as an important and potentially effective mechanism for technology transf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quire multilateral &amp; bilateral donors who play greaterrole in coordination of EST activi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0"/>
            <a:ext cx="0" cy="68551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0" y="0"/>
            <a:ext cx="9141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2560" y="1440"/>
            <a:ext cx="0" cy="68551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0" y="6856560"/>
            <a:ext cx="9141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 MT Extra Bold"/>
              </a:rPr>
              <a:t>Next steps for African countries...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3048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Undertaking technology needs assessments to identify priority technology nee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urther identification and analysis of the barriers to the transfer of priority technolog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eed a think tank to lead the deba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eed easier access to financing EST and local tech.  dev’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nsultation among stakeholders to identify practical actions to overcome barriers &amp; enhance implementation of Article 4.5 &amp; bring climate change on Development Ag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40"/>
            <a:ext cx="0" cy="68551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0" y="0"/>
            <a:ext cx="9141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2560" y="1440"/>
            <a:ext cx="0" cy="68551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0" y="6856560"/>
            <a:ext cx="9141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14400"/>
            <a:ext cx="81532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 u="sng">
                <a:solidFill>
                  <a:srgbClr val="ffcc66"/>
                </a:solidFill>
                <a:uFillTx/>
                <a:latin typeface="Garamond"/>
              </a:rPr>
              <a:t>Development of meaningfu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 u="sng">
                <a:solidFill>
                  <a:srgbClr val="ffcc66"/>
                </a:solidFill>
                <a:uFillTx/>
                <a:latin typeface="Garamond"/>
              </a:rPr>
              <a:t>and effective actions under the frame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 u="sng">
                <a:solidFill>
                  <a:srgbClr val="ffcc66"/>
                </a:solidFill>
                <a:uFillTx/>
                <a:latin typeface="Garamond"/>
              </a:rPr>
              <a:t>of the UNFCCC may be best achieved by: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 MT Extra Bold"/>
              </a:rPr>
              <a:t>Next steps for African countries...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66"/>
                </a:solidFill>
                <a:uFillTx/>
                <a:latin typeface="Garamond"/>
              </a:rPr>
              <a:t>Development of meaningfu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66"/>
                </a:solidFill>
                <a:uFillTx/>
                <a:latin typeface="Garamond"/>
              </a:rPr>
              <a:t>and effective actions under the frame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66"/>
                </a:solidFill>
                <a:uFillTx/>
                <a:latin typeface="Garamond"/>
              </a:rPr>
              <a:t>of the UNFCCC may be best achieved by: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ilding commercial interest for PVT sector/Civil society particip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formation base &amp; Networking at National/Regional/Internat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dvocating for easier windows of EST Financ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ild skills to support Decision ma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 MT Extra Bold"/>
              </a:rPr>
              <a:t>Workshop Objective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hare 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views/experienc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among Parties on past transfer of technology in the African Reg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dvance the understanding of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echnology need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&amp;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special situation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of the African count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nerate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information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idea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on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practical step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to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nhance the transfer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of technology to Af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nsider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lements of a framework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for meaningful and effective actions to enhance implementation of Article 4.5 of the Conven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0"/>
            <a:ext cx="0" cy="68551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0" y="0"/>
            <a:ext cx="9141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2560" y="1440"/>
            <a:ext cx="0" cy="68551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0" y="6856560"/>
            <a:ext cx="9141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 MT Extra Bold"/>
              </a:rPr>
              <a:t>Key Themes of Arusha: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ffcc66"/>
                </a:solidFill>
                <a:uFillTx/>
                <a:latin typeface="Times New Roman MT Extra Bold"/>
              </a:rPr>
              <a:t>Issues and Questions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echnology needs- What &amp; H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arriers &amp; Opportunities to the transfer of technolo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pacity building to enhance tech. transfer_ Specific priorities &amp; Strateg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echnology information nee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ransfer of Technology Mech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takeholder Interactions- public-private-MLI, BLI, NGO, Civil (roles and potenti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40"/>
            <a:ext cx="0" cy="68551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" y="0"/>
            <a:ext cx="9141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2560" y="1440"/>
            <a:ext cx="0" cy="685512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0" y="6856560"/>
            <a:ext cx="9141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cc66"/>
                </a:solidFill>
                <a:latin typeface="Times New Roman"/>
              </a:rPr>
              <a:t>Themes of the Arusha Workshop</a:t>
            </a:r>
            <a:endParaRPr b="0" i="1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echnology need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hat are the technology needs of African countries? What are the prioriti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frica to increase Energy-Qty &amp; Quality--Move away from unssustainable traditional biomass- to new and benign sour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nsider Sociological disparities- industrial complex Versus social upliftment-poverty allevi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frica;s diverse socio-economic/political/resource endowments dispari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ublic Domain Techs- need not most sophisticat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cc66"/>
                </a:solidFill>
                <a:latin typeface="Times New Roman"/>
              </a:rPr>
              <a:t>Themes of the Arusha Workshop</a:t>
            </a:r>
            <a:endParaRPr b="0" i="1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Barriers to the development and transfer of technologie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arriers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O CC Policies &amp; Legal- regulatory, Institutional weakness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access to finance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local &amp; international); no ready markets, poorly equipped SM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oorly informed consum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olitical corruption &amp; macroeconomic status;Poor Response to investor enquiry; Battling with ESA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cc66"/>
                </a:solidFill>
                <a:latin typeface="Times New Roman"/>
              </a:rPr>
              <a:t>Themes of the Arusha Workshop</a:t>
            </a:r>
            <a:endParaRPr b="0" i="1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cc"/>
                </a:solidFill>
                <a:uFillTx/>
                <a:latin typeface="Times New Roman"/>
              </a:rPr>
              <a:t>Capacity-building for technology transfer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cus For capacity-building,?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Best to learn by doing- engage in EST trial projects- GEF but missed out in AIJ!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Equip with business skills- part SMM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Empower socioecological group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olicy analysis; project development- a think tank ide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Establish strong legal and regulatory institu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hange African notions-rationale &amp; competitive ed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Matching needs with capaci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cc66"/>
                </a:solidFill>
                <a:latin typeface="Times New Roman"/>
              </a:rPr>
              <a:t>Themes of the Arusha Workshop</a:t>
            </a:r>
            <a:endParaRPr b="0" i="1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echnology information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hat information on technology is neede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ost technologies public domain- source &amp; appl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racking technology develop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C information In hands of govt, NGO but PVT sector lacking- sharing among stakehold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aring and replication of Experiences In-counytry; S-S and S-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eneral awareness rationale of CC activiti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cc66"/>
                </a:solidFill>
                <a:latin typeface="Times New Roman"/>
              </a:rPr>
              <a:t>Themes of the Arusha Workshop</a:t>
            </a:r>
            <a:endParaRPr b="0" i="1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ransfer of technology mechanism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ther ML and BL have conditionalities and no EST faci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UNFCCC important jump start for 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EF operative in Africa- no AIJ- Bias towards mitigation and more needed in adap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ctorally limited to ener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hat are key elements of appropriate  technology transfer mechanisms under Article 4.5?- prepare both launching and landing pad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cc66"/>
                </a:solidFill>
                <a:latin typeface="Times New Roman"/>
              </a:rPr>
              <a:t>Themes of the Arusha Workshop</a:t>
            </a:r>
            <a:endParaRPr b="0" i="1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Stakeholder Invol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ovt, NGO and RI actively involv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imited Pvt sector role- too much risk in new venture- to be involved from project develop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ovt to promote pvt sector confidence in TT as new ventur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ovt to buy down risks- but current project preferences not conducive to sustainabil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formed socie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 Organizations- promote existing opportuni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3T13:23:48Z</dcterms:created>
  <dc:creator>Peggy Albrecht</dc:creator>
  <dc:description/>
  <dc:language>en-US</dc:language>
  <cp:lastModifiedBy>UNFCCC</cp:lastModifiedBy>
  <cp:lastPrinted>2000-05-30T06:53:42Z</cp:lastPrinted>
  <dcterms:modified xsi:type="dcterms:W3CDTF">2000-06-06T09:40:06Z</dcterms:modified>
  <cp:revision>117</cp:revision>
  <dc:subject/>
  <dc:title>No Slide Title</dc:title>
</cp:coreProperties>
</file>