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879-CE24-4E5D-A2DD-FF56BA4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027-FF48-429A-ABA7-9D54610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4A1-77C3-4E8C-BC6A-A7A052D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BBB-42FD-4CE4-B8F8-413DD62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558-AD91-4FB2-A994-6C234911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468-6434-470C-92C3-F8CD50CB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F96-3A23-4772-A1D4-C1179016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3EE-D862-40D7-87BA-C97F3498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FDE-56F2-49A0-97DD-B34B118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078-7B37-43AC-8869-2F53282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DE7-744D-4792-ABBA-43EB621C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4B2-92AD-4AD2-AD8A-910978F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C09-5AEF-46C5-8521-BFD758BE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iucn.org/ce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424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 papel de la comunicación, educación, participación y concientización en la problemática del cambio climático. </a:t>
            </a:r>
            <a:br>
              <a:rPr sz="36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 experiencia del CD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7161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Marta Ande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Punto Focal para Argentina UICN-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mmission on Education and Communication"/>
          <p:cNvPicPr/>
          <p:nvPr/>
        </p:nvPicPr>
        <p:blipFill>
          <a:blip r:embed="rId1"/>
          <a:stretch/>
        </p:blipFill>
        <p:spPr>
          <a:xfrm>
            <a:off x="6804000" y="4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14004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ambio  climático no sólo es un problema técnico, sino una cuestión política, de intereses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y  de involucr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Incluir desde el inicio a CEPA, en los proyectos y estrategias nacionales destinadas a enfrentar los efectos del cambio climáti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onocer a l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Mayor Información y conocimiento no provoca necesariamente camb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da sector requiere una estrategia 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Nadie actúa si no está motivado, y nadie se motiva a menos que conozca de qué se trata la cuestión y pueda participar y decidir sobre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Estrategias de  Biodiversidad  y Planes de Acción en la región, CEP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volucrar actores cl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ercepciones de las personas sobre el asu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Promoviendo el conocimiento público para poner un problema en la ag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dentificar temas prioritarios y estraté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66ff"/>
                </a:solidFill>
                <a:latin typeface="Arial"/>
              </a:rPr>
              <a:t>Sinergias </a:t>
            </a:r>
            <a:br>
              <a:rPr sz="4000"/>
            </a:b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ntre convencione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Marco de las Naciones Unidas sobre el Cambio Clim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io sobre la Diversidad 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las Naciones Unidas de Lucha contra la Desert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nvención de Ram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Procesos CEPA orientados a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ambios en las actitudes y prác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Aprendizaje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tividad en las activ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ff"/>
                </a:solidFill>
                <a:latin typeface="Arial"/>
              </a:rPr>
              <a:t>Coordinación de esfuerzos entre sector público y priv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omplementariedad en las ac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Creación  compromisos intersector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Involucramiento de los distintos a actores sociales ( gobiernos, empresarios, industria, comunidades loc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Crear puentes entre la ciencia, la técnica, la política y la gente</a:t>
            </a:r>
            <a:br>
              <a:rPr sz="32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gracia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06600" y="2108160"/>
            <a:ext cx="613080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 rot="10800000">
            <a:off x="-3240" y="5567400"/>
            <a:ext cx="9150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ucn.org/ce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EPA (comunication, education, participation,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Estrategias diferenciadas para grupos diferenci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Complementaridad de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en conocimientos, prácticas y comport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técnicos, económicos y legal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apacitación, 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Arial"/>
              </a:rPr>
              <a:t>CEPA(communication, education,  public awaren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ción Ram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onvenio sobre Diversidad Biológica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Iniciativa mundial sobre C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(UNESCO,UNEP,UICN-CEC,Ramsar,IU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66ff"/>
                </a:solidFill>
                <a:latin typeface="Arial"/>
              </a:rPr>
              <a:t>Plan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E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Instrumentos sociales para construir apoyo, informar, capacitar,  involucrar, fortalecer a distintos grupo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s                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76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EPA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268280"/>
            <a:ext cx="581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studios de opi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Grupos fo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á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Negoci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Tall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Más que comunicación..más que un video…más que un boletin, un tall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EPA, es un proceso que combina  componentes de educación y participación, con piezas comunicacionales generand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distintas estrategias, medios y mensajes para distintos grup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47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66ff"/>
                </a:solidFill>
                <a:latin typeface="Arial"/>
              </a:rPr>
              <a:t>Comunicación, educación, participación y concientizació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ubl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CEPA(communication, education,  participation awar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00536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(tecnológicos, científicos, económicos, legales, polític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es-MX" sz="3600" spc="-1" strike="noStrike">
                <a:solidFill>
                  <a:srgbClr val="0066ff"/>
                </a:solidFill>
                <a:latin typeface="Arial"/>
              </a:rPr>
              <a:t>CAMB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Arial"/>
              </a:rPr>
              <a:t>Instrumentos sociales ( educación, información, comunicación, capacitación,sensibiliz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284640"/>
            <a:ext cx="71280" cy="73080"/>
          </a:xfrm>
          <a:custGeom>
            <a:avLst/>
            <a:gdLst>
              <a:gd name="textAreaLeft" fmla="*/ 9360 w 71280"/>
              <a:gd name="textAreaRight" fmla="*/ 61920 w 71280"/>
              <a:gd name="textAreaTop" fmla="*/ 12600 h 73080"/>
              <a:gd name="textAreaBottom" fmla="*/ 52920 h 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5181969"/>
                <a:lnTo>
                  <a:pt x="21120" y="21598"/>
                </a:lnTo>
                <a:lnTo>
                  <a:pt x="21600" y="17280"/>
                </a:lnTo>
                <a:lnTo>
                  <a:pt x="21120" y="12958"/>
                </a:lnTo>
                <a:lnTo>
                  <a:pt x="21120" y="15118"/>
                </a:lnTo>
                <a:arcTo wR="21600" hR="7560" stAng="5618031" swAng="482453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13372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6659280" y="2060640"/>
            <a:ext cx="1547640" cy="223200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25153"/>
                <a:lnTo>
                  <a:pt x="14557" y="21187"/>
                </a:lnTo>
                <a:lnTo>
                  <a:pt x="21600" y="17280"/>
                </a:lnTo>
                <a:lnTo>
                  <a:pt x="14557" y="12547"/>
                </a:lnTo>
                <a:lnTo>
                  <a:pt x="14557" y="14707"/>
                </a:lnTo>
                <a:arcTo wR="21600" hR="7560" stAng="8074847" swAng="236771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7:26:23Z</dcterms:created>
  <dc:creator>Marta</dc:creator>
  <dc:description/>
  <dc:language>en-US</dc:language>
  <cp:lastModifiedBy>x</cp:lastModifiedBy>
  <dcterms:modified xsi:type="dcterms:W3CDTF">2005-03-30T21:55:17Z</dcterms:modified>
  <cp:revision>11</cp:revision>
  <dc:subject/>
  <dc:title>El papel de la comunicación, educación, participación y concientización en la problemática del cambio climático. La experiencia del CDB. </dc:title>
</cp:coreProperties>
</file>