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22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5330-35A7-4CCD-9CDD-BABE86A5F92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20F5-59CC-4D40-9DF7-3A3CE3B6F331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DFC1-9BEA-4E19-B285-2879C3D16E68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9FEB-A48C-4D8D-A425-DD6D914384F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BER and SOLAS have established a working group t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- Coordinate international research efforts in ocean acidifi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- Undertake synthesis activities in ocean acidification at the international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may include standardisation, intercomparisons, coordination of field campaign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G is led by Jean-Pierre Gattuso and builds on the European Project on Ocean Acid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embership 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im Barr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lle Bijma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Minhan Dai (Chin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Dick Feel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an-Pierre Gattuso, Chai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ames Or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Ulf Riebesell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Lisa Robbins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Carol Turley (U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21DD-4B7D-44AD-904A-4A7034120B87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XT High CO2 Symposium (SCOR, IOC, IGBP) is planned for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BP produce summary for policy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cean Acidification is the other CO2 problem (not just Climate Cha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A43F-83E7-43B0-8C0B-4FE4173AA351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9ECC-3BE7-463F-ADD3-964F2EB798A8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244D-15D2-4BD5-8376-498AD280D294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7B27-AD72-4272-BDEC-3D78E118EE97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2B52-16B8-49FC-9220-3CA3DA4AE88F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2792-AECB-4C1F-905B-31A6E1A62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48D069-6B31-42C8-82BA-5332001B455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ceans are acidifying as a result of the dissolution of atmospheric CO2. This is measurable: time series from the North Pacif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ta: Atmospheric CO2 Pieter Tans, Seawater data: David Ka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emistry is well known, predicted over 20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equences for climate, C cycle and fisheries, etc. Not fully anticip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way to halt ocean acidification is to decrease CO2 in atmosphere – decrease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342F-9843-4A03-9CE1-7A20848A893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71CF-CCC2-49A1-A115-86F0251C16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ceans are decreasing amount of CO2 in atmosphere and therefore reducing climate warming from anthropogenic CO2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 are mechanisms of CO2 removal by oceans and how ocean acidification affect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3252-AA47-4B4E-BFCE-93B80A1E770F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all this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433F-C398-49F4-B918-E11119355E68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all to deep ocean essentially removing CO2 as shells and their biomass (organ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ortant part of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CA9C-30D7-4246-9AFB-7CCA4613083C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EE44-3630-4392-A4B5-8ED9D90677E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2E68-3070-48C0-BFF8-9912FCA2A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16B12-CF1F-4B52-85BE-E780BC0CA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E036-64FE-48B9-B946-872745A90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C56E5-9DE7-4FF2-A6C3-DC78A72B0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57DA4-5C3D-4018-B431-7F0ABE72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31E95-5CCC-4BD1-8302-75A9E50B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8E710-B86A-4615-9DC8-F5C0616C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921C4-7086-4B34-87E0-FCFD1E26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F0645-4718-43DB-AF96-E6892FCE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F3CB5-F3A5-4F3F-A9D5-D43F3174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B19CB-2F05-4F1E-9345-3A923C06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A3B55-C1FE-4E0C-92FE-D2FFD618D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0BB7C-E7FC-4A50-BC1A-C5DAEFDF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5600A-6D31-44D6-8AD3-ABED6C28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5D567-C507-4AB2-8E8F-09D533F5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38903-715C-4A34-A70D-CB83F26A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6272F-1822-4D5C-92B3-B93E450F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87632-2979-4973-9AFE-C5652571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F497D-5FF2-4621-9B5B-5B95CF0E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F787E-C0C4-43EE-9831-11A2F426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6B63A-BCDE-4E83-BEFB-7DA0ADB2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C5091-B093-4065-9533-A4ACCA7B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BF7F3-1ED3-4E06-BABB-76C5C6A859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27DBF-CBA8-4F3B-988F-7E03E479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C9789F-E713-4EBE-8EF9-502E1747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C7977-976D-4145-9CBC-CA6DEA58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09F3E-3045-4631-BF7E-65B2557A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32734-8D04-4093-9505-8CC928C2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8366A-2F44-4ED3-9133-101D7DB3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AFA1E-CBE5-401B-88A7-182F3E59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CB8A10-8EC6-477A-A032-009187D9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F949E0-042C-4B58-81A4-95FE719B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D774F2-9BD2-4A98-8440-75C3FE12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FAE05-71F1-4938-9605-90696FA31D7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02A126-6337-46C5-BD6F-748B8011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EC73DA-BEDE-4BBE-83F5-2198BED7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7B984F-AAF8-4EA3-A95A-2B841CC9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B9E321-D375-4C19-A872-AED2023B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87B72B-6D0B-4FD5-A413-9CA3568C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4F7FC1-8FAE-4C6D-AC57-C8E6DDE6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E2B0D9-4FEF-4F82-8516-9115E4F7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86587A-2CB0-4E69-8962-EBD97AF6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D19C91-E001-4C1E-BB89-12A08074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20EC41-CADF-4C5B-A4E1-4B65A3E3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3EF33-2444-4EE5-9AE2-602E9B676B5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A830D7-E16E-4E94-8E1D-BCA6488D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C180F3-ECE4-498E-9922-54D091E7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6EC72F-AA56-4AEC-A4B9-862E7214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C49DD-B027-4191-AE20-FAFAB9BD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E91B2-EEAD-4656-A9FF-214B491F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749098-34EB-4D03-A54B-11BE078B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01AEC2-39BA-4BFF-A549-0D59C05C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AB28CE-404C-471F-9D6E-1A54E8CE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65EB6A-AC2A-42C3-8A8E-3D299AD7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5610A-8D3A-4DFD-B4E0-5311D3E1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1FC1-1F36-4E90-BFC5-56C1F3C0713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0F029C-3365-4466-A981-38DD7FEA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3D0D4-EB0C-4CD9-ABC0-1DD519BB4FE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CBF8D-252E-4140-A09E-102606EF7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87C8B-F8EC-4640-A9DD-8FBAC843A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E8CA-FA62-462E-8FBC-B03959469679}" type="slidenum">
              <a:rPr b="0" lang="sv-SE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CACE-81F6-4E26-8C89-ABD786D397C5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F8F4-7082-49AE-A6A2-403F4E9C65DD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6BCD-7B58-4A12-BBCB-2244044127A3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B7A9-6C1E-4E05-9DB4-EED502BDF5DB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26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12A6-BA47-4840-9469-3B5924AA8655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3543-90EC-4C7F-851B-45614642ADA0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45A8-7CA9-4151-846E-FF184B0D70AE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18960" y="1981080"/>
            <a:ext cx="92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5157720" y="3733920"/>
            <a:ext cx="383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826080" cy="2133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3680" cy="733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hlamys"/>
          <p:cNvPicPr/>
          <p:nvPr/>
        </p:nvPicPr>
        <p:blipFill>
          <a:blip r:embed="rId4"/>
          <a:stretch/>
        </p:blipFill>
        <p:spPr>
          <a:xfrm>
            <a:off x="7620120" y="2514600"/>
            <a:ext cx="1123920" cy="8366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2"/>
          <p:cNvSpPr/>
          <p:nvPr/>
        </p:nvSpPr>
        <p:spPr>
          <a:xfrm>
            <a:off x="525780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ecreasing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eft Arrow 13"/>
          <p:cNvSpPr/>
          <p:nvPr/>
        </p:nvSpPr>
        <p:spPr>
          <a:xfrm>
            <a:off x="7238880" y="6324480"/>
            <a:ext cx="1676520" cy="22860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4"/>
          <p:cNvSpPr/>
          <p:nvPr/>
        </p:nvSpPr>
        <p:spPr>
          <a:xfrm>
            <a:off x="1007640" y="601992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Ries et al.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Cooley and Done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cean acidification slows shell calc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152280" y="2514600"/>
            <a:ext cx="510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conomic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shellfish prod. 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10.5  billion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ruptio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2"/>
          <p:cNvSpPr/>
          <p:nvPr/>
        </p:nvSpPr>
        <p:spPr>
          <a:xfrm rot="16200000">
            <a:off x="3117600" y="328284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et calcification rate (wt% per 60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Kiel-Kosmos_9.jpg"/>
          <p:cNvPicPr/>
          <p:nvPr/>
        </p:nvPicPr>
        <p:blipFill>
          <a:blip r:embed="rId1"/>
          <a:stretch/>
        </p:blipFill>
        <p:spPr>
          <a:xfrm>
            <a:off x="587520" y="1389240"/>
            <a:ext cx="19494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Kiel-Kosmos_10.jpg"/>
          <p:cNvPicPr/>
          <p:nvPr/>
        </p:nvPicPr>
        <p:blipFill>
          <a:blip r:embed="rId2"/>
          <a:stretch/>
        </p:blipFill>
        <p:spPr>
          <a:xfrm>
            <a:off x="587520" y="3078000"/>
            <a:ext cx="1949400" cy="1463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Kiel-Kosmos_13.jpg"/>
          <p:cNvPicPr/>
          <p:nvPr/>
        </p:nvPicPr>
        <p:blipFill>
          <a:blip r:embed="rId3"/>
          <a:stretch/>
        </p:blipFill>
        <p:spPr>
          <a:xfrm>
            <a:off x="527040" y="4699080"/>
            <a:ext cx="2038320" cy="13590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6"/>
          <p:cNvSpPr/>
          <p:nvPr/>
        </p:nvSpPr>
        <p:spPr>
          <a:xfrm>
            <a:off x="3224160" y="22860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ational coord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8" descr="SOLAS"/>
          <p:cNvPicPr/>
          <p:nvPr/>
        </p:nvPicPr>
        <p:blipFill>
          <a:blip r:embed="rId4"/>
          <a:srcRect l="0" t="33380" r="0" b="0"/>
          <a:stretch/>
        </p:blipFill>
        <p:spPr>
          <a:xfrm>
            <a:off x="3581280" y="5867280"/>
            <a:ext cx="1371600" cy="712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351" name="Picture 31" descr="IMBER"/>
          <p:cNvPicPr/>
          <p:nvPr/>
        </p:nvPicPr>
        <p:blipFill>
          <a:blip r:embed="rId5"/>
          <a:srcRect l="0" t="0" r="0" b="20796"/>
          <a:stretch/>
        </p:blipFill>
        <p:spPr>
          <a:xfrm>
            <a:off x="5486400" y="5867280"/>
            <a:ext cx="1143000" cy="706680"/>
          </a:xfrm>
          <a:prstGeom prst="rect">
            <a:avLst/>
          </a:prstGeom>
          <a:ln w="0">
            <a:noFill/>
          </a:ln>
          <a:effectLst>
            <a:outerShdw dist="12783" dir="15616346" blurRad="0" rotWithShape="0">
              <a:srgbClr val="808080">
                <a:alpha val="75000"/>
              </a:srgbClr>
            </a:outerShdw>
          </a:effectLst>
        </p:spPr>
      </p:pic>
      <p:sp>
        <p:nvSpPr>
          <p:cNvPr id="352" name="TextBox 6"/>
          <p:cNvSpPr/>
          <p:nvPr/>
        </p:nvSpPr>
        <p:spPr>
          <a:xfrm>
            <a:off x="4855320" y="50594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imber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3352680" y="1981080"/>
            <a:ext cx="643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tandardiz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ordinate field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Summary for Policyma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テキスト ボックス 6"/>
          <p:cNvSpPr/>
          <p:nvPr/>
        </p:nvSpPr>
        <p:spPr>
          <a:xfrm>
            <a:off x="2209680" y="1522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spm_cover-1.jpg"/>
          <p:cNvPicPr/>
          <p:nvPr/>
        </p:nvPicPr>
        <p:blipFill>
          <a:blip r:embed="rId1"/>
          <a:stretch/>
        </p:blipFill>
        <p:spPr>
          <a:xfrm>
            <a:off x="1523880" y="1066680"/>
            <a:ext cx="3206880" cy="4488120"/>
          </a:xfrm>
          <a:prstGeom prst="rect">
            <a:avLst/>
          </a:prstGeom>
          <a:ln w="3240">
            <a:solidFill>
              <a:srgbClr val="a6a6a6"/>
            </a:solidFill>
            <a:miter/>
          </a:ln>
        </p:spPr>
      </p:pic>
      <p:pic>
        <p:nvPicPr>
          <p:cNvPr id="357" name="Picture 6" descr=""/>
          <p:cNvPicPr/>
          <p:nvPr/>
        </p:nvPicPr>
        <p:blipFill>
          <a:blip r:embed="rId2"/>
          <a:stretch/>
        </p:blipFill>
        <p:spPr>
          <a:xfrm>
            <a:off x="1676520" y="6172200"/>
            <a:ext cx="525240" cy="520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iaea_org_logo_new"/>
          <p:cNvPicPr/>
          <p:nvPr/>
        </p:nvPicPr>
        <p:blipFill>
          <a:blip r:embed="rId3"/>
          <a:stretch/>
        </p:blipFill>
        <p:spPr>
          <a:xfrm>
            <a:off x="2666880" y="6234120"/>
            <a:ext cx="1630440" cy="3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3" descr="SCOR"/>
          <p:cNvPicPr/>
          <p:nvPr/>
        </p:nvPicPr>
        <p:blipFill>
          <a:blip r:embed="rId4"/>
          <a:srcRect l="0" t="8540" r="0" b="13386"/>
          <a:stretch/>
        </p:blipFill>
        <p:spPr>
          <a:xfrm>
            <a:off x="228600" y="6216480"/>
            <a:ext cx="762120" cy="463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SPM-French-cover.jpg"/>
          <p:cNvPicPr/>
          <p:nvPr/>
        </p:nvPicPr>
        <p:blipFill>
          <a:blip r:embed="rId5"/>
          <a:stretch/>
        </p:blipFill>
        <p:spPr>
          <a:xfrm>
            <a:off x="3352680" y="914400"/>
            <a:ext cx="3144960" cy="4449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SPM-Spanish-cover_Page_1.jpg"/>
          <p:cNvPicPr/>
          <p:nvPr/>
        </p:nvPicPr>
        <p:blipFill>
          <a:blip r:embed="rId6"/>
          <a:stretch/>
        </p:blipFill>
        <p:spPr>
          <a:xfrm>
            <a:off x="4495680" y="2133720"/>
            <a:ext cx="315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Still much to be learn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333440" y="23842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116000" y="17524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714840" y="60958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Calibri"/>
              </a:rPr>
              <a:t>www.IGB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5486400" y="12193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9040" y="759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7" descr="CO2-ph NorthPacificOcean.jpg"/>
          <p:cNvPicPr/>
          <p:nvPr/>
        </p:nvPicPr>
        <p:blipFill>
          <a:blip r:embed="rId1"/>
          <a:stretch/>
        </p:blipFill>
        <p:spPr>
          <a:xfrm>
            <a:off x="1143000" y="1219320"/>
            <a:ext cx="7319880" cy="4635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7"/>
          <p:cNvSpPr/>
          <p:nvPr/>
        </p:nvSpPr>
        <p:spPr>
          <a:xfrm>
            <a:off x="1071720" y="5919840"/>
            <a:ext cx="74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(Feely et al., 200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809240" y="2438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tmos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4656600" y="36576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ea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5337360" y="4572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371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8"/>
          <p:cNvGrpSpPr/>
          <p:nvPr/>
        </p:nvGrpSpPr>
        <p:grpSpPr>
          <a:xfrm>
            <a:off x="3233880" y="2600280"/>
            <a:ext cx="5262480" cy="1584360"/>
            <a:chOff x="3233880" y="2600280"/>
            <a:chExt cx="5262480" cy="1584360"/>
          </a:xfrm>
        </p:grpSpPr>
        <p:sp>
          <p:nvSpPr>
            <p:cNvPr id="271" name="Text Box 9"/>
            <p:cNvSpPr/>
            <p:nvPr/>
          </p:nvSpPr>
          <p:spPr>
            <a:xfrm>
              <a:off x="5305320" y="29084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9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3233880" y="3462120"/>
              <a:ext cx="1780920" cy="1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11" descr=""/>
            <p:cNvPicPr/>
            <p:nvPr/>
          </p:nvPicPr>
          <p:blipFill>
            <a:blip r:embed="rId1"/>
            <a:stretch/>
          </p:blipFill>
          <p:spPr>
            <a:xfrm>
              <a:off x="6148440" y="2600280"/>
              <a:ext cx="234792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4" name="Group 16"/>
          <p:cNvGrpSpPr/>
          <p:nvPr/>
        </p:nvGrpSpPr>
        <p:grpSpPr>
          <a:xfrm>
            <a:off x="3249720" y="3595680"/>
            <a:ext cx="5254560" cy="2478600"/>
            <a:chOff x="3249720" y="3595680"/>
            <a:chExt cx="5254560" cy="2478600"/>
          </a:xfrm>
        </p:grpSpPr>
        <p:sp>
          <p:nvSpPr>
            <p:cNvPr id="275" name="Text Box 17"/>
            <p:cNvSpPr/>
            <p:nvPr/>
          </p:nvSpPr>
          <p:spPr>
            <a:xfrm>
              <a:off x="5314680" y="5005440"/>
              <a:ext cx="849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6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3249720" y="3595680"/>
              <a:ext cx="1765080" cy="1849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19" descr=""/>
            <p:cNvPicPr/>
            <p:nvPr/>
          </p:nvPicPr>
          <p:blipFill>
            <a:blip r:embed="rId2"/>
            <a:stretch/>
          </p:blipFill>
          <p:spPr>
            <a:xfrm>
              <a:off x="6165720" y="4413240"/>
              <a:ext cx="233856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8" name="Group 12"/>
          <p:cNvGrpSpPr/>
          <p:nvPr/>
        </p:nvGrpSpPr>
        <p:grpSpPr>
          <a:xfrm>
            <a:off x="3246480" y="836640"/>
            <a:ext cx="5249880" cy="2490840"/>
            <a:chOff x="3246480" y="836640"/>
            <a:chExt cx="5249880" cy="2490840"/>
          </a:xfrm>
        </p:grpSpPr>
        <p:sp>
          <p:nvSpPr>
            <p:cNvPr id="279" name="Text Box 13"/>
            <p:cNvSpPr/>
            <p:nvPr/>
          </p:nvSpPr>
          <p:spPr>
            <a:xfrm>
              <a:off x="5305320" y="9320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45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 flipV="1">
              <a:off x="3246480" y="1592280"/>
              <a:ext cx="1768320" cy="1735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15" descr=""/>
            <p:cNvPicPr/>
            <p:nvPr/>
          </p:nvPicPr>
          <p:blipFill>
            <a:blip r:embed="rId3"/>
            <a:stretch/>
          </p:blipFill>
          <p:spPr>
            <a:xfrm>
              <a:off x="6148440" y="836640"/>
              <a:ext cx="2347920" cy="15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82" name="Text Box 2"/>
          <p:cNvSpPr/>
          <p:nvPr/>
        </p:nvSpPr>
        <p:spPr>
          <a:xfrm>
            <a:off x="898560" y="0"/>
            <a:ext cx="8245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te of anthropogenic CO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emi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2000-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881000" y="6475320"/>
            <a:ext cx="457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Le Quéré et al. 2009, Nature geoscience; </a:t>
            </a:r>
            <a:r>
              <a:rPr b="0" lang="en-AU" sz="1200" spc="-1" strike="noStrike">
                <a:solidFill>
                  <a:srgbClr val="ffffff"/>
                </a:solidFill>
                <a:latin typeface="Arial Narrow"/>
              </a:rPr>
              <a:t>Canadell et al. 2007, PNAS,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50720" y="3570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504080" y="2852640"/>
            <a:ext cx="5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4"/>
          <a:stretch/>
        </p:blipFill>
        <p:spPr>
          <a:xfrm>
            <a:off x="293760" y="1095480"/>
            <a:ext cx="283824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7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1040" y="3768840"/>
            <a:ext cx="283860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595959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7f7f7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Organisms remove 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make bio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alcium carbonate sh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occolithoph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298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pH disrupts shell 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314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74"/>
          <p:cNvGrpSpPr/>
          <p:nvPr/>
        </p:nvGrpSpPr>
        <p:grpSpPr>
          <a:xfrm>
            <a:off x="3581280" y="1746360"/>
            <a:ext cx="1008000" cy="5111280"/>
            <a:chOff x="3581280" y="1746360"/>
            <a:chExt cx="1008000" cy="5111280"/>
          </a:xfrm>
        </p:grpSpPr>
        <p:pic>
          <p:nvPicPr>
            <p:cNvPr id="323" name="Picture 14" descr="Clepto_630ppm"/>
            <p:cNvPicPr/>
            <p:nvPr/>
          </p:nvPicPr>
          <p:blipFill>
            <a:blip r:embed="rId6"/>
            <a:stretch/>
          </p:blipFill>
          <p:spPr>
            <a:xfrm>
              <a:off x="3581280" y="4554360"/>
              <a:ext cx="100800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5" descr="Cpela_1100ppm"/>
            <p:cNvPicPr/>
            <p:nvPr/>
          </p:nvPicPr>
          <p:blipFill>
            <a:blip r:embed="rId7"/>
            <a:stretch/>
          </p:blipFill>
          <p:spPr>
            <a:xfrm>
              <a:off x="3581280" y="5921280"/>
              <a:ext cx="10080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71" descr="G_oceanica_highCO2"/>
            <p:cNvPicPr/>
            <p:nvPr/>
          </p:nvPicPr>
          <p:blipFill>
            <a:blip r:embed="rId8"/>
            <a:stretch/>
          </p:blipFill>
          <p:spPr>
            <a:xfrm>
              <a:off x="3581280" y="1746360"/>
              <a:ext cx="100800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3" descr="Ehux_2000_CO2"/>
            <p:cNvPicPr/>
            <p:nvPr/>
          </p:nvPicPr>
          <p:blipFill>
            <a:blip r:embed="rId9"/>
            <a:stretch/>
          </p:blipFill>
          <p:spPr>
            <a:xfrm>
              <a:off x="3581280" y="3041640"/>
              <a:ext cx="1008000" cy="10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Down Arrow 30"/>
          <p:cNvSpPr/>
          <p:nvPr/>
        </p:nvSpPr>
        <p:spPr>
          <a:xfrm>
            <a:off x="2971800" y="380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4"/>
          <p:cNvSpPr/>
          <p:nvPr/>
        </p:nvSpPr>
        <p:spPr>
          <a:xfrm>
            <a:off x="4119840" y="10666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own Arrow 35"/>
          <p:cNvSpPr/>
          <p:nvPr/>
        </p:nvSpPr>
        <p:spPr>
          <a:xfrm>
            <a:off x="3886200" y="11430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15:46Z</dcterms:created>
  <dc:creator>Sybil Seitzinger</dc:creator>
  <dc:description/>
  <dc:language>en-US</dc:language>
  <cp:lastModifiedBy>Jamm</cp:lastModifiedBy>
  <dcterms:modified xsi:type="dcterms:W3CDTF">2010-06-03T08:11:25Z</dcterms:modified>
  <cp:revision>105</cp:revision>
  <dc:subject/>
  <dc:title>Slide 1</dc:title>
</cp:coreProperties>
</file>