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jpeg" ContentType="image/jpeg"/>
  <Override PartName="/ppt/media/image22.jpeg" ContentType="image/jpeg"/>
  <Override PartName="/ppt/media/image9.jpeg" ContentType="image/jpeg"/>
  <Override PartName="/ppt/media/image11.jpeg" ContentType="image/jpeg"/>
  <Override PartName="/ppt/media/image27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6B60-E55A-4D49-97E0-A06140BC3039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A590-06B0-4866-AB48-8E1690F3FE58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5A1E-415C-4266-8D5C-E0D9E4C382BB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273D-8581-4D3F-98BB-4270BC74A616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MBER and SOLAS have established a working group to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- Coordinate international research efforts in ocean acidific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- Undertake synthesis activities in ocean acidification at the international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may include standardisation, intercomparisons, coordination of field campaigns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G is led by Jean-Pierre Gattuso and builds on the European Project on Ocean Acidific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membership 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im Barry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elle Bijma (Germany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Minhan Dai (Chin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Dick Feely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ean-Pierre Gattuso, Chair (France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ames Orr (France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Ulf Riebesell (Germany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Lisa Robbins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Carol Turley (UK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0F13-DF1F-4B48-B715-6BBE2D3EC5CE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XT High CO2 Symposium (SCOR, IOC, IGBP) is planned for 20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GBP produce summary for policym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cean Acidification is the other CO2 problem (not just Climate Chan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C6DB-AF24-47F3-8FB2-8EE2884A9D2F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A432-D0C1-4341-950E-7F289F770A9B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C74F-9AD2-4B7A-BF74-BC7A43F3422A}" type="slidenum">
              <a:rPr b="0" lang="sv-SE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29E9-15F8-48F2-9440-04DDB33061C1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B0ED-AC6F-4978-8CF1-6543554A85E9}" type="slidenum">
              <a:rPr b="0" lang="sv-SE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DFC4-8818-4B18-8A1D-DE2FE05D3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AF0A836-2AF6-414A-B684-611E8EC07BA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oceans are acidifying as a result of the dissolution of atmospheric CO2. This is measurable: time series from the North Pacif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ata: Atmospheric CO2 Pieter Tans, Seawater data: David Kar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emistry is well known, predicted over 20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sequences for climate, C cycle and fisheries, etc. Not fully anticip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ly way to halt ocean acidification is to decrease CO2 in atmosphere – decrease emi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C24C-951A-470B-B979-C5D6AE059D0E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6D2D-0809-45FB-ADE5-E151AC47D6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ceans are decreasing amount of CO2 in atmosphere and therefore reducing climate warming from anthropogenic CO2 emi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hat are mechanisms of CO2 removal by oceans and how ocean acidification affect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iological pump were somehow shut-off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ic CO2 levels would increase by around 200 ppmv (Parekh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t al., 200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armiento, 198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ome portion sinks to deep ocean thereby effectively removing CO2 for long period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rganisms that make calcium carbonate shells are ones we know are weak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CF2C-5818-4261-9E72-C846BC6591B5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ome portion sinks to deep ocean thereby effectively removing CO2 for long period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all this the biological pu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iological pump were somehow shut-off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ic CO2 levels would increase by around 200 ppmv (Parekh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t al., 200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armiento, 198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rganisms that make calcium carbonate shells are ones we know are weak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359A-7A38-4F83-B9A2-1EBBFA031AC7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ccolithophores largest producer of calcite on Earth, responsible for x% of primary (plant) production in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fall to deep ocean essentially removing CO2 as shells and their biomass (organi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ortant part of the biological pu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nsiderable number of laboratory experiments and some large enclosures in ocean have been conduc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how that as pH decreases the shells of these organisms are deformed, les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lication is that as pH ocean decreases, they will draw down less calcium carbonate to deep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Therefore, less CO2 would be removed from atmosphere by ocean. More CO2 in atmosphere – warmer clim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7D61-CE2A-4253-8373-3F9633A563BB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ccolithophores largest producer of calcite on Earth, responsible for x% of primary (plant) production in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nsiderable number of laboratory experiments and some large enclosures in ocean have been conduc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how that as pH decreases the shells of these organisms are deformed, les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lication is that as pH ocean decreases, they will draw down less calcium carbonate to deep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Therefore, less CO2 would be removed from atmosphere by ocean. More CO2 in atmosphere – warmer clim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62F5-6F3C-4A47-BD85-6F5B079177B9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3BAD3-6FD9-455D-BFD5-4CC02E2110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40EE8-7DE3-40CA-86F2-06E9F2F9D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30179-2EB7-4510-84E2-C28F1C612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F0342-4BA9-4BA9-A4FE-CE24C5ED76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9B98C-70CF-4606-8F0D-246B0F36B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500E0-7A0A-4FA1-A7AD-1C4C39D9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C0457-3DE5-4130-BC7F-8FDD2922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0D741-A941-46AA-90C9-5B2BCC77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FE016-6DF2-47FF-9FEA-EA78C535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8FA58-79F5-434E-8792-A355E927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17728-9A7D-4A95-8374-5A2BB9A8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46F6F-E1A8-4B1A-9ED4-9F2992D46C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80A25-9738-4376-BD0C-CC2370CA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3E54E-1263-4E56-AB57-7290AD17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7A0F7-0C59-4605-AE88-49B1FA18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6D03C-D15B-4171-ACD2-3B6C4910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62BDF-DF89-49ED-B436-3C8BA18F4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84378E-1C71-435D-8B30-739E717DA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12F916-9606-4C73-9D74-48927E26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3DDB43-2F8C-4DE8-A926-B6DB94BE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33A12A-9EC5-497A-B77D-39E40FC3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AADBDB-29EB-40A2-9BC9-E7BAC006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364D6-C135-40C8-9A5B-6B6A320453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F64201-CF8D-4124-9A0C-03802EFA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1918D3-E490-4AE4-86C6-AE6E255A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0F8BF0-AF9F-4D66-94D7-A3F56BC5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7B941D-077E-44ED-B7FA-4DC01254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D18EBC-47DD-4FAE-84F4-CA69B9B6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6D3635-6AD9-4073-834D-F88C993DD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C54710-9B3B-49B1-AA45-891C9B78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89CBB0-7884-4AB2-897B-7B6D433DD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643A48-1125-4C8B-A0A5-C67A2ACD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DF5B6A-6438-4CB9-921D-B4761FBA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0D6B2-B015-45AF-918E-75172A5929C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5DAF57-9DCE-403E-AB32-821462B6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79DB28-6D36-45DE-A4CF-38BEF2E6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2979D5-335D-4C24-8A52-A57AD810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559197-4AD9-4279-9F30-83F48AB5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B24AF7-3014-4E04-8FBD-1BF27A0E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88FCA6-76B0-40B9-8BEC-C46A75B7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7811E2-D1D7-4955-8BC4-7F7F3099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D2DE1F-9938-4B5A-BEDB-BC94B8617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82C71A-AAE4-4D87-A2AD-0E4BF3DDB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36602D-9F7E-4D61-8F30-ACA964D28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F3171-7124-4BE7-AB46-7FCC47E1184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A2577A-BD1B-45E0-9C8F-B1E53AAF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3822F2-2385-43E0-9A9F-AE2F5FAA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2AFC8B-2007-4327-9A60-5E34ED30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E2A231-ADAE-4759-A2B5-CB1AB4E5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BE029F-F294-4123-8ABC-AB21267C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51F226-0651-436F-9D02-EB3325B6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F0990A-066E-4090-B61B-177B978A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EFDEBF-67D4-4DFB-94C5-6E0B795B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628599-5795-443E-89D1-C4009940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53B8F9-A5C4-41B6-ABAA-FDB300581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4E171-8A19-4DAE-9BC4-FAB2A551DD2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BD9D5A-D80E-42B5-B85E-44040AD6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EDB73-D9C5-437E-83CE-0AED51EB4AA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84CDF-A44E-486D-B81C-E76954505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BEAF3-DEF0-49D1-A781-70DF0E4CB7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DFCD-54FE-46D6-B2E0-8617CC410FB8}" type="slidenum">
              <a:rPr b="0" lang="sv-SE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B40F-7B37-4935-95E9-87E1281669A6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163F-DFFB-4726-9989-7AB14B5F94A5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2A40-77F3-4334-8F6B-335440E23DC3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B716-C4F0-484D-A680-5D7555D969EB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126" name="Isosceles Triangle 6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ABA9-1191-413F-AEB8-B4CF8C930A3C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DDA1-4B33-4AB6-A396-B60869B42433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7558-6C38-497A-B206-C3638644F5B6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218960" y="1981080"/>
            <a:ext cx="921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sv-SE" sz="3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negative impact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5157720" y="3733920"/>
            <a:ext cx="3834000" cy="24382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826080" cy="2133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"/>
          <p:cNvPicPr/>
          <p:nvPr/>
        </p:nvPicPr>
        <p:blipFill>
          <a:blip r:embed="rId3"/>
          <a:stretch/>
        </p:blipFill>
        <p:spPr>
          <a:xfrm>
            <a:off x="7620120" y="4876920"/>
            <a:ext cx="1093680" cy="7333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Chlamys"/>
          <p:cNvPicPr/>
          <p:nvPr/>
        </p:nvPicPr>
        <p:blipFill>
          <a:blip r:embed="rId4"/>
          <a:stretch/>
        </p:blipFill>
        <p:spPr>
          <a:xfrm>
            <a:off x="7620120" y="2514600"/>
            <a:ext cx="1123920" cy="836640"/>
          </a:xfrm>
          <a:prstGeom prst="rect">
            <a:avLst/>
          </a:prstGeom>
          <a:ln w="0">
            <a:noFill/>
          </a:ln>
        </p:spPr>
      </p:pic>
      <p:sp>
        <p:nvSpPr>
          <p:cNvPr id="340" name="TextBox 12"/>
          <p:cNvSpPr/>
          <p:nvPr/>
        </p:nvSpPr>
        <p:spPr>
          <a:xfrm>
            <a:off x="5257800" y="6248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Decreasing 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eft Arrow 13"/>
          <p:cNvSpPr/>
          <p:nvPr/>
        </p:nvSpPr>
        <p:spPr>
          <a:xfrm>
            <a:off x="7238880" y="6324480"/>
            <a:ext cx="1676520" cy="22860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4"/>
          <p:cNvSpPr/>
          <p:nvPr/>
        </p:nvSpPr>
        <p:spPr>
          <a:xfrm>
            <a:off x="1007640" y="601992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Ries et al.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Cooley and Done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cean acidification slows shell calc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152280" y="2514600"/>
            <a:ext cx="5105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conomic l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obal shellfish prod. 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10.5  billion US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ruptio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2"/>
          <p:cNvSpPr/>
          <p:nvPr/>
        </p:nvSpPr>
        <p:spPr>
          <a:xfrm rot="16200000">
            <a:off x="3117600" y="328284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Net calcification rate (wt% per 60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3" descr="Kiel-Kosmos_9.jpg"/>
          <p:cNvPicPr/>
          <p:nvPr/>
        </p:nvPicPr>
        <p:blipFill>
          <a:blip r:embed="rId1"/>
          <a:stretch/>
        </p:blipFill>
        <p:spPr>
          <a:xfrm>
            <a:off x="587520" y="1389240"/>
            <a:ext cx="1949400" cy="1463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Kiel-Kosmos_10.jpg"/>
          <p:cNvPicPr/>
          <p:nvPr/>
        </p:nvPicPr>
        <p:blipFill>
          <a:blip r:embed="rId2"/>
          <a:stretch/>
        </p:blipFill>
        <p:spPr>
          <a:xfrm>
            <a:off x="587520" y="3078000"/>
            <a:ext cx="1949400" cy="14637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Kiel-Kosmos_13.jpg"/>
          <p:cNvPicPr/>
          <p:nvPr/>
        </p:nvPicPr>
        <p:blipFill>
          <a:blip r:embed="rId3"/>
          <a:stretch/>
        </p:blipFill>
        <p:spPr>
          <a:xfrm>
            <a:off x="527040" y="4699080"/>
            <a:ext cx="2038320" cy="1359000"/>
          </a:xfrm>
          <a:prstGeom prst="rect">
            <a:avLst/>
          </a:prstGeom>
          <a:ln w="0">
            <a:noFill/>
          </a:ln>
        </p:spPr>
      </p:pic>
      <p:sp>
        <p:nvSpPr>
          <p:cNvPr id="349" name="TextBox 6"/>
          <p:cNvSpPr/>
          <p:nvPr/>
        </p:nvSpPr>
        <p:spPr>
          <a:xfrm>
            <a:off x="3224160" y="228600"/>
            <a:ext cx="53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national coord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8" descr="SOLAS"/>
          <p:cNvPicPr/>
          <p:nvPr/>
        </p:nvPicPr>
        <p:blipFill>
          <a:blip r:embed="rId4"/>
          <a:srcRect l="0" t="33380" r="0" b="0"/>
          <a:stretch/>
        </p:blipFill>
        <p:spPr>
          <a:xfrm>
            <a:off x="3581280" y="5867280"/>
            <a:ext cx="1371600" cy="712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351" name="Picture 31" descr="IMBER"/>
          <p:cNvPicPr/>
          <p:nvPr/>
        </p:nvPicPr>
        <p:blipFill>
          <a:blip r:embed="rId5"/>
          <a:srcRect l="0" t="0" r="0" b="20796"/>
          <a:stretch/>
        </p:blipFill>
        <p:spPr>
          <a:xfrm>
            <a:off x="5486400" y="5867280"/>
            <a:ext cx="1143000" cy="706680"/>
          </a:xfrm>
          <a:prstGeom prst="rect">
            <a:avLst/>
          </a:prstGeom>
          <a:ln w="0">
            <a:noFill/>
          </a:ln>
          <a:effectLst>
            <a:outerShdw dist="12783" dir="15616346" blurRad="0" rotWithShape="0">
              <a:srgbClr val="808080">
                <a:alpha val="75000"/>
              </a:srgbClr>
            </a:outerShdw>
          </a:effectLst>
        </p:spPr>
      </p:pic>
      <p:sp>
        <p:nvSpPr>
          <p:cNvPr id="352" name="TextBox 6"/>
          <p:cNvSpPr/>
          <p:nvPr/>
        </p:nvSpPr>
        <p:spPr>
          <a:xfrm>
            <a:off x="4855320" y="505944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imber.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0"/>
          <p:cNvSpPr/>
          <p:nvPr/>
        </p:nvSpPr>
        <p:spPr>
          <a:xfrm>
            <a:off x="3352680" y="1981080"/>
            <a:ext cx="6437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standardize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oordinate field campa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Summary for Policymak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テキスト ボックス 6"/>
          <p:cNvSpPr/>
          <p:nvPr/>
        </p:nvSpPr>
        <p:spPr>
          <a:xfrm>
            <a:off x="2209680" y="15228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7" descr="spm_cover-1.jpg"/>
          <p:cNvPicPr/>
          <p:nvPr/>
        </p:nvPicPr>
        <p:blipFill>
          <a:blip r:embed="rId1"/>
          <a:stretch/>
        </p:blipFill>
        <p:spPr>
          <a:xfrm>
            <a:off x="1523880" y="1066680"/>
            <a:ext cx="3206880" cy="4488120"/>
          </a:xfrm>
          <a:prstGeom prst="rect">
            <a:avLst/>
          </a:prstGeom>
          <a:ln w="3240">
            <a:solidFill>
              <a:srgbClr val="a6a6a6"/>
            </a:solidFill>
            <a:miter/>
          </a:ln>
        </p:spPr>
      </p:pic>
      <p:pic>
        <p:nvPicPr>
          <p:cNvPr id="357" name="Picture 6" descr=""/>
          <p:cNvPicPr/>
          <p:nvPr/>
        </p:nvPicPr>
        <p:blipFill>
          <a:blip r:embed="rId2"/>
          <a:stretch/>
        </p:blipFill>
        <p:spPr>
          <a:xfrm>
            <a:off x="1676520" y="6172200"/>
            <a:ext cx="525240" cy="5205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iaea_org_logo_new"/>
          <p:cNvPicPr/>
          <p:nvPr/>
        </p:nvPicPr>
        <p:blipFill>
          <a:blip r:embed="rId3"/>
          <a:stretch/>
        </p:blipFill>
        <p:spPr>
          <a:xfrm>
            <a:off x="2666880" y="6234120"/>
            <a:ext cx="1630440" cy="395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3" descr="SCOR"/>
          <p:cNvPicPr/>
          <p:nvPr/>
        </p:nvPicPr>
        <p:blipFill>
          <a:blip r:embed="rId4"/>
          <a:srcRect l="0" t="8540" r="0" b="13386"/>
          <a:stretch/>
        </p:blipFill>
        <p:spPr>
          <a:xfrm>
            <a:off x="228600" y="6216480"/>
            <a:ext cx="762120" cy="463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SPM-French-cover.jpg"/>
          <p:cNvPicPr/>
          <p:nvPr/>
        </p:nvPicPr>
        <p:blipFill>
          <a:blip r:embed="rId5"/>
          <a:stretch/>
        </p:blipFill>
        <p:spPr>
          <a:xfrm>
            <a:off x="3352680" y="914400"/>
            <a:ext cx="3144960" cy="44496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SPM-Spanish-cover_Page_1.jpg"/>
          <p:cNvPicPr/>
          <p:nvPr/>
        </p:nvPicPr>
        <p:blipFill>
          <a:blip r:embed="rId6"/>
          <a:stretch/>
        </p:blipFill>
        <p:spPr>
          <a:xfrm>
            <a:off x="4495680" y="2133720"/>
            <a:ext cx="31528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sv-SE" sz="3600" spc="-1" strike="noStrike">
                <a:solidFill>
                  <a:srgbClr val="ffffff"/>
                </a:solidFill>
                <a:latin typeface="Arial"/>
              </a:rPr>
              <a:t>Still much to be learne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IGBP_newlogo09-right-white.pdf"/>
          <p:cNvPicPr/>
          <p:nvPr/>
        </p:nvPicPr>
        <p:blipFill>
          <a:blip r:embed="rId1"/>
          <a:stretch/>
        </p:blipFill>
        <p:spPr>
          <a:xfrm>
            <a:off x="-1333440" y="2384280"/>
            <a:ext cx="10260000" cy="72504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057400" y="1980720"/>
            <a:ext cx="5556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Sybil Seitz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ecutive Director, I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IGBP_newlogo09-right-white.pdf"/>
          <p:cNvPicPr/>
          <p:nvPr/>
        </p:nvPicPr>
        <p:blipFill>
          <a:blip r:embed="rId1"/>
          <a:stretch/>
        </p:blipFill>
        <p:spPr>
          <a:xfrm>
            <a:off x="-1116000" y="1752480"/>
            <a:ext cx="10260000" cy="7250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057400" y="1980720"/>
            <a:ext cx="5556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Sybil Seitz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ecutive Director, I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3714840" y="60958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Calibri"/>
              </a:rPr>
              <a:t>www.IGBP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5486400" y="1219320"/>
            <a:ext cx="3048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9040" y="759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7" descr="CO2-ph NorthPacificOcean.jpg"/>
          <p:cNvPicPr/>
          <p:nvPr/>
        </p:nvPicPr>
        <p:blipFill>
          <a:blip r:embed="rId1"/>
          <a:stretch/>
        </p:blipFill>
        <p:spPr>
          <a:xfrm>
            <a:off x="1143000" y="1219320"/>
            <a:ext cx="7319880" cy="4635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7"/>
          <p:cNvSpPr/>
          <p:nvPr/>
        </p:nvSpPr>
        <p:spPr>
          <a:xfrm>
            <a:off x="1071720" y="5919840"/>
            <a:ext cx="7462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(Feely et al., 200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4809240" y="243828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Atmos 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4656600" y="365760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sea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5337360" y="4572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3716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8"/>
          <p:cNvGrpSpPr/>
          <p:nvPr/>
        </p:nvGrpSpPr>
        <p:grpSpPr>
          <a:xfrm>
            <a:off x="3233880" y="2600280"/>
            <a:ext cx="5262480" cy="1584360"/>
            <a:chOff x="3233880" y="2600280"/>
            <a:chExt cx="5262480" cy="1584360"/>
          </a:xfrm>
        </p:grpSpPr>
        <p:sp>
          <p:nvSpPr>
            <p:cNvPr id="271" name="Text Box 9"/>
            <p:cNvSpPr/>
            <p:nvPr/>
          </p:nvSpPr>
          <p:spPr>
            <a:xfrm>
              <a:off x="5305320" y="2908440"/>
              <a:ext cx="849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29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"/>
            <p:cNvSpPr/>
            <p:nvPr/>
          </p:nvSpPr>
          <p:spPr>
            <a:xfrm flipV="1">
              <a:off x="3233880" y="3462120"/>
              <a:ext cx="1780920" cy="14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Picture 11" descr=""/>
            <p:cNvPicPr/>
            <p:nvPr/>
          </p:nvPicPr>
          <p:blipFill>
            <a:blip r:embed="rId1"/>
            <a:stretch/>
          </p:blipFill>
          <p:spPr>
            <a:xfrm>
              <a:off x="6148440" y="2600280"/>
              <a:ext cx="2347920" cy="1584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74" name="Group 16"/>
          <p:cNvGrpSpPr/>
          <p:nvPr/>
        </p:nvGrpSpPr>
        <p:grpSpPr>
          <a:xfrm>
            <a:off x="3249720" y="3595680"/>
            <a:ext cx="5254560" cy="2478600"/>
            <a:chOff x="3249720" y="3595680"/>
            <a:chExt cx="5254560" cy="2478600"/>
          </a:xfrm>
        </p:grpSpPr>
        <p:sp>
          <p:nvSpPr>
            <p:cNvPr id="275" name="Text Box 17"/>
            <p:cNvSpPr/>
            <p:nvPr/>
          </p:nvSpPr>
          <p:spPr>
            <a:xfrm>
              <a:off x="5314680" y="5005440"/>
              <a:ext cx="849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26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8"/>
            <p:cNvSpPr/>
            <p:nvPr/>
          </p:nvSpPr>
          <p:spPr>
            <a:xfrm>
              <a:off x="3249720" y="3595680"/>
              <a:ext cx="1765080" cy="1849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Picture 19" descr=""/>
            <p:cNvPicPr/>
            <p:nvPr/>
          </p:nvPicPr>
          <p:blipFill>
            <a:blip r:embed="rId2"/>
            <a:stretch/>
          </p:blipFill>
          <p:spPr>
            <a:xfrm>
              <a:off x="6165720" y="4413240"/>
              <a:ext cx="2338560" cy="1584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78" name="Group 12"/>
          <p:cNvGrpSpPr/>
          <p:nvPr/>
        </p:nvGrpSpPr>
        <p:grpSpPr>
          <a:xfrm>
            <a:off x="3246480" y="836640"/>
            <a:ext cx="5249880" cy="2490840"/>
            <a:chOff x="3246480" y="836640"/>
            <a:chExt cx="5249880" cy="2490840"/>
          </a:xfrm>
        </p:grpSpPr>
        <p:sp>
          <p:nvSpPr>
            <p:cNvPr id="279" name="Text Box 13"/>
            <p:cNvSpPr/>
            <p:nvPr/>
          </p:nvSpPr>
          <p:spPr>
            <a:xfrm>
              <a:off x="5305320" y="932040"/>
              <a:ext cx="849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45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4"/>
            <p:cNvSpPr/>
            <p:nvPr/>
          </p:nvSpPr>
          <p:spPr>
            <a:xfrm flipV="1">
              <a:off x="3246480" y="1592280"/>
              <a:ext cx="1768320" cy="1735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Picture 15" descr=""/>
            <p:cNvPicPr/>
            <p:nvPr/>
          </p:nvPicPr>
          <p:blipFill>
            <a:blip r:embed="rId3"/>
            <a:stretch/>
          </p:blipFill>
          <p:spPr>
            <a:xfrm>
              <a:off x="6148440" y="836640"/>
              <a:ext cx="2347920" cy="1562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282" name="Text Box 2"/>
          <p:cNvSpPr/>
          <p:nvPr/>
        </p:nvSpPr>
        <p:spPr>
          <a:xfrm>
            <a:off x="898560" y="0"/>
            <a:ext cx="82454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ate of anthropogenic CO</a:t>
            </a:r>
            <a:r>
              <a:rPr b="0" lang="en-A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emis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(2000-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881000" y="6475320"/>
            <a:ext cx="457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Narrow"/>
              </a:rPr>
              <a:t>Le Quéré et al. 2009, Nature geoscience; </a:t>
            </a:r>
            <a:r>
              <a:rPr b="0" lang="en-AU" sz="1200" spc="-1" strike="noStrike">
                <a:solidFill>
                  <a:srgbClr val="ffffff"/>
                </a:solidFill>
                <a:latin typeface="Arial Narrow"/>
              </a:rPr>
              <a:t>Canadell et al. 2007, PNAS, 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450720" y="35701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504080" y="2852640"/>
            <a:ext cx="58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6" descr=""/>
          <p:cNvPicPr/>
          <p:nvPr/>
        </p:nvPicPr>
        <p:blipFill>
          <a:blip r:embed="rId4"/>
          <a:stretch/>
        </p:blipFill>
        <p:spPr>
          <a:xfrm>
            <a:off x="293760" y="1095480"/>
            <a:ext cx="2838240" cy="19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7" name="Picture 7" descr="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311040" y="3768840"/>
            <a:ext cx="2838600" cy="19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limate &amp; 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144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sv-S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dissolves s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decreases with     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Down Arrow 3"/>
          <p:cNvSpPr/>
          <p:nvPr/>
        </p:nvSpPr>
        <p:spPr>
          <a:xfrm>
            <a:off x="5029200" y="24382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c4bd9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limate &amp; 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9144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595959"/>
                </a:solidFill>
                <a:latin typeface="Arial"/>
              </a:rPr>
              <a:t>CO</a:t>
            </a:r>
            <a:r>
              <a:rPr b="0" lang="sv-SE" sz="3200" spc="-1" strike="noStrike" baseline="-25000">
                <a:solidFill>
                  <a:srgbClr val="595959"/>
                </a:solidFill>
                <a:latin typeface="Arial"/>
              </a:rPr>
              <a:t>2</a:t>
            </a:r>
            <a:r>
              <a:rPr b="0" lang="sv-SE" sz="3200" spc="-1" strike="noStrike">
                <a:solidFill>
                  <a:srgbClr val="595959"/>
                </a:solidFill>
                <a:latin typeface="Arial"/>
              </a:rPr>
              <a:t> dissolves s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7f7f7f"/>
                </a:solidFill>
                <a:latin typeface="Arial"/>
              </a:rPr>
              <a:t>decreases with     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Organisms remove CO</a:t>
            </a:r>
            <a:r>
              <a:rPr b="0" lang="sv-S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make bio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alcium carbonate she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Down Arrow 3"/>
          <p:cNvSpPr/>
          <p:nvPr/>
        </p:nvSpPr>
        <p:spPr>
          <a:xfrm>
            <a:off x="5029200" y="24382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159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occolithopho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15" descr="cwall99_med"/>
          <p:cNvPicPr/>
          <p:nvPr/>
        </p:nvPicPr>
        <p:blipFill>
          <a:blip r:embed="rId1"/>
          <a:stretch/>
        </p:blipFill>
        <p:spPr>
          <a:xfrm>
            <a:off x="5791320" y="2362320"/>
            <a:ext cx="3009960" cy="2409840"/>
          </a:xfrm>
          <a:prstGeom prst="rect">
            <a:avLst/>
          </a:prstGeom>
          <a:ln w="0">
            <a:noFill/>
          </a:ln>
        </p:spPr>
      </p:pic>
      <p:sp>
        <p:nvSpPr>
          <p:cNvPr id="296" name="TextBox 5"/>
          <p:cNvSpPr/>
          <p:nvPr/>
        </p:nvSpPr>
        <p:spPr>
          <a:xfrm>
            <a:off x="6708240" y="48769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NASA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3"/>
          <p:cNvGrpSpPr/>
          <p:nvPr/>
        </p:nvGrpSpPr>
        <p:grpSpPr>
          <a:xfrm>
            <a:off x="609480" y="1741320"/>
            <a:ext cx="2233800" cy="5347440"/>
            <a:chOff x="609480" y="1741320"/>
            <a:chExt cx="2233800" cy="5347440"/>
          </a:xfrm>
        </p:grpSpPr>
        <p:pic>
          <p:nvPicPr>
            <p:cNvPr id="298" name="Picture 6" descr="Cpela"/>
            <p:cNvPicPr/>
            <p:nvPr/>
          </p:nvPicPr>
          <p:blipFill>
            <a:blip r:embed="rId2"/>
            <a:stretch/>
          </p:blipFill>
          <p:spPr>
            <a:xfrm>
              <a:off x="1185840" y="5916600"/>
              <a:ext cx="107928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7" descr="clepto_3pack"/>
            <p:cNvPicPr/>
            <p:nvPr/>
          </p:nvPicPr>
          <p:blipFill>
            <a:blip r:embed="rId3"/>
            <a:stretch/>
          </p:blipFill>
          <p:spPr>
            <a:xfrm>
              <a:off x="1185840" y="4549680"/>
              <a:ext cx="107928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" descr="Ehux2_5"/>
            <p:cNvPicPr/>
            <p:nvPr/>
          </p:nvPicPr>
          <p:blipFill>
            <a:blip r:embed="rId4"/>
            <a:stretch/>
          </p:blipFill>
          <p:spPr>
            <a:xfrm>
              <a:off x="1185840" y="3036960"/>
              <a:ext cx="1079280" cy="10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9" descr="G_oceanica"/>
            <p:cNvPicPr/>
            <p:nvPr/>
          </p:nvPicPr>
          <p:blipFill>
            <a:blip r:embed="rId5"/>
            <a:stretch/>
          </p:blipFill>
          <p:spPr>
            <a:xfrm>
              <a:off x="1185840" y="1741320"/>
              <a:ext cx="107928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16"/>
            <p:cNvSpPr/>
            <p:nvPr/>
          </p:nvSpPr>
          <p:spPr>
            <a:xfrm>
              <a:off x="682560" y="404496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E. huxley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609480" y="2533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G. ocea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609480" y="6781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braarud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609480" y="548460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quadriperfor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Rectangle 32"/>
          <p:cNvSpPr/>
          <p:nvPr/>
        </p:nvSpPr>
        <p:spPr>
          <a:xfrm>
            <a:off x="685800" y="5791320"/>
            <a:ext cx="3962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3"/>
          <p:cNvSpPr/>
          <p:nvPr/>
        </p:nvSpPr>
        <p:spPr>
          <a:xfrm>
            <a:off x="5562720" y="13716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Coccolithophores largest producer of calcit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33"/>
          <p:cNvSpPr/>
          <p:nvPr/>
        </p:nvSpPr>
        <p:spPr>
          <a:xfrm>
            <a:off x="772920" y="106668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mbient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6"/>
          <p:cNvSpPr/>
          <p:nvPr/>
        </p:nvSpPr>
        <p:spPr>
          <a:xfrm>
            <a:off x="2067120" y="6019920"/>
            <a:ext cx="202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Riebesell et al.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anger et al.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59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pH disrupts shell 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15" descr="cwall99_med"/>
          <p:cNvPicPr/>
          <p:nvPr/>
        </p:nvPicPr>
        <p:blipFill>
          <a:blip r:embed="rId1"/>
          <a:stretch/>
        </p:blipFill>
        <p:spPr>
          <a:xfrm>
            <a:off x="5791320" y="2362320"/>
            <a:ext cx="3009960" cy="24098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5"/>
          <p:cNvSpPr/>
          <p:nvPr/>
        </p:nvSpPr>
        <p:spPr>
          <a:xfrm>
            <a:off x="6708240" y="48769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NASA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23"/>
          <p:cNvGrpSpPr/>
          <p:nvPr/>
        </p:nvGrpSpPr>
        <p:grpSpPr>
          <a:xfrm>
            <a:off x="609480" y="1741320"/>
            <a:ext cx="2233800" cy="5347440"/>
            <a:chOff x="609480" y="1741320"/>
            <a:chExt cx="2233800" cy="5347440"/>
          </a:xfrm>
        </p:grpSpPr>
        <p:pic>
          <p:nvPicPr>
            <p:cNvPr id="314" name="Picture 6" descr="Cpela"/>
            <p:cNvPicPr/>
            <p:nvPr/>
          </p:nvPicPr>
          <p:blipFill>
            <a:blip r:embed="rId2"/>
            <a:stretch/>
          </p:blipFill>
          <p:spPr>
            <a:xfrm>
              <a:off x="1185840" y="5916600"/>
              <a:ext cx="107928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7" descr="clepto_3pack"/>
            <p:cNvPicPr/>
            <p:nvPr/>
          </p:nvPicPr>
          <p:blipFill>
            <a:blip r:embed="rId3"/>
            <a:stretch/>
          </p:blipFill>
          <p:spPr>
            <a:xfrm>
              <a:off x="1185840" y="4549680"/>
              <a:ext cx="107928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8" descr="Ehux2_5"/>
            <p:cNvPicPr/>
            <p:nvPr/>
          </p:nvPicPr>
          <p:blipFill>
            <a:blip r:embed="rId4"/>
            <a:stretch/>
          </p:blipFill>
          <p:spPr>
            <a:xfrm>
              <a:off x="1185840" y="3036960"/>
              <a:ext cx="1079280" cy="10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9" descr="G_oceanica"/>
            <p:cNvPicPr/>
            <p:nvPr/>
          </p:nvPicPr>
          <p:blipFill>
            <a:blip r:embed="rId5"/>
            <a:stretch/>
          </p:blipFill>
          <p:spPr>
            <a:xfrm>
              <a:off x="1185840" y="1741320"/>
              <a:ext cx="107928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16"/>
            <p:cNvSpPr/>
            <p:nvPr/>
          </p:nvSpPr>
          <p:spPr>
            <a:xfrm>
              <a:off x="682560" y="404496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E. huxley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7"/>
            <p:cNvSpPr/>
            <p:nvPr/>
          </p:nvSpPr>
          <p:spPr>
            <a:xfrm>
              <a:off x="609480" y="2533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G. ocea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8"/>
            <p:cNvSpPr/>
            <p:nvPr/>
          </p:nvSpPr>
          <p:spPr>
            <a:xfrm>
              <a:off x="609480" y="6781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braarud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9"/>
            <p:cNvSpPr/>
            <p:nvPr/>
          </p:nvSpPr>
          <p:spPr>
            <a:xfrm>
              <a:off x="609480" y="548460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quadriperfor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74"/>
          <p:cNvGrpSpPr/>
          <p:nvPr/>
        </p:nvGrpSpPr>
        <p:grpSpPr>
          <a:xfrm>
            <a:off x="3581280" y="1746360"/>
            <a:ext cx="1008000" cy="5111280"/>
            <a:chOff x="3581280" y="1746360"/>
            <a:chExt cx="1008000" cy="5111280"/>
          </a:xfrm>
        </p:grpSpPr>
        <p:pic>
          <p:nvPicPr>
            <p:cNvPr id="323" name="Picture 14" descr="Clepto_630ppm"/>
            <p:cNvPicPr/>
            <p:nvPr/>
          </p:nvPicPr>
          <p:blipFill>
            <a:blip r:embed="rId6"/>
            <a:stretch/>
          </p:blipFill>
          <p:spPr>
            <a:xfrm>
              <a:off x="3581280" y="4554360"/>
              <a:ext cx="1008000" cy="9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15" descr="Cpela_1100ppm"/>
            <p:cNvPicPr/>
            <p:nvPr/>
          </p:nvPicPr>
          <p:blipFill>
            <a:blip r:embed="rId7"/>
            <a:stretch/>
          </p:blipFill>
          <p:spPr>
            <a:xfrm>
              <a:off x="3581280" y="5921280"/>
              <a:ext cx="10080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71" descr="G_oceanica_highCO2"/>
            <p:cNvPicPr/>
            <p:nvPr/>
          </p:nvPicPr>
          <p:blipFill>
            <a:blip r:embed="rId8"/>
            <a:stretch/>
          </p:blipFill>
          <p:spPr>
            <a:xfrm>
              <a:off x="3581280" y="1746360"/>
              <a:ext cx="1008000" cy="80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73" descr="Ehux_2000_CO2"/>
            <p:cNvPicPr/>
            <p:nvPr/>
          </p:nvPicPr>
          <p:blipFill>
            <a:blip r:embed="rId9"/>
            <a:stretch/>
          </p:blipFill>
          <p:spPr>
            <a:xfrm>
              <a:off x="3581280" y="3041640"/>
              <a:ext cx="1008000" cy="100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Down Arrow 30"/>
          <p:cNvSpPr/>
          <p:nvPr/>
        </p:nvSpPr>
        <p:spPr>
          <a:xfrm>
            <a:off x="2971800" y="3808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2"/>
          <p:cNvSpPr/>
          <p:nvPr/>
        </p:nvSpPr>
        <p:spPr>
          <a:xfrm>
            <a:off x="685800" y="5791320"/>
            <a:ext cx="3962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3"/>
          <p:cNvSpPr/>
          <p:nvPr/>
        </p:nvSpPr>
        <p:spPr>
          <a:xfrm>
            <a:off x="5562720" y="13716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Coccolithophores largest producer of calcit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33"/>
          <p:cNvSpPr/>
          <p:nvPr/>
        </p:nvSpPr>
        <p:spPr>
          <a:xfrm>
            <a:off x="772920" y="106668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mbient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34"/>
          <p:cNvSpPr/>
          <p:nvPr/>
        </p:nvSpPr>
        <p:spPr>
          <a:xfrm>
            <a:off x="4119840" y="10666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Down Arrow 35"/>
          <p:cNvSpPr/>
          <p:nvPr/>
        </p:nvSpPr>
        <p:spPr>
          <a:xfrm>
            <a:off x="3886200" y="1143000"/>
            <a:ext cx="228600" cy="3808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6"/>
          <p:cNvSpPr/>
          <p:nvPr/>
        </p:nvSpPr>
        <p:spPr>
          <a:xfrm>
            <a:off x="2067120" y="6019920"/>
            <a:ext cx="202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Riebesell et al.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anger et al.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1:15:46Z</dcterms:created>
  <dc:creator>Sybil Seitzinger</dc:creator>
  <dc:description/>
  <dc:language>en-US</dc:language>
  <cp:lastModifiedBy>Jamm</cp:lastModifiedBy>
  <dcterms:modified xsi:type="dcterms:W3CDTF">2010-06-03T08:11:25Z</dcterms:modified>
  <cp:revision>105</cp:revision>
  <dc:subject/>
  <dc:title>Slide 1</dc:title>
</cp:coreProperties>
</file>