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85B3-83B1-49BA-993A-7FDC9A8A2A18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3D1B-DD89-4E60-90A1-C7D21E39BEFF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9DF1-A621-4255-A68A-56A70E0BF0D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7A86-A32F-412F-8E56-A3F29F64F38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BER and SOLAS have established a working group t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- Coordinate international research efforts in ocean acidifi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- Undertake synthesis activities in ocean acidification at the international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may include standardisation, intercomparisons, coordination of field campaign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G is led by Jean-Pierre Gattuso and builds on the European Project on Ocean Acid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embership 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im Barr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lle Bijma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Minhan Dai (Chin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Dick Feel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an-Pierre Gattuso, Chai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ames Or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Ulf Riebesell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Lisa Robbins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Carol Turley (U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DF68-F167-44DE-84BD-14A050BD01FB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XT High CO2 Symposium (SCOR, IOC, IGBP) is planned for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BP produce summary for policy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cean Acidification is the other CO2 problem (not just Climate Ch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7DE2-BC0E-4ABC-AE2F-836C56181572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E211-F4E9-4423-8D76-719098FE26B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3915-3556-48CD-A32A-6F7B148932E7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F16D-B5FD-4011-B3A2-CC04D80EA57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89F1-19DA-4CCF-87A1-D632661199F1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0A2C-C0A3-4489-A764-5E1D0FE10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09759A-354C-4468-A863-8FA2BC93142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ceans are acidifying as a result of the dissolution of atmospheric CO2. This is measurable: time series from the North Pacif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: Atmospheric CO2 Pieter Tans, Seawater data: David Ka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emistry is well known, predicted over 20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equences for climate, C cycle and fisheries, etc. Not fully anticip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way to halt ocean acidification is to decrease CO2 in atmosphere – decrease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EDF6-748A-4E1A-ABF2-53496CC56C9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EBBC-4DC1-4801-973F-2749C3ACFF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ceans are decreasing amount of CO2 in atmosphere and therefore reducing climate warming from anthropogenic CO2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are mechanisms of CO2 removal by oceans and how ocean acidification affect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C548-AAD9-4C21-8032-C4859D70E8B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all this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2C76-BD97-4A0D-8B14-7B5ED80C7E5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ll to deep ocean essentially removing CO2 as shells and their biomass (organ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ortant part of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FE5C-93D6-47E5-8804-EA5FACA8A957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27F1-FE67-4826-820E-09C9F668A9E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05F9-84DF-4777-AA0A-E080C40FA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561A9-031B-4F6C-834D-7620080F5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3D18-2801-44BC-B792-521AF9BF1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04329-EC9E-4042-AAA8-954691FDD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F4EEA-F490-416F-AD1B-24F182DC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A7C04-9DE3-42FD-8A9B-9DC8F954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98E92-F77D-4E62-8C40-067E3E8B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9CDB5-2418-4A8F-B1DF-D79869B9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92D43-4590-4557-A3D9-0DF91B06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C2E4F-FE4E-4B73-ADAA-0E8831A6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76E2E-FE41-4D07-B6E0-90EA957D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1789A-7DD2-4873-9288-AD5A56A1D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093D6-29AE-4E22-9506-4ECA78C6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72FBF-641F-4F3E-AEC4-69065B04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49554-021E-4FA5-A81C-48CB8EA5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FFC9C-6963-4597-90C0-DA359BF5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7528E-F94C-47A5-92AC-9983FB80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7127C-49D4-42B1-9486-28196B72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2F4EA-BDA0-47FF-AAAE-4629CB1A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DB2019-4E4A-4DF0-95D7-3D196AE7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6E27A-E4FE-40CC-AA27-86363C15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11722-4CCE-4312-85D3-73E048FD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80EC6-6564-4F6A-8789-F67B7F6947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B7050-FF26-467F-A80C-4F92396E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6183B-FCB6-424E-947F-A81CF6F5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A70BD-08A1-4B1E-AAC2-E0D71F84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80A3A-C995-43FD-8954-5FB6A82D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A56A3-17E0-48E8-AA0E-E610E8C6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E0495-626C-4E53-8136-246FB807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DF59C-42C6-45D1-99DD-11116C2F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FF475F-EE9C-44BC-9027-795EF8F3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D8F64A-705E-4415-9350-BFD7B93A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BDCAFB-978A-4353-B721-964B98EE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E9A1-8B04-41C5-BADE-EAAC882178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3B32B1-FB02-4B08-A68F-737107E6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6D202F-2293-4558-819F-0CA9C015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1130CB-2BED-472E-A3B6-C5946E56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98E75C-05A1-4F65-8268-4DB77B07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0751BB-6831-4918-AC92-45EED723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D0104C-333A-40DF-B326-56E1B7E7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73BBE6-1691-44EC-A472-F6AF452E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804EF2-9C43-4795-B969-E217F467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A0416F-0ED2-44E4-A9CE-591B8D1A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4D7A5-CCCB-4810-A31C-641A82FB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FF36-6265-4049-A04C-9CBBE4B160E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333560-4CAB-4D55-B98B-FEDF7E74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A35E8-B913-414E-9686-756002C5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35B6B-3B42-44CE-92D1-08E9B880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7A583-58C9-468F-A678-5B7D479C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25984-500A-4ECD-83AD-C9EDD4A4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8C7389-6164-499F-901C-2B72B570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D9C228-68B2-41C5-ABBA-BF98A430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C20FE-E6FC-4FA5-A277-FFEE6F15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08919-E1D0-47E0-BB52-0EF3C44C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D60C71-C176-4C83-AD38-95D31232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A6B8-1233-41F9-B574-8CF1E9BCD86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9B009-A49D-419A-91CD-E5A685FE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3BDCD-F962-49DB-954A-EE4597E9EBF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18919-4483-4530-808C-831E7E8A3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025F0-D5E1-45C2-9102-BF2DF6E3F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448F-E0E7-4609-B1A7-E2A1F75B018E}" type="slidenum">
              <a:rPr b="0" lang="sv-SE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3FFC-1A98-4E37-B618-E29A2EC0625D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7C0C-217C-48C2-9CA8-7DA39F21EA95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A117-3FD6-4195-B3D8-84E844DDAE0F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2D37-3F6B-4511-89A4-82C9058E6163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BE16-D5FB-4BD3-B46A-DCC908B4DD0F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9B28-3915-4144-8809-B5CBE18CDA06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8708-030F-4106-A6BF-1F7A975D0FE2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18960" y="1981080"/>
            <a:ext cx="92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5157720" y="3733920"/>
            <a:ext cx="383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826080" cy="2133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3680" cy="733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hlamys"/>
          <p:cNvPicPr/>
          <p:nvPr/>
        </p:nvPicPr>
        <p:blipFill>
          <a:blip r:embed="rId4"/>
          <a:stretch/>
        </p:blipFill>
        <p:spPr>
          <a:xfrm>
            <a:off x="7620120" y="2514600"/>
            <a:ext cx="1123920" cy="836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2"/>
          <p:cNvSpPr/>
          <p:nvPr/>
        </p:nvSpPr>
        <p:spPr>
          <a:xfrm>
            <a:off x="52578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creasing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eft Arrow 13"/>
          <p:cNvSpPr/>
          <p:nvPr/>
        </p:nvSpPr>
        <p:spPr>
          <a:xfrm>
            <a:off x="7238880" y="6324480"/>
            <a:ext cx="1676520" cy="2286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1007640" y="601992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Ries et al.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Cooley and Done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cean acidification slows shell calc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152280" y="251460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onomic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shellfish prod. 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10.5  billion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ruptio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 rot="16200000">
            <a:off x="3117600" y="32828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et calcification rate (wt% per 60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Kiel-Kosmos_9.jpg"/>
          <p:cNvPicPr/>
          <p:nvPr/>
        </p:nvPicPr>
        <p:blipFill>
          <a:blip r:embed="rId1"/>
          <a:stretch/>
        </p:blipFill>
        <p:spPr>
          <a:xfrm>
            <a:off x="587520" y="1389240"/>
            <a:ext cx="19494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Kiel-Kosmos_10.jpg"/>
          <p:cNvPicPr/>
          <p:nvPr/>
        </p:nvPicPr>
        <p:blipFill>
          <a:blip r:embed="rId2"/>
          <a:stretch/>
        </p:blipFill>
        <p:spPr>
          <a:xfrm>
            <a:off x="587520" y="3078000"/>
            <a:ext cx="1949400" cy="1463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Kiel-Kosmos_13.jpg"/>
          <p:cNvPicPr/>
          <p:nvPr/>
        </p:nvPicPr>
        <p:blipFill>
          <a:blip r:embed="rId3"/>
          <a:stretch/>
        </p:blipFill>
        <p:spPr>
          <a:xfrm>
            <a:off x="527040" y="4699080"/>
            <a:ext cx="2038320" cy="13590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3224160" y="22860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tional coord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8" descr="SOLAS"/>
          <p:cNvPicPr/>
          <p:nvPr/>
        </p:nvPicPr>
        <p:blipFill>
          <a:blip r:embed="rId4"/>
          <a:srcRect l="0" t="33380" r="0" b="0"/>
          <a:stretch/>
        </p:blipFill>
        <p:spPr>
          <a:xfrm>
            <a:off x="3581280" y="5867280"/>
            <a:ext cx="1371600" cy="71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351" name="Picture 31" descr="IMBER"/>
          <p:cNvPicPr/>
          <p:nvPr/>
        </p:nvPicPr>
        <p:blipFill>
          <a:blip r:embed="rId5"/>
          <a:srcRect l="0" t="0" r="0" b="20796"/>
          <a:stretch/>
        </p:blipFill>
        <p:spPr>
          <a:xfrm>
            <a:off x="5486400" y="5867280"/>
            <a:ext cx="1143000" cy="706680"/>
          </a:xfrm>
          <a:prstGeom prst="rect">
            <a:avLst/>
          </a:prstGeom>
          <a:ln w="0">
            <a:noFill/>
          </a:ln>
          <a:effectLst>
            <a:outerShdw dist="12783" dir="15616346" blurRad="0" rotWithShape="0">
              <a:srgbClr val="808080">
                <a:alpha val="75000"/>
              </a:srgbClr>
            </a:outerShdw>
          </a:effectLst>
        </p:spPr>
      </p:pic>
      <p:sp>
        <p:nvSpPr>
          <p:cNvPr id="352" name="TextBox 6"/>
          <p:cNvSpPr/>
          <p:nvPr/>
        </p:nvSpPr>
        <p:spPr>
          <a:xfrm>
            <a:off x="4855320" y="50594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mber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3352680" y="1981080"/>
            <a:ext cx="643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tandardiz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ordinate field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Summary for Policyma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テキスト ボックス 6"/>
          <p:cNvSpPr/>
          <p:nvPr/>
        </p:nvSpPr>
        <p:spPr>
          <a:xfrm>
            <a:off x="2209680" y="1522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spm_cover-1.jpg"/>
          <p:cNvPicPr/>
          <p:nvPr/>
        </p:nvPicPr>
        <p:blipFill>
          <a:blip r:embed="rId1"/>
          <a:stretch/>
        </p:blipFill>
        <p:spPr>
          <a:xfrm>
            <a:off x="1523880" y="1066680"/>
            <a:ext cx="3206880" cy="4488120"/>
          </a:xfrm>
          <a:prstGeom prst="rect">
            <a:avLst/>
          </a:prstGeom>
          <a:ln w="3240">
            <a:solidFill>
              <a:srgbClr val="a6a6a6"/>
            </a:solidFill>
            <a:miter/>
          </a:ln>
        </p:spPr>
      </p:pic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1676520" y="6172200"/>
            <a:ext cx="525240" cy="52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iaea_org_logo_new"/>
          <p:cNvPicPr/>
          <p:nvPr/>
        </p:nvPicPr>
        <p:blipFill>
          <a:blip r:embed="rId3"/>
          <a:stretch/>
        </p:blipFill>
        <p:spPr>
          <a:xfrm>
            <a:off x="2666880" y="6234120"/>
            <a:ext cx="1630440" cy="3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3" descr="SCOR"/>
          <p:cNvPicPr/>
          <p:nvPr/>
        </p:nvPicPr>
        <p:blipFill>
          <a:blip r:embed="rId4"/>
          <a:srcRect l="0" t="8540" r="0" b="13386"/>
          <a:stretch/>
        </p:blipFill>
        <p:spPr>
          <a:xfrm>
            <a:off x="228600" y="6216480"/>
            <a:ext cx="762120" cy="463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SPM-French-cover.jpg"/>
          <p:cNvPicPr/>
          <p:nvPr/>
        </p:nvPicPr>
        <p:blipFill>
          <a:blip r:embed="rId5"/>
          <a:stretch/>
        </p:blipFill>
        <p:spPr>
          <a:xfrm>
            <a:off x="3352680" y="914400"/>
            <a:ext cx="3144960" cy="4449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SPM-Spanish-cover_Page_1.jpg"/>
          <p:cNvPicPr/>
          <p:nvPr/>
        </p:nvPicPr>
        <p:blipFill>
          <a:blip r:embed="rId6"/>
          <a:stretch/>
        </p:blipFill>
        <p:spPr>
          <a:xfrm>
            <a:off x="4495680" y="2133720"/>
            <a:ext cx="315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Still much to be learn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333440" y="23842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116000" y="17524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714840" y="60958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Calibri"/>
              </a:rPr>
              <a:t>www.IGB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486400" y="1219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9040" y="759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7" descr="CO2-ph NorthPacificOcean.jpg"/>
          <p:cNvPicPr/>
          <p:nvPr/>
        </p:nvPicPr>
        <p:blipFill>
          <a:blip r:embed="rId1"/>
          <a:stretch/>
        </p:blipFill>
        <p:spPr>
          <a:xfrm>
            <a:off x="1143000" y="1219320"/>
            <a:ext cx="7319880" cy="4635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7"/>
          <p:cNvSpPr/>
          <p:nvPr/>
        </p:nvSpPr>
        <p:spPr>
          <a:xfrm>
            <a:off x="1071720" y="5919840"/>
            <a:ext cx="74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(Feely et al., 200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809240" y="2438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tmos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4656600" y="36576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ea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337360" y="457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71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8"/>
          <p:cNvGrpSpPr/>
          <p:nvPr/>
        </p:nvGrpSpPr>
        <p:grpSpPr>
          <a:xfrm>
            <a:off x="3233880" y="2600280"/>
            <a:ext cx="5262480" cy="1584360"/>
            <a:chOff x="3233880" y="2600280"/>
            <a:chExt cx="5262480" cy="1584360"/>
          </a:xfrm>
        </p:grpSpPr>
        <p:sp>
          <p:nvSpPr>
            <p:cNvPr id="271" name="Text Box 9"/>
            <p:cNvSpPr/>
            <p:nvPr/>
          </p:nvSpPr>
          <p:spPr>
            <a:xfrm>
              <a:off x="5305320" y="29084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9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3233880" y="3462120"/>
              <a:ext cx="1780920" cy="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1" descr=""/>
            <p:cNvPicPr/>
            <p:nvPr/>
          </p:nvPicPr>
          <p:blipFill>
            <a:blip r:embed="rId1"/>
            <a:stretch/>
          </p:blipFill>
          <p:spPr>
            <a:xfrm>
              <a:off x="6148440" y="2600280"/>
              <a:ext cx="234792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4" name="Group 16"/>
          <p:cNvGrpSpPr/>
          <p:nvPr/>
        </p:nvGrpSpPr>
        <p:grpSpPr>
          <a:xfrm>
            <a:off x="3249720" y="3595680"/>
            <a:ext cx="5254560" cy="2478600"/>
            <a:chOff x="3249720" y="3595680"/>
            <a:chExt cx="5254560" cy="2478600"/>
          </a:xfrm>
        </p:grpSpPr>
        <p:sp>
          <p:nvSpPr>
            <p:cNvPr id="275" name="Text Box 17"/>
            <p:cNvSpPr/>
            <p:nvPr/>
          </p:nvSpPr>
          <p:spPr>
            <a:xfrm>
              <a:off x="5314680" y="5005440"/>
              <a:ext cx="84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6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249720" y="3595680"/>
              <a:ext cx="1765080" cy="1849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9" descr=""/>
            <p:cNvPicPr/>
            <p:nvPr/>
          </p:nvPicPr>
          <p:blipFill>
            <a:blip r:embed="rId2"/>
            <a:stretch/>
          </p:blipFill>
          <p:spPr>
            <a:xfrm>
              <a:off x="6165720" y="4413240"/>
              <a:ext cx="233856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8" name="Group 12"/>
          <p:cNvGrpSpPr/>
          <p:nvPr/>
        </p:nvGrpSpPr>
        <p:grpSpPr>
          <a:xfrm>
            <a:off x="3246480" y="836640"/>
            <a:ext cx="5249880" cy="2490840"/>
            <a:chOff x="3246480" y="836640"/>
            <a:chExt cx="5249880" cy="2490840"/>
          </a:xfrm>
        </p:grpSpPr>
        <p:sp>
          <p:nvSpPr>
            <p:cNvPr id="279" name="Text Box 13"/>
            <p:cNvSpPr/>
            <p:nvPr/>
          </p:nvSpPr>
          <p:spPr>
            <a:xfrm>
              <a:off x="5305320" y="9320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4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3246480" y="1592280"/>
              <a:ext cx="1768320" cy="1735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15" descr=""/>
            <p:cNvPicPr/>
            <p:nvPr/>
          </p:nvPicPr>
          <p:blipFill>
            <a:blip r:embed="rId3"/>
            <a:stretch/>
          </p:blipFill>
          <p:spPr>
            <a:xfrm>
              <a:off x="6148440" y="836640"/>
              <a:ext cx="234792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82" name="Text Box 2"/>
          <p:cNvSpPr/>
          <p:nvPr/>
        </p:nvSpPr>
        <p:spPr>
          <a:xfrm>
            <a:off x="898560" y="0"/>
            <a:ext cx="82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te of anthropogenic CO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e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2000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81000" y="6475320"/>
            <a:ext cx="457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Le Quéré et al. 2009, Nature geoscience; </a:t>
            </a:r>
            <a:r>
              <a:rPr b="0" lang="en-AU" sz="1200" spc="-1" strike="noStrike">
                <a:solidFill>
                  <a:srgbClr val="ffffff"/>
                </a:solidFill>
                <a:latin typeface="Arial Narrow"/>
              </a:rPr>
              <a:t>Canadell et al. 2007, PNAS,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0720" y="3570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504080" y="285264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4"/>
          <a:stretch/>
        </p:blipFill>
        <p:spPr>
          <a:xfrm>
            <a:off x="293760" y="1095480"/>
            <a:ext cx="283824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7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1040" y="3768840"/>
            <a:ext cx="283860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595959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7f7f7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Organisms remove 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make bio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alcium carbonate sh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occolithoph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298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pH disrupts shell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314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4"/>
          <p:cNvGrpSpPr/>
          <p:nvPr/>
        </p:nvGrpSpPr>
        <p:grpSpPr>
          <a:xfrm>
            <a:off x="3581280" y="1746360"/>
            <a:ext cx="1008000" cy="5111280"/>
            <a:chOff x="3581280" y="1746360"/>
            <a:chExt cx="1008000" cy="5111280"/>
          </a:xfrm>
        </p:grpSpPr>
        <p:pic>
          <p:nvPicPr>
            <p:cNvPr id="323" name="Picture 14" descr="Clepto_630ppm"/>
            <p:cNvPicPr/>
            <p:nvPr/>
          </p:nvPicPr>
          <p:blipFill>
            <a:blip r:embed="rId6"/>
            <a:stretch/>
          </p:blipFill>
          <p:spPr>
            <a:xfrm>
              <a:off x="3581280" y="4554360"/>
              <a:ext cx="10080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5" descr="Cpela_1100ppm"/>
            <p:cNvPicPr/>
            <p:nvPr/>
          </p:nvPicPr>
          <p:blipFill>
            <a:blip r:embed="rId7"/>
            <a:stretch/>
          </p:blipFill>
          <p:spPr>
            <a:xfrm>
              <a:off x="3581280" y="5921280"/>
              <a:ext cx="10080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71" descr="G_oceanica_highCO2"/>
            <p:cNvPicPr/>
            <p:nvPr/>
          </p:nvPicPr>
          <p:blipFill>
            <a:blip r:embed="rId8"/>
            <a:stretch/>
          </p:blipFill>
          <p:spPr>
            <a:xfrm>
              <a:off x="3581280" y="1746360"/>
              <a:ext cx="100800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3" descr="Ehux_2000_CO2"/>
            <p:cNvPicPr/>
            <p:nvPr/>
          </p:nvPicPr>
          <p:blipFill>
            <a:blip r:embed="rId9"/>
            <a:stretch/>
          </p:blipFill>
          <p:spPr>
            <a:xfrm>
              <a:off x="3581280" y="30416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Down Arrow 30"/>
          <p:cNvSpPr/>
          <p:nvPr/>
        </p:nvSpPr>
        <p:spPr>
          <a:xfrm>
            <a:off x="2971800" y="380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4119840" y="10666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own Arrow 35"/>
          <p:cNvSpPr/>
          <p:nvPr/>
        </p:nvSpPr>
        <p:spPr>
          <a:xfrm>
            <a:off x="3886200" y="11430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15:46Z</dcterms:created>
  <dc:creator>Sybil Seitzinger</dc:creator>
  <dc:description/>
  <dc:language>en-US</dc:language>
  <cp:lastModifiedBy>Jamm</cp:lastModifiedBy>
  <dcterms:modified xsi:type="dcterms:W3CDTF">2010-06-03T08:11:25Z</dcterms:modified>
  <cp:revision>105</cp:revision>
  <dc:subject/>
  <dc:title>Slide 1</dc:title>
</cp:coreProperties>
</file>