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22.jpeg" ContentType="image/jpeg"/>
  <Override PartName="/ppt/media/image9.jpeg" ContentType="image/jpeg"/>
  <Override PartName="/ppt/media/image11.jpeg" ContentType="image/jpeg"/>
  <Override PartName="/ppt/media/image2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1CBF-32AA-43D8-9365-F330E259471D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1BAC-6927-4E26-8202-DB96048BBAE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F2A7-F4AB-4F37-ACDC-5F54F346089D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E2F5-203B-42CF-B690-66D44D591462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BER and SOLAS have established a working group t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- Coordinate international research efforts in ocean acidifi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- Undertake synthesis activities in ocean acidification at the international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may include standardisation, intercomparisons, coordination of field campaign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G is led by Jean-Pierre Gattuso and builds on the European Project on Ocean Acidif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embership 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im Barr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lle Bijma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Minhan Dai (Chin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Dick Feel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an-Pierre Gattuso, Chai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ames Or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Ulf Riebesell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Lisa Robbins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Carol Turley (U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6A26-86F9-4EE5-A08F-304ED53D2235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XT High CO2 Symposium (SCOR, IOC, IGBP) is planned for 20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GBP produce summary for policy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cean Acidification is the other CO2 problem (not just Climate Chan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9738-89BD-40B8-8BB1-4F78E381F729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D5E4-4E29-4A54-824E-1176E9C52470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29C7-A59B-433D-9448-23B84355A097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AF92-2077-431D-B92E-70DC841D052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69C7-5CBE-4A37-86F3-2B06B33BC4E8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DFC0-79F5-4EC3-9A29-4B1FC7816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7435F73-14B3-48D1-9AEC-273B9DB7443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ceans are acidifying as a result of the dissolution of atmospheric CO2. This is measurable: time series from the North Pacif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ta: Atmospheric CO2 Pieter Tans, Seawater data: David Ka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emistry is well known, predicted over 20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equences for climate, C cycle and fisheries, etc. Not fully anticip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 way to halt ocean acidification is to decrease CO2 in atmosphere – decrease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921A-A948-44C3-99D1-473D4A691261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0F00-52B6-42B1-9190-129A5586E9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ceans are decreasing amount of CO2 in atmosphere and therefore reducing climate warming from anthropogenic CO2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at are mechanisms of CO2 removal by oceans and how ocean acidification affect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061B-7BE3-4982-B17D-01882BCADF36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all this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5BDE-E979-4DD6-84FB-54AA0A7E14FD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all to deep ocean essentially removing CO2 as shells and their biomass (organ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ortant part of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DB92-EB18-4EE6-8C5A-D970CCC8537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13B4-A551-413E-BF96-37CCC4C64C52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C2DA2-5258-4201-B38F-F7B4961CC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6D603-98DD-4F59-A169-23AC96DD7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C3288-15F2-4847-A617-62EBC04B2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5DBE1-4977-482B-A7C2-94CAD2834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2FCEC-752C-4AFE-B756-5B4C2214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010FA-F70B-40F7-A2C7-AA30F5F8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EDE3F-2E91-4F9B-B78B-3707843E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C332E-6EB5-432B-A435-364B1749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AC145-F1A2-46F1-A1A4-17583744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5FCFC-5C3D-44A5-ABCB-72753F59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0EAB5-9A9D-4E11-9A4B-B8F9C383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5E6A8-CD12-4CFC-84FF-601677670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EDC8B-E53E-46A2-9BCD-5A533202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4B08A-5EC8-487D-8487-F1E2A27E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D24A9-5971-429C-AD7A-11F3E080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114CC-4806-4A29-A3C9-2BAB1C16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10104-D996-420E-8032-B9AAAE57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9CC937-12CF-4726-BBF4-CF690BBD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8497F-EC1A-4FEB-96D7-F0FD1906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797BE-F6E2-40E5-8DCD-BBBF9A72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C0E71-0F1A-4810-A555-5E87B6FE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D0E70-EAE7-4F7C-B136-8A292A55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D6655-4CB0-4861-8265-0CF060533A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7DB4E7-33FF-4BA0-9C18-C900C2DF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1B797F-59D7-4DB9-AB15-8FDE59CF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BEC4D-6A02-488B-B6A4-1765B56C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B27CC7-80FF-4E43-BE9B-033F168D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7DF836-5C39-4293-BE79-45D55DC4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E14FC-E61D-4D20-A56C-D2C10CE2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D01A93-B8CD-4AA4-A416-813488E5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495B7E-C011-4F19-9B48-57023B5C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BEB124-62AC-4BCE-871A-5C25BCBC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57C42C-8216-4248-8086-C7E16521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E1549-75CF-488A-8E1E-3FCE63D2E95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63DDE8-C906-4225-9519-ACF8D1E3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0251F9-93A7-4ECE-99B9-5C3E15A4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577E81-6AF4-491C-8984-D3FE5A49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2C22DD-C8DA-4315-AE5F-3A8E7613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515F01-DDF1-47AA-AA2C-74F41C8A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886F2D-DF68-4113-8E68-EFE41953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45B309-AB48-45C7-AD87-36985FC5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2864BB-5E31-4E81-8AFF-5DF45A28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0842BD-B917-4176-949D-518E9640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5F9864-00AF-4F20-AE8E-A52AE00E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5B71F-815C-419C-B415-498A24BD1A4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ABEBE5-5FF9-4E07-A008-5925F219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E969BD-2ACA-414C-8D96-97395309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8FC2C6-7BCA-4E58-B1D6-9BE1F4C9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6D69B0-80BA-4EF5-B4BF-8CAD341C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48A43A-9AAA-49CD-91FE-BFC4C772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37178F-055E-43DC-BF95-F74639B8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25C5AE-E371-42D0-9C3E-9190D273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BE7DBF-D4F3-422C-B866-B25F65D6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79682D-AEC2-42EE-8EB0-CC4BE08A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78DB1A-F4F3-4CCD-AB59-57DC0611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147A4-19C6-4D38-9B18-1ADB29C3106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EF4AAE-6827-450F-8A45-5F034A5A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F1E21-488F-42E9-A0B6-8226AE16D4C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B27C3-9F74-42AB-9489-FAAC6BD18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A8FB0-0BD4-4F8A-86D3-8EA68D13B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2B7F-06EB-40D1-B367-2D8538E49D50}" type="slidenum">
              <a:rPr b="0" lang="sv-SE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AC99-F037-43A8-A561-A0F5E836C268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87C8-3971-4EC1-BD18-78B20155D68D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D7FE-4656-4FEA-AF6A-559BA418D214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6DF1-A125-4B4B-B9E9-1BF8CF092CB4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26" name="Isosceles Triangle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F5B9-45F3-44E7-BA69-9A7B0D1B38CE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88B5-485F-46FA-A2FA-AD44BC10677D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A0B8-A996-4361-8ADC-F32E1FDB0F66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218960" y="1981080"/>
            <a:ext cx="921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5157720" y="3733920"/>
            <a:ext cx="3834000" cy="2438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826080" cy="2133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/>
          <p:cNvPicPr/>
          <p:nvPr/>
        </p:nvPicPr>
        <p:blipFill>
          <a:blip r:embed="rId3"/>
          <a:stretch/>
        </p:blipFill>
        <p:spPr>
          <a:xfrm>
            <a:off x="7620120" y="4876920"/>
            <a:ext cx="1093680" cy="733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hlamys"/>
          <p:cNvPicPr/>
          <p:nvPr/>
        </p:nvPicPr>
        <p:blipFill>
          <a:blip r:embed="rId4"/>
          <a:stretch/>
        </p:blipFill>
        <p:spPr>
          <a:xfrm>
            <a:off x="7620120" y="2514600"/>
            <a:ext cx="1123920" cy="83664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2"/>
          <p:cNvSpPr/>
          <p:nvPr/>
        </p:nvSpPr>
        <p:spPr>
          <a:xfrm>
            <a:off x="5257800" y="6248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Decreasing 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eft Arrow 13"/>
          <p:cNvSpPr/>
          <p:nvPr/>
        </p:nvSpPr>
        <p:spPr>
          <a:xfrm>
            <a:off x="7238880" y="6324480"/>
            <a:ext cx="1676520" cy="22860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4"/>
          <p:cNvSpPr/>
          <p:nvPr/>
        </p:nvSpPr>
        <p:spPr>
          <a:xfrm>
            <a:off x="1007640" y="601992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Ries et al.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Cooley and Done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cean acidification slows shell calc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152280" y="2514600"/>
            <a:ext cx="510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conomic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shellfish prod. 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10.5  billion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ruptio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2"/>
          <p:cNvSpPr/>
          <p:nvPr/>
        </p:nvSpPr>
        <p:spPr>
          <a:xfrm rot="16200000">
            <a:off x="3117600" y="328284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et calcification rate (wt% per 60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3" descr="Kiel-Kosmos_9.jpg"/>
          <p:cNvPicPr/>
          <p:nvPr/>
        </p:nvPicPr>
        <p:blipFill>
          <a:blip r:embed="rId1"/>
          <a:stretch/>
        </p:blipFill>
        <p:spPr>
          <a:xfrm>
            <a:off x="587520" y="1389240"/>
            <a:ext cx="1949400" cy="1463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Kiel-Kosmos_10.jpg"/>
          <p:cNvPicPr/>
          <p:nvPr/>
        </p:nvPicPr>
        <p:blipFill>
          <a:blip r:embed="rId2"/>
          <a:stretch/>
        </p:blipFill>
        <p:spPr>
          <a:xfrm>
            <a:off x="587520" y="3078000"/>
            <a:ext cx="1949400" cy="1463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Kiel-Kosmos_13.jpg"/>
          <p:cNvPicPr/>
          <p:nvPr/>
        </p:nvPicPr>
        <p:blipFill>
          <a:blip r:embed="rId3"/>
          <a:stretch/>
        </p:blipFill>
        <p:spPr>
          <a:xfrm>
            <a:off x="527040" y="4699080"/>
            <a:ext cx="2038320" cy="13590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6"/>
          <p:cNvSpPr/>
          <p:nvPr/>
        </p:nvSpPr>
        <p:spPr>
          <a:xfrm>
            <a:off x="3224160" y="228600"/>
            <a:ext cx="53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national coord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8" descr="SOLAS"/>
          <p:cNvPicPr/>
          <p:nvPr/>
        </p:nvPicPr>
        <p:blipFill>
          <a:blip r:embed="rId4"/>
          <a:srcRect l="0" t="33380" r="0" b="0"/>
          <a:stretch/>
        </p:blipFill>
        <p:spPr>
          <a:xfrm>
            <a:off x="3581280" y="5867280"/>
            <a:ext cx="1371600" cy="712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351" name="Picture 31" descr="IMBER"/>
          <p:cNvPicPr/>
          <p:nvPr/>
        </p:nvPicPr>
        <p:blipFill>
          <a:blip r:embed="rId5"/>
          <a:srcRect l="0" t="0" r="0" b="20796"/>
          <a:stretch/>
        </p:blipFill>
        <p:spPr>
          <a:xfrm>
            <a:off x="5486400" y="5867280"/>
            <a:ext cx="1143000" cy="706680"/>
          </a:xfrm>
          <a:prstGeom prst="rect">
            <a:avLst/>
          </a:prstGeom>
          <a:ln w="0">
            <a:noFill/>
          </a:ln>
          <a:effectLst>
            <a:outerShdw dist="12783" dir="15616346" blurRad="0" rotWithShape="0">
              <a:srgbClr val="808080">
                <a:alpha val="75000"/>
              </a:srgbClr>
            </a:outerShdw>
          </a:effectLst>
        </p:spPr>
      </p:pic>
      <p:sp>
        <p:nvSpPr>
          <p:cNvPr id="352" name="TextBox 6"/>
          <p:cNvSpPr/>
          <p:nvPr/>
        </p:nvSpPr>
        <p:spPr>
          <a:xfrm>
            <a:off x="4855320" y="505944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imber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0"/>
          <p:cNvSpPr/>
          <p:nvPr/>
        </p:nvSpPr>
        <p:spPr>
          <a:xfrm>
            <a:off x="3352680" y="1981080"/>
            <a:ext cx="643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tandardiz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ordinate field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Summary for Policyma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テキスト ボックス 6"/>
          <p:cNvSpPr/>
          <p:nvPr/>
        </p:nvSpPr>
        <p:spPr>
          <a:xfrm>
            <a:off x="2209680" y="1522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spm_cover-1.jpg"/>
          <p:cNvPicPr/>
          <p:nvPr/>
        </p:nvPicPr>
        <p:blipFill>
          <a:blip r:embed="rId1"/>
          <a:stretch/>
        </p:blipFill>
        <p:spPr>
          <a:xfrm>
            <a:off x="1523880" y="1066680"/>
            <a:ext cx="3206880" cy="4488120"/>
          </a:xfrm>
          <a:prstGeom prst="rect">
            <a:avLst/>
          </a:prstGeom>
          <a:ln w="3240">
            <a:solidFill>
              <a:srgbClr val="a6a6a6"/>
            </a:solidFill>
            <a:miter/>
          </a:ln>
        </p:spPr>
      </p:pic>
      <p:pic>
        <p:nvPicPr>
          <p:cNvPr id="357" name="Picture 6" descr=""/>
          <p:cNvPicPr/>
          <p:nvPr/>
        </p:nvPicPr>
        <p:blipFill>
          <a:blip r:embed="rId2"/>
          <a:stretch/>
        </p:blipFill>
        <p:spPr>
          <a:xfrm>
            <a:off x="1676520" y="6172200"/>
            <a:ext cx="525240" cy="520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iaea_org_logo_new"/>
          <p:cNvPicPr/>
          <p:nvPr/>
        </p:nvPicPr>
        <p:blipFill>
          <a:blip r:embed="rId3"/>
          <a:stretch/>
        </p:blipFill>
        <p:spPr>
          <a:xfrm>
            <a:off x="2666880" y="6234120"/>
            <a:ext cx="1630440" cy="395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3" descr="SCOR"/>
          <p:cNvPicPr/>
          <p:nvPr/>
        </p:nvPicPr>
        <p:blipFill>
          <a:blip r:embed="rId4"/>
          <a:srcRect l="0" t="8540" r="0" b="13386"/>
          <a:stretch/>
        </p:blipFill>
        <p:spPr>
          <a:xfrm>
            <a:off x="228600" y="6216480"/>
            <a:ext cx="762120" cy="463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SPM-French-cover.jpg"/>
          <p:cNvPicPr/>
          <p:nvPr/>
        </p:nvPicPr>
        <p:blipFill>
          <a:blip r:embed="rId5"/>
          <a:stretch/>
        </p:blipFill>
        <p:spPr>
          <a:xfrm>
            <a:off x="3352680" y="914400"/>
            <a:ext cx="3144960" cy="4449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SPM-Spanish-cover_Page_1.jpg"/>
          <p:cNvPicPr/>
          <p:nvPr/>
        </p:nvPicPr>
        <p:blipFill>
          <a:blip r:embed="rId6"/>
          <a:stretch/>
        </p:blipFill>
        <p:spPr>
          <a:xfrm>
            <a:off x="4495680" y="2133720"/>
            <a:ext cx="31528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Still much to be learn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333440" y="23842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116000" y="17524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3714840" y="60958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Calibri"/>
              </a:rPr>
              <a:t>www.IGBP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5486400" y="121932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9040" y="759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7" descr="CO2-ph NorthPacificOcean.jpg"/>
          <p:cNvPicPr/>
          <p:nvPr/>
        </p:nvPicPr>
        <p:blipFill>
          <a:blip r:embed="rId1"/>
          <a:stretch/>
        </p:blipFill>
        <p:spPr>
          <a:xfrm>
            <a:off x="1143000" y="1219320"/>
            <a:ext cx="7319880" cy="4635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7"/>
          <p:cNvSpPr/>
          <p:nvPr/>
        </p:nvSpPr>
        <p:spPr>
          <a:xfrm>
            <a:off x="1071720" y="5919840"/>
            <a:ext cx="746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(Feely et al., 200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4809240" y="24382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Atmos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4656600" y="365760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ea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5337360" y="4572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371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8"/>
          <p:cNvGrpSpPr/>
          <p:nvPr/>
        </p:nvGrpSpPr>
        <p:grpSpPr>
          <a:xfrm>
            <a:off x="3233880" y="2600280"/>
            <a:ext cx="5262480" cy="1584360"/>
            <a:chOff x="3233880" y="2600280"/>
            <a:chExt cx="5262480" cy="1584360"/>
          </a:xfrm>
        </p:grpSpPr>
        <p:sp>
          <p:nvSpPr>
            <p:cNvPr id="271" name="Text Box 9"/>
            <p:cNvSpPr/>
            <p:nvPr/>
          </p:nvSpPr>
          <p:spPr>
            <a:xfrm>
              <a:off x="5305320" y="29084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9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V="1">
              <a:off x="3233880" y="3462120"/>
              <a:ext cx="1780920" cy="14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11" descr=""/>
            <p:cNvPicPr/>
            <p:nvPr/>
          </p:nvPicPr>
          <p:blipFill>
            <a:blip r:embed="rId1"/>
            <a:stretch/>
          </p:blipFill>
          <p:spPr>
            <a:xfrm>
              <a:off x="6148440" y="2600280"/>
              <a:ext cx="234792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4" name="Group 16"/>
          <p:cNvGrpSpPr/>
          <p:nvPr/>
        </p:nvGrpSpPr>
        <p:grpSpPr>
          <a:xfrm>
            <a:off x="3249720" y="3595680"/>
            <a:ext cx="5254560" cy="2478600"/>
            <a:chOff x="3249720" y="3595680"/>
            <a:chExt cx="5254560" cy="2478600"/>
          </a:xfrm>
        </p:grpSpPr>
        <p:sp>
          <p:nvSpPr>
            <p:cNvPr id="275" name="Text Box 17"/>
            <p:cNvSpPr/>
            <p:nvPr/>
          </p:nvSpPr>
          <p:spPr>
            <a:xfrm>
              <a:off x="5314680" y="5005440"/>
              <a:ext cx="849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6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3249720" y="3595680"/>
              <a:ext cx="1765080" cy="1849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19" descr=""/>
            <p:cNvPicPr/>
            <p:nvPr/>
          </p:nvPicPr>
          <p:blipFill>
            <a:blip r:embed="rId2"/>
            <a:stretch/>
          </p:blipFill>
          <p:spPr>
            <a:xfrm>
              <a:off x="6165720" y="4413240"/>
              <a:ext cx="233856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8" name="Group 12"/>
          <p:cNvGrpSpPr/>
          <p:nvPr/>
        </p:nvGrpSpPr>
        <p:grpSpPr>
          <a:xfrm>
            <a:off x="3246480" y="836640"/>
            <a:ext cx="5249880" cy="2490840"/>
            <a:chOff x="3246480" y="836640"/>
            <a:chExt cx="5249880" cy="2490840"/>
          </a:xfrm>
        </p:grpSpPr>
        <p:sp>
          <p:nvSpPr>
            <p:cNvPr id="279" name="Text Box 13"/>
            <p:cNvSpPr/>
            <p:nvPr/>
          </p:nvSpPr>
          <p:spPr>
            <a:xfrm>
              <a:off x="5305320" y="9320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45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4"/>
            <p:cNvSpPr/>
            <p:nvPr/>
          </p:nvSpPr>
          <p:spPr>
            <a:xfrm flipV="1">
              <a:off x="3246480" y="1592280"/>
              <a:ext cx="1768320" cy="1735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Picture 15" descr=""/>
            <p:cNvPicPr/>
            <p:nvPr/>
          </p:nvPicPr>
          <p:blipFill>
            <a:blip r:embed="rId3"/>
            <a:stretch/>
          </p:blipFill>
          <p:spPr>
            <a:xfrm>
              <a:off x="6148440" y="836640"/>
              <a:ext cx="2347920" cy="15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82" name="Text Box 2"/>
          <p:cNvSpPr/>
          <p:nvPr/>
        </p:nvSpPr>
        <p:spPr>
          <a:xfrm>
            <a:off x="898560" y="0"/>
            <a:ext cx="8245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ate of anthropogenic CO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emi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(2000-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881000" y="6475320"/>
            <a:ext cx="457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Le Quéré et al. 2009, Nature geoscience; </a:t>
            </a:r>
            <a:r>
              <a:rPr b="0" lang="en-AU" sz="1200" spc="-1" strike="noStrike">
                <a:solidFill>
                  <a:srgbClr val="ffffff"/>
                </a:solidFill>
                <a:latin typeface="Arial Narrow"/>
              </a:rPr>
              <a:t>Canadell et al. 2007, PNAS,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450720" y="3570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504080" y="2852640"/>
            <a:ext cx="58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4"/>
          <a:stretch/>
        </p:blipFill>
        <p:spPr>
          <a:xfrm>
            <a:off x="293760" y="1095480"/>
            <a:ext cx="283824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7" name="Picture 7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11040" y="3768840"/>
            <a:ext cx="283860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c4bd9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595959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7f7f7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Organisms remove 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make bio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alcium carbonate sh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occolithoph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298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pH disrupts shell 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314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74"/>
          <p:cNvGrpSpPr/>
          <p:nvPr/>
        </p:nvGrpSpPr>
        <p:grpSpPr>
          <a:xfrm>
            <a:off x="3581280" y="1746360"/>
            <a:ext cx="1008000" cy="5111280"/>
            <a:chOff x="3581280" y="1746360"/>
            <a:chExt cx="1008000" cy="5111280"/>
          </a:xfrm>
        </p:grpSpPr>
        <p:pic>
          <p:nvPicPr>
            <p:cNvPr id="323" name="Picture 14" descr="Clepto_630ppm"/>
            <p:cNvPicPr/>
            <p:nvPr/>
          </p:nvPicPr>
          <p:blipFill>
            <a:blip r:embed="rId6"/>
            <a:stretch/>
          </p:blipFill>
          <p:spPr>
            <a:xfrm>
              <a:off x="3581280" y="4554360"/>
              <a:ext cx="100800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5" descr="Cpela_1100ppm"/>
            <p:cNvPicPr/>
            <p:nvPr/>
          </p:nvPicPr>
          <p:blipFill>
            <a:blip r:embed="rId7"/>
            <a:stretch/>
          </p:blipFill>
          <p:spPr>
            <a:xfrm>
              <a:off x="3581280" y="5921280"/>
              <a:ext cx="10080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71" descr="G_oceanica_highCO2"/>
            <p:cNvPicPr/>
            <p:nvPr/>
          </p:nvPicPr>
          <p:blipFill>
            <a:blip r:embed="rId8"/>
            <a:stretch/>
          </p:blipFill>
          <p:spPr>
            <a:xfrm>
              <a:off x="3581280" y="1746360"/>
              <a:ext cx="1008000" cy="80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73" descr="Ehux_2000_CO2"/>
            <p:cNvPicPr/>
            <p:nvPr/>
          </p:nvPicPr>
          <p:blipFill>
            <a:blip r:embed="rId9"/>
            <a:stretch/>
          </p:blipFill>
          <p:spPr>
            <a:xfrm>
              <a:off x="3581280" y="3041640"/>
              <a:ext cx="1008000" cy="10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Down Arrow 30"/>
          <p:cNvSpPr/>
          <p:nvPr/>
        </p:nvSpPr>
        <p:spPr>
          <a:xfrm>
            <a:off x="2971800" y="3808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4"/>
          <p:cNvSpPr/>
          <p:nvPr/>
        </p:nvSpPr>
        <p:spPr>
          <a:xfrm>
            <a:off x="4119840" y="10666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own Arrow 35"/>
          <p:cNvSpPr/>
          <p:nvPr/>
        </p:nvSpPr>
        <p:spPr>
          <a:xfrm>
            <a:off x="3886200" y="11430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1:15:46Z</dcterms:created>
  <dc:creator>Sybil Seitzinger</dc:creator>
  <dc:description/>
  <dc:language>en-US</dc:language>
  <cp:lastModifiedBy>Jamm</cp:lastModifiedBy>
  <dcterms:modified xsi:type="dcterms:W3CDTF">2010-06-03T08:11:25Z</dcterms:modified>
  <cp:revision>105</cp:revision>
  <dc:subject/>
  <dc:title>Slide 1</dc:title>
</cp:coreProperties>
</file>