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3.jpeg" ContentType="image/jpeg"/>
  <Override PartName="/ppt/media/image22.jpeg" ContentType="image/jpeg"/>
  <Override PartName="/ppt/media/image9.jpeg" ContentType="image/jpeg"/>
  <Override PartName="/ppt/media/image11.jpeg" ContentType="image/jpeg"/>
  <Override PartName="/ppt/media/image27.jpeg" ContentType="image/jpeg"/>
  <Override PartName="/ppt/media/image20.png" ContentType="image/png"/>
  <Override PartName="/ppt/media/image6.jpeg" ContentType="image/jpeg"/>
  <Override PartName="/ppt/media/image18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2.jpeg" ContentType="image/jpeg"/>
  <Override PartName="/ppt/media/image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9.png" ContentType="image/png"/>
  <Override PartName="/ppt/media/image2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1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ftr" idx="1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 type="sldNum" idx="1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6C62-8D7A-4B1C-BA81-21ED52AE0613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6719-0A45-4B5F-B087-ACFFCF7D9133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B1B1-423C-42FB-9691-B3601BEBC726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AE5D-FBB3-4E2E-B09D-8A2986893FAA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MBER and SOLAS have established a working group to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- Coordinate international research efforts in ocean acidific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- Undertake synthesis activities in ocean acidification at the international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s may include standardisation, intercomparisons, coordination of field campaigns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WG is led by Jean-Pierre Gattuso and builds on the European Project on Ocean Acidific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membership 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im Barry (US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elle Bijma (Germany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Minhan Dai (Chin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Dick Feely (US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ean-Pierre Gattuso, Chair (France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ames Orr (France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Ulf Riebesell (Germany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Lisa Robbins (US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Carol Turley (UK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66B9-C5D5-4921-A85F-5F861449D726}" type="slidenum"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EXT High CO2 Symposium (SCOR, IOC, IGBP) is planned for 20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GBP produce summary for policyma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cean Acidification is the other CO2 problem (not just Climate Chan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892C-C1EC-4CBE-B3A0-AC1F90193EC4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CD7A-5E1B-4B30-A00E-DB6F0DAB690E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EB5E-0A8F-41E9-9901-043CA20B87CD}" type="slidenum">
              <a:rPr b="0" lang="sv-SE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E16F-ACE6-4917-82B0-D2509F1E0596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04D5-1BB6-4CD5-9C65-320982FCFC98}" type="slidenum">
              <a:rPr b="0" lang="sv-SE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7C17-38AA-4144-BE0E-BFD984D82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D895E19-31C2-4F81-8678-F94C08E928A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oceans are acidifying as a result of the dissolution of atmospheric CO2. This is measurable: time series from the North Pacif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ata: Atmospheric CO2 Pieter Tans, Seawater data: David Kar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emistry is well known, predicted over 20 years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sequences for climate, C cycle and fisheries, etc. Not fully anticip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nly way to halt ocean acidification is to decrease CO2 in atmosphere – decrease emi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7141-B51F-4BEA-AAF2-CDB826E819DD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4BBC-1B1A-49AB-8540-4FE8EB95F19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Oceans are decreasing amount of CO2 in atmosphere and therefore reducing climate warming from anthropogenic CO2 emi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hat are mechanisms of CO2 removal by oceans and how ocean acidification affect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biological pump were somehow shut-off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mospheric CO2 levels would increase by around 200 ppmv (Parekh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t al., 2006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armiento, 1984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ome portion sinks to deep ocean thereby effectively removing CO2 for long periods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Organisms that make calcium carbonate shells are ones we know are weak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8D81-1E59-4EFE-943B-DBA0B1CE352C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ome portion sinks to deep ocean thereby effectively removing CO2 for long periods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all this the biological pu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biological pump were somehow shut-off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mospheric CO2 levels would increase by around 200 ppmv (Parekh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t al., 2006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armiento, 1984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Organisms that make calcium carbonate shells are ones we know are weak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FDB2-D69D-46A7-B01B-BC08F2EE90AE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ccolithophores largest producer of calcite on Earth, responsible for x% of primary (plant) production in oce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fall to deep ocean essentially removing CO2 as shells and their biomass (organic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Important part of the biological pu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nsiderable number of laboratory experiments and some large enclosures in ocean have been conducted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how that as pH decreases the shells of these organisms are deformed, less CaC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Implication is that as pH ocean decreases, they will draw down less calcium carbonate to deep oc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Therefore, less CO2 would be removed from atmosphere by ocean. More CO2 in atmosphere – warmer clima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AF3E-A701-474A-950C-C298C102C784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ccolithophores largest producer of calcite on Earth, responsible for x% of primary (plant) production in oce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nsiderable number of laboratory experiments and some large enclosures in ocean have been conducted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how that as pH decreases the shells of these organisms are deformed, less CaC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Implication is that as pH ocean decreases, they will draw down less calcium carbonate to deep oc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Therefore, less CO2 would be removed from atmosphere by ocean. More CO2 in atmosphere – warmer clima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191B-8042-4645-9C9F-9FCC0B6BFAA9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6549C-60FA-4FDB-92F7-E27455329A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65362-88A6-43EA-BF4C-DA7BF4EBDF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1F690-3762-4CBF-8E3D-44439573B6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1F4BD-C873-44E5-B5E0-231EED594C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9E1229-8505-4582-A979-2FE3895D0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76A746-1879-4FE8-A584-9C2744CA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78C76-BE52-4A41-98DA-E61F2B32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FBE9EB-7D5E-4EEC-A833-ACA88181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3D24A-5F85-42A7-A0F4-35DCDAF5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1B813-A79C-4670-8268-44C8C599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B6440F-D501-4EAB-B6E1-4E05438C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379D7-A1DF-4C50-B10E-D2337A64B1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B41B18-EB8F-490C-9913-A958ED87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8D058-5968-47D5-BD67-633F92C8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75A11-9564-4849-8514-4CB04B6F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0B97A1-2DE4-4216-B68F-399A99BC4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0639D-BCB6-4CB2-AAA7-FFFFAC9DE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0BB0E8-8302-46FA-B7DC-7DB91DDEB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E299C8-DE1C-407D-AF13-DF452E43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0E7CED-AC27-4F09-8338-B3889045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B7B365-EF5F-42E8-9DFC-B1A71E00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CDD053-56D3-405D-BEE4-E40F2062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B79BB-E774-4B18-AB36-ECB7B0E241B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DBB4D3-5018-4A22-B1C1-DAEA5AE8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38A758-A830-44AD-9B15-9D6154A0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6EFE52-9F3C-49C7-8918-E8B02A32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7624BD-6740-4691-8E01-0AE6993D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061566-FF9F-4688-A9BD-D656A10D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D77D60-781D-482A-B70B-7D36B1134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B4246F-8EE0-4655-9CD5-0D2F9B727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500770-97DE-42D0-9C97-87F987DD4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CDEBDC-98DC-4EA9-933E-A785F018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20C75A-E148-443F-9E10-D8C79361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33F1A-4720-4E1F-AC49-4AD73A2527F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3AA2DF-A725-4620-A5A1-B74472F0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459F97-F872-40F2-9207-86EFDF6C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CB7D83-7CBF-4D81-BE02-420C8B7F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3C8C4A-FA86-4B79-A597-384BB1ED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E65BB6-8FA1-4872-86B4-DD429513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438919-BD29-47A4-A843-803EA05D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360B95-02B8-4805-9FED-C220171B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61F162-CE3F-4178-A08D-7967584F0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BACA08-9513-4601-8D3C-283FD4244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A285E1-A276-4CB4-A03B-F7DE45340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58B5A-4602-4F28-AF59-BDB81E4EAFB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3EC913-4138-46E0-BD8A-55245861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B35500-F929-40CD-9EE3-1C7E73B3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5D2B3F-037E-4F3B-A5E6-749E52A5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AB3BA6-3F77-4BCC-8498-26EB407F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DD577D-761E-4789-8AD4-C29C26D4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45AEF4-D567-4507-ACE8-3B8BAB1E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29E672-76B4-46FF-932A-180E086E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53C588-1FC8-4334-B950-6A7FD546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A2C492-A759-4EC4-AFEC-2D1C8142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4CBCB0-BEB4-419C-8C80-9C797EE08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39F98-F485-4BC4-9768-1BC546C6CCC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1E22DF-DC3C-4426-8A54-15486B9B2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94379-80E6-4AA4-845A-FAA18392E91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27495-637E-49B2-9341-DB54F7DA60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CDEB7-19DD-49C9-AA5A-6C535DF82F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EBBB-A466-43B0-A6DC-DD7C35B20B22}" type="slidenum">
              <a:rPr b="0" lang="sv-SE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8D5F-D352-4EC9-9DE4-3E9D42C09EA5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34E8-0497-415A-AA3C-15D7505FDBC2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8C82-E589-415D-80C7-365B8414E66C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E7DE-DBF7-43AE-AA2B-B820D4D5896D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126" name="Isosceles Triangle 6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93DA-96D8-4373-9CDF-0B623C686A02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EE4E-9918-4B8B-B911-892EE79DF76B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3FAF-9E75-4D3B-861F-6E6FF9FFDBE5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218960" y="1981080"/>
            <a:ext cx="921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sv-SE" sz="36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negative impact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4" descr=""/>
          <p:cNvPicPr/>
          <p:nvPr/>
        </p:nvPicPr>
        <p:blipFill>
          <a:blip r:embed="rId1"/>
          <a:stretch/>
        </p:blipFill>
        <p:spPr>
          <a:xfrm>
            <a:off x="5157720" y="3733920"/>
            <a:ext cx="3834000" cy="24382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7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3826080" cy="2133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"/>
          <p:cNvPicPr/>
          <p:nvPr/>
        </p:nvPicPr>
        <p:blipFill>
          <a:blip r:embed="rId3"/>
          <a:stretch/>
        </p:blipFill>
        <p:spPr>
          <a:xfrm>
            <a:off x="7620120" y="4876920"/>
            <a:ext cx="1093680" cy="7333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Chlamys"/>
          <p:cNvPicPr/>
          <p:nvPr/>
        </p:nvPicPr>
        <p:blipFill>
          <a:blip r:embed="rId4"/>
          <a:stretch/>
        </p:blipFill>
        <p:spPr>
          <a:xfrm>
            <a:off x="7620120" y="2514600"/>
            <a:ext cx="1123920" cy="836640"/>
          </a:xfrm>
          <a:prstGeom prst="rect">
            <a:avLst/>
          </a:prstGeom>
          <a:ln w="0">
            <a:noFill/>
          </a:ln>
        </p:spPr>
      </p:pic>
      <p:sp>
        <p:nvSpPr>
          <p:cNvPr id="340" name="TextBox 12"/>
          <p:cNvSpPr/>
          <p:nvPr/>
        </p:nvSpPr>
        <p:spPr>
          <a:xfrm>
            <a:off x="5257800" y="62485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Decreasing 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eft Arrow 13"/>
          <p:cNvSpPr/>
          <p:nvPr/>
        </p:nvSpPr>
        <p:spPr>
          <a:xfrm>
            <a:off x="7238880" y="6324480"/>
            <a:ext cx="1676520" cy="228600"/>
          </a:xfrm>
          <a:prstGeom prst="leftArrow">
            <a:avLst>
              <a:gd name="adj1" fmla="val 50000"/>
              <a:gd name="adj2" fmla="val 50013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4"/>
          <p:cNvSpPr/>
          <p:nvPr/>
        </p:nvSpPr>
        <p:spPr>
          <a:xfrm>
            <a:off x="1007640" y="6019920"/>
            <a:ext cx="26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Ries et al.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Cooley and Doney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Ocean acidification slows shell calc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6"/>
          <p:cNvSpPr/>
          <p:nvPr/>
        </p:nvSpPr>
        <p:spPr>
          <a:xfrm>
            <a:off x="152280" y="2514600"/>
            <a:ext cx="5105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conomic l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500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lobal shellfish prod. 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10.5  billion US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500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ruption livelih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2"/>
          <p:cNvSpPr/>
          <p:nvPr/>
        </p:nvSpPr>
        <p:spPr>
          <a:xfrm rot="16200000">
            <a:off x="3117600" y="328284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Net calcification rate (wt% per 60 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3" descr="Kiel-Kosmos_9.jpg"/>
          <p:cNvPicPr/>
          <p:nvPr/>
        </p:nvPicPr>
        <p:blipFill>
          <a:blip r:embed="rId1"/>
          <a:stretch/>
        </p:blipFill>
        <p:spPr>
          <a:xfrm>
            <a:off x="587520" y="1389240"/>
            <a:ext cx="1949400" cy="14634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Kiel-Kosmos_10.jpg"/>
          <p:cNvPicPr/>
          <p:nvPr/>
        </p:nvPicPr>
        <p:blipFill>
          <a:blip r:embed="rId2"/>
          <a:stretch/>
        </p:blipFill>
        <p:spPr>
          <a:xfrm>
            <a:off x="587520" y="3078000"/>
            <a:ext cx="1949400" cy="14637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5" descr="Kiel-Kosmos_13.jpg"/>
          <p:cNvPicPr/>
          <p:nvPr/>
        </p:nvPicPr>
        <p:blipFill>
          <a:blip r:embed="rId3"/>
          <a:stretch/>
        </p:blipFill>
        <p:spPr>
          <a:xfrm>
            <a:off x="527040" y="4699080"/>
            <a:ext cx="2038320" cy="1359000"/>
          </a:xfrm>
          <a:prstGeom prst="rect">
            <a:avLst/>
          </a:prstGeom>
          <a:ln w="0">
            <a:noFill/>
          </a:ln>
        </p:spPr>
      </p:pic>
      <p:sp>
        <p:nvSpPr>
          <p:cNvPr id="349" name="TextBox 6"/>
          <p:cNvSpPr/>
          <p:nvPr/>
        </p:nvSpPr>
        <p:spPr>
          <a:xfrm>
            <a:off x="3224160" y="228600"/>
            <a:ext cx="531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ernational coordi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8" descr="SOLAS"/>
          <p:cNvPicPr/>
          <p:nvPr/>
        </p:nvPicPr>
        <p:blipFill>
          <a:blip r:embed="rId4"/>
          <a:srcRect l="0" t="33380" r="0" b="0"/>
          <a:stretch/>
        </p:blipFill>
        <p:spPr>
          <a:xfrm>
            <a:off x="3581280" y="5867280"/>
            <a:ext cx="1371600" cy="712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351" name="Picture 31" descr="IMBER"/>
          <p:cNvPicPr/>
          <p:nvPr/>
        </p:nvPicPr>
        <p:blipFill>
          <a:blip r:embed="rId5"/>
          <a:srcRect l="0" t="0" r="0" b="20796"/>
          <a:stretch/>
        </p:blipFill>
        <p:spPr>
          <a:xfrm>
            <a:off x="5486400" y="5867280"/>
            <a:ext cx="1143000" cy="706680"/>
          </a:xfrm>
          <a:prstGeom prst="rect">
            <a:avLst/>
          </a:prstGeom>
          <a:ln w="0">
            <a:noFill/>
          </a:ln>
          <a:effectLst>
            <a:outerShdw dist="12783" dir="15616346" blurRad="0" rotWithShape="0">
              <a:srgbClr val="808080">
                <a:alpha val="75000"/>
              </a:srgbClr>
            </a:outerShdw>
          </a:effectLst>
        </p:spPr>
      </p:pic>
      <p:sp>
        <p:nvSpPr>
          <p:cNvPr id="352" name="TextBox 6"/>
          <p:cNvSpPr/>
          <p:nvPr/>
        </p:nvSpPr>
        <p:spPr>
          <a:xfrm>
            <a:off x="4855320" y="505944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imber.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10"/>
          <p:cNvSpPr/>
          <p:nvPr/>
        </p:nvSpPr>
        <p:spPr>
          <a:xfrm>
            <a:off x="3352680" y="1981080"/>
            <a:ext cx="6437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standardize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coordinate field campa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eece1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eeece1"/>
                </a:solidFill>
                <a:latin typeface="Arial"/>
              </a:rPr>
              <a:t>Summary for Policymak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テキスト ボックス 6"/>
          <p:cNvSpPr/>
          <p:nvPr/>
        </p:nvSpPr>
        <p:spPr>
          <a:xfrm>
            <a:off x="2209680" y="152280"/>
            <a:ext cx="18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7" descr="spm_cover-1.jpg"/>
          <p:cNvPicPr/>
          <p:nvPr/>
        </p:nvPicPr>
        <p:blipFill>
          <a:blip r:embed="rId1"/>
          <a:stretch/>
        </p:blipFill>
        <p:spPr>
          <a:xfrm>
            <a:off x="1523880" y="1066680"/>
            <a:ext cx="3206880" cy="4488120"/>
          </a:xfrm>
          <a:prstGeom prst="rect">
            <a:avLst/>
          </a:prstGeom>
          <a:ln w="3240">
            <a:solidFill>
              <a:srgbClr val="a6a6a6"/>
            </a:solidFill>
            <a:miter/>
          </a:ln>
        </p:spPr>
      </p:pic>
      <p:pic>
        <p:nvPicPr>
          <p:cNvPr id="357" name="Picture 6" descr=""/>
          <p:cNvPicPr/>
          <p:nvPr/>
        </p:nvPicPr>
        <p:blipFill>
          <a:blip r:embed="rId2"/>
          <a:stretch/>
        </p:blipFill>
        <p:spPr>
          <a:xfrm>
            <a:off x="1676520" y="6172200"/>
            <a:ext cx="525240" cy="5205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iaea_org_logo_new"/>
          <p:cNvPicPr/>
          <p:nvPr/>
        </p:nvPicPr>
        <p:blipFill>
          <a:blip r:embed="rId3"/>
          <a:stretch/>
        </p:blipFill>
        <p:spPr>
          <a:xfrm>
            <a:off x="2666880" y="6234120"/>
            <a:ext cx="1630440" cy="3952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83" descr="SCOR"/>
          <p:cNvPicPr/>
          <p:nvPr/>
        </p:nvPicPr>
        <p:blipFill>
          <a:blip r:embed="rId4"/>
          <a:srcRect l="0" t="8540" r="0" b="13386"/>
          <a:stretch/>
        </p:blipFill>
        <p:spPr>
          <a:xfrm>
            <a:off x="228600" y="6216480"/>
            <a:ext cx="762120" cy="4636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" descr="SPM-French-cover.jpg"/>
          <p:cNvPicPr/>
          <p:nvPr/>
        </p:nvPicPr>
        <p:blipFill>
          <a:blip r:embed="rId5"/>
          <a:stretch/>
        </p:blipFill>
        <p:spPr>
          <a:xfrm>
            <a:off x="3352680" y="914400"/>
            <a:ext cx="3144960" cy="44496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SPM-Spanish-cover_Page_1.jpg"/>
          <p:cNvPicPr/>
          <p:nvPr/>
        </p:nvPicPr>
        <p:blipFill>
          <a:blip r:embed="rId6"/>
          <a:stretch/>
        </p:blipFill>
        <p:spPr>
          <a:xfrm>
            <a:off x="4495680" y="2133720"/>
            <a:ext cx="315288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sv-SE" sz="3600" spc="-1" strike="noStrike">
                <a:solidFill>
                  <a:srgbClr val="ffffff"/>
                </a:solidFill>
                <a:latin typeface="Arial"/>
              </a:rPr>
              <a:t>Still much to be learned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6" descr="IGBP_newlogo09-right-white.pdf"/>
          <p:cNvPicPr/>
          <p:nvPr/>
        </p:nvPicPr>
        <p:blipFill>
          <a:blip r:embed="rId1"/>
          <a:stretch/>
        </p:blipFill>
        <p:spPr>
          <a:xfrm>
            <a:off x="-1333440" y="2384280"/>
            <a:ext cx="10260000" cy="72504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2057400" y="1980720"/>
            <a:ext cx="55562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  <a:ea typeface="Arial"/>
              </a:rPr>
              <a:t>Sybil Seitzi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ecutive Director, I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6" descr="IGBP_newlogo09-right-white.pdf"/>
          <p:cNvPicPr/>
          <p:nvPr/>
        </p:nvPicPr>
        <p:blipFill>
          <a:blip r:embed="rId1"/>
          <a:stretch/>
        </p:blipFill>
        <p:spPr>
          <a:xfrm>
            <a:off x="-1116000" y="1752480"/>
            <a:ext cx="10260000" cy="7250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057400" y="1980720"/>
            <a:ext cx="55562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  <a:ea typeface="Arial"/>
              </a:rPr>
              <a:t>Sybil Seitzi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ecutive Director, I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3"/>
          <p:cNvSpPr/>
          <p:nvPr/>
        </p:nvSpPr>
        <p:spPr>
          <a:xfrm>
            <a:off x="3714840" y="609588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Calibri"/>
              </a:rPr>
              <a:t>www.IGBP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5486400" y="1219320"/>
            <a:ext cx="3048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49040" y="759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7" descr="CO2-ph NorthPacificOcean.jpg"/>
          <p:cNvPicPr/>
          <p:nvPr/>
        </p:nvPicPr>
        <p:blipFill>
          <a:blip r:embed="rId1"/>
          <a:stretch/>
        </p:blipFill>
        <p:spPr>
          <a:xfrm>
            <a:off x="1143000" y="1219320"/>
            <a:ext cx="7319880" cy="4635360"/>
          </a:xfrm>
          <a:prstGeom prst="rect">
            <a:avLst/>
          </a:prstGeom>
          <a:ln w="0">
            <a:noFill/>
          </a:ln>
        </p:spPr>
      </p:pic>
      <p:sp>
        <p:nvSpPr>
          <p:cNvPr id="264" name="TextBox 7"/>
          <p:cNvSpPr/>
          <p:nvPr/>
        </p:nvSpPr>
        <p:spPr>
          <a:xfrm>
            <a:off x="1071720" y="5919840"/>
            <a:ext cx="7462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(Feely et al., 2008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Calibri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5"/>
          <p:cNvSpPr/>
          <p:nvPr/>
        </p:nvSpPr>
        <p:spPr>
          <a:xfrm>
            <a:off x="4809240" y="243828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Atmos 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4656600" y="3657600"/>
            <a:ext cx="12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seawa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5337360" y="45720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3716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8"/>
          <p:cNvGrpSpPr/>
          <p:nvPr/>
        </p:nvGrpSpPr>
        <p:grpSpPr>
          <a:xfrm>
            <a:off x="3233880" y="2600280"/>
            <a:ext cx="5262480" cy="1584360"/>
            <a:chOff x="3233880" y="2600280"/>
            <a:chExt cx="5262480" cy="1584360"/>
          </a:xfrm>
        </p:grpSpPr>
        <p:sp>
          <p:nvSpPr>
            <p:cNvPr id="271" name="Text Box 9"/>
            <p:cNvSpPr/>
            <p:nvPr/>
          </p:nvSpPr>
          <p:spPr>
            <a:xfrm>
              <a:off x="5305320" y="2908440"/>
              <a:ext cx="849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29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0"/>
            <p:cNvSpPr/>
            <p:nvPr/>
          </p:nvSpPr>
          <p:spPr>
            <a:xfrm flipV="1">
              <a:off x="3233880" y="3462120"/>
              <a:ext cx="1780920" cy="140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3" name="Picture 11" descr=""/>
            <p:cNvPicPr/>
            <p:nvPr/>
          </p:nvPicPr>
          <p:blipFill>
            <a:blip r:embed="rId1"/>
            <a:stretch/>
          </p:blipFill>
          <p:spPr>
            <a:xfrm>
              <a:off x="6148440" y="2600280"/>
              <a:ext cx="2347920" cy="1584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274" name="Group 16"/>
          <p:cNvGrpSpPr/>
          <p:nvPr/>
        </p:nvGrpSpPr>
        <p:grpSpPr>
          <a:xfrm>
            <a:off x="3249720" y="3595680"/>
            <a:ext cx="5254560" cy="2478600"/>
            <a:chOff x="3249720" y="3595680"/>
            <a:chExt cx="5254560" cy="2478600"/>
          </a:xfrm>
        </p:grpSpPr>
        <p:sp>
          <p:nvSpPr>
            <p:cNvPr id="275" name="Text Box 17"/>
            <p:cNvSpPr/>
            <p:nvPr/>
          </p:nvSpPr>
          <p:spPr>
            <a:xfrm>
              <a:off x="5314680" y="5005440"/>
              <a:ext cx="849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26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8"/>
            <p:cNvSpPr/>
            <p:nvPr/>
          </p:nvSpPr>
          <p:spPr>
            <a:xfrm>
              <a:off x="3249720" y="3595680"/>
              <a:ext cx="1765080" cy="18493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7" name="Picture 19" descr=""/>
            <p:cNvPicPr/>
            <p:nvPr/>
          </p:nvPicPr>
          <p:blipFill>
            <a:blip r:embed="rId2"/>
            <a:stretch/>
          </p:blipFill>
          <p:spPr>
            <a:xfrm>
              <a:off x="6165720" y="4413240"/>
              <a:ext cx="2338560" cy="1584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278" name="Group 12"/>
          <p:cNvGrpSpPr/>
          <p:nvPr/>
        </p:nvGrpSpPr>
        <p:grpSpPr>
          <a:xfrm>
            <a:off x="3246480" y="836640"/>
            <a:ext cx="5249880" cy="2490840"/>
            <a:chOff x="3246480" y="836640"/>
            <a:chExt cx="5249880" cy="2490840"/>
          </a:xfrm>
        </p:grpSpPr>
        <p:sp>
          <p:nvSpPr>
            <p:cNvPr id="279" name="Text Box 13"/>
            <p:cNvSpPr/>
            <p:nvPr/>
          </p:nvSpPr>
          <p:spPr>
            <a:xfrm>
              <a:off x="5305320" y="932040"/>
              <a:ext cx="849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45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4"/>
            <p:cNvSpPr/>
            <p:nvPr/>
          </p:nvSpPr>
          <p:spPr>
            <a:xfrm flipV="1">
              <a:off x="3246480" y="1592280"/>
              <a:ext cx="1768320" cy="1735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1" name="Picture 15" descr=""/>
            <p:cNvPicPr/>
            <p:nvPr/>
          </p:nvPicPr>
          <p:blipFill>
            <a:blip r:embed="rId3"/>
            <a:stretch/>
          </p:blipFill>
          <p:spPr>
            <a:xfrm>
              <a:off x="6148440" y="836640"/>
              <a:ext cx="2347920" cy="1562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282" name="Text Box 2"/>
          <p:cNvSpPr/>
          <p:nvPr/>
        </p:nvSpPr>
        <p:spPr>
          <a:xfrm>
            <a:off x="898560" y="0"/>
            <a:ext cx="824544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ate of anthropogenic CO</a:t>
            </a:r>
            <a:r>
              <a:rPr b="0" lang="en-A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emis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(2000-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1881000" y="6475320"/>
            <a:ext cx="457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Narrow"/>
              </a:rPr>
              <a:t>Le Quéré et al. 2009, Nature geoscience; </a:t>
            </a:r>
            <a:r>
              <a:rPr b="0" lang="en-AU" sz="1200" spc="-1" strike="noStrike">
                <a:solidFill>
                  <a:srgbClr val="ffffff"/>
                </a:solidFill>
                <a:latin typeface="Arial Narrow"/>
              </a:rPr>
              <a:t>Canadell et al. 2007, PNAS, 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450720" y="35701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1504080" y="2852640"/>
            <a:ext cx="581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6" descr=""/>
          <p:cNvPicPr/>
          <p:nvPr/>
        </p:nvPicPr>
        <p:blipFill>
          <a:blip r:embed="rId4"/>
          <a:stretch/>
        </p:blipFill>
        <p:spPr>
          <a:xfrm>
            <a:off x="293760" y="1095480"/>
            <a:ext cx="2838240" cy="191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7" name="Picture 7" descr=""/>
          <p:cNvPicPr/>
          <p:nvPr/>
        </p:nvPicPr>
        <p:blipFill>
          <a:blip r:embed="rId5">
            <a:lum contrast="12000"/>
          </a:blip>
          <a:stretch/>
        </p:blipFill>
        <p:spPr>
          <a:xfrm>
            <a:off x="311040" y="3768840"/>
            <a:ext cx="2838600" cy="191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Climate &amp; 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9144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sv-SE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dissolves sw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decreases with      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Down Arrow 3"/>
          <p:cNvSpPr/>
          <p:nvPr/>
        </p:nvSpPr>
        <p:spPr>
          <a:xfrm>
            <a:off x="5029200" y="243828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c4bd97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Climate &amp; 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9144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200" spc="-1" strike="noStrike">
                <a:solidFill>
                  <a:srgbClr val="595959"/>
                </a:solidFill>
                <a:latin typeface="Arial"/>
              </a:rPr>
              <a:t>CO</a:t>
            </a:r>
            <a:r>
              <a:rPr b="0" lang="sv-SE" sz="3200" spc="-1" strike="noStrike" baseline="-25000">
                <a:solidFill>
                  <a:srgbClr val="595959"/>
                </a:solidFill>
                <a:latin typeface="Arial"/>
              </a:rPr>
              <a:t>2</a:t>
            </a:r>
            <a:r>
              <a:rPr b="0" lang="sv-SE" sz="3200" spc="-1" strike="noStrike">
                <a:solidFill>
                  <a:srgbClr val="595959"/>
                </a:solidFill>
                <a:latin typeface="Arial"/>
              </a:rPr>
              <a:t> dissolves sw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7f7f7f"/>
                </a:solidFill>
                <a:latin typeface="Arial"/>
              </a:rPr>
              <a:t>decreases with      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Organisms remove CO</a:t>
            </a:r>
            <a:r>
              <a:rPr b="0" lang="sv-SE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make bio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calcium carbonate shel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Down Arrow 3"/>
          <p:cNvSpPr/>
          <p:nvPr/>
        </p:nvSpPr>
        <p:spPr>
          <a:xfrm>
            <a:off x="5029200" y="243828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4a452a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815920" y="-3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Coccolithopho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15" descr="cwall99_med"/>
          <p:cNvPicPr/>
          <p:nvPr/>
        </p:nvPicPr>
        <p:blipFill>
          <a:blip r:embed="rId1"/>
          <a:stretch/>
        </p:blipFill>
        <p:spPr>
          <a:xfrm>
            <a:off x="5791320" y="2362320"/>
            <a:ext cx="3009960" cy="2409840"/>
          </a:xfrm>
          <a:prstGeom prst="rect">
            <a:avLst/>
          </a:prstGeom>
          <a:ln w="0">
            <a:noFill/>
          </a:ln>
        </p:spPr>
      </p:pic>
      <p:sp>
        <p:nvSpPr>
          <p:cNvPr id="296" name="TextBox 5"/>
          <p:cNvSpPr/>
          <p:nvPr/>
        </p:nvSpPr>
        <p:spPr>
          <a:xfrm>
            <a:off x="6708240" y="487692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NASA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23"/>
          <p:cNvGrpSpPr/>
          <p:nvPr/>
        </p:nvGrpSpPr>
        <p:grpSpPr>
          <a:xfrm>
            <a:off x="609480" y="1741320"/>
            <a:ext cx="2233800" cy="5347440"/>
            <a:chOff x="609480" y="1741320"/>
            <a:chExt cx="2233800" cy="5347440"/>
          </a:xfrm>
        </p:grpSpPr>
        <p:pic>
          <p:nvPicPr>
            <p:cNvPr id="298" name="Picture 6" descr="Cpela"/>
            <p:cNvPicPr/>
            <p:nvPr/>
          </p:nvPicPr>
          <p:blipFill>
            <a:blip r:embed="rId2"/>
            <a:stretch/>
          </p:blipFill>
          <p:spPr>
            <a:xfrm>
              <a:off x="1185840" y="5916600"/>
              <a:ext cx="1079280" cy="87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7" descr="clepto_3pack"/>
            <p:cNvPicPr/>
            <p:nvPr/>
          </p:nvPicPr>
          <p:blipFill>
            <a:blip r:embed="rId3"/>
            <a:stretch/>
          </p:blipFill>
          <p:spPr>
            <a:xfrm>
              <a:off x="1185840" y="4549680"/>
              <a:ext cx="107928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" descr="Ehux2_5"/>
            <p:cNvPicPr/>
            <p:nvPr/>
          </p:nvPicPr>
          <p:blipFill>
            <a:blip r:embed="rId4"/>
            <a:stretch/>
          </p:blipFill>
          <p:spPr>
            <a:xfrm>
              <a:off x="1185840" y="3036960"/>
              <a:ext cx="1079280" cy="10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Picture 9" descr="G_oceanica"/>
            <p:cNvPicPr/>
            <p:nvPr/>
          </p:nvPicPr>
          <p:blipFill>
            <a:blip r:embed="rId5"/>
            <a:stretch/>
          </p:blipFill>
          <p:spPr>
            <a:xfrm>
              <a:off x="1185840" y="1741320"/>
              <a:ext cx="107928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Text Box 16"/>
            <p:cNvSpPr/>
            <p:nvPr/>
          </p:nvSpPr>
          <p:spPr>
            <a:xfrm>
              <a:off x="682560" y="404496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E. huxley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609480" y="2533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G. ocea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609480" y="6781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braarud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19"/>
            <p:cNvSpPr/>
            <p:nvPr/>
          </p:nvSpPr>
          <p:spPr>
            <a:xfrm>
              <a:off x="609480" y="5484600"/>
              <a:ext cx="223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quadriperforat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Rectangle 32"/>
          <p:cNvSpPr/>
          <p:nvPr/>
        </p:nvSpPr>
        <p:spPr>
          <a:xfrm>
            <a:off x="685800" y="5791320"/>
            <a:ext cx="3962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3"/>
          <p:cNvSpPr/>
          <p:nvPr/>
        </p:nvSpPr>
        <p:spPr>
          <a:xfrm>
            <a:off x="5562720" y="137160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Coccolithophores largest producer of calcite on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33"/>
          <p:cNvSpPr/>
          <p:nvPr/>
        </p:nvSpPr>
        <p:spPr>
          <a:xfrm>
            <a:off x="772920" y="1066680"/>
            <a:ext cx="19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Ambient </a:t>
            </a: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6"/>
          <p:cNvSpPr/>
          <p:nvPr/>
        </p:nvSpPr>
        <p:spPr>
          <a:xfrm>
            <a:off x="2067120" y="6019920"/>
            <a:ext cx="202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Riebesell et al.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Langer et al.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15920" y="-3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pH disrupts shell 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15" descr="cwall99_med"/>
          <p:cNvPicPr/>
          <p:nvPr/>
        </p:nvPicPr>
        <p:blipFill>
          <a:blip r:embed="rId1"/>
          <a:stretch/>
        </p:blipFill>
        <p:spPr>
          <a:xfrm>
            <a:off x="5791320" y="2362320"/>
            <a:ext cx="3009960" cy="2409840"/>
          </a:xfrm>
          <a:prstGeom prst="rect">
            <a:avLst/>
          </a:prstGeom>
          <a:ln w="0">
            <a:noFill/>
          </a:ln>
        </p:spPr>
      </p:pic>
      <p:sp>
        <p:nvSpPr>
          <p:cNvPr id="312" name="TextBox 5"/>
          <p:cNvSpPr/>
          <p:nvPr/>
        </p:nvSpPr>
        <p:spPr>
          <a:xfrm>
            <a:off x="6708240" y="487692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NASA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23"/>
          <p:cNvGrpSpPr/>
          <p:nvPr/>
        </p:nvGrpSpPr>
        <p:grpSpPr>
          <a:xfrm>
            <a:off x="609480" y="1741320"/>
            <a:ext cx="2233800" cy="5347440"/>
            <a:chOff x="609480" y="1741320"/>
            <a:chExt cx="2233800" cy="5347440"/>
          </a:xfrm>
        </p:grpSpPr>
        <p:pic>
          <p:nvPicPr>
            <p:cNvPr id="314" name="Picture 6" descr="Cpela"/>
            <p:cNvPicPr/>
            <p:nvPr/>
          </p:nvPicPr>
          <p:blipFill>
            <a:blip r:embed="rId2"/>
            <a:stretch/>
          </p:blipFill>
          <p:spPr>
            <a:xfrm>
              <a:off x="1185840" y="5916600"/>
              <a:ext cx="1079280" cy="87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7" descr="clepto_3pack"/>
            <p:cNvPicPr/>
            <p:nvPr/>
          </p:nvPicPr>
          <p:blipFill>
            <a:blip r:embed="rId3"/>
            <a:stretch/>
          </p:blipFill>
          <p:spPr>
            <a:xfrm>
              <a:off x="1185840" y="4549680"/>
              <a:ext cx="107928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8" descr="Ehux2_5"/>
            <p:cNvPicPr/>
            <p:nvPr/>
          </p:nvPicPr>
          <p:blipFill>
            <a:blip r:embed="rId4"/>
            <a:stretch/>
          </p:blipFill>
          <p:spPr>
            <a:xfrm>
              <a:off x="1185840" y="3036960"/>
              <a:ext cx="1079280" cy="10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9" descr="G_oceanica"/>
            <p:cNvPicPr/>
            <p:nvPr/>
          </p:nvPicPr>
          <p:blipFill>
            <a:blip r:embed="rId5"/>
            <a:stretch/>
          </p:blipFill>
          <p:spPr>
            <a:xfrm>
              <a:off x="1185840" y="1741320"/>
              <a:ext cx="107928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Text Box 16"/>
            <p:cNvSpPr/>
            <p:nvPr/>
          </p:nvSpPr>
          <p:spPr>
            <a:xfrm>
              <a:off x="682560" y="404496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E. huxley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17"/>
            <p:cNvSpPr/>
            <p:nvPr/>
          </p:nvSpPr>
          <p:spPr>
            <a:xfrm>
              <a:off x="609480" y="2533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G. ocea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18"/>
            <p:cNvSpPr/>
            <p:nvPr/>
          </p:nvSpPr>
          <p:spPr>
            <a:xfrm>
              <a:off x="609480" y="6781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braarud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19"/>
            <p:cNvSpPr/>
            <p:nvPr/>
          </p:nvSpPr>
          <p:spPr>
            <a:xfrm>
              <a:off x="609480" y="5484600"/>
              <a:ext cx="223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quadriperforat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74"/>
          <p:cNvGrpSpPr/>
          <p:nvPr/>
        </p:nvGrpSpPr>
        <p:grpSpPr>
          <a:xfrm>
            <a:off x="3581280" y="1746360"/>
            <a:ext cx="1008000" cy="5111280"/>
            <a:chOff x="3581280" y="1746360"/>
            <a:chExt cx="1008000" cy="5111280"/>
          </a:xfrm>
        </p:grpSpPr>
        <p:pic>
          <p:nvPicPr>
            <p:cNvPr id="323" name="Picture 14" descr="Clepto_630ppm"/>
            <p:cNvPicPr/>
            <p:nvPr/>
          </p:nvPicPr>
          <p:blipFill>
            <a:blip r:embed="rId6"/>
            <a:stretch/>
          </p:blipFill>
          <p:spPr>
            <a:xfrm>
              <a:off x="3581280" y="4554360"/>
              <a:ext cx="1008000" cy="9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15" descr="Cpela_1100ppm"/>
            <p:cNvPicPr/>
            <p:nvPr/>
          </p:nvPicPr>
          <p:blipFill>
            <a:blip r:embed="rId7"/>
            <a:stretch/>
          </p:blipFill>
          <p:spPr>
            <a:xfrm>
              <a:off x="3581280" y="5921280"/>
              <a:ext cx="1008000" cy="93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Picture 71" descr="G_oceanica_highCO2"/>
            <p:cNvPicPr/>
            <p:nvPr/>
          </p:nvPicPr>
          <p:blipFill>
            <a:blip r:embed="rId8"/>
            <a:stretch/>
          </p:blipFill>
          <p:spPr>
            <a:xfrm>
              <a:off x="3581280" y="1746360"/>
              <a:ext cx="1008000" cy="80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73" descr="Ehux_2000_CO2"/>
            <p:cNvPicPr/>
            <p:nvPr/>
          </p:nvPicPr>
          <p:blipFill>
            <a:blip r:embed="rId9"/>
            <a:stretch/>
          </p:blipFill>
          <p:spPr>
            <a:xfrm>
              <a:off x="3581280" y="3041640"/>
              <a:ext cx="1008000" cy="100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Down Arrow 30"/>
          <p:cNvSpPr/>
          <p:nvPr/>
        </p:nvSpPr>
        <p:spPr>
          <a:xfrm>
            <a:off x="2971800" y="3808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2"/>
          <p:cNvSpPr/>
          <p:nvPr/>
        </p:nvSpPr>
        <p:spPr>
          <a:xfrm>
            <a:off x="685800" y="5791320"/>
            <a:ext cx="3962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3"/>
          <p:cNvSpPr/>
          <p:nvPr/>
        </p:nvSpPr>
        <p:spPr>
          <a:xfrm>
            <a:off x="5562720" y="137160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Coccolithophores largest producer of calcite on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33"/>
          <p:cNvSpPr/>
          <p:nvPr/>
        </p:nvSpPr>
        <p:spPr>
          <a:xfrm>
            <a:off x="772920" y="1066680"/>
            <a:ext cx="19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Ambient </a:t>
            </a: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34"/>
          <p:cNvSpPr/>
          <p:nvPr/>
        </p:nvSpPr>
        <p:spPr>
          <a:xfrm>
            <a:off x="4119840" y="106668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Down Arrow 35"/>
          <p:cNvSpPr/>
          <p:nvPr/>
        </p:nvSpPr>
        <p:spPr>
          <a:xfrm>
            <a:off x="3886200" y="1143000"/>
            <a:ext cx="228600" cy="38088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6"/>
          <p:cNvSpPr/>
          <p:nvPr/>
        </p:nvSpPr>
        <p:spPr>
          <a:xfrm>
            <a:off x="2067120" y="6019920"/>
            <a:ext cx="202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Riebesell et al.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Langer et al.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1:15:46Z</dcterms:created>
  <dc:creator>Sybil Seitzinger</dc:creator>
  <dc:description/>
  <dc:language>en-US</dc:language>
  <cp:lastModifiedBy>Jamm</cp:lastModifiedBy>
  <dcterms:modified xsi:type="dcterms:W3CDTF">2010-06-03T08:11:25Z</dcterms:modified>
  <cp:revision>105</cp:revision>
  <dc:subject/>
  <dc:title>Slide 1</dc:title>
</cp:coreProperties>
</file>