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3.jpeg" ContentType="image/jpeg"/>
  <Override PartName="/ppt/media/image22.jpeg" ContentType="image/jpeg"/>
  <Override PartName="/ppt/media/image9.jpeg" ContentType="image/jpeg"/>
  <Override PartName="/ppt/media/image11.jpeg" ContentType="image/jpeg"/>
  <Override PartName="/ppt/media/image27.jpeg" ContentType="image/jpeg"/>
  <Override PartName="/ppt/media/image20.png" ContentType="image/png"/>
  <Override PartName="/ppt/media/image6.jpeg" ContentType="image/jpeg"/>
  <Override PartName="/ppt/media/image18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2.jpeg" ContentType="image/jpeg"/>
  <Override PartName="/ppt/media/image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9.png" ContentType="image/png"/>
  <Override PartName="/ppt/media/image2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1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ftr" idx="1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 type="sldNum" idx="1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9BCB-DB3F-4491-B4C2-55F6BF53FF3B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5B10-9A29-41FC-B8F3-C6B78C35C12A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3C33-FBDC-401F-BF48-826CF774BB6D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1EAD-9478-45D3-BCAD-2FD2AD9E2A80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MBER and SOLAS have established a working group to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- Coordinate international research efforts in ocean acidific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- Undertake synthesis activities in ocean acidification at the international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s may include standardisation, intercomparisons, coordination of field campaigns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WG is led by Jean-Pierre Gattuso and builds on the European Project on Ocean Acidific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membership 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im Barry (US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elle Bijma (Germany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Minhan Dai (Chin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Dick Feely (US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ean-Pierre Gattuso, Chair (France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James Orr (France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Ulf Riebesell (Germany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Lisa Robbins (USA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Carol Turley (UK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09B2-641F-4BC1-AD88-35AC7F24EF31}" type="slidenum"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EXT High CO2 Symposium (SCOR, IOC, IGBP) is planned for 20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GBP produce summary for policyma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cean Acidification is the other CO2 problem (not just Climate Chan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CD8E-1702-421E-961E-52AD847BBCF0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E325-6183-4383-A9AE-A1B8CB250D63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2D96-1061-49A7-BDFC-426987940ECE}" type="slidenum">
              <a:rPr b="0" lang="sv-SE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4055-5E99-4125-B74F-03988FEBF8C5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93ED-C56C-4020-8C5B-1325133F015F}" type="slidenum">
              <a:rPr b="0" lang="sv-SE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B271-90D9-4343-A0E8-0DD70E8B5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7949C2D-7A07-4767-B31E-994C312AAA1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oceans are acidifying as a result of the dissolution of atmospheric CO2. This is measurable: time series from the North Pacif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ata: Atmospheric CO2 Pieter Tans, Seawater data: David Kar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emistry is well known, predicted over 20 years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sequences for climate, C cycle and fisheries, etc. Not fully anticip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nly way to halt ocean acidification is to decrease CO2 in atmosphere – decrease emi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BD44-A341-440E-8AAB-9E5E5801B120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60FD-1D18-461D-9232-079FA4B2AFD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Oceans are decreasing amount of CO2 in atmosphere and therefore reducing climate warming from anthropogenic CO2 emi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hat are mechanisms of CO2 removal by oceans and how ocean acidification affect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biological pump were somehow shut-off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mospheric CO2 levels would increase by around 200 ppmv (Parekh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t al., 2006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armiento, 1984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ome portion sinks to deep ocean thereby effectively removing CO2 for long periods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Organisms that make calcium carbonate shells are ones we know are weak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B37A-564A-4643-A0DD-224F73EE00FB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ome portion sinks to deep ocean thereby effectively removing CO2 for long periods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all this the biological pu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biological pump were somehow shut-off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mospheric CO2 levels would increase by around 200 ppmv (Parekh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t al., 2006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armiento, 1984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Organisms that make calcium carbonate shells are ones we know are weak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5BB8-EBDA-414E-89ED-3CBFAA060CF3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ccolithophores largest producer of calcite on Earth, responsible for x% of primary (plant) production in oce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fall to deep ocean essentially removing CO2 as shells and their biomass (organic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Important part of the biological pu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nsiderable number of laboratory experiments and some large enclosures in ocean have been conducted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how that as pH decreases the shells of these organisms are deformed, less CaC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Implication is that as pH ocean decreases, they will draw down less calcium carbonate to deep oc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Therefore, less CO2 would be removed from atmosphere by ocean. More CO2 in atmosphere – warmer clima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34AB-7DE2-408D-A6F5-43DDE3EC1D33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ccolithophores largest producer of calcite on Earth, responsible for x% of primary (plant) production in oce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Considerable number of laboratory experiments and some large enclosures in ocean have been conducted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how that as pH decreases the shells of these organisms are deformed, less CaC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Implication is that as pH ocean decreases, they will draw down less calcium carbonate to deep oc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Therefore, less CO2 would be removed from atmosphere by ocean. More CO2 in atmosphere – warmer clima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8DDB-05CF-416B-9AD3-4112F4E218D8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E7C31-C9B9-4701-A8F0-413ABEF699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B1445-B06A-4B7F-9D47-D51CB2E1E7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EE440-0139-4612-83DE-327D0F50B6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DB90B-A5AB-447E-8F41-EEF0CE5F5B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6BA46-2E2D-48D4-AA03-2CA432D8E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1ABB2-1141-430B-95A0-72D1EE3B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A46AB-5C84-41B1-B74F-1DED648F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1B8774-7540-49C6-9D7E-5E9CB7E7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AE3338-0167-407A-94F5-FD6BA1D3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87E43-622A-4E2F-92BA-6F92A55A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4E16E0-5F27-4DB0-9E9F-73DC93EC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712E1-E7F4-4C74-8EE1-AE8C741F02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60783-38FC-4598-8673-27E41FF4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65E06-88CE-44C1-96B7-A9F509BD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A25F76-0CC6-45B2-8116-49408228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1A98E-AB8D-47EF-A6D3-096B4645A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677BE-07AF-493D-B57B-4B95C9362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6ECC5B-5685-41B9-A728-2C2AE8F19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5C27CA-D53B-4E9E-A554-F12EA553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C5BE06-B01E-47F9-A6B0-7241B369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69DDAF-4FED-4A7C-92EE-17643027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32A7EB-3E5E-481A-AFA6-E90D8CB9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BA171-EF37-42EC-9EA1-8D57F04A3E8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0AD641-D6F5-4912-BB08-F2F14093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F81D49-5F98-4588-94F3-9AFEBE8B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516380-596E-4765-876B-F891B048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8BEACF-DC77-4B01-BC9F-E6FCDFD6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5C6FEB-FA22-40A9-BB59-23CF55AB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44DC08-5A19-47A7-B733-4D487E189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079428-96C4-40C0-8D19-B845B8B00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A0FDA1-0BBF-46AC-863D-27C9F2D17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B10031-7E51-4EC5-81DB-826354A2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9325F6-833A-46F4-92E1-E348E502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D003B-0457-4B3D-91F9-B086DA75C67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623661-05E3-440D-AA35-115E583C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0589CA-35DB-43BE-99B0-001BC71C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1EAD2E-1229-43D5-91E9-CB6DDDC6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C47244-FB5A-48E1-AF46-5E00C6A3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28E208-AD37-4865-B51E-733AD8F1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0226BB-B11F-42F7-ABB5-B21A5F42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E174E7-DE32-4E26-8911-87018E98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093512-A081-4A0A-86E3-67152FEA1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1FE54D-8D98-4536-872E-16CA78E13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E3A69F-2A29-41A0-ACCC-79B562B32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7E99E-E00C-4455-BD37-0B45779E2EA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B0D0A3-0F2D-4A8F-AC32-CE90EE2F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17E2D0-39A7-45FF-BFD5-462480BB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556361-C70A-4C94-8E42-1BFC8976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765214-E16B-4F80-8A8E-4F13C585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C96603-329C-4A31-91E3-68B2F5D8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8D7791-29B2-41BA-9BA6-0F2D15C3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0A1232-EC25-489C-8841-4501D816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F8B26F-E012-47A4-A119-EAC23AAB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D17EB1-C0AF-44ED-A692-256CD8DF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75E194-E087-4BFE-8F43-A4E78B7CE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6A827-7CE2-44C8-BCC3-1E191E1D354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5F2B90-7532-4FFC-A99B-A4649207F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358720" y="274320"/>
            <a:ext cx="632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5A428-D4AA-4349-BA6E-B6D596B0A46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2F3E6-A412-4D5A-9AB4-526DCC3EE9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E5998-38E4-470B-9EB6-57F2007FD0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DB4E-707E-43AA-A749-AF7842272C77}" type="slidenum">
              <a:rPr b="0" lang="sv-SE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9C9C-092B-4E6F-BF21-53B13FE78115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6A11-EB4E-4B96-942A-B22115426DFC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38D7-B131-4B1A-AFF5-55FDCFFD3B6D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6436-CBCD-4EBF-9217-BB097041C761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126" name="Isosceles Triangle 6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11A1-FD39-4995-B515-F2AF9832FB8E}" type="datetime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004B-73BB-4E9D-A51F-D5162F768C43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1A71-A380-4066-B5D7-A71789510C31}" type="slidenum">
              <a:rPr b="0" lang="en-US" sz="3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IGBP_newlogo-right-white.eps"/>
          <p:cNvPicPr/>
          <p:nvPr/>
        </p:nvPicPr>
        <p:blipFill>
          <a:blip r:embed="rId2"/>
          <a:stretch/>
        </p:blipFill>
        <p:spPr>
          <a:xfrm>
            <a:off x="311040" y="274680"/>
            <a:ext cx="1508400" cy="4874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218960" y="1981080"/>
            <a:ext cx="921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sv-SE" sz="36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negative impact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4" descr=""/>
          <p:cNvPicPr/>
          <p:nvPr/>
        </p:nvPicPr>
        <p:blipFill>
          <a:blip r:embed="rId1"/>
          <a:stretch/>
        </p:blipFill>
        <p:spPr>
          <a:xfrm>
            <a:off x="5157720" y="3733920"/>
            <a:ext cx="3834000" cy="24382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7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3826080" cy="2133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"/>
          <p:cNvPicPr/>
          <p:nvPr/>
        </p:nvPicPr>
        <p:blipFill>
          <a:blip r:embed="rId3"/>
          <a:stretch/>
        </p:blipFill>
        <p:spPr>
          <a:xfrm>
            <a:off x="7620120" y="4876920"/>
            <a:ext cx="1093680" cy="7333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Chlamys"/>
          <p:cNvPicPr/>
          <p:nvPr/>
        </p:nvPicPr>
        <p:blipFill>
          <a:blip r:embed="rId4"/>
          <a:stretch/>
        </p:blipFill>
        <p:spPr>
          <a:xfrm>
            <a:off x="7620120" y="2514600"/>
            <a:ext cx="1123920" cy="836640"/>
          </a:xfrm>
          <a:prstGeom prst="rect">
            <a:avLst/>
          </a:prstGeom>
          <a:ln w="0">
            <a:noFill/>
          </a:ln>
        </p:spPr>
      </p:pic>
      <p:sp>
        <p:nvSpPr>
          <p:cNvPr id="340" name="TextBox 12"/>
          <p:cNvSpPr/>
          <p:nvPr/>
        </p:nvSpPr>
        <p:spPr>
          <a:xfrm>
            <a:off x="5257800" y="62485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Decreasing 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eft Arrow 13"/>
          <p:cNvSpPr/>
          <p:nvPr/>
        </p:nvSpPr>
        <p:spPr>
          <a:xfrm>
            <a:off x="7238880" y="6324480"/>
            <a:ext cx="1676520" cy="228600"/>
          </a:xfrm>
          <a:prstGeom prst="leftArrow">
            <a:avLst>
              <a:gd name="adj1" fmla="val 50000"/>
              <a:gd name="adj2" fmla="val 50013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4"/>
          <p:cNvSpPr/>
          <p:nvPr/>
        </p:nvSpPr>
        <p:spPr>
          <a:xfrm>
            <a:off x="1007640" y="6019920"/>
            <a:ext cx="26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Ries et al.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Cooley and Doney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Ocean acidification slows shell calc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6"/>
          <p:cNvSpPr/>
          <p:nvPr/>
        </p:nvSpPr>
        <p:spPr>
          <a:xfrm>
            <a:off x="152280" y="2514600"/>
            <a:ext cx="5105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conomic l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500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lobal shellfish prod. 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10.5  billion US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1500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ruption livelih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2"/>
          <p:cNvSpPr/>
          <p:nvPr/>
        </p:nvSpPr>
        <p:spPr>
          <a:xfrm rot="16200000">
            <a:off x="3117600" y="328284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Net calcification rate (wt% per 60 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3" descr="Kiel-Kosmos_9.jpg"/>
          <p:cNvPicPr/>
          <p:nvPr/>
        </p:nvPicPr>
        <p:blipFill>
          <a:blip r:embed="rId1"/>
          <a:stretch/>
        </p:blipFill>
        <p:spPr>
          <a:xfrm>
            <a:off x="587520" y="1389240"/>
            <a:ext cx="1949400" cy="14634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Kiel-Kosmos_10.jpg"/>
          <p:cNvPicPr/>
          <p:nvPr/>
        </p:nvPicPr>
        <p:blipFill>
          <a:blip r:embed="rId2"/>
          <a:stretch/>
        </p:blipFill>
        <p:spPr>
          <a:xfrm>
            <a:off x="587520" y="3078000"/>
            <a:ext cx="1949400" cy="14637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5" descr="Kiel-Kosmos_13.jpg"/>
          <p:cNvPicPr/>
          <p:nvPr/>
        </p:nvPicPr>
        <p:blipFill>
          <a:blip r:embed="rId3"/>
          <a:stretch/>
        </p:blipFill>
        <p:spPr>
          <a:xfrm>
            <a:off x="527040" y="4699080"/>
            <a:ext cx="2038320" cy="1359000"/>
          </a:xfrm>
          <a:prstGeom prst="rect">
            <a:avLst/>
          </a:prstGeom>
          <a:ln w="0">
            <a:noFill/>
          </a:ln>
        </p:spPr>
      </p:pic>
      <p:sp>
        <p:nvSpPr>
          <p:cNvPr id="349" name="TextBox 6"/>
          <p:cNvSpPr/>
          <p:nvPr/>
        </p:nvSpPr>
        <p:spPr>
          <a:xfrm>
            <a:off x="3224160" y="228600"/>
            <a:ext cx="531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ernational coordi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8" descr="SOLAS"/>
          <p:cNvPicPr/>
          <p:nvPr/>
        </p:nvPicPr>
        <p:blipFill>
          <a:blip r:embed="rId4"/>
          <a:srcRect l="0" t="33380" r="0" b="0"/>
          <a:stretch/>
        </p:blipFill>
        <p:spPr>
          <a:xfrm>
            <a:off x="3581280" y="5867280"/>
            <a:ext cx="1371600" cy="712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351" name="Picture 31" descr="IMBER"/>
          <p:cNvPicPr/>
          <p:nvPr/>
        </p:nvPicPr>
        <p:blipFill>
          <a:blip r:embed="rId5"/>
          <a:srcRect l="0" t="0" r="0" b="20796"/>
          <a:stretch/>
        </p:blipFill>
        <p:spPr>
          <a:xfrm>
            <a:off x="5486400" y="5867280"/>
            <a:ext cx="1143000" cy="706680"/>
          </a:xfrm>
          <a:prstGeom prst="rect">
            <a:avLst/>
          </a:prstGeom>
          <a:ln w="0">
            <a:noFill/>
          </a:ln>
          <a:effectLst>
            <a:outerShdw dist="12783" dir="15616346" blurRad="0" rotWithShape="0">
              <a:srgbClr val="808080">
                <a:alpha val="75000"/>
              </a:srgbClr>
            </a:outerShdw>
          </a:effectLst>
        </p:spPr>
      </p:pic>
      <p:sp>
        <p:nvSpPr>
          <p:cNvPr id="352" name="TextBox 6"/>
          <p:cNvSpPr/>
          <p:nvPr/>
        </p:nvSpPr>
        <p:spPr>
          <a:xfrm>
            <a:off x="4855320" y="505944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imber.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10"/>
          <p:cNvSpPr/>
          <p:nvPr/>
        </p:nvSpPr>
        <p:spPr>
          <a:xfrm>
            <a:off x="3352680" y="1981080"/>
            <a:ext cx="6437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standardize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coordinate field campa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eece1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eeece1"/>
                </a:solidFill>
                <a:latin typeface="Arial"/>
              </a:rPr>
              <a:t>Summary for Policymak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テキスト ボックス 6"/>
          <p:cNvSpPr/>
          <p:nvPr/>
        </p:nvSpPr>
        <p:spPr>
          <a:xfrm>
            <a:off x="2209680" y="152280"/>
            <a:ext cx="18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7" descr="spm_cover-1.jpg"/>
          <p:cNvPicPr/>
          <p:nvPr/>
        </p:nvPicPr>
        <p:blipFill>
          <a:blip r:embed="rId1"/>
          <a:stretch/>
        </p:blipFill>
        <p:spPr>
          <a:xfrm>
            <a:off x="1523880" y="1066680"/>
            <a:ext cx="3206880" cy="4488120"/>
          </a:xfrm>
          <a:prstGeom prst="rect">
            <a:avLst/>
          </a:prstGeom>
          <a:ln w="3240">
            <a:solidFill>
              <a:srgbClr val="a6a6a6"/>
            </a:solidFill>
            <a:miter/>
          </a:ln>
        </p:spPr>
      </p:pic>
      <p:pic>
        <p:nvPicPr>
          <p:cNvPr id="357" name="Picture 6" descr=""/>
          <p:cNvPicPr/>
          <p:nvPr/>
        </p:nvPicPr>
        <p:blipFill>
          <a:blip r:embed="rId2"/>
          <a:stretch/>
        </p:blipFill>
        <p:spPr>
          <a:xfrm>
            <a:off x="1676520" y="6172200"/>
            <a:ext cx="525240" cy="5205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iaea_org_logo_new"/>
          <p:cNvPicPr/>
          <p:nvPr/>
        </p:nvPicPr>
        <p:blipFill>
          <a:blip r:embed="rId3"/>
          <a:stretch/>
        </p:blipFill>
        <p:spPr>
          <a:xfrm>
            <a:off x="2666880" y="6234120"/>
            <a:ext cx="1630440" cy="3952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83" descr="SCOR"/>
          <p:cNvPicPr/>
          <p:nvPr/>
        </p:nvPicPr>
        <p:blipFill>
          <a:blip r:embed="rId4"/>
          <a:srcRect l="0" t="8540" r="0" b="13386"/>
          <a:stretch/>
        </p:blipFill>
        <p:spPr>
          <a:xfrm>
            <a:off x="228600" y="6216480"/>
            <a:ext cx="762120" cy="4636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" descr="SPM-French-cover.jpg"/>
          <p:cNvPicPr/>
          <p:nvPr/>
        </p:nvPicPr>
        <p:blipFill>
          <a:blip r:embed="rId5"/>
          <a:stretch/>
        </p:blipFill>
        <p:spPr>
          <a:xfrm>
            <a:off x="3352680" y="914400"/>
            <a:ext cx="3144960" cy="44496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SPM-Spanish-cover_Page_1.jpg"/>
          <p:cNvPicPr/>
          <p:nvPr/>
        </p:nvPicPr>
        <p:blipFill>
          <a:blip r:embed="rId6"/>
          <a:stretch/>
        </p:blipFill>
        <p:spPr>
          <a:xfrm>
            <a:off x="4495680" y="2133720"/>
            <a:ext cx="315288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sv-SE" sz="3600" spc="-1" strike="noStrike">
                <a:solidFill>
                  <a:srgbClr val="ffffff"/>
                </a:solidFill>
                <a:latin typeface="Arial"/>
              </a:rPr>
              <a:t>Still much to be learned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6" descr="IGBP_newlogo09-right-white.pdf"/>
          <p:cNvPicPr/>
          <p:nvPr/>
        </p:nvPicPr>
        <p:blipFill>
          <a:blip r:embed="rId1"/>
          <a:stretch/>
        </p:blipFill>
        <p:spPr>
          <a:xfrm>
            <a:off x="-1333440" y="2384280"/>
            <a:ext cx="10260000" cy="72504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2057400" y="1980720"/>
            <a:ext cx="55562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  <a:ea typeface="Arial"/>
              </a:rPr>
              <a:t>Sybil Seitzi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ecutive Director, I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6" descr="IGBP_newlogo09-right-white.pdf"/>
          <p:cNvPicPr/>
          <p:nvPr/>
        </p:nvPicPr>
        <p:blipFill>
          <a:blip r:embed="rId1"/>
          <a:stretch/>
        </p:blipFill>
        <p:spPr>
          <a:xfrm>
            <a:off x="-1116000" y="1752480"/>
            <a:ext cx="10260000" cy="7250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057400" y="1980720"/>
            <a:ext cx="55562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Arial"/>
                <a:ea typeface="Arial"/>
              </a:rPr>
              <a:t>Sybil Seitzi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ecutive Director, I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3"/>
          <p:cNvSpPr/>
          <p:nvPr/>
        </p:nvSpPr>
        <p:spPr>
          <a:xfrm>
            <a:off x="3714840" y="609588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Calibri"/>
              </a:rPr>
              <a:t>www.IGBP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5486400" y="1219320"/>
            <a:ext cx="3048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49040" y="759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7" descr="CO2-ph NorthPacificOcean.jpg"/>
          <p:cNvPicPr/>
          <p:nvPr/>
        </p:nvPicPr>
        <p:blipFill>
          <a:blip r:embed="rId1"/>
          <a:stretch/>
        </p:blipFill>
        <p:spPr>
          <a:xfrm>
            <a:off x="1143000" y="1219320"/>
            <a:ext cx="7319880" cy="4635360"/>
          </a:xfrm>
          <a:prstGeom prst="rect">
            <a:avLst/>
          </a:prstGeom>
          <a:ln w="0">
            <a:noFill/>
          </a:ln>
        </p:spPr>
      </p:pic>
      <p:sp>
        <p:nvSpPr>
          <p:cNvPr id="264" name="TextBox 7"/>
          <p:cNvSpPr/>
          <p:nvPr/>
        </p:nvSpPr>
        <p:spPr>
          <a:xfrm>
            <a:off x="1071720" y="5919840"/>
            <a:ext cx="7462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(Feely et al., 2008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Calibri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5"/>
          <p:cNvSpPr/>
          <p:nvPr/>
        </p:nvSpPr>
        <p:spPr>
          <a:xfrm>
            <a:off x="4809240" y="243828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Atmos 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4656600" y="3657600"/>
            <a:ext cx="12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seawa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5337360" y="45720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358720" y="27432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3716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is occur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negative impacts 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6a6a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a6a6a6"/>
                </a:solidFill>
                <a:latin typeface="Arial"/>
              </a:rPr>
              <a:t>negative impacts fish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8"/>
          <p:cNvGrpSpPr/>
          <p:nvPr/>
        </p:nvGrpSpPr>
        <p:grpSpPr>
          <a:xfrm>
            <a:off x="3233880" y="2600280"/>
            <a:ext cx="5262480" cy="1584360"/>
            <a:chOff x="3233880" y="2600280"/>
            <a:chExt cx="5262480" cy="1584360"/>
          </a:xfrm>
        </p:grpSpPr>
        <p:sp>
          <p:nvSpPr>
            <p:cNvPr id="271" name="Text Box 9"/>
            <p:cNvSpPr/>
            <p:nvPr/>
          </p:nvSpPr>
          <p:spPr>
            <a:xfrm>
              <a:off x="5305320" y="2908440"/>
              <a:ext cx="849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29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0"/>
            <p:cNvSpPr/>
            <p:nvPr/>
          </p:nvSpPr>
          <p:spPr>
            <a:xfrm flipV="1">
              <a:off x="3233880" y="3462120"/>
              <a:ext cx="1780920" cy="140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3" name="Picture 11" descr=""/>
            <p:cNvPicPr/>
            <p:nvPr/>
          </p:nvPicPr>
          <p:blipFill>
            <a:blip r:embed="rId1"/>
            <a:stretch/>
          </p:blipFill>
          <p:spPr>
            <a:xfrm>
              <a:off x="6148440" y="2600280"/>
              <a:ext cx="2347920" cy="1584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274" name="Group 16"/>
          <p:cNvGrpSpPr/>
          <p:nvPr/>
        </p:nvGrpSpPr>
        <p:grpSpPr>
          <a:xfrm>
            <a:off x="3249720" y="3595680"/>
            <a:ext cx="5254560" cy="2478600"/>
            <a:chOff x="3249720" y="3595680"/>
            <a:chExt cx="5254560" cy="2478600"/>
          </a:xfrm>
        </p:grpSpPr>
        <p:sp>
          <p:nvSpPr>
            <p:cNvPr id="275" name="Text Box 17"/>
            <p:cNvSpPr/>
            <p:nvPr/>
          </p:nvSpPr>
          <p:spPr>
            <a:xfrm>
              <a:off x="5314680" y="5005440"/>
              <a:ext cx="849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26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8"/>
            <p:cNvSpPr/>
            <p:nvPr/>
          </p:nvSpPr>
          <p:spPr>
            <a:xfrm>
              <a:off x="3249720" y="3595680"/>
              <a:ext cx="1765080" cy="18493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7" name="Picture 19" descr=""/>
            <p:cNvPicPr/>
            <p:nvPr/>
          </p:nvPicPr>
          <p:blipFill>
            <a:blip r:embed="rId2"/>
            <a:stretch/>
          </p:blipFill>
          <p:spPr>
            <a:xfrm>
              <a:off x="6165720" y="4413240"/>
              <a:ext cx="2338560" cy="1584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278" name="Group 12"/>
          <p:cNvGrpSpPr/>
          <p:nvPr/>
        </p:nvGrpSpPr>
        <p:grpSpPr>
          <a:xfrm>
            <a:off x="3246480" y="836640"/>
            <a:ext cx="5249880" cy="2490840"/>
            <a:chOff x="3246480" y="836640"/>
            <a:chExt cx="5249880" cy="2490840"/>
          </a:xfrm>
        </p:grpSpPr>
        <p:sp>
          <p:nvSpPr>
            <p:cNvPr id="279" name="Text Box 13"/>
            <p:cNvSpPr/>
            <p:nvPr/>
          </p:nvSpPr>
          <p:spPr>
            <a:xfrm>
              <a:off x="5305320" y="932040"/>
              <a:ext cx="849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Arial Narrow"/>
                </a:rPr>
                <a:t>45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4"/>
            <p:cNvSpPr/>
            <p:nvPr/>
          </p:nvSpPr>
          <p:spPr>
            <a:xfrm flipV="1">
              <a:off x="3246480" y="1592280"/>
              <a:ext cx="1768320" cy="1735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1" name="Picture 15" descr=""/>
            <p:cNvPicPr/>
            <p:nvPr/>
          </p:nvPicPr>
          <p:blipFill>
            <a:blip r:embed="rId3"/>
            <a:stretch/>
          </p:blipFill>
          <p:spPr>
            <a:xfrm>
              <a:off x="6148440" y="836640"/>
              <a:ext cx="2347920" cy="1562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282" name="Text Box 2"/>
          <p:cNvSpPr/>
          <p:nvPr/>
        </p:nvSpPr>
        <p:spPr>
          <a:xfrm>
            <a:off x="898560" y="0"/>
            <a:ext cx="824544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ate of anthropogenic CO</a:t>
            </a:r>
            <a:r>
              <a:rPr b="0" lang="en-A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emis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(2000-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1881000" y="6475320"/>
            <a:ext cx="457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Narrow"/>
              </a:rPr>
              <a:t>Le Quéré et al. 2009, Nature geoscience; </a:t>
            </a:r>
            <a:r>
              <a:rPr b="0" lang="en-AU" sz="1200" spc="-1" strike="noStrike">
                <a:solidFill>
                  <a:srgbClr val="ffffff"/>
                </a:solidFill>
                <a:latin typeface="Arial Narrow"/>
              </a:rPr>
              <a:t>Canadell et al. 2007, PNAS, 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450720" y="35701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1504080" y="2852640"/>
            <a:ext cx="581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6" descr=""/>
          <p:cNvPicPr/>
          <p:nvPr/>
        </p:nvPicPr>
        <p:blipFill>
          <a:blip r:embed="rId4"/>
          <a:stretch/>
        </p:blipFill>
        <p:spPr>
          <a:xfrm>
            <a:off x="293760" y="1095480"/>
            <a:ext cx="2838240" cy="191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7" name="Picture 7" descr=""/>
          <p:cNvPicPr/>
          <p:nvPr/>
        </p:nvPicPr>
        <p:blipFill>
          <a:blip r:embed="rId5">
            <a:lum contrast="12000"/>
          </a:blip>
          <a:stretch/>
        </p:blipFill>
        <p:spPr>
          <a:xfrm>
            <a:off x="311040" y="3768840"/>
            <a:ext cx="2838600" cy="191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Climate &amp; 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9144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sv-SE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 dissolves sw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decreases with      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Down Arrow 3"/>
          <p:cNvSpPr/>
          <p:nvPr/>
        </p:nvSpPr>
        <p:spPr>
          <a:xfrm>
            <a:off x="5029200" y="243828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c4bd97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Climate &amp; ocean acid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9144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200" spc="-1" strike="noStrike">
                <a:solidFill>
                  <a:srgbClr val="595959"/>
                </a:solidFill>
                <a:latin typeface="Arial"/>
              </a:rPr>
              <a:t>CO</a:t>
            </a:r>
            <a:r>
              <a:rPr b="0" lang="sv-SE" sz="3200" spc="-1" strike="noStrike" baseline="-25000">
                <a:solidFill>
                  <a:srgbClr val="595959"/>
                </a:solidFill>
                <a:latin typeface="Arial"/>
              </a:rPr>
              <a:t>2</a:t>
            </a:r>
            <a:r>
              <a:rPr b="0" lang="sv-SE" sz="3200" spc="-1" strike="noStrike">
                <a:solidFill>
                  <a:srgbClr val="595959"/>
                </a:solidFill>
                <a:latin typeface="Arial"/>
              </a:rPr>
              <a:t> dissolves sw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7f7f7f"/>
                </a:solidFill>
                <a:latin typeface="Arial"/>
              </a:rPr>
              <a:t>decreases with      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Organisms remove CO</a:t>
            </a:r>
            <a:r>
              <a:rPr b="0" lang="sv-SE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make bio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Arial"/>
              </a:rPr>
              <a:t>calcium carbonate shel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Down Arrow 3"/>
          <p:cNvSpPr/>
          <p:nvPr/>
        </p:nvSpPr>
        <p:spPr>
          <a:xfrm>
            <a:off x="5029200" y="2438280"/>
            <a:ext cx="380880" cy="3812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4a452a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815920" y="-3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Coccolithopho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15" descr="cwall99_med"/>
          <p:cNvPicPr/>
          <p:nvPr/>
        </p:nvPicPr>
        <p:blipFill>
          <a:blip r:embed="rId1"/>
          <a:stretch/>
        </p:blipFill>
        <p:spPr>
          <a:xfrm>
            <a:off x="5791320" y="2362320"/>
            <a:ext cx="3009960" cy="2409840"/>
          </a:xfrm>
          <a:prstGeom prst="rect">
            <a:avLst/>
          </a:prstGeom>
          <a:ln w="0">
            <a:noFill/>
          </a:ln>
        </p:spPr>
      </p:pic>
      <p:sp>
        <p:nvSpPr>
          <p:cNvPr id="296" name="TextBox 5"/>
          <p:cNvSpPr/>
          <p:nvPr/>
        </p:nvSpPr>
        <p:spPr>
          <a:xfrm>
            <a:off x="6708240" y="487692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NASA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23"/>
          <p:cNvGrpSpPr/>
          <p:nvPr/>
        </p:nvGrpSpPr>
        <p:grpSpPr>
          <a:xfrm>
            <a:off x="609480" y="1741320"/>
            <a:ext cx="2233800" cy="5347440"/>
            <a:chOff x="609480" y="1741320"/>
            <a:chExt cx="2233800" cy="5347440"/>
          </a:xfrm>
        </p:grpSpPr>
        <p:pic>
          <p:nvPicPr>
            <p:cNvPr id="298" name="Picture 6" descr="Cpela"/>
            <p:cNvPicPr/>
            <p:nvPr/>
          </p:nvPicPr>
          <p:blipFill>
            <a:blip r:embed="rId2"/>
            <a:stretch/>
          </p:blipFill>
          <p:spPr>
            <a:xfrm>
              <a:off x="1185840" y="5916600"/>
              <a:ext cx="1079280" cy="87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7" descr="clepto_3pack"/>
            <p:cNvPicPr/>
            <p:nvPr/>
          </p:nvPicPr>
          <p:blipFill>
            <a:blip r:embed="rId3"/>
            <a:stretch/>
          </p:blipFill>
          <p:spPr>
            <a:xfrm>
              <a:off x="1185840" y="4549680"/>
              <a:ext cx="107928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" descr="Ehux2_5"/>
            <p:cNvPicPr/>
            <p:nvPr/>
          </p:nvPicPr>
          <p:blipFill>
            <a:blip r:embed="rId4"/>
            <a:stretch/>
          </p:blipFill>
          <p:spPr>
            <a:xfrm>
              <a:off x="1185840" y="3036960"/>
              <a:ext cx="1079280" cy="10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Picture 9" descr="G_oceanica"/>
            <p:cNvPicPr/>
            <p:nvPr/>
          </p:nvPicPr>
          <p:blipFill>
            <a:blip r:embed="rId5"/>
            <a:stretch/>
          </p:blipFill>
          <p:spPr>
            <a:xfrm>
              <a:off x="1185840" y="1741320"/>
              <a:ext cx="107928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Text Box 16"/>
            <p:cNvSpPr/>
            <p:nvPr/>
          </p:nvSpPr>
          <p:spPr>
            <a:xfrm>
              <a:off x="682560" y="404496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E. huxley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609480" y="2533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G. ocea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609480" y="6781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braarud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19"/>
            <p:cNvSpPr/>
            <p:nvPr/>
          </p:nvSpPr>
          <p:spPr>
            <a:xfrm>
              <a:off x="609480" y="5484600"/>
              <a:ext cx="223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quadriperforat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Rectangle 32"/>
          <p:cNvSpPr/>
          <p:nvPr/>
        </p:nvSpPr>
        <p:spPr>
          <a:xfrm>
            <a:off x="685800" y="5791320"/>
            <a:ext cx="3962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3"/>
          <p:cNvSpPr/>
          <p:nvPr/>
        </p:nvSpPr>
        <p:spPr>
          <a:xfrm>
            <a:off x="5562720" y="137160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Coccolithophores largest producer of calcite on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33"/>
          <p:cNvSpPr/>
          <p:nvPr/>
        </p:nvSpPr>
        <p:spPr>
          <a:xfrm>
            <a:off x="772920" y="1066680"/>
            <a:ext cx="19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Ambient </a:t>
            </a: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6"/>
          <p:cNvSpPr/>
          <p:nvPr/>
        </p:nvSpPr>
        <p:spPr>
          <a:xfrm>
            <a:off x="2067120" y="6019920"/>
            <a:ext cx="202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Riebesell et al.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Langer et al.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15920" y="-360"/>
            <a:ext cx="632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v-SE" sz="3600" spc="-1" strike="noStrike">
                <a:solidFill>
                  <a:srgbClr val="ffffff"/>
                </a:solidFill>
                <a:latin typeface="Arial"/>
              </a:rPr>
              <a:t>pH disrupts shell 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15" descr="cwall99_med"/>
          <p:cNvPicPr/>
          <p:nvPr/>
        </p:nvPicPr>
        <p:blipFill>
          <a:blip r:embed="rId1"/>
          <a:stretch/>
        </p:blipFill>
        <p:spPr>
          <a:xfrm>
            <a:off x="5791320" y="2362320"/>
            <a:ext cx="3009960" cy="2409840"/>
          </a:xfrm>
          <a:prstGeom prst="rect">
            <a:avLst/>
          </a:prstGeom>
          <a:ln w="0">
            <a:noFill/>
          </a:ln>
        </p:spPr>
      </p:pic>
      <p:sp>
        <p:nvSpPr>
          <p:cNvPr id="312" name="TextBox 5"/>
          <p:cNvSpPr/>
          <p:nvPr/>
        </p:nvSpPr>
        <p:spPr>
          <a:xfrm>
            <a:off x="6708240" y="487692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Arial"/>
              </a:rPr>
              <a:t>NASA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23"/>
          <p:cNvGrpSpPr/>
          <p:nvPr/>
        </p:nvGrpSpPr>
        <p:grpSpPr>
          <a:xfrm>
            <a:off x="609480" y="1741320"/>
            <a:ext cx="2233800" cy="5347440"/>
            <a:chOff x="609480" y="1741320"/>
            <a:chExt cx="2233800" cy="5347440"/>
          </a:xfrm>
        </p:grpSpPr>
        <p:pic>
          <p:nvPicPr>
            <p:cNvPr id="314" name="Picture 6" descr="Cpela"/>
            <p:cNvPicPr/>
            <p:nvPr/>
          </p:nvPicPr>
          <p:blipFill>
            <a:blip r:embed="rId2"/>
            <a:stretch/>
          </p:blipFill>
          <p:spPr>
            <a:xfrm>
              <a:off x="1185840" y="5916600"/>
              <a:ext cx="1079280" cy="87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7" descr="clepto_3pack"/>
            <p:cNvPicPr/>
            <p:nvPr/>
          </p:nvPicPr>
          <p:blipFill>
            <a:blip r:embed="rId3"/>
            <a:stretch/>
          </p:blipFill>
          <p:spPr>
            <a:xfrm>
              <a:off x="1185840" y="4549680"/>
              <a:ext cx="107928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8" descr="Ehux2_5"/>
            <p:cNvPicPr/>
            <p:nvPr/>
          </p:nvPicPr>
          <p:blipFill>
            <a:blip r:embed="rId4"/>
            <a:stretch/>
          </p:blipFill>
          <p:spPr>
            <a:xfrm>
              <a:off x="1185840" y="3036960"/>
              <a:ext cx="1079280" cy="10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9" descr="G_oceanica"/>
            <p:cNvPicPr/>
            <p:nvPr/>
          </p:nvPicPr>
          <p:blipFill>
            <a:blip r:embed="rId5"/>
            <a:stretch/>
          </p:blipFill>
          <p:spPr>
            <a:xfrm>
              <a:off x="1185840" y="1741320"/>
              <a:ext cx="107928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Text Box 16"/>
            <p:cNvSpPr/>
            <p:nvPr/>
          </p:nvSpPr>
          <p:spPr>
            <a:xfrm>
              <a:off x="682560" y="404496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E. huxley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17"/>
            <p:cNvSpPr/>
            <p:nvPr/>
          </p:nvSpPr>
          <p:spPr>
            <a:xfrm>
              <a:off x="609480" y="2533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G. ocea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18"/>
            <p:cNvSpPr/>
            <p:nvPr/>
          </p:nvSpPr>
          <p:spPr>
            <a:xfrm>
              <a:off x="609480" y="6781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braarud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19"/>
            <p:cNvSpPr/>
            <p:nvPr/>
          </p:nvSpPr>
          <p:spPr>
            <a:xfrm>
              <a:off x="609480" y="5484600"/>
              <a:ext cx="223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ff"/>
                  </a:solidFill>
                  <a:latin typeface="Arial"/>
                </a:rPr>
                <a:t>C. quadriperforat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74"/>
          <p:cNvGrpSpPr/>
          <p:nvPr/>
        </p:nvGrpSpPr>
        <p:grpSpPr>
          <a:xfrm>
            <a:off x="3581280" y="1746360"/>
            <a:ext cx="1008000" cy="5111280"/>
            <a:chOff x="3581280" y="1746360"/>
            <a:chExt cx="1008000" cy="5111280"/>
          </a:xfrm>
        </p:grpSpPr>
        <p:pic>
          <p:nvPicPr>
            <p:cNvPr id="323" name="Picture 14" descr="Clepto_630ppm"/>
            <p:cNvPicPr/>
            <p:nvPr/>
          </p:nvPicPr>
          <p:blipFill>
            <a:blip r:embed="rId6"/>
            <a:stretch/>
          </p:blipFill>
          <p:spPr>
            <a:xfrm>
              <a:off x="3581280" y="4554360"/>
              <a:ext cx="1008000" cy="9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15" descr="Cpela_1100ppm"/>
            <p:cNvPicPr/>
            <p:nvPr/>
          </p:nvPicPr>
          <p:blipFill>
            <a:blip r:embed="rId7"/>
            <a:stretch/>
          </p:blipFill>
          <p:spPr>
            <a:xfrm>
              <a:off x="3581280" y="5921280"/>
              <a:ext cx="1008000" cy="93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Picture 71" descr="G_oceanica_highCO2"/>
            <p:cNvPicPr/>
            <p:nvPr/>
          </p:nvPicPr>
          <p:blipFill>
            <a:blip r:embed="rId8"/>
            <a:stretch/>
          </p:blipFill>
          <p:spPr>
            <a:xfrm>
              <a:off x="3581280" y="1746360"/>
              <a:ext cx="1008000" cy="80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73" descr="Ehux_2000_CO2"/>
            <p:cNvPicPr/>
            <p:nvPr/>
          </p:nvPicPr>
          <p:blipFill>
            <a:blip r:embed="rId9"/>
            <a:stretch/>
          </p:blipFill>
          <p:spPr>
            <a:xfrm>
              <a:off x="3581280" y="3041640"/>
              <a:ext cx="1008000" cy="100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Down Arrow 30"/>
          <p:cNvSpPr/>
          <p:nvPr/>
        </p:nvSpPr>
        <p:spPr>
          <a:xfrm>
            <a:off x="2971800" y="3808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2"/>
          <p:cNvSpPr/>
          <p:nvPr/>
        </p:nvSpPr>
        <p:spPr>
          <a:xfrm>
            <a:off x="685800" y="5791320"/>
            <a:ext cx="3962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3"/>
          <p:cNvSpPr/>
          <p:nvPr/>
        </p:nvSpPr>
        <p:spPr>
          <a:xfrm>
            <a:off x="5562720" y="137160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Arial"/>
              </a:rPr>
              <a:t>Coccolithophores largest producer of calcite on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33"/>
          <p:cNvSpPr/>
          <p:nvPr/>
        </p:nvSpPr>
        <p:spPr>
          <a:xfrm>
            <a:off x="772920" y="1066680"/>
            <a:ext cx="19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Ambient </a:t>
            </a: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34"/>
          <p:cNvSpPr/>
          <p:nvPr/>
        </p:nvSpPr>
        <p:spPr>
          <a:xfrm>
            <a:off x="4119840" y="106668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Down Arrow 35"/>
          <p:cNvSpPr/>
          <p:nvPr/>
        </p:nvSpPr>
        <p:spPr>
          <a:xfrm>
            <a:off x="3886200" y="1143000"/>
            <a:ext cx="228600" cy="38088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6"/>
          <p:cNvSpPr/>
          <p:nvPr/>
        </p:nvSpPr>
        <p:spPr>
          <a:xfrm>
            <a:off x="2067120" y="6019920"/>
            <a:ext cx="202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Riebesell et al.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Langer et al.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1:15:46Z</dcterms:created>
  <dc:creator>Sybil Seitzinger</dc:creator>
  <dc:description/>
  <dc:language>en-US</dc:language>
  <cp:lastModifiedBy>Jamm</cp:lastModifiedBy>
  <dcterms:modified xsi:type="dcterms:W3CDTF">2010-06-03T08:11:25Z</dcterms:modified>
  <cp:revision>105</cp:revision>
  <dc:subject/>
  <dc:title>Slide 1</dc:title>
</cp:coreProperties>
</file>