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3.jpeg" ContentType="image/jpeg"/>
  <Override PartName="/ppt/media/image22.jpeg" ContentType="image/jpeg"/>
  <Override PartName="/ppt/media/image9.jpeg" ContentType="image/jpeg"/>
  <Override PartName="/ppt/media/image11.jpeg" ContentType="image/jpeg"/>
  <Override PartName="/ppt/media/image27.jpeg" ContentType="image/jpeg"/>
  <Override PartName="/ppt/media/image20.png" ContentType="image/png"/>
  <Override PartName="/ppt/media/image6.jpeg" ContentType="image/jpeg"/>
  <Override PartName="/ppt/media/image18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7.jpeg" ContentType="image/jpeg"/>
  <Override PartName="/ppt/media/image28.png" ContentType="image/png"/>
  <Override PartName="/ppt/media/image13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2.jpeg" ContentType="image/jpeg"/>
  <Override PartName="/ppt/media/image5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9.png" ContentType="image/png"/>
  <Override PartName="/ppt/media/image2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dt" idx="1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ftr" idx="1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 type="sldNum" idx="1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93F5F-D031-4843-91C5-DA0CD39AC47C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53570-FBAA-4040-9AD0-F8FCB662A687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DB980-958B-4F53-9CFB-DE814ECF6C15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310E5-E39B-4129-86F5-1740A52B0D06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MBER and SOLAS have established a working group to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- Coordinate international research efforts in ocean acidific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- Undertake synthesis activities in ocean acidification at the international lev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is may include standardisation, intercomparisons, coordination of field campaigns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WG is led by Jean-Pierre Gattuso and builds on the European Project on Ocean Acidific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membership 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Jim Barry (USA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Jelle Bijma (Germany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Minhan Dai (China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Dick Feely (USA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Jean-Pierre Gattuso, Chair (France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James Orr (France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Ulf Riebesell (Germany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Lisa Robbins (USA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Carol Turley (UK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F0AB2-CF8E-493B-A14C-781730C54094}" type="slidenum"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EXT High CO2 Symposium (SCOR, IOC, IGBP) is planned for 201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GBP produce summary for policyma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cean Acidification is the other CO2 problem (not just Climate Chang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337BE-9F26-4DDB-95EB-1756AC81E500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8288B-69A2-4C08-8DE9-01EB550033A2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7E047-3D3D-481C-9854-8CF22F4057B1}" type="slidenum">
              <a:rPr b="0" lang="sv-SE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1BD63-C0E3-4883-9F21-9B7599E5CAB0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DDE2A-5491-468D-B287-6D0A9F617489}" type="slidenum">
              <a:rPr b="0" lang="sv-SE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452ED-4AF4-4CA6-9A6D-580494364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E9CE078-5C87-4580-B4B2-B86562BDE20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oceans are acidifying as a result of the dissolution of atmospheric CO2. This is measurable: time series from the North Pacif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ata: Atmospheric CO2 Pieter Tans, Seawater data: David Kar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hemistry is well known, predicted over 20 years a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nsequences for climate, C cycle and fisheries, etc. Not fully anticip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nly way to halt ocean acidification is to decrease CO2 in atmosphere – decrease emi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A62D1-9D08-4EF8-8A11-90F1F2F1560B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B2370-75C1-4818-A403-478D40DBB15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Oceans are decreasing amount of CO2 in atmosphere and therefore reducing climate warming from anthropogenic CO2 emi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What are mechanisms of CO2 removal by oceans and how ocean acidification affect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biological pump were somehow shut-off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mospheric CO2 levels would increase by around 200 ppmv (Parekh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et al., 2006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Sarmiento, 1984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Some portion sinks to deep ocean thereby effectively removing CO2 for long periods of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Organisms that make calcium carbonate shells are ones we know are weaken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643F7-722D-4FF2-B70A-4409B3F55146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Some portion sinks to deep ocean thereby effectively removing CO2 for long periods of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Call this the biological pum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biological pump were somehow shut-off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mospheric CO2 levels would increase by around 200 ppmv (Parekh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et al., 2006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Sarmiento, 1984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Organisms that make calcium carbonate shells are ones we know are weaken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C4DCE-D8B2-4F7A-A829-55C52476B8BB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Coccolithophores largest producer of calcite on Earth, responsible for x% of primary (plant) production in ocea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fall to deep ocean essentially removing CO2 as shells and their biomass (organic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Important part of the biological pum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Considerable number of laboratory experiments and some large enclosures in ocean have been conducted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show that as pH decreases the shells of these organisms are deformed, less CaCO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Implication is that as pH ocean decreases, they will draw down less calcium carbonate to deep oce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Therefore, less CO2 would be removed from atmosphere by ocean. More CO2 in atmosphere – warmer clima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84F99-74BF-480F-9CC4-4C96B95C867E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Coccolithophores largest producer of calcite on Earth, responsible for x% of primary (plant) production in ocea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Considerable number of laboratory experiments and some large enclosures in ocean have been conducted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show that as pH decreases the shells of these organisms are deformed, less CaCO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Implication is that as pH ocean decreases, they will draw down less calcium carbonate to deep oce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Therefore, less CO2 would be removed from atmosphere by ocean. More CO2 in atmosphere – warmer clima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D06CC-518C-42DE-B262-09D2E0808C70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07C4A-4212-4F71-8A27-4DF44076A6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1351D-58FE-401A-A10A-64063AC052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C06F7-26D5-4D28-ABA0-D58C46CB99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4FCD1-2B3B-4385-9AEA-AE3520150A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1AA9EB-CBF2-4412-9AEF-9A2505E4C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C61EED-3F6F-4D6A-BC32-695D57CF8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4FD0B1-C7CA-46F4-81E0-933190C6C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2DB1D8-0D47-4FF3-8F79-70AD8F302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262333-43D5-4E29-9E24-25C0F91C3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358720" y="274320"/>
            <a:ext cx="632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DD1CA1-56BA-42B9-AA19-E60F88863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BC8B4A-A0D9-4F02-976E-91292D41B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3A38F-D673-4B8F-928D-AC978D65F3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EF9089-95C9-45B5-83D0-8CA1D1792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53C490-3927-4DC5-ADD6-5DEBC6DFC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6D6DF9-B860-4FA2-B9C3-7C507163F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16DC2D-4DD3-4816-8603-33676C1D1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97CA49-368C-4FA1-9EAA-810F9A142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D78815-58E7-47D8-9C20-2CF722784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FD60C6-732D-4451-A0AD-BD13221E8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774E92-F7BB-462D-AB4F-04E649AB2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431C6E-9A06-41A6-8378-434BC8417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382C24-84E1-4C6E-8FC6-007825E98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8B31E-FFA9-4850-AC75-112AE16FA7E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2358720" y="274320"/>
            <a:ext cx="632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608184-2E7A-4A4D-BAE0-0EF7DD8C5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4EA1FA-C2D9-4352-8B8B-67D6296E7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8305A5-627E-49E7-8D4B-72EF41BB3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B46AC7-9172-48E8-9A49-CF5876923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AE27BD-701A-4AE3-885D-EAC836A29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8C6A0D-F1B2-4DA2-81BC-F47A8B0A8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AF6429-D207-4A1E-83AA-F6B253803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2C67AF-9A1D-4D4B-9992-6F714174E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94840E-901F-4706-A54B-64E4694A4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B42A2A-F4F6-4FB1-8FFE-940061C0D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59DBF-A427-48E6-8B22-4F29475B2DB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9AE014-7D78-46DB-B5C5-D453B3B4F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2CF3DF-761B-43EC-9616-B16217344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2358720" y="274320"/>
            <a:ext cx="632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3C0AC4-686C-4129-91C7-0243A7A5A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8A743F-DA7C-42B8-B7C4-88271491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56D7FD-90F0-4425-BAB0-2E759F561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2E0F47-B847-4385-B2AB-B18F1C35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30A1AF-A093-41A5-8D22-2AF12F739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0F2EB4-0162-4F6E-8A51-E34EDD560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9E4FDD-9D93-414B-A76D-78058B53A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B1458E-9376-4522-ACDB-37F10BDFD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D8735-4462-48E0-AF1C-9B9640DAAAD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5EBFE3-4DA0-4A62-BBE0-963625743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A197CA-75DF-4B2D-8F6A-D045454D4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D33E36-05FF-4AA1-8B2B-01BBF6E1D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1126EC-5639-4AF6-B5FC-FE08A4E22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2358720" y="274320"/>
            <a:ext cx="632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77BAA5-7F34-4A0D-8410-F9F7A9E31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8D83ED-7985-4948-BBEE-14175507E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6B3D17-7370-47BB-AD89-1E5E79F7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3F4E37-9928-404C-AF31-4F540E0D6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78378E-6B20-4D0F-BB6D-609071A3B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707167-4940-4B35-AA1F-E36E313B5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358720" y="274320"/>
            <a:ext cx="632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55938-70F1-4C1F-B25C-F6C955B2E76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DF564E-19C8-4673-936C-2BB3BDAF0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2358720" y="274320"/>
            <a:ext cx="632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E98E1-45ED-488C-9657-F596D533A66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19D58-36F6-4CF3-878E-1A6003962C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2492A-B37C-4B79-B75C-F1F8521BC7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3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3FA6D-8F7C-4C28-94AA-38606EB48A08}" type="slidenum">
              <a:rPr b="0" lang="sv-SE" sz="3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Picture 7" descr="IGBP_newlogo-right-white.eps"/>
          <p:cNvPicPr/>
          <p:nvPr/>
        </p:nvPicPr>
        <p:blipFill>
          <a:blip r:embed="rId2"/>
          <a:stretch/>
        </p:blipFill>
        <p:spPr>
          <a:xfrm>
            <a:off x="311040" y="274680"/>
            <a:ext cx="150840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IGBP_newlogo-right-white.eps"/>
          <p:cNvPicPr/>
          <p:nvPr/>
        </p:nvPicPr>
        <p:blipFill>
          <a:blip r:embed="rId2"/>
          <a:stretch/>
        </p:blipFill>
        <p:spPr>
          <a:xfrm>
            <a:off x="311040" y="274680"/>
            <a:ext cx="1508400" cy="487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20692-9626-4534-9E2C-95EFBF0760BA}" type="datetime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8FCB7-E1E6-40BE-A69C-DB27A4CA0254}" type="slidenum">
              <a:rPr b="0" lang="en-US" sz="3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IGBP_newlogo-right-white.eps"/>
          <p:cNvPicPr/>
          <p:nvPr/>
        </p:nvPicPr>
        <p:blipFill>
          <a:blip r:embed="rId2"/>
          <a:stretch/>
        </p:blipFill>
        <p:spPr>
          <a:xfrm>
            <a:off x="311040" y="274680"/>
            <a:ext cx="1508400" cy="4874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1792C-C195-48A8-9562-F6656B20242C}" type="datetime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680E3-D79B-4F58-B9C4-B7EAF34AFA48}" type="slidenum">
              <a:rPr b="0" lang="en-US" sz="3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7" descr="IGBP_newlogo-right-white.eps"/>
          <p:cNvPicPr/>
          <p:nvPr/>
        </p:nvPicPr>
        <p:blipFill>
          <a:blip r:embed="rId2"/>
          <a:stretch/>
        </p:blipFill>
        <p:spPr>
          <a:xfrm>
            <a:off x="311040" y="274680"/>
            <a:ext cx="1508400" cy="487440"/>
          </a:xfrm>
          <a:prstGeom prst="rect">
            <a:avLst/>
          </a:prstGeom>
          <a:ln w="0">
            <a:noFill/>
          </a:ln>
        </p:spPr>
      </p:pic>
      <p:sp>
        <p:nvSpPr>
          <p:cNvPr id="126" name="Isosceles Triangle 6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00BC5-E5F9-4932-A1D0-3031F30B9B3B}" type="datetime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6C903-D18F-4683-967C-7ADD0792F5F4}" type="slidenum">
              <a:rPr b="0" lang="en-US" sz="3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7" descr="IGBP_newlogo-right-white.eps"/>
          <p:cNvPicPr/>
          <p:nvPr/>
        </p:nvPicPr>
        <p:blipFill>
          <a:blip r:embed="rId2"/>
          <a:stretch/>
        </p:blipFill>
        <p:spPr>
          <a:xfrm>
            <a:off x="311040" y="274680"/>
            <a:ext cx="1508400" cy="48744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AB848-ACB6-49FE-BE5E-F2E2544CD97F}" type="slidenum">
              <a:rPr b="0" lang="en-US" sz="3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7" descr="IGBP_newlogo-right-white.eps"/>
          <p:cNvPicPr/>
          <p:nvPr/>
        </p:nvPicPr>
        <p:blipFill>
          <a:blip r:embed="rId2"/>
          <a:stretch/>
        </p:blipFill>
        <p:spPr>
          <a:xfrm>
            <a:off x="311040" y="274680"/>
            <a:ext cx="1508400" cy="48744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49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Ocean acid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218960" y="1981080"/>
            <a:ext cx="9219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is occur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negative impacts clim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negative impacts fisher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sv-SE" sz="36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Ocean acid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a6a6a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a6a6a6"/>
                </a:solidFill>
                <a:latin typeface="Arial"/>
              </a:rPr>
              <a:t>is occur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a6a6a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a6a6a6"/>
                </a:solidFill>
                <a:latin typeface="Arial"/>
              </a:rPr>
              <a:t>negative impact clim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negative impacts fisher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4" descr=""/>
          <p:cNvPicPr/>
          <p:nvPr/>
        </p:nvPicPr>
        <p:blipFill>
          <a:blip r:embed="rId1"/>
          <a:stretch/>
        </p:blipFill>
        <p:spPr>
          <a:xfrm>
            <a:off x="5157720" y="3733920"/>
            <a:ext cx="3834000" cy="24382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7" descr=""/>
          <p:cNvPicPr/>
          <p:nvPr/>
        </p:nvPicPr>
        <p:blipFill>
          <a:blip r:embed="rId2"/>
          <a:stretch/>
        </p:blipFill>
        <p:spPr>
          <a:xfrm>
            <a:off x="5181480" y="1523880"/>
            <a:ext cx="3826080" cy="21337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7" descr=""/>
          <p:cNvPicPr/>
          <p:nvPr/>
        </p:nvPicPr>
        <p:blipFill>
          <a:blip r:embed="rId3"/>
          <a:stretch/>
        </p:blipFill>
        <p:spPr>
          <a:xfrm>
            <a:off x="7620120" y="4876920"/>
            <a:ext cx="1093680" cy="7333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" descr="Chlamys"/>
          <p:cNvPicPr/>
          <p:nvPr/>
        </p:nvPicPr>
        <p:blipFill>
          <a:blip r:embed="rId4"/>
          <a:stretch/>
        </p:blipFill>
        <p:spPr>
          <a:xfrm>
            <a:off x="7620120" y="2514600"/>
            <a:ext cx="1123920" cy="836640"/>
          </a:xfrm>
          <a:prstGeom prst="rect">
            <a:avLst/>
          </a:prstGeom>
          <a:ln w="0">
            <a:noFill/>
          </a:ln>
        </p:spPr>
      </p:pic>
      <p:sp>
        <p:nvSpPr>
          <p:cNvPr id="340" name="TextBox 12"/>
          <p:cNvSpPr/>
          <p:nvPr/>
        </p:nvSpPr>
        <p:spPr>
          <a:xfrm>
            <a:off x="5257800" y="62485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Decreasing 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eft Arrow 13"/>
          <p:cNvSpPr/>
          <p:nvPr/>
        </p:nvSpPr>
        <p:spPr>
          <a:xfrm>
            <a:off x="7238880" y="6324480"/>
            <a:ext cx="1676520" cy="228600"/>
          </a:xfrm>
          <a:prstGeom prst="leftArrow">
            <a:avLst>
              <a:gd name="adj1" fmla="val 50000"/>
              <a:gd name="adj2" fmla="val 50013"/>
            </a:avLst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14"/>
          <p:cNvSpPr/>
          <p:nvPr/>
        </p:nvSpPr>
        <p:spPr>
          <a:xfrm>
            <a:off x="1007640" y="6019920"/>
            <a:ext cx="262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Arial"/>
              </a:rPr>
              <a:t>Ries et al.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Arial"/>
              </a:rPr>
              <a:t>Cooley and Doney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Ocean acidification slows shell calc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16"/>
          <p:cNvSpPr/>
          <p:nvPr/>
        </p:nvSpPr>
        <p:spPr>
          <a:xfrm>
            <a:off x="152280" y="2514600"/>
            <a:ext cx="5105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conomic l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1500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lobal shellfish prod. 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   10.5  billion US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1500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ruption livelih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12"/>
          <p:cNvSpPr/>
          <p:nvPr/>
        </p:nvSpPr>
        <p:spPr>
          <a:xfrm rot="16200000">
            <a:off x="3117600" y="328284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Net calcification rate (wt% per 60 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3" descr="Kiel-Kosmos_9.jpg"/>
          <p:cNvPicPr/>
          <p:nvPr/>
        </p:nvPicPr>
        <p:blipFill>
          <a:blip r:embed="rId1"/>
          <a:stretch/>
        </p:blipFill>
        <p:spPr>
          <a:xfrm>
            <a:off x="587520" y="1389240"/>
            <a:ext cx="1949400" cy="14634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4" descr="Kiel-Kosmos_10.jpg"/>
          <p:cNvPicPr/>
          <p:nvPr/>
        </p:nvPicPr>
        <p:blipFill>
          <a:blip r:embed="rId2"/>
          <a:stretch/>
        </p:blipFill>
        <p:spPr>
          <a:xfrm>
            <a:off x="587520" y="3078000"/>
            <a:ext cx="1949400" cy="14637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5" descr="Kiel-Kosmos_13.jpg"/>
          <p:cNvPicPr/>
          <p:nvPr/>
        </p:nvPicPr>
        <p:blipFill>
          <a:blip r:embed="rId3"/>
          <a:stretch/>
        </p:blipFill>
        <p:spPr>
          <a:xfrm>
            <a:off x="527040" y="4699080"/>
            <a:ext cx="2038320" cy="1359000"/>
          </a:xfrm>
          <a:prstGeom prst="rect">
            <a:avLst/>
          </a:prstGeom>
          <a:ln w="0">
            <a:noFill/>
          </a:ln>
        </p:spPr>
      </p:pic>
      <p:sp>
        <p:nvSpPr>
          <p:cNvPr id="349" name="TextBox 6"/>
          <p:cNvSpPr/>
          <p:nvPr/>
        </p:nvSpPr>
        <p:spPr>
          <a:xfrm>
            <a:off x="3224160" y="228600"/>
            <a:ext cx="531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ternational coordin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28" descr="SOLAS"/>
          <p:cNvPicPr/>
          <p:nvPr/>
        </p:nvPicPr>
        <p:blipFill>
          <a:blip r:embed="rId4"/>
          <a:srcRect l="0" t="33380" r="0" b="0"/>
          <a:stretch/>
        </p:blipFill>
        <p:spPr>
          <a:xfrm>
            <a:off x="3581280" y="5867280"/>
            <a:ext cx="1371600" cy="7128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pic>
        <p:nvPicPr>
          <p:cNvPr id="351" name="Picture 31" descr="IMBER"/>
          <p:cNvPicPr/>
          <p:nvPr/>
        </p:nvPicPr>
        <p:blipFill>
          <a:blip r:embed="rId5"/>
          <a:srcRect l="0" t="0" r="0" b="20796"/>
          <a:stretch/>
        </p:blipFill>
        <p:spPr>
          <a:xfrm>
            <a:off x="5486400" y="5867280"/>
            <a:ext cx="1143000" cy="706680"/>
          </a:xfrm>
          <a:prstGeom prst="rect">
            <a:avLst/>
          </a:prstGeom>
          <a:ln w="0">
            <a:noFill/>
          </a:ln>
          <a:effectLst>
            <a:outerShdw dist="12783" dir="15616346" blurRad="0" rotWithShape="0">
              <a:srgbClr val="808080">
                <a:alpha val="75000"/>
              </a:srgbClr>
            </a:outerShdw>
          </a:effectLst>
        </p:spPr>
      </p:pic>
      <p:sp>
        <p:nvSpPr>
          <p:cNvPr id="352" name="TextBox 6"/>
          <p:cNvSpPr/>
          <p:nvPr/>
        </p:nvSpPr>
        <p:spPr>
          <a:xfrm>
            <a:off x="4855320" y="5059440"/>
            <a:ext cx="173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imber.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10"/>
          <p:cNvSpPr/>
          <p:nvPr/>
        </p:nvSpPr>
        <p:spPr>
          <a:xfrm>
            <a:off x="3352680" y="1981080"/>
            <a:ext cx="6437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standardize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coordinate field campa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synthe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eece1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eeece1"/>
                </a:solidFill>
                <a:latin typeface="Arial"/>
              </a:rPr>
              <a:t>Summary for Policymak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テキスト ボックス 6"/>
          <p:cNvSpPr/>
          <p:nvPr/>
        </p:nvSpPr>
        <p:spPr>
          <a:xfrm>
            <a:off x="2209680" y="152280"/>
            <a:ext cx="1843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7" descr="spm_cover-1.jpg"/>
          <p:cNvPicPr/>
          <p:nvPr/>
        </p:nvPicPr>
        <p:blipFill>
          <a:blip r:embed="rId1"/>
          <a:stretch/>
        </p:blipFill>
        <p:spPr>
          <a:xfrm>
            <a:off x="1523880" y="1066680"/>
            <a:ext cx="3206880" cy="4488120"/>
          </a:xfrm>
          <a:prstGeom prst="rect">
            <a:avLst/>
          </a:prstGeom>
          <a:ln w="3240">
            <a:solidFill>
              <a:srgbClr val="a6a6a6"/>
            </a:solidFill>
            <a:miter/>
          </a:ln>
        </p:spPr>
      </p:pic>
      <p:pic>
        <p:nvPicPr>
          <p:cNvPr id="357" name="Picture 6" descr=""/>
          <p:cNvPicPr/>
          <p:nvPr/>
        </p:nvPicPr>
        <p:blipFill>
          <a:blip r:embed="rId2"/>
          <a:stretch/>
        </p:blipFill>
        <p:spPr>
          <a:xfrm>
            <a:off x="1676520" y="6172200"/>
            <a:ext cx="525240" cy="52056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7" descr="iaea_org_logo_new"/>
          <p:cNvPicPr/>
          <p:nvPr/>
        </p:nvPicPr>
        <p:blipFill>
          <a:blip r:embed="rId3"/>
          <a:stretch/>
        </p:blipFill>
        <p:spPr>
          <a:xfrm>
            <a:off x="2666880" y="6234120"/>
            <a:ext cx="1630440" cy="3952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83" descr="SCOR"/>
          <p:cNvPicPr/>
          <p:nvPr/>
        </p:nvPicPr>
        <p:blipFill>
          <a:blip r:embed="rId4"/>
          <a:srcRect l="0" t="8540" r="0" b="13386"/>
          <a:stretch/>
        </p:blipFill>
        <p:spPr>
          <a:xfrm>
            <a:off x="228600" y="6216480"/>
            <a:ext cx="762120" cy="4636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0" descr="SPM-French-cover.jpg"/>
          <p:cNvPicPr/>
          <p:nvPr/>
        </p:nvPicPr>
        <p:blipFill>
          <a:blip r:embed="rId5"/>
          <a:stretch/>
        </p:blipFill>
        <p:spPr>
          <a:xfrm>
            <a:off x="3352680" y="914400"/>
            <a:ext cx="3144960" cy="44496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1" descr="SPM-Spanish-cover_Page_1.jpg"/>
          <p:cNvPicPr/>
          <p:nvPr/>
        </p:nvPicPr>
        <p:blipFill>
          <a:blip r:embed="rId6"/>
          <a:stretch/>
        </p:blipFill>
        <p:spPr>
          <a:xfrm>
            <a:off x="4495680" y="2133720"/>
            <a:ext cx="315288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Ocean acid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is occur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negative impacts clim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negative impacts fisher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sv-SE" sz="3600" spc="-1" strike="noStrike">
                <a:solidFill>
                  <a:srgbClr val="ffffff"/>
                </a:solidFill>
                <a:latin typeface="Arial"/>
              </a:rPr>
              <a:t>Still much to be learned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6" descr="IGBP_newlogo09-right-white.pdf"/>
          <p:cNvPicPr/>
          <p:nvPr/>
        </p:nvPicPr>
        <p:blipFill>
          <a:blip r:embed="rId1"/>
          <a:stretch/>
        </p:blipFill>
        <p:spPr>
          <a:xfrm>
            <a:off x="-1333440" y="2384280"/>
            <a:ext cx="10260000" cy="725040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2057400" y="1980720"/>
            <a:ext cx="55562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  <a:ea typeface="Arial"/>
              </a:rPr>
              <a:t>Sybil Seitzin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ecutive Director, IGB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6" descr="IGBP_newlogo09-right-white.pdf"/>
          <p:cNvPicPr/>
          <p:nvPr/>
        </p:nvPicPr>
        <p:blipFill>
          <a:blip r:embed="rId1"/>
          <a:stretch/>
        </p:blipFill>
        <p:spPr>
          <a:xfrm>
            <a:off x="-1116000" y="1752480"/>
            <a:ext cx="10260000" cy="72504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057400" y="1980720"/>
            <a:ext cx="55562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  <a:ea typeface="Arial"/>
              </a:rPr>
              <a:t>Sybil Seitzin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ecutive Director, IGB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Box 3"/>
          <p:cNvSpPr/>
          <p:nvPr/>
        </p:nvSpPr>
        <p:spPr>
          <a:xfrm>
            <a:off x="3714840" y="6095880"/>
            <a:ext cx="19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Calibri"/>
              </a:rPr>
              <a:t>www.IGBP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/>
          <p:cNvSpPr/>
          <p:nvPr/>
        </p:nvSpPr>
        <p:spPr>
          <a:xfrm>
            <a:off x="5486400" y="1219320"/>
            <a:ext cx="3048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949040" y="7596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cean acid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7" descr="CO2-ph NorthPacificOcean.jpg"/>
          <p:cNvPicPr/>
          <p:nvPr/>
        </p:nvPicPr>
        <p:blipFill>
          <a:blip r:embed="rId1"/>
          <a:stretch/>
        </p:blipFill>
        <p:spPr>
          <a:xfrm>
            <a:off x="1143000" y="1219320"/>
            <a:ext cx="7319880" cy="4635360"/>
          </a:xfrm>
          <a:prstGeom prst="rect">
            <a:avLst/>
          </a:prstGeom>
          <a:ln w="0">
            <a:noFill/>
          </a:ln>
        </p:spPr>
      </p:pic>
      <p:sp>
        <p:nvSpPr>
          <p:cNvPr id="264" name="TextBox 7"/>
          <p:cNvSpPr/>
          <p:nvPr/>
        </p:nvSpPr>
        <p:spPr>
          <a:xfrm>
            <a:off x="1071720" y="5919840"/>
            <a:ext cx="7462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(Feely et al., 2008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Calibri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5"/>
          <p:cNvSpPr/>
          <p:nvPr/>
        </p:nvSpPr>
        <p:spPr>
          <a:xfrm>
            <a:off x="4809240" y="2438280"/>
            <a:ext cx="14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Atmos C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6"/>
          <p:cNvSpPr/>
          <p:nvPr/>
        </p:nvSpPr>
        <p:spPr>
          <a:xfrm>
            <a:off x="4656600" y="3657600"/>
            <a:ext cx="122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seawa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C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5337360" y="45720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Ocean acid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3716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a6a6a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a6a6a6"/>
                </a:solidFill>
                <a:latin typeface="Arial"/>
              </a:rPr>
              <a:t>is occur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negative impacts clim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a6a6a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a6a6a6"/>
                </a:solidFill>
                <a:latin typeface="Arial"/>
              </a:rPr>
              <a:t>negative impacts fisher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8"/>
          <p:cNvGrpSpPr/>
          <p:nvPr/>
        </p:nvGrpSpPr>
        <p:grpSpPr>
          <a:xfrm>
            <a:off x="3233880" y="2600280"/>
            <a:ext cx="5262480" cy="1584360"/>
            <a:chOff x="3233880" y="2600280"/>
            <a:chExt cx="5262480" cy="1584360"/>
          </a:xfrm>
        </p:grpSpPr>
        <p:sp>
          <p:nvSpPr>
            <p:cNvPr id="271" name="Text Box 9"/>
            <p:cNvSpPr/>
            <p:nvPr/>
          </p:nvSpPr>
          <p:spPr>
            <a:xfrm>
              <a:off x="5305320" y="2908440"/>
              <a:ext cx="849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3200" spc="-1" strike="noStrike">
                  <a:solidFill>
                    <a:srgbClr val="ffffff"/>
                  </a:solidFill>
                  <a:latin typeface="Arial Narrow"/>
                </a:rPr>
                <a:t>29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10"/>
            <p:cNvSpPr/>
            <p:nvPr/>
          </p:nvSpPr>
          <p:spPr>
            <a:xfrm flipV="1">
              <a:off x="3233880" y="3462120"/>
              <a:ext cx="1780920" cy="140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3" name="Picture 11" descr=""/>
            <p:cNvPicPr/>
            <p:nvPr/>
          </p:nvPicPr>
          <p:blipFill>
            <a:blip r:embed="rId1"/>
            <a:stretch/>
          </p:blipFill>
          <p:spPr>
            <a:xfrm>
              <a:off x="6148440" y="2600280"/>
              <a:ext cx="2347920" cy="1584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274" name="Group 16"/>
          <p:cNvGrpSpPr/>
          <p:nvPr/>
        </p:nvGrpSpPr>
        <p:grpSpPr>
          <a:xfrm>
            <a:off x="3249720" y="3595680"/>
            <a:ext cx="5254560" cy="2478600"/>
            <a:chOff x="3249720" y="3595680"/>
            <a:chExt cx="5254560" cy="2478600"/>
          </a:xfrm>
        </p:grpSpPr>
        <p:sp>
          <p:nvSpPr>
            <p:cNvPr id="275" name="Text Box 17"/>
            <p:cNvSpPr/>
            <p:nvPr/>
          </p:nvSpPr>
          <p:spPr>
            <a:xfrm>
              <a:off x="5314680" y="5005440"/>
              <a:ext cx="849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3200" spc="-1" strike="noStrike">
                  <a:solidFill>
                    <a:srgbClr val="ffffff"/>
                  </a:solidFill>
                  <a:latin typeface="Arial Narrow"/>
                </a:rPr>
                <a:t>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3200" spc="-1" strike="noStrike">
                  <a:solidFill>
                    <a:srgbClr val="ffffff"/>
                  </a:solidFill>
                  <a:latin typeface="Arial Narrow"/>
                </a:rPr>
                <a:t>26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18"/>
            <p:cNvSpPr/>
            <p:nvPr/>
          </p:nvSpPr>
          <p:spPr>
            <a:xfrm>
              <a:off x="3249720" y="3595680"/>
              <a:ext cx="1765080" cy="18493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7" name="Picture 19" descr=""/>
            <p:cNvPicPr/>
            <p:nvPr/>
          </p:nvPicPr>
          <p:blipFill>
            <a:blip r:embed="rId2"/>
            <a:stretch/>
          </p:blipFill>
          <p:spPr>
            <a:xfrm>
              <a:off x="6165720" y="4413240"/>
              <a:ext cx="2338560" cy="1584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278" name="Group 12"/>
          <p:cNvGrpSpPr/>
          <p:nvPr/>
        </p:nvGrpSpPr>
        <p:grpSpPr>
          <a:xfrm>
            <a:off x="3246480" y="836640"/>
            <a:ext cx="5249880" cy="2490840"/>
            <a:chOff x="3246480" y="836640"/>
            <a:chExt cx="5249880" cy="2490840"/>
          </a:xfrm>
        </p:grpSpPr>
        <p:sp>
          <p:nvSpPr>
            <p:cNvPr id="279" name="Text Box 13"/>
            <p:cNvSpPr/>
            <p:nvPr/>
          </p:nvSpPr>
          <p:spPr>
            <a:xfrm>
              <a:off x="5305320" y="932040"/>
              <a:ext cx="849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3200" spc="-1" strike="noStrike">
                  <a:solidFill>
                    <a:srgbClr val="ffffff"/>
                  </a:solidFill>
                  <a:latin typeface="Arial Narrow"/>
                </a:rPr>
                <a:t>45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14"/>
            <p:cNvSpPr/>
            <p:nvPr/>
          </p:nvSpPr>
          <p:spPr>
            <a:xfrm flipV="1">
              <a:off x="3246480" y="1592280"/>
              <a:ext cx="1768320" cy="17352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1" name="Picture 15" descr=""/>
            <p:cNvPicPr/>
            <p:nvPr/>
          </p:nvPicPr>
          <p:blipFill>
            <a:blip r:embed="rId3"/>
            <a:stretch/>
          </p:blipFill>
          <p:spPr>
            <a:xfrm>
              <a:off x="6148440" y="836640"/>
              <a:ext cx="2347920" cy="15620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282" name="Text Box 2"/>
          <p:cNvSpPr/>
          <p:nvPr/>
        </p:nvSpPr>
        <p:spPr>
          <a:xfrm>
            <a:off x="898560" y="0"/>
            <a:ext cx="824544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Fate of anthropogenic CO</a:t>
            </a:r>
            <a:r>
              <a:rPr b="0" lang="en-A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 emis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(2000-200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1881000" y="6475320"/>
            <a:ext cx="457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Narrow"/>
              </a:rPr>
              <a:t>Le Quéré et al. 2009, Nature geoscience; </a:t>
            </a:r>
            <a:r>
              <a:rPr b="0" lang="en-AU" sz="1200" spc="-1" strike="noStrike">
                <a:solidFill>
                  <a:srgbClr val="ffffff"/>
                </a:solidFill>
                <a:latin typeface="Arial Narrow"/>
              </a:rPr>
              <a:t>Canadell et al. 2007, PNAS, upd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450720" y="357012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1504080" y="2852640"/>
            <a:ext cx="581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66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6" descr=""/>
          <p:cNvPicPr/>
          <p:nvPr/>
        </p:nvPicPr>
        <p:blipFill>
          <a:blip r:embed="rId4"/>
          <a:stretch/>
        </p:blipFill>
        <p:spPr>
          <a:xfrm>
            <a:off x="293760" y="1095480"/>
            <a:ext cx="2838240" cy="191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87" name="Picture 7" descr=""/>
          <p:cNvPicPr/>
          <p:nvPr/>
        </p:nvPicPr>
        <p:blipFill>
          <a:blip r:embed="rId5">
            <a:lum contrast="12000"/>
          </a:blip>
          <a:stretch/>
        </p:blipFill>
        <p:spPr>
          <a:xfrm>
            <a:off x="311040" y="3768840"/>
            <a:ext cx="2838600" cy="191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Climate &amp; ocean acid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9144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sv-SE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 dissolves sw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decreases with      p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Down Arrow 3"/>
          <p:cNvSpPr/>
          <p:nvPr/>
        </p:nvSpPr>
        <p:spPr>
          <a:xfrm>
            <a:off x="5029200" y="2438280"/>
            <a:ext cx="380880" cy="381240"/>
          </a:xfrm>
          <a:prstGeom prst="downArrow">
            <a:avLst>
              <a:gd name="adj1" fmla="val 50000"/>
              <a:gd name="adj2" fmla="val 50047"/>
            </a:avLst>
          </a:prstGeom>
          <a:solidFill>
            <a:srgbClr val="c4bd97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Climate &amp; ocean acid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9144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200" spc="-1" strike="noStrike">
                <a:solidFill>
                  <a:srgbClr val="595959"/>
                </a:solidFill>
                <a:latin typeface="Arial"/>
              </a:rPr>
              <a:t>CO</a:t>
            </a:r>
            <a:r>
              <a:rPr b="0" lang="sv-SE" sz="3200" spc="-1" strike="noStrike" baseline="-25000">
                <a:solidFill>
                  <a:srgbClr val="595959"/>
                </a:solidFill>
                <a:latin typeface="Arial"/>
              </a:rPr>
              <a:t>2</a:t>
            </a:r>
            <a:r>
              <a:rPr b="0" lang="sv-SE" sz="3200" spc="-1" strike="noStrike">
                <a:solidFill>
                  <a:srgbClr val="595959"/>
                </a:solidFill>
                <a:latin typeface="Arial"/>
              </a:rPr>
              <a:t> dissolves sw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v-SE" sz="3200" spc="-1" strike="noStrike">
                <a:solidFill>
                  <a:srgbClr val="7f7f7f"/>
                </a:solidFill>
                <a:latin typeface="Arial"/>
              </a:rPr>
              <a:t>decreases with      p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Organisms remove CO</a:t>
            </a:r>
            <a:r>
              <a:rPr b="0" lang="sv-SE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make biom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calcium carbonate shell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Down Arrow 3"/>
          <p:cNvSpPr/>
          <p:nvPr/>
        </p:nvSpPr>
        <p:spPr>
          <a:xfrm>
            <a:off x="5029200" y="2438280"/>
            <a:ext cx="380880" cy="381240"/>
          </a:xfrm>
          <a:prstGeom prst="downArrow">
            <a:avLst>
              <a:gd name="adj1" fmla="val 50000"/>
              <a:gd name="adj2" fmla="val 50047"/>
            </a:avLst>
          </a:prstGeom>
          <a:solidFill>
            <a:srgbClr val="4a452a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815920" y="-36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Coccolithopho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Picture 15" descr="cwall99_med"/>
          <p:cNvPicPr/>
          <p:nvPr/>
        </p:nvPicPr>
        <p:blipFill>
          <a:blip r:embed="rId1"/>
          <a:stretch/>
        </p:blipFill>
        <p:spPr>
          <a:xfrm>
            <a:off x="5791320" y="2362320"/>
            <a:ext cx="3009960" cy="2409840"/>
          </a:xfrm>
          <a:prstGeom prst="rect">
            <a:avLst/>
          </a:prstGeom>
          <a:ln w="0">
            <a:noFill/>
          </a:ln>
        </p:spPr>
      </p:pic>
      <p:sp>
        <p:nvSpPr>
          <p:cNvPr id="296" name="TextBox 5"/>
          <p:cNvSpPr/>
          <p:nvPr/>
        </p:nvSpPr>
        <p:spPr>
          <a:xfrm>
            <a:off x="6708240" y="487692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Arial"/>
              </a:rPr>
              <a:t>NASA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23"/>
          <p:cNvGrpSpPr/>
          <p:nvPr/>
        </p:nvGrpSpPr>
        <p:grpSpPr>
          <a:xfrm>
            <a:off x="609480" y="1741320"/>
            <a:ext cx="2233800" cy="5347440"/>
            <a:chOff x="609480" y="1741320"/>
            <a:chExt cx="2233800" cy="5347440"/>
          </a:xfrm>
        </p:grpSpPr>
        <p:pic>
          <p:nvPicPr>
            <p:cNvPr id="298" name="Picture 6" descr="Cpela"/>
            <p:cNvPicPr/>
            <p:nvPr/>
          </p:nvPicPr>
          <p:blipFill>
            <a:blip r:embed="rId2"/>
            <a:stretch/>
          </p:blipFill>
          <p:spPr>
            <a:xfrm>
              <a:off x="1185840" y="5916600"/>
              <a:ext cx="1079280" cy="87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7" descr="clepto_3pack"/>
            <p:cNvPicPr/>
            <p:nvPr/>
          </p:nvPicPr>
          <p:blipFill>
            <a:blip r:embed="rId3"/>
            <a:stretch/>
          </p:blipFill>
          <p:spPr>
            <a:xfrm>
              <a:off x="1185840" y="4549680"/>
              <a:ext cx="1079280" cy="92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8" descr="Ehux2_5"/>
            <p:cNvPicPr/>
            <p:nvPr/>
          </p:nvPicPr>
          <p:blipFill>
            <a:blip r:embed="rId4"/>
            <a:stretch/>
          </p:blipFill>
          <p:spPr>
            <a:xfrm>
              <a:off x="1185840" y="3036960"/>
              <a:ext cx="1079280" cy="100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Picture 9" descr="G_oceanica"/>
            <p:cNvPicPr/>
            <p:nvPr/>
          </p:nvPicPr>
          <p:blipFill>
            <a:blip r:embed="rId5"/>
            <a:stretch/>
          </p:blipFill>
          <p:spPr>
            <a:xfrm>
              <a:off x="1185840" y="1741320"/>
              <a:ext cx="1079280" cy="77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Text Box 16"/>
            <p:cNvSpPr/>
            <p:nvPr/>
          </p:nvSpPr>
          <p:spPr>
            <a:xfrm>
              <a:off x="682560" y="4044960"/>
              <a:ext cx="21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E. huxley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17"/>
            <p:cNvSpPr/>
            <p:nvPr/>
          </p:nvSpPr>
          <p:spPr>
            <a:xfrm>
              <a:off x="609480" y="2533680"/>
              <a:ext cx="21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G. ocean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18"/>
            <p:cNvSpPr/>
            <p:nvPr/>
          </p:nvSpPr>
          <p:spPr>
            <a:xfrm>
              <a:off x="609480" y="6781680"/>
              <a:ext cx="21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C. braarudi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19"/>
            <p:cNvSpPr/>
            <p:nvPr/>
          </p:nvSpPr>
          <p:spPr>
            <a:xfrm>
              <a:off x="609480" y="5484600"/>
              <a:ext cx="223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C. quadriperforatu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Rectangle 32"/>
          <p:cNvSpPr/>
          <p:nvPr/>
        </p:nvSpPr>
        <p:spPr>
          <a:xfrm>
            <a:off x="685800" y="5791320"/>
            <a:ext cx="3962520" cy="13716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3"/>
          <p:cNvSpPr/>
          <p:nvPr/>
        </p:nvSpPr>
        <p:spPr>
          <a:xfrm>
            <a:off x="5562720" y="1371600"/>
            <a:ext cx="35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Coccolithophores largest producer of calcite on Ea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33"/>
          <p:cNvSpPr/>
          <p:nvPr/>
        </p:nvSpPr>
        <p:spPr>
          <a:xfrm>
            <a:off x="772920" y="1066680"/>
            <a:ext cx="19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Ambient </a:t>
            </a:r>
            <a:r>
              <a:rPr b="1" lang="sv-SE" sz="2800" spc="-1" strike="noStrike">
                <a:solidFill>
                  <a:srgbClr val="ffffff"/>
                </a:solidFill>
                <a:latin typeface="Arial"/>
              </a:rPr>
              <a:t>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36"/>
          <p:cNvSpPr/>
          <p:nvPr/>
        </p:nvSpPr>
        <p:spPr>
          <a:xfrm>
            <a:off x="2067120" y="6019920"/>
            <a:ext cx="2021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Riebesell et al.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Langer et al.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815920" y="-36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pH disrupts shell 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Picture 15" descr="cwall99_med"/>
          <p:cNvPicPr/>
          <p:nvPr/>
        </p:nvPicPr>
        <p:blipFill>
          <a:blip r:embed="rId1"/>
          <a:stretch/>
        </p:blipFill>
        <p:spPr>
          <a:xfrm>
            <a:off x="5791320" y="2362320"/>
            <a:ext cx="3009960" cy="2409840"/>
          </a:xfrm>
          <a:prstGeom prst="rect">
            <a:avLst/>
          </a:prstGeom>
          <a:ln w="0">
            <a:noFill/>
          </a:ln>
        </p:spPr>
      </p:pic>
      <p:sp>
        <p:nvSpPr>
          <p:cNvPr id="312" name="TextBox 5"/>
          <p:cNvSpPr/>
          <p:nvPr/>
        </p:nvSpPr>
        <p:spPr>
          <a:xfrm>
            <a:off x="6708240" y="487692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Arial"/>
              </a:rPr>
              <a:t>NASA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Group 23"/>
          <p:cNvGrpSpPr/>
          <p:nvPr/>
        </p:nvGrpSpPr>
        <p:grpSpPr>
          <a:xfrm>
            <a:off x="609480" y="1741320"/>
            <a:ext cx="2233800" cy="5347440"/>
            <a:chOff x="609480" y="1741320"/>
            <a:chExt cx="2233800" cy="5347440"/>
          </a:xfrm>
        </p:grpSpPr>
        <p:pic>
          <p:nvPicPr>
            <p:cNvPr id="314" name="Picture 6" descr="Cpela"/>
            <p:cNvPicPr/>
            <p:nvPr/>
          </p:nvPicPr>
          <p:blipFill>
            <a:blip r:embed="rId2"/>
            <a:stretch/>
          </p:blipFill>
          <p:spPr>
            <a:xfrm>
              <a:off x="1185840" y="5916600"/>
              <a:ext cx="1079280" cy="87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Picture 7" descr="clepto_3pack"/>
            <p:cNvPicPr/>
            <p:nvPr/>
          </p:nvPicPr>
          <p:blipFill>
            <a:blip r:embed="rId3"/>
            <a:stretch/>
          </p:blipFill>
          <p:spPr>
            <a:xfrm>
              <a:off x="1185840" y="4549680"/>
              <a:ext cx="1079280" cy="92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Picture 8" descr="Ehux2_5"/>
            <p:cNvPicPr/>
            <p:nvPr/>
          </p:nvPicPr>
          <p:blipFill>
            <a:blip r:embed="rId4"/>
            <a:stretch/>
          </p:blipFill>
          <p:spPr>
            <a:xfrm>
              <a:off x="1185840" y="3036960"/>
              <a:ext cx="1079280" cy="100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Picture 9" descr="G_oceanica"/>
            <p:cNvPicPr/>
            <p:nvPr/>
          </p:nvPicPr>
          <p:blipFill>
            <a:blip r:embed="rId5"/>
            <a:stretch/>
          </p:blipFill>
          <p:spPr>
            <a:xfrm>
              <a:off x="1185840" y="1741320"/>
              <a:ext cx="1079280" cy="77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Text Box 16"/>
            <p:cNvSpPr/>
            <p:nvPr/>
          </p:nvSpPr>
          <p:spPr>
            <a:xfrm>
              <a:off x="682560" y="4044960"/>
              <a:ext cx="21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E. huxley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17"/>
            <p:cNvSpPr/>
            <p:nvPr/>
          </p:nvSpPr>
          <p:spPr>
            <a:xfrm>
              <a:off x="609480" y="2533680"/>
              <a:ext cx="21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G. ocean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18"/>
            <p:cNvSpPr/>
            <p:nvPr/>
          </p:nvSpPr>
          <p:spPr>
            <a:xfrm>
              <a:off x="609480" y="6781680"/>
              <a:ext cx="21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C. braarudi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19"/>
            <p:cNvSpPr/>
            <p:nvPr/>
          </p:nvSpPr>
          <p:spPr>
            <a:xfrm>
              <a:off x="609480" y="5484600"/>
              <a:ext cx="223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C. quadriperforatu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74"/>
          <p:cNvGrpSpPr/>
          <p:nvPr/>
        </p:nvGrpSpPr>
        <p:grpSpPr>
          <a:xfrm>
            <a:off x="3581280" y="1746360"/>
            <a:ext cx="1008000" cy="5111280"/>
            <a:chOff x="3581280" y="1746360"/>
            <a:chExt cx="1008000" cy="5111280"/>
          </a:xfrm>
        </p:grpSpPr>
        <p:pic>
          <p:nvPicPr>
            <p:cNvPr id="323" name="Picture 14" descr="Clepto_630ppm"/>
            <p:cNvPicPr/>
            <p:nvPr/>
          </p:nvPicPr>
          <p:blipFill>
            <a:blip r:embed="rId6"/>
            <a:stretch/>
          </p:blipFill>
          <p:spPr>
            <a:xfrm>
              <a:off x="3581280" y="4554360"/>
              <a:ext cx="1008000" cy="9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Picture 15" descr="Cpela_1100ppm"/>
            <p:cNvPicPr/>
            <p:nvPr/>
          </p:nvPicPr>
          <p:blipFill>
            <a:blip r:embed="rId7"/>
            <a:stretch/>
          </p:blipFill>
          <p:spPr>
            <a:xfrm>
              <a:off x="3581280" y="5921280"/>
              <a:ext cx="1008000" cy="93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Picture 71" descr="G_oceanica_highCO2"/>
            <p:cNvPicPr/>
            <p:nvPr/>
          </p:nvPicPr>
          <p:blipFill>
            <a:blip r:embed="rId8"/>
            <a:stretch/>
          </p:blipFill>
          <p:spPr>
            <a:xfrm>
              <a:off x="3581280" y="1746360"/>
              <a:ext cx="1008000" cy="80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73" descr="Ehux_2000_CO2"/>
            <p:cNvPicPr/>
            <p:nvPr/>
          </p:nvPicPr>
          <p:blipFill>
            <a:blip r:embed="rId9"/>
            <a:stretch/>
          </p:blipFill>
          <p:spPr>
            <a:xfrm>
              <a:off x="3581280" y="3041640"/>
              <a:ext cx="1008000" cy="100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Down Arrow 30"/>
          <p:cNvSpPr/>
          <p:nvPr/>
        </p:nvSpPr>
        <p:spPr>
          <a:xfrm>
            <a:off x="2971800" y="38088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32"/>
          <p:cNvSpPr/>
          <p:nvPr/>
        </p:nvSpPr>
        <p:spPr>
          <a:xfrm>
            <a:off x="685800" y="5791320"/>
            <a:ext cx="3962520" cy="13716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3"/>
          <p:cNvSpPr/>
          <p:nvPr/>
        </p:nvSpPr>
        <p:spPr>
          <a:xfrm>
            <a:off x="5562720" y="1371600"/>
            <a:ext cx="35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Coccolithophores largest producer of calcite on Ea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33"/>
          <p:cNvSpPr/>
          <p:nvPr/>
        </p:nvSpPr>
        <p:spPr>
          <a:xfrm>
            <a:off x="772920" y="1066680"/>
            <a:ext cx="19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Ambient </a:t>
            </a:r>
            <a:r>
              <a:rPr b="1" lang="sv-SE" sz="2800" spc="-1" strike="noStrike">
                <a:solidFill>
                  <a:srgbClr val="ffffff"/>
                </a:solidFill>
                <a:latin typeface="Arial"/>
              </a:rPr>
              <a:t>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34"/>
          <p:cNvSpPr/>
          <p:nvPr/>
        </p:nvSpPr>
        <p:spPr>
          <a:xfrm>
            <a:off x="4119840" y="1066680"/>
            <a:ext cx="6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ffffff"/>
                </a:solidFill>
                <a:latin typeface="Arial"/>
              </a:rPr>
              <a:t>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Down Arrow 35"/>
          <p:cNvSpPr/>
          <p:nvPr/>
        </p:nvSpPr>
        <p:spPr>
          <a:xfrm>
            <a:off x="3886200" y="1143000"/>
            <a:ext cx="228600" cy="380880"/>
          </a:xfrm>
          <a:prstGeom prst="downArrow">
            <a:avLst>
              <a:gd name="adj1" fmla="val 50000"/>
              <a:gd name="adj2" fmla="val 49984"/>
            </a:avLst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6"/>
          <p:cNvSpPr/>
          <p:nvPr/>
        </p:nvSpPr>
        <p:spPr>
          <a:xfrm>
            <a:off x="2067120" y="6019920"/>
            <a:ext cx="2021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Riebesell et al.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Langer et al.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5T11:15:46Z</dcterms:created>
  <dc:creator>Sybil Seitzinger</dc:creator>
  <dc:description/>
  <dc:language>en-US</dc:language>
  <cp:lastModifiedBy>Jamm</cp:lastModifiedBy>
  <dcterms:modified xsi:type="dcterms:W3CDTF">2010-06-03T08:11:25Z</dcterms:modified>
  <cp:revision>105</cp:revision>
  <dc:subject/>
  <dc:title>Slide 1</dc:title>
</cp:coreProperties>
</file>