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0553-6C4C-485E-BA9E-9EFC2340E4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D6EE-F490-497C-865F-E6C5A4B8C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8043-1478-4D68-BDCE-F9AF02CD1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1B73-175C-47F8-99BC-F36CD85E1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1F77-B898-44A8-AB0F-37ADDA7F1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F56F-0D09-4F49-98C3-C777A5648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1872-7793-4B01-949F-F9661AE6C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0F5-3F7D-4A5D-A86D-BBB202FF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7257-13EC-42B6-8948-3AFA1E1B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928C-2B88-4AE2-80A9-A965EC1A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43B-340A-4BA0-9F3B-143668D7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0EC4-AE56-4E7E-A05F-B550FEB3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9A2-A475-4709-92AA-2928E499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256-0BC8-4560-816E-9EDE7A73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B04-651D-43EB-8C63-01EC22BF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D73-5E66-40F1-A27A-5E42F07D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376-118E-4B17-9752-F1E46809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02B-1A51-4AB8-821F-13918EB0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4AE-4064-4487-82AC-848520CE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BEBA-75CC-41C5-9FFA-690EC4FB27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4488-3BF0-405B-9168-60B9805B6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0004-9485-493E-BABA-0F06BD0CF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37396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eeds for research and systematic observation in Africa </a:t>
            </a:r>
            <a:br>
              <a:rPr sz="32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n,3 June 2010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ama DIARRA, Chief Division Research and Development DNM_M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 rot="10800000">
          <a:off x="0" y="-360"/>
          <a:ext cx="1042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-360"/>
                    <a:ext cx="1042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B34A-8850-440A-951F-FD3EE2493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1-Gaps for research and systematic ob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lect data net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insufficiency of data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sufficiency and high cost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tudy for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tensity and frequency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of extreme events (floods, drought, rainfall etc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sonal forecast outputs are only expressed 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ack of local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  ●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Absence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downscal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Insufficiency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F8BC-6DCB-4DAA-82F2-D0CBFC6C8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8920" y="475920"/>
            <a:ext cx="8534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eds for apply in agricultural climate variability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ing into account weather information and climate change in the technological package of research in order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climate risks on the produ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to increase crops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tion of the agricultur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Crops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onset of the rainy seas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  end of the rainy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 for ploughing, seeding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dry period in order the rainy sea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appearance of crop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9EE0-C335-40EF-8BC9-59AFABA8A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3-Needs research  and  priority ac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9700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o collect scientific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of experts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acilit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cess a satellite dat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localis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ai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weather foreca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 District level, village leve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to elaborate a week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asonal foreca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ecause the currently outputs are only expressed in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ownscaling metho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improve climate change scenario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t  country level in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th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intensity and frequency of extreme events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(floods, drought, rainfal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CC11-1FB6-4640-87AE-33BC3B069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Needs research  and  priority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ac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24000" y="558720"/>
            <a:ext cx="86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Facilitate exchanges of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Build the capacit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f  the existing regional research centers in Africa ( ex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ACMAD, Agrhymet, DRMC,OSSetc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courage and promote the training of young scient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Strengthen the linkages with existing research organization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nsify the apply of GCOS activiti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support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financ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research on developing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capacity building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stimation of agricultural production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before the end of the saison for 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Implement a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communication strateg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n international, regional and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Taking into account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raditional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3"/>
          <p:cNvSpPr/>
          <p:nvPr/>
        </p:nvSpPr>
        <p:spPr>
          <a:xfrm>
            <a:off x="3059280" y="836640"/>
            <a:ext cx="197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Euro vs 200eu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332000" y="90792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SC00906"/>
          <p:cNvPicPr/>
          <p:nvPr/>
        </p:nvPicPr>
        <p:blipFill>
          <a:blip r:embed="rId1"/>
          <a:stretch/>
        </p:blipFill>
        <p:spPr>
          <a:xfrm>
            <a:off x="1403280" y="1197000"/>
            <a:ext cx="6096240" cy="511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332000" y="6400800"/>
            <a:ext cx="64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IFIED LOCALLY MANUFACTURED RAI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35120" y="366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7"/>
          <p:cNvGraphicFramePr/>
          <p:nvPr/>
        </p:nvGraphicFramePr>
        <p:xfrm rot="10800000">
          <a:off x="0" y="0"/>
          <a:ext cx="90000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0" y="0"/>
                    <a:ext cx="900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116000" y="11592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Facilitate manufacturing of some equipments in Af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(like raingauge for farmers in Ma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CC56-BBC9-4298-8277-029AA5972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609480" y="2705040"/>
            <a:ext cx="78566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THANK YOU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3:57:09Z</dcterms:created>
  <dc:creator>Isac</dc:creator>
  <dc:description/>
  <dc:language>en-US</dc:language>
  <cp:lastModifiedBy>UNFCCC</cp:lastModifiedBy>
  <dcterms:modified xsi:type="dcterms:W3CDTF">2010-06-03T06:25:25Z</dcterms:modified>
  <cp:revision>137</cp:revision>
  <dc:subject/>
  <dc:title>Informations météorologiques, un outil efficace d’appui conseil à la prise de décisions  pour la sécurité alimentaire  au Mal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