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A463-D026-4CA5-816E-B487DB4EC02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667C-EA71-4001-8682-0A4326F4B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BEFC-D5CB-4AA9-969F-880D59422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F3AC-0E9B-46C3-B958-364B323A8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27F0-77CD-4607-B489-F4A4092DA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A4F7-747F-4AC3-B795-15DC74551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1DEA-7C01-446F-AF52-106E6739D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88BC-07B3-42FA-8331-EFE47BDB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18C0-639A-4C03-9BA3-FEA0E1C6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FE96-28FD-4037-9E81-6A3398AC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0991-32D3-4A9B-A71E-C39A515C3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9F2A-6B82-4241-95F7-82879E5F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2EF7-53CD-4D04-834B-A5712BDF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088C-1256-4B03-B51C-07D864A4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1265-5A80-41E9-BC0F-D63CDCEA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B59C-8996-4B49-8439-801AF6E0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176F-A0BC-48F3-AB0B-6CD898AD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D080-0D6A-493A-B05B-358DC6EA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63C7-7623-4EC4-BF5A-50C53C77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6F50-75D7-406C-898F-ADB7596D5EB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0A9D-D5E6-43AB-A5F4-C40535C2F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44A5-5287-4783-8E8E-F557F5754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37396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eeds for research and systematic observation in Africa </a:t>
            </a:r>
            <a:br>
              <a:rPr sz="32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nn,3 June 2010</a:t>
            </a:r>
            <a:br>
              <a:rPr sz="18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rama DIARRA, Chief Division Research and Development DNM_M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 rot="10800000">
          <a:off x="0" y="-360"/>
          <a:ext cx="104292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0" y="-360"/>
                    <a:ext cx="104292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50FD-61AF-4008-B4FF-48AFF5EC1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1-Gaps for research and systematic obser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ck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llect data networ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insufficiency of data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Insufficiency and high cost of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 study for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intensity and frequency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of extreme events (floods, drought, rainfall etc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asonal forecast outputs are only expressed o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erce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ack of local for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  ● 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Absence of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downscaling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●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Insufficiency of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6B77-2098-4B99-AF7A-FCE8BBDD2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58920" y="475920"/>
            <a:ext cx="8534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2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eeds for apply in agricultural climate variability and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king into account weather information and climate change in the technological package of research in order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climate risks on the produ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to increase crops y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ification of the agricultural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ed Crops cyc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 onset of the rainy seas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  end of the rainy sea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s for ploughing, seeding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of dry period in order the rainy sea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 appearance of crops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96ED-1C17-4CCD-8027-5365DE16E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8544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3-Needs research  and  priority action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50920" y="1052640"/>
            <a:ext cx="8713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24000" y="1197000"/>
            <a:ext cx="8640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Strengthen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network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to collect scientific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appropriat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ing capacity of experts 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facilitat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ccess a satellite dat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 localisati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daily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weather forecas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 District level, village level etc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ing capacity to elaborate a weekly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foreca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d th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easonal foreca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because the currently outputs are only expressed in percen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downscaling metho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improve climate change scenario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t  country level in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y the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intensity and frequency of extreme events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(floods, drought, rainfall etc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3204-D449-47C8-8B55-FE8B44594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560" y="115920"/>
            <a:ext cx="87138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Needs research  and  priority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action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50920" y="1052640"/>
            <a:ext cx="8713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24000" y="558720"/>
            <a:ext cx="8640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Facilitate exchanges of experi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Build the capacity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of  the existing regional research centers in Africa ( ex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ACMAD, Agrhymet, DRMC,OSSetc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courage and promote the training of young scienti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Strengthen the linkages with existing research organizations and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tensify the apply of GCOS activiti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Strengthen the support of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finance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research on developing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capacity building of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G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estimation of agricultural production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before the end of the saison for early warn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early warn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Implement a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appropriate communication strategy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on international, regional and nat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Taking into account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traditional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Espace réservé du numéro de diapositive 3"/>
          <p:cNvSpPr/>
          <p:nvPr/>
        </p:nvSpPr>
        <p:spPr>
          <a:xfrm>
            <a:off x="3059280" y="836640"/>
            <a:ext cx="1979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Euro vs 200eur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332000" y="907920"/>
            <a:ext cx="62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DSC00906"/>
          <p:cNvPicPr/>
          <p:nvPr/>
        </p:nvPicPr>
        <p:blipFill>
          <a:blip r:embed="rId1"/>
          <a:stretch/>
        </p:blipFill>
        <p:spPr>
          <a:xfrm>
            <a:off x="1403280" y="1197000"/>
            <a:ext cx="6096240" cy="5111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1332000" y="6400800"/>
            <a:ext cx="64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MPLIFIED LOCALLY MANUFACTURED RAING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735120" y="3665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7"/>
          <p:cNvGraphicFramePr/>
          <p:nvPr/>
        </p:nvGraphicFramePr>
        <p:xfrm rot="10800000">
          <a:off x="0" y="0"/>
          <a:ext cx="900000" cy="90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 rot="10800000">
                    <a:off x="0" y="0"/>
                    <a:ext cx="90000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116000" y="115920"/>
            <a:ext cx="691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Facilitate manufacturing of some equipments in Afr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(like raingauge for farmers in Mal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B2A5-7D79-4CBC-9026-53448FAEF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3"/>
          <p:cNvSpPr txBox="1"/>
          <p:nvPr/>
        </p:nvSpPr>
        <p:spPr>
          <a:xfrm>
            <a:off x="609480" y="2705040"/>
            <a:ext cx="78566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THANK YOU 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23:57:09Z</dcterms:created>
  <dc:creator>Isac</dc:creator>
  <dc:description/>
  <dc:language>en-US</dc:language>
  <cp:lastModifiedBy>UNFCCC</cp:lastModifiedBy>
  <dcterms:modified xsi:type="dcterms:W3CDTF">2010-06-03T06:25:25Z</dcterms:modified>
  <cp:revision>137</cp:revision>
  <dc:subject/>
  <dc:title>Informations météorologiques, un outil efficace d’appui conseil à la prise de décisions  pour la sécurité alimentaire  au Mal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