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EE41-6AD5-492B-9B3A-30D0A76950E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0CAC-18E8-4436-8391-04562AF3A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B122-78DB-4D18-A515-DE3439E84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67D6-187E-46C8-9C8E-18C16A125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201E-E234-4DB4-B7D0-CE67D3AE4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8B0F-9A72-4A41-B843-E5FF3F104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092C-13E5-4A88-A46A-1181BAD5F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083D-1C2E-440D-989B-7A3741B31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54D2-75D9-45D7-AE3B-A4AA8A6D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4CA7-07D4-46F1-AD52-731FC3A1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DF42-83B6-4152-BA9D-8BACBE21D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B23E-C8F4-412A-B622-205F9C89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DF8B-2F3B-44EB-9FCE-AC869975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2BBA-DE91-42AC-B281-54A3892C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706C-8748-4299-A274-338A8331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EA58-F62B-43AF-8970-10A58F2B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4EC5-E883-44E6-8F9F-1E629D7E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D6B0-7438-47DA-88A0-C8E7EAD2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7A39-EB94-47FD-894A-B8F991DF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1179-87CA-40A8-A67D-457DA8945E2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3664-2CE9-4F21-8BC9-F2B57EB46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B542-698D-403C-BAB5-0A7F658B4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37396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eeds for research and systematic observation in Africa </a:t>
            </a:r>
            <a:br>
              <a:rPr sz="32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nn,3 June 2010</a:t>
            </a:r>
            <a:br>
              <a:rPr sz="18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rama DIARRA, Chief Division Research and Development DNM_M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 rot="10800000">
          <a:off x="0" y="-360"/>
          <a:ext cx="104292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0" y="-360"/>
                    <a:ext cx="104292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76F6-ED59-4290-8A8E-FBCAAAB50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1-Gaps for research and systematic obser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ck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llect data networ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insufficiency of data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●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Insufficiency and high cost of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f study for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intensity and frequency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 of extreme events (floods, drought, rainfall etc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asonal forecast outputs are only expressed o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perce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●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ack of local fore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   ● 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Absence of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downscaling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●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Insufficiency of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DD7A-EF92-474E-B632-6AF5DF23B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58920" y="475920"/>
            <a:ext cx="8534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2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eeds for apply in agricultural climate variability and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king into account weather information and climate change in the technological package of research in order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climate risks on the produ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to increase crops yiel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ification of the agricultural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ed Crops cyc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 onset of the rainy seas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  end of the rainy sea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s for ploughing, seeding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of dry period in order the rainy sea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 appearance of crops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A8A3-E19C-48B5-B695-8AFF544EE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78544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3-Needs research  and  priority action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50920" y="1052640"/>
            <a:ext cx="8713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24000" y="1197000"/>
            <a:ext cx="8640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Strengthen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network</a:t>
            </a:r>
            <a:r>
              <a:rPr b="0" lang="e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to collect scientific</a:t>
            </a:r>
            <a:r>
              <a:rPr b="0" lang="e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appropriat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ing capacity of experts 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facilitat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ccess a satellite dat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 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 localisati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daily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weather forecas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 District level, village level etc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ing capacity to elaborate a weekly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foreca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d th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easonal foreca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because the currently outputs are only expressed in percen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downscaling method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improve climate change scenario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t  country level in Af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y the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intensity and frequency of extreme events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(floods, drought, rainfall etc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5345-D09E-4DB3-91A6-0C74C7BFE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560" y="115920"/>
            <a:ext cx="87138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Needs research  and  priority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action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50920" y="1052640"/>
            <a:ext cx="8713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24000" y="558720"/>
            <a:ext cx="8640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Facilitate exchanges of experi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Build the capacity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of  the existing regional research centers in Africa ( ex 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ACMAD, Agrhymet, DRMC,OSSetc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courage and promote the training of young scienti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Strengthen the linkages with existing research organizations and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ntensify the apply of GCOS activiti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Strengthen the support of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finance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research on developing count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hance the capacity building of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G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hance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estimation of agricultural production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before the end of the saison for early warn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hance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early warn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Implement a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appropriate communication strategy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on international, regional and nat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Taking into account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traditional knowl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Espace réservé du numéro de diapositive 3"/>
          <p:cNvSpPr/>
          <p:nvPr/>
        </p:nvSpPr>
        <p:spPr>
          <a:xfrm>
            <a:off x="3059280" y="836640"/>
            <a:ext cx="1979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Euro vs 200eur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332000" y="907920"/>
            <a:ext cx="62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DSC00906"/>
          <p:cNvPicPr/>
          <p:nvPr/>
        </p:nvPicPr>
        <p:blipFill>
          <a:blip r:embed="rId1"/>
          <a:stretch/>
        </p:blipFill>
        <p:spPr>
          <a:xfrm>
            <a:off x="1403280" y="1197000"/>
            <a:ext cx="6096240" cy="5111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1332000" y="6400800"/>
            <a:ext cx="64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MPLIFIED LOCALLY MANUFACTURED RAING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735120" y="3665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7"/>
          <p:cNvGraphicFramePr/>
          <p:nvPr/>
        </p:nvGraphicFramePr>
        <p:xfrm rot="10800000">
          <a:off x="0" y="0"/>
          <a:ext cx="900000" cy="90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 rot="10800000">
                    <a:off x="0" y="0"/>
                    <a:ext cx="90000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116000" y="115920"/>
            <a:ext cx="691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ff0000"/>
                </a:solidFill>
                <a:latin typeface="Arial"/>
              </a:rPr>
              <a:t>Facilitate manufacturing of some equipments in Afr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" sz="2000" spc="-1" strike="noStrike">
                <a:solidFill>
                  <a:srgbClr val="ff0000"/>
                </a:solidFill>
                <a:latin typeface="Arial"/>
              </a:rPr>
              <a:t>(like raingauge for farmers in Mal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66EC-1D9D-4F30-AAD8-379B7D31D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3"/>
          <p:cNvSpPr txBox="1"/>
          <p:nvPr/>
        </p:nvSpPr>
        <p:spPr>
          <a:xfrm>
            <a:off x="609480" y="2705040"/>
            <a:ext cx="78566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Times New Roman"/>
              </a:rPr>
              <a:t>THANK YOU 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Times New Roman"/>
              <a:ea typeface="Times New Roman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7T23:57:09Z</dcterms:created>
  <dc:creator>Isac</dc:creator>
  <dc:description/>
  <dc:language>en-US</dc:language>
  <cp:lastModifiedBy>UNFCCC</cp:lastModifiedBy>
  <dcterms:modified xsi:type="dcterms:W3CDTF">2010-06-03T06:25:25Z</dcterms:modified>
  <cp:revision>137</cp:revision>
  <dc:subject/>
  <dc:title>Informations météorologiques, un outil efficace d’appui conseil à la prise de décisions  pour la sécurité alimentaire  au Mal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