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C88-5F57-449B-9D51-6F566149A9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1F04-0E8A-43D7-AA5C-41AFC677D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CB29-84CA-4121-806F-575F6FF8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A6E8-DFB5-4506-B60B-069A5D52B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EA80-DBC1-46A0-9025-17971A451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294E-339E-4B71-A547-2726C9BB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F690-721B-45EE-8D97-32FB5FA66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CB0-DC2B-45EA-92C1-2729F919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F0E-18A2-4D98-A9C7-27065C76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D63-9DCF-4CB5-8E66-7626790B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639-77F0-44C2-85A3-366405C4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F83-C437-4A45-A7A4-D6B4FD3B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545-98F2-4542-92A0-F70DE79F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5E7-567D-45EE-B053-F66BDB90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A06-767B-43FA-B75B-97EDECB5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4A1-0B6E-4D48-B5ED-0C3CD45D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9EB-EDC3-44B3-844E-079E3839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760-BDCE-43C8-8031-FC42A0BB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7E0-B458-4CE1-B21E-A83AFBB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8E8E-1085-4F72-B21D-B9C706B871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9DF2-D758-4421-947F-BD8AE9F04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32CC-C6BC-4E67-ACC7-E80185503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37396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eeds for research and systematic observation in Africa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n,3 June 2010</a:t>
            </a:r>
            <a:br>
              <a:rPr sz="18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rama DIARRA, Chief Division Research and Development DNM_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 rot="10800000">
          <a:off x="0" y="-360"/>
          <a:ext cx="1042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-360"/>
                    <a:ext cx="1042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3ECD-10F2-4510-92DE-BC80DEF55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-Gaps for research and systematic ob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ck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lect data netwo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insufficiency of data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sufficiency and high cost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tudy for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intensity and frequency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of extreme events (floods, drought, rainfall etc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asonal forecast outputs are only expressed 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ack of local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   ●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Absence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downscal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Insufficiency of </a:t>
            </a:r>
            <a:r>
              <a:rPr b="1" lang="en" sz="2800" spc="-1" strike="noStrike">
                <a:solidFill>
                  <a:srgbClr val="ff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58A2-B22D-4148-AEC6-12CF67BA8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8920" y="475920"/>
            <a:ext cx="8534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eds for apply in agricultural climate variability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ing into account weather information and climate change in the technological package of research in order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climate risks on the produ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to increase crop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 of the agricultural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Crops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onset of the rainy sea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  end of the rainy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s for ploughing, seeding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dry period in order the rainy sea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appearance of crop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1BC4-0EEA-4403-B07C-D0FD085B8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3-Needs research  and  priority actio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24000" y="119700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o collect scientific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of expert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acilit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ss a satellite dat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localis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ai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weather foreca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 District level, village leve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ing capacity to elaborate a weekly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orec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d th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asonal foreca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ecause the currently outputs are only expressed in perce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downscaling metho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improve climate change scenario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t  country level in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th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intensity and frequency of extreme events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(floods, drought, rainfall etc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43C0-AD50-4667-9777-3332AC4DA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Needs research  and  priority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9900"/>
                </a:solidFill>
                <a:latin typeface="Arial"/>
              </a:rPr>
              <a:t>act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50920" y="1052640"/>
            <a:ext cx="8713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24000" y="558720"/>
            <a:ext cx="864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Facilitate exchanges of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Build the capacit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f  the existing regional research centers in Africa ( ex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ACMAD, Agrhymet, DRMC,OSSetc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courage and promote the training of young scient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ff9900"/>
                </a:solidFill>
                <a:latin typeface="Arial"/>
              </a:rPr>
              <a:t>Strengthen the linkages with existing research organization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ensify the apply of GCOS activiti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Strengthen the support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finance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research on developing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capacity building of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G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stimation of agricultural production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before the end of the saison for 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Enhance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early war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Implement a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appropriate communication strategy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 on international, regional and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Taking into account the 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traditional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3059280" y="836640"/>
            <a:ext cx="197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Euro vs 200eur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332000" y="90792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SC00906"/>
          <p:cNvPicPr/>
          <p:nvPr/>
        </p:nvPicPr>
        <p:blipFill>
          <a:blip r:embed="rId1"/>
          <a:stretch/>
        </p:blipFill>
        <p:spPr>
          <a:xfrm>
            <a:off x="1403280" y="1197000"/>
            <a:ext cx="6096240" cy="5111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1332000" y="6400800"/>
            <a:ext cx="64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D LOCALLY MANUFACTURED RAI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35120" y="366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 rot="10800000">
          <a:off x="0" y="0"/>
          <a:ext cx="90000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0" y="0"/>
                    <a:ext cx="90000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116000" y="11592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Facilitate manufacturing of some equipments in Af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" sz="2000" spc="-1" strike="noStrike">
                <a:solidFill>
                  <a:srgbClr val="ff0000"/>
                </a:solidFill>
                <a:latin typeface="Arial"/>
              </a:rPr>
              <a:t>(like raingauge for farmers in Mal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AEB4-83F3-491E-878A-3AE8E4B8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609480" y="2705040"/>
            <a:ext cx="78566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THANK YOU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3:57:09Z</dcterms:created>
  <dc:creator>Isac</dc:creator>
  <dc:description/>
  <dc:language>en-US</dc:language>
  <cp:lastModifiedBy>UNFCCC</cp:lastModifiedBy>
  <dcterms:modified xsi:type="dcterms:W3CDTF">2010-06-03T06:25:25Z</dcterms:modified>
  <cp:revision>137</cp:revision>
  <dc:subject/>
  <dc:title>Informations météorologiques, un outil efficace d’appui conseil à la prise de décisions  pour la sécurité alimentaire  au Mal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