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BB467-F685-4341-B513-187EB271AD6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5ACFC-C41A-4913-AECA-3FE30FBB5A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96FD7-3E90-4232-88E1-2E0793CD79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37707-DA01-4CB1-8FA0-6C4CC15251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A6ABB-9D87-460D-82D1-72A1C786BB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9179B-CAB0-4561-9129-1FCB508921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8CDDD-DD70-4381-A5DC-5CB46D1E12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91F94-FDCC-424D-B487-702CAEE89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6D987-95A8-4BAA-96D5-9AA580B79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76C74-4C49-4508-99FA-005DA40EA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3880C-1626-4725-841D-EEEE70857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5A328-0170-48A7-B6B6-64C92D0E5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589E8-D342-43EA-9C24-EB15AFF8A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E9DC8-583E-4C1B-A990-8864F55AD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5AFEE-0383-4B28-8BE8-21CD0691D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D9FD2-1EBB-47BB-BAB9-00C0EC99E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B77B9-7577-4BC3-8626-F86B79626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C3747-CF09-4094-A7C6-0C196D450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DC77B-4983-4048-9215-77700646F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9EE2D-AE0D-405F-80AF-3A97CEABEDC9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C8975-C25D-4B7C-8CAB-FBE8264370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Espace réservé du numéro de diapositive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5DCA6-84C3-4219-A3ED-AB16C463CC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373960" cy="532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----------------</a:t>
            </a:r>
            <a:br>
              <a:rPr sz="3200"/>
            </a:b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Needs for research and systematic observation in Africa </a:t>
            </a:r>
            <a:br>
              <a:rPr sz="3200"/>
            </a:b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onn,3 June 2010</a:t>
            </a:r>
            <a:br>
              <a:rPr sz="18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----------------</a:t>
            </a:r>
            <a:br>
              <a:rPr sz="32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irama DIARRA, Chief Division Research and Development DNM_Mal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Object 4"/>
          <p:cNvGraphicFramePr/>
          <p:nvPr/>
        </p:nvGraphicFramePr>
        <p:xfrm rot="10800000">
          <a:off x="0" y="-360"/>
          <a:ext cx="1042920" cy="104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 rot="10800000">
                    <a:off x="0" y="-360"/>
                    <a:ext cx="1042920" cy="104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Espace réservé du numéro de diapositive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CCD57-6A4E-4D01-9055-90C7CF8B40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79280" y="115560"/>
            <a:ext cx="878544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Arial"/>
              </a:rPr>
              <a:t>1-Gaps for research and systematic observ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●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ck of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ollect data network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and insufficiency of data avail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● </a:t>
            </a:r>
            <a:r>
              <a:rPr b="1" lang="en" sz="2800" spc="-1" strike="noStrike">
                <a:solidFill>
                  <a:srgbClr val="ff0000"/>
                </a:solidFill>
                <a:latin typeface="Arial"/>
              </a:rPr>
              <a:t>Insufficiency and high cost of equi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8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●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Lac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f study for</a:t>
            </a:r>
            <a:r>
              <a:rPr b="1" lang="e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" sz="2800" spc="-1" strike="noStrike">
                <a:solidFill>
                  <a:srgbClr val="ff0000"/>
                </a:solidFill>
                <a:latin typeface="Arial"/>
              </a:rPr>
              <a:t>intensity and frequency</a:t>
            </a:r>
            <a:r>
              <a:rPr b="1" lang="en" sz="2800" spc="-1" strike="noStrike">
                <a:solidFill>
                  <a:srgbClr val="000000"/>
                </a:solidFill>
                <a:latin typeface="Arial"/>
              </a:rPr>
              <a:t> of extreme events (floods, drought, rainfall etc.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easonal forecast outputs are only expressed on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percent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●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Lack of local forec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800" spc="-1" strike="noStrike">
                <a:solidFill>
                  <a:srgbClr val="000000"/>
                </a:solidFill>
                <a:latin typeface="Arial"/>
              </a:rPr>
              <a:t>   ● </a:t>
            </a:r>
            <a:r>
              <a:rPr b="1" lang="en" sz="2800" spc="-1" strike="noStrike">
                <a:solidFill>
                  <a:srgbClr val="000000"/>
                </a:solidFill>
                <a:latin typeface="Arial"/>
              </a:rPr>
              <a:t>Absence of </a:t>
            </a:r>
            <a:r>
              <a:rPr b="1" lang="en" sz="2800" spc="-1" strike="noStrike">
                <a:solidFill>
                  <a:srgbClr val="ff0000"/>
                </a:solidFill>
                <a:latin typeface="Arial"/>
              </a:rPr>
              <a:t>downscaling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●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" sz="2800" spc="-1" strike="noStrike">
                <a:solidFill>
                  <a:srgbClr val="000000"/>
                </a:solidFill>
                <a:latin typeface="Arial"/>
              </a:rPr>
              <a:t>Insufficiency of </a:t>
            </a:r>
            <a:r>
              <a:rPr b="1" lang="en" sz="2800" spc="-1" strike="noStrike">
                <a:solidFill>
                  <a:srgbClr val="ff0000"/>
                </a:solidFill>
                <a:latin typeface="Arial"/>
              </a:rPr>
              <a:t>expe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Espace réservé du numéro de diapositive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21D4A-3B30-40D9-B9E4-C018327B6C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358920" y="475920"/>
            <a:ext cx="853416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2_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Needs for apply in agricultural climate variability and 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aking into account weather information and climate change in the technological package of research in order to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educe climate risks on the productio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and to increase crops yiel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ification of the agricultural activit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apted Crops cyc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iod of onset of the rainy season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iod of  end of the rainy seas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es for ploughing, seeding 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quency of dry period in order the rainy seas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iod of appearance of crops dis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Espace réservé du numéro de diapositive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70524-6842-47AF-AE70-321860880B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179280" y="404280"/>
            <a:ext cx="8785440" cy="5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9900"/>
                </a:solidFill>
                <a:latin typeface="Arial"/>
              </a:rPr>
              <a:t>3-Needs research  and  priority actions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3"/>
          <p:cNvSpPr/>
          <p:nvPr/>
        </p:nvSpPr>
        <p:spPr>
          <a:xfrm>
            <a:off x="250920" y="1052640"/>
            <a:ext cx="8713800" cy="41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990720" indent="-5335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4"/>
          <p:cNvSpPr/>
          <p:nvPr/>
        </p:nvSpPr>
        <p:spPr>
          <a:xfrm>
            <a:off x="324000" y="1197000"/>
            <a:ext cx="86407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Strengthen the </a:t>
            </a:r>
            <a:r>
              <a:rPr b="1" lang="en" sz="2400" spc="-1" strike="noStrike">
                <a:solidFill>
                  <a:srgbClr val="ff0000"/>
                </a:solidFill>
                <a:latin typeface="Arial"/>
              </a:rPr>
              <a:t>network</a:t>
            </a:r>
            <a:r>
              <a:rPr b="0" lang="en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" sz="2400" spc="-1" strike="noStrike">
                <a:solidFill>
                  <a:srgbClr val="ff0000"/>
                </a:solidFill>
                <a:latin typeface="Arial"/>
              </a:rPr>
              <a:t>to collect scientific</a:t>
            </a:r>
            <a:r>
              <a:rPr b="0" lang="en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" sz="2400" spc="-1" strike="noStrike">
                <a:solidFill>
                  <a:srgbClr val="ff0000"/>
                </a:solidFill>
                <a:latin typeface="Arial"/>
              </a:rPr>
              <a:t>appropriat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Building capacity of experts and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facilitate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access a satellite data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•  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mprove</a:t>
            </a:r>
            <a:r>
              <a:rPr b="1" lang="en-GB" sz="2400" spc="-1" strike="noStrike">
                <a:solidFill>
                  <a:srgbClr val="ff9900"/>
                </a:solidFill>
                <a:latin typeface="Arial"/>
              </a:rPr>
              <a:t> localisation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daily </a:t>
            </a:r>
            <a:r>
              <a:rPr b="1" lang="en-GB" sz="2400" spc="-1" strike="noStrike">
                <a:solidFill>
                  <a:srgbClr val="ff9900"/>
                </a:solidFill>
                <a:latin typeface="Arial"/>
              </a:rPr>
              <a:t>weather forecast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( District level, village level etc..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Building capacity to elaborate a weekly </a:t>
            </a:r>
            <a:r>
              <a:rPr b="1" lang="en-GB" sz="2400" spc="-1" strike="noStrike">
                <a:solidFill>
                  <a:srgbClr val="ff9900"/>
                </a:solidFill>
                <a:latin typeface="Arial"/>
              </a:rPr>
              <a:t>foreca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mproved the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seasonal forecast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because the currently outputs are only expressed in percent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evelopment </a:t>
            </a:r>
            <a:r>
              <a:rPr b="1" lang="en-GB" sz="2400" spc="-1" strike="noStrike">
                <a:solidFill>
                  <a:srgbClr val="ff9900"/>
                </a:solidFill>
                <a:latin typeface="Arial"/>
              </a:rPr>
              <a:t>downscaling methods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1" lang="en-GB" sz="2400" spc="-1" strike="noStrike">
                <a:solidFill>
                  <a:srgbClr val="ff9900"/>
                </a:solidFill>
                <a:latin typeface="Arial"/>
              </a:rPr>
              <a:t>improve climate change scenarios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at  country level in Afri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udy the</a:t>
            </a: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" sz="2400" spc="-1" strike="noStrike">
                <a:solidFill>
                  <a:srgbClr val="ff0000"/>
                </a:solidFill>
                <a:latin typeface="Arial"/>
              </a:rPr>
              <a:t>intensity and frequency of extreme events</a:t>
            </a: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 (floods, drought, rainfall etc..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Espace réservé du numéro de diapositive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C2448-8EA9-40D6-8B27-29FD9F580E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250560" y="115920"/>
            <a:ext cx="8713800" cy="57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9900"/>
                </a:solidFill>
                <a:latin typeface="Arial"/>
              </a:rPr>
              <a:t>Needs research  and  priority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3200" spc="-1" strike="noStrike">
                <a:solidFill>
                  <a:srgbClr val="ff9900"/>
                </a:solidFill>
                <a:latin typeface="Arial"/>
              </a:rPr>
              <a:t>actions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3"/>
          <p:cNvSpPr/>
          <p:nvPr/>
        </p:nvSpPr>
        <p:spPr>
          <a:xfrm>
            <a:off x="250920" y="1052640"/>
            <a:ext cx="8713800" cy="41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990720" indent="-5335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4"/>
          <p:cNvSpPr/>
          <p:nvPr/>
        </p:nvSpPr>
        <p:spPr>
          <a:xfrm>
            <a:off x="324000" y="558720"/>
            <a:ext cx="864072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Facilitate exchanges of experien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" sz="2400" spc="-1" strike="noStrike">
                <a:solidFill>
                  <a:srgbClr val="ff9900"/>
                </a:solidFill>
                <a:latin typeface="Arial"/>
              </a:rPr>
              <a:t>Build the capacity</a:t>
            </a: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 of  the existing regional research centers in Africa ( ex </a:t>
            </a:r>
            <a:r>
              <a:rPr b="1" lang="en" sz="2400" spc="-1" strike="noStrike">
                <a:solidFill>
                  <a:srgbClr val="ff9900"/>
                </a:solidFill>
                <a:latin typeface="Arial"/>
              </a:rPr>
              <a:t>ACMAD, Agrhymet, DRMC,OSSetc</a:t>
            </a: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..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Encourage and promote the training of young scienti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" sz="2400" spc="-1" strike="noStrike">
                <a:solidFill>
                  <a:srgbClr val="ff9900"/>
                </a:solidFill>
                <a:latin typeface="Arial"/>
              </a:rPr>
              <a:t>Strengthen the linkages with existing research organizations and instit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 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Intensify the apply of GCOS activities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Strengthen the support of </a:t>
            </a:r>
            <a:r>
              <a:rPr b="1" lang="en" sz="2400" spc="-1" strike="noStrike">
                <a:solidFill>
                  <a:srgbClr val="ff0000"/>
                </a:solidFill>
                <a:latin typeface="Arial"/>
              </a:rPr>
              <a:t>finance</a:t>
            </a: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 research on developing countri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Enhance the capacity building of </a:t>
            </a:r>
            <a:r>
              <a:rPr b="1" lang="en" sz="2400" spc="-1" strike="noStrike">
                <a:solidFill>
                  <a:srgbClr val="ff0000"/>
                </a:solidFill>
                <a:latin typeface="Arial"/>
              </a:rPr>
              <a:t>G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Enhance the </a:t>
            </a:r>
            <a:r>
              <a:rPr b="1" lang="en" sz="2400" spc="-1" strike="noStrike">
                <a:solidFill>
                  <a:srgbClr val="ff0000"/>
                </a:solidFill>
                <a:latin typeface="Arial"/>
              </a:rPr>
              <a:t>estimation of agricultural production</a:t>
            </a: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 before the end of the saison for early warning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Enhance the </a:t>
            </a:r>
            <a:r>
              <a:rPr b="1" lang="en" sz="2400" spc="-1" strike="noStrike">
                <a:solidFill>
                  <a:srgbClr val="ff0000"/>
                </a:solidFill>
                <a:latin typeface="Arial"/>
              </a:rPr>
              <a:t>early warning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Implement a </a:t>
            </a:r>
            <a:r>
              <a:rPr b="1" lang="en" sz="2400" spc="-1" strike="noStrike">
                <a:solidFill>
                  <a:srgbClr val="ff0000"/>
                </a:solidFill>
                <a:latin typeface="Arial"/>
              </a:rPr>
              <a:t>appropriate communication strategy</a:t>
            </a: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 on international, regional and national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Taking into account the </a:t>
            </a:r>
            <a:r>
              <a:rPr b="1" lang="en" sz="2400" spc="-1" strike="noStrike">
                <a:solidFill>
                  <a:srgbClr val="ff0000"/>
                </a:solidFill>
                <a:latin typeface="Arial"/>
              </a:rPr>
              <a:t>traditional knowled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Espace réservé du numéro de diapositive 3"/>
          <p:cNvSpPr/>
          <p:nvPr/>
        </p:nvSpPr>
        <p:spPr>
          <a:xfrm>
            <a:off x="3059280" y="836640"/>
            <a:ext cx="19792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Euro vs 200euro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3"/>
          <p:cNvSpPr/>
          <p:nvPr/>
        </p:nvSpPr>
        <p:spPr>
          <a:xfrm>
            <a:off x="1332000" y="907920"/>
            <a:ext cx="6264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DSC00906"/>
          <p:cNvPicPr/>
          <p:nvPr/>
        </p:nvPicPr>
        <p:blipFill>
          <a:blip r:embed="rId1"/>
          <a:stretch/>
        </p:blipFill>
        <p:spPr>
          <a:xfrm>
            <a:off x="1403280" y="1197000"/>
            <a:ext cx="6096240" cy="5111640"/>
          </a:xfrm>
          <a:prstGeom prst="rect">
            <a:avLst/>
          </a:prstGeom>
          <a:ln w="0">
            <a:noFill/>
          </a:ln>
        </p:spPr>
      </p:pic>
      <p:sp>
        <p:nvSpPr>
          <p:cNvPr id="67" name="Text Box 5"/>
          <p:cNvSpPr/>
          <p:nvPr/>
        </p:nvSpPr>
        <p:spPr>
          <a:xfrm>
            <a:off x="1332000" y="6400800"/>
            <a:ext cx="645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MPLIFIED LOCALLY MANUFACTURED RAING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6"/>
          <p:cNvSpPr/>
          <p:nvPr/>
        </p:nvSpPr>
        <p:spPr>
          <a:xfrm>
            <a:off x="735120" y="3665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Object 7"/>
          <p:cNvGraphicFramePr/>
          <p:nvPr/>
        </p:nvGraphicFramePr>
        <p:xfrm rot="10800000">
          <a:off x="0" y="0"/>
          <a:ext cx="900000" cy="900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0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 rot="10800000">
                    <a:off x="0" y="0"/>
                    <a:ext cx="900000" cy="90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1116000" y="115920"/>
            <a:ext cx="6913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000" spc="-1" strike="noStrike">
                <a:solidFill>
                  <a:srgbClr val="ff0000"/>
                </a:solidFill>
                <a:latin typeface="Arial"/>
              </a:rPr>
              <a:t>Facilitate manufacturing of some equipments in Afric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000" spc="-1" strike="noStrike">
                <a:solidFill>
                  <a:srgbClr val="ff0000"/>
                </a:solidFill>
                <a:latin typeface="Arial"/>
              </a:rPr>
              <a:t>                </a:t>
            </a:r>
            <a:r>
              <a:rPr b="1" lang="en" sz="2000" spc="-1" strike="noStrike">
                <a:solidFill>
                  <a:srgbClr val="ff0000"/>
                </a:solidFill>
                <a:latin typeface="Arial"/>
              </a:rPr>
              <a:t>(like raingauge for farmers in Mali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Espace réservé du numéro de diapositive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C25AE-BFAE-47B0-BC17-81C084165A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WordArt 3"/>
          <p:cNvSpPr txBox="1"/>
          <p:nvPr/>
        </p:nvSpPr>
        <p:spPr>
          <a:xfrm>
            <a:off x="609480" y="2705040"/>
            <a:ext cx="7856640" cy="95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Times New Roman"/>
              </a:rPr>
              <a:t>THANK YOU </a:t>
            </a:r>
            <a:endParaRPr b="0" lang="en-US" sz="66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latin typeface="Times New Roman"/>
              <a:ea typeface="Times New Roman"/>
            </a:endParaRPr>
          </a:p>
        </p:txBody>
      </p:sp>
    </p:spTree>
  </p:cSld>
  <p:transition>
    <p:cover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27T23:57:09Z</dcterms:created>
  <dc:creator>Isac</dc:creator>
  <dc:description/>
  <dc:language>en-US</dc:language>
  <cp:lastModifiedBy>UNFCCC</cp:lastModifiedBy>
  <dcterms:modified xsi:type="dcterms:W3CDTF">2010-06-03T06:25:25Z</dcterms:modified>
  <cp:revision>137</cp:revision>
  <dc:subject/>
  <dc:title>Informations météorologiques, un outil efficace d’appui conseil à la prise de décisions  pour la sécurité alimentaire  au Mali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