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B11C-6C6D-404E-8162-3E2A4A0DF0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A2CE-2D0E-4FCB-AC30-41BAE0EFD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A22B-B094-46C0-8A62-C2353B634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848E-7864-4553-BD46-02E218094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0D93-7489-4B60-818A-21683E66E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5519-71F7-4B5C-ADC1-B0E411582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3974-9070-435D-B821-784051561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3F0-E91A-4949-8E46-2742C45B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EE7-3488-4428-904A-361F4FB8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572-511E-4BF0-A20E-F9E6CAA9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921-3EA7-4BB4-AE58-B49B5E8A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36D-9A90-437E-8395-30AFDBBC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5264-A1CA-49B6-9E07-49301005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084-40EF-4183-8D86-487869FA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D22-1D22-4C56-8E34-DD136178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14D-B472-456E-8B67-210656EC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E7A7-524E-4143-82E5-C089E56F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248-7858-4D55-B88F-1BBD5BAF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A59-B3FF-4AC5-BA4F-3CE6DC27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AD5E-0D4B-4ED5-90E3-A56D539E47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E945-6B51-424F-8FCF-326BDE8FD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54B4-49BA-4421-A9A5-6AAC4B46C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37396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eeds for research and systematic observation in Africa </a:t>
            </a:r>
            <a:br>
              <a:rPr sz="32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n,3 June 2010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ama DIARRA, Chief Division Research and Development DNM_M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 rot="10800000">
          <a:off x="0" y="-360"/>
          <a:ext cx="1042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-360"/>
                    <a:ext cx="1042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7C69-656F-4466-A08B-55FC3FEE6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1-Gaps for research and systematic ob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lect data net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insufficiency of data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sufficiency and high cost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tudy for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tensity and frequency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of extreme events (floods, drought, rainfall etc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sonal forecast outputs are only expressed 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ack of local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  ●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Absence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downscal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Insufficiency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C811-DB9C-4F6B-BAC9-5A1F08AFB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8920" y="475920"/>
            <a:ext cx="8534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eds for apply in agricultural climate variability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ing into account weather information and climate change in the technological package of research in order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climate risks on the produ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to increase crops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tion of the agricultur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Crops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onset of the rainy seas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  end of the rainy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 for ploughing, seeding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dry period in order the rainy sea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appearance of crop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3562-4361-4EC1-8F62-EDB796CCC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3-Needs research  and  priority ac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9700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o collect scientific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of experts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acilit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cess a satellite dat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localis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ai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weather foreca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 District level, village leve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to elaborate a week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asonal foreca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ecause the currently outputs are only expressed in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ownscaling metho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improve climate change scenario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t  country level in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th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intensity and frequency of extreme events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(floods, drought, rainfal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97EA-C2EC-437E-B45E-129D8FE82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Needs research  and  priority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ac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24000" y="558720"/>
            <a:ext cx="86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Facilitate exchanges of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Build the capacit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f  the existing regional research centers in Africa ( ex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ACMAD, Agrhymet, DRMC,OSSetc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courage and promote the training of young scient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Strengthen the linkages with existing research organization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nsify the apply of GCOS activiti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support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financ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research on developing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capacity building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stimation of agricultural production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before the end of the saison for 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Implement a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communication strateg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n international, regional and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Taking into account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raditional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3"/>
          <p:cNvSpPr/>
          <p:nvPr/>
        </p:nvSpPr>
        <p:spPr>
          <a:xfrm>
            <a:off x="3059280" y="836640"/>
            <a:ext cx="197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Euro vs 200eu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332000" y="90792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SC00906"/>
          <p:cNvPicPr/>
          <p:nvPr/>
        </p:nvPicPr>
        <p:blipFill>
          <a:blip r:embed="rId1"/>
          <a:stretch/>
        </p:blipFill>
        <p:spPr>
          <a:xfrm>
            <a:off x="1403280" y="1197000"/>
            <a:ext cx="6096240" cy="511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332000" y="6400800"/>
            <a:ext cx="64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IFIED LOCALLY MANUFACTURED RAI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35120" y="366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7"/>
          <p:cNvGraphicFramePr/>
          <p:nvPr/>
        </p:nvGraphicFramePr>
        <p:xfrm rot="10800000">
          <a:off x="0" y="0"/>
          <a:ext cx="90000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0" y="0"/>
                    <a:ext cx="900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116000" y="11592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Facilitate manufacturing of some equipments in Af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(like raingauge for farmers in Ma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283E-0786-4610-84A6-838092D2A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609480" y="2705040"/>
            <a:ext cx="78566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THANK YOU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3:57:09Z</dcterms:created>
  <dc:creator>Isac</dc:creator>
  <dc:description/>
  <dc:language>en-US</dc:language>
  <cp:lastModifiedBy>UNFCCC</cp:lastModifiedBy>
  <dcterms:modified xsi:type="dcterms:W3CDTF">2010-06-03T06:25:25Z</dcterms:modified>
  <cp:revision>137</cp:revision>
  <dc:subject/>
  <dc:title>Informations météorologiques, un outil efficace d’appui conseil à la prise de décisions  pour la sécurité alimentaire  au Mal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