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E6A0-4549-470D-A2D0-16946A0593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E522-D6EA-44C9-AE91-D70D2B193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37ED-B5AF-4424-A0E8-67DB98D53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D177-609E-475C-BA06-3FB17CBC5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82B9-D06A-47DF-99DC-C4D2D4856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FD32-DAF2-463F-9539-D5373469F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2CED-DBAE-4AF7-9541-BAB8B320D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2CC3-832F-49F2-BBF8-F0413F3F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FA18-5C8C-4F5A-8036-746C3D02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C0C-2B94-4D7C-8E48-39359B53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72E-C65A-4E14-AD50-EF2D0D41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EEC-3FCA-44C1-8C2C-63666D94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06D-8D31-46DE-9406-8692001E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9E1-0C2C-49CC-8F25-A60D283A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789-6DB6-4C17-A71A-058E8CAD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E1A-2EBB-4074-92DC-5965A91F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9E7-D8E6-480B-94E3-7974219D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BAB-0709-4CED-92D9-7BE13A9C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287-6B86-47EB-88A8-44AA7A84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0180-1D55-4E5E-B467-E51DEA70A7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CE0E-C963-4061-85E5-5AC30D4F2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83B0-263D-449B-A149-46B6237A6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37396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eeds for research and systematic observation in Africa </a:t>
            </a:r>
            <a:br>
              <a:rPr sz="32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nn,3 June 2010</a:t>
            </a: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ama DIARRA, Chief Division Research and Development DNM_M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 rot="10800000">
          <a:off x="0" y="-360"/>
          <a:ext cx="1042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0" y="-360"/>
                    <a:ext cx="1042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981C-CDE7-4B78-AE57-F819B3A47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1-Gaps for research and systematic ob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lect data netwo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insufficiency of data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sufficiency and high cost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study for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tensity and frequency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of extreme events (floods, drought, rainfall etc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asonal forecast outputs are only expressed 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ack of local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  ●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Absence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downscal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Insufficiency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E4DB-BDC4-4AA7-ADE1-7BF120661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8920" y="475920"/>
            <a:ext cx="8534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eds for apply in agricultural climate variability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ing into account weather information and climate change in the technological package of research in order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climate risks on the produ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to increase crops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tion of the agricultur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Crops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onset of the rainy seas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  end of the rainy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 for ploughing, seeding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dry period in order the rainy sea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appearance of crop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143B-1EA7-475B-8B6A-D455C3C10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3-Needs research  and  priority actio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9700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o collect scientific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of experts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acilit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cess a satellite dat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localis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ai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weather foreca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 District level, village leve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to elaborate a week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asonal foreca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ecause the currently outputs are only expressed in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ownscaling metho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improve climate change scenario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t  country level in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th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intensity and frequency of extreme events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(floods, drought, rainfal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3B56-4771-4B46-8F08-9F19BF7BD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Needs research  and  priority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act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24000" y="558720"/>
            <a:ext cx="864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Facilitate exchanges of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Build the capacit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f  the existing regional research centers in Africa ( ex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ACMAD, Agrhymet, DRMC,OSSetc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courage and promote the training of young scient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Strengthen the linkages with existing research organization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ensify the apply of GCOS activiti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support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financ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research on developing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capacity building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stimation of agricultural production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before the end of the saison for 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Implement a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communication strateg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n international, regional and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Taking into account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raditional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3"/>
          <p:cNvSpPr/>
          <p:nvPr/>
        </p:nvSpPr>
        <p:spPr>
          <a:xfrm>
            <a:off x="3059280" y="836640"/>
            <a:ext cx="197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Euro vs 200eu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332000" y="90792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SC00906"/>
          <p:cNvPicPr/>
          <p:nvPr/>
        </p:nvPicPr>
        <p:blipFill>
          <a:blip r:embed="rId1"/>
          <a:stretch/>
        </p:blipFill>
        <p:spPr>
          <a:xfrm>
            <a:off x="1403280" y="1197000"/>
            <a:ext cx="6096240" cy="5111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332000" y="6400800"/>
            <a:ext cx="64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IFIED LOCALLY MANUFACTURED RAI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35120" y="366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7"/>
          <p:cNvGraphicFramePr/>
          <p:nvPr/>
        </p:nvGraphicFramePr>
        <p:xfrm rot="10800000">
          <a:off x="0" y="0"/>
          <a:ext cx="90000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0" y="0"/>
                    <a:ext cx="900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116000" y="11592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Facilitate manufacturing of some equipments in Af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(like raingauge for farmers in Ma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329C-DF32-44F7-B02B-C3B2E0094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609480" y="2705040"/>
            <a:ext cx="78566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THANK YOU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3:57:09Z</dcterms:created>
  <dc:creator>Isac</dc:creator>
  <dc:description/>
  <dc:language>en-US</dc:language>
  <cp:lastModifiedBy>UNFCCC</cp:lastModifiedBy>
  <dcterms:modified xsi:type="dcterms:W3CDTF">2010-06-03T06:25:25Z</dcterms:modified>
  <cp:revision>137</cp:revision>
  <dc:subject/>
  <dc:title>Informations météorologiques, un outil efficace d’appui conseil à la prise de décisions  pour la sécurité alimentaire  au Mal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