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5F4-8823-441B-8787-9E018C3E14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59C2-E01E-4A43-891E-51DCF021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how process is being revised for second half. Bringing in key country-context development issues upfront and avail of knowledge and input from decision 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544-EDEE-408A-A022-659A910B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is being revised for second half. Bringing in key country-context development issues upfront and avail of knowledge and input from decision mak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nd-table discussion on how to increase comm at sci-pol interface, engage decision makers, and education and capacity n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1D8-79CF-4096-B715-99CFD0A5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42F-E019-4D4B-B4F6-0318DE118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99D-AA20-4DA3-ABA7-B4DE53E8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D89-B4FC-411B-8C57-38EEAA9C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BF1-80DA-41A4-8B5B-D7829FD8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7EE-0FF9-4730-BFBE-35687C94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E16-0818-4E59-87AA-36E3B792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12C-A6EA-4186-867B-6A472362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285-814D-4BD5-859E-CACE38B5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D8B-A3AC-4184-B803-CF3E957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2CF-0F5B-4ACF-B775-FDE2433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A0B-E0D6-4A9C-8B44-9CB48E1D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68B-C754-4E7E-A091-040127A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1B9-0CEF-4100-AC45-7A7EA81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455-D4A0-4120-880E-815479A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2572-C704-404D-A604-3576B58C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Science-policy dialogues on climate change</a:t>
            </a:r>
            <a:br>
              <a:rPr sz="4400"/>
            </a:br>
            <a:endParaRPr b="1" i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n Padg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SBSTA Research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2d03"/>
                </a:solidFill>
                <a:latin typeface="Arial"/>
              </a:rPr>
              <a:t>3 June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6180120" y="5715000"/>
            <a:ext cx="27068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awareness and understanding of climate change risks, and adaptation and mitigation respon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perspectives on policy respon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, WMO, UNEP, IPCC, Univ. Ghana, Univ. Dar es Salaam, &amp; Bangladesh Centre for Advanced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762120" y="129528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cience-policy dialog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geria, Ghana, Sen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nzania, Rwanda, Burun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gladesh, Nepal, Bhu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oral-based presentations and discu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and contin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city and knowledge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national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ed inter-sectoral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frameworks and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riority issues</a:t>
            </a:r>
            <a:br>
              <a:rPr sz="4000"/>
            </a:br>
            <a:br>
              <a:rPr sz="4000"/>
            </a:br>
            <a:endParaRPr b="1" i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novative commun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champions, esteemed individuals, pop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ing traditional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ment of private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More dialogu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90720" y="1447920"/>
            <a:ext cx="6858000" cy="0"/>
          </a:xfrm>
          <a:prstGeom prst="line">
            <a:avLst/>
          </a:prstGeom>
          <a:ln w="38160">
            <a:solidFill>
              <a:srgbClr val="ec6e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0:44:32Z</dcterms:created>
  <dc:creator>Fareeha Iqbal</dc:creator>
  <dc:description/>
  <dc:language>en-US</dc:language>
  <cp:lastModifiedBy>Jon Padgham</cp:lastModifiedBy>
  <dcterms:modified xsi:type="dcterms:W3CDTF">2010-06-01T17:15:28Z</dcterms:modified>
  <cp:revision>39</cp:revision>
  <dc:subject/>
  <dc:title>Regional Climate Change Libraries: Issues and Opportunities</dc:title>
</cp:coreProperties>
</file>