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FB98-C5ED-4E0C-81D0-5C76F53C7A0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055A-2C21-470E-9417-79DAAD924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how process is being revised for second half. Bringing in key country-context development issues upfront and avail of knowledge and input from decision 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2C38-6A1E-428F-88E5-C0CF96DB4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is being revised for second half. Bringing in key country-context development issues upfront and avail of knowledge and input from decision ma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nd-table discussion on how to increase comm at sci-pol interface, engage decision makers, and education and capacity n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BC29-91B6-47CB-9B2C-A81341BC8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5396-3FF5-4D78-AE74-0D7CCE377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4828-2109-4E90-8FFD-7F142C96B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CE9-0617-4981-8FB0-C607433E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706-4061-4C12-BDB9-B0D89C66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A6E-705D-4A7E-9A2D-811789BB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D9CA-5D42-4A33-B969-7B74FE6C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9BE1-00B1-4F45-9313-1251EBCD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E94-C86C-4451-A8FE-4BD8DF33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636-2EC8-4F91-8DC2-F57F6D50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C46-0C04-4E90-B953-0C6B6107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69D-349A-4D7C-B359-8F72EC64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13A-76D5-4763-B503-4ADDE3C8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FD7-6869-4340-AF46-5DC0093D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BB30-93BD-4BC2-9038-CA6263BB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B5CD-D064-4C52-A6D6-99C416197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Science-policy dialogues on climate change</a:t>
            </a:r>
            <a:br>
              <a:rPr sz="4400"/>
            </a:b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n Padg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SBSTA Research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3 Jun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143000" y="228600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180120" y="5715000"/>
            <a:ext cx="27068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awareness and understanding of climate change risks, and adaptation and mitigation respon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 perspectives on policy respon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ner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, WMO, UNEP, IPCC, Univ. Ghana, Univ. Dar es Salaam, &amp; Bangladesh Centre for Advanced Stu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762120" y="129528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geria, Ghana, Sen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nzania, Rwanda, Burun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ngladesh, Nepal, Bhu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oral-based presentations and discus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 and contin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city and knowledge g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national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ed inter-sectoral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gal frameworks and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novative communi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champions, esteemed individuals, pop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hing traditional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agement of private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More dialogu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0:44:32Z</dcterms:created>
  <dc:creator>Fareeha Iqbal</dc:creator>
  <dc:description/>
  <dc:language>en-US</dc:language>
  <cp:lastModifiedBy>Jon Padgham</cp:lastModifiedBy>
  <dcterms:modified xsi:type="dcterms:W3CDTF">2010-06-01T17:15:28Z</dcterms:modified>
  <cp:revision>39</cp:revision>
  <dc:subject/>
  <dc:title>Regional Climate Change Libraries: Issues and Opportunities</dc:title>
</cp:coreProperties>
</file>