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22E6-CC9E-49A4-B443-4F5B27F116D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6ED7-EF49-442A-A05C-B4DFDA7E8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how process is being revised for second half. Bringing in key country-context development issues upfront and avail of knowledge and input from decision 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C535-F372-403A-A474-C4284C4CE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is being revised for second half. Bringing in key country-context development issues upfront and avail of knowledge and input from decision mak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nd-table discussion on how to increase comm at sci-pol interface, engage decision makers, and education and capacity nee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C849-614A-4EED-988A-D232418E5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A2BD-F00B-47B7-A732-E6E47BAF2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DB09-C8B9-4B15-B854-A9F7A5CF2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23A6-C68A-4123-B658-4C44B6FF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C0F2-D8D4-4003-B025-1CB573EF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58A7-D9DD-45F1-B28B-5453315A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4B38-6D6E-4CCE-929D-A1B0BD7F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B052-9E5C-4B96-A95F-695116D5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8B27-FF91-4947-B558-E9787977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E088-B252-4629-9467-2575E125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3496-3F35-4966-8E36-535DAC6F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D89D-48F3-4E04-B5D7-E8464512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A1F3-2A90-4525-89CF-2025EBA6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AA7B-A620-4256-B9C0-AD35C1A6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7346-E069-4320-B31D-543D2AF3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414D-349C-416D-BB5C-5740F356A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Science-policy dialogues on climate change</a:t>
            </a:r>
            <a:br>
              <a:rPr sz="4400"/>
            </a:b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n Padg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SBSTA Research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3 June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143000" y="228600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6180120" y="5715000"/>
            <a:ext cx="27068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 awareness and understanding of climate change risks, and adaptation and mitigation respon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re perspectives on policy respons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tnershi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, WMO, UNEP, IPCC, Univ. Ghana, Univ. Dar es Salaam, &amp; Bangladesh Centre for Advanced Stud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762120" y="129528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geria, Ghana, Sene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nzania, Rwanda, Burund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ngladesh, Nepal, Bhut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oral-based presentations and discus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al and continu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pacity and knowledge ga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national scien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ated inter-sectoral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gal frameworks and gover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a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novative communic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champions, esteemed individuals, pop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ching traditional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agement of private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More dialogu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10:44:32Z</dcterms:created>
  <dc:creator>Fareeha Iqbal</dc:creator>
  <dc:description/>
  <dc:language>en-US</dc:language>
  <cp:lastModifiedBy>Jon Padgham</cp:lastModifiedBy>
  <dcterms:modified xsi:type="dcterms:W3CDTF">2010-06-01T17:15:28Z</dcterms:modified>
  <cp:revision>39</cp:revision>
  <dc:subject/>
  <dc:title>Regional Climate Change Libraries: Issues and Opportunities</dc:title>
</cp:coreProperties>
</file>