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6517-9936-4D46-9F10-8D43F05DD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organize to facilitate cross-cutting research focused on understnading the interactions among  climate, human, and environmental systems and on supporting societal resposnes to climate ch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-including physical, biological, and social observ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– to improve attibution and prediction of high-impact regional weather and climate, to initialize seasonal to decadal cliamte forecasting, and to provide predictions of impact affecting adaptive capacities and vulnerabilities of environmental and human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E04-1A00-4235-9708-BABB9EFC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CEC9-BE87-448D-BE99-2566F500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CD28-B662-4349-B393-DC1C3716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5E35-4AC0-4F44-B34B-3ABC4B63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F312-2D66-4284-8BC4-20FCE4CE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32BF-D5F0-4FD7-ABB3-02A19BC5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A0D2-1026-4DFE-B983-D58C544F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4C1E-646D-4835-825D-6C0BF325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39A9-93DD-43A2-8AF4-097A80EC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1ECD-8C8D-4E8B-885D-30DD2BB3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0E8A-73E0-4AAD-8119-C5F744E0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E2BB-43F0-403D-8DFD-829082B1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F595-B6F1-4281-9388-9D6C187F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AC33-22F7-4FD1-A232-EED908AD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6CCA-A7BA-4C85-A7D3-CA122AFC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D2AD-E200-49D0-8815-67794539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67DC-3E89-4DB7-9CDE-93F60E17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CA8F7-BD9C-4964-AEAB-F42EAF83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567A-4934-4A99-B6E9-6FC2C35F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4D241-BFE8-4096-ACFB-1F9DB167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8A107-EEE1-479C-92AB-9E27D5EB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6C220-1BF7-4C75-9A4A-371AEB9B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5D3A-6055-45FB-A633-DD08F8F7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03F8A-3CF4-415D-9C8F-DE3542A7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AB194-0145-4A75-A400-F3F72C5F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41E0D-C379-46C3-AA2B-3E6F08A1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D449E-2014-4DA6-A9F7-DE635D4F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C5DA-05BF-4032-B7CB-03D6CB60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3D2CE-A7CA-435C-8A6B-C7B7444F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7D555-156C-4A95-88DB-8408F826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9EE09-1314-4281-B69B-1FED6EE0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F06BB-3FD8-4B59-81B9-6E00FD57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541B6-AE94-46E0-BE56-9DD3686D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C1C3-55FA-4C17-A972-95CF56D4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E4993-E30A-4865-9F78-68F04777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C2283-6B04-4D18-B04B-D0A6E067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5AA21-2126-4358-B282-FE978B49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D8C30-3621-4269-86DC-E363D11D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9365F-FF1D-43D5-8DE3-EE9919C5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3266A-E47C-4173-8F68-474CD386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173A5-D8E4-4FBC-A6E6-56201191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906C8-B20F-467F-BECB-CDFD70A7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0DC8C-2343-4845-BD88-C22E1786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AEE8-ABCF-4FB3-AFBD-C55511A3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D09-C617-4DC7-849E-6425DF39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607D-1F28-41A3-971D-8AE848E9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714-C535-4147-8783-C0A450D9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0DBC-30CE-44A9-A9A2-A6A8129E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26" descr=""/>
          <p:cNvPicPr/>
          <p:nvPr/>
        </p:nvPicPr>
        <p:blipFill>
          <a:blip r:embed="rId2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3"/>
          <p:cNvGrpSpPr/>
          <p:nvPr/>
        </p:nvGrpSpPr>
        <p:grpSpPr>
          <a:xfrm>
            <a:off x="6095880" y="6095880"/>
            <a:ext cx="2971800" cy="685800"/>
            <a:chOff x="6095880" y="6095880"/>
            <a:chExt cx="2971800" cy="685800"/>
          </a:xfrm>
        </p:grpSpPr>
        <p:pic>
          <p:nvPicPr>
            <p:cNvPr id="2" name="Picture 24" descr="light-logo-transparent-background.png"/>
            <p:cNvPicPr/>
            <p:nvPr/>
          </p:nvPicPr>
          <p:blipFill>
            <a:blip r:embed="rId3"/>
            <a:stretch/>
          </p:blipFill>
          <p:spPr>
            <a:xfrm>
              <a:off x="609588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NSTC.png"/>
            <p:cNvPicPr/>
            <p:nvPr/>
          </p:nvPicPr>
          <p:blipFill>
            <a:blip r:embed="rId4"/>
            <a:stretch/>
          </p:blipFill>
          <p:spPr>
            <a:xfrm>
              <a:off x="838368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Picture 17" descr="earthteshelft.png"/>
          <p:cNvPicPr/>
          <p:nvPr/>
        </p:nvPicPr>
        <p:blipFill>
          <a:blip r:embed="rId5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5383-EB2E-457D-BA68-E247C77956C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DB0A-D2EF-49B8-8E57-00936BE8FD5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F7AA-0B7D-4B29-BBA0-1FAE433BFC9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6472-87C9-452B-BF43-582CB23D965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6" descr="earthteshelft.png"/>
          <p:cNvPicPr/>
          <p:nvPr/>
        </p:nvPicPr>
        <p:blipFill>
          <a:blip r:embed="rId1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29"/>
          <p:cNvGrpSpPr/>
          <p:nvPr/>
        </p:nvGrpSpPr>
        <p:grpSpPr>
          <a:xfrm>
            <a:off x="6019920" y="6095880"/>
            <a:ext cx="2971800" cy="685800"/>
            <a:chOff x="6019920" y="6095880"/>
            <a:chExt cx="2971800" cy="685800"/>
          </a:xfrm>
        </p:grpSpPr>
        <p:pic>
          <p:nvPicPr>
            <p:cNvPr id="188" name="Picture 19" descr="light-logo-transparent-background.png"/>
            <p:cNvPicPr/>
            <p:nvPr/>
          </p:nvPicPr>
          <p:blipFill>
            <a:blip r:embed="rId2"/>
            <a:stretch/>
          </p:blipFill>
          <p:spPr>
            <a:xfrm>
              <a:off x="601992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4" descr="NSTC.png"/>
            <p:cNvPicPr/>
            <p:nvPr/>
          </p:nvPicPr>
          <p:blipFill>
            <a:blip r:embed="rId3"/>
            <a:stretch/>
          </p:blipFill>
          <p:spPr>
            <a:xfrm>
              <a:off x="830772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Rectangle 30" descr=""/>
          <p:cNvPicPr/>
          <p:nvPr/>
        </p:nvPicPr>
        <p:blipFill>
          <a:blip r:embed="rId4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720" y="2130120"/>
            <a:ext cx="632448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BSTA Research Dialogue: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Perspectives from the United State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une 2010, Bon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560" y="13712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1000"/>
          </a:bodyPr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Science is central to the climate challenge, both for understanding and for respon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Climate science is changing.  The new vision and mission for integrated global change research needs to focus on the challenges of sustainability in a global contex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1760" y="761760"/>
            <a:ext cx="8340480" cy="4608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72000"/>
          </a:bodyPr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buClr>
                <a:srgbClr val="ea157a"/>
              </a:buClr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We need to do a better job of using what we know, and deploy science in support of adaptation and  mitigati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Adaptation Strateg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Climate Observing Systems and Serv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Climate Assess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Adaptation Research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760" y="125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The USGCRP Mandat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9680" y="1071720"/>
            <a:ext cx="8340840" cy="49291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2000"/>
          </a:bodyPr>
          <a:p>
            <a:pPr lvl="1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825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understand, assess, predict . . .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raditional USGCRP strengths: physical science basis for climate chang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ational Climate Assessment proce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42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 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. . . and respond . . . to global change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aptation research and analysi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itigation – technology and analy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cience for decision support (climate servi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utreach, education, and engag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-1108440"/>
            <a:ext cx="8340480" cy="2822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en-US" sz="2800" spc="-1" strike="noStrike">
                <a:solidFill>
                  <a:srgbClr val="0070c0"/>
                </a:solidFill>
                <a:latin typeface="Consolas"/>
              </a:rPr>
              <a:t>Scientific basis for understanding climate change and developing informed responses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8040" y="1714680"/>
            <a:ext cx="8339040" cy="52243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organize around scientific-societal issue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stablish a climate observing syste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velop next generation coupled Earth  system mode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rengthen research on adaptation, mitigation, and vulnerabilit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itiate national assessment process with   broad stakeholder particip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ordinate climate services to decision mak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Line 1"/>
          <p:cNvSpPr/>
          <p:nvPr/>
        </p:nvSpPr>
        <p:spPr>
          <a:xfrm>
            <a:off x="455760" y="139212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760" y="71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A vision of the future: Three coordinated element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3446640" y="2036880"/>
            <a:ext cx="1920600" cy="1928520"/>
            <a:chOff x="3446640" y="2036880"/>
            <a:chExt cx="1920600" cy="1928520"/>
          </a:xfrm>
        </p:grpSpPr>
        <p:pic>
          <p:nvPicPr>
            <p:cNvPr id="208" name="Picture 6" descr=""/>
            <p:cNvPicPr/>
            <p:nvPr/>
          </p:nvPicPr>
          <p:blipFill>
            <a:blip r:embed="rId1"/>
            <a:stretch/>
          </p:blipFill>
          <p:spPr>
            <a:xfrm>
              <a:off x="3446640" y="2036880"/>
              <a:ext cx="192060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7"/>
            <p:cNvSpPr/>
            <p:nvPr/>
          </p:nvSpPr>
          <p:spPr>
            <a:xfrm>
              <a:off x="3610440" y="2760120"/>
              <a:ext cx="15980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Mitigation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0" name="Group 8"/>
          <p:cNvGrpSpPr/>
          <p:nvPr/>
        </p:nvGrpSpPr>
        <p:grpSpPr>
          <a:xfrm>
            <a:off x="4197240" y="3160800"/>
            <a:ext cx="1919520" cy="1965240"/>
            <a:chOff x="4197240" y="3160800"/>
            <a:chExt cx="1919520" cy="1965240"/>
          </a:xfrm>
        </p:grpSpPr>
        <p:pic>
          <p:nvPicPr>
            <p:cNvPr id="211" name="Picture 9" descr=""/>
            <p:cNvPicPr/>
            <p:nvPr/>
          </p:nvPicPr>
          <p:blipFill>
            <a:blip r:embed="rId2"/>
            <a:stretch/>
          </p:blipFill>
          <p:spPr>
            <a:xfrm>
              <a:off x="4197240" y="3160800"/>
              <a:ext cx="19195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10"/>
            <p:cNvSpPr/>
            <p:nvPr/>
          </p:nvSpPr>
          <p:spPr>
            <a:xfrm>
              <a:off x="4478400" y="390672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Science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2643120" y="3160800"/>
            <a:ext cx="1982880" cy="1982880"/>
            <a:chOff x="2643120" y="3160800"/>
            <a:chExt cx="1982880" cy="1982880"/>
          </a:xfrm>
        </p:grpSpPr>
        <p:pic>
          <p:nvPicPr>
            <p:cNvPr id="214" name="Picture 12" descr=""/>
            <p:cNvPicPr/>
            <p:nvPr/>
          </p:nvPicPr>
          <p:blipFill>
            <a:blip r:embed="rId3"/>
            <a:stretch/>
          </p:blipFill>
          <p:spPr>
            <a:xfrm>
              <a:off x="2643120" y="3160800"/>
              <a:ext cx="198288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3"/>
            <p:cNvSpPr/>
            <p:nvPr/>
          </p:nvSpPr>
          <p:spPr>
            <a:xfrm>
              <a:off x="2844000" y="391068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Adaptation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29240" y="5194440"/>
            <a:ext cx="48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xible, comprehensive, integrated and cross-cutting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ehensive climate observing syste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models and tool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anded capacit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"/>
          <p:cNvSpPr/>
          <p:nvPr/>
        </p:nvSpPr>
        <p:spPr>
          <a:xfrm>
            <a:off x="5880240" y="1368360"/>
            <a:ext cx="326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  energy demand; improve efficiency; expand use of low and zero carbon sources; carbon capture and sequestration; accelerate retirement of carbon intensive infrastructure; create new technology choic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/>
          <p:nvPr/>
        </p:nvSpPr>
        <p:spPr>
          <a:xfrm>
            <a:off x="136440" y="528624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llaborative national strategy and program, in partnership with state, local and non-governmental partner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4"/>
          <p:cNvSpPr/>
          <p:nvPr/>
        </p:nvSpPr>
        <p:spPr>
          <a:xfrm>
            <a:off x="660240" y="0"/>
            <a:ext cx="48769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Helvetica Neue Light"/>
                <a:ea typeface="ヒラギノ角ゴ ProN W3"/>
              </a:rPr>
              <a:t>Hot off the Press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351000"/>
            <a:ext cx="8609040" cy="656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00:21Z</dcterms:created>
  <dc:creator>Fabien Laurier</dc:creator>
  <dc:description/>
  <dc:language>en-US</dc:language>
  <cp:lastModifiedBy>UNFCCC</cp:lastModifiedBy>
  <dcterms:modified xsi:type="dcterms:W3CDTF">2010-06-04T09:30:33Z</dcterms:modified>
  <cp:revision>60</cp:revision>
  <dc:subject/>
  <dc:title>Slide 1</dc:title>
</cp:coreProperties>
</file>