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595C-01AD-41D4-96E1-06082D5C33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organize to facilitate cross-cutting research focused on understnading the interactions among  climate, human, and environmental systems and on supporting societal resposnes to climate chan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-including physical, biological, and social observa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– to improve attibution and prediction of high-impact regional weather and climate, to initialize seasonal to decadal cliamte forecasting, and to provide predictions of impact affecting adaptive capacities and vulnerabilities of environmental and human syst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00C2-A36A-41FE-A276-3FF20FDA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D20B-85C8-488C-B4C0-7E1DFC0C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D656-2FBB-4CF6-9CA4-C0E81572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5E11-D483-4316-94A9-0EB8F280E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0A5C-F516-4E4F-A027-EBD37FEA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5A76-345D-497E-862D-70669509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B2E4-4964-47C5-871F-BD358F36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6303-9C22-4E3E-887A-7CC20898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89B5-370C-4F68-99C2-3FC47A4A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4643-9BE7-404D-9DFD-AE02F524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8A81-6E94-462B-AF25-2AC40529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5F79-FB5C-4CB2-AEE7-91A0FE5A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4E9F-A464-4510-8B90-AAF64D86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5134-EB78-4320-99A0-1F0033C2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7228-8B12-48B9-B4D5-EB76703E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147B-E981-43FA-A38B-7A86D4F9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2ADE-9C84-4CD7-82BD-0EE40A192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B8CDD-0137-4F24-862C-CBD4D1B81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97DBB-FACD-4AEE-B0BC-3A407B1F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43FBE-E051-4423-B1FC-EB638864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A70C5-2A43-4E8D-9A27-B243B39E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85E8F-A8FF-4604-8E73-7EA01B12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2394-BA4F-4643-9EA1-CC30DD36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56CF7-033F-424A-A903-D23CEC85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5712A-67AB-45B2-B7A4-518D18A5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44E7D-FF64-4B3D-AB8B-013612CF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CF944-5906-4CCA-A20D-430D3B55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12D26-8955-4B44-B99C-D2B46B37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6148A-3C0A-43E4-B542-95041AD5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78AFA-ED20-4A87-9447-B1EE63961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9087A-5C45-4918-868E-7B166BA5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32C65-B9E4-4757-9E25-60DAB048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9A98D-F0FC-4430-9011-65B15408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BB9D-BB78-4953-8A71-DA4F7547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4AAFE-7CAB-489B-AD3F-C341D19F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25B85-B48A-48A5-826D-CFC2DC84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5DC1C-1ACA-4A99-B372-F002E24F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43E56-1639-4875-B80C-E305AB17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8F83A-A862-49F7-BF15-F85C82D4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D01EC-D9CD-4AD1-892F-AF922D33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B9899-FDA0-48EA-BE3A-5980BF5B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57D50-5430-487D-BDB6-AE7CEE05B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FABE0-71B7-4E23-8ACD-48ABA4E19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95C3-9712-4208-83B6-3F79FA82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826A-8EEC-44FF-AF0F-DFB5910B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26B4-16EC-46F4-BD85-4DCB9241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22DC-BFB6-40A7-9B07-1FB9EDC2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3466-DA9C-4E60-A75A-FC69B9A3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ectangle 26" descr=""/>
          <p:cNvPicPr/>
          <p:nvPr/>
        </p:nvPicPr>
        <p:blipFill>
          <a:blip r:embed="rId2"/>
          <a:stretch/>
        </p:blipFill>
        <p:spPr>
          <a:xfrm>
            <a:off x="-122400" y="6394320"/>
            <a:ext cx="3213360" cy="73188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23"/>
          <p:cNvGrpSpPr/>
          <p:nvPr/>
        </p:nvGrpSpPr>
        <p:grpSpPr>
          <a:xfrm>
            <a:off x="6095880" y="6095880"/>
            <a:ext cx="2971800" cy="685800"/>
            <a:chOff x="6095880" y="6095880"/>
            <a:chExt cx="2971800" cy="685800"/>
          </a:xfrm>
        </p:grpSpPr>
        <p:pic>
          <p:nvPicPr>
            <p:cNvPr id="2" name="Picture 24" descr="light-logo-transparent-background.png"/>
            <p:cNvPicPr/>
            <p:nvPr/>
          </p:nvPicPr>
          <p:blipFill>
            <a:blip r:embed="rId3"/>
            <a:stretch/>
          </p:blipFill>
          <p:spPr>
            <a:xfrm>
              <a:off x="6095880" y="6170400"/>
              <a:ext cx="228600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25" descr="NSTC.png"/>
            <p:cNvPicPr/>
            <p:nvPr/>
          </p:nvPicPr>
          <p:blipFill>
            <a:blip r:embed="rId4"/>
            <a:stretch/>
          </p:blipFill>
          <p:spPr>
            <a:xfrm>
              <a:off x="8383680" y="6095880"/>
              <a:ext cx="684000" cy="6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" name="Picture 17" descr="earthteshelft.png"/>
          <p:cNvPicPr/>
          <p:nvPr/>
        </p:nvPicPr>
        <p:blipFill>
          <a:blip r:embed="rId5"/>
          <a:stretch/>
        </p:blipFill>
        <p:spPr>
          <a:xfrm>
            <a:off x="-19080" y="-6480"/>
            <a:ext cx="2171880" cy="8461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0DDC-E6EB-4726-AB00-044F4A04742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65FF-B636-4128-96A8-B0C909E05C4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4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Rectangle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Rectangle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Rectangle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Rectangle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Rectangle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7079-00CB-43A9-87F1-A0C80721998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912E-BDCB-4976-B9FA-E700F4059CC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6" descr="earthteshelft.png"/>
          <p:cNvPicPr/>
          <p:nvPr/>
        </p:nvPicPr>
        <p:blipFill>
          <a:blip r:embed="rId1"/>
          <a:stretch/>
        </p:blipFill>
        <p:spPr>
          <a:xfrm>
            <a:off x="-19080" y="-6480"/>
            <a:ext cx="2171880" cy="846144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29"/>
          <p:cNvGrpSpPr/>
          <p:nvPr/>
        </p:nvGrpSpPr>
        <p:grpSpPr>
          <a:xfrm>
            <a:off x="6019920" y="6095880"/>
            <a:ext cx="2971800" cy="685800"/>
            <a:chOff x="6019920" y="6095880"/>
            <a:chExt cx="2971800" cy="685800"/>
          </a:xfrm>
        </p:grpSpPr>
        <p:pic>
          <p:nvPicPr>
            <p:cNvPr id="188" name="Picture 19" descr="light-logo-transparent-background.png"/>
            <p:cNvPicPr/>
            <p:nvPr/>
          </p:nvPicPr>
          <p:blipFill>
            <a:blip r:embed="rId2"/>
            <a:stretch/>
          </p:blipFill>
          <p:spPr>
            <a:xfrm>
              <a:off x="6019920" y="6170400"/>
              <a:ext cx="228600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24" descr="NSTC.png"/>
            <p:cNvPicPr/>
            <p:nvPr/>
          </p:nvPicPr>
          <p:blipFill>
            <a:blip r:embed="rId3"/>
            <a:stretch/>
          </p:blipFill>
          <p:spPr>
            <a:xfrm>
              <a:off x="8307720" y="6095880"/>
              <a:ext cx="684000" cy="6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0" name="Rectangle 30" descr=""/>
          <p:cNvPicPr/>
          <p:nvPr/>
        </p:nvPicPr>
        <p:blipFill>
          <a:blip r:embed="rId4"/>
          <a:stretch/>
        </p:blipFill>
        <p:spPr>
          <a:xfrm>
            <a:off x="-122400" y="6394320"/>
            <a:ext cx="3213360" cy="7318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33720" y="2130120"/>
            <a:ext cx="632448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SBSTA Research Dialogue:</a:t>
            </a:r>
            <a:br>
              <a:rPr sz="3200"/>
            </a:b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Perspectives from the United State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June 2010, Bon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1760" y="-108000"/>
            <a:ext cx="8340480" cy="1216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Key messages 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560" y="13712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91000"/>
          </a:bodyPr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Science is central to the climate challenge, both for understanding and for respons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Climate science is changing.  The new vision and mission for integrated global change research needs to focus on the challenges of sustainability in a global contex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Line 1"/>
          <p:cNvSpPr/>
          <p:nvPr/>
        </p:nvSpPr>
        <p:spPr>
          <a:xfrm>
            <a:off x="455760" y="1123920"/>
            <a:ext cx="8232480" cy="14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1760" y="-108000"/>
            <a:ext cx="8340480" cy="1216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Key messages 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01760" y="761760"/>
            <a:ext cx="8340480" cy="46083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72000"/>
          </a:bodyPr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buClr>
                <a:srgbClr val="ea157a"/>
              </a:buClr>
              <a:buFont typeface="Corbe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We need to do a better job of using what we know, and deploy science in support of adaptation and  mitigation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National Adaptation Strateg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Climate Observing Systems and Servic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National Climate Assessmen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Adaptation Research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Line 1"/>
          <p:cNvSpPr/>
          <p:nvPr/>
        </p:nvSpPr>
        <p:spPr>
          <a:xfrm>
            <a:off x="455760" y="1123920"/>
            <a:ext cx="8232480" cy="14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"/>
          <p:cNvSpPr/>
          <p:nvPr/>
        </p:nvSpPr>
        <p:spPr>
          <a:xfrm>
            <a:off x="455760" y="138420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1760" y="125280"/>
            <a:ext cx="8340480" cy="1214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The USGCRP Mandate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99680" y="1071720"/>
            <a:ext cx="8340840" cy="49291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92000"/>
          </a:bodyPr>
          <a:p>
            <a:pPr lvl="1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>
              <a:lnSpc>
                <a:spcPct val="80000"/>
              </a:lnSpc>
              <a:spcBef>
                <a:spcPts val="825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understand, assess, predict . . .”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1199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raditional USGCRP strengths: physical science basis for climate chang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1199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ational Climate Assessment proces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>
              <a:lnSpc>
                <a:spcPct val="80000"/>
              </a:lnSpc>
              <a:spcBef>
                <a:spcPts val="42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 “</a:t>
            </a: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. . . and respond . . . to global change”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aptation research and analysi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itigation – technology and analysi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cience for decision support (climate service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utreach, education, and engagemen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1760" y="-1108440"/>
            <a:ext cx="8340480" cy="28227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r>
              <a:rPr b="1" lang="en-US" sz="2800" spc="-1" strike="noStrike">
                <a:solidFill>
                  <a:srgbClr val="0070c0"/>
                </a:solidFill>
                <a:latin typeface="Consolas"/>
              </a:rPr>
              <a:t>Scientific basis for understanding climate change and developing informed responses</a:t>
            </a:r>
            <a:br>
              <a:rPr sz="2800"/>
            </a:b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8040" y="1714680"/>
            <a:ext cx="8339040" cy="52243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organize around scientific-societal issue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stablish a climate observing syste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evelop next generation coupled Earth  system model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rengthen research on adaptation, mitigation, and vulnerabilit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itiate national assessment process with   broad stakeholder participa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ordinate climate services to decision maker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Line 1"/>
          <p:cNvSpPr/>
          <p:nvPr/>
        </p:nvSpPr>
        <p:spPr>
          <a:xfrm>
            <a:off x="455760" y="139212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1"/>
          <p:cNvSpPr/>
          <p:nvPr/>
        </p:nvSpPr>
        <p:spPr>
          <a:xfrm>
            <a:off x="455760" y="138420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1760" y="71280"/>
            <a:ext cx="8340480" cy="1214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A vision of the future: Three coordinated element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grpSp>
        <p:nvGrpSpPr>
          <p:cNvPr id="207" name="Group 5"/>
          <p:cNvGrpSpPr/>
          <p:nvPr/>
        </p:nvGrpSpPr>
        <p:grpSpPr>
          <a:xfrm>
            <a:off x="3446640" y="2036880"/>
            <a:ext cx="1920600" cy="1928520"/>
            <a:chOff x="3446640" y="2036880"/>
            <a:chExt cx="1920600" cy="1928520"/>
          </a:xfrm>
        </p:grpSpPr>
        <p:pic>
          <p:nvPicPr>
            <p:cNvPr id="208" name="Picture 6" descr=""/>
            <p:cNvPicPr/>
            <p:nvPr/>
          </p:nvPicPr>
          <p:blipFill>
            <a:blip r:embed="rId1"/>
            <a:stretch/>
          </p:blipFill>
          <p:spPr>
            <a:xfrm>
              <a:off x="3446640" y="2036880"/>
              <a:ext cx="1920600" cy="19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7"/>
            <p:cNvSpPr/>
            <p:nvPr/>
          </p:nvSpPr>
          <p:spPr>
            <a:xfrm>
              <a:off x="3610440" y="2760120"/>
              <a:ext cx="159804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Mitigation 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210" name="Group 8"/>
          <p:cNvGrpSpPr/>
          <p:nvPr/>
        </p:nvGrpSpPr>
        <p:grpSpPr>
          <a:xfrm>
            <a:off x="4197240" y="3160800"/>
            <a:ext cx="1919520" cy="1965240"/>
            <a:chOff x="4197240" y="3160800"/>
            <a:chExt cx="1919520" cy="1965240"/>
          </a:xfrm>
        </p:grpSpPr>
        <p:pic>
          <p:nvPicPr>
            <p:cNvPr id="211" name="Picture 9" descr=""/>
            <p:cNvPicPr/>
            <p:nvPr/>
          </p:nvPicPr>
          <p:blipFill>
            <a:blip r:embed="rId2"/>
            <a:stretch/>
          </p:blipFill>
          <p:spPr>
            <a:xfrm>
              <a:off x="4197240" y="3160800"/>
              <a:ext cx="1919520" cy="19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10"/>
            <p:cNvSpPr/>
            <p:nvPr/>
          </p:nvSpPr>
          <p:spPr>
            <a:xfrm>
              <a:off x="4478400" y="3906720"/>
              <a:ext cx="15984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Science 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213" name="Group 11"/>
          <p:cNvGrpSpPr/>
          <p:nvPr/>
        </p:nvGrpSpPr>
        <p:grpSpPr>
          <a:xfrm>
            <a:off x="2643120" y="3160800"/>
            <a:ext cx="1982880" cy="1982880"/>
            <a:chOff x="2643120" y="3160800"/>
            <a:chExt cx="1982880" cy="1982880"/>
          </a:xfrm>
        </p:grpSpPr>
        <p:pic>
          <p:nvPicPr>
            <p:cNvPr id="214" name="Picture 12" descr=""/>
            <p:cNvPicPr/>
            <p:nvPr/>
          </p:nvPicPr>
          <p:blipFill>
            <a:blip r:embed="rId3"/>
            <a:stretch/>
          </p:blipFill>
          <p:spPr>
            <a:xfrm>
              <a:off x="2643120" y="3160800"/>
              <a:ext cx="1982880" cy="19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Rectangle 13"/>
            <p:cNvSpPr/>
            <p:nvPr/>
          </p:nvSpPr>
          <p:spPr>
            <a:xfrm>
              <a:off x="2844000" y="3910680"/>
              <a:ext cx="15984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Adaptation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629240" y="5194440"/>
            <a:ext cx="481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exible, comprehensive, integrated and cross-cutting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ehensive climate observing syste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vanced models and tool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anded capacity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"/>
          <p:cNvSpPr/>
          <p:nvPr/>
        </p:nvSpPr>
        <p:spPr>
          <a:xfrm>
            <a:off x="5880240" y="1368360"/>
            <a:ext cx="326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uce  energy demand; improve efficiency; expand use of low and zero carbon sources; carbon capture and sequestration; accelerate retirement of carbon intensive infrastructure; create new technology choice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"/>
          <p:cNvSpPr/>
          <p:nvPr/>
        </p:nvSpPr>
        <p:spPr>
          <a:xfrm>
            <a:off x="136440" y="528624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ollaborative national strategy and program, in partnership with state, local and non-governmental partner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4"/>
          <p:cNvSpPr/>
          <p:nvPr/>
        </p:nvSpPr>
        <p:spPr>
          <a:xfrm>
            <a:off x="660240" y="0"/>
            <a:ext cx="48769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Helvetica Neue Light"/>
                <a:ea typeface="ヒラギノ角ゴ ProN W3"/>
              </a:rPr>
              <a:t>Hot off the Press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80880" y="351000"/>
            <a:ext cx="8609040" cy="6564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4:00:21Z</dcterms:created>
  <dc:creator>Fabien Laurier</dc:creator>
  <dc:description/>
  <dc:language>en-US</dc:language>
  <cp:lastModifiedBy>UNFCCC</cp:lastModifiedBy>
  <dcterms:modified xsi:type="dcterms:W3CDTF">2010-06-04T09:30:33Z</dcterms:modified>
  <cp:revision>60</cp:revision>
  <dc:subject/>
  <dc:title>Slide 1</dc:title>
</cp:coreProperties>
</file>