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BC56-8551-41CB-9953-94E42123E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organize to facilitate cross-cutting research focused on understnading the interactions among  climate, human, and environmental systems and on supporting societal resposnes to climate chan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-including physical, biological, and social observa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– to improve attibution and prediction of high-impact regional weather and climate, to initialize seasonal to decadal cliamte forecasting, and to provide predictions of impact affecting adaptive capacities and vulnerabilities of environmental and human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2470-DE36-4921-9157-687E155A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C59D-DC49-48F4-AB07-D6F21DD1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D57F-EEB7-456B-98F7-09970F93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4EAD-74BA-4409-9119-00C526D1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7AEF-2E8C-420E-A356-463457DD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ACEE-B06A-4733-B70C-0FF8EC68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A96B-F1FE-4276-A529-5385EF8B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2C1C-9789-42E3-A89A-537D893B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8B9D-64FE-4893-8C5F-4B29BEED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C920-225E-4055-B840-5028A57E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7FE2-B4BD-45CE-B90B-27FB477B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A1EB-D881-43C5-924B-337D77D3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EDBC-A5F6-416A-832A-C0C7F7C1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2904-B784-419A-A376-91DCD2F3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3044-1CFD-4465-99D9-AB290BE5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6717-CD5C-4DDB-8169-170E2185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18BF-059B-4A9F-9CA2-08E0BFCB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DFFF9-D1FD-4D42-87B4-1A088E1B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344F4-F29D-466E-8C3F-515B462F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3F975-5549-40F2-81B9-C5463787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C3F0B-FFAC-430D-BE2C-7611B644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46D59-80F9-4233-B917-F47F0C45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23DC-6F2D-4370-AB46-2677FCA3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7B40C-CA4E-40BF-A3B1-0F2463EC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E1581-DF36-47D1-AD80-554622A0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7D9DA-5702-4B96-8446-E81F9F4E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E3394-FB45-4EFC-A56C-CD664B6E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0722C-4B7C-405F-BAA7-C00A8CE9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51B83-8304-41D7-A249-D53F746F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4005F-202C-4ACA-B67E-9AE313B1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A262B-0EDC-4826-A956-FF2CE65C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645A0-8016-4EA6-AE07-6B5DC19A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0D39E-A313-4F5F-8C9E-FE468EAB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FC2-417C-4FEF-84B5-F98A1AB7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7AAB1-8A8B-44DF-8203-16C5709E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0E9BD-64D6-4F50-B5C0-6B1A7A38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A3ED1-DC99-4D1F-A5D3-2DB1FFE9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EAF5E-514A-4DAE-BF87-9F989E74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BD7B1-0523-46B0-B5D6-F9C821D2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3B5F2-E3F0-4CDB-BAD7-BC5383DF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66D0E-DE15-4C5A-9E80-ED192618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84282-716B-4C56-9E85-47A1A65C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90D05-6DBC-476C-9BE1-A38634BF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953-DDAF-40AE-AB38-DA4109DD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DCCA-D80A-4C9A-8895-95016D6D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4E0E-6E2A-4BDF-B1FF-8469543E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481B-22C1-426B-9DF8-198F08F7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AABF-2327-4041-8032-A0DC41A2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26" descr=""/>
          <p:cNvPicPr/>
          <p:nvPr/>
        </p:nvPicPr>
        <p:blipFill>
          <a:blip r:embed="rId2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3"/>
          <p:cNvGrpSpPr/>
          <p:nvPr/>
        </p:nvGrpSpPr>
        <p:grpSpPr>
          <a:xfrm>
            <a:off x="6095880" y="6095880"/>
            <a:ext cx="2971800" cy="685800"/>
            <a:chOff x="6095880" y="6095880"/>
            <a:chExt cx="2971800" cy="685800"/>
          </a:xfrm>
        </p:grpSpPr>
        <p:pic>
          <p:nvPicPr>
            <p:cNvPr id="2" name="Picture 24" descr="light-logo-transparent-background.png"/>
            <p:cNvPicPr/>
            <p:nvPr/>
          </p:nvPicPr>
          <p:blipFill>
            <a:blip r:embed="rId3"/>
            <a:stretch/>
          </p:blipFill>
          <p:spPr>
            <a:xfrm>
              <a:off x="609588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5" descr="NSTC.png"/>
            <p:cNvPicPr/>
            <p:nvPr/>
          </p:nvPicPr>
          <p:blipFill>
            <a:blip r:embed="rId4"/>
            <a:stretch/>
          </p:blipFill>
          <p:spPr>
            <a:xfrm>
              <a:off x="838368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Picture 17" descr="earthteshelft.png"/>
          <p:cNvPicPr/>
          <p:nvPr/>
        </p:nvPicPr>
        <p:blipFill>
          <a:blip r:embed="rId5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5A03-C346-4B39-A3D4-A6EDE411CF9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0CFE-8526-49E7-8F67-9D35900C0FF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2101-D00A-4D4C-B589-9F1C79DC657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3E88-538F-4D77-B9C7-3D995AFAD76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6" descr="earthteshelft.png"/>
          <p:cNvPicPr/>
          <p:nvPr/>
        </p:nvPicPr>
        <p:blipFill>
          <a:blip r:embed="rId1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29"/>
          <p:cNvGrpSpPr/>
          <p:nvPr/>
        </p:nvGrpSpPr>
        <p:grpSpPr>
          <a:xfrm>
            <a:off x="6019920" y="6095880"/>
            <a:ext cx="2971800" cy="685800"/>
            <a:chOff x="6019920" y="6095880"/>
            <a:chExt cx="2971800" cy="685800"/>
          </a:xfrm>
        </p:grpSpPr>
        <p:pic>
          <p:nvPicPr>
            <p:cNvPr id="188" name="Picture 19" descr="light-logo-transparent-background.png"/>
            <p:cNvPicPr/>
            <p:nvPr/>
          </p:nvPicPr>
          <p:blipFill>
            <a:blip r:embed="rId2"/>
            <a:stretch/>
          </p:blipFill>
          <p:spPr>
            <a:xfrm>
              <a:off x="601992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4" descr="NSTC.png"/>
            <p:cNvPicPr/>
            <p:nvPr/>
          </p:nvPicPr>
          <p:blipFill>
            <a:blip r:embed="rId3"/>
            <a:stretch/>
          </p:blipFill>
          <p:spPr>
            <a:xfrm>
              <a:off x="830772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Rectangle 30" descr=""/>
          <p:cNvPicPr/>
          <p:nvPr/>
        </p:nvPicPr>
        <p:blipFill>
          <a:blip r:embed="rId4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3720" y="2130120"/>
            <a:ext cx="632448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SBSTA Research Dialogue:</a:t>
            </a:r>
            <a:br>
              <a:rPr sz="32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Perspectives from the United State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une 2010, Bon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560" y="13712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1000"/>
          </a:bodyPr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Science is central to the climate challenge, both for understanding and for respon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Climate science is changing.  The new vision and mission for integrated global change research needs to focus on the challenges of sustainability in a global contex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01760" y="761760"/>
            <a:ext cx="8340480" cy="46083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72000"/>
          </a:bodyPr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buClr>
                <a:srgbClr val="ea157a"/>
              </a:buClr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We need to do a better job of using what we know, and deploy science in support of adaptation and  mitigation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Adaptation Strateg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Climate Observing Systems and Servic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Climate Assess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Adaptation Research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760" y="125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The USGCRP Mandat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9680" y="1071720"/>
            <a:ext cx="8340840" cy="49291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2000"/>
          </a:bodyPr>
          <a:p>
            <a:pPr lvl="1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825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understand, assess, predict . . .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raditional USGCRP strengths: physical science basis for climate chang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ational Climate Assessment proce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42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 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. . . and respond . . . to global change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aptation research and analysi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itigation – technology and analy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cience for decision support (climate servi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utreach, education, and engage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760" y="-1108440"/>
            <a:ext cx="8340480" cy="28227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lang="en-US" sz="2800" spc="-1" strike="noStrike">
                <a:solidFill>
                  <a:srgbClr val="0070c0"/>
                </a:solidFill>
                <a:latin typeface="Consolas"/>
              </a:rPr>
              <a:t>Scientific basis for understanding climate change and developing informed responses</a:t>
            </a:r>
            <a:br>
              <a:rPr sz="2800"/>
            </a:b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8040" y="1714680"/>
            <a:ext cx="8339040" cy="52243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organize around scientific-societal issue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stablish a climate observing syste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velop next generation coupled Earth  system mode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rengthen research on adaptation, mitigation, and vulnerabilit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itiate national assessment process with   broad stakeholder particip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ordinate climate services to decision make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Line 1"/>
          <p:cNvSpPr/>
          <p:nvPr/>
        </p:nvSpPr>
        <p:spPr>
          <a:xfrm>
            <a:off x="455760" y="139212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760" y="71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A vision of the future: Three coordinated element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3446640" y="2036880"/>
            <a:ext cx="1920600" cy="1928520"/>
            <a:chOff x="3446640" y="2036880"/>
            <a:chExt cx="1920600" cy="1928520"/>
          </a:xfrm>
        </p:grpSpPr>
        <p:pic>
          <p:nvPicPr>
            <p:cNvPr id="208" name="Picture 6" descr=""/>
            <p:cNvPicPr/>
            <p:nvPr/>
          </p:nvPicPr>
          <p:blipFill>
            <a:blip r:embed="rId1"/>
            <a:stretch/>
          </p:blipFill>
          <p:spPr>
            <a:xfrm>
              <a:off x="3446640" y="2036880"/>
              <a:ext cx="1920600" cy="19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7"/>
            <p:cNvSpPr/>
            <p:nvPr/>
          </p:nvSpPr>
          <p:spPr>
            <a:xfrm>
              <a:off x="3610440" y="2760120"/>
              <a:ext cx="15980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Mitigation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0" name="Group 8"/>
          <p:cNvGrpSpPr/>
          <p:nvPr/>
        </p:nvGrpSpPr>
        <p:grpSpPr>
          <a:xfrm>
            <a:off x="4197240" y="3160800"/>
            <a:ext cx="1919520" cy="1965240"/>
            <a:chOff x="4197240" y="3160800"/>
            <a:chExt cx="1919520" cy="1965240"/>
          </a:xfrm>
        </p:grpSpPr>
        <p:pic>
          <p:nvPicPr>
            <p:cNvPr id="211" name="Picture 9" descr=""/>
            <p:cNvPicPr/>
            <p:nvPr/>
          </p:nvPicPr>
          <p:blipFill>
            <a:blip r:embed="rId2"/>
            <a:stretch/>
          </p:blipFill>
          <p:spPr>
            <a:xfrm>
              <a:off x="4197240" y="3160800"/>
              <a:ext cx="19195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10"/>
            <p:cNvSpPr/>
            <p:nvPr/>
          </p:nvSpPr>
          <p:spPr>
            <a:xfrm>
              <a:off x="4478400" y="390672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Science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2643120" y="3160800"/>
            <a:ext cx="1982880" cy="1982880"/>
            <a:chOff x="2643120" y="3160800"/>
            <a:chExt cx="1982880" cy="1982880"/>
          </a:xfrm>
        </p:grpSpPr>
        <p:pic>
          <p:nvPicPr>
            <p:cNvPr id="214" name="Picture 12" descr=""/>
            <p:cNvPicPr/>
            <p:nvPr/>
          </p:nvPicPr>
          <p:blipFill>
            <a:blip r:embed="rId3"/>
            <a:stretch/>
          </p:blipFill>
          <p:spPr>
            <a:xfrm>
              <a:off x="2643120" y="3160800"/>
              <a:ext cx="1982880" cy="19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3"/>
            <p:cNvSpPr/>
            <p:nvPr/>
          </p:nvSpPr>
          <p:spPr>
            <a:xfrm>
              <a:off x="2844000" y="391068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Adaptation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629240" y="5194440"/>
            <a:ext cx="481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exible, comprehensive, integrated and cross-cutting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ehensive climate observing syste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ced models and tool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anded capacit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"/>
          <p:cNvSpPr/>
          <p:nvPr/>
        </p:nvSpPr>
        <p:spPr>
          <a:xfrm>
            <a:off x="5880240" y="1368360"/>
            <a:ext cx="326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e  energy demand; improve efficiency; expand use of low and zero carbon sources; carbon capture and sequestration; accelerate retirement of carbon intensive infrastructure; create new technology choic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/>
          <p:nvPr/>
        </p:nvSpPr>
        <p:spPr>
          <a:xfrm>
            <a:off x="136440" y="528624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llaborative national strategy and program, in partnership with state, local and non-governmental partner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4"/>
          <p:cNvSpPr/>
          <p:nvPr/>
        </p:nvSpPr>
        <p:spPr>
          <a:xfrm>
            <a:off x="660240" y="0"/>
            <a:ext cx="48769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Helvetica Neue Light"/>
                <a:ea typeface="ヒラギノ角ゴ ProN W3"/>
              </a:rPr>
              <a:t>Hot off the Press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0880" y="351000"/>
            <a:ext cx="8609040" cy="656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4:00:21Z</dcterms:created>
  <dc:creator>Fabien Laurier</dc:creator>
  <dc:description/>
  <dc:language>en-US</dc:language>
  <cp:lastModifiedBy>UNFCCC</cp:lastModifiedBy>
  <dcterms:modified xsi:type="dcterms:W3CDTF">2010-06-04T09:30:33Z</dcterms:modified>
  <cp:revision>60</cp:revision>
  <dc:subject/>
  <dc:title>Slide 1</dc:title>
</cp:coreProperties>
</file>