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730A-6848-4B9D-8FAF-0246B9060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organize to facilitate cross-cutting research focused on understnading the interactions among  climate, human, and environmental systems and on supporting societal resposnes to climate ch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-including physical, biological, and social observ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– to improve attibution and prediction of high-impact regional weather and climate, to initialize seasonal to decadal cliamte forecasting, and to provide predictions of impact affecting adaptive capacities and vulnerabilities of environmental and human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6D2-0A40-40CD-8261-4313B168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60FE-589C-4B6A-AD79-07A29BD9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5E7-50ED-4C14-88EF-7B0EC2FB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774-70C9-4393-AC7E-9ED342D2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CEE5-3ACB-4426-86B1-A21D79D6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61AC-9274-4FEC-B57A-E2080607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71B5-7EF6-4151-A51D-5933C42E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4201-1725-4182-AE71-5D4BC7FF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2F60-0B35-4B30-A8EB-87DF634B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0778-9B9E-435D-A5B5-6EDD3963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52DD-55ED-4845-A482-AAF70802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BC7-E280-4C7C-99D8-4B3F048F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D33B-7122-4F3A-93B7-560E4CF0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AD24-8030-497A-9BB7-EA4DD51F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E037-6F02-4CB0-AB82-960E1BCC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F1FB-65FE-4AEF-9D10-2CCC25D6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8FC2-6B1D-4A4F-B9B9-F7642091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E95E8-11FD-4D05-80B9-E3970CBA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6ECDC-D35D-4732-B627-AAB3CCBA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9256-D273-43BD-8F8B-F73DE065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B7441-17F1-4325-851D-E4FACCE7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79B5C-F222-4FB9-8045-A919F720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B195-5078-4B60-BD78-DD00B9CD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F1EC2-B4CF-4B26-AE40-A2B5930A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10DBE-C98D-46F5-87B2-30CCB7F2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EA7BD-7702-4458-BBE3-70F23FE4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B3EB6-F1B1-4CED-9376-1BB0D447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778B-B1F4-4106-8CC3-05308823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8E4D1-6684-4EA7-9624-7A5A7083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67D32-2FE3-4DA5-BC63-23E37463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5B29B-ED93-4E42-93AC-8DAA3BF2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0C6D3-7CB5-4258-B4BD-26DE4539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5553D-872E-4F58-96CD-1C4A7DFF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0AD-DB17-42F8-9AFF-AE43787A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A4EBA-510E-45C6-9A59-6784A85D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F2A69-94BA-405A-98A9-BEEF4917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79D49-223A-4310-807A-EFE297D0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E5986-20E7-4F0D-9FFE-7CD65826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314D8-1ED3-4562-9139-6314F303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9FF0E-7AB6-4928-866C-AD0E8BB1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DDC6-5C47-4570-90F8-C3B4AFDE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EBA87-4819-40DB-A3C7-B2C4782B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8AF51-6B27-47D5-92EA-7EA0BC86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966-0ED8-424C-B34A-911034BC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25D1-8F8E-45DE-A269-8E7E2D94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B692-B950-45B7-87B8-F005A16B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026-1F4E-470D-BEA6-4AA269A2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E7B-C25F-470A-90B0-AAA76FD1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6" descr=""/>
          <p:cNvPicPr/>
          <p:nvPr/>
        </p:nvPicPr>
        <p:blipFill>
          <a:blip r:embed="rId2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3"/>
          <p:cNvGrpSpPr/>
          <p:nvPr/>
        </p:nvGrpSpPr>
        <p:grpSpPr>
          <a:xfrm>
            <a:off x="6095880" y="6095880"/>
            <a:ext cx="2971800" cy="685800"/>
            <a:chOff x="6095880" y="6095880"/>
            <a:chExt cx="2971800" cy="685800"/>
          </a:xfrm>
        </p:grpSpPr>
        <p:pic>
          <p:nvPicPr>
            <p:cNvPr id="2" name="Picture 24" descr="light-logo-transparent-background.png"/>
            <p:cNvPicPr/>
            <p:nvPr/>
          </p:nvPicPr>
          <p:blipFill>
            <a:blip r:embed="rId3"/>
            <a:stretch/>
          </p:blipFill>
          <p:spPr>
            <a:xfrm>
              <a:off x="609588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NSTC.png"/>
            <p:cNvPicPr/>
            <p:nvPr/>
          </p:nvPicPr>
          <p:blipFill>
            <a:blip r:embed="rId4"/>
            <a:stretch/>
          </p:blipFill>
          <p:spPr>
            <a:xfrm>
              <a:off x="838368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7" descr="earthteshelft.png"/>
          <p:cNvPicPr/>
          <p:nvPr/>
        </p:nvPicPr>
        <p:blipFill>
          <a:blip r:embed="rId5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31B7-A59F-4745-A296-6F2BD070D06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F3D3-6CF7-452A-9F6F-B53D9D1F843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3A5E-0C4F-4F5C-9408-AA70A4B7754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6351-4F67-47FF-9689-34FB11550B3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earthteshelft.png"/>
          <p:cNvPicPr/>
          <p:nvPr/>
        </p:nvPicPr>
        <p:blipFill>
          <a:blip r:embed="rId1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9"/>
          <p:cNvGrpSpPr/>
          <p:nvPr/>
        </p:nvGrpSpPr>
        <p:grpSpPr>
          <a:xfrm>
            <a:off x="6019920" y="6095880"/>
            <a:ext cx="2971800" cy="685800"/>
            <a:chOff x="6019920" y="6095880"/>
            <a:chExt cx="2971800" cy="685800"/>
          </a:xfrm>
        </p:grpSpPr>
        <p:pic>
          <p:nvPicPr>
            <p:cNvPr id="188" name="Picture 19" descr="light-logo-transparent-background.png"/>
            <p:cNvPicPr/>
            <p:nvPr/>
          </p:nvPicPr>
          <p:blipFill>
            <a:blip r:embed="rId2"/>
            <a:stretch/>
          </p:blipFill>
          <p:spPr>
            <a:xfrm>
              <a:off x="601992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NSTC.png"/>
            <p:cNvPicPr/>
            <p:nvPr/>
          </p:nvPicPr>
          <p:blipFill>
            <a:blip r:embed="rId3"/>
            <a:stretch/>
          </p:blipFill>
          <p:spPr>
            <a:xfrm>
              <a:off x="830772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Rectangle 30" descr=""/>
          <p:cNvPicPr/>
          <p:nvPr/>
        </p:nvPicPr>
        <p:blipFill>
          <a:blip r:embed="rId4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324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BSTA Research Dialogue: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Perspectives from the United State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ne 2010, Bon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cience is central to the climate challenge, both for understanding and for respo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Climate science is changing.  The new vision and mission for integrated global change research needs to focus on the challenges of sustainability in a global contex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1760" y="761760"/>
            <a:ext cx="8340480" cy="4608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72000"/>
          </a:bodyPr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buClr>
                <a:srgbClr val="ea157a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e need to do a better job of using what we know, and deploy science in support of adaptation and  mitig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Adaptation Strate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Climate Observing Systems and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Climate Assess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Adaptation Research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760" y="125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The USGCRP Mandat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1071720"/>
            <a:ext cx="8340840" cy="49291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2000"/>
          </a:bodyPr>
          <a:p>
            <a:pPr lvl="1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82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understand, assess, predict . . .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ditional USGCRP strengths: physical science basis for climate chan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tional Climate Assessment proc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42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. . . and respond . . . to global change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tation research and analy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tigation – technology and analy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cience for decision support (climate servi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utreach, education, and engag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-1108440"/>
            <a:ext cx="8340480" cy="2822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70c0"/>
                </a:solidFill>
                <a:latin typeface="Consolas"/>
              </a:rPr>
              <a:t>Scientific basis for understanding climate change and developing informed responses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8040" y="1714680"/>
            <a:ext cx="8339040" cy="52243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organize around scientific-societal issue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ablish a climate observing syste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 next generation coupled Earth  system mode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ngthen research on adaptation, mitigation, and vulnerabil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itiate national assessment process with   broad stakeholder particip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ordinate climate services to decision mak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455760" y="139212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760" y="71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A vision of the future: Three coordinated element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3446640" y="2036880"/>
            <a:ext cx="1920600" cy="1928520"/>
            <a:chOff x="3446640" y="2036880"/>
            <a:chExt cx="1920600" cy="1928520"/>
          </a:xfrm>
        </p:grpSpPr>
        <p:pic>
          <p:nvPicPr>
            <p:cNvPr id="208" name="Picture 6" descr=""/>
            <p:cNvPicPr/>
            <p:nvPr/>
          </p:nvPicPr>
          <p:blipFill>
            <a:blip r:embed="rId1"/>
            <a:stretch/>
          </p:blipFill>
          <p:spPr>
            <a:xfrm>
              <a:off x="3446640" y="2036880"/>
              <a:ext cx="192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3610440" y="2760120"/>
              <a:ext cx="159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Mitigation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197240" y="3160800"/>
            <a:ext cx="1919520" cy="1965240"/>
            <a:chOff x="4197240" y="3160800"/>
            <a:chExt cx="1919520" cy="1965240"/>
          </a:xfrm>
        </p:grpSpPr>
        <p:pic>
          <p:nvPicPr>
            <p:cNvPr id="211" name="Picture 9" descr=""/>
            <p:cNvPicPr/>
            <p:nvPr/>
          </p:nvPicPr>
          <p:blipFill>
            <a:blip r:embed="rId2"/>
            <a:stretch/>
          </p:blipFill>
          <p:spPr>
            <a:xfrm>
              <a:off x="4197240" y="3160800"/>
              <a:ext cx="19195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"/>
            <p:cNvSpPr/>
            <p:nvPr/>
          </p:nvSpPr>
          <p:spPr>
            <a:xfrm>
              <a:off x="4478400" y="390672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Science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2643120" y="3160800"/>
            <a:ext cx="1982880" cy="1982880"/>
            <a:chOff x="2643120" y="3160800"/>
            <a:chExt cx="1982880" cy="1982880"/>
          </a:xfrm>
        </p:grpSpPr>
        <p:pic>
          <p:nvPicPr>
            <p:cNvPr id="214" name="Picture 12" descr=""/>
            <p:cNvPicPr/>
            <p:nvPr/>
          </p:nvPicPr>
          <p:blipFill>
            <a:blip r:embed="rId3"/>
            <a:stretch/>
          </p:blipFill>
          <p:spPr>
            <a:xfrm>
              <a:off x="2643120" y="3160800"/>
              <a:ext cx="19828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3"/>
            <p:cNvSpPr/>
            <p:nvPr/>
          </p:nvSpPr>
          <p:spPr>
            <a:xfrm>
              <a:off x="2844000" y="391068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Adaptation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29240" y="519444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comprehensive, integrated and cross-cutting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climate observing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odels and too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capa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"/>
          <p:cNvSpPr/>
          <p:nvPr/>
        </p:nvSpPr>
        <p:spPr>
          <a:xfrm>
            <a:off x="5880240" y="1368360"/>
            <a:ext cx="32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 energy demand; improve efficiency; expand use of low and zero carbon sources; carbon capture and sequestration; accelerate retirement of carbon intensive infrastructure; create new technology choic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52862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llaborative national strategy and program, in partnership with state, local and non-governmental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660240" y="0"/>
            <a:ext cx="4876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Helvetica Neue Light"/>
                <a:ea typeface="ヒラギノ角ゴ ProN W3"/>
              </a:rPr>
              <a:t>Hot off the Pres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609040" cy="656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00:21Z</dcterms:created>
  <dc:creator>Fabien Laurier</dc:creator>
  <dc:description/>
  <dc:language>en-US</dc:language>
  <cp:lastModifiedBy>UNFCCC</cp:lastModifiedBy>
  <dcterms:modified xsi:type="dcterms:W3CDTF">2010-06-04T09:30:33Z</dcterms:modified>
  <cp:revision>60</cp:revision>
  <dc:subject/>
  <dc:title>Slide 1</dc:title>
</cp:coreProperties>
</file>