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4C9F-D084-4C1A-99B0-A4F12AD1C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organize to facilitate cross-cutting research focused on understnading the interactions among  climate, human, and environmental systems and on supporting societal resposnes to climate ch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-including physical, biological, and social observ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– to improve attibution and prediction of high-impact regional weather and climate, to initialize seasonal to decadal cliamte forecasting, and to provide predictions of impact affecting adaptive capacities and vulnerabilities of environmental and human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41B-3182-4AF2-89F7-D47B59A3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1A2-AAB2-4471-9888-3804F73F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134-5E7F-4851-ADAD-32502C6F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8FE-5380-48DC-A575-84864F4C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A7E1-BA46-4EC4-B57B-183DFDF2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9461-AF11-4D7C-894B-A19A7AE7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D146-EC45-47C0-8085-24DE6904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26B7-7941-41DA-AA81-2195262D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CCAA-326C-4810-A056-C8837DFA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1EDC-2760-44B7-914D-97391CD7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A6AC-11EB-4400-B61A-E7D78130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8F0-0F88-4B9A-AA01-E0A00437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B4BA-0C89-4D45-8E38-E87208A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6407-3A88-4E96-9488-0378747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EADB-29BB-40A5-9491-9254FFD0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2F23-30B8-413E-898A-862A81B3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F785-E7D2-42D6-A65B-070CAAA2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C7C4-36AD-4A14-BAAC-A865A997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9D3B-97CB-42FD-A6B1-A07CEBBB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85E9-DBD2-45CD-9AD7-783DC4BE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26D0B-51D3-4946-B45C-5903A47F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BB80-1AAD-4494-875F-4A84477F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2C6-C871-425F-A4A2-61A86A3E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DAAF-B05E-4957-A129-8401928A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35DA5-18ED-442F-B083-915C68E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3DE25-8751-4C6B-9FAA-CD7DCC21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8F801-ECE7-45C1-A6DC-A392489E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E5E5-9435-43DA-BA90-55A93BAB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D966-3CF0-41B5-9A70-8EB51280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149A-B21C-49DA-B19B-A0EA06D9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8592F-D438-42AA-917D-389066E5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89FBF-0A59-4D4D-8F55-5BC2B3A7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63D38-9BFD-43C8-B964-C763F3DF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9BD-B53F-4C01-8A33-FC1F225F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671FD-5482-4FF4-9F90-D4C5BAE3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0E2BA-ED0C-442D-A63D-E0363759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A6B4F-6067-47E3-8821-72F80234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CADCA-F997-4772-9858-B640B2F4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E791-A717-412E-8FCE-7110664E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B88A1-0361-431D-BABF-2E883A68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70B5F-FD70-4C87-A1D8-411DBE0E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C06D-2A0C-44B7-9F79-31A59214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240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0040" y="137124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14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240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0040" y="3974760"/>
            <a:ext cx="25023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251A-908B-4204-BFD1-0FE4700D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04C-ED8F-428F-8EF1-61D19F17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83D-4474-4885-A02A-AC912235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863-A0ED-45F2-B67B-BA855FA4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7476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95B-4C34-4A3E-A83B-88B99AA9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371240"/>
            <a:ext cx="3792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74760"/>
            <a:ext cx="77724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94F-0BC2-4219-92B0-0B4C9D26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26" descr=""/>
          <p:cNvPicPr/>
          <p:nvPr/>
        </p:nvPicPr>
        <p:blipFill>
          <a:blip r:embed="rId2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3"/>
          <p:cNvGrpSpPr/>
          <p:nvPr/>
        </p:nvGrpSpPr>
        <p:grpSpPr>
          <a:xfrm>
            <a:off x="6095880" y="6095880"/>
            <a:ext cx="2971800" cy="685800"/>
            <a:chOff x="6095880" y="6095880"/>
            <a:chExt cx="2971800" cy="685800"/>
          </a:xfrm>
        </p:grpSpPr>
        <p:pic>
          <p:nvPicPr>
            <p:cNvPr id="2" name="Picture 24" descr="light-logo-transparent-background.png"/>
            <p:cNvPicPr/>
            <p:nvPr/>
          </p:nvPicPr>
          <p:blipFill>
            <a:blip r:embed="rId3"/>
            <a:stretch/>
          </p:blipFill>
          <p:spPr>
            <a:xfrm>
              <a:off x="609588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NSTC.png"/>
            <p:cNvPicPr/>
            <p:nvPr/>
          </p:nvPicPr>
          <p:blipFill>
            <a:blip r:embed="rId4"/>
            <a:stretch/>
          </p:blipFill>
          <p:spPr>
            <a:xfrm>
              <a:off x="838368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7" descr="earthteshelft.png"/>
          <p:cNvPicPr/>
          <p:nvPr/>
        </p:nvPicPr>
        <p:blipFill>
          <a:blip r:embed="rId5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11CC-3384-4EC0-BCEB-C239593675E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CB26-70AA-4A53-9576-05C05D2CB62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8EE5-98DD-4737-B4A7-E3C4C31078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3712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EA9D-0924-46C0-82B0-980D1752E2C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6" descr="earthteshelft.png"/>
          <p:cNvPicPr/>
          <p:nvPr/>
        </p:nvPicPr>
        <p:blipFill>
          <a:blip r:embed="rId1"/>
          <a:stretch/>
        </p:blipFill>
        <p:spPr>
          <a:xfrm>
            <a:off x="-19080" y="-6480"/>
            <a:ext cx="2171880" cy="8461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9"/>
          <p:cNvGrpSpPr/>
          <p:nvPr/>
        </p:nvGrpSpPr>
        <p:grpSpPr>
          <a:xfrm>
            <a:off x="6019920" y="6095880"/>
            <a:ext cx="2971800" cy="685800"/>
            <a:chOff x="6019920" y="6095880"/>
            <a:chExt cx="2971800" cy="685800"/>
          </a:xfrm>
        </p:grpSpPr>
        <p:pic>
          <p:nvPicPr>
            <p:cNvPr id="188" name="Picture 19" descr="light-logo-transparent-background.png"/>
            <p:cNvPicPr/>
            <p:nvPr/>
          </p:nvPicPr>
          <p:blipFill>
            <a:blip r:embed="rId2"/>
            <a:stretch/>
          </p:blipFill>
          <p:spPr>
            <a:xfrm>
              <a:off x="6019920" y="6170400"/>
              <a:ext cx="2286000" cy="6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NSTC.png"/>
            <p:cNvPicPr/>
            <p:nvPr/>
          </p:nvPicPr>
          <p:blipFill>
            <a:blip r:embed="rId3"/>
            <a:stretch/>
          </p:blipFill>
          <p:spPr>
            <a:xfrm>
              <a:off x="8307720" y="6095880"/>
              <a:ext cx="68400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Rectangle 30" descr=""/>
          <p:cNvPicPr/>
          <p:nvPr/>
        </p:nvPicPr>
        <p:blipFill>
          <a:blip r:embed="rId4"/>
          <a:stretch/>
        </p:blipFill>
        <p:spPr>
          <a:xfrm>
            <a:off x="-122400" y="6394320"/>
            <a:ext cx="3213360" cy="731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2130120"/>
            <a:ext cx="6324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BSTA Research Dialogue: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Perspectives from the United State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June 2010, Bon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13712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1000"/>
          </a:bodyPr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cience is central to the climate challenge, both for understanding and for respon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Corbe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Climate science is changing.  The new vision and mission for integrated global change research needs to focus on the challenges of sustainability in a global contex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80360" indent="-67572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1760" y="-108000"/>
            <a:ext cx="8340480" cy="1216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Key messages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1760" y="761760"/>
            <a:ext cx="8340480" cy="46083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72000"/>
          </a:bodyPr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buClr>
                <a:srgbClr val="ea157a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We need to do a better job of using what we know, and deploy science in support of adaptation and  mitigation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Adaptation Strateg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Climate Observing Systems and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National Climate Assess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Adaptation Research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941760" indent="-301680">
              <a:buClr>
                <a:srgbClr val="feb80a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64908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Line 1"/>
          <p:cNvSpPr/>
          <p:nvPr/>
        </p:nvSpPr>
        <p:spPr>
          <a:xfrm>
            <a:off x="455760" y="1123920"/>
            <a:ext cx="8232480" cy="144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1760" y="125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The USGCRP Mandate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1071720"/>
            <a:ext cx="8340840" cy="49291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92000"/>
          </a:bodyPr>
          <a:p>
            <a:pPr lvl="1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825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understand, assess, predict . . .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ditional USGCRP strengths: physical science basis for climate chang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1199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ational Climate Assessment proc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>
              <a:lnSpc>
                <a:spcPct val="80000"/>
              </a:lnSpc>
              <a:spcBef>
                <a:spcPts val="42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 “</a:t>
            </a:r>
            <a:r>
              <a:rPr b="1" i="1" lang="en-US" sz="3300" spc="-1" strike="noStrike">
                <a:solidFill>
                  <a:srgbClr val="ffffff"/>
                </a:solidFill>
                <a:latin typeface="Corbel"/>
              </a:rPr>
              <a:t>. . . and respond . . . to global change”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tation research and analysi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itigation – technology and analy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cience for decision support (climate servi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378440" indent="-245160">
              <a:lnSpc>
                <a:spcPct val="80000"/>
              </a:lnSpc>
              <a:spcBef>
                <a:spcPts val="2001"/>
              </a:spcBef>
              <a:buClr>
                <a:srgbClr val="feb80a"/>
              </a:buClr>
              <a:buSzPct val="125000"/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utreach, education, and engag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-1108440"/>
            <a:ext cx="8340480" cy="28227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70c0"/>
                </a:solidFill>
                <a:latin typeface="Consolas"/>
              </a:rPr>
              <a:t>Scientific basis for understanding climate change and developing informed responses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8040" y="1714680"/>
            <a:ext cx="8339040" cy="52243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organize around scientific-societal issue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ablish a climate observing syste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velop next generation coupled Earth  system model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engthen research on adaptation, mitigation, and vulnerabil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itiate national assessment process with   broad stakeholder particip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66760" indent="-266760">
              <a:spcBef>
                <a:spcPts val="601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ordinate climate services to decision mak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Line 1"/>
          <p:cNvSpPr/>
          <p:nvPr/>
        </p:nvSpPr>
        <p:spPr>
          <a:xfrm>
            <a:off x="455760" y="139212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1"/>
          <p:cNvSpPr/>
          <p:nvPr/>
        </p:nvSpPr>
        <p:spPr>
          <a:xfrm>
            <a:off x="455760" y="1384200"/>
            <a:ext cx="8232480" cy="1800"/>
          </a:xfrm>
          <a:prstGeom prst="line">
            <a:avLst/>
          </a:prstGeom>
          <a:ln w="1260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1760" y="71280"/>
            <a:ext cx="8340480" cy="12146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olas"/>
              </a:rPr>
              <a:t>A vision of the future: Three coordinated element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3446640" y="2036880"/>
            <a:ext cx="1920600" cy="1928520"/>
            <a:chOff x="3446640" y="2036880"/>
            <a:chExt cx="1920600" cy="1928520"/>
          </a:xfrm>
        </p:grpSpPr>
        <p:pic>
          <p:nvPicPr>
            <p:cNvPr id="208" name="Picture 6" descr=""/>
            <p:cNvPicPr/>
            <p:nvPr/>
          </p:nvPicPr>
          <p:blipFill>
            <a:blip r:embed="rId1"/>
            <a:stretch/>
          </p:blipFill>
          <p:spPr>
            <a:xfrm>
              <a:off x="3446640" y="2036880"/>
              <a:ext cx="192060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7"/>
            <p:cNvSpPr/>
            <p:nvPr/>
          </p:nvSpPr>
          <p:spPr>
            <a:xfrm>
              <a:off x="3610440" y="2760120"/>
              <a:ext cx="15980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Mitigation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197240" y="3160800"/>
            <a:ext cx="1919520" cy="1965240"/>
            <a:chOff x="4197240" y="3160800"/>
            <a:chExt cx="1919520" cy="1965240"/>
          </a:xfrm>
        </p:grpSpPr>
        <p:pic>
          <p:nvPicPr>
            <p:cNvPr id="211" name="Picture 9" descr=""/>
            <p:cNvPicPr/>
            <p:nvPr/>
          </p:nvPicPr>
          <p:blipFill>
            <a:blip r:embed="rId2"/>
            <a:stretch/>
          </p:blipFill>
          <p:spPr>
            <a:xfrm>
              <a:off x="4197240" y="3160800"/>
              <a:ext cx="19195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10"/>
            <p:cNvSpPr/>
            <p:nvPr/>
          </p:nvSpPr>
          <p:spPr>
            <a:xfrm>
              <a:off x="4478400" y="390672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Science 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2643120" y="3160800"/>
            <a:ext cx="1982880" cy="1982880"/>
            <a:chOff x="2643120" y="3160800"/>
            <a:chExt cx="1982880" cy="1982880"/>
          </a:xfrm>
        </p:grpSpPr>
        <p:pic>
          <p:nvPicPr>
            <p:cNvPr id="214" name="Picture 12" descr=""/>
            <p:cNvPicPr/>
            <p:nvPr/>
          </p:nvPicPr>
          <p:blipFill>
            <a:blip r:embed="rId3"/>
            <a:stretch/>
          </p:blipFill>
          <p:spPr>
            <a:xfrm>
              <a:off x="2643120" y="3160800"/>
              <a:ext cx="19828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3"/>
            <p:cNvSpPr/>
            <p:nvPr/>
          </p:nvSpPr>
          <p:spPr>
            <a:xfrm>
              <a:off x="2844000" y="3910680"/>
              <a:ext cx="1598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440" tIns="0" bIns="0" anchor="t">
              <a:noAutofit/>
            </a:bodyPr>
            <a:p>
              <a:pPr marL="284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Helvetica Neue"/>
                  <a:ea typeface="ヒラギノ角ゴ ProN W3"/>
                </a:rPr>
                <a:t>Climate Change Adaptation</a:t>
              </a:r>
              <a:endParaRPr b="0" lang="en-US" sz="13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29240" y="5194440"/>
            <a:ext cx="481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comprehensive, integrated and cross-cutting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ehensive climate observing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models and too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anded capac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"/>
          <p:cNvSpPr/>
          <p:nvPr/>
        </p:nvSpPr>
        <p:spPr>
          <a:xfrm>
            <a:off x="5880240" y="1368360"/>
            <a:ext cx="32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 energy demand; improve efficiency; expand use of low and zero carbon sources; carbon capture and sequestration; accelerate retirement of carbon intensive infrastructure; create new technology choic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528624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llaborative national strategy and program, in partnership with state, local and non-governmental partner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4"/>
          <p:cNvSpPr/>
          <p:nvPr/>
        </p:nvSpPr>
        <p:spPr>
          <a:xfrm>
            <a:off x="660240" y="0"/>
            <a:ext cx="4876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Helvetica Neue Light"/>
                <a:ea typeface="ヒラギノ角ゴ ProN W3"/>
              </a:rPr>
              <a:t>Hot off the Pres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80880" y="351000"/>
            <a:ext cx="8609040" cy="656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4:00:21Z</dcterms:created>
  <dc:creator>Fabien Laurier</dc:creator>
  <dc:description/>
  <dc:language>en-US</dc:language>
  <cp:lastModifiedBy>UNFCCC</cp:lastModifiedBy>
  <dcterms:modified xsi:type="dcterms:W3CDTF">2010-06-04T09:30:33Z</dcterms:modified>
  <cp:revision>60</cp:revision>
  <dc:subject/>
  <dc:title>Slide 1</dc:title>
</cp:coreProperties>
</file>