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9D7E-800B-4F5E-A054-A7F171FCB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organize to facilitate cross-cutting research focused on understnading the interactions among  climate, human, and environmental systems and on supporting societal resposnes to climate ch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-including physical, biological, and social observ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– to improve attibution and prediction of high-impact regional weather and climate, to initialize seasonal to decadal cliamte forecasting, and to provide predictions of impact affecting adaptive capacities and vulnerabilities of environmental and human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7B7-DEE3-4D51-A6B5-E78F0588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BD16-74B9-4E2C-956A-01EF309C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962-4AFD-456A-98BE-7194E549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365-42F8-49D0-834A-0FB3D49C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89FA-D439-4317-BE2D-E6337494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FBEE-2424-4B55-998C-BA527568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A589-8FA4-486C-AAC2-FECFBF49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D82C-76E4-4C5F-8F28-FEA58F6B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D5A0-286C-48AB-86C8-504CB82E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547E-A188-4975-93FE-FCC7E621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7757-8D8A-45B0-B5EF-50ED995A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1FA-D741-4ED9-91EF-07F21388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FB2B-F2FB-497C-88EF-F660A830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397F-CDEC-4AF1-8D4C-6CE9C800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45E5-5985-4558-9B5A-D8CE5A62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B9FB-683D-46F7-886E-9959C957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F7E3-5B5A-4CAE-9B58-0098F3AC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F6826-8559-491C-9210-62CD701E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587F-1F7C-4E48-8163-9D20D0E8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36934-CD43-41F5-830D-C392D2FE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6C06F-C844-482C-B4AD-A0EBABE3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A2135-335B-430C-BE52-192733C1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B50-1A3D-4FA0-BB5E-D7409A59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F0CFD-D607-4424-8950-97019F37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E9A98-76BA-42D4-8EA8-CF1B26D1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044D4-22A8-4712-A512-F0285289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68DAE-4EDD-4259-84E8-6DFE3A30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74CFB-8C43-41E0-A7E4-884AD76F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8A5A7-E4F5-4F23-9382-2256FE6B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6B78-9C55-43F1-80A9-E81A7A20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37A46-87F4-4DF9-88D2-08C4A96F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C2305-CC9B-41DE-87D2-37C16722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A9BAB-8485-44CB-9E46-B2F7D007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506-8972-4772-A5C5-36DE4566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92A3A-AA9D-4138-A9D0-3A4DEE86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A2E2F-78DA-4939-ABF9-37A8B364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0F35D-F67B-4ADF-8614-AB10871D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D33B6-53CD-4E97-AD00-0E54E76A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5DD97-F8CF-45AF-9FA3-F8DC1CF1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8E267-A800-4896-BB91-9909078B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87B8D-3985-4EF5-9714-E9C11A2B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CC6E5-48FD-4334-9A0D-001E2334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3FF80-77E7-4821-BF49-1E9EC343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40C-B7DD-4C33-8D1A-D7B9D282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E2B-CED3-49AE-AF3B-C127D297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868-E1D4-4E3C-99C4-48BD2F98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FAA-94E6-423C-9CD8-781B39C8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F006-D8B9-4D4D-9C41-CB5CE30E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6" descr=""/>
          <p:cNvPicPr/>
          <p:nvPr/>
        </p:nvPicPr>
        <p:blipFill>
          <a:blip r:embed="rId2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3"/>
          <p:cNvGrpSpPr/>
          <p:nvPr/>
        </p:nvGrpSpPr>
        <p:grpSpPr>
          <a:xfrm>
            <a:off x="6095880" y="6095880"/>
            <a:ext cx="2971800" cy="685800"/>
            <a:chOff x="6095880" y="6095880"/>
            <a:chExt cx="2971800" cy="685800"/>
          </a:xfrm>
        </p:grpSpPr>
        <p:pic>
          <p:nvPicPr>
            <p:cNvPr id="2" name="Picture 24" descr="light-logo-transparent-background.png"/>
            <p:cNvPicPr/>
            <p:nvPr/>
          </p:nvPicPr>
          <p:blipFill>
            <a:blip r:embed="rId3"/>
            <a:stretch/>
          </p:blipFill>
          <p:spPr>
            <a:xfrm>
              <a:off x="609588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NSTC.png"/>
            <p:cNvPicPr/>
            <p:nvPr/>
          </p:nvPicPr>
          <p:blipFill>
            <a:blip r:embed="rId4"/>
            <a:stretch/>
          </p:blipFill>
          <p:spPr>
            <a:xfrm>
              <a:off x="838368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7" descr="earthteshelft.png"/>
          <p:cNvPicPr/>
          <p:nvPr/>
        </p:nvPicPr>
        <p:blipFill>
          <a:blip r:embed="rId5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CC21-5BAB-45DC-BB3B-9E1C02359CD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6E9D-FD1D-43B4-A8BD-19E2E9C9D6A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6DBA-757B-469F-A098-04EC58EF10C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34EB-A7A4-452C-9500-48C777728B7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earthteshelft.png"/>
          <p:cNvPicPr/>
          <p:nvPr/>
        </p:nvPicPr>
        <p:blipFill>
          <a:blip r:embed="rId1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9"/>
          <p:cNvGrpSpPr/>
          <p:nvPr/>
        </p:nvGrpSpPr>
        <p:grpSpPr>
          <a:xfrm>
            <a:off x="6019920" y="6095880"/>
            <a:ext cx="2971800" cy="685800"/>
            <a:chOff x="6019920" y="6095880"/>
            <a:chExt cx="2971800" cy="685800"/>
          </a:xfrm>
        </p:grpSpPr>
        <p:pic>
          <p:nvPicPr>
            <p:cNvPr id="188" name="Picture 19" descr="light-logo-transparent-background.png"/>
            <p:cNvPicPr/>
            <p:nvPr/>
          </p:nvPicPr>
          <p:blipFill>
            <a:blip r:embed="rId2"/>
            <a:stretch/>
          </p:blipFill>
          <p:spPr>
            <a:xfrm>
              <a:off x="601992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NSTC.png"/>
            <p:cNvPicPr/>
            <p:nvPr/>
          </p:nvPicPr>
          <p:blipFill>
            <a:blip r:embed="rId3"/>
            <a:stretch/>
          </p:blipFill>
          <p:spPr>
            <a:xfrm>
              <a:off x="830772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Rectangle 30" descr=""/>
          <p:cNvPicPr/>
          <p:nvPr/>
        </p:nvPicPr>
        <p:blipFill>
          <a:blip r:embed="rId4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324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BSTA Research Dialogue: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Perspectives from the United State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ne 2010, Bon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cience is central to the climate challenge, both for understanding and for respo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Climate science is changing.  The new vision and mission for integrated global change research needs to focus on the challenges of sustainability in a global contex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1760" y="761760"/>
            <a:ext cx="8340480" cy="4608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72000"/>
          </a:bodyPr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buClr>
                <a:srgbClr val="ea157a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e need to do a better job of using what we know, and deploy science in support of adaptation and  mitig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Adaptation Strate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Climate Observing Systems and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Climate Assess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Adaptation Research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760" y="125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The USGCRP Mandat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1071720"/>
            <a:ext cx="8340840" cy="49291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2000"/>
          </a:bodyPr>
          <a:p>
            <a:pPr lvl="1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82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understand, assess, predict . . .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ditional USGCRP strengths: physical science basis for climate chan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tional Climate Assessment proc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42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. . . and respond . . . to global change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tation research and analy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tigation – technology and analy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cience for decision support (climate servi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utreach, education, and engag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-1108440"/>
            <a:ext cx="8340480" cy="2822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70c0"/>
                </a:solidFill>
                <a:latin typeface="Consolas"/>
              </a:rPr>
              <a:t>Scientific basis for understanding climate change and developing informed responses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8040" y="1714680"/>
            <a:ext cx="8339040" cy="52243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organize around scientific-societal issue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ablish a climate observing syste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 next generation coupled Earth  system mode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ngthen research on adaptation, mitigation, and vulnerabil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itiate national assessment process with   broad stakeholder particip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ordinate climate services to decision mak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455760" y="139212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760" y="71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A vision of the future: Three coordinated element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3446640" y="2036880"/>
            <a:ext cx="1920600" cy="1928520"/>
            <a:chOff x="3446640" y="2036880"/>
            <a:chExt cx="1920600" cy="1928520"/>
          </a:xfrm>
        </p:grpSpPr>
        <p:pic>
          <p:nvPicPr>
            <p:cNvPr id="208" name="Picture 6" descr=""/>
            <p:cNvPicPr/>
            <p:nvPr/>
          </p:nvPicPr>
          <p:blipFill>
            <a:blip r:embed="rId1"/>
            <a:stretch/>
          </p:blipFill>
          <p:spPr>
            <a:xfrm>
              <a:off x="3446640" y="2036880"/>
              <a:ext cx="192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3610440" y="2760120"/>
              <a:ext cx="159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Mitigation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197240" y="3160800"/>
            <a:ext cx="1919520" cy="1965240"/>
            <a:chOff x="4197240" y="3160800"/>
            <a:chExt cx="1919520" cy="1965240"/>
          </a:xfrm>
        </p:grpSpPr>
        <p:pic>
          <p:nvPicPr>
            <p:cNvPr id="211" name="Picture 9" descr=""/>
            <p:cNvPicPr/>
            <p:nvPr/>
          </p:nvPicPr>
          <p:blipFill>
            <a:blip r:embed="rId2"/>
            <a:stretch/>
          </p:blipFill>
          <p:spPr>
            <a:xfrm>
              <a:off x="4197240" y="3160800"/>
              <a:ext cx="19195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"/>
            <p:cNvSpPr/>
            <p:nvPr/>
          </p:nvSpPr>
          <p:spPr>
            <a:xfrm>
              <a:off x="4478400" y="390672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Science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2643120" y="3160800"/>
            <a:ext cx="1982880" cy="1982880"/>
            <a:chOff x="2643120" y="3160800"/>
            <a:chExt cx="1982880" cy="1982880"/>
          </a:xfrm>
        </p:grpSpPr>
        <p:pic>
          <p:nvPicPr>
            <p:cNvPr id="214" name="Picture 12" descr=""/>
            <p:cNvPicPr/>
            <p:nvPr/>
          </p:nvPicPr>
          <p:blipFill>
            <a:blip r:embed="rId3"/>
            <a:stretch/>
          </p:blipFill>
          <p:spPr>
            <a:xfrm>
              <a:off x="2643120" y="3160800"/>
              <a:ext cx="19828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3"/>
            <p:cNvSpPr/>
            <p:nvPr/>
          </p:nvSpPr>
          <p:spPr>
            <a:xfrm>
              <a:off x="2844000" y="391068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Adaptation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29240" y="519444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comprehensive, integrated and cross-cutting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climate observing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odels and too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capa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"/>
          <p:cNvSpPr/>
          <p:nvPr/>
        </p:nvSpPr>
        <p:spPr>
          <a:xfrm>
            <a:off x="5880240" y="1368360"/>
            <a:ext cx="32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 energy demand; improve efficiency; expand use of low and zero carbon sources; carbon capture and sequestration; accelerate retirement of carbon intensive infrastructure; create new technology choic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52862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llaborative national strategy and program, in partnership with state, local and non-governmental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660240" y="0"/>
            <a:ext cx="4876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Helvetica Neue Light"/>
                <a:ea typeface="ヒラギノ角ゴ ProN W3"/>
              </a:rPr>
              <a:t>Hot off the Pres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609040" cy="656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00:21Z</dcterms:created>
  <dc:creator>Fabien Laurier</dc:creator>
  <dc:description/>
  <dc:language>en-US</dc:language>
  <cp:lastModifiedBy>UNFCCC</cp:lastModifiedBy>
  <dcterms:modified xsi:type="dcterms:W3CDTF">2010-06-04T09:30:33Z</dcterms:modified>
  <cp:revision>60</cp:revision>
  <dc:subject/>
  <dc:title>Slide 1</dc:title>
</cp:coreProperties>
</file>