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C340-CF31-41EE-B708-525AAF55F2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organize to facilitate cross-cutting research focused on understnading the interactions among  climate, human, and environmental systems and on supporting societal resposnes to climate chan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-including physical, biological, and social observa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– to improve attibution and prediction of high-impact regional weather and climate, to initialize seasonal to decadal cliamte forecasting, and to provide predictions of impact affecting adaptive capacities and vulnerabilities of environmental and human syst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0B81-2173-44F3-B4E6-21B2D464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4ACF-6B06-4206-BA1C-BD19DA9C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A0B6-1442-4B85-A037-E7F6FCF54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9E02-E326-4B5F-88B9-581A8BD3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B6FC-3272-464A-BB0C-78AB5FE6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A435-9C97-48FE-8E30-52053E8A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9E84-5EA8-440D-9A91-DB54855D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B3AD-7517-4995-8003-64A73376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B7EC-97A6-40A1-9147-0BB5205B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7A26-9C9D-438A-9A10-A08A8978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EFF7-BF35-4CEC-8E14-13455F51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709F-7D38-4A46-8CF9-E9985C77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B2DD-B1ED-4D80-B419-E7C84CEF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DC8E-E1DC-4344-8A1F-4DB58542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7FF0-9214-4DD0-BAFC-0AB7E9F2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81FD-B27E-4160-9F84-7CF32E393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F7BA-35C6-44A9-97DF-795E77E35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092C5-EDD3-46B5-8FA9-C99AC762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303BF-AD3F-4955-9A4E-44D7C4B5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57202-865A-4834-BB24-D5259CBB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5C9D4-A101-46C8-A980-95D4F86F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77F44-1470-4297-88BB-A2638C5D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399A-48B4-44DD-85EC-E98DA859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720DB-4EF4-475A-8A26-236C3728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8D291-6F89-4BBA-A022-FE66E31D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E617B-12FD-4086-A3D9-760C7235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A58E0-970B-46F6-B0A2-577DAB5A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6E768-CEEB-4F69-8E0E-C96EF2D0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CAC19-9021-4C3A-8977-A10F3F17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81198-75AA-4436-BC64-EF881D923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B77FA-7CCD-4C6B-BA99-5995EEA4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43B36-341A-4E38-B25C-35CE2EA6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2291C-80AC-4497-A737-56EBBFB3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8D94-E13B-48A1-9AEC-2EA1853A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5C2A4-3560-4242-8B24-C175AA95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99A1D-312D-43C3-A6C8-F2F32F01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DFE9A-29FD-43AD-9F28-FAC43E01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B7354-98F0-4A08-9CFE-21105B88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AE5A3-CD13-4A75-B277-FE14AA2A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7C7A7-E711-4B2D-8131-6E10E594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80B03-420A-49E1-889C-ABA36A35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55DEC-5DDA-4548-9C30-0EF5E9F60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F15A3-9721-40C9-8FD1-3E781FACF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F099-F15F-413B-B911-C0B6F4A9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BEA7-032F-4151-A733-475DCB85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0921-2E45-4817-93A6-88761075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FD4E-BBDF-4F43-A131-0E0D1F64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47AA-7567-40FD-87F1-C322739E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ectangle 26" descr=""/>
          <p:cNvPicPr/>
          <p:nvPr/>
        </p:nvPicPr>
        <p:blipFill>
          <a:blip r:embed="rId2"/>
          <a:stretch/>
        </p:blipFill>
        <p:spPr>
          <a:xfrm>
            <a:off x="-122400" y="6394320"/>
            <a:ext cx="3213360" cy="73188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23"/>
          <p:cNvGrpSpPr/>
          <p:nvPr/>
        </p:nvGrpSpPr>
        <p:grpSpPr>
          <a:xfrm>
            <a:off x="6095880" y="6095880"/>
            <a:ext cx="2971800" cy="685800"/>
            <a:chOff x="6095880" y="6095880"/>
            <a:chExt cx="2971800" cy="685800"/>
          </a:xfrm>
        </p:grpSpPr>
        <p:pic>
          <p:nvPicPr>
            <p:cNvPr id="2" name="Picture 24" descr="light-logo-transparent-background.png"/>
            <p:cNvPicPr/>
            <p:nvPr/>
          </p:nvPicPr>
          <p:blipFill>
            <a:blip r:embed="rId3"/>
            <a:stretch/>
          </p:blipFill>
          <p:spPr>
            <a:xfrm>
              <a:off x="6095880" y="6170400"/>
              <a:ext cx="228600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25" descr="NSTC.png"/>
            <p:cNvPicPr/>
            <p:nvPr/>
          </p:nvPicPr>
          <p:blipFill>
            <a:blip r:embed="rId4"/>
            <a:stretch/>
          </p:blipFill>
          <p:spPr>
            <a:xfrm>
              <a:off x="8383680" y="6095880"/>
              <a:ext cx="684000" cy="6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" name="Picture 17" descr="earthteshelft.png"/>
          <p:cNvPicPr/>
          <p:nvPr/>
        </p:nvPicPr>
        <p:blipFill>
          <a:blip r:embed="rId5"/>
          <a:stretch/>
        </p:blipFill>
        <p:spPr>
          <a:xfrm>
            <a:off x="-19080" y="-6480"/>
            <a:ext cx="2171880" cy="8461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E0CA-29AA-4964-AB79-EC75BA82D4B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D08A-4E2E-4244-9620-BB2D6206785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4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Rectangle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Rectangle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Rectangle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Rectangle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Rectangle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CB9B-17E3-49E7-8003-9E7150B8FA7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D125-312C-4E84-B976-A38B06475FC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6" descr="earthteshelft.png"/>
          <p:cNvPicPr/>
          <p:nvPr/>
        </p:nvPicPr>
        <p:blipFill>
          <a:blip r:embed="rId1"/>
          <a:stretch/>
        </p:blipFill>
        <p:spPr>
          <a:xfrm>
            <a:off x="-19080" y="-6480"/>
            <a:ext cx="2171880" cy="846144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29"/>
          <p:cNvGrpSpPr/>
          <p:nvPr/>
        </p:nvGrpSpPr>
        <p:grpSpPr>
          <a:xfrm>
            <a:off x="6019920" y="6095880"/>
            <a:ext cx="2971800" cy="685800"/>
            <a:chOff x="6019920" y="6095880"/>
            <a:chExt cx="2971800" cy="685800"/>
          </a:xfrm>
        </p:grpSpPr>
        <p:pic>
          <p:nvPicPr>
            <p:cNvPr id="188" name="Picture 19" descr="light-logo-transparent-background.png"/>
            <p:cNvPicPr/>
            <p:nvPr/>
          </p:nvPicPr>
          <p:blipFill>
            <a:blip r:embed="rId2"/>
            <a:stretch/>
          </p:blipFill>
          <p:spPr>
            <a:xfrm>
              <a:off x="6019920" y="6170400"/>
              <a:ext cx="228600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24" descr="NSTC.png"/>
            <p:cNvPicPr/>
            <p:nvPr/>
          </p:nvPicPr>
          <p:blipFill>
            <a:blip r:embed="rId3"/>
            <a:stretch/>
          </p:blipFill>
          <p:spPr>
            <a:xfrm>
              <a:off x="8307720" y="6095880"/>
              <a:ext cx="684000" cy="6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0" name="Rectangle 30" descr=""/>
          <p:cNvPicPr/>
          <p:nvPr/>
        </p:nvPicPr>
        <p:blipFill>
          <a:blip r:embed="rId4"/>
          <a:stretch/>
        </p:blipFill>
        <p:spPr>
          <a:xfrm>
            <a:off x="-122400" y="6394320"/>
            <a:ext cx="3213360" cy="7318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33720" y="2130120"/>
            <a:ext cx="632448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SBSTA Research Dialogue:</a:t>
            </a:r>
            <a:br>
              <a:rPr sz="3200"/>
            </a:b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Perspectives from the United State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June 2010, Bon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1760" y="-108000"/>
            <a:ext cx="8340480" cy="1216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Key messages 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560" y="13712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91000"/>
          </a:bodyPr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Science is central to the climate challenge, both for understanding and for respons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Climate science is changing.  The new vision and mission for integrated global change research needs to focus on the challenges of sustainability in a global contex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Line 1"/>
          <p:cNvSpPr/>
          <p:nvPr/>
        </p:nvSpPr>
        <p:spPr>
          <a:xfrm>
            <a:off x="455760" y="1123920"/>
            <a:ext cx="8232480" cy="14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1760" y="-108000"/>
            <a:ext cx="8340480" cy="1216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Key messages 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01760" y="761760"/>
            <a:ext cx="8340480" cy="46083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72000"/>
          </a:bodyPr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buClr>
                <a:srgbClr val="ea157a"/>
              </a:buClr>
              <a:buFont typeface="Corbe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We need to do a better job of using what we know, and deploy science in support of adaptation and  mitigation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National Adaptation Strateg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Climate Observing Systems and Servic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National Climate Assessmen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Adaptation Research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Line 1"/>
          <p:cNvSpPr/>
          <p:nvPr/>
        </p:nvSpPr>
        <p:spPr>
          <a:xfrm>
            <a:off x="455760" y="1123920"/>
            <a:ext cx="8232480" cy="14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"/>
          <p:cNvSpPr/>
          <p:nvPr/>
        </p:nvSpPr>
        <p:spPr>
          <a:xfrm>
            <a:off x="455760" y="138420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1760" y="125280"/>
            <a:ext cx="8340480" cy="1214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The USGCRP Mandate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99680" y="1071720"/>
            <a:ext cx="8340840" cy="49291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92000"/>
          </a:bodyPr>
          <a:p>
            <a:pPr lvl="1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>
              <a:lnSpc>
                <a:spcPct val="80000"/>
              </a:lnSpc>
              <a:spcBef>
                <a:spcPts val="825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understand, assess, predict . . .”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1199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raditional USGCRP strengths: physical science basis for climate chang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1199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ational Climate Assessment proces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>
              <a:lnSpc>
                <a:spcPct val="80000"/>
              </a:lnSpc>
              <a:spcBef>
                <a:spcPts val="42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 “</a:t>
            </a: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. . . and respond . . . to global change”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aptation research and analysi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itigation – technology and analysi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cience for decision support (climate service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utreach, education, and engagemen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1760" y="-1108440"/>
            <a:ext cx="8340480" cy="28227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r>
              <a:rPr b="1" lang="en-US" sz="2800" spc="-1" strike="noStrike">
                <a:solidFill>
                  <a:srgbClr val="0070c0"/>
                </a:solidFill>
                <a:latin typeface="Consolas"/>
              </a:rPr>
              <a:t>Scientific basis for understanding climate change and developing informed responses</a:t>
            </a:r>
            <a:br>
              <a:rPr sz="2800"/>
            </a:b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8040" y="1714680"/>
            <a:ext cx="8339040" cy="52243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organize around scientific-societal issue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stablish a climate observing syste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evelop next generation coupled Earth  system model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rengthen research on adaptation, mitigation, and vulnerabilit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itiate national assessment process with   broad stakeholder participa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ordinate climate services to decision maker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Line 1"/>
          <p:cNvSpPr/>
          <p:nvPr/>
        </p:nvSpPr>
        <p:spPr>
          <a:xfrm>
            <a:off x="455760" y="139212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1"/>
          <p:cNvSpPr/>
          <p:nvPr/>
        </p:nvSpPr>
        <p:spPr>
          <a:xfrm>
            <a:off x="455760" y="138420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1760" y="71280"/>
            <a:ext cx="8340480" cy="1214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A vision of the future: Three coordinated element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grpSp>
        <p:nvGrpSpPr>
          <p:cNvPr id="207" name="Group 5"/>
          <p:cNvGrpSpPr/>
          <p:nvPr/>
        </p:nvGrpSpPr>
        <p:grpSpPr>
          <a:xfrm>
            <a:off x="3446640" y="2036880"/>
            <a:ext cx="1920600" cy="1928520"/>
            <a:chOff x="3446640" y="2036880"/>
            <a:chExt cx="1920600" cy="1928520"/>
          </a:xfrm>
        </p:grpSpPr>
        <p:pic>
          <p:nvPicPr>
            <p:cNvPr id="208" name="Picture 6" descr=""/>
            <p:cNvPicPr/>
            <p:nvPr/>
          </p:nvPicPr>
          <p:blipFill>
            <a:blip r:embed="rId1"/>
            <a:stretch/>
          </p:blipFill>
          <p:spPr>
            <a:xfrm>
              <a:off x="3446640" y="2036880"/>
              <a:ext cx="1920600" cy="19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7"/>
            <p:cNvSpPr/>
            <p:nvPr/>
          </p:nvSpPr>
          <p:spPr>
            <a:xfrm>
              <a:off x="3610440" y="2760120"/>
              <a:ext cx="159804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Mitigation 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210" name="Group 8"/>
          <p:cNvGrpSpPr/>
          <p:nvPr/>
        </p:nvGrpSpPr>
        <p:grpSpPr>
          <a:xfrm>
            <a:off x="4197240" y="3160800"/>
            <a:ext cx="1919520" cy="1965240"/>
            <a:chOff x="4197240" y="3160800"/>
            <a:chExt cx="1919520" cy="1965240"/>
          </a:xfrm>
        </p:grpSpPr>
        <p:pic>
          <p:nvPicPr>
            <p:cNvPr id="211" name="Picture 9" descr=""/>
            <p:cNvPicPr/>
            <p:nvPr/>
          </p:nvPicPr>
          <p:blipFill>
            <a:blip r:embed="rId2"/>
            <a:stretch/>
          </p:blipFill>
          <p:spPr>
            <a:xfrm>
              <a:off x="4197240" y="3160800"/>
              <a:ext cx="1919520" cy="19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10"/>
            <p:cNvSpPr/>
            <p:nvPr/>
          </p:nvSpPr>
          <p:spPr>
            <a:xfrm>
              <a:off x="4478400" y="3906720"/>
              <a:ext cx="15984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Science 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213" name="Group 11"/>
          <p:cNvGrpSpPr/>
          <p:nvPr/>
        </p:nvGrpSpPr>
        <p:grpSpPr>
          <a:xfrm>
            <a:off x="2643120" y="3160800"/>
            <a:ext cx="1982880" cy="1982880"/>
            <a:chOff x="2643120" y="3160800"/>
            <a:chExt cx="1982880" cy="1982880"/>
          </a:xfrm>
        </p:grpSpPr>
        <p:pic>
          <p:nvPicPr>
            <p:cNvPr id="214" name="Picture 12" descr=""/>
            <p:cNvPicPr/>
            <p:nvPr/>
          </p:nvPicPr>
          <p:blipFill>
            <a:blip r:embed="rId3"/>
            <a:stretch/>
          </p:blipFill>
          <p:spPr>
            <a:xfrm>
              <a:off x="2643120" y="3160800"/>
              <a:ext cx="1982880" cy="19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Rectangle 13"/>
            <p:cNvSpPr/>
            <p:nvPr/>
          </p:nvSpPr>
          <p:spPr>
            <a:xfrm>
              <a:off x="2844000" y="3910680"/>
              <a:ext cx="15984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Adaptation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629240" y="5194440"/>
            <a:ext cx="481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exible, comprehensive, integrated and cross-cutting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ehensive climate observing syste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vanced models and tool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anded capacity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"/>
          <p:cNvSpPr/>
          <p:nvPr/>
        </p:nvSpPr>
        <p:spPr>
          <a:xfrm>
            <a:off x="5880240" y="1368360"/>
            <a:ext cx="326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uce  energy demand; improve efficiency; expand use of low and zero carbon sources; carbon capture and sequestration; accelerate retirement of carbon intensive infrastructure; create new technology choice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"/>
          <p:cNvSpPr/>
          <p:nvPr/>
        </p:nvSpPr>
        <p:spPr>
          <a:xfrm>
            <a:off x="136440" y="528624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ollaborative national strategy and program, in partnership with state, local and non-governmental partner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4"/>
          <p:cNvSpPr/>
          <p:nvPr/>
        </p:nvSpPr>
        <p:spPr>
          <a:xfrm>
            <a:off x="660240" y="0"/>
            <a:ext cx="48769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Helvetica Neue Light"/>
                <a:ea typeface="ヒラギノ角ゴ ProN W3"/>
              </a:rPr>
              <a:t>Hot off the Press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80880" y="351000"/>
            <a:ext cx="8609040" cy="6564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4:00:21Z</dcterms:created>
  <dc:creator>Fabien Laurier</dc:creator>
  <dc:description/>
  <dc:language>en-US</dc:language>
  <cp:lastModifiedBy>UNFCCC</cp:lastModifiedBy>
  <dcterms:modified xsi:type="dcterms:W3CDTF">2010-06-04T09:30:33Z</dcterms:modified>
  <cp:revision>60</cp:revision>
  <dc:subject/>
  <dc:title>Slide 1</dc:title>
</cp:coreProperties>
</file>