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2100-FA6F-46BC-9E1A-D59BB600FD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organize to facilitate cross-cutting research focused on understnading the interactions among  climate, human, and environmental systems and on supporting societal resposnes to climate chan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-including physical, biological, and social observat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s – to improve attibution and prediction of high-impact regional weather and climate, to initialize seasonal to decadal cliamte forecasting, and to provide predictions of impact affecting adaptive capacities and vulnerabilities of environmental and human syste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EEBE-C47D-46EF-BEFC-40D5ABBA9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C782-FA79-4362-8C93-2FE96541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24EE-EED9-4460-8F73-8784E939A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AB03-9133-4386-8E78-F90A18B34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91BF1-697E-4486-BE1D-1FD124499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95A8-4A9D-4E3E-82E6-83AA324A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058F-328E-4A38-AD6F-947BC8B5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134D9-E3CF-46F3-B5F9-D6853BFF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367C1-D8F2-4D05-87A9-49232DFB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B3B9-D97F-45DF-9E0D-314DEAE2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73D3-05EC-495F-9843-8743DFC6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FA8B-463C-468B-B0E4-142A475A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2BB3-055A-40E4-A1D7-5EE3431D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F4F7B-025D-4A0D-B020-97C244F1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3B944-68D7-4A1D-934D-720CB3BD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0CA9-5980-468C-8BAC-44A98312D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191C-9F98-4CB3-B8CD-78D9AC00A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3D903-2728-42EE-A43A-E2E612D71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ABDD4-61BD-457C-975A-28EE3E69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110FD-945B-447D-A681-1E6B8038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2AEE3-B27B-4A02-AD8C-270293F1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A9275-0967-44F6-AD76-4BE62204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B666-A965-41EC-BD14-4B72E7AC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BC327-10B6-4407-9E19-739C6841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9146F-1841-4E34-A261-EEA29F39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FCFC0-497B-45FB-BC78-B494A6A8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C5A2B-732D-433C-92FB-C73C8432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4FD28-A1FC-480D-8E3A-A4067A9C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E4EA9-1E09-43B6-AFBE-EF72F188A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A9D63-6B03-4FA8-B92C-1B6114B1A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0AAC2-52CA-43BA-BD6E-67B1C93EF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F0C45-CF5D-48AF-A628-ED015885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5A7BD-E50C-4297-BFEB-BF80BE1F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4546-19B1-4BE6-B5CA-984453C9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CFFA4-605F-4BBD-8293-D77E3107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F55C2-A32F-40A1-A994-1ACB42E9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720B9-1099-40D8-91B9-D6DAE99C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C6632-3640-4A00-B521-BDC013F9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30D92-EFC3-4F30-80D9-F8A6CC9F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0D055-8D20-45F3-AC80-865C8644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21BF3-CA55-4C2B-930F-BEAD42BD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FD866-A016-451A-80CF-A7E7F0F1A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036A0-5FDC-4F30-B43F-6E6D5EF1B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7A7D-F0F0-4AEF-B4A6-B5DF4D45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C637-36EC-4BDE-A931-82374750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4902-4701-478C-BA8D-1EE3E1AA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FEF7-4BE4-443D-B8E6-4A02C3FF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EAF0-32EA-4B71-9A7A-196ACB71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Rectangle 26" descr=""/>
          <p:cNvPicPr/>
          <p:nvPr/>
        </p:nvPicPr>
        <p:blipFill>
          <a:blip r:embed="rId2"/>
          <a:stretch/>
        </p:blipFill>
        <p:spPr>
          <a:xfrm>
            <a:off x="-122400" y="6394320"/>
            <a:ext cx="3213360" cy="73188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23"/>
          <p:cNvGrpSpPr/>
          <p:nvPr/>
        </p:nvGrpSpPr>
        <p:grpSpPr>
          <a:xfrm>
            <a:off x="6095880" y="6095880"/>
            <a:ext cx="2971800" cy="685800"/>
            <a:chOff x="6095880" y="6095880"/>
            <a:chExt cx="2971800" cy="685800"/>
          </a:xfrm>
        </p:grpSpPr>
        <p:pic>
          <p:nvPicPr>
            <p:cNvPr id="2" name="Picture 24" descr="light-logo-transparent-background.png"/>
            <p:cNvPicPr/>
            <p:nvPr/>
          </p:nvPicPr>
          <p:blipFill>
            <a:blip r:embed="rId3"/>
            <a:stretch/>
          </p:blipFill>
          <p:spPr>
            <a:xfrm>
              <a:off x="6095880" y="6170400"/>
              <a:ext cx="2286000" cy="6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25" descr="NSTC.png"/>
            <p:cNvPicPr/>
            <p:nvPr/>
          </p:nvPicPr>
          <p:blipFill>
            <a:blip r:embed="rId4"/>
            <a:stretch/>
          </p:blipFill>
          <p:spPr>
            <a:xfrm>
              <a:off x="8383680" y="6095880"/>
              <a:ext cx="684000" cy="684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" name="Picture 17" descr="earthteshelft.png"/>
          <p:cNvPicPr/>
          <p:nvPr/>
        </p:nvPicPr>
        <p:blipFill>
          <a:blip r:embed="rId5"/>
          <a:stretch/>
        </p:blipFill>
        <p:spPr>
          <a:xfrm>
            <a:off x="-19080" y="-6480"/>
            <a:ext cx="2171880" cy="8461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C700-E3DC-4331-8731-819FE7D0B93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78B8-D714-4919-94F7-E3F5780B001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4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Rectangle 19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Rectangle 20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Rectangle 21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Rectangle 28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Rectangle 29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8703-B1B7-4A74-B9A0-1DFB7616FF7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1456-3862-483A-8E8F-0E07FC42E2C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6" descr="earthteshelft.png"/>
          <p:cNvPicPr/>
          <p:nvPr/>
        </p:nvPicPr>
        <p:blipFill>
          <a:blip r:embed="rId1"/>
          <a:stretch/>
        </p:blipFill>
        <p:spPr>
          <a:xfrm>
            <a:off x="-19080" y="-6480"/>
            <a:ext cx="2171880" cy="846144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29"/>
          <p:cNvGrpSpPr/>
          <p:nvPr/>
        </p:nvGrpSpPr>
        <p:grpSpPr>
          <a:xfrm>
            <a:off x="6019920" y="6095880"/>
            <a:ext cx="2971800" cy="685800"/>
            <a:chOff x="6019920" y="6095880"/>
            <a:chExt cx="2971800" cy="685800"/>
          </a:xfrm>
        </p:grpSpPr>
        <p:pic>
          <p:nvPicPr>
            <p:cNvPr id="188" name="Picture 19" descr="light-logo-transparent-background.png"/>
            <p:cNvPicPr/>
            <p:nvPr/>
          </p:nvPicPr>
          <p:blipFill>
            <a:blip r:embed="rId2"/>
            <a:stretch/>
          </p:blipFill>
          <p:spPr>
            <a:xfrm>
              <a:off x="6019920" y="6170400"/>
              <a:ext cx="2286000" cy="6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24" descr="NSTC.png"/>
            <p:cNvPicPr/>
            <p:nvPr/>
          </p:nvPicPr>
          <p:blipFill>
            <a:blip r:embed="rId3"/>
            <a:stretch/>
          </p:blipFill>
          <p:spPr>
            <a:xfrm>
              <a:off x="8307720" y="6095880"/>
              <a:ext cx="684000" cy="684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0" name="Rectangle 30" descr=""/>
          <p:cNvPicPr/>
          <p:nvPr/>
        </p:nvPicPr>
        <p:blipFill>
          <a:blip r:embed="rId4"/>
          <a:stretch/>
        </p:blipFill>
        <p:spPr>
          <a:xfrm>
            <a:off x="-122400" y="6394320"/>
            <a:ext cx="3213360" cy="73188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33720" y="2130120"/>
            <a:ext cx="632448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SBSTA Research Dialogue:</a:t>
            </a:r>
            <a:br>
              <a:rPr sz="3200"/>
            </a:b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Perspectives from the United States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June 2010, Bon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1760" y="-108000"/>
            <a:ext cx="8340480" cy="1216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Key messages 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560" y="137124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91000"/>
          </a:bodyPr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Corbel"/>
              </a:rPr>
              <a:t>Science is central to the climate challenge, both for understanding and for respons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Corbel"/>
              </a:rPr>
              <a:t>Climate science is changing.  The new vision and mission for integrated global change research needs to focus on the challenges of sustainability in a global contex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Line 1"/>
          <p:cNvSpPr/>
          <p:nvPr/>
        </p:nvSpPr>
        <p:spPr>
          <a:xfrm>
            <a:off x="455760" y="1123920"/>
            <a:ext cx="8232480" cy="14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1760" y="-108000"/>
            <a:ext cx="8340480" cy="1216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Key messages 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01760" y="761760"/>
            <a:ext cx="8340480" cy="46083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72000"/>
          </a:bodyPr>
          <a:p>
            <a:pPr lvl="2" marL="64908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649080" indent="-329040">
              <a:buClr>
                <a:srgbClr val="ea157a"/>
              </a:buClr>
              <a:buFont typeface="Corbe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Corbel"/>
              </a:rPr>
              <a:t>We need to do a better job of using what we know, and deploy science in support of adaptation and  mitigation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64908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National Adaptation Strategy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Climate Observing Systems and Servic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National Climate Assessmen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Adaptation Research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64908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Line 1"/>
          <p:cNvSpPr/>
          <p:nvPr/>
        </p:nvSpPr>
        <p:spPr>
          <a:xfrm>
            <a:off x="455760" y="1123920"/>
            <a:ext cx="8232480" cy="14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Line 1"/>
          <p:cNvSpPr/>
          <p:nvPr/>
        </p:nvSpPr>
        <p:spPr>
          <a:xfrm>
            <a:off x="455760" y="1384200"/>
            <a:ext cx="8232480" cy="18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1760" y="125280"/>
            <a:ext cx="8340480" cy="1214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The USGCRP Mandate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99680" y="1071720"/>
            <a:ext cx="8340840" cy="49291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92000"/>
          </a:bodyPr>
          <a:p>
            <a:pPr lvl="1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>
              <a:lnSpc>
                <a:spcPct val="80000"/>
              </a:lnSpc>
              <a:spcBef>
                <a:spcPts val="825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1" i="1" lang="en-US" sz="3300" spc="-1" strike="noStrike">
                <a:solidFill>
                  <a:srgbClr val="ffffff"/>
                </a:solidFill>
                <a:latin typeface="Corbel"/>
              </a:rPr>
              <a:t>understand, assess, predict . . .”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1199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raditional USGCRP strengths: physical science basis for climate chang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1199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ational Climate Assessment proces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>
              <a:lnSpc>
                <a:spcPct val="80000"/>
              </a:lnSpc>
              <a:spcBef>
                <a:spcPts val="42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ffff"/>
                </a:solidFill>
                <a:latin typeface="Corbel"/>
              </a:rPr>
              <a:t> “</a:t>
            </a:r>
            <a:r>
              <a:rPr b="1" i="1" lang="en-US" sz="3300" spc="-1" strike="noStrike">
                <a:solidFill>
                  <a:srgbClr val="ffffff"/>
                </a:solidFill>
                <a:latin typeface="Corbel"/>
              </a:rPr>
              <a:t>. . . and respond . . . to global change”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daptation research and analysis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itigation – technology and analysi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cience for decision support (climate services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outreach, education, and engagemen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1760" y="-1108440"/>
            <a:ext cx="8340480" cy="28227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r>
              <a:rPr b="1" lang="en-US" sz="2800" spc="-1" strike="noStrike">
                <a:solidFill>
                  <a:srgbClr val="0070c0"/>
                </a:solidFill>
                <a:latin typeface="Consolas"/>
              </a:rPr>
              <a:t>Scientific basis for understanding climate change and developing informed responses</a:t>
            </a:r>
            <a:br>
              <a:rPr sz="2800"/>
            </a:b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08040" y="1714680"/>
            <a:ext cx="8339040" cy="52243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eorganize around scientific-societal issues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stablish a climate observing system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evelop next generation coupled Earth  system model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trengthen research on adaptation, mitigation, and vulnerability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nitiate national assessment process with   broad stakeholder participatio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oordinate climate services to decision maker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Line 1"/>
          <p:cNvSpPr/>
          <p:nvPr/>
        </p:nvSpPr>
        <p:spPr>
          <a:xfrm>
            <a:off x="455760" y="1392120"/>
            <a:ext cx="8232480" cy="18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Line 1"/>
          <p:cNvSpPr/>
          <p:nvPr/>
        </p:nvSpPr>
        <p:spPr>
          <a:xfrm>
            <a:off x="455760" y="1384200"/>
            <a:ext cx="8232480" cy="18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1760" y="71280"/>
            <a:ext cx="8340480" cy="1214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A vision of the future: Three coordinated elements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grpSp>
        <p:nvGrpSpPr>
          <p:cNvPr id="207" name="Group 5"/>
          <p:cNvGrpSpPr/>
          <p:nvPr/>
        </p:nvGrpSpPr>
        <p:grpSpPr>
          <a:xfrm>
            <a:off x="3446640" y="2036880"/>
            <a:ext cx="1920600" cy="1928520"/>
            <a:chOff x="3446640" y="2036880"/>
            <a:chExt cx="1920600" cy="1928520"/>
          </a:xfrm>
        </p:grpSpPr>
        <p:pic>
          <p:nvPicPr>
            <p:cNvPr id="208" name="Picture 6" descr=""/>
            <p:cNvPicPr/>
            <p:nvPr/>
          </p:nvPicPr>
          <p:blipFill>
            <a:blip r:embed="rId1"/>
            <a:stretch/>
          </p:blipFill>
          <p:spPr>
            <a:xfrm>
              <a:off x="3446640" y="2036880"/>
              <a:ext cx="1920600" cy="192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Rectangle 7"/>
            <p:cNvSpPr/>
            <p:nvPr/>
          </p:nvSpPr>
          <p:spPr>
            <a:xfrm>
              <a:off x="3610440" y="2760120"/>
              <a:ext cx="159804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440" tIns="0" bIns="0" anchor="t">
              <a:noAutofit/>
            </a:bodyPr>
            <a:p>
              <a:pPr marL="284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Helvetica Neue"/>
                  <a:ea typeface="ヒラギノ角ゴ ProN W3"/>
                </a:rPr>
                <a:t>Climate Change Mitigation </a:t>
              </a:r>
              <a:endParaRPr b="0" lang="en-US" sz="13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210" name="Group 8"/>
          <p:cNvGrpSpPr/>
          <p:nvPr/>
        </p:nvGrpSpPr>
        <p:grpSpPr>
          <a:xfrm>
            <a:off x="4197240" y="3160800"/>
            <a:ext cx="1919520" cy="1965240"/>
            <a:chOff x="4197240" y="3160800"/>
            <a:chExt cx="1919520" cy="1965240"/>
          </a:xfrm>
        </p:grpSpPr>
        <p:pic>
          <p:nvPicPr>
            <p:cNvPr id="211" name="Picture 9" descr=""/>
            <p:cNvPicPr/>
            <p:nvPr/>
          </p:nvPicPr>
          <p:blipFill>
            <a:blip r:embed="rId2"/>
            <a:stretch/>
          </p:blipFill>
          <p:spPr>
            <a:xfrm>
              <a:off x="4197240" y="3160800"/>
              <a:ext cx="1919520" cy="19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Rectangle 10"/>
            <p:cNvSpPr/>
            <p:nvPr/>
          </p:nvSpPr>
          <p:spPr>
            <a:xfrm>
              <a:off x="4478400" y="3906720"/>
              <a:ext cx="15984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440" tIns="0" bIns="0" anchor="t">
              <a:noAutofit/>
            </a:bodyPr>
            <a:p>
              <a:pPr marL="284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Helvetica Neue"/>
                  <a:ea typeface="ヒラギノ角ゴ ProN W3"/>
                </a:rPr>
                <a:t>Climate Change Science </a:t>
              </a:r>
              <a:endParaRPr b="0" lang="en-US" sz="13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213" name="Group 11"/>
          <p:cNvGrpSpPr/>
          <p:nvPr/>
        </p:nvGrpSpPr>
        <p:grpSpPr>
          <a:xfrm>
            <a:off x="2643120" y="3160800"/>
            <a:ext cx="1982880" cy="1982880"/>
            <a:chOff x="2643120" y="3160800"/>
            <a:chExt cx="1982880" cy="1982880"/>
          </a:xfrm>
        </p:grpSpPr>
        <p:pic>
          <p:nvPicPr>
            <p:cNvPr id="214" name="Picture 12" descr=""/>
            <p:cNvPicPr/>
            <p:nvPr/>
          </p:nvPicPr>
          <p:blipFill>
            <a:blip r:embed="rId3"/>
            <a:stretch/>
          </p:blipFill>
          <p:spPr>
            <a:xfrm>
              <a:off x="2643120" y="3160800"/>
              <a:ext cx="1982880" cy="19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Rectangle 13"/>
            <p:cNvSpPr/>
            <p:nvPr/>
          </p:nvSpPr>
          <p:spPr>
            <a:xfrm>
              <a:off x="2844000" y="3910680"/>
              <a:ext cx="15984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440" tIns="0" bIns="0" anchor="t">
              <a:noAutofit/>
            </a:bodyPr>
            <a:p>
              <a:pPr marL="284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Helvetica Neue"/>
                  <a:ea typeface="ヒラギノ角ゴ ProN W3"/>
                </a:rPr>
                <a:t>Climate Change Adaptation</a:t>
              </a:r>
              <a:endParaRPr b="0" lang="en-US" sz="13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629240" y="5194440"/>
            <a:ext cx="481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exible, comprehensive, integrated and cross-cutting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rehensive climate observing system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vanced models and tool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anded capacity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"/>
          <p:cNvSpPr/>
          <p:nvPr/>
        </p:nvSpPr>
        <p:spPr>
          <a:xfrm>
            <a:off x="5880240" y="1368360"/>
            <a:ext cx="326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duce  energy demand; improve efficiency; expand use of low and zero carbon sources; carbon capture and sequestration; accelerate retirement of carbon intensive infrastructure; create new technology choice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"/>
          <p:cNvSpPr/>
          <p:nvPr/>
        </p:nvSpPr>
        <p:spPr>
          <a:xfrm>
            <a:off x="136440" y="5286240"/>
            <a:ext cx="36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collaborative national strategy and program, in partnership with state, local and non-governmental partner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4"/>
          <p:cNvSpPr/>
          <p:nvPr/>
        </p:nvSpPr>
        <p:spPr>
          <a:xfrm>
            <a:off x="660240" y="0"/>
            <a:ext cx="487692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Helvetica Neue Light"/>
                <a:ea typeface="ヒラギノ角ゴ ProN W3"/>
              </a:rPr>
              <a:t>Hot off the Press…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80880" y="351000"/>
            <a:ext cx="8609040" cy="6564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4:00:21Z</dcterms:created>
  <dc:creator>Fabien Laurier</dc:creator>
  <dc:description/>
  <dc:language>en-US</dc:language>
  <cp:lastModifiedBy>UNFCCC</cp:lastModifiedBy>
  <dcterms:modified xsi:type="dcterms:W3CDTF">2010-06-04T09:30:33Z</dcterms:modified>
  <cp:revision>60</cp:revision>
  <dc:subject/>
  <dc:title>Slide 1</dc:title>
</cp:coreProperties>
</file>