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5BC56-6C1B-4BE8-866C-16CC0B4EA6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A0185-4294-44D0-AE0E-E0BDF34618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230BA-14A0-4651-9B2B-8919E0377D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35C4E-4947-4F6C-84AE-97FCF21D15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F5FB2-4105-4015-8427-EE842A8899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5A0C8-BD26-4B4D-81F4-61359228FE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nder, M.A., TR. Knutson, R.E. Tuleya, J.J. Sirutis, G.A. Vecchi, S.T. Garner and I.M. Held (2010) "Modeled Impact of Anthropogenic Warming on the Frequency of Intense Atlantic Hurricanes" Science 327, 454-45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ilverman, J., Lazar, B., Cao, L., Caldeira, K., &amp; Erez, J. (2009) Coral reefs may start dissolving when atmospheric CO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doubles. </a:t>
            </a:r>
            <a:r>
              <a:rPr b="0" i="1" lang="en-GB" sz="1200" spc="-1" strike="noStrike">
                <a:solidFill>
                  <a:srgbClr val="000000"/>
                </a:solidFill>
                <a:latin typeface="Calibri"/>
              </a:rPr>
              <a:t>Geophysical Research Letters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36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L0560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icogna, I. (2009) “Increasing rates of ice mass loss from the Greenland and Antarctic ice sheets revealed by GRACE“, Geophysical Research Letters 36, L1950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on, J.E.N., Hoegh-Guldberg, O., Lenton, T.M., Lough, J.M., Obura, D.O., Pearce-Kelly, P., Sheppard, C.R.C., Spalding, M., Stafford-Smith, M.G., &amp; Rogers, A.D. (2009) “The coral reef crisis: The critical importance of &lt;350 ppm CO2”, Marine Pollution Bulletin 58(10): 1428-143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60A68-E8C7-480A-BD17-85B63D7120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nder, M.A., TR. Knutson, R.E. Tuleya, J.J. Sirutis, G.A. Vecchi, S.T. Garner and I.M. Held (2010) "Modeled Impact of Anthropogenic Warming on the Frequency of Intense Atlantic Hurricanes" Science 327, 454-45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ilverman, J., Lazar, B., Cao, L., Caldeira, K., &amp; Erez, J. (2009) Coral reefs may start dissolving when atmospheric CO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doubles. </a:t>
            </a:r>
            <a:r>
              <a:rPr b="0" i="1" lang="en-GB" sz="1200" spc="-1" strike="noStrike">
                <a:solidFill>
                  <a:srgbClr val="000000"/>
                </a:solidFill>
                <a:latin typeface="Calibri"/>
              </a:rPr>
              <a:t>Geophysical Research Letters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36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L0560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icogna, I. (2009) “Increasing rates of ice mass loss from the Greenland and Antarctic ice sheets revealed by GRACE“, Geophysical Research Letters 36, L1950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on, J.E.N., Hoegh-Guldberg, O., Lenton, T.M., Lough, J.M., Obura, D.O., Pearce-Kelly, P., Sheppard, C.R.C., Spalding, M., Stafford-Smith, M.G., &amp; Rogers, A.D. (2009) “The coral reef crisis: The critical importance of &lt;350 ppm CO2”, Marine Pollution Bulletin 58(10): 1428-143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967A4-5E58-410C-B0BA-B6659A7FA9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B5A31-2C14-4C8B-80DC-7905BC1845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F3CDF-E91E-46B9-8A01-1607E867BF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09F11-477D-4DBF-BD6F-1ED07DD5F3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BF17C-84B6-49E7-B62F-A07F654ECA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CF0A1-1B52-4F78-865F-A5296C653B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B816-DF88-445C-862D-B5654970D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3FED-7BD5-41D3-9EF4-3AD6019E3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CE37-04D2-455A-A3EA-B4AB7383A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492C-8A85-4B04-A91D-E71F7E057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F51EC-0B72-4CEF-B7BC-0AA8ECBA3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62281-52F7-4EA0-9057-06548CDBB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76E44-7897-4F3D-8CDC-A3F1E8D89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623EC-3AF8-41B4-B491-2661BFEFC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2BDC4-0BBD-4797-B846-896764E96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E5021-BC27-40E6-BF95-9164AABAF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ABBB6-C686-4B51-878F-EA9868AF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4D8D-0728-4903-ABB8-60A793BC0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ACBC5-402C-409A-AB90-EB42E1DC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7063A-0263-4D93-B9AA-28FDFBB1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AFDA1-1A8E-4403-ABFC-C4099EF37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0BAA0-CAF9-448C-B227-E5E7639CC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0376B-EE62-4AAF-9D0C-1633B080F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26EF0-9316-4B94-959C-EEB7D7521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24569-9648-4B1C-A7B0-20DB90A73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25ACC-F47C-4EAE-8D7E-6BA15A743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2DCE2-3A68-4992-957D-64D4FAFF4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575BE-39C0-44C2-B3C6-A3E5481C1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46B7-5DFC-49CC-A271-1558BBD5E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48AFC-DB92-416C-A8AC-56B153B76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94916-D6AF-4837-8210-852F3FDC6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485FB-5BAE-4596-ADDE-6CF686011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40E9B-C486-4635-8B15-5FB811EA9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BCEB7-2C53-402B-96AC-94D164287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C4D52-8AE8-45C4-94AE-75B1E8FB4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69536-8ABA-4D70-854E-DD9685BEF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3F849-3692-42C1-97C1-D04D683A5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068F1-180D-42AC-9153-EEE5EDCF1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2B547-6888-4463-B446-EF33012C9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04DB-880A-47CE-B6D7-553C7C30E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51653-7AF1-4684-8DB0-96DF2ABA0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5CD8F-45AF-41FF-AA3B-11914C2E5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64F33-EBB5-4F34-B286-82A59155C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F1CA5-3572-492D-98F6-89C395F3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C5CCE-F4E1-44B7-98A6-A7FF38BDF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59173-D464-4747-B3CA-6EE2B3D7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D5F1C-CE4B-401E-999F-581A7B207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2C1B6-4316-4120-A420-1334FB428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85257-BD70-4D6F-ADD8-471CE2778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4B4A7-4D4E-4880-BB10-937E44C81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3D2A-4032-405F-930A-78AB7690B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E63499-A3E8-488F-BEC7-F57C78C15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B0CCB-8182-4E2B-B496-AA0FB7236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8144E-A297-44EB-9578-0D2EE69CB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5AFEE-B293-46A9-ABB0-357BB6761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E2F66F-8721-44AA-8A46-73A44A580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FA5A9-B5D6-49F5-8185-82922288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8E1C3-FC45-47C5-865F-3BDBC5BDF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18834-076E-4729-BA8A-0FBE7933D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B58F93-5CE7-4A2F-B6A5-AF9D398B8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3B3C2-A19E-4936-97CA-09C179F70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DF83-7008-4F1B-9BF0-815101316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C7B71-EA26-4A32-B7E3-69E7B2869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BD9709-004E-40F6-9003-4122CE1A5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B8C78F-7215-4341-869A-EE7D9D5A4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E0C9A5-1FE9-402D-A46E-7F094E771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34C735-0F26-46CC-A286-1EC6212FD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EE8E77-DE0B-4E9B-9BBA-69D7A0D08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76C15D-539B-4CEC-92B1-A132FEB71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0D20A9-F3D0-4963-8D6A-EFE3D0058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8787A7-D243-43C4-B4D0-4BA969E4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ECD59F-85FE-4D4A-BBC0-85BFF6E12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7356-C48F-4CA0-873B-891094EC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32691D-2CAB-4407-ABE3-C6F63F4C1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95AC25-251E-429A-A57E-15CC2BAD9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FC3DAD-2990-4DC7-B7D1-782EA31E4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9FC804-EBC5-4582-87E4-F71CBE800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C865EA-4855-4061-9494-1600B9C49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248564-3BBF-4E23-8D55-6B89278D7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67C3AB-25AD-40DA-95C5-ABDAAD199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29E844-F690-48CE-A273-EB5B29521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DEAA9A-6160-4346-90EC-5C4D2806A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36B51A-EDDD-44C3-905D-19D2FCC9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C15A-C138-4442-B2B0-9E3B7BAE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22F8EB-A6A7-459D-9B50-783C51B3D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6AF45C-EE7F-4BE7-B7CB-01C44A99A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38DB31-60B9-4DCE-AD30-C5238438C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280768-C16F-4063-B042-D23EC227A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CE8619-07B8-4C8E-BBBA-5F93453F0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3B7B4A-B37F-45E6-9BA1-71E4EA22F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08B79A-E508-4C83-B594-909575394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C1C2EF-0E31-4964-A0FA-A299ADDFF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EFCAEE-EF83-4377-A31F-E7E346104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170AA7-F616-4864-9262-EA37DB97A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244B-0904-4C03-8316-C2E1BFE75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3B47E8-214F-4F2C-A4B4-7C9E759C1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3642BA-2F33-4A08-8E77-F92FBD47D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7A5CF1-3DA2-439E-AF07-8F4F6ED1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8CB8F0-AD8F-43AD-9294-C464FF366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B937EA-075A-46FD-823F-3E2E3E18D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B27030-7813-4A5D-AD61-7E6C917B5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22990C-8C81-437C-8AF3-B2F5D5132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C621D-8C8C-4C9A-9A78-05684E72927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36B60-023F-4609-8CD6-1D1063D62EA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5191B-0536-4D0E-8E5E-64160377096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CF91C-B95E-4690-AA44-8D191684FE5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F67ED-B2C5-451C-BBA1-A315660B14A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F203B-B05E-48A3-81B4-362EEC92333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26659-E9ED-4DD3-9244-BC47661B2E5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440F3-11AF-467A-BA94-F8644A33804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291960" y="530280"/>
            <a:ext cx="8060040" cy="161604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33520" y="3124080"/>
            <a:ext cx="8076960" cy="187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By Ann Gord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Deputy Chief Meteorologis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National Meteorological Service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Beliz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447920"/>
            <a:ext cx="8229600" cy="45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ificant advances made, however, much work needs to be done  to reduce model biases through better representation of physical processes and higher spatial resolut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onal climate modeling of climate change scenarios needs to be improved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pick up smaller scale phenomenon and reduce uncertainti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analyse future changes in weather extremes such as tropical cyclones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Tit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ngthening Science-Policy Dialogue in developing countries and between Region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 a mechanism for sharing best practices so that we can learn from each others experiences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Tit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3" descr=""/>
          <p:cNvPicPr/>
          <p:nvPr/>
        </p:nvPicPr>
        <p:blipFill>
          <a:blip r:embed="rId1"/>
          <a:stretch/>
        </p:blipFill>
        <p:spPr>
          <a:xfrm>
            <a:off x="646200" y="1865160"/>
            <a:ext cx="784548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068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ting the Context: Most recent projections for Caribbean Region -similar activities occurring in other SIDS regi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eed for research on impacts of climate change on different parts of the world - more focused research on regional impact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eed to strengthen regional models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ngthening Science-Policy Dialogue in Developing Countri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Title 1" descr=""/>
          <p:cNvPicPr/>
          <p:nvPr/>
        </p:nvPicPr>
        <p:blipFill>
          <a:blip r:embed="rId1"/>
          <a:stretch/>
        </p:blipFill>
        <p:spPr>
          <a:xfrm>
            <a:off x="268200" y="225360"/>
            <a:ext cx="8948880" cy="100008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 txBox="1"/>
          <p:nvPr/>
        </p:nvSpPr>
        <p:spPr>
          <a:xfrm>
            <a:off x="152280" y="13712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Doubling in frequency of hurricanes in strongest categories 4 and 5 by 2100, particularly in Northern Caribbean, despite overall decrease in frequency of average tropical cyclones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Recent satellite observations reveal acceleration of mass loss from polar ice caps. Continuing this trend would imply up to 1 m SLR by 2100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Increasing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concentration acidifying the world oceans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Under current pledges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-By 2030s, GHG concentration is expected to be at 450 ppm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 Unicode"/>
              </a:rPr>
              <a:t>2,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coral reefs may dissolv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-By 2050s, GHG concentration is expected to be at 550 ppm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 Unicode"/>
              </a:rPr>
              <a:t>2,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coral may stop growing 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Below 350 ppm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appears to be ‘safe’ for reef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at present 386 ppm and rising at 2ppm/yea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Title 1" descr=""/>
          <p:cNvPicPr/>
          <p:nvPr/>
        </p:nvPicPr>
        <p:blipFill>
          <a:blip r:embed="rId1"/>
          <a:stretch/>
        </p:blipFill>
        <p:spPr>
          <a:xfrm>
            <a:off x="115920" y="378000"/>
            <a:ext cx="8826480" cy="84744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 txBox="1"/>
          <p:nvPr/>
        </p:nvSpPr>
        <p:spPr>
          <a:xfrm>
            <a:off x="151920" y="1371240"/>
            <a:ext cx="81536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ncreasing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concentration acidifying the world oceans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3200" indent="-21456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Under a Copenhagen Accord outcomes with current targets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07120" indent="-2145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-By 2030s, GHG concentration is expected to be at 450 ppm 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Lucida Sans Unicode"/>
              </a:rPr>
              <a:t>2,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 coral reefs may dissolve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07120" indent="-2145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-By 2050s, GHG concentration is expected to be at 550 ppm 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Lucida Sans Unicode"/>
              </a:rPr>
              <a:t>2,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 coral may stop growing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07120" indent="-2145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3200" indent="-21456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Below 350 ppm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appears to be ‘safe’ for reef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3200" indent="-21456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at present 386 ppm and rising at 2ppm/yea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228240" y="1481040"/>
            <a:ext cx="845820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s show warming trend continues reaching by 2080’s a further increase of between 1 and 5 degrees C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ater Warming in the NW Caribbean (Jamaica, Cuba, Hispaniola, Belize) than in E Caribbean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ater warming in JJA than in cooler traditionally drier earlier months DJF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ier Caribbean basin in annual total by 2080’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ilar scenarios being developed in other SIDs region- same level of support needed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le 2" descr=""/>
          <p:cNvPicPr/>
          <p:nvPr/>
        </p:nvPicPr>
        <p:blipFill>
          <a:blip r:embed="rId1"/>
          <a:stretch/>
        </p:blipFill>
        <p:spPr>
          <a:xfrm>
            <a:off x="79200" y="109440"/>
            <a:ext cx="861408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acts of climate change on different sectors in the region given that climate, climate change and vulnerabilities differ by regions, also some sectors are more sensitive than other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e sheets and Sea Level Rise (SLR) with a focus on regional distribution  on sea level ris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mpacts of a 1.5⁰C, 2⁰C and 3⁰C temperature rise on sea level rise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need for scenarios of SLR to better understand adaptation  issue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Title 2" descr=""/>
          <p:cNvPicPr/>
          <p:nvPr/>
        </p:nvPicPr>
        <p:blipFill>
          <a:blip r:embed="rId1"/>
          <a:stretch/>
        </p:blipFill>
        <p:spPr>
          <a:xfrm>
            <a:off x="152280" y="268200"/>
            <a:ext cx="831528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mpacts of a 1.5⁰ C, 2⁰C and 3⁰C temperature rise on marine and terrestrial life in the region to better estimate threshold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hysical and Biological impacts of Sea Level Rise: focus on ecosystems and ecological processes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acts of Ocean acidification and biogeochemical processes on marine lif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Tit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ated assessments of climate change  impacts and responses, for example: increase in SST will affect coral reefs, sea grass beds, mangroves, etc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served and projected economic impacts of climate chang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‘human side’ of the implications of climate change, including, human security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Title 2" descr=""/>
          <p:cNvPicPr/>
          <p:nvPr/>
        </p:nvPicPr>
        <p:blipFill>
          <a:blip r:embed="rId1"/>
          <a:stretch/>
        </p:blipFill>
        <p:spPr>
          <a:xfrm>
            <a:off x="152280" y="298440"/>
            <a:ext cx="8467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Title 1" descr=""/>
          <p:cNvPicPr/>
          <p:nvPr/>
        </p:nvPicPr>
        <p:blipFill>
          <a:blip r:embed="rId1"/>
          <a:stretch/>
        </p:blipFill>
        <p:spPr>
          <a:xfrm>
            <a:off x="268200" y="378000"/>
            <a:ext cx="8504280" cy="115236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improved spatial resolution of climate projections, integrated assessments of potential damage to society (economy, health etc.) are urgently needed to estimate adaptation need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ning, costing, and best practices for national adaptation strategies and plans in different sectors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arch on climate finance on how best to secure adequate and accessible finance sources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ls and methods for assessment and decision-making related to adaptation implementation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17:16:36Z</dcterms:created>
  <dc:creator>Ann Gordon</dc:creator>
  <dc:description/>
  <dc:language>en-US</dc:language>
  <cp:lastModifiedBy>Ann Gordon</cp:lastModifiedBy>
  <dcterms:modified xsi:type="dcterms:W3CDTF">2010-06-02T17:48:27Z</dcterms:modified>
  <cp:revision>49</cp:revision>
  <dc:subject/>
  <dc:title>NationalNeeds and Priorities</dc:title>
</cp:coreProperties>
</file>