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447A2-93FE-4B43-A2CC-84D315DE3D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5025F-147A-4612-8F7D-3E29356624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8480D-FEBE-4624-9391-4B6A2B77BA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B9C9-5110-4032-8389-227A792632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8296F-FD6B-4440-8838-9C8F0A11DB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88286-51FE-45A0-A234-42191F575B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nder, M.A., TR. Knutson, R.E. Tuleya, J.J. Sirutis, G.A. Vecchi, S.T. Garner and I.M. Held (2010) "Modeled Impact of Anthropogenic Warming on the Frequency of Intense Atlantic Hurricanes" Science 327, 454-45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ilverman, J., Lazar, B., Cao, L., Caldeira, K., &amp; Erez, J. (2009) Coral reefs may start dissolving when atmospheric CO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doubles. </a:t>
            </a:r>
            <a:r>
              <a:rPr b="0" i="1" lang="en-GB" sz="1200" spc="-1" strike="noStrike">
                <a:solidFill>
                  <a:srgbClr val="000000"/>
                </a:solidFill>
                <a:latin typeface="Calibri"/>
              </a:rPr>
              <a:t>Geophysical Research Letters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36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L0560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icogna, I. (2009) “Increasing rates of ice mass loss from the Greenland and Antarctic ice sheets revealed by GRACE“, Geophysical Research Letters 36, L1950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on, J.E.N., Hoegh-Guldberg, O., Lenton, T.M., Lough, J.M., Obura, D.O., Pearce-Kelly, P., Sheppard, C.R.C., Spalding, M., Stafford-Smith, M.G., &amp; Rogers, A.D. (2009) “The coral reef crisis: The critical importance of &lt;350 ppm CO2”, Marine Pollution Bulletin 58(10): 1428-143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8EEB5-D8E3-4D17-91D8-005BD7B65D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nder, M.A., TR. Knutson, R.E. Tuleya, J.J. Sirutis, G.A. Vecchi, S.T. Garner and I.M. Held (2010) "Modeled Impact of Anthropogenic Warming on the Frequency of Intense Atlantic Hurricanes" Science 327, 454-45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ilverman, J., Lazar, B., Cao, L., Caldeira, K., &amp; Erez, J. (2009) Coral reefs may start dissolving when atmospheric CO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doubles. </a:t>
            </a:r>
            <a:r>
              <a:rPr b="0" i="1" lang="en-GB" sz="1200" spc="-1" strike="noStrike">
                <a:solidFill>
                  <a:srgbClr val="000000"/>
                </a:solidFill>
                <a:latin typeface="Calibri"/>
              </a:rPr>
              <a:t>Geophysical Research Letters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36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L0560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icogna, I. (2009) “Increasing rates of ice mass loss from the Greenland and Antarctic ice sheets revealed by GRACE“, Geophysical Research Letters 36, L1950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on, J.E.N., Hoegh-Guldberg, O., Lenton, T.M., Lough, J.M., Obura, D.O., Pearce-Kelly, P., Sheppard, C.R.C., Spalding, M., Stafford-Smith, M.G., &amp; Rogers, A.D. (2009) “The coral reef crisis: The critical importance of &lt;350 ppm CO2”, Marine Pollution Bulletin 58(10): 1428-143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4BD56-3944-4102-ACE3-F27F6A7C79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187C1-735A-4328-96C0-FD04510BD7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30CAF-122E-4400-8E4F-5F9CC27491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05D5E-5D3E-428B-B4D1-9893BE4CB8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11C59-AAB2-40A5-8E6A-0CDF4E3DC3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F2CDA-62F1-4590-88E3-8A0FE2A1F9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C4FE-2D1E-438F-ACFA-8AD2DAE13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B70C-2080-4A3B-A58E-3A550220D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550E-A351-45A2-BC22-EEE768D4C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813D-B63B-4773-9237-E88567570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09C59-89D4-42FB-BE70-AC0750526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AD054-68BD-4E21-BD9D-ED48711D4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F5BC8-CF8E-45A0-AC63-A354FEC15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D2E97-F6B3-4FF1-98AB-DA5F7F54C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732A3-30D4-40F0-8684-DD55DEAFE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175E3-6290-4547-90B8-F2EBC295B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C9D50-F652-4E76-9267-B6B7368D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0920-7328-4C4F-B11B-80B269A20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1E6DD-9E07-4573-86A5-1C43BD70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33EEF-E9CF-4902-BEC0-96033ACB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A02EF-3239-4069-AE37-63E2E7E87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52F02-B882-421F-83AA-64B7AF553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3BDC2-BD1A-4713-97C4-533AB645B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08D45-E917-437D-9F2C-2D1EDDE83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1E668-9FFC-4559-A716-641A05BFE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1D7BF-0467-4FAE-BBA1-19617E079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F645A-A914-471C-BD1A-A6AE61F1A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1B9FC-D918-4023-842E-7DEEFA580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9921-FA13-482A-9B38-B6E6C04A1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D5590-868A-41A5-810F-ECF744CFD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E538D-C8F2-47E8-9A52-A5021CE9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F719D-A7D2-41FD-B10A-A34556D9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40BC8-5CB6-4DE5-B80C-5679AE3B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BEB75-0ACA-46A3-8113-557866314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CC033-01A9-4186-861D-DA11D076A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40EEF-4E4E-4F80-B547-AFB912F4C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C68E8-71BA-4E9D-9858-0DA27867D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7212D-CC7B-4B5E-90F8-7FAA88B95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DC30F-4AA8-4873-A7DC-7C5D189E4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18B6-BCC3-496C-87CB-93B058F90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A4EDE-81D5-41D0-896D-2EA08A9F0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EDAC0-2846-4D5C-BCE3-C406567AD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B27E4-F358-4D2A-96B4-3AFC036E9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2772C-43E7-470F-AA7C-C86976EC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16ADA-8453-4C53-B5AD-3F0FB910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8074B-D6C9-4C74-A809-6A784310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45A20-9343-4505-8471-F5AA7C467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904A8-6BAC-47AC-97E7-4EE987100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1DA92-AD6C-45D1-9B79-2704EE553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1DB09-45C3-4F67-93EE-D2CA2B7A7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1CF4-10C5-424F-B826-A5781EA2F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990B5-1BD7-42BB-B53D-306DF9CF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93991-8306-4F94-ACFE-571FDE8C6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CA0A0-F71D-42D3-A97A-271B96F2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B83FC-7BE1-4F1E-A44D-7A261E068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49803-A584-4FEB-852B-9B5941789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5AAA9-4E5F-41B6-9F39-97338ECC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E196F-269E-4F7D-A4C3-D18DE337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68B9E-D53E-4FA4-9196-FEB7028D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10753-2F4F-4218-B9B1-E56713A20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ABF1D-D49B-46DF-8C2B-02E01D5AF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D950-E7B8-4A40-B359-35D567916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6FF5D-2CA7-4A53-A8C6-D6DF2A0F0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288FB-0B72-4006-9094-90F68F890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B4B01-995D-4ED1-86CA-10A0549FE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9E8651-6718-4C90-A844-4AC62155A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F8DEC-4FAF-43EB-BB14-EE49233D8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74282-72E2-4ED7-9647-9434417AD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15F73-C827-4A9A-8036-95A525FFD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5A20A-E2E1-48DF-A7AA-DFE8F156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38103-892C-4634-87A9-89F452F4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EF4A5-4503-4555-A2C3-E9258754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17BC-B493-4872-8682-129E8D8F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D3985-1971-40E2-B91E-B95B11CBE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27EF32-8DB0-4D7C-95B4-125B34474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12C16-2A80-4E6A-91B5-5454F78F4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57D67-DB7B-48BD-9A62-B50AB3BC5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D3B99-ED68-4D46-A1A8-BF8071FE6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D1DB27-233D-42D1-B251-9820C5341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26B6D-1E9B-4733-95F0-32105C74B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83D973-D972-494C-894F-25A91B48F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2399A-FD49-4831-83FD-0D1481BDD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6E39E5-AFEC-4B32-AC12-8848074C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0BDF-E8B4-4CC4-B8CC-F88831FC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8A9AC-23B8-4E4B-835E-C970654F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65C79F-926E-47B5-AD69-54419E44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605A8-E4D8-4EB6-8C21-E10447B90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F72D0-7DEA-4485-B0AF-67E44936F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8DEBC9-D88F-4F8F-B7D5-3FFFFC906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B057B1-3EC9-4390-B272-C0F0D3911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907889-629E-42B3-B7E9-1DE43FC04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6EB30-998A-4661-B36A-AC4301804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8AD71B-A3F8-42C0-8F9B-41FE0228F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E353F4-49A2-4342-9404-2C1D6EC37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06A0-7D49-4F04-8A70-8242C751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E2296D-C8CA-43D4-9C16-7DFE51267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CEE3B7-49A6-4016-B6CE-224103B0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B6683B-0843-4736-A073-308FBA6D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E8F8B3-EB64-4CE3-BC43-DA96C2FB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ED00BA-D75C-45C1-8046-20371B079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8DC53C-3545-4888-AD85-CFFFAC1F6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CB0145-AEA0-40D8-9D9A-7E6FA1366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70E05-2EB4-4F2D-905E-82397989016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AF2E8-5683-476A-B1E7-FB9DF8ADA63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FA3D1-A6B7-48E9-AF46-FE20AB9E3BE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6DFE4-5DC3-40F1-892C-35B8E0FC7E5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22BED-DC6B-4043-8285-C87DF23B044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6FD99-DABA-47C1-A8F2-3CE722A6A62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EC300-9F65-478C-8505-A0910F76121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40420-CE7F-441D-8416-EF6DAEB299D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291960" y="530280"/>
            <a:ext cx="8060040" cy="161604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33520" y="3124080"/>
            <a:ext cx="8076960" cy="187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By Ann Gord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Deputy Chief Meteorologis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National Meteorological Service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Beliz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47920"/>
            <a:ext cx="822960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ificant advances made, however, much work needs to be done  to reduce model biases through better representation of physical processes and higher spatial resolu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onal climate modeling of climate change scenarios needs to be improved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pick up smaller scale phenomenon and reduce uncertainti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analyse future changes in weather extremes such as tropical cyclones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Tit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ngthening Science-Policy Dialogue in developing countries and between Region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a mechanism for sharing best practices so that we can learn from each others experiences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3" descr=""/>
          <p:cNvPicPr/>
          <p:nvPr/>
        </p:nvPicPr>
        <p:blipFill>
          <a:blip r:embed="rId1"/>
          <a:stretch/>
        </p:blipFill>
        <p:spPr>
          <a:xfrm>
            <a:off x="646200" y="1865160"/>
            <a:ext cx="784548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068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ting the Context: Most recent projections for Caribbean Region -similar activities occurring in other SIDS reg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eed for research on impacts of climate change on different parts of the world - more focused research on regional impact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eed to strengthen regional model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ngthening Science-Policy Dialogue in Developing Countri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268200" y="225360"/>
            <a:ext cx="8948880" cy="100008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 txBox="1"/>
          <p:nvPr/>
        </p:nvSpPr>
        <p:spPr>
          <a:xfrm>
            <a:off x="152280" y="13712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Doubling in frequency of hurricanes in strongest categories 4 and 5 by 2100, particularly in Northern Caribbean, despite overall decrease in frequency of average tropical cyclones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Recent satellite observations reveal acceleration of mass loss from polar ice caps. Continuing this trend would imply up to 1 m SLR by 2100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Increasing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concentration acidifying the world oceans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Under current pledges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-By 2030s, GHG concentration is expected to be at 450 ppm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 Unicode"/>
              </a:rPr>
              <a:t>2,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coral reefs may dissolv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-By 2050s, GHG concentration is expected to be at 550 ppm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 Unicode"/>
              </a:rPr>
              <a:t>2,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coral may stop growing 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Below 350 ppm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appears to be ‘safe’ for reef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at present 386 ppm and rising at 2ppm/yea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115920" y="378000"/>
            <a:ext cx="8826480" cy="84744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151920" y="137124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ncreasing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concentration acidifying the world oceans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3200" indent="-21456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Under a Copenhagen Accord outcomes with current targets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07120" indent="-2145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-By 2030s, GHG concentration is expected to be at 450 ppm 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Lucida Sans Unicode"/>
              </a:rPr>
              <a:t>2,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coral reefs may dissolve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07120" indent="-2145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-By 2050s, GHG concentration is expected to be at 550 ppm 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Lucida Sans Unicode"/>
              </a:rPr>
              <a:t>2,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coral may stop growing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07120" indent="-2145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3200" indent="-21456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elow 350 ppm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appears to be ‘safe’ for reef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3200" indent="-21456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at present 386 ppm and rising at 2ppm/yea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228240" y="1481040"/>
            <a:ext cx="845820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s show warming trend continues reaching by 2080’s a further increase of between 1 and 5 degrees C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ater Warming in the NW Caribbean (Jamaica, Cuba, Hispaniola, Belize) than in E Caribbean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ater warming in JJA than in cooler traditionally drier earlier months DJF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ier Caribbean basin in annual total by 2080’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ilar scenarios being developed in other SIDs region- same level of support neede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le 2" descr=""/>
          <p:cNvPicPr/>
          <p:nvPr/>
        </p:nvPicPr>
        <p:blipFill>
          <a:blip r:embed="rId1"/>
          <a:stretch/>
        </p:blipFill>
        <p:spPr>
          <a:xfrm>
            <a:off x="79200" y="109440"/>
            <a:ext cx="861408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acts of climate change on different sectors in the region given that climate, climate change and vulnerabilities differ by regions, also some sectors are more sensitive than other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e sheets and Sea Level Rise (SLR) with a focus on regional distribution  on sea level ris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mpacts of a 1.5⁰C, 2⁰C and 3⁰C temperature rise on sea level rise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need for scenarios of SLR to better understand adaptation  issue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le 2" descr=""/>
          <p:cNvPicPr/>
          <p:nvPr/>
        </p:nvPicPr>
        <p:blipFill>
          <a:blip r:embed="rId1"/>
          <a:stretch/>
        </p:blipFill>
        <p:spPr>
          <a:xfrm>
            <a:off x="152280" y="268200"/>
            <a:ext cx="831528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mpacts of a 1.5⁰ C, 2⁰C and 3⁰C temperature rise on marine and terrestrial life in the region to better estimate threshold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hysical and Biological impacts of Sea Level Rise: focus on ecosystems and ecological processes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acts of Ocean acidification and biogeochemical processes on marine lif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ted assessments of climate change  impacts and responses, for example: increase in SST will affect coral reefs, sea grass beds, mangroves, etc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erved and projected economic impacts of climate chang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‘human side’ of the implications of climate change, including, human securit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Title 2" descr=""/>
          <p:cNvPicPr/>
          <p:nvPr/>
        </p:nvPicPr>
        <p:blipFill>
          <a:blip r:embed="rId1"/>
          <a:stretch/>
        </p:blipFill>
        <p:spPr>
          <a:xfrm>
            <a:off x="152280" y="298440"/>
            <a:ext cx="8467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Title 1" descr=""/>
          <p:cNvPicPr/>
          <p:nvPr/>
        </p:nvPicPr>
        <p:blipFill>
          <a:blip r:embed="rId1"/>
          <a:stretch/>
        </p:blipFill>
        <p:spPr>
          <a:xfrm>
            <a:off x="268200" y="378000"/>
            <a:ext cx="8504280" cy="115236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improved spatial resolution of climate projections, integrated assessments of potential damage to society (economy, health etc.) are urgently needed to estimate adaptation need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ning, costing, and best practices for national adaptation strategies and plans in different sectors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arch on climate finance on how best to secure adequate and accessible finance sources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ls and methods for assessment and decision-making related to adaptation implementation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7:16:36Z</dcterms:created>
  <dc:creator>Ann Gordon</dc:creator>
  <dc:description/>
  <dc:language>en-US</dc:language>
  <cp:lastModifiedBy>Ann Gordon</cp:lastModifiedBy>
  <dcterms:modified xsi:type="dcterms:W3CDTF">2010-06-02T17:48:27Z</dcterms:modified>
  <cp:revision>49</cp:revision>
  <dc:subject/>
  <dc:title>NationalNeeds and Priorities</dc:title>
</cp:coreProperties>
</file>