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BEE7-6665-4759-9460-1C44B41DE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AC8B-F81F-483D-A6FA-F3FAD6FB2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609D-4770-4BD1-8649-7119F9D68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D0C4-1021-43DB-9559-0B782C133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A33C-DB72-4916-A315-12B7402A2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9AC1-8B0C-4036-9E9C-C932FC214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3754-85E4-456A-AB67-DD288AECC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85C6-9B81-47B6-BA06-08E4211B8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81EC-406A-49E4-9B45-9B612E315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AEC8-FECB-4CEF-A8DE-694D51E58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51C3-D7EC-4B1A-91B1-02EB393F0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9D0F-DDD9-40A2-BFA3-6D17A0F75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FB93-7E06-467A-AD86-914242ECB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76B-A9E8-4639-8604-650BE3B6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09D-5D7C-4B4D-A617-4BB773A4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B880-A18C-4DF8-B669-84C264B3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E73-6897-4393-81F7-512CC7D9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EC69-C9F3-4A69-AD21-ECA0A417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A5DD-4FEA-4682-9968-CD88D8E4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D0F3-613B-47D3-A850-FEC8D025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1B17-A7A4-4693-9093-9CC71A7F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69F9-7802-4058-8305-CE5BA306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E079-DB3A-4308-BD5B-45D66303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97AE-8065-408A-9B2E-8ECE1B09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F8D-A94E-466B-B170-FF9616BA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F291-9855-47F7-A0C4-46D8631C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CCDA-B293-4949-A723-BC1E18BE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CD66-F558-45CA-84D1-B9C47B26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70E7-E768-4047-84D5-C8767404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1276-FAA6-4564-BE7E-50A964C6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9D207-7495-4BD6-B795-232CA331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08EAA-5A59-4FC2-AA16-428434FE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31735-79F2-452A-A8F5-687843DE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E3627-FD8B-4DEF-B4EB-56039137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DB414-7478-4854-B424-76E73E1A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F73-FF71-4E65-A94E-1A3E72D7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969AD-D085-46AF-A50E-E1D118E3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CE805-B51D-4864-8F27-A7C50CAD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58673-5D32-4C31-9932-153FAD68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054EC-D46D-40A9-8720-866548EF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D5060-BDBE-4409-8E70-963235FF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1953C-00E1-454A-B6F1-06340A95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301AA-38AE-4FD9-B13A-978F322C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8487B-412A-4E09-94C3-EDB042C5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6EAD7-6B81-4B0A-951D-9CAC4D4B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B6D27-A5EF-42B6-B7A7-398B9AD0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217-BE49-4BFB-956A-9219F0F8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E14F7-C5E9-472F-A3B2-CA47E379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671B8-3086-4773-B338-61463FCF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B7E1E-1ADE-43DA-BB1A-21D69B1C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45B57-48AE-4D85-BEC2-4F98B3E5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3C0C7-AA02-4C1D-9D5F-FB5E32DD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47930-DC52-4014-9F40-E52D16C7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D7542-54F2-41BD-B8B6-88D34898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A24AF-5CC7-4A53-8595-F3E4970F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DB081-7D7D-4D19-9E7D-A2FE1188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B587A-11F5-4457-97A7-3017ABB9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E404-2F52-4253-B6A2-E9C47B2C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C6C02-8968-4370-B37B-2A74F080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F713B-6F94-41FA-BA98-1C82F1A9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B5565-99ED-4DEF-AFEC-B75F17BA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E85C0-2115-4EDE-9859-E6B5A062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59E7C-7E4A-4711-8E4B-408C3951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15054-B309-4E4B-98B9-E8ABE7FC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171A4-3687-40B2-BF72-B6206B99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D5663-402F-49C9-816A-09B44B0B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B9DF9-2901-49E4-81B2-6A6E336A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94012-3D9F-4A06-A8EA-DD6D6C22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E011-85BE-47E4-870B-53071C29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59B5A-3D50-4662-ABCB-C5B6FF7D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5AFB7-796E-4F21-8E82-45B35FC7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FF1CA-58E1-4F2F-8982-45259A2D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F7F35-57C5-4808-AF2F-BEB9C278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DE1B9-F322-4FFE-A362-912D3FDC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47E69-2175-4BFB-AFD5-B3D814FE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EAE2C-C811-47E1-93CE-2B1D07A6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DB9B0-FBCA-4E7C-85CF-5FB42D80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6E374-BC3F-49B2-B341-4C3BEB4C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AD6C9-D840-4CC5-8916-453F9FE7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7A01-9C09-4A01-8F94-39A3710C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6B9B3-D611-4A85-B0DF-F8D8BF5B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A61F0-8440-4517-A15D-C1CFFAC9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4F950-D80F-4D49-845D-D14A4E86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E55DB-A8E3-413D-9BD4-ECAE3763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151EF-2491-4B9D-86DB-437185B8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BD5BA-CF7A-46AC-820E-E73B2EF9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A04C6-CFB0-480E-A237-439AA805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9D8F6-9E58-4267-A668-AFD4E449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8BF84-76D3-4005-8F7F-A54E79C4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8340D-0C71-44E2-A14F-313D485E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F4DC-3EC6-470C-8EDA-CC6CEFF8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7C51E-BFB7-4C7E-AECF-83F3124B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2533B-873F-4E64-8250-C98530FA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C0AE3-0B58-49FA-A25D-3FCF05DE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E56B9-CDD7-4C59-AFA6-7A4F6659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F17B5-285B-430A-86FC-3825D75B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5D7ED-B0D8-4725-9F27-24B84CBD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7B39C-F820-49D9-B0B7-807BB535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7ECF8-2748-4133-8F04-F45626FD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818D2-D3EB-44CB-9086-9013C398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010AF-9452-4D8A-B700-C6C2DA7A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9F9-8BBA-4F6F-B682-6D348F05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93DD5-F888-4F06-B6A6-0888DC6B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18449-3EDF-440A-A389-A8F0F143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9BF1C-0B6D-4A64-8DDE-CA8CE38B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062BE-5741-4F6C-B1EC-A4EAF80B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4BAD9-8956-4429-A57E-48BEEFFD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A8AD8-E2BF-4CC2-8AFA-00EE6583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B1834-4AC8-4BF9-B747-DA4B478A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F541-6D1D-47A3-AE6A-7369C09E48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8301-B243-4CFF-B714-16E7D813DC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C259-45E2-4555-83FC-D63CF63EE0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C5BF-CEF7-458D-A98C-DC83686D44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6F84-9546-4110-A983-1D70696919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4D66-7B74-4168-90CA-86871A6ED7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FB17-0A4D-493A-B877-BA4C667AA3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38C8-449B-46C7-A207-67AED90EE3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91960" y="530280"/>
            <a:ext cx="8060040" cy="16160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8076960" cy="187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y Ann Gord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eputy Chief Meteorologi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ational Meteorological Servi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advances made, however, much work needs to be done  to reduce model biases through better representation of physical processes and higher spatial resol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climate modeling of climate change scenarios needs to be improv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ick up smaller scale phenomenon and reduce uncertain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nalyse future changes in weather extremes such as tropical cyclon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 and between Reg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echanism for sharing best practices so that we can learn from each others experienc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3" descr=""/>
          <p:cNvPicPr/>
          <p:nvPr/>
        </p:nvPicPr>
        <p:blipFill>
          <a:blip r:embed="rId1"/>
          <a:stretch/>
        </p:blipFill>
        <p:spPr>
          <a:xfrm>
            <a:off x="646200" y="1865160"/>
            <a:ext cx="78454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Context: Most recent projections for Caribbean Region -similar activities occurring in other SIDS reg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for research on impacts of climate change on different parts of the world - more focused research on regional impac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strengthen regional model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94888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oubling in frequency of hurricanes in strongest categories 4 and 5 by 2100, particularly in Northern Caribbean, despite overall decrease in frequency of average tropical cycl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cent satellite observations reveal acceleration of mass loss from polar ice caps. Continuing this trend would imply up to 1 m SLR by 210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 current pledg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may stop growing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15920" y="378000"/>
            <a:ext cx="8826480" cy="847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 a Copenhagen Accord outcomes with current targets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may stop growing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28240" y="148104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show warming trend continues reaching by 2080’s a further increase of between 1 and 5 degrees 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the NW Caribbean (Jamaica, Cuba, Hispaniola, Belize) than in E Caribbea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JJA than in cooler traditionally drier earlier months DJ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er Caribbean basin in annual total by 208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scenarios being developed in other SIDs region- same level of support need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86140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climate change on different sectors in the region given that climate, climate change and vulnerabilities differ by regions, also some sectors are more sensitive than oth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sheets and Sea Level Rise (SLR) with a focus on regional distribution  on sea level ri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C, 2⁰C and 3⁰C temperature rise on sea level r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ed for scenarios of SLR to better understand adaptation  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315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 C, 2⁰C and 3⁰C temperature rise on marine and terrestrial life in the region to better estimate threshold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and Biological impacts of Sea Level Rise: focus on ecosystems and ecological process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Ocean acidification and biogeochemical processes on marine lif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assessments of climate change  impacts and responses, for example: increase in SST will affect coral reefs, sea grass beds, mangroves,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d and projected economic impacts of climate chan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human side’ of the implications of climate change, including, human secur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52280" y="29844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68200" y="378000"/>
            <a:ext cx="8504280" cy="115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mproved spatial resolution of climate projections, integrated assessments of potential damage to society (economy, health etc.) are urgently needed to estimate adaptation n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, costing, and best practices for national adaptation strategies and plans in different secto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climate finance on how best to secure adequate and accessible finance source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and methods for assessment and decision-making related to adaptation implementa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7:16:36Z</dcterms:created>
  <dc:creator>Ann Gordon</dc:creator>
  <dc:description/>
  <dc:language>en-US</dc:language>
  <cp:lastModifiedBy>Ann Gordon</cp:lastModifiedBy>
  <dcterms:modified xsi:type="dcterms:W3CDTF">2010-06-02T17:48:27Z</dcterms:modified>
  <cp:revision>49</cp:revision>
  <dc:subject/>
  <dc:title>NationalNeeds and Priorities</dc:title>
</cp:coreProperties>
</file>