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7515-D01F-49D7-A428-28245DC77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BF6-4F80-4CDE-9AEC-4E3A332E2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3BF-77F1-4545-8AD9-B2FF160E7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520-ADD4-4CD1-818C-2EFF8FD4E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4E2-C1FB-41D3-A1F3-D3776F328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625-6040-40C7-BB26-312BCA458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F17-E655-426B-9638-F14C0DA6F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er, M.A., TR. Knutson, R.E. Tuleya, J.J. Sirutis, G.A. Vecchi, S.T. Garner and I.M. Held (2010) "Modeled Impact of Anthropogenic Warming on the Frequency of Intense Atlantic Hurricanes" Science 327, 454-4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lverman, J., Lazar, B., Cao, L., Caldeira, K., &amp; Erez, J. (2009) Coral reefs may start dissolving when atmospheric CO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ubles.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Geophysical Research Lette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L056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icogna, I. (2009) “Increasing rates of ice mass loss from the Greenland and Antarctic ice sheets revealed by GRACE“, Geophysical Research Letters 36, L195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on, J.E.N., Hoegh-Guldberg, O., Lenton, T.M., Lough, J.M., Obura, D.O., Pearce-Kelly, P., Sheppard, C.R.C., Spalding, M., Stafford-Smith, M.G., &amp; Rogers, A.D. (2009) “The coral reef crisis: The critical importance of &lt;350 ppm CO2”, Marine Pollution Bulletin 58(10): 1428-14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A239-5EA1-4A6B-8726-55C36DFDA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B8D-865F-4640-835B-BE962B82D1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044E-5A10-48B8-A248-822D00929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4925-D9D3-4B41-8D70-A15E45238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EDC5-FF96-4FC7-A6DF-4C2A17CE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B54D-F095-4331-A8F2-A70CFD307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6D4-B758-47C6-AD58-B332E381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15B-2937-4853-A703-8F4F772C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CE2-BD7E-428B-9D8B-7A4D9AD8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208-F0AB-4D82-A17A-03E0E7BE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8AE0-AE64-4DE4-A5EC-D9AB4C7F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8653-D210-4757-BC7B-05AA25A0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0FEA-5A7E-4804-9E8C-307817C3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0DC-E998-4D33-85C5-C3E7CCB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5BA7-6B5B-4BEF-85F8-24CFCAF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BD6D-FA93-4FD8-A73E-E3A6D697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1F8-0CF0-481B-AC05-4AC2924D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848-7CBC-4E87-9971-B0A1319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16DA-993E-4FE0-90DC-CEB239B5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150-1D4B-4BE5-83C8-438DD59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3EE-0CED-4245-B0B1-CBF8EFD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ECE5-F216-4EBA-97B8-24DD4939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2CB4-32FF-4F7C-9270-F692F789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4AE0-2150-48E6-961F-1F7F79D6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AB9A-D191-4AA2-BADD-5428130E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E3DF-B663-458E-BCB1-F32C2CB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9CF0-9785-488B-9918-6B635321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9C20A-FA1D-44B8-B214-DB4E493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EB4-A722-48F2-994A-1E2E978B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539E-059D-405B-9CDF-F2C3101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B3C1-0F5F-4878-B910-41E900B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0E09-1393-41B8-8E2F-F3E6B85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CFF1-78B9-4DC9-B82A-6E67969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C411-38C3-4FA9-AF88-74690C8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CE99-E1F2-44E5-A01C-DC32FFBB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9C2F-2185-4619-9787-BD977715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839D-A568-408F-BE8C-1FBEBF0C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0478-50D6-402E-8C2A-B4BA6233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C6AC-C4F5-4BA7-8390-5F776904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5B7-0AD8-42D1-98F7-AE949E20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43B7-B2C5-4AD2-AFCA-ABCC49BF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D426-495B-4E99-88D8-C05633D5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5B682-D4BB-40B1-9B4B-CF4E172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FBF8-436D-4D64-A9B1-32D3A00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2DC7-1442-4191-9971-82A1A30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DC69-BBF2-4A08-8E5A-CEF7FDE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2C09-1DDE-4197-8DBD-6724265D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2BEAA-C8D7-4C0E-96F4-C5DF9BD7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FE9A-BC29-4C96-BC81-F2633D30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BFCC-B310-444E-9202-32738873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DA7-3548-4CA3-8EDC-ADC0FA07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50A5E-9D5D-4437-870A-6A775A6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E2D5-190C-4385-B293-4043F2F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EDE97-6F10-4C07-9B0C-8070008E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F4A5-1757-421A-92EF-FF0D9A0B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448A-86E5-4C27-8526-AD5353AB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B05B-D8C2-4688-A5FF-86D01C1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A6E4-87A4-4156-A55D-89593CDE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FD3DC-031C-4EDB-8AAA-45B7A5A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2558-DDEA-437A-B5C4-94975123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BDEE6-DABA-436B-8C84-8FD87CF8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26C-B32E-4CF5-8131-9172EF5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A000C-B8D7-4B68-9415-157B17F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861C-1D93-4BA9-A43C-55873FCC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3A2F9-8D7C-447C-985D-E1A9FE1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27A5-27BD-47D2-AE5C-C5AFC7A6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7E9EE-5976-4A4D-8402-655C5BD7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D92EB-3EF0-48F3-9F35-1992079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705C4-A90C-4B12-A03E-DECCE28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8910-C937-41CB-B3CA-75DCEFF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4687-97A7-4D29-B89A-B8932928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DA743-5B8B-4F53-AD8C-2E9F8D2F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ACB-863C-485D-AB02-4EAFD8F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710C-34E8-4203-A83C-8BF3F3B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F36F6-E98B-4193-B479-0D71C4C1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076A-3712-4451-9D6D-7783CF94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5BB6-28D0-4A6F-8AEE-BA05ED2E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BE668-297B-4709-B749-AB0E0C30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A358A-45A3-4849-88F2-88AECB1B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3E32C-5DAA-48D5-844D-A6B4182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2536-ECA1-4103-8A18-2C17859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EDBD-8B81-4520-8F89-6C42B95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229F2-6212-4FC6-AF01-71EB3CA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49C-0F01-4D2F-A677-2419D38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C63A6-87C5-4989-BF08-1C75991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7CD9C-F683-461B-B0DE-5A8A9AE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AE713-9006-470A-8E17-27675E05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8867-57E6-4625-B4F4-384E3DBF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2F04-BBED-46F9-981B-5D717EAF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61A5-363C-46BF-9845-4E6A8BA4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5C5D-EB90-4497-A0B4-80D5691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E2BF-0BD3-4B58-BDEA-8814056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F7E57-DDE9-4F79-8C9B-B1B0CBA6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4B2B-6AA2-4DCA-A438-02AD650D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916-3E3C-48E1-BF8E-2E6E44D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9C6BE-A7E2-4185-855C-D03828C4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1460-0AA0-4F84-B988-94E1C28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6A77A-235C-40E6-B440-F01C752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1840-77D6-488A-A218-75F2035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A6D8C-1867-4BC0-B037-E4DFBDF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8073-4594-4F60-B35D-5FE198DC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47B3-FE00-49E6-9CA2-EFB413AA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D942-FFED-41CC-BDB4-C18448F450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AB9-0E1F-4C75-9860-535E7F41FB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2358-CEA8-40F0-89CE-0C7D0FEBA0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730A-7146-4480-8968-66E05D0DC8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3A00-4BA6-4F1A-BA1E-F7B6FE331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3C67-F397-45FB-A86B-0499E7D7E3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04E-8093-41CE-A89D-DD49C7FB02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B9B-2F77-440B-8657-FC3A48FAC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91960" y="530280"/>
            <a:ext cx="8060040" cy="16160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3124080"/>
            <a:ext cx="8076960" cy="187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y Ann Gord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Deputy Chief Meteorologi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National Meteorological Serv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advances made, however, much work needs to be done  to reduce model biases through better representation of physical processes and higher spatial resolu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 climate modeling of climate change scenarios needs to be improv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ick up smaller scale phenomenon and reduce uncertain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alyse future changes in weather extremes such as tropical cyclone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 and between Reg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echanism for sharing best practices so that we can learn from each others experienc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3" descr=""/>
          <p:cNvPicPr/>
          <p:nvPr/>
        </p:nvPicPr>
        <p:blipFill>
          <a:blip r:embed="rId1"/>
          <a:stretch/>
        </p:blipFill>
        <p:spPr>
          <a:xfrm>
            <a:off x="646200" y="1865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Context: Most recent projections for Caribbean Region -similar activities occurring in other SIDS reg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research on impacts of climate change on different parts of the world - more focused research on regional impa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to strengthen regional model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Science-Policy Dialogue in Developing Countr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94888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oubling in frequency of hurricanes in strongest categories 4 and 5 by 2100, particularly in Northern Caribbean, despite overall decrease in frequency of average tropical cyclon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ent satellite observations reveal acceleration of mass loss from polar ice caps. Continuing this trend would imply up to 1 m SLR by 210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Under current pledge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coral may stop growing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15920" y="378000"/>
            <a:ext cx="8826480" cy="8474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1371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creasing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concentration acidifying the world ocean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 a Copenhagen Accord outcomes with current targets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30s, GHG concentration is expected to be at 4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reefs may dissolv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-By 2050s, GHG concentration is expected to be at 550 ppm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Sans Unicode"/>
              </a:rPr>
              <a:t>2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coral may stop growing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07120" indent="-214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ow 350 ppm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ppears to be ‘safe’ for re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t present 386 ppm and rising at 2ppm/ye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28240" y="148104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show warming trend continues reaching by 2080’s a further increase of between 1 and 5 degrees 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the NW Caribbean (Jamaica, Cuba, Hispaniola, Belize) than in E Caribbea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warming in JJA than in cooler traditionally drier earlier months DJ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r Caribbean basin in annual total by 2080’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scenarios being developed in other SIDs region- same level of support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79200" y="109440"/>
            <a:ext cx="86140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climate change on different sectors in the region given that climate, climate change and vulnerabilities differ by regions, also some sectors are more sensitive than oth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sheets and Sea Level Rise (SLR) with a focus on regional distribution  on sea level ri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C, 2⁰C and 3⁰C temperature rise on sea level ris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eed for scenarios of SLR to better understand adaptation  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3152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acts of a 1.5⁰ C, 2⁰C and 3⁰C temperature rise on marine and terrestrial life in the region to better estimate threshold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and Biological impacts of Sea Level Rise: focus on ecosystems and ecological process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Ocean acidification and biogeochemical processes on marine lif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assessments of climate change  impacts and responses, for example: increase in SST will affect coral reefs, sea grass beds, mangroves, etc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and projected economic impacts of climate chan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‘human side’ of the implications of climate change, including, human securit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52280" y="29844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268200" y="37800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mproved spatial resolution of climate projections, integrated assessments of potential damage to society (economy, health etc.) are urgently needed to estimate adaptation n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ing, costing, and best practices for national adaptation strategies and plans in different secto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climate finance on how best to secure adequate and accessible finance source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and methods for assessment and decision-making related to adaptation implementa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6:36Z</dcterms:created>
  <dc:creator>Ann Gordon</dc:creator>
  <dc:description/>
  <dc:language>en-US</dc:language>
  <cp:lastModifiedBy>Ann Gordon</cp:lastModifiedBy>
  <dcterms:modified xsi:type="dcterms:W3CDTF">2010-06-02T17:48:27Z</dcterms:modified>
  <cp:revision>49</cp:revision>
  <dc:subject/>
  <dc:title>NationalNeeds and Priorities</dc:title>
</cp:coreProperties>
</file>