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5877F2-B607-4749-B18E-CD20BFB74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ivocal Global warming, its very likely attribution, and projection of stronger carbon cycle feed backs,  and more frequent and/or stronger extreme  events, to list some of majo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D674D0-3925-417F-A570-AC6FB006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D20-6905-4E57-AFB7-3AA5E914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75B-17C5-4B82-92E3-5010FCE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E34-33C5-47C2-95F0-DB3F8C8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D8D-A500-42B4-AB81-044F1A6A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AF8-1C4A-4B8B-B4AF-F771C08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DBC-0384-4F2A-BF43-2E1D1EB5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20C-A985-4A20-8BBB-A7A3B50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CAB-D3EE-432F-87DE-F0A0E9C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088-FB7F-4EAE-BB78-6F3FD18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575-FF1D-4E08-B48A-9F9B934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182-8BF6-4722-9970-7C9B9C43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4D8-4DBA-4EAF-BB10-8CFC34B8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8A4-4E7E-4066-B3C4-151D0055234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124000" y="907920"/>
            <a:ext cx="41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42960" y="1428840"/>
            <a:ext cx="76438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allenges and Needs in Resear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Views of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-emerging challenges and policy nee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00040" y="381636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roki K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isor 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stry of  Education, Culture, Sports, Science and Technology (MEXT),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874880" y="714240"/>
            <a:ext cx="55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Dialogue on Research in SBSTA32 (3 June 2010</a:t>
            </a:r>
            <a:r>
              <a:rPr b="1" i="1" lang="ja-JP" sz="2000" spc="-1" strike="noStrike">
                <a:solidFill>
                  <a:srgbClr val="0066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96560"/>
            <a:ext cx="8429760" cy="114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ioritized Subjects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s 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esearch need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mate change resear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520" y="1484280"/>
            <a:ext cx="8785440" cy="52308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txBody>
          <a:bodyPr bIns="10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elected important subj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mate change research area</a:t>
            </a:r>
            <a:r>
              <a:rPr b="1" i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Satellite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observation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f greenhouse gase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rface lay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GOSAT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(launched in 2009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(= Global  Greenhouse Gas Observation by 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　　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0" lang="ja-JP" sz="20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2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ntury by cl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ience &amp; technology to project climate change in the 2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 using the supercomputer as a sound base for Post-Kyoto policy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cc0000"/>
                </a:solidFill>
                <a:latin typeface="Arial"/>
              </a:rPr>
              <a:t>　　　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―</a:t>
            </a: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Climate change risk assessment &amp; adaptation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the scenarios and pathways toward low carbon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660066"/>
                </a:solidFill>
                <a:latin typeface="Arial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des National Core Technology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―</a:t>
            </a:r>
            <a:r>
              <a:rPr b="1" i="1" lang="ja-JP" sz="20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xt generation super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</a:rPr>
              <a:t>　　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0" i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bservation and Ocean Exploration System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gration and Analysis System</a:t>
            </a:r>
            <a:r>
              <a:rPr b="1" i="1" lang="ja-JP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AS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矢印 3"/>
          <p:cNvSpPr/>
          <p:nvPr/>
        </p:nvSpPr>
        <p:spPr>
          <a:xfrm>
            <a:off x="3071880" y="25462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9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1"/>
          <p:cNvSpPr/>
          <p:nvPr/>
        </p:nvSpPr>
        <p:spPr>
          <a:xfrm>
            <a:off x="0" y="1014480"/>
            <a:ext cx="9144000" cy="58269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ming of the climate system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equivo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e observed increase in globally averaged temperatures since the mid-20th century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the observed increase in anthropogenic greenhouse gas concentration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sideration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maining uncertain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based on current methodolog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ud feedbacks rema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largest source of uncertain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ed upper ranges for temperature projections are larger than in the TAR (see Table SPM-3) mainly because the broader range of models now available sugges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onger climate-carbon cycle feed bac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ery like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hot extremes, heat waves, and heavy precipitation events will continue to become more freque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　　・・・・・・・・・・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962400"/>
                </a:solidFill>
                <a:latin typeface="Arial"/>
              </a:rPr>
              <a:t>　　　　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trong concerns about  global warming and its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on natural disasters, in particular,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Increasing challeng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further reliable proje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2"/>
          <p:cNvSpPr/>
          <p:nvPr/>
        </p:nvSpPr>
        <p:spPr>
          <a:xfrm>
            <a:off x="179280" y="551664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3"/>
          <p:cNvSpPr/>
          <p:nvPr/>
        </p:nvSpPr>
        <p:spPr>
          <a:xfrm>
            <a:off x="179280" y="623736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85840" y="260280"/>
            <a:ext cx="8572320" cy="5205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Research Challenges from the IPCC/WG1/ A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99400" y="3009960"/>
            <a:ext cx="1461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600960" y="625320"/>
            <a:ext cx="1128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0920" y="2276640"/>
            <a:ext cx="8604000" cy="4059360"/>
          </a:xfrm>
          <a:prstGeom prst="rect">
            <a:avLst/>
          </a:prstGeom>
          <a:solidFill>
            <a:srgbClr val="e1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tter simulation of physical and biogeo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cesses sufficiently reflecting feed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A)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Advancing climate modeling and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ressing uncertainties in climate mode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B)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Quantification and reduction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act assessment on natural disasters by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ents through sufficiently high resolution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C)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pplication of regional projection to na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                 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disasters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7120" y="549360"/>
            <a:ext cx="8429760" cy="119124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search challenges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relat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imate change projection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to be add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55640" y="436572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5640" y="5661000"/>
            <a:ext cx="647640" cy="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569080" cy="10000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arch needs for polic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targets to mee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6760" y="1325160"/>
            <a:ext cx="8559720" cy="5318280"/>
          </a:xfrm>
          <a:prstGeom prst="rect">
            <a:avLst/>
          </a:prstGeom>
          <a:solidFill>
            <a:srgbClr val="effa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better scientific basis for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ty issues in mitig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ong-term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global environmental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n earth system model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climate information in the near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daptation and other polic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ar-term</a:t>
            </a: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climate projection (or pred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            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using a high-resolution coupled ocean-atmosphere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of regionally detail projection of extremes for regionally reliable adaptation in vulnerabl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00a6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Pr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o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jection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tremes</a:t>
            </a:r>
            <a:r>
              <a:rPr b="1" i="1" lang="en-US" sz="2400" spc="-1" strike="noStrike">
                <a:solidFill>
                  <a:srgbClr val="6300a6"/>
                </a:solidFill>
                <a:latin typeface="Arial"/>
              </a:rPr>
              <a:t> in 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6300a6"/>
                </a:solidFill>
                <a:latin typeface="Arial"/>
              </a:rPr>
              <a:t>using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a super-high resolution atmospher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300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lated areas to be coordin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Advanc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-analysis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system for model verification</a:t>
            </a:r>
            <a:r>
              <a:rPr b="0" i="1" lang="en-US" sz="2000" spc="-1" strike="noStrike">
                <a:solidFill>
                  <a:srgbClr val="6300a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矢印 3"/>
          <p:cNvSpPr/>
          <p:nvPr/>
        </p:nvSpPr>
        <p:spPr>
          <a:xfrm>
            <a:off x="571680" y="215100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矢印 4"/>
          <p:cNvSpPr/>
          <p:nvPr/>
        </p:nvSpPr>
        <p:spPr>
          <a:xfrm>
            <a:off x="571680" y="363384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5"/>
          <p:cNvSpPr/>
          <p:nvPr/>
        </p:nvSpPr>
        <p:spPr>
          <a:xfrm>
            <a:off x="571680" y="5057640"/>
            <a:ext cx="500040" cy="35748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587680" y="5108400"/>
            <a:ext cx="3808440" cy="522360"/>
          </a:xfrm>
          <a:prstGeom prst="downArrow">
            <a:avLst>
              <a:gd name="adj1" fmla="val 50000"/>
              <a:gd name="adj2" fmla="val 679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8"/>
          <p:cNvSpPr/>
          <p:nvPr/>
        </p:nvSpPr>
        <p:spPr>
          <a:xfrm>
            <a:off x="2528640" y="5654520"/>
            <a:ext cx="3877200" cy="628200"/>
          </a:xfrm>
          <a:prstGeom prst="roundRect">
            <a:avLst>
              <a:gd name="adj" fmla="val 16667"/>
            </a:avLst>
          </a:prstGeom>
          <a:solidFill>
            <a:srgbClr val="f9eded"/>
          </a:solidFill>
          <a:ln w="12600">
            <a:solidFill>
              <a:srgbClr val="d99594"/>
            </a:solidFill>
            <a:miter/>
          </a:ln>
          <a:effectLst>
            <a:outerShdw dist="107932" dir="2700000" blurRad="0" rotWithShape="0">
              <a:srgbClr val="cdb0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600" rIns="111600" tIns="9000" bIns="9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0000"/>
                </a:solidFill>
                <a:latin typeface="Arial"/>
              </a:rPr>
              <a:t>Contribution to IPCC A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Basis for Policy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23760" y="260280"/>
            <a:ext cx="7477200" cy="4849920"/>
            <a:chOff x="23760" y="260280"/>
            <a:chExt cx="7477200" cy="4849920"/>
          </a:xfrm>
        </p:grpSpPr>
        <p:sp>
          <p:nvSpPr>
            <p:cNvPr id="76" name="AutoShape 3"/>
            <p:cNvSpPr/>
            <p:nvPr/>
          </p:nvSpPr>
          <p:spPr>
            <a:xfrm>
              <a:off x="95040" y="409320"/>
              <a:ext cx="7405920" cy="4700880"/>
            </a:xfrm>
            <a:prstGeom prst="foldedCorner">
              <a:avLst>
                <a:gd name="adj" fmla="val 8263"/>
              </a:avLst>
            </a:prstGeom>
            <a:solidFill>
              <a:srgbClr val="ffffcc"/>
            </a:solidFill>
            <a:ln w="936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36" descr="C:\Documents and Settings\chayashi\デスクトップ\革新プロ\広報\革新ロゴ\yoko1.gif"/>
            <p:cNvPicPr/>
            <p:nvPr/>
          </p:nvPicPr>
          <p:blipFill>
            <a:blip r:embed="rId1"/>
            <a:stretch/>
          </p:blipFill>
          <p:spPr>
            <a:xfrm>
              <a:off x="23760" y="260280"/>
              <a:ext cx="2038320" cy="792000"/>
            </a:xfrm>
            <a:prstGeom prst="rect">
              <a:avLst/>
            </a:prstGeom>
            <a:ln w="9360">
              <a:solidFill>
                <a:srgbClr val="d99594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</p:pic>
        <p:sp>
          <p:nvSpPr>
            <p:cNvPr id="78" name="AutoShape 4"/>
            <p:cNvSpPr/>
            <p:nvPr/>
          </p:nvSpPr>
          <p:spPr>
            <a:xfrm>
              <a:off x="887040" y="1376280"/>
              <a:ext cx="3595320" cy="74916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ng-Term Global Change Projection (~2300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2401920" y="483840"/>
              <a:ext cx="3459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Climate change proj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using the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Earth Simulator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  <a:ea typeface="HGP創英角ｺﾞｼｯｸUB"/>
                </a:rPr>
                <a:t>(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4898880" y="1707840"/>
              <a:ext cx="19087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dvancing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 Climate Modeling </a:t>
              </a:r>
              <a:br>
                <a:rPr sz="1600"/>
              </a:br>
              <a:r>
                <a:rPr b="1" lang="en-US" sz="1600" spc="-1" strike="noStrike">
                  <a:solidFill>
                    <a:srgbClr val="e80000"/>
                  </a:solidFill>
                  <a:latin typeface="Arial"/>
                </a:rPr>
                <a:t>and Proj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0"/>
            <p:cNvSpPr/>
            <p:nvPr/>
          </p:nvSpPr>
          <p:spPr>
            <a:xfrm>
              <a:off x="4626360" y="1454040"/>
              <a:ext cx="143640" cy="1938240"/>
            </a:xfrm>
            <a:custGeom>
              <a:avLst/>
              <a:gdLst>
                <a:gd name="textAreaLeft" fmla="*/ 0 w 143640"/>
                <a:gd name="textAreaRight" fmla="*/ 51840 w 143640"/>
                <a:gd name="textAreaTop" fmla="*/ 50400 h 1938240"/>
                <a:gd name="textAreaBottom" fmla="*/ 1887840 h 19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2"/>
            <p:cNvSpPr/>
            <p:nvPr/>
          </p:nvSpPr>
          <p:spPr>
            <a:xfrm>
              <a:off x="5058720" y="2964600"/>
              <a:ext cx="157032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Quantif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and reduction </a:t>
              </a:r>
              <a:br>
                <a:rPr sz="1600"/>
              </a:b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of uncertain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0"/>
            <p:cNvSpPr/>
            <p:nvPr/>
          </p:nvSpPr>
          <p:spPr>
            <a:xfrm>
              <a:off x="4734000" y="4017240"/>
              <a:ext cx="2190600" cy="849240"/>
            </a:xfrm>
            <a:prstGeom prst="roundRect">
              <a:avLst>
                <a:gd name="adj" fmla="val 16667"/>
              </a:avLst>
            </a:prstGeom>
            <a:solidFill>
              <a:srgbClr val="e1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Application of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Regional Projections 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to Natural Disa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7"/>
            <p:cNvSpPr/>
            <p:nvPr/>
          </p:nvSpPr>
          <p:spPr>
            <a:xfrm>
              <a:off x="599040" y="3541680"/>
              <a:ext cx="143640" cy="126684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32760 h 1266840"/>
                <a:gd name="textAreaBottom" fmla="*/ 123408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"/>
            <p:cNvSpPr/>
            <p:nvPr/>
          </p:nvSpPr>
          <p:spPr>
            <a:xfrm>
              <a:off x="599040" y="1377720"/>
              <a:ext cx="143640" cy="2014560"/>
            </a:xfrm>
            <a:custGeom>
              <a:avLst/>
              <a:gdLst>
                <a:gd name="textAreaLeft" fmla="*/ 91800 w 143640"/>
                <a:gd name="textAreaRight" fmla="*/ 144000 w 143640"/>
                <a:gd name="textAreaTop" fmla="*/ 52200 h 2014560"/>
                <a:gd name="textAreaBottom" fmla="*/ 19623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 flipH="1" rot="10800000">
              <a:off x="237960" y="1915560"/>
              <a:ext cx="359640" cy="252108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441000 h 2521080"/>
                <a:gd name="textAreaBottom" fmla="*/ 18277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534600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 flipV="1">
              <a:off x="5921280" y="2581200"/>
              <a:ext cx="503280" cy="398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22"/>
            <p:cNvSpPr/>
            <p:nvPr/>
          </p:nvSpPr>
          <p:spPr>
            <a:xfrm>
              <a:off x="6927120" y="1904760"/>
              <a:ext cx="359640" cy="3036960"/>
            </a:xfrm>
            <a:custGeom>
              <a:avLst/>
              <a:gdLst>
                <a:gd name="textAreaLeft" fmla="*/ 47880 w 359640"/>
                <a:gd name="textAreaRight" fmla="*/ 311760 w 359640"/>
                <a:gd name="textAreaTop" fmla="*/ 541080 h 3036960"/>
                <a:gd name="textAreaBottom" fmla="*/ 2192400 h 30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2713507"/>
                  <a:lnTo>
                    <a:pt x="7200" y="21160"/>
                  </a:lnTo>
                  <a:lnTo>
                    <a:pt x="0" y="17417"/>
                  </a:lnTo>
                  <a:lnTo>
                    <a:pt x="7200" y="12794"/>
                  </a:lnTo>
                  <a:lnTo>
                    <a:pt x="7200" y="14954"/>
                  </a:lnTo>
                  <a:arcTo wR="21600" hR="7697" stAng="2713507" swAng="-2380846"/>
                  <a:lnTo>
                    <a:pt x="20841" y="9720"/>
                  </a:lnTo>
                  <a:arcTo wR="21600" hR="7697" stAng="-332660" swAng="-5067340"/>
                  <a:close/>
                </a:path>
                <a:path fill="darkenLess" w="21600" h="21600">
                  <a:moveTo>
                    <a:pt x="0" y="0"/>
                  </a:moveTo>
                  <a:arcTo wR="21600" hR="7697" stAng="-5400000" swAng="5400000"/>
                  <a:lnTo>
                    <a:pt x="21600" y="11743"/>
                  </a:lnTo>
                  <a:arcTo wR="21600" hR="7697" stAng="0" swAng="-332660"/>
                  <a:lnTo>
                    <a:pt x="20841" y="9720"/>
                  </a:lnTo>
                  <a:arcTo wR="21600" hR="7697" stAng="-332660" swAng="-506734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885240" y="20494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-Term Climate Prediction (20~30 years predi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85240" y="272268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eme Event Projec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Typhoons, Hurricanes, Heavy rain,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885240" y="34671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Cloud Resolvable Mode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885240" y="4140360"/>
              <a:ext cx="3595320" cy="747720"/>
            </a:xfrm>
            <a:prstGeom prst="horizontalScroll">
              <a:avLst>
                <a:gd name="adj" fmla="val 16138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eaf1dd"/>
                </a:gs>
                <a:gs pos="100000">
                  <a:srgbClr val="c2d69b"/>
                </a:gs>
              </a:gsLst>
              <a:lin ang="18900000"/>
            </a:gradFill>
            <a:ln w="9360">
              <a:solidFill>
                <a:srgbClr val="c2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Parameterization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Arial"/>
                </a:rPr>
                <a:t>Marine Microphys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34" descr="http://www.jamstec.go.jp/es/jp/images/garally/es2_01.jpg"/>
            <p:cNvPicPr/>
            <p:nvPr/>
          </p:nvPicPr>
          <p:blipFill>
            <a:blip r:embed="rId2"/>
            <a:stretch/>
          </p:blipFill>
          <p:spPr>
            <a:xfrm>
              <a:off x="5865840" y="507600"/>
              <a:ext cx="159444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テキスト ボックス 23"/>
          <p:cNvSpPr/>
          <p:nvPr/>
        </p:nvSpPr>
        <p:spPr>
          <a:xfrm>
            <a:off x="168120" y="6286680"/>
            <a:ext cx="8786880" cy="39888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going Coordination to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ress challenges and needs in research (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角丸四角形 25"/>
          <p:cNvSpPr/>
          <p:nvPr/>
        </p:nvSpPr>
        <p:spPr>
          <a:xfrm>
            <a:off x="7682040" y="2357280"/>
            <a:ext cx="1357200" cy="1643400"/>
          </a:xfrm>
          <a:custGeom>
            <a:avLst/>
            <a:gdLst>
              <a:gd name="textAreaLeft" fmla="*/ 66240 w 1357200"/>
              <a:gd name="textAreaRight" fmla="*/ 1290960 w 1357200"/>
              <a:gd name="textAreaTop" fmla="*/ 66240 h 1643400"/>
              <a:gd name="textAreaBottom" fmla="*/ 1577160 h 1643400"/>
            </a:gdLst>
            <a:ahLst/>
            <a:rect l="textAreaLeft" t="textAreaTop" r="textAreaRight" b="textAreaBottom"/>
            <a:pathLst>
              <a:path w="21600" h="26154">
                <a:moveTo>
                  <a:pt x="3600" y="0"/>
                </a:moveTo>
                <a:arcTo wR="3600" hR="3600" stAng="16200000" swAng="-5400000"/>
                <a:lnTo>
                  <a:pt x="0" y="22554"/>
                </a:lnTo>
                <a:arcTo wR="3600" hR="3600" stAng="10800000" swAng="-5400000"/>
                <a:lnTo>
                  <a:pt x="18000" y="2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26"/>
          <p:cNvSpPr/>
          <p:nvPr/>
        </p:nvSpPr>
        <p:spPr>
          <a:xfrm>
            <a:off x="7677000" y="2428920"/>
            <a:ext cx="1324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i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7"/>
          <p:cNvSpPr/>
          <p:nvPr/>
        </p:nvSpPr>
        <p:spPr>
          <a:xfrm>
            <a:off x="857160" y="7128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右矢印 28"/>
          <p:cNvSpPr/>
          <p:nvPr/>
        </p:nvSpPr>
        <p:spPr>
          <a:xfrm rot="2350800">
            <a:off x="7542000" y="1779480"/>
            <a:ext cx="952200" cy="378000"/>
          </a:xfrm>
          <a:prstGeom prst="leftRightArrow">
            <a:avLst>
              <a:gd name="adj1" fmla="val 50000"/>
              <a:gd name="adj2" fmla="val 49961"/>
            </a:avLst>
          </a:prstGeom>
          <a:solidFill>
            <a:srgbClr val="0066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9"/>
          <p:cNvSpPr/>
          <p:nvPr/>
        </p:nvSpPr>
        <p:spPr>
          <a:xfrm rot="2270400">
            <a:off x="7715880" y="130500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右矢印 29"/>
          <p:cNvSpPr/>
          <p:nvPr/>
        </p:nvSpPr>
        <p:spPr>
          <a:xfrm rot="2484000">
            <a:off x="7338600" y="4968720"/>
            <a:ext cx="71460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角丸四角形 31"/>
          <p:cNvSpPr/>
          <p:nvPr/>
        </p:nvSpPr>
        <p:spPr>
          <a:xfrm>
            <a:off x="7500960" y="550080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テキスト ボックス 32"/>
          <p:cNvSpPr/>
          <p:nvPr/>
        </p:nvSpPr>
        <p:spPr>
          <a:xfrm>
            <a:off x="7500960" y="5508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33"/>
          <p:cNvSpPr/>
          <p:nvPr/>
        </p:nvSpPr>
        <p:spPr>
          <a:xfrm rot="2383800">
            <a:off x="7606080" y="4871880"/>
            <a:ext cx="121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正方形/長方形 1"/>
          <p:cNvSpPr/>
          <p:nvPr/>
        </p:nvSpPr>
        <p:spPr>
          <a:xfrm>
            <a:off x="714240" y="1531800"/>
            <a:ext cx="75726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limate change projection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outcomes with finer temporal and spatial re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Impact, Adaptation and Vulnerability (IAV)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nd then specificall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risk assessment and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scenarios and pathways toward low carbon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at local and reg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テキスト ボックス 2"/>
          <p:cNvSpPr/>
          <p:nvPr/>
        </p:nvSpPr>
        <p:spPr>
          <a:xfrm>
            <a:off x="428760" y="571680"/>
            <a:ext cx="8215200" cy="581400"/>
          </a:xfrm>
          <a:prstGeom prst="rect">
            <a:avLst/>
          </a:prstGeom>
          <a:solidFill>
            <a:srgbClr val="e5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creasing needs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for closer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角丸四角形 4"/>
          <p:cNvSpPr/>
          <p:nvPr/>
        </p:nvSpPr>
        <p:spPr>
          <a:xfrm>
            <a:off x="3301920" y="3214800"/>
            <a:ext cx="262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finer resolution qualitative assessment of climate change impacts in Japan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角丸四角形 5"/>
          <p:cNvSpPr/>
          <p:nvPr/>
        </p:nvSpPr>
        <p:spPr>
          <a:xfrm>
            <a:off x="285840" y="3019320"/>
            <a:ext cx="85723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角丸四角形 6"/>
          <p:cNvSpPr/>
          <p:nvPr/>
        </p:nvSpPr>
        <p:spPr>
          <a:xfrm>
            <a:off x="2071800" y="2428920"/>
            <a:ext cx="3968640" cy="428760"/>
          </a:xfrm>
          <a:prstGeom prst="roundRect">
            <a:avLst>
              <a:gd name="adj" fmla="val 16667"/>
            </a:avLst>
          </a:prstGeom>
          <a:solidFill>
            <a:srgbClr val="ebe48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resolution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角丸四角形 7"/>
          <p:cNvSpPr/>
          <p:nvPr/>
        </p:nvSpPr>
        <p:spPr>
          <a:xfrm>
            <a:off x="357120" y="5572080"/>
            <a:ext cx="2643120" cy="714600"/>
          </a:xfrm>
          <a:prstGeom prst="roundRect">
            <a:avLst>
              <a:gd name="adj" fmla="val 16667"/>
            </a:avLst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to policy making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角丸四角形 8"/>
          <p:cNvSpPr/>
          <p:nvPr/>
        </p:nvSpPr>
        <p:spPr>
          <a:xfrm>
            <a:off x="500040" y="3214800"/>
            <a:ext cx="240516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adaptation policy measures to be mainstreamed into  local government development 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角丸四角形 9"/>
          <p:cNvSpPr/>
          <p:nvPr/>
        </p:nvSpPr>
        <p:spPr>
          <a:xfrm>
            <a:off x="6286680" y="3214800"/>
            <a:ext cx="235728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m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on indicators for vulnerability assessment and measuring the effect of adaptation in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矢印 10"/>
          <p:cNvSpPr/>
          <p:nvPr/>
        </p:nvSpPr>
        <p:spPr>
          <a:xfrm>
            <a:off x="1500120" y="5286240"/>
            <a:ext cx="598680" cy="285840"/>
          </a:xfrm>
          <a:prstGeom prst="downArrow">
            <a:avLst>
              <a:gd name="adj1" fmla="val 32583"/>
              <a:gd name="adj2" fmla="val 458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"/>
          <p:cNvSpPr/>
          <p:nvPr/>
        </p:nvSpPr>
        <p:spPr>
          <a:xfrm>
            <a:off x="214200" y="1160640"/>
            <a:ext cx="8715600" cy="1168920"/>
          </a:xfrm>
          <a:prstGeom prst="rect">
            <a:avLst/>
          </a:prstGeom>
          <a:solidFill>
            <a:srgbClr val="f1f9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assessment of climate change impacts at the national and local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mpact assessment and adaptation policy tools for local governments and developing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s to IPCC AR5 and other international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角丸四角形 19"/>
          <p:cNvSpPr/>
          <p:nvPr/>
        </p:nvSpPr>
        <p:spPr>
          <a:xfrm>
            <a:off x="6286680" y="2428920"/>
            <a:ext cx="2643120" cy="43020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Adaptatio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76"/>
          <p:cNvSpPr/>
          <p:nvPr/>
        </p:nvSpPr>
        <p:spPr>
          <a:xfrm>
            <a:off x="285840" y="630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 research project on impact and adaptation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FY2010 –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\\Moe.go.jp\fs02\地球環境局\DATA\研究調査室\温暖化関係\プレゼン素材（STOP THE 温暖化 2008より）\p13ヒトスジシマカ.jpg"/>
          <p:cNvPicPr/>
          <p:nvPr/>
        </p:nvPicPr>
        <p:blipFill>
          <a:blip r:embed="rId1"/>
          <a:stretch/>
        </p:blipFill>
        <p:spPr>
          <a:xfrm>
            <a:off x="7415280" y="5584680"/>
            <a:ext cx="1398600" cy="10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\\Moe.go.jp\fs02\地球環境局\DATA\研究調査室\温暖化関係\プレゼン素材（STOP THE 温暖化 2008より）\p14西湘バイパス被災.jpg"/>
          <p:cNvPicPr/>
          <p:nvPr/>
        </p:nvPicPr>
        <p:blipFill>
          <a:blip r:embed="rId2"/>
          <a:srcRect l="11140" t="0" r="0" b="60"/>
          <a:stretch/>
        </p:blipFill>
        <p:spPr>
          <a:xfrm>
            <a:off x="6062760" y="5584680"/>
            <a:ext cx="1328760" cy="10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\\Moe.go.jp\fs02\地球環境局\DATA\研究調査室\温暖化関係\プレゼン素材（STOP THE 温暖化 2008より）\p12コメの品質低下.png"/>
          <p:cNvPicPr/>
          <p:nvPr/>
        </p:nvPicPr>
        <p:blipFill>
          <a:blip r:embed="rId3"/>
          <a:stretch/>
        </p:blipFill>
        <p:spPr>
          <a:xfrm>
            <a:off x="3075120" y="5584680"/>
            <a:ext cx="1606320" cy="10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\Moe.go.jp\fs02\地球環境局\DATA\研究調査室\温暖化関係\プレゼン素材（適応パンフより）\p15マツノマダラカミキリ.jpg"/>
          <p:cNvPicPr/>
          <p:nvPr/>
        </p:nvPicPr>
        <p:blipFill>
          <a:blip r:embed="rId4"/>
          <a:srcRect l="4497" t="0" r="4203" b="0"/>
          <a:stretch/>
        </p:blipFill>
        <p:spPr>
          <a:xfrm>
            <a:off x="4705200" y="5584680"/>
            <a:ext cx="1335240" cy="1079640"/>
          </a:xfrm>
          <a:prstGeom prst="rect">
            <a:avLst/>
          </a:prstGeom>
          <a:ln w="0">
            <a:noFill/>
          </a:ln>
        </p:spPr>
      </p:pic>
      <p:sp>
        <p:nvSpPr>
          <p:cNvPr id="121" name="テキスト ボックス 59"/>
          <p:cNvSpPr/>
          <p:nvPr/>
        </p:nvSpPr>
        <p:spPr>
          <a:xfrm>
            <a:off x="7643880" y="5398920"/>
            <a:ext cx="85068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テキスト ボックス 60"/>
          <p:cNvSpPr/>
          <p:nvPr/>
        </p:nvSpPr>
        <p:spPr>
          <a:xfrm>
            <a:off x="6286680" y="5429160"/>
            <a:ext cx="900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テキスト ボックス 61"/>
          <p:cNvSpPr/>
          <p:nvPr/>
        </p:nvSpPr>
        <p:spPr>
          <a:xfrm>
            <a:off x="3571920" y="5429160"/>
            <a:ext cx="8571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テキスト ボックス 62"/>
          <p:cNvSpPr/>
          <p:nvPr/>
        </p:nvSpPr>
        <p:spPr>
          <a:xfrm>
            <a:off x="4857840" y="5392800"/>
            <a:ext cx="86976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スライド番号プレースホルダ 5"/>
          <p:cNvSpPr/>
          <p:nvPr/>
        </p:nvSpPr>
        <p:spPr>
          <a:xfrm>
            <a:off x="8858160" y="6500880"/>
            <a:ext cx="392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BD53-F8A8-4848-A1C6-6F37865B35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線矢印コネクタ 46"/>
          <p:cNvCxnSpPr/>
          <p:nvPr/>
        </p:nvCxnSpPr>
        <p:spPr>
          <a:xfrm>
            <a:off x="2928960" y="4071960"/>
            <a:ext cx="35784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7" name="直線矢印コネクタ 48"/>
          <p:cNvCxnSpPr/>
          <p:nvPr/>
        </p:nvCxnSpPr>
        <p:spPr>
          <a:xfrm>
            <a:off x="5928840" y="4071960"/>
            <a:ext cx="358200" cy="21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8" name="直線矢印コネクタ 55"/>
          <p:cNvCxnSpPr/>
          <p:nvPr/>
        </p:nvCxnSpPr>
        <p:spPr>
          <a:xfrm flipH="1">
            <a:off x="4500000" y="2857680"/>
            <a:ext cx="108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9" name="直線矢印コネクタ 63"/>
          <p:cNvCxnSpPr/>
          <p:nvPr/>
        </p:nvCxnSpPr>
        <p:spPr>
          <a:xfrm flipV="1">
            <a:off x="7143840" y="2857320"/>
            <a:ext cx="2160" cy="357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0" name="直線矢印コネクタ 67"/>
          <p:cNvCxnSpPr/>
          <p:nvPr/>
        </p:nvCxnSpPr>
        <p:spPr>
          <a:xfrm flipH="1" flipV="1">
            <a:off x="2928600" y="4428360"/>
            <a:ext cx="35784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1" name="直線矢印コネクタ 70"/>
          <p:cNvCxnSpPr/>
          <p:nvPr/>
        </p:nvCxnSpPr>
        <p:spPr>
          <a:xfrm flipH="1" flipV="1">
            <a:off x="5928480" y="4428360"/>
            <a:ext cx="35820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0:32:58Z</dcterms:created>
  <dc:creator>AESTO</dc:creator>
  <dc:description/>
  <dc:language>en-US</dc:language>
  <cp:lastModifiedBy>Jamm</cp:lastModifiedBy>
  <dcterms:modified xsi:type="dcterms:W3CDTF">2010-06-02T16:34:24Z</dcterms:modified>
  <cp:revision>121</cp:revision>
  <dc:subject/>
  <dc:title>aaaaa</dc:title>
</cp:coreProperties>
</file>