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66600" y="77004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5560" y="4696920"/>
            <a:ext cx="4927680" cy="446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8BCDFE5-1751-4247-92E3-CF5690656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FC86BD8-3989-419C-A9C0-F547229ED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0B47FE1-407F-4DE2-92DB-B90455CE5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DA9080C-FFEB-48C5-9AD4-65C11B869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1280" y="9393120"/>
            <a:ext cx="2927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025C212-B436-496C-90A2-673EFDF9D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399600"/>
            <a:ext cx="2925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9AC9EE16-140E-4A93-8D19-BC797A69139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200" y="4699080"/>
            <a:ext cx="50022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94D9137-D838-435C-AFB2-5E26813F4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9789C5A-B18E-459D-A0FA-56D21E379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977D64-D547-4D51-92AD-D2C249249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6600" y="9380520"/>
            <a:ext cx="2948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62040"/>
                <a:tab algn="l" pos="1322280"/>
                <a:tab algn="l" pos="1984320"/>
                <a:tab algn="l" pos="264492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  <a:tab algn="l" pos="9185400"/>
                <a:tab algn="l" pos="9602640"/>
                <a:tab algn="l" pos="10020240"/>
                <a:tab algn="l" pos="10437840"/>
                <a:tab algn="l" pos="10855440"/>
              </a:tabLst>
            </a:pPr>
            <a:fld id="{EA1DD1AD-6F22-4240-8BF9-9BFDC2BA0D0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996840" y="750960"/>
            <a:ext cx="48024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16760" y="5757840"/>
            <a:ext cx="932040" cy="75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573440" y="6705720"/>
            <a:ext cx="4570560" cy="1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0" y="606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00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041800" cy="2048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elisabeth.lipiatou@ec.europa.e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480" y="3213000"/>
            <a:ext cx="8975520" cy="152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0120" y="836640"/>
            <a:ext cx="8435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300640"/>
            <a:ext cx="28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. Elisabeth LIPIAT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Head of Unit ‘Climate Change and Environmental Risks Unit’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G Research 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741920"/>
            <a:ext cx="362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98568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BSTA Dialogue on developments in research activities relevant to the needs of the Conv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research in the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mework Programme: Results &amp; new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612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Bonn, 3 Jun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ccccolor2" descr=""/>
          <p:cNvPicPr/>
          <p:nvPr/>
        </p:nvPicPr>
        <p:blipFill>
          <a:blip r:embed="rId2"/>
          <a:stretch/>
        </p:blipFill>
        <p:spPr>
          <a:xfrm>
            <a:off x="539640" y="5877000"/>
            <a:ext cx="10670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iti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Key issues highlighted in the ‘Accord’-</a:t>
            </a:r>
            <a:br>
              <a:rPr sz="2600"/>
            </a:b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importance of research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of impacts of a global temperature change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°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urope and in vulnerable region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robust monitoring, reporting and verification methodologies related to the implementation of policy commi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sign of mechanisms for reducing emissions from deforestation and land 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ust quantification of emission reduction potential and associated costs in key se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ation actions to minimise the adverse impacts of climat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844640"/>
            <a:ext cx="86407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targets – feasibility and affordability (2</a:t>
            </a:r>
            <a:r>
              <a:rPr b="1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 and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a global temperature increase up to 2°C from pre-industrial level, in Europe and most vulnerable regions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igation measures in the world's major economies compatible with global temperature increase up to 2°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569880"/>
            <a:ext cx="658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(20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844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rove climate projections-future climate, an issue of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mproving climate projections require sustained upstream efforts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odels. New 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ownsca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climate projections need to address finer geographical scales. Funding is provided to these activities essential notably to the development of climat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0720" y="76212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1844640"/>
            <a:ext cx="864072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onitoring for Environment and Security (GMES) addresses challenges and next steps for the space component including services.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GEO-IPCC Expert Consultation – How GEOSS could serve the data needs of the climate communities and support the IPCC assessment (Geneva, date to be confirm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71640" y="33336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 - New initiatives (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3080" y="2565360"/>
            <a:ext cx="56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monitoring and modelling system to reduce uncertainties in climate change impact analysis (CLIMB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fication of risks including socio-economic factors.  (WASSERM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, hydrological impact on national security and armed conflicts. Vulnerability and adaptation (CLICO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179856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lti-disciplinary approa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 and Social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0600" y="600120"/>
            <a:ext cx="625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impacts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and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Europe and neighboring regions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8720" y="0"/>
            <a:ext cx="65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Verdana"/>
              </a:rPr>
              <a:t> (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702400" y="2457360"/>
            <a:ext cx="3265200" cy="3305160"/>
            <a:chOff x="5702400" y="2457360"/>
            <a:chExt cx="3265200" cy="3305160"/>
          </a:xfrm>
        </p:grpSpPr>
        <p:pic>
          <p:nvPicPr>
            <p:cNvPr id="180" name="Picture 2" descr="carte-de-leurope-vierge-t7464"/>
            <p:cNvPicPr/>
            <p:nvPr/>
          </p:nvPicPr>
          <p:blipFill>
            <a:blip r:embed="rId1"/>
            <a:stretch/>
          </p:blipFill>
          <p:spPr>
            <a:xfrm>
              <a:off x="5702400" y="2948400"/>
              <a:ext cx="326520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934960" y="245736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0000"/>
                  </a:solidFill>
                  <a:latin typeface="Arial"/>
                </a:rPr>
                <a:t>Location of study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6203880" y="490716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6586200" y="466992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7178760" y="4835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8080560" y="5222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8133480" y="506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6745320" y="46526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7002720" y="4441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6921000" y="4893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6948360" y="5104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8"/>
            <p:cNvSpPr/>
            <p:nvPr/>
          </p:nvSpPr>
          <p:spPr>
            <a:xfrm>
              <a:off x="7872120" y="4806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778644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7672680" y="504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6926400" y="4853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6926400" y="5131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0"/>
            <p:cNvSpPr/>
            <p:nvPr/>
          </p:nvSpPr>
          <p:spPr>
            <a:xfrm>
              <a:off x="6397560" y="4750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0"/>
            <p:cNvSpPr/>
            <p:nvPr/>
          </p:nvSpPr>
          <p:spPr>
            <a:xfrm>
              <a:off x="6475680" y="4907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6949800" y="5292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0"/>
            <p:cNvSpPr/>
            <p:nvPr/>
          </p:nvSpPr>
          <p:spPr>
            <a:xfrm>
              <a:off x="786276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>
              <a:off x="7028280" y="4651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0"/>
            <p:cNvSpPr/>
            <p:nvPr/>
          </p:nvSpPr>
          <p:spPr>
            <a:xfrm>
              <a:off x="7313760" y="4849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7555320" y="5145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Diagram 3"/>
          <p:cNvGrpSpPr/>
          <p:nvPr/>
        </p:nvGrpSpPr>
        <p:grpSpPr>
          <a:xfrm>
            <a:off x="1617840" y="2245320"/>
            <a:ext cx="6159240" cy="3817080"/>
            <a:chOff x="1617840" y="2245320"/>
            <a:chExt cx="6159240" cy="3817080"/>
          </a:xfrm>
        </p:grpSpPr>
        <p:sp>
          <p:nvSpPr>
            <p:cNvPr id="206" name="_s538629"/>
            <p:cNvSpPr/>
            <p:nvPr/>
          </p:nvSpPr>
          <p:spPr>
            <a:xfrm>
              <a:off x="3846600" y="2832480"/>
              <a:ext cx="1701720" cy="16801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_s538630"/>
            <p:cNvSpPr/>
            <p:nvPr/>
          </p:nvSpPr>
          <p:spPr>
            <a:xfrm>
              <a:off x="3951360" y="22453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limat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_s538631"/>
            <p:cNvSpPr/>
            <p:nvPr/>
          </p:nvSpPr>
          <p:spPr>
            <a:xfrm>
              <a:off x="4462560" y="3273480"/>
              <a:ext cx="1701720" cy="16797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_s538632"/>
            <p:cNvSpPr/>
            <p:nvPr/>
          </p:nvSpPr>
          <p:spPr>
            <a:xfrm>
              <a:off x="62834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et greenhouse 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_s538633"/>
            <p:cNvSpPr/>
            <p:nvPr/>
          </p:nvSpPr>
          <p:spPr>
            <a:xfrm>
              <a:off x="4227480" y="3987720"/>
              <a:ext cx="1701720" cy="16801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_s538634"/>
            <p:cNvSpPr/>
            <p:nvPr/>
          </p:nvSpPr>
          <p:spPr>
            <a:xfrm>
              <a:off x="567684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Land us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Wat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538635"/>
            <p:cNvSpPr/>
            <p:nvPr/>
          </p:nvSpPr>
          <p:spPr>
            <a:xfrm>
              <a:off x="3467160" y="3987720"/>
              <a:ext cx="1701720" cy="16801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_s538636"/>
            <p:cNvSpPr/>
            <p:nvPr/>
          </p:nvSpPr>
          <p:spPr>
            <a:xfrm>
              <a:off x="222408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_s538637"/>
            <p:cNvSpPr/>
            <p:nvPr/>
          </p:nvSpPr>
          <p:spPr>
            <a:xfrm>
              <a:off x="3232080" y="3274560"/>
              <a:ext cx="1701720" cy="1679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538638"/>
            <p:cNvSpPr/>
            <p:nvPr/>
          </p:nvSpPr>
          <p:spPr>
            <a:xfrm>
              <a:off x="16178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griculture and fore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356000" y="381852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Foo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16640" y="1628640"/>
            <a:ext cx="9045360" cy="2928240"/>
            <a:chOff x="116640" y="1628640"/>
            <a:chExt cx="9045360" cy="2928240"/>
          </a:xfrm>
        </p:grpSpPr>
        <p:sp>
          <p:nvSpPr>
            <p:cNvPr id="218" name="Text Box 17"/>
            <p:cNvSpPr/>
            <p:nvPr/>
          </p:nvSpPr>
          <p:spPr>
            <a:xfrm>
              <a:off x="3655800" y="162864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16640" y="40971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7382520" y="40971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Miti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56000" y="257040"/>
            <a:ext cx="65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griculture, Food Security and Climate Change</a:t>
            </a:r>
            <a:br>
              <a:rPr sz="2000"/>
            </a:br>
            <a:r>
              <a:rPr b="0" i="1" lang="en-US" sz="2000" spc="-1" strike="noStrike">
                <a:solidFill>
                  <a:srgbClr val="00cc99"/>
                </a:solidFill>
                <a:latin typeface="Arial"/>
              </a:rPr>
              <a:t>Joint Programming Initiative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3760" y="171468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t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220840"/>
            <a:ext cx="87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and quantifying climate change impacts on key sectors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itime transport, fisheries, tourism and resource extr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and on how these sectors could affect the Arctic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U and Russia coope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nhancing GMES earth observation cover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search infrastructures for polar research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erdisciplinary observation and monitoring stations for atmospheric, terrestrial and marin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404640"/>
            <a:ext cx="702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08000" y="1844640"/>
            <a:ext cx="8280360" cy="54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 cycle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variability and weather extremes 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rrestr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arbon sink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ponse of soil carbon to increasing temperatur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EXTR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to decadal variability of carbon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GHG budge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errestrial ecosystems. CO2, CH4, and N2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(GHG Euro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ulnerability of 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cean carbon sources and sin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der future climate conditions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701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844640"/>
            <a:ext cx="8640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ustain and enhance the credibility of scientific information; to go beyond the social awareness, facilitating active behavioural eng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essage to emphasize the regional and local dimension of information of the impacts and implications at individual level; Present information in a way that affirms rather than threatens people’s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crease awareness and use of research results relevant to the policy mak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munication to focus on scientific evidence and propose policy options; explain research methods used will increase credibility; new mechanisms to improve ‘translation’ of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898560"/>
            <a:ext cx="68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ontext of communication post-Copenha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7: A regional research programme with global scop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tional cooperation in FP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a programme open to the world with in total 39 States contrib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open to participation of all countries of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provides support for climate research in and by developping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2924280"/>
            <a:ext cx="9186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hank you for your attenti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5661000"/>
            <a:ext cx="61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act: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elisabeth.lipiatou@ec.europa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630440"/>
            <a:ext cx="839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6000" y="692280"/>
            <a:ext cx="615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 relative contribution to Non Annex 1 Countrie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619280"/>
            <a:ext cx="7993080" cy="5057640"/>
            <a:chOff x="0" y="1619280"/>
            <a:chExt cx="7993080" cy="50576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-914" t="14819" r="0" b="0"/>
            <a:stretch/>
          </p:blipFill>
          <p:spPr>
            <a:xfrm>
              <a:off x="0" y="1619280"/>
              <a:ext cx="7993080" cy="50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20720" y="5146560"/>
              <a:ext cx="216000" cy="20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44720" y="4066920"/>
              <a:ext cx="71640" cy="7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944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1080" y="4498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48000" y="4714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48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2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944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5440" y="3635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6360" y="2698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8720" y="23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6720" y="45702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73440" y="3490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7344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6036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180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2000" y="4354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0508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21440" y="3201840"/>
              <a:ext cx="215640" cy="21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00360" y="41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3080" y="34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76360" y="529092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8908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16000" y="4066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720" y="3850920"/>
              <a:ext cx="2887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8360" y="4354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200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32000" y="4570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2072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6720" y="52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636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708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08360" y="3562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8720" y="3346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2872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872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2000" y="349056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84360" y="3850920"/>
              <a:ext cx="28908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8360" y="399384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1080" y="50018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65440" y="4858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8200" y="1236600"/>
            <a:ext cx="662472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 changes for different scenarios and transport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71640" y="1838160"/>
            <a:ext cx="5689440" cy="4724640"/>
            <a:chOff x="1871640" y="1838160"/>
            <a:chExt cx="5689440" cy="4724640"/>
          </a:xfrm>
        </p:grpSpPr>
        <p:pic>
          <p:nvPicPr>
            <p:cNvPr id="107" name="Picture 2" descr=""/>
            <p:cNvPicPr/>
            <p:nvPr/>
          </p:nvPicPr>
          <p:blipFill>
            <a:blip r:embed="rId1"/>
            <a:srcRect l="2072" t="3425" r="3691" b="4600"/>
            <a:stretch/>
          </p:blipFill>
          <p:spPr>
            <a:xfrm>
              <a:off x="1979280" y="1838160"/>
              <a:ext cx="55818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71640" y="1872360"/>
              <a:ext cx="4028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5902200"/>
            <a:ext cx="898560" cy="66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4840" y="466560"/>
            <a:ext cx="632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</a:t>
            </a:r>
            <a:r>
              <a:rPr b="0" lang="en-GB" sz="28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141120"/>
            <a:ext cx="9075600" cy="6626520"/>
            <a:chOff x="0" y="141120"/>
            <a:chExt cx="9075600" cy="6626520"/>
          </a:xfrm>
        </p:grpSpPr>
        <p:grpSp>
          <p:nvGrpSpPr>
            <p:cNvPr id="112" name="Group 58"/>
            <p:cNvGrpSpPr/>
            <p:nvPr/>
          </p:nvGrpSpPr>
          <p:grpSpPr>
            <a:xfrm>
              <a:off x="857160" y="1227240"/>
              <a:ext cx="7313760" cy="5540400"/>
              <a:chOff x="857160" y="1227240"/>
              <a:chExt cx="7313760" cy="5540400"/>
            </a:xfrm>
          </p:grpSpPr>
          <p:pic>
            <p:nvPicPr>
              <p:cNvPr id="113" name="Pictur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227240"/>
                <a:ext cx="7313760" cy="5484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" name="Group 57"/>
              <p:cNvGrpSpPr/>
              <p:nvPr/>
            </p:nvGrpSpPr>
            <p:grpSpPr>
              <a:xfrm>
                <a:off x="1214280" y="1639800"/>
                <a:ext cx="6215400" cy="5127840"/>
                <a:chOff x="1214280" y="1639800"/>
                <a:chExt cx="6215400" cy="5127840"/>
              </a:xfrm>
            </p:grpSpPr>
            <p:sp>
              <p:nvSpPr>
                <p:cNvPr id="115" name="Freeform 35"/>
                <p:cNvSpPr/>
                <p:nvPr/>
              </p:nvSpPr>
              <p:spPr>
                <a:xfrm>
                  <a:off x="2325600" y="2606400"/>
                  <a:ext cx="4685040" cy="2284560"/>
                </a:xfrm>
                <a:custGeom>
                  <a:avLst/>
                  <a:gdLst/>
                  <a:ahLst/>
                  <a:rect l="l" t="t" r="r" b="b"/>
                  <a:pathLst>
                    <a:path w="4684426" h="2283502">
                      <a:moveTo>
                        <a:pt x="0" y="2163581"/>
                      </a:moveTo>
                      <a:cubicBezTo>
                        <a:pt x="1307267" y="1081790"/>
                        <a:pt x="2614534" y="0"/>
                        <a:pt x="3395272" y="19987"/>
                      </a:cubicBezTo>
                      <a:cubicBezTo>
                        <a:pt x="4176010" y="39974"/>
                        <a:pt x="4430218" y="1161738"/>
                        <a:pt x="4684426" y="2283502"/>
                      </a:cubicBezTo>
                    </a:path>
                  </a:pathLst>
                </a:custGeom>
                <a:noFill/>
                <a:ln w="44280">
                  <a:solidFill>
                    <a:srgbClr val="00664d">
                      <a:alpha val="17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Text Box 3"/>
                <p:cNvSpPr/>
                <p:nvPr/>
              </p:nvSpPr>
              <p:spPr>
                <a:xfrm>
                  <a:off x="4857840" y="1726920"/>
                  <a:ext cx="13716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1.3 –</a:t>
                  </a: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.5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1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Text Box 4"/>
                <p:cNvSpPr/>
                <p:nvPr/>
              </p:nvSpPr>
              <p:spPr>
                <a:xfrm>
                  <a:off x="2214360" y="4013280"/>
                  <a:ext cx="4651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5"/>
                <p:cNvSpPr/>
                <p:nvPr/>
              </p:nvSpPr>
              <p:spPr>
                <a:xfrm>
                  <a:off x="5929560" y="3370320"/>
                  <a:ext cx="150012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0.1 – 0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(2.3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~</a:t>
                  </a:r>
                  <a:r>
                    <a:rPr b="0" lang="fi-FI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6.6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Text Box 6"/>
                <p:cNvSpPr/>
                <p:nvPr/>
              </p:nvSpPr>
              <p:spPr>
                <a:xfrm>
                  <a:off x="1214280" y="1726920"/>
                  <a:ext cx="352440" cy="46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8"/>
                <p:cNvSpPr/>
                <p:nvPr/>
              </p:nvSpPr>
              <p:spPr>
                <a:xfrm>
                  <a:off x="1857240" y="3227400"/>
                  <a:ext cx="1000080" cy="63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Not taking account secondary aeros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Text Box 12"/>
                <p:cNvSpPr/>
                <p:nvPr/>
              </p:nvSpPr>
              <p:spPr>
                <a:xfrm>
                  <a:off x="1857240" y="1639800"/>
                  <a:ext cx="1285920" cy="2301840"/>
                </a:xfrm>
                <a:prstGeom prst="rect">
                  <a:avLst/>
                </a:prstGeom>
                <a:noFill/>
                <a:ln w="27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3680" rIns="103680" tIns="58680" bIns="58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Sensitivity of CCN from uncertainty in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processe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e.g nucleation)  and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emission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RCPs and biogeni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2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6040" y="2727360"/>
                  <a:ext cx="252000" cy="48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Text Box 15"/>
                <p:cNvSpPr/>
                <p:nvPr/>
              </p:nvSpPr>
              <p:spPr>
                <a:xfrm>
                  <a:off x="4363920" y="6423120"/>
                  <a:ext cx="66024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800" spc="-1" strike="noStrike">
                      <a:solidFill>
                        <a:srgbClr val="000000"/>
                      </a:solidFill>
                      <a:latin typeface="Arial"/>
                    </a:rPr>
                    <a:t>Ye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Box 21"/>
                <p:cNvSpPr/>
                <p:nvPr/>
              </p:nvSpPr>
              <p:spPr>
                <a:xfrm>
                  <a:off x="2500200" y="4799160"/>
                  <a:ext cx="150012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i-FI" sz="1100" spc="-1" strike="noStrike">
                      <a:solidFill>
                        <a:srgbClr val="000000"/>
                      </a:solidFill>
                      <a:latin typeface="Arial"/>
                    </a:rPr>
                    <a:t>Pre-Industrial situ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33"/>
                <p:cNvSpPr/>
                <p:nvPr/>
              </p:nvSpPr>
              <p:spPr>
                <a:xfrm>
                  <a:off x="2857320" y="3441600"/>
                  <a:ext cx="142560" cy="174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6" name="Straight Arrow Connector 47"/>
                <p:cNvCxnSpPr/>
                <p:nvPr/>
              </p:nvCxnSpPr>
              <p:spPr>
                <a:xfrm flipH="1">
                  <a:off x="2428200" y="4711320"/>
                  <a:ext cx="1440" cy="857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  <p:sp>
          <p:nvSpPr>
            <p:cNvPr id="127" name="Rectangle 65"/>
            <p:cNvSpPr/>
            <p:nvPr/>
          </p:nvSpPr>
          <p:spPr>
            <a:xfrm>
              <a:off x="7429680" y="2747880"/>
              <a:ext cx="1357200" cy="1857600"/>
            </a:xfrm>
            <a:prstGeom prst="rect">
              <a:avLst/>
            </a:prstGeom>
            <a:solidFill>
              <a:srgbClr val="92d05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63"/>
            <p:cNvSpPr/>
            <p:nvPr/>
          </p:nvSpPr>
          <p:spPr>
            <a:xfrm>
              <a:off x="3214800" y="1819440"/>
              <a:ext cx="1643040" cy="928440"/>
            </a:xfrm>
            <a:prstGeom prst="rect">
              <a:avLst/>
            </a:prstGeom>
            <a:solidFill>
              <a:srgbClr val="ffc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Up-Down Arrow 62"/>
            <p:cNvSpPr/>
            <p:nvPr/>
          </p:nvSpPr>
          <p:spPr>
            <a:xfrm>
              <a:off x="214200" y="1819440"/>
              <a:ext cx="785880" cy="4500360"/>
            </a:xfrm>
            <a:prstGeom prst="upDownArrow">
              <a:avLst>
                <a:gd name="adj1" fmla="val 50000"/>
                <a:gd name="adj2" fmla="val 50001"/>
              </a:avLst>
            </a:prstGeom>
            <a:gradFill rotWithShape="0">
              <a:gsLst>
                <a:gs pos="0">
                  <a:srgbClr val="3333cc">
                    <a:alpha val="20000"/>
                  </a:srgbClr>
                </a:gs>
                <a:gs pos="100000">
                  <a:srgbClr val="ff0000">
                    <a:alpha val="5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54"/>
            <p:cNvSpPr/>
            <p:nvPr/>
          </p:nvSpPr>
          <p:spPr>
            <a:xfrm>
              <a:off x="3214800" y="1819440"/>
              <a:ext cx="171432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urrent da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effect of same order as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fi-FI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(although with still 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gh uncertaint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55"/>
            <p:cNvSpPr/>
            <p:nvPr/>
          </p:nvSpPr>
          <p:spPr>
            <a:xfrm>
              <a:off x="7500960" y="2890800"/>
              <a:ext cx="12859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Futu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effect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lmost same as pre-industrial,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2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ntinues to rai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Box 59"/>
            <p:cNvSpPr/>
            <p:nvPr/>
          </p:nvSpPr>
          <p:spPr>
            <a:xfrm>
              <a:off x="0" y="186228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3333cc"/>
                  </a:solidFill>
                  <a:latin typeface="Arial"/>
                </a:rPr>
                <a:t>More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Box 60"/>
            <p:cNvSpPr/>
            <p:nvPr/>
          </p:nvSpPr>
          <p:spPr>
            <a:xfrm>
              <a:off x="0" y="446256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ff0000"/>
                  </a:solidFill>
                  <a:latin typeface="Arial"/>
                </a:rPr>
                <a:t>Less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Box 66"/>
            <p:cNvSpPr/>
            <p:nvPr/>
          </p:nvSpPr>
          <p:spPr>
            <a:xfrm>
              <a:off x="5929200" y="6361200"/>
              <a:ext cx="1928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100" spc="-1" strike="noStrike">
                  <a:solidFill>
                    <a:srgbClr val="b3b3b3"/>
                  </a:solidFill>
                  <a:latin typeface="Arial"/>
                </a:rPr>
                <a:t>Source: Makkonen et al, manuscript in prepa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1785960" y="1033560"/>
              <a:ext cx="59292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68" descr="logo.jpg"/>
            <p:cNvPicPr/>
            <p:nvPr/>
          </p:nvPicPr>
          <p:blipFill>
            <a:blip r:embed="rId3"/>
            <a:stretch/>
          </p:blipFill>
          <p:spPr>
            <a:xfrm>
              <a:off x="7786800" y="141120"/>
              <a:ext cx="12888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09680" y="590400"/>
              <a:ext cx="65883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Climate research-Key result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AEROSOL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"/>
            <p:cNvSpPr/>
            <p:nvPr/>
          </p:nvSpPr>
          <p:spPr>
            <a:xfrm>
              <a:off x="1643040" y="925560"/>
              <a:ext cx="6215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3640" y="6443640"/>
              <a:ext cx="1782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(model </a:t>
              </a:r>
              <a:r>
                <a:rPr b="1" lang="fi-FI" sz="1200" spc="-1" strike="noStrike">
                  <a:solidFill>
                    <a:srgbClr val="000000"/>
                  </a:solidFill>
                  <a:latin typeface="Times New Roman"/>
                </a:rPr>
                <a:t>ECHAM5-HAM</a:t>
              </a: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hart 7" descr=""/>
          <p:cNvPicPr/>
          <p:nvPr/>
        </p:nvPicPr>
        <p:blipFill>
          <a:blip r:embed="rId1"/>
          <a:srcRect l="1569" t="2220" r="1569" b="2220"/>
          <a:stretch/>
        </p:blipFill>
        <p:spPr>
          <a:xfrm>
            <a:off x="3433680" y="1455840"/>
            <a:ext cx="5596200" cy="501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limatecost"/>
          <p:cNvPicPr/>
          <p:nvPr/>
        </p:nvPicPr>
        <p:blipFill>
          <a:blip r:embed="rId2"/>
          <a:stretch/>
        </p:blipFill>
        <p:spPr>
          <a:xfrm>
            <a:off x="0" y="6130800"/>
            <a:ext cx="290052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fp7 logo"/>
          <p:cNvPicPr/>
          <p:nvPr/>
        </p:nvPicPr>
        <p:blipFill>
          <a:blip r:embed="rId3"/>
          <a:stretch/>
        </p:blipFill>
        <p:spPr>
          <a:xfrm>
            <a:off x="7562880" y="196920"/>
            <a:ext cx="1346040" cy="1092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1600" y="1725480"/>
            <a:ext cx="35128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limateCost provides major research into economic policy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AGE-model – a model used in the Stern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lobal annual total of impacts given the IPCC A1B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pacts include sea level rise, economic, non-economic and discontin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50 % chance of approaching 20 trillion $/year  in 2200; 5 trillion $/year  in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5% chance of approaching 50 trillion $ /year  in 2200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 compari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, Global GDP was 70.21 trillion $ in 200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4840" y="46656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cc99"/>
                </a:solidFill>
                <a:latin typeface="Arial"/>
              </a:rPr>
              <a:t>Full cost of climate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91480" y="2378520"/>
            <a:ext cx="13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73960" y="4623120"/>
            <a:ext cx="7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74120" y="525492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2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821720" y="566460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The Arctic sea ice extent is in a downward spiral. Photo: Ragnvald Nærø"/>
          <p:cNvPicPr/>
          <p:nvPr/>
        </p:nvPicPr>
        <p:blipFill>
          <a:blip r:embed="rId1"/>
          <a:stretch/>
        </p:blipFill>
        <p:spPr>
          <a:xfrm>
            <a:off x="4356000" y="2674800"/>
            <a:ext cx="4608720" cy="3059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200" y="1844640"/>
            <a:ext cx="8856720" cy="5810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85720" y="13874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O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20" y="5877000"/>
            <a:ext cx="892080" cy="9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84464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tember 2008 and 2009 had the second and third lowest summer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xtents ever ob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200" y="2997360"/>
            <a:ext cx="428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show that sea-ice in summer might completely disappear by the end of this cent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emissions are curbed significantly, a stabilisation of the Arctic's climate system will be un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5053680"/>
            <a:ext cx="4680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602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ARC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43280" y="115920"/>
            <a:ext cx="658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Verdana"/>
              </a:rPr>
              <a:t>Climate research-Key results</a:t>
            </a:r>
            <a:r>
              <a:rPr b="0" lang="en-GB" sz="20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667240" cy="100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70800" y="817560"/>
            <a:ext cx="2152440" cy="219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283560"/>
            <a:ext cx="9144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ults indicate that under summer conditions 10% of Arc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waters will become under saturated within 10 yea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of the surface Arctic by mid-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Canary Current system, simulations indicate both strong seasonal upwelling of under saturated waters and a trend that will render half the waters above 250 m to become under saturated by year 20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0360" y="8175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c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cid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57:19Z</dcterms:created>
  <dc:creator>delloch</dc:creator>
  <dc:description/>
  <dc:language>en-US</dc:language>
  <cp:lastModifiedBy>Saarniaho</cp:lastModifiedBy>
  <cp:lastPrinted>2003-03-26T14:52:49Z</cp:lastPrinted>
  <dcterms:modified xsi:type="dcterms:W3CDTF">2010-06-03T07:42:53Z</dcterms:modified>
  <cp:revision>2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