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3.png" ContentType="image/png"/>
  <Override PartName="/ppt/media/image11.jpeg" ContentType="image/jpeg"/>
  <Override PartName="/ppt/media/image19.jpeg" ContentType="image/jpeg"/>
  <Override PartName="/ppt/media/image17.png" ContentType="image/png"/>
  <Override PartName="/ppt/media/image4.jpeg" ContentType="image/jpeg"/>
  <Override PartName="/ppt/media/image15.jpeg" ContentType="image/jpeg"/>
  <Override PartName="/ppt/media/image14.png" ContentType="image/png"/>
  <Override PartName="/ppt/media/image2.jpeg" ContentType="image/jpeg"/>
  <Override PartName="/ppt/media/image3.jpeg" ContentType="image/jpeg"/>
  <Override PartName="/ppt/media/image18.wmf" ContentType="image/x-wmf"/>
  <Override PartName="/ppt/media/image5.jpeg" ContentType="image/jpeg"/>
  <Override PartName="/ppt/media/image10.png" ContentType="image/png"/>
  <Override PartName="/ppt/media/image6.jpeg" ContentType="image/jpeg"/>
  <Override PartName="/ppt/media/image16.wmf" ContentType="image/x-wmf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28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2"/>
          </p:nvPr>
        </p:nvSpPr>
        <p:spPr>
          <a:xfrm>
            <a:off x="3849840" y="-360"/>
            <a:ext cx="2928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966600" y="770040"/>
            <a:ext cx="4927320" cy="369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25560" y="4696920"/>
            <a:ext cx="4927680" cy="4465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3"/>
          </p:nvPr>
        </p:nvSpPr>
        <p:spPr>
          <a:xfrm>
            <a:off x="0" y="9394560"/>
            <a:ext cx="2928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4"/>
          </p:nvPr>
        </p:nvSpPr>
        <p:spPr>
          <a:xfrm>
            <a:off x="3849840" y="9394560"/>
            <a:ext cx="2928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A131B852-3817-4674-9960-9C19240F1B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3849840" y="9394560"/>
            <a:ext cx="2928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D851E10D-1D61-42AD-9585-D92892FED0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0" y="9394560"/>
            <a:ext cx="2928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0" y="-360"/>
            <a:ext cx="2928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3849840" y="-360"/>
            <a:ext cx="2928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934920" y="741240"/>
            <a:ext cx="4935600" cy="370224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79320" y="4691160"/>
            <a:ext cx="543888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3849840" y="9394560"/>
            <a:ext cx="2928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84A2E084-03E0-4247-A11E-A0E69863E4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0" y="9394560"/>
            <a:ext cx="2928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0" y="-360"/>
            <a:ext cx="2928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3849840" y="-360"/>
            <a:ext cx="2928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934920" y="741240"/>
            <a:ext cx="4935600" cy="370224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79320" y="4691160"/>
            <a:ext cx="543888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3849840" y="9394560"/>
            <a:ext cx="2928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D0F569FB-15B1-4E74-8120-80F41D61D6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0" y="9394560"/>
            <a:ext cx="2928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0" y="-360"/>
            <a:ext cx="2928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3849840" y="-360"/>
            <a:ext cx="2928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934920" y="741240"/>
            <a:ext cx="4935600" cy="370224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79320" y="4691160"/>
            <a:ext cx="543888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51280" y="9393120"/>
            <a:ext cx="29275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90B4943F-400D-4C1F-A1BD-B5721BFEFB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934920" y="741240"/>
            <a:ext cx="4935600" cy="370224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48040" y="9399600"/>
            <a:ext cx="29257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fld id="{1DD41C00-0423-4357-9673-2C01240AEB36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952560" y="7556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25200" y="4699080"/>
            <a:ext cx="5002200" cy="447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 txBox="1"/>
          <p:nvPr/>
        </p:nvSpPr>
        <p:spPr>
          <a:xfrm>
            <a:off x="3849840" y="9394560"/>
            <a:ext cx="2928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2C412AC2-E045-4762-82CA-711FD0A679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0" y="9394560"/>
            <a:ext cx="2928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0" y="-360"/>
            <a:ext cx="2928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849840" y="-360"/>
            <a:ext cx="2928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934920" y="741240"/>
            <a:ext cx="4935600" cy="370224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79320" y="4691160"/>
            <a:ext cx="543888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 txBox="1"/>
          <p:nvPr/>
        </p:nvSpPr>
        <p:spPr>
          <a:xfrm>
            <a:off x="3849840" y="9394560"/>
            <a:ext cx="2928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3FA0CA94-FD55-480F-9D1A-2CB33899A5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0" y="9394560"/>
            <a:ext cx="2928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0" y="-360"/>
            <a:ext cx="2928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3849840" y="-360"/>
            <a:ext cx="2928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934920" y="741240"/>
            <a:ext cx="4935600" cy="370224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79320" y="4691160"/>
            <a:ext cx="543888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 txBox="1"/>
          <p:nvPr/>
        </p:nvSpPr>
        <p:spPr>
          <a:xfrm>
            <a:off x="3849840" y="9394560"/>
            <a:ext cx="2928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6FDA718B-A7C1-4A34-9437-816FBE1F21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0" y="9394560"/>
            <a:ext cx="2928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0" y="-360"/>
            <a:ext cx="2928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3849840" y="-360"/>
            <a:ext cx="2928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934920" y="741240"/>
            <a:ext cx="4935600" cy="370224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79320" y="4691160"/>
            <a:ext cx="543888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46600" y="9380520"/>
            <a:ext cx="29480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662040"/>
                <a:tab algn="l" pos="1322280"/>
                <a:tab algn="l" pos="1984320"/>
                <a:tab algn="l" pos="264492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  <a:tab algn="l" pos="8767800"/>
                <a:tab algn="l" pos="9185400"/>
                <a:tab algn="l" pos="9602640"/>
                <a:tab algn="l" pos="10020240"/>
                <a:tab algn="l" pos="10437840"/>
                <a:tab algn="l" pos="10855440"/>
              </a:tabLst>
            </a:pPr>
            <a:fld id="{CBC876E2-D151-4048-B349-9705F36A11D2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 Box 1"/>
          <p:cNvSpPr/>
          <p:nvPr/>
        </p:nvSpPr>
        <p:spPr>
          <a:xfrm>
            <a:off x="996840" y="750960"/>
            <a:ext cx="4802400" cy="3701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520" rIns="8352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744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7916760" y="5757840"/>
            <a:ext cx="932040" cy="75564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6705720"/>
            <a:ext cx="4570560" cy="179280"/>
          </a:xfrm>
          <a:prstGeom prst="rect">
            <a:avLst/>
          </a:prstGeom>
          <a:ln w="0">
            <a:noFill/>
          </a:ln>
        </p:spPr>
      </p:pic>
      <p:pic>
        <p:nvPicPr>
          <p:cNvPr id="2" name="" descr=""/>
          <p:cNvPicPr/>
          <p:nvPr/>
        </p:nvPicPr>
        <p:blipFill>
          <a:blip r:embed="rId4"/>
          <a:stretch/>
        </p:blipFill>
        <p:spPr>
          <a:xfrm>
            <a:off x="4573440" y="6705720"/>
            <a:ext cx="4570560" cy="179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dt" idx="1"/>
          </p:nvPr>
        </p:nvSpPr>
        <p:spPr>
          <a:xfrm>
            <a:off x="0" y="60627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700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5"/>
          <a:stretch/>
        </p:blipFill>
        <p:spPr>
          <a:xfrm>
            <a:off x="0" y="0"/>
            <a:ext cx="5041800" cy="204804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mailto:elisabeth.lipiatou@ec.europa.eu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0480" y="3213000"/>
            <a:ext cx="8975520" cy="15289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00120" y="836640"/>
            <a:ext cx="8435880" cy="26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219640" y="5300640"/>
            <a:ext cx="280836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Dr. Elisabeth LIPIATO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200" spc="-1" strike="noStrike">
                <a:solidFill>
                  <a:srgbClr val="000000"/>
                </a:solidFill>
                <a:latin typeface="Arial"/>
              </a:rPr>
              <a:t>Head of Unit ‘Climate Change and Environmental Risks Unit’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’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DG Research European Com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3120" y="4741920"/>
            <a:ext cx="3621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979640" y="985680"/>
            <a:ext cx="6840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000000"/>
                </a:solidFill>
                <a:latin typeface="Arial"/>
              </a:rPr>
              <a:t>SBSTA Dialogue on developments in research activities relevant to the needs of the Conven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mate change research in the 7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Framework Programme: Results &amp; new initiativ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476360" y="612792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BE" sz="1800" spc="-1" strike="noStrike">
                <a:solidFill>
                  <a:srgbClr val="000000"/>
                </a:solidFill>
                <a:latin typeface="Arial"/>
              </a:rPr>
              <a:t>Bonn, 3 June 20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fccccolor2" descr=""/>
          <p:cNvPicPr/>
          <p:nvPr/>
        </p:nvPicPr>
        <p:blipFill>
          <a:blip r:embed="rId2"/>
          <a:stretch/>
        </p:blipFill>
        <p:spPr>
          <a:xfrm>
            <a:off x="539640" y="5877000"/>
            <a:ext cx="1067040" cy="52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-73080"/>
            <a:ext cx="8229600" cy="54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Arial"/>
              </a:rPr>
              <a:t>FP7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initiativ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740960" y="762120"/>
            <a:ext cx="71470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cc99"/>
                </a:solidFill>
                <a:latin typeface="Arial"/>
              </a:rPr>
              <a:t>Key issues highlighted in the ‘Accord’-</a:t>
            </a:r>
            <a:br>
              <a:rPr sz="2600"/>
            </a:br>
            <a:r>
              <a:rPr b="0" lang="en-GB" sz="2600" spc="-1" strike="noStrike">
                <a:solidFill>
                  <a:srgbClr val="00cc99"/>
                </a:solidFill>
                <a:latin typeface="Arial"/>
              </a:rPr>
              <a:t>importance of research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10720" y="1841040"/>
            <a:ext cx="807732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jections of impacts of a global temperature change up to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2°C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for Europe and in vulnerable regions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eed for robust monitoring, reporting and verification methodologies related to the implementation of policy commitmen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design of mechanisms for reducing emissions from deforestation and land use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obust quantification of emission reduction potential and associated costs in key sector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daptation actions to minimise the adverse impacts of climate chang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324000" y="1844280"/>
            <a:ext cx="842472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324000" y="1844640"/>
            <a:ext cx="8640720" cy="32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Global targets – feasibility and affordability (2</a:t>
            </a:r>
            <a:r>
              <a:rPr b="1" lang="en-GB" sz="2000" spc="-1" strike="noStrike" u="sng" baseline="30000">
                <a:solidFill>
                  <a:srgbClr val="000000"/>
                </a:solidFill>
                <a:uFillTx/>
                <a:latin typeface="Arial"/>
              </a:rPr>
              <a:t>o</a:t>
            </a:r>
            <a:r>
              <a:rPr b="1" lang="en-GB" sz="20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 and below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mpacts of a global temperature increase up to 2°C from pre-industrial level, in Europe and most vulnerable regions of the wor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itigation measures in the world's major economies compatible with global temperature increase up to 2°C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556000" y="569880"/>
            <a:ext cx="6588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cc99"/>
                </a:solidFill>
                <a:latin typeface="Arial"/>
              </a:rPr>
              <a:t>Climate research- New initiatives</a:t>
            </a:r>
            <a:r>
              <a:rPr b="0" lang="en-GB" sz="2400" spc="-1" strike="noStrike">
                <a:solidFill>
                  <a:srgbClr val="00cc99"/>
                </a:solidFill>
                <a:latin typeface="Arial"/>
              </a:rPr>
              <a:t> (2010-1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324000" y="1844280"/>
            <a:ext cx="842472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>
            <a:off x="108000" y="1844640"/>
            <a:ext cx="8640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mprove climate projections-future climate, an issue of sc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5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Modell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improving climate projections require sustained upstream efforts on th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developm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models. New projec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5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Downscaling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: climate projections need to address finer geographical scales. Funding is provided to these activities essential notably to the development of climate servic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160720" y="762120"/>
            <a:ext cx="6588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cc99"/>
                </a:solidFill>
                <a:latin typeface="Arial"/>
              </a:rPr>
              <a:t>Climate research- New initiatives (2010)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324000" y="1844280"/>
            <a:ext cx="842472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08000" y="1844640"/>
            <a:ext cx="8640720" cy="372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limate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lobal Monitoring for Environment and Security (GMES) addresses challenges and next steps for the space component including services.</a:t>
            </a:r>
            <a:r>
              <a:rPr b="0" lang="fr-BE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oint GEO-IPCC Expert Consultation – How GEOSS could serve the data needs of the climate communities and support the IPCC assessment (Geneva, date to be confirmed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771640" y="333360"/>
            <a:ext cx="568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cc99"/>
                </a:solidFill>
                <a:latin typeface="Arial"/>
              </a:rPr>
              <a:t>Climate research - New initiatives (201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2"/>
          <p:cNvSpPr/>
          <p:nvPr/>
        </p:nvSpPr>
        <p:spPr>
          <a:xfrm>
            <a:off x="73080" y="2565360"/>
            <a:ext cx="5651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tegrated monitoring and modelling system to reduce uncertainties in climate change impact analysis (CLIMB)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Quantification of risks including socio-economic factors.  (WASSERMe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limate change, hydrological impact on national security and armed conflicts. Vulnerability and adaptation (CLICO)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Rectangle 13"/>
          <p:cNvSpPr/>
          <p:nvPr/>
        </p:nvSpPr>
        <p:spPr>
          <a:xfrm>
            <a:off x="0" y="1798560"/>
            <a:ext cx="914400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Multi-disciplinary approach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nvironment and Social Scien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640600" y="600120"/>
            <a:ext cx="6258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mate Change impacts on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ater and Securit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uthern Europe and neighboring regions</a:t>
            </a:r>
            <a:r>
              <a:rPr b="1" lang="en-US" sz="1800" spc="-1" strike="noStrike">
                <a:solidFill>
                  <a:srgbClr val="003366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8720" y="0"/>
            <a:ext cx="658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cc99"/>
                </a:solidFill>
                <a:latin typeface="Arial"/>
              </a:rPr>
              <a:t>Climate research- New initiatives</a:t>
            </a:r>
            <a:r>
              <a:rPr b="0" lang="en-GB" sz="2400" spc="-1" strike="noStrike">
                <a:solidFill>
                  <a:srgbClr val="00cc99"/>
                </a:solidFill>
                <a:latin typeface="Verdana"/>
              </a:rPr>
              <a:t> (2009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5702400" y="2457360"/>
            <a:ext cx="3265200" cy="3305160"/>
            <a:chOff x="5702400" y="2457360"/>
            <a:chExt cx="3265200" cy="3305160"/>
          </a:xfrm>
        </p:grpSpPr>
        <p:pic>
          <p:nvPicPr>
            <p:cNvPr id="180" name="Picture 2" descr="carte-de-leurope-vierge-t7464"/>
            <p:cNvPicPr/>
            <p:nvPr/>
          </p:nvPicPr>
          <p:blipFill>
            <a:blip r:embed="rId1"/>
            <a:stretch/>
          </p:blipFill>
          <p:spPr>
            <a:xfrm>
              <a:off x="5702400" y="2948400"/>
              <a:ext cx="3265200" cy="269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Text Box 3"/>
            <p:cNvSpPr/>
            <p:nvPr/>
          </p:nvSpPr>
          <p:spPr>
            <a:xfrm>
              <a:off x="5934960" y="2457360"/>
              <a:ext cx="2747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800" spc="-1" strike="noStrike">
                  <a:solidFill>
                    <a:srgbClr val="ff0000"/>
                  </a:solidFill>
                  <a:latin typeface="Arial"/>
                </a:rPr>
                <a:t>Location of study area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Text Box 4"/>
            <p:cNvSpPr/>
            <p:nvPr/>
          </p:nvSpPr>
          <p:spPr>
            <a:xfrm>
              <a:off x="6203880" y="4907160"/>
              <a:ext cx="394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ff00"/>
                  </a:solidFill>
                  <a:latin typeface="Arial"/>
                  <a:ea typeface="Arial"/>
                </a:rPr>
                <a:t>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5"/>
            <p:cNvSpPr/>
            <p:nvPr/>
          </p:nvSpPr>
          <p:spPr>
            <a:xfrm>
              <a:off x="6586200" y="4669920"/>
              <a:ext cx="394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ff00"/>
                  </a:solidFill>
                  <a:latin typeface="Arial"/>
                  <a:ea typeface="Arial"/>
                </a:rPr>
                <a:t>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Text Box 6"/>
            <p:cNvSpPr/>
            <p:nvPr/>
          </p:nvSpPr>
          <p:spPr>
            <a:xfrm>
              <a:off x="7178760" y="483552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ff00"/>
                  </a:solidFill>
                  <a:latin typeface="Arial"/>
                  <a:ea typeface="Arial"/>
                </a:rPr>
                <a:t>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Text Box 8"/>
            <p:cNvSpPr/>
            <p:nvPr/>
          </p:nvSpPr>
          <p:spPr>
            <a:xfrm>
              <a:off x="8080560" y="522252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ff00"/>
                  </a:solidFill>
                  <a:latin typeface="Arial"/>
                  <a:ea typeface="Arial"/>
                </a:rPr>
                <a:t>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Text Box 9"/>
            <p:cNvSpPr/>
            <p:nvPr/>
          </p:nvSpPr>
          <p:spPr>
            <a:xfrm>
              <a:off x="8133480" y="506412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ff00"/>
                  </a:solidFill>
                  <a:latin typeface="Arial"/>
                  <a:ea typeface="Arial"/>
                </a:rPr>
                <a:t>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12"/>
            <p:cNvSpPr/>
            <p:nvPr/>
          </p:nvSpPr>
          <p:spPr>
            <a:xfrm>
              <a:off x="6745320" y="465264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9900"/>
                  </a:solidFill>
                  <a:latin typeface="Arial"/>
                  <a:ea typeface="Arial"/>
                </a:rPr>
                <a:t>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Text Box 13"/>
            <p:cNvSpPr/>
            <p:nvPr/>
          </p:nvSpPr>
          <p:spPr>
            <a:xfrm>
              <a:off x="7002720" y="444168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9900"/>
                  </a:solidFill>
                  <a:latin typeface="Arial"/>
                  <a:ea typeface="Arial"/>
                </a:rPr>
                <a:t>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14"/>
            <p:cNvSpPr/>
            <p:nvPr/>
          </p:nvSpPr>
          <p:spPr>
            <a:xfrm>
              <a:off x="6921000" y="489312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9900"/>
                  </a:solidFill>
                  <a:latin typeface="Arial"/>
                  <a:ea typeface="Arial"/>
                </a:rPr>
                <a:t>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Text Box 15"/>
            <p:cNvSpPr/>
            <p:nvPr/>
          </p:nvSpPr>
          <p:spPr>
            <a:xfrm>
              <a:off x="6948360" y="510408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9900"/>
                  </a:solidFill>
                  <a:latin typeface="Arial"/>
                  <a:ea typeface="Arial"/>
                </a:rPr>
                <a:t>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Text Box 18"/>
            <p:cNvSpPr/>
            <p:nvPr/>
          </p:nvSpPr>
          <p:spPr>
            <a:xfrm>
              <a:off x="7872120" y="480600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9900"/>
                  </a:solidFill>
                  <a:latin typeface="Arial"/>
                  <a:ea typeface="Arial"/>
                </a:rPr>
                <a:t>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Text Box 20"/>
            <p:cNvSpPr/>
            <p:nvPr/>
          </p:nvSpPr>
          <p:spPr>
            <a:xfrm>
              <a:off x="7786440" y="530280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cc99ff"/>
                  </a:solidFill>
                  <a:latin typeface="Arial"/>
                  <a:ea typeface="Arial"/>
                </a:rPr>
                <a:t>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Text Box 21"/>
            <p:cNvSpPr/>
            <p:nvPr/>
          </p:nvSpPr>
          <p:spPr>
            <a:xfrm>
              <a:off x="7672680" y="504108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cc99ff"/>
                  </a:solidFill>
                  <a:latin typeface="Arial"/>
                  <a:ea typeface="Arial"/>
                </a:rPr>
                <a:t>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Text Box 22"/>
            <p:cNvSpPr/>
            <p:nvPr/>
          </p:nvSpPr>
          <p:spPr>
            <a:xfrm>
              <a:off x="6926400" y="485316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cc99ff"/>
                  </a:solidFill>
                  <a:latin typeface="Arial"/>
                  <a:ea typeface="Arial"/>
                </a:rPr>
                <a:t>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Text Box 23"/>
            <p:cNvSpPr/>
            <p:nvPr/>
          </p:nvSpPr>
          <p:spPr>
            <a:xfrm>
              <a:off x="6926400" y="513180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cc99ff"/>
                  </a:solidFill>
                  <a:latin typeface="Arial"/>
                  <a:ea typeface="Arial"/>
                </a:rPr>
                <a:t>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Text Box 40"/>
            <p:cNvSpPr/>
            <p:nvPr/>
          </p:nvSpPr>
          <p:spPr>
            <a:xfrm>
              <a:off x="6397560" y="475020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3333cc"/>
                  </a:solidFill>
                  <a:latin typeface="Arial"/>
                  <a:ea typeface="Arial"/>
                </a:rPr>
                <a:t>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Text Box 40"/>
            <p:cNvSpPr/>
            <p:nvPr/>
          </p:nvSpPr>
          <p:spPr>
            <a:xfrm>
              <a:off x="6475680" y="490716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3333cc"/>
                  </a:solidFill>
                  <a:latin typeface="Arial"/>
                  <a:ea typeface="Arial"/>
                </a:rPr>
                <a:t>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Text Box 40"/>
            <p:cNvSpPr/>
            <p:nvPr/>
          </p:nvSpPr>
          <p:spPr>
            <a:xfrm>
              <a:off x="6949800" y="529200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3333cc"/>
                  </a:solidFill>
                  <a:latin typeface="Arial"/>
                  <a:ea typeface="Arial"/>
                </a:rPr>
                <a:t>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Text Box 40"/>
            <p:cNvSpPr/>
            <p:nvPr/>
          </p:nvSpPr>
          <p:spPr>
            <a:xfrm>
              <a:off x="7862760" y="530280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3333cc"/>
                  </a:solidFill>
                  <a:latin typeface="Arial"/>
                  <a:ea typeface="Arial"/>
                </a:rPr>
                <a:t>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Text Box 40"/>
            <p:cNvSpPr/>
            <p:nvPr/>
          </p:nvSpPr>
          <p:spPr>
            <a:xfrm>
              <a:off x="7028280" y="465120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3333cc"/>
                  </a:solidFill>
                  <a:latin typeface="Arial"/>
                  <a:ea typeface="Arial"/>
                </a:rPr>
                <a:t>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Text Box 40"/>
            <p:cNvSpPr/>
            <p:nvPr/>
          </p:nvSpPr>
          <p:spPr>
            <a:xfrm>
              <a:off x="7313760" y="484956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3333cc"/>
                  </a:solidFill>
                  <a:latin typeface="Arial"/>
                  <a:ea typeface="Arial"/>
                </a:rPr>
                <a:t>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Text Box 40"/>
            <p:cNvSpPr/>
            <p:nvPr/>
          </p:nvSpPr>
          <p:spPr>
            <a:xfrm>
              <a:off x="7939440" y="506556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3333cc"/>
                  </a:solidFill>
                  <a:latin typeface="Arial"/>
                  <a:ea typeface="Arial"/>
                </a:rPr>
                <a:t>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Text Box 40"/>
            <p:cNvSpPr/>
            <p:nvPr/>
          </p:nvSpPr>
          <p:spPr>
            <a:xfrm>
              <a:off x="7939440" y="506556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3333cc"/>
                  </a:solidFill>
                  <a:latin typeface="Arial"/>
                  <a:ea typeface="Arial"/>
                </a:rPr>
                <a:t>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Text Box 40"/>
            <p:cNvSpPr/>
            <p:nvPr/>
          </p:nvSpPr>
          <p:spPr>
            <a:xfrm>
              <a:off x="7555320" y="514584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3333cc"/>
                  </a:solidFill>
                  <a:latin typeface="Arial"/>
                  <a:ea typeface="Arial"/>
                </a:rPr>
                <a:t>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Diagram 3"/>
          <p:cNvGrpSpPr/>
          <p:nvPr/>
        </p:nvGrpSpPr>
        <p:grpSpPr>
          <a:xfrm>
            <a:off x="1617840" y="2245320"/>
            <a:ext cx="6159240" cy="3817080"/>
            <a:chOff x="1617840" y="2245320"/>
            <a:chExt cx="6159240" cy="3817080"/>
          </a:xfrm>
        </p:grpSpPr>
        <p:sp>
          <p:nvSpPr>
            <p:cNvPr id="206" name="_s538629"/>
            <p:cNvSpPr/>
            <p:nvPr/>
          </p:nvSpPr>
          <p:spPr>
            <a:xfrm>
              <a:off x="3846600" y="2832480"/>
              <a:ext cx="1701720" cy="1680120"/>
            </a:xfrm>
            <a:prstGeom prst="ellipse">
              <a:avLst/>
            </a:prstGeom>
            <a:solidFill>
              <a:srgbClr val="3333cc">
                <a:alpha val="50000"/>
              </a:srgbClr>
            </a:solidFill>
            <a:ln w="46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_s538630"/>
            <p:cNvSpPr/>
            <p:nvPr/>
          </p:nvSpPr>
          <p:spPr>
            <a:xfrm>
              <a:off x="3951360" y="2245320"/>
              <a:ext cx="1493640" cy="41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Tahoma"/>
                </a:rPr>
                <a:t>Climate chang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_s538631"/>
            <p:cNvSpPr/>
            <p:nvPr/>
          </p:nvSpPr>
          <p:spPr>
            <a:xfrm>
              <a:off x="4462560" y="3273480"/>
              <a:ext cx="1701720" cy="1679760"/>
            </a:xfrm>
            <a:prstGeom prst="ellipse">
              <a:avLst/>
            </a:prstGeom>
            <a:solidFill>
              <a:srgbClr val="ccccff">
                <a:alpha val="50000"/>
              </a:srgbClr>
            </a:solidFill>
            <a:ln w="46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_s538632"/>
            <p:cNvSpPr/>
            <p:nvPr/>
          </p:nvSpPr>
          <p:spPr>
            <a:xfrm>
              <a:off x="6283440" y="3382920"/>
              <a:ext cx="1493640" cy="41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Tahoma"/>
                </a:rPr>
                <a:t>Net greenhouse g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_s538633"/>
            <p:cNvSpPr/>
            <p:nvPr/>
          </p:nvSpPr>
          <p:spPr>
            <a:xfrm>
              <a:off x="4227480" y="3987720"/>
              <a:ext cx="1701720" cy="1680120"/>
            </a:xfrm>
            <a:prstGeom prst="ellipse">
              <a:avLst/>
            </a:prstGeom>
            <a:solidFill>
              <a:srgbClr val="b2b2b2">
                <a:alpha val="50000"/>
              </a:srgbClr>
            </a:solidFill>
            <a:ln w="46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_s538634"/>
            <p:cNvSpPr/>
            <p:nvPr/>
          </p:nvSpPr>
          <p:spPr>
            <a:xfrm>
              <a:off x="5676840" y="5642640"/>
              <a:ext cx="1494000" cy="41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Tahoma"/>
                </a:rPr>
                <a:t>Land use chang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Tahoma"/>
                </a:rPr>
                <a:t>Water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_s538635"/>
            <p:cNvSpPr/>
            <p:nvPr/>
          </p:nvSpPr>
          <p:spPr>
            <a:xfrm>
              <a:off x="3467160" y="3987720"/>
              <a:ext cx="1701720" cy="1680120"/>
            </a:xfrm>
            <a:prstGeom prst="ellipse">
              <a:avLst/>
            </a:prstGeom>
            <a:solidFill>
              <a:srgbClr val="808080">
                <a:alpha val="50000"/>
              </a:srgbClr>
            </a:solidFill>
            <a:ln w="46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_s538636"/>
            <p:cNvSpPr/>
            <p:nvPr/>
          </p:nvSpPr>
          <p:spPr>
            <a:xfrm>
              <a:off x="2224080" y="5642640"/>
              <a:ext cx="1494000" cy="41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Tahoma"/>
                </a:rPr>
                <a:t>Biodiversit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_s538637"/>
            <p:cNvSpPr/>
            <p:nvPr/>
          </p:nvSpPr>
          <p:spPr>
            <a:xfrm>
              <a:off x="3232080" y="3274560"/>
              <a:ext cx="1701720" cy="167976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46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_s538638"/>
            <p:cNvSpPr/>
            <p:nvPr/>
          </p:nvSpPr>
          <p:spPr>
            <a:xfrm>
              <a:off x="1617840" y="3382920"/>
              <a:ext cx="1493640" cy="41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Tahoma"/>
                </a:rPr>
                <a:t>Agriculture and forest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Text Box 15"/>
            <p:cNvSpPr/>
            <p:nvPr/>
          </p:nvSpPr>
          <p:spPr>
            <a:xfrm>
              <a:off x="4356000" y="3818520"/>
              <a:ext cx="8985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Tahoma"/>
                </a:rPr>
                <a:t>Food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Tahoma"/>
                </a:rPr>
                <a:t>securit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Group 16"/>
          <p:cNvGrpSpPr/>
          <p:nvPr/>
        </p:nvGrpSpPr>
        <p:grpSpPr>
          <a:xfrm>
            <a:off x="116640" y="1628640"/>
            <a:ext cx="9045360" cy="2928240"/>
            <a:chOff x="116640" y="1628640"/>
            <a:chExt cx="9045360" cy="2928240"/>
          </a:xfrm>
        </p:grpSpPr>
        <p:sp>
          <p:nvSpPr>
            <p:cNvPr id="218" name="Text Box 17"/>
            <p:cNvSpPr/>
            <p:nvPr/>
          </p:nvSpPr>
          <p:spPr>
            <a:xfrm>
              <a:off x="3655800" y="1628640"/>
              <a:ext cx="1512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ff0000"/>
                  </a:solidFill>
                  <a:latin typeface="Tahoma"/>
                </a:rPr>
                <a:t>Impac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Rectangle 18"/>
            <p:cNvSpPr/>
            <p:nvPr/>
          </p:nvSpPr>
          <p:spPr>
            <a:xfrm>
              <a:off x="116640" y="4097160"/>
              <a:ext cx="189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ff0000"/>
                  </a:solidFill>
                  <a:latin typeface="Tahoma"/>
                </a:rPr>
                <a:t>Adapt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Rectangle 19"/>
            <p:cNvSpPr/>
            <p:nvPr/>
          </p:nvSpPr>
          <p:spPr>
            <a:xfrm>
              <a:off x="7382520" y="4097160"/>
              <a:ext cx="177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ff0000"/>
                  </a:solidFill>
                  <a:latin typeface="Tahoma"/>
                </a:rPr>
                <a:t>Mitig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1" name=""/>
          <p:cNvSpPr/>
          <p:nvPr/>
        </p:nvSpPr>
        <p:spPr>
          <a:xfrm>
            <a:off x="2556000" y="257040"/>
            <a:ext cx="658800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cc99"/>
                </a:solidFill>
                <a:latin typeface="Arial"/>
              </a:rPr>
              <a:t>Climate research- New initiatives (2010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Arial"/>
              </a:rPr>
              <a:t>Agriculture, Food Security and Climate Change</a:t>
            </a:r>
            <a:br>
              <a:rPr sz="2000"/>
            </a:br>
            <a:r>
              <a:rPr b="0" i="1" lang="en-US" sz="2000" spc="-1" strike="noStrike">
                <a:solidFill>
                  <a:srgbClr val="00cc99"/>
                </a:solidFill>
                <a:latin typeface="Arial"/>
              </a:rPr>
              <a:t>Joint Programming Initiative</a:t>
            </a:r>
            <a:r>
              <a:rPr b="0" lang="en-US" sz="3200" spc="-1" strike="noStrike">
                <a:solidFill>
                  <a:srgbClr val="00cc99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hecke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383760" y="1714680"/>
            <a:ext cx="842508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tic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"/>
          <p:cNvSpPr/>
          <p:nvPr/>
        </p:nvSpPr>
        <p:spPr>
          <a:xfrm>
            <a:off x="324000" y="2220840"/>
            <a:ext cx="871200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ssing and quantifying climate change impacts on key sectors (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maritime transport, fisheries, tourism and resource extraction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 and on how these sectors could affect the Arctic environ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EU and Russia cooperation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for enhancing GMES earth observation coverag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Research infrastructures for polar research: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Interdisciplinary observation and monitoring stations for atmospheric, terrestrial and marine stud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124000" y="404640"/>
            <a:ext cx="702000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cc99"/>
                </a:solidFill>
                <a:latin typeface="Arial"/>
              </a:rPr>
              <a:t>Climate research- New initiatives (2009-2010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324000" y="1844280"/>
            <a:ext cx="842472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"/>
          <p:cNvSpPr/>
          <p:nvPr/>
        </p:nvSpPr>
        <p:spPr>
          <a:xfrm>
            <a:off x="108000" y="1844640"/>
            <a:ext cx="8280360" cy="54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arbon cycle resear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mpacts of climate variability and weather extremes on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terrestrial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carbon sinks.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Response of soil carbon to increasing temperature.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CARBOEXTREM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nual to decadal variability of carbon and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GHG budge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of terrestrial ecosystems. CO2, CH4, and N2O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.(GHG Euro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Vulnerability of the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ocean carbon sources and sink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under future climate conditions.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CARBOCHANG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763640" y="701640"/>
            <a:ext cx="6985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cc99"/>
                </a:solidFill>
                <a:latin typeface="Arial"/>
              </a:rPr>
              <a:t>Climate research- New initiatives (2009-2010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324000" y="1844280"/>
            <a:ext cx="842472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"/>
          <p:cNvSpPr/>
          <p:nvPr/>
        </p:nvSpPr>
        <p:spPr>
          <a:xfrm>
            <a:off x="108000" y="1844640"/>
            <a:ext cx="86407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General publ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Goal: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o sustain and enhance the credibility of scientific information; to go beyond the social awareness, facilitating active behavioural engag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Message to emphasize the regional and local dimension of information of the impacts and implications at individual level; Present information in a way that affirms rather than threatens people’s valu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olicy mak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Goal: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o increase awareness and use of research results relevant to the policy making pro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Communication to focus on scientific evidence and propose policy options; explain research methods used will increase credibility; new mechanisms to improve ‘translation’ of result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898560"/>
            <a:ext cx="6804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cc99"/>
                </a:solidFill>
                <a:latin typeface="Arial"/>
              </a:rPr>
              <a:t>Context of communication post-Copenhage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40960" y="762120"/>
            <a:ext cx="71470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cc99"/>
                </a:solidFill>
                <a:latin typeface="Arial"/>
              </a:rPr>
              <a:t>FP7: A regional research programme with global scope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10720" y="1841040"/>
            <a:ext cx="807732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nternational cooperation in FP7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P7 is a programme open to the world with in total 39 States contribut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P7 is open to participation of all countries of the worl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P7 provides support for climate research in and by developping countri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78920" y="2924280"/>
            <a:ext cx="918684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cc"/>
                </a:solidFill>
                <a:latin typeface="Arial"/>
              </a:rPr>
              <a:t>Thank you for your attention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95280" y="5661000"/>
            <a:ext cx="619272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Contact:</a:t>
            </a:r>
            <a:r>
              <a:rPr b="1" lang="en-GB" sz="20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1" lang="en-GB" sz="2000" spc="-1" strike="noStrike" u="sng">
                <a:solidFill>
                  <a:srgbClr val="ccccff"/>
                </a:solidFill>
                <a:uFillTx/>
                <a:latin typeface="Verdana"/>
                <a:hlinkClick r:id="rId1"/>
              </a:rPr>
              <a:t>elisabeth.lipiatou@ec.europa.eu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395280" y="1630440"/>
            <a:ext cx="83962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76000" y="692280"/>
            <a:ext cx="6156360" cy="7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cc99"/>
                </a:solidFill>
                <a:latin typeface="Arial"/>
              </a:rPr>
              <a:t>FP relative contribution to Non Annex 1 Countries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0" y="1619280"/>
            <a:ext cx="7993080" cy="5057640"/>
            <a:chOff x="0" y="1619280"/>
            <a:chExt cx="7993080" cy="5057640"/>
          </a:xfrm>
        </p:grpSpPr>
        <p:pic>
          <p:nvPicPr>
            <p:cNvPr id="61" name="" descr=""/>
            <p:cNvPicPr/>
            <p:nvPr/>
          </p:nvPicPr>
          <p:blipFill>
            <a:blip r:embed="rId1"/>
            <a:srcRect l="-914" t="14819" r="0" b="0"/>
            <a:stretch/>
          </p:blipFill>
          <p:spPr>
            <a:xfrm>
              <a:off x="0" y="1619280"/>
              <a:ext cx="7993080" cy="505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2520720" y="5146560"/>
              <a:ext cx="216000" cy="2041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744720" y="4066920"/>
              <a:ext cx="71640" cy="70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889440" y="4211280"/>
              <a:ext cx="7128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881080" y="4498560"/>
              <a:ext cx="142920" cy="144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448000" y="4714560"/>
              <a:ext cx="7128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248000" y="4282920"/>
              <a:ext cx="7164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032000" y="4282920"/>
              <a:ext cx="7164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889440" y="3490560"/>
              <a:ext cx="7128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465440" y="3635280"/>
              <a:ext cx="7164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816360" y="2698560"/>
              <a:ext cx="7128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168720" y="2338200"/>
              <a:ext cx="7128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976720" y="4570200"/>
              <a:ext cx="142920" cy="1440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673440" y="3490560"/>
              <a:ext cx="142920" cy="144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673440" y="3850920"/>
              <a:ext cx="7128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60360" y="4138200"/>
              <a:ext cx="7164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481800" y="3490560"/>
              <a:ext cx="7128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232000" y="4354200"/>
              <a:ext cx="7128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305080" y="4211280"/>
              <a:ext cx="7128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121440" y="3201840"/>
              <a:ext cx="215640" cy="215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600360" y="4138200"/>
              <a:ext cx="7128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113080" y="3419280"/>
              <a:ext cx="7164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76360" y="5290920"/>
              <a:ext cx="144360" cy="1440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089080" y="4066920"/>
              <a:ext cx="7128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016000" y="4066920"/>
              <a:ext cx="7164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00720" y="3850920"/>
              <a:ext cx="288720" cy="2887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608360" y="4354200"/>
              <a:ext cx="144360" cy="1440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2000" y="4138200"/>
              <a:ext cx="7164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32000" y="4570200"/>
              <a:ext cx="144360" cy="1440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520720" y="4138200"/>
              <a:ext cx="7164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736720" y="5219280"/>
              <a:ext cx="7164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816360" y="3850920"/>
              <a:ext cx="7128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537080" y="3850920"/>
              <a:ext cx="7128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608360" y="3562200"/>
              <a:ext cx="7164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968720" y="3346200"/>
              <a:ext cx="7164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728720" y="3850920"/>
              <a:ext cx="7128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408720" y="4066920"/>
              <a:ext cx="7128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032000" y="3490560"/>
              <a:ext cx="7164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384360" y="3850920"/>
              <a:ext cx="289080" cy="2887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048360" y="3993840"/>
              <a:ext cx="7128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321080" y="5001840"/>
              <a:ext cx="144360" cy="144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465440" y="4858920"/>
              <a:ext cx="7164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-73080"/>
            <a:ext cx="8229600" cy="54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Arial"/>
              </a:rPr>
              <a:t>FP7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ent resul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438200" y="1236600"/>
            <a:ext cx="6624720" cy="47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emperature changes for different scenarios and transport mode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1871640" y="1838160"/>
            <a:ext cx="5689440" cy="4724640"/>
            <a:chOff x="1871640" y="1838160"/>
            <a:chExt cx="5689440" cy="4724640"/>
          </a:xfrm>
        </p:grpSpPr>
        <p:pic>
          <p:nvPicPr>
            <p:cNvPr id="107" name="Picture 2" descr=""/>
            <p:cNvPicPr/>
            <p:nvPr/>
          </p:nvPicPr>
          <p:blipFill>
            <a:blip r:embed="rId1"/>
            <a:srcRect l="2072" t="3425" r="3691" b="4600"/>
            <a:stretch/>
          </p:blipFill>
          <p:spPr>
            <a:xfrm>
              <a:off x="1979280" y="1838160"/>
              <a:ext cx="5581800" cy="472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1871640" y="1872360"/>
              <a:ext cx="402840" cy="506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539640" y="5902200"/>
            <a:ext cx="898560" cy="6606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2274840" y="466560"/>
            <a:ext cx="63295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cc99"/>
                </a:solidFill>
                <a:latin typeface="Arial"/>
              </a:rPr>
              <a:t>Climate research-Key results</a:t>
            </a:r>
            <a:r>
              <a:rPr b="0" lang="en-GB" sz="2800" spc="-1" strike="noStrike">
                <a:solidFill>
                  <a:srgbClr val="00cc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cc99"/>
                </a:solidFill>
                <a:latin typeface="Arial"/>
              </a:rPr>
              <a:t>Trans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" name=""/>
          <p:cNvGrpSpPr/>
          <p:nvPr/>
        </p:nvGrpSpPr>
        <p:grpSpPr>
          <a:xfrm>
            <a:off x="0" y="141120"/>
            <a:ext cx="9075600" cy="6626520"/>
            <a:chOff x="0" y="141120"/>
            <a:chExt cx="9075600" cy="6626520"/>
          </a:xfrm>
        </p:grpSpPr>
        <p:grpSp>
          <p:nvGrpSpPr>
            <p:cNvPr id="112" name="Group 58"/>
            <p:cNvGrpSpPr/>
            <p:nvPr/>
          </p:nvGrpSpPr>
          <p:grpSpPr>
            <a:xfrm>
              <a:off x="857160" y="1227240"/>
              <a:ext cx="7313760" cy="5540400"/>
              <a:chOff x="857160" y="1227240"/>
              <a:chExt cx="7313760" cy="5540400"/>
            </a:xfrm>
          </p:grpSpPr>
          <p:pic>
            <p:nvPicPr>
              <p:cNvPr id="113" name="Picture 1" descr=""/>
              <p:cNvPicPr/>
              <p:nvPr/>
            </p:nvPicPr>
            <p:blipFill>
              <a:blip r:embed="rId1"/>
              <a:stretch/>
            </p:blipFill>
            <p:spPr>
              <a:xfrm>
                <a:off x="857160" y="1227240"/>
                <a:ext cx="7313760" cy="54849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14" name="Group 57"/>
              <p:cNvGrpSpPr/>
              <p:nvPr/>
            </p:nvGrpSpPr>
            <p:grpSpPr>
              <a:xfrm>
                <a:off x="1214280" y="1639800"/>
                <a:ext cx="6215400" cy="5127840"/>
                <a:chOff x="1214280" y="1639800"/>
                <a:chExt cx="6215400" cy="5127840"/>
              </a:xfrm>
            </p:grpSpPr>
            <p:sp>
              <p:nvSpPr>
                <p:cNvPr id="115" name="Freeform 35"/>
                <p:cNvSpPr/>
                <p:nvPr/>
              </p:nvSpPr>
              <p:spPr>
                <a:xfrm>
                  <a:off x="2325600" y="2606400"/>
                  <a:ext cx="4685040" cy="2284560"/>
                </a:xfrm>
                <a:custGeom>
                  <a:avLst/>
                  <a:gdLst/>
                  <a:ahLst/>
                  <a:rect l="l" t="t" r="r" b="b"/>
                  <a:pathLst>
                    <a:path w="4684426" h="2283502">
                      <a:moveTo>
                        <a:pt x="0" y="2163581"/>
                      </a:moveTo>
                      <a:cubicBezTo>
                        <a:pt x="1307267" y="1081790"/>
                        <a:pt x="2614534" y="0"/>
                        <a:pt x="3395272" y="19987"/>
                      </a:cubicBezTo>
                      <a:cubicBezTo>
                        <a:pt x="4176010" y="39974"/>
                        <a:pt x="4430218" y="1161738"/>
                        <a:pt x="4684426" y="2283502"/>
                      </a:cubicBezTo>
                    </a:path>
                  </a:pathLst>
                </a:custGeom>
                <a:noFill/>
                <a:ln w="44280">
                  <a:solidFill>
                    <a:srgbClr val="00664d">
                      <a:alpha val="17000"/>
                    </a:srgbClr>
                  </a:solidFill>
                  <a:prstDash val="sys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Text Box 3"/>
                <p:cNvSpPr/>
                <p:nvPr/>
              </p:nvSpPr>
              <p:spPr>
                <a:xfrm>
                  <a:off x="4857840" y="1726920"/>
                  <a:ext cx="1371600" cy="657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0" lang="fi-FI" sz="2000" spc="-1" strike="noStrike">
                      <a:solidFill>
                        <a:srgbClr val="0000ff"/>
                      </a:solidFill>
                      <a:latin typeface="Arial"/>
                    </a:rPr>
                    <a:t>-(1.3 –</a:t>
                  </a:r>
                  <a:r>
                    <a:rPr b="0" lang="fi-FI" sz="2000" spc="-1" strike="noStrike">
                      <a:solidFill>
                        <a:srgbClr val="0000ff"/>
                      </a:solidFill>
                      <a:latin typeface="Arial"/>
                      <a:ea typeface="Arial"/>
                    </a:rPr>
                    <a:t>1.5)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0" lang="fi-FI" sz="1400" spc="-1" strike="noStrike">
                      <a:solidFill>
                        <a:srgbClr val="ff0000"/>
                      </a:solidFill>
                      <a:latin typeface="Arial"/>
                    </a:rPr>
                    <a:t>+1.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0" lang="fi-FI" sz="1600" spc="-1" strike="noStrike">
                      <a:solidFill>
                        <a:srgbClr val="0000ff"/>
                      </a:solidFill>
                      <a:latin typeface="Times New Roman"/>
                    </a:rPr>
                    <a:t>W/m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Text Box 4"/>
                <p:cNvSpPr/>
                <p:nvPr/>
              </p:nvSpPr>
              <p:spPr>
                <a:xfrm>
                  <a:off x="2214360" y="4013280"/>
                  <a:ext cx="465120" cy="742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0" lang="fi-FI" sz="2000" spc="-1" strike="noStrike">
                      <a:solidFill>
                        <a:srgbClr val="0000ff"/>
                      </a:solidFill>
                      <a:latin typeface="Arial"/>
                    </a:rPr>
                    <a:t>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0" lang="fi-FI" sz="1400" spc="-1" strike="noStrike">
                      <a:solidFill>
                        <a:srgbClr val="ff0000"/>
                      </a:solidFill>
                      <a:latin typeface="Arial"/>
                    </a:rPr>
                    <a:t>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Text Box 5"/>
                <p:cNvSpPr/>
                <p:nvPr/>
              </p:nvSpPr>
              <p:spPr>
                <a:xfrm>
                  <a:off x="5929560" y="3370320"/>
                  <a:ext cx="1500120" cy="657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0" lang="fi-FI" sz="2000" spc="-1" strike="noStrike">
                      <a:solidFill>
                        <a:srgbClr val="0000ff"/>
                      </a:solidFill>
                      <a:latin typeface="Arial"/>
                    </a:rPr>
                    <a:t>-(0.1 – 0) 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0" lang="fi-FI" sz="1400" spc="-1" strike="noStrike">
                      <a:solidFill>
                        <a:srgbClr val="ff0000"/>
                      </a:solidFill>
                      <a:latin typeface="Arial"/>
                    </a:rPr>
                    <a:t>+(2.3 </a:t>
                  </a:r>
                  <a:r>
                    <a:rPr b="0" lang="fi-FI" sz="1400" spc="-1" strike="noStrike">
                      <a:solidFill>
                        <a:srgbClr val="ff0000"/>
                      </a:solidFill>
                      <a:latin typeface="Arial"/>
                      <a:ea typeface="Arial"/>
                    </a:rPr>
                    <a:t>~</a:t>
                  </a:r>
                  <a:r>
                    <a:rPr b="0" lang="fi-FI" sz="1400" spc="-1" strike="noStrike">
                      <a:solidFill>
                        <a:srgbClr val="0000ff"/>
                      </a:solidFill>
                      <a:latin typeface="Arial"/>
                      <a:ea typeface="Arial"/>
                    </a:rPr>
                    <a:t> </a:t>
                  </a:r>
                  <a:r>
                    <a:rPr b="0" lang="fi-FI" sz="1400" spc="-1" strike="noStrike">
                      <a:solidFill>
                        <a:srgbClr val="ff0000"/>
                      </a:solidFill>
                      <a:latin typeface="Arial"/>
                      <a:ea typeface="Arial"/>
                    </a:rPr>
                    <a:t>6.6)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0" lang="fi-FI" sz="1600" spc="-1" strike="noStrike">
                      <a:solidFill>
                        <a:srgbClr val="0000ff"/>
                      </a:solidFill>
                      <a:latin typeface="Times New Roman"/>
                    </a:rPr>
                    <a:t>W/m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Text Box 6"/>
                <p:cNvSpPr/>
                <p:nvPr/>
              </p:nvSpPr>
              <p:spPr>
                <a:xfrm>
                  <a:off x="1214280" y="1726920"/>
                  <a:ext cx="352440" cy="461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 vert="eaVer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Text Box 8"/>
                <p:cNvSpPr/>
                <p:nvPr/>
              </p:nvSpPr>
              <p:spPr>
                <a:xfrm>
                  <a:off x="1857240" y="3227400"/>
                  <a:ext cx="1000080" cy="63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0" lang="fi-FI" sz="1200" spc="-1" strike="noStrike">
                      <a:solidFill>
                        <a:srgbClr val="000000"/>
                      </a:solidFill>
                      <a:latin typeface="Arial"/>
                    </a:rPr>
                    <a:t>Not taking account secondary aerosol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Text Box 12"/>
                <p:cNvSpPr/>
                <p:nvPr/>
              </p:nvSpPr>
              <p:spPr>
                <a:xfrm>
                  <a:off x="1857240" y="1639800"/>
                  <a:ext cx="1285920" cy="2301840"/>
                </a:xfrm>
                <a:prstGeom prst="rect">
                  <a:avLst/>
                </a:prstGeom>
                <a:noFill/>
                <a:ln w="27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3680" rIns="103680" tIns="58680" bIns="5868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0" lang="fi-FI" sz="1200" spc="-1" strike="noStrike">
                      <a:solidFill>
                        <a:srgbClr val="000000"/>
                      </a:solidFill>
                      <a:latin typeface="Arial"/>
                    </a:rPr>
                    <a:t>Sensitivity of CCN from uncertainty in </a:t>
                  </a:r>
                  <a:r>
                    <a:rPr b="1" lang="fi-FI" sz="1200" spc="-1" strike="noStrike">
                      <a:solidFill>
                        <a:srgbClr val="000000"/>
                      </a:solidFill>
                      <a:latin typeface="Arial"/>
                    </a:rPr>
                    <a:t>processes</a:t>
                  </a:r>
                  <a:r>
                    <a:rPr b="0" lang="fi-FI" sz="1200" spc="-1" strike="noStrike">
                      <a:solidFill>
                        <a:srgbClr val="000000"/>
                      </a:solidFill>
                      <a:latin typeface="Arial"/>
                    </a:rPr>
                    <a:t> (e.g nucleation)  and </a:t>
                  </a:r>
                  <a:r>
                    <a:rPr b="1" lang="fi-FI" sz="1200" spc="-1" strike="noStrike">
                      <a:solidFill>
                        <a:srgbClr val="000000"/>
                      </a:solidFill>
                      <a:latin typeface="Arial"/>
                    </a:rPr>
                    <a:t>emissions</a:t>
                  </a:r>
                  <a:r>
                    <a:rPr b="0" lang="fi-FI" sz="1200" spc="-1" strike="noStrike">
                      <a:solidFill>
                        <a:srgbClr val="000000"/>
                      </a:solidFill>
                      <a:latin typeface="Arial"/>
                    </a:rPr>
                    <a:t> (RCPs and biogeni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122" name="Picture 13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2786040" y="2727360"/>
                  <a:ext cx="252000" cy="486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3" name="Text Box 15"/>
                <p:cNvSpPr/>
                <p:nvPr/>
              </p:nvSpPr>
              <p:spPr>
                <a:xfrm>
                  <a:off x="4363920" y="6423120"/>
                  <a:ext cx="660240" cy="344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t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0" lang="fi-FI" sz="1800" spc="-1" strike="noStrike">
                      <a:solidFill>
                        <a:srgbClr val="000000"/>
                      </a:solidFill>
                      <a:latin typeface="Arial"/>
                    </a:rPr>
                    <a:t>Year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TextBox 21"/>
                <p:cNvSpPr/>
                <p:nvPr/>
              </p:nvSpPr>
              <p:spPr>
                <a:xfrm>
                  <a:off x="2500200" y="4799160"/>
                  <a:ext cx="1500120" cy="405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1" lang="fi-FI" sz="1100" spc="-1" strike="noStrike">
                      <a:solidFill>
                        <a:srgbClr val="000000"/>
                      </a:solidFill>
                      <a:latin typeface="Arial"/>
                    </a:rPr>
                    <a:t>Pre-Industrial situation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Oval 33"/>
                <p:cNvSpPr/>
                <p:nvPr/>
              </p:nvSpPr>
              <p:spPr>
                <a:xfrm>
                  <a:off x="2857320" y="3441600"/>
                  <a:ext cx="142560" cy="1742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cxnSp>
              <p:nvCxnSpPr>
                <p:cNvPr id="126" name="Straight Arrow Connector 47"/>
                <p:cNvCxnSpPr/>
                <p:nvPr/>
              </p:nvCxnSpPr>
              <p:spPr>
                <a:xfrm flipH="1">
                  <a:off x="2428200" y="4711320"/>
                  <a:ext cx="1440" cy="85788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  <a:headEnd len="med" type="arrow" w="med"/>
                  <a:tailEnd len="med" type="arrow" w="med"/>
                </a:ln>
              </p:spPr>
            </p:cxnSp>
          </p:grpSp>
        </p:grpSp>
        <p:sp>
          <p:nvSpPr>
            <p:cNvPr id="127" name="Rectangle 65"/>
            <p:cNvSpPr/>
            <p:nvPr/>
          </p:nvSpPr>
          <p:spPr>
            <a:xfrm>
              <a:off x="7429680" y="2747880"/>
              <a:ext cx="1357200" cy="1857600"/>
            </a:xfrm>
            <a:prstGeom prst="rect">
              <a:avLst/>
            </a:prstGeom>
            <a:solidFill>
              <a:srgbClr val="92d050">
                <a:alpha val="1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Rectangle 63"/>
            <p:cNvSpPr/>
            <p:nvPr/>
          </p:nvSpPr>
          <p:spPr>
            <a:xfrm>
              <a:off x="3214800" y="1819440"/>
              <a:ext cx="1643040" cy="928440"/>
            </a:xfrm>
            <a:prstGeom prst="rect">
              <a:avLst/>
            </a:prstGeom>
            <a:solidFill>
              <a:srgbClr val="ffc000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Up-Down Arrow 62"/>
            <p:cNvSpPr/>
            <p:nvPr/>
          </p:nvSpPr>
          <p:spPr>
            <a:xfrm>
              <a:off x="214200" y="1819440"/>
              <a:ext cx="785880" cy="4500360"/>
            </a:xfrm>
            <a:prstGeom prst="upDownArrow">
              <a:avLst>
                <a:gd name="adj1" fmla="val 50000"/>
                <a:gd name="adj2" fmla="val 50001"/>
              </a:avLst>
            </a:prstGeom>
            <a:gradFill rotWithShape="0">
              <a:gsLst>
                <a:gs pos="0">
                  <a:srgbClr val="3333cc">
                    <a:alpha val="20000"/>
                  </a:srgbClr>
                </a:gs>
                <a:gs pos="100000">
                  <a:srgbClr val="ff0000">
                    <a:alpha val="54117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TextBox 54"/>
            <p:cNvSpPr/>
            <p:nvPr/>
          </p:nvSpPr>
          <p:spPr>
            <a:xfrm>
              <a:off x="3214800" y="1819440"/>
              <a:ext cx="1714320" cy="96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fi-FI" sz="1200" spc="-1" strike="noStrike">
                  <a:solidFill>
                    <a:srgbClr val="000000"/>
                  </a:solidFill>
                  <a:latin typeface="Arial"/>
                </a:rPr>
                <a:t>Current day</a:t>
              </a:r>
              <a:r>
                <a:rPr b="0" lang="fi-FI" sz="1200" spc="-1" strike="noStrike">
                  <a:solidFill>
                    <a:srgbClr val="000000"/>
                  </a:solidFill>
                  <a:latin typeface="Arial"/>
                </a:rPr>
                <a:t>: </a:t>
              </a:r>
              <a:r>
                <a:rPr b="0" lang="fi-FI" sz="1200" spc="-1" strike="noStrike">
                  <a:solidFill>
                    <a:srgbClr val="3333cc"/>
                  </a:solidFill>
                  <a:latin typeface="Arial"/>
                </a:rPr>
                <a:t>aerosol indirect cooling </a:t>
              </a:r>
              <a:r>
                <a:rPr b="0" lang="fi-FI" sz="1200" spc="-1" strike="noStrike">
                  <a:solidFill>
                    <a:srgbClr val="000000"/>
                  </a:solidFill>
                  <a:latin typeface="Arial"/>
                </a:rPr>
                <a:t>effect of same order as </a:t>
              </a:r>
              <a:r>
                <a:rPr b="0" lang="fi-FI" sz="1200" spc="-1" strike="noStrike">
                  <a:solidFill>
                    <a:srgbClr val="ff0000"/>
                  </a:solidFill>
                  <a:latin typeface="Arial"/>
                </a:rPr>
                <a:t>CO</a:t>
              </a:r>
              <a:r>
                <a:rPr b="0" lang="fi-FI" sz="1200" spc="-1" strike="noStrike" baseline="-25000">
                  <a:solidFill>
                    <a:srgbClr val="ff0000"/>
                  </a:solidFill>
                  <a:latin typeface="Arial"/>
                </a:rPr>
                <a:t>2</a:t>
              </a:r>
              <a:r>
                <a:rPr b="0" lang="fi-FI" sz="1200" spc="-1" strike="noStrike">
                  <a:solidFill>
                    <a:srgbClr val="ff0000"/>
                  </a:solidFill>
                  <a:latin typeface="Arial"/>
                </a:rPr>
                <a:t> forcing </a:t>
              </a:r>
              <a:r>
                <a:rPr b="0" lang="fi-FI" sz="1200" spc="-1" strike="noStrike">
                  <a:solidFill>
                    <a:srgbClr val="000000"/>
                  </a:solidFill>
                  <a:latin typeface="Arial"/>
                </a:rPr>
                <a:t>(although with still </a:t>
              </a:r>
              <a:r>
                <a:rPr b="1" lang="fi-FI" sz="1200" spc="-1" strike="noStrike">
                  <a:solidFill>
                    <a:srgbClr val="000000"/>
                  </a:solidFill>
                  <a:latin typeface="Arial"/>
                </a:rPr>
                <a:t>high uncertainty</a:t>
              </a:r>
              <a:r>
                <a:rPr b="0" lang="fi-FI" sz="12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r>
                <a:rPr b="1" lang="fi-FI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TextBox 55"/>
            <p:cNvSpPr/>
            <p:nvPr/>
          </p:nvSpPr>
          <p:spPr>
            <a:xfrm>
              <a:off x="7500960" y="2890800"/>
              <a:ext cx="1285920" cy="162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fi-FI" sz="1200" spc="-1" strike="noStrike">
                  <a:solidFill>
                    <a:srgbClr val="000000"/>
                  </a:solidFill>
                  <a:latin typeface="Arial"/>
                </a:rPr>
                <a:t>Future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i-FI" sz="1200" spc="-1" strike="noStrike">
                  <a:solidFill>
                    <a:srgbClr val="3333cc"/>
                  </a:solidFill>
                  <a:latin typeface="Arial"/>
                </a:rPr>
                <a:t>Aerosol indirect cooling effect </a:t>
              </a:r>
              <a:r>
                <a:rPr b="0" lang="fi-FI" sz="1200" spc="-1" strike="noStrike">
                  <a:solidFill>
                    <a:srgbClr val="000000"/>
                  </a:solidFill>
                  <a:latin typeface="Arial"/>
                </a:rPr>
                <a:t>almost same as pre-industrial, </a:t>
              </a:r>
              <a:r>
                <a:rPr b="0" lang="fi-FI" sz="1200" spc="-1" strike="noStrike">
                  <a:solidFill>
                    <a:srgbClr val="ff0000"/>
                  </a:solidFill>
                  <a:latin typeface="Arial"/>
                </a:rPr>
                <a:t>CO2 forcing </a:t>
              </a:r>
              <a:r>
                <a:rPr b="0" lang="fi-FI" sz="1200" spc="-1" strike="noStrike">
                  <a:solidFill>
                    <a:srgbClr val="000000"/>
                  </a:solidFill>
                  <a:latin typeface="Arial"/>
                </a:rPr>
                <a:t>continues to raise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TextBox 59"/>
            <p:cNvSpPr/>
            <p:nvPr/>
          </p:nvSpPr>
          <p:spPr>
            <a:xfrm>
              <a:off x="0" y="1862280"/>
              <a:ext cx="1285920" cy="10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i-FI" sz="1400" spc="-1" strike="noStrike">
                  <a:solidFill>
                    <a:srgbClr val="3333cc"/>
                  </a:solidFill>
                  <a:latin typeface="Arial"/>
                </a:rPr>
                <a:t>More indirect aerosol cool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TextBox 60"/>
            <p:cNvSpPr/>
            <p:nvPr/>
          </p:nvSpPr>
          <p:spPr>
            <a:xfrm>
              <a:off x="0" y="4462560"/>
              <a:ext cx="1285920" cy="10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i-FI" sz="1400" spc="-1" strike="noStrike">
                  <a:solidFill>
                    <a:srgbClr val="ff0000"/>
                  </a:solidFill>
                  <a:latin typeface="Arial"/>
                </a:rPr>
                <a:t>Less indirect aerosol cool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TextBox 66"/>
            <p:cNvSpPr/>
            <p:nvPr/>
          </p:nvSpPr>
          <p:spPr>
            <a:xfrm>
              <a:off x="5929200" y="6361200"/>
              <a:ext cx="192888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i-FI" sz="1100" spc="-1" strike="noStrike">
                  <a:solidFill>
                    <a:srgbClr val="b3b3b3"/>
                  </a:solidFill>
                  <a:latin typeface="Arial"/>
                </a:rPr>
                <a:t>Source: Makkonen et al, manuscript in prepara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Rectangle 67"/>
            <p:cNvSpPr/>
            <p:nvPr/>
          </p:nvSpPr>
          <p:spPr>
            <a:xfrm>
              <a:off x="1785960" y="1033560"/>
              <a:ext cx="5929200" cy="26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36" name="Picture 68" descr="logo.jpg"/>
            <p:cNvPicPr/>
            <p:nvPr/>
          </p:nvPicPr>
          <p:blipFill>
            <a:blip r:embed="rId3"/>
            <a:stretch/>
          </p:blipFill>
          <p:spPr>
            <a:xfrm>
              <a:off x="7786800" y="141120"/>
              <a:ext cx="1288800" cy="100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/>
            <p:nvPr/>
          </p:nvSpPr>
          <p:spPr>
            <a:xfrm>
              <a:off x="2209680" y="590400"/>
              <a:ext cx="6588360" cy="88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600" spc="-1" strike="noStrike">
                  <a:solidFill>
                    <a:srgbClr val="00cc99"/>
                  </a:solidFill>
                  <a:latin typeface="Arial"/>
                </a:rPr>
                <a:t>Climate research-Key results 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600" spc="-1" strike="noStrike">
                  <a:solidFill>
                    <a:srgbClr val="00cc99"/>
                  </a:solidFill>
                  <a:latin typeface="Arial"/>
                </a:rPr>
                <a:t>AEROSOLS 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Text Box 2"/>
            <p:cNvSpPr/>
            <p:nvPr/>
          </p:nvSpPr>
          <p:spPr>
            <a:xfrm>
              <a:off x="1643040" y="925560"/>
              <a:ext cx="621504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213640" y="6443640"/>
              <a:ext cx="1782720" cy="26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200" spc="-1" strike="noStrike">
                  <a:solidFill>
                    <a:srgbClr val="000000"/>
                  </a:solidFill>
                  <a:latin typeface="Times New Roman"/>
                </a:rPr>
                <a:t>(model </a:t>
              </a:r>
              <a:r>
                <a:rPr b="1" lang="fi-FI" sz="1200" spc="-1" strike="noStrike">
                  <a:solidFill>
                    <a:srgbClr val="000000"/>
                  </a:solidFill>
                  <a:latin typeface="Times New Roman"/>
                </a:rPr>
                <a:t>ECHAM5-HAM</a:t>
              </a:r>
              <a:r>
                <a:rPr b="0" lang="fi-FI" sz="1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Chart 7" descr=""/>
          <p:cNvPicPr/>
          <p:nvPr/>
        </p:nvPicPr>
        <p:blipFill>
          <a:blip r:embed="rId1"/>
          <a:srcRect l="1569" t="2220" r="1569" b="2220"/>
          <a:stretch/>
        </p:blipFill>
        <p:spPr>
          <a:xfrm>
            <a:off x="3433680" y="1455840"/>
            <a:ext cx="5596200" cy="50115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6" descr="climatecost"/>
          <p:cNvPicPr/>
          <p:nvPr/>
        </p:nvPicPr>
        <p:blipFill>
          <a:blip r:embed="rId2"/>
          <a:stretch/>
        </p:blipFill>
        <p:spPr>
          <a:xfrm>
            <a:off x="0" y="6130800"/>
            <a:ext cx="2900520" cy="6732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7" descr="fp7 logo"/>
          <p:cNvPicPr/>
          <p:nvPr/>
        </p:nvPicPr>
        <p:blipFill>
          <a:blip r:embed="rId3"/>
          <a:stretch/>
        </p:blipFill>
        <p:spPr>
          <a:xfrm>
            <a:off x="7562880" y="196920"/>
            <a:ext cx="1346040" cy="109224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471600" y="1725480"/>
            <a:ext cx="3512880" cy="44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ClimateCost provides major research into economic policy to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Development of PAGE-model – a model used in the Stern Revie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Global annual total of impacts given the IPCC A1B scenar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Impacts include sea level rise, economic, non-economic and discontinu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0000"/>
                </a:solidFill>
                <a:latin typeface="Arial"/>
                <a:ea typeface="Arial"/>
              </a:rPr>
              <a:t>50 % chance of approaching 20 trillion $/year  in 2200; 5 trillion $/year  in 21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5% chance of approaching 50 trillion $ /year  in 2200!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By comparison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, Global GDP was 70.21 trillion $ in 2009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274840" y="466560"/>
            <a:ext cx="6588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cc99"/>
                </a:solidFill>
                <a:latin typeface="Arial"/>
              </a:rPr>
              <a:t>Climate research-Key resul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600" spc="-1" strike="noStrike">
                <a:solidFill>
                  <a:srgbClr val="00cc99"/>
                </a:solidFill>
                <a:latin typeface="Arial"/>
              </a:rPr>
              <a:t>Full cost of climate chang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891480" y="2378520"/>
            <a:ext cx="1341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spcBef>
                <a:spcPts val="83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  <a:ea typeface="Arial"/>
              </a:rPr>
              <a:t>5% Probability lin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8373960" y="4623120"/>
            <a:ext cx="770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spcBef>
                <a:spcPts val="83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  <a:ea typeface="Arial"/>
              </a:rPr>
              <a:t>Mea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7674120" y="5254920"/>
            <a:ext cx="1322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spcBef>
                <a:spcPts val="83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  <a:ea typeface="Arial"/>
              </a:rPr>
              <a:t>25% Probability lin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7821720" y="5664600"/>
            <a:ext cx="1322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spcBef>
                <a:spcPts val="83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  <a:ea typeface="Arial"/>
              </a:rPr>
              <a:t>5% Probability lin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The Arctic sea ice extent is in a downward spiral. Photo: Ragnvald Nærø"/>
          <p:cNvPicPr/>
          <p:nvPr/>
        </p:nvPicPr>
        <p:blipFill>
          <a:blip r:embed="rId1"/>
          <a:stretch/>
        </p:blipFill>
        <p:spPr>
          <a:xfrm>
            <a:off x="4356000" y="2674800"/>
            <a:ext cx="4608720" cy="305928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106200" y="1844640"/>
            <a:ext cx="8856720" cy="581040"/>
          </a:xfrm>
          <a:prstGeom prst="roundRect">
            <a:avLst>
              <a:gd name="adj" fmla="val 16667"/>
            </a:avLst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-585720" y="1387440"/>
            <a:ext cx="497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OCL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7920" y="5877000"/>
            <a:ext cx="892080" cy="90000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0" y="1844640"/>
            <a:ext cx="907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September 2008 and 2009 had the second and third lowest summer </a:t>
            </a:r>
            <a:r>
              <a:rPr b="0" lang="en-GB" sz="1800" spc="-1" strike="noStrike">
                <a:solidFill>
                  <a:srgbClr val="ff0000"/>
                </a:solidFill>
                <a:latin typeface="Times New Roman"/>
              </a:rPr>
              <a:t>ice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extents ever observ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06200" y="2997360"/>
            <a:ext cx="42865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jection show that sea-ice in summer might completely disappear by the end of this century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less emissions are curbed significantly, a stabilisation of the Arctic's climate system will be unlike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356000" y="5053680"/>
            <a:ext cx="468000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                                             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851280" y="260280"/>
            <a:ext cx="4572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cc99"/>
                </a:solidFill>
                <a:latin typeface="Arial"/>
              </a:rPr>
              <a:t>Climate research-Key resul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cc99"/>
                </a:solidFill>
                <a:latin typeface="Arial"/>
              </a:rPr>
              <a:t>ARCTIC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2843280" y="115920"/>
            <a:ext cx="65880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cc99"/>
                </a:solidFill>
                <a:latin typeface="Verdana"/>
              </a:rPr>
              <a:t>Climate research-Key results</a:t>
            </a:r>
            <a:r>
              <a:rPr b="0" lang="en-GB" sz="2000" spc="-1" strike="noStrike">
                <a:solidFill>
                  <a:srgbClr val="00cc99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Picture 6" descr=""/>
          <p:cNvPicPr/>
          <p:nvPr/>
        </p:nvPicPr>
        <p:blipFill>
          <a:blip r:embed="rId1"/>
          <a:stretch/>
        </p:blipFill>
        <p:spPr>
          <a:xfrm>
            <a:off x="1187280" y="1628640"/>
            <a:ext cx="2667240" cy="100656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6670800" y="817560"/>
            <a:ext cx="2152440" cy="219708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0" y="3283560"/>
            <a:ext cx="9144000" cy="235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odel results indicate that under summer conditions 10% of Arc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urface waters will become under saturated within 10 years an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ost of the surface Arctic by mid-centur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 the Canary Current system, simulations indicate both strong seasonal upwelling of under saturated waters and a trend that will render half the waters above 250 m to become under saturated by year 205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420360" y="817560"/>
            <a:ext cx="304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Times New Roman"/>
              </a:rPr>
              <a:t>Ocean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ff0000"/>
                </a:solidFill>
                <a:latin typeface="Times New Roman"/>
              </a:rPr>
              <a:t>acidific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30T14:57:19Z</dcterms:created>
  <dc:creator>delloch</dc:creator>
  <dc:description/>
  <dc:language>en-US</dc:language>
  <cp:lastModifiedBy>Saarniaho</cp:lastModifiedBy>
  <cp:lastPrinted>2003-03-26T14:52:49Z</cp:lastPrinted>
  <dcterms:modified xsi:type="dcterms:W3CDTF">2010-06-03T07:42:53Z</dcterms:modified>
  <cp:revision>232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