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2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wmf" ContentType="image/x-wmf"/>
  <Override PartName="/ppt/media/image2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</p:sldIdLst>
  <p:sldSz cx="9144000" cy="6858000"/>
  <p:notesSz cx="6718300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0" y="0"/>
            <a:ext cx="6717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132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dt" idx="10"/>
          </p:nvPr>
        </p:nvSpPr>
        <p:spPr>
          <a:xfrm>
            <a:off x="3805200" y="-360"/>
            <a:ext cx="291168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sldImg"/>
          </p:nvPr>
        </p:nvSpPr>
        <p:spPr>
          <a:xfrm>
            <a:off x="892080" y="739440"/>
            <a:ext cx="49341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body"/>
          </p:nvPr>
        </p:nvSpPr>
        <p:spPr>
          <a:xfrm>
            <a:off x="671400" y="4687920"/>
            <a:ext cx="5375520" cy="44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ftr" idx="11"/>
          </p:nvPr>
        </p:nvSpPr>
        <p:spPr>
          <a:xfrm>
            <a:off x="-360" y="9372240"/>
            <a:ext cx="291132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 type="sldNum" idx="12"/>
          </p:nvPr>
        </p:nvSpPr>
        <p:spPr>
          <a:xfrm>
            <a:off x="3805200" y="9372240"/>
            <a:ext cx="291168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C06EC-2ACC-4770-B8CF-1CD2AECC80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Text Box 2"/>
          <p:cNvSpPr/>
          <p:nvPr/>
        </p:nvSpPr>
        <p:spPr>
          <a:xfrm>
            <a:off x="655560" y="1092240"/>
            <a:ext cx="3625920" cy="534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ctr">
            <a:noAutofit/>
          </a:bodyPr>
          <a:p>
            <a:pPr algn="ctr"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body"/>
          </p:nvPr>
        </p:nvSpPr>
        <p:spPr>
          <a:xfrm>
            <a:off x="492120" y="4657320"/>
            <a:ext cx="573408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Text Box 2"/>
          <p:cNvSpPr/>
          <p:nvPr/>
        </p:nvSpPr>
        <p:spPr>
          <a:xfrm>
            <a:off x="655560" y="1092240"/>
            <a:ext cx="3625920" cy="534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ctr">
            <a:noAutofit/>
          </a:bodyPr>
          <a:p>
            <a:pPr algn="ctr"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body"/>
          </p:nvPr>
        </p:nvSpPr>
        <p:spPr>
          <a:xfrm>
            <a:off x="492120" y="4657320"/>
            <a:ext cx="573408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89208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71400" y="4687920"/>
            <a:ext cx="5375520" cy="44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EMInfra: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interface between adaptation and mitiga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Woses: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oherence between Working Groups through development of common socio-economic scenarios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1147680" y="758880"/>
            <a:ext cx="4426200" cy="371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body"/>
          </p:nvPr>
        </p:nvSpPr>
        <p:spPr>
          <a:xfrm>
            <a:off x="906480" y="4700160"/>
            <a:ext cx="4898880" cy="43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echnical potentia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ntegration: challenges, costs, social acceptance, risk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Arial"/>
              </a:rPr>
              <a:t>Energy system transformation costs (gradual/radical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Arial"/>
              </a:rPr>
              <a:t>Policy instruments &amp; financing option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+ advantages and disadvantages, uncertainties and inconsistent assess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+ Identification of knowledge gap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89208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71400" y="4687920"/>
            <a:ext cx="537552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Slide Number Placeholder 3"/>
          <p:cNvSpPr/>
          <p:nvPr/>
        </p:nvSpPr>
        <p:spPr>
          <a:xfrm>
            <a:off x="3805200" y="9372600"/>
            <a:ext cx="29116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21C9B-9359-49C8-B33A-045633C38BCB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89208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71400" y="4687920"/>
            <a:ext cx="537552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Slide Number Placeholder 3"/>
          <p:cNvSpPr/>
          <p:nvPr/>
        </p:nvSpPr>
        <p:spPr>
          <a:xfrm>
            <a:off x="3805200" y="9372600"/>
            <a:ext cx="29116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55994-57EB-4E87-A5AA-CE2293760E78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BAACF-7C40-49D6-8E2E-5D9AA3203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70B0A-8DE9-4F17-BF1D-679233829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CE9A3-2C1B-474A-9648-0685F93DE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1FFAC-5CC6-46E6-9309-2720DAFD0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68360" y="260280"/>
            <a:ext cx="8229600" cy="193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0A6BE-9824-4DD0-A2FD-0A52E72DE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00794-62FC-451E-B521-9467EAEB1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68360" y="260280"/>
            <a:ext cx="8229600" cy="193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A50D9-79F5-41F0-9A24-8E2051C4E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35B1C-D40F-4DC5-A1E7-9E9E15F7E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C89E5-9B34-4594-AD9C-E4B8965E3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C8715-E34E-40FC-AA91-7054CD639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88B22-F463-4F56-B8F8-28201C812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196C3-031F-4CA6-89EA-D7039FC10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68360" y="260280"/>
            <a:ext cx="8229600" cy="193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A3700-CC49-4F6A-9332-B45FAA37A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E1702-A2F9-4ADE-84B7-64E4D4514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213FF-0E24-438A-8D66-10FCE56C3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62A4E-AF2A-4CAC-B026-215B2275F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AEF82-92D7-4EE3-8116-619363B5D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2EDC9-8371-4FC1-A5F1-A485E7826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31B40-8B86-4A55-B940-52302C494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011D4D-C004-4BB3-AB5F-82872ACFC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F8A2C-AFC1-435E-B652-E0AA4587D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E536B3-A185-4E27-BF06-3CBF32A5E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06E619-09DC-43DE-A9F8-80123C0D0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17140D-2BF4-46B0-A89D-7EE74A81C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E631B3-CD4C-4A8A-8C3F-2DFC4F8AE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68360" y="260280"/>
            <a:ext cx="8229600" cy="193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6D1044-3398-4894-A064-A0EA26448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4490B8-0646-4599-A2B5-507823826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04E677-0F87-4931-975B-9AD75C236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77E168-352F-4F53-BFE5-2E664C8F3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A6BC7C-6039-46FB-A671-0FA8F4E86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983931-3943-4A5B-9BEE-E8968B0EA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68360" y="260280"/>
            <a:ext cx="8229600" cy="193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B29DA-BC92-450E-AB0D-FD97C2095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9F2C45-D695-4CBA-A407-2673FD67C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C3537-6CD9-49E7-A358-7A8DCA3C6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90E22-81E9-479A-89D6-9F36A0A37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68360" y="1785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3CD8E-A8A2-4D6A-A583-C1A15CE51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e2631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836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5492c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5492c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5492c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3D4C0-D955-40ED-81E6-15CB5EAB41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0" y="0"/>
            <a:ext cx="9144000" cy="81000"/>
          </a:xfrm>
          <a:prstGeom prst="rect">
            <a:avLst/>
          </a:prstGeom>
          <a:solidFill>
            <a:srgbClr val="558ed5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7" descr="IPCClogoWMOUNEP_BL.ai"/>
          <p:cNvPicPr/>
          <p:nvPr/>
        </p:nvPicPr>
        <p:blipFill>
          <a:blip r:embed="rId2"/>
          <a:stretch/>
        </p:blipFill>
        <p:spPr>
          <a:xfrm>
            <a:off x="4438800" y="5869080"/>
            <a:ext cx="4741560" cy="1015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8" descr="IPCClogoWMOUNEP_WH.ai"/>
          <p:cNvPicPr/>
          <p:nvPr/>
        </p:nvPicPr>
        <p:blipFill>
          <a:blip r:embed="rId2"/>
          <a:stretch/>
        </p:blipFill>
        <p:spPr>
          <a:xfrm>
            <a:off x="4267080" y="5791320"/>
            <a:ext cx="4818240" cy="103176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58ed5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e2631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07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4073a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407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50880" indent="-228600">
              <a:spcBef>
                <a:spcPts val="799"/>
              </a:spcBef>
              <a:buClr>
                <a:srgbClr val="4073a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959120" indent="-228600">
              <a:spcBef>
                <a:spcPts val="799"/>
              </a:spcBef>
              <a:buClr>
                <a:srgbClr val="4073a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95912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95912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8" descr="IPCClogoWMOUNEP_WH.ai"/>
          <p:cNvPicPr/>
          <p:nvPr/>
        </p:nvPicPr>
        <p:blipFill>
          <a:blip r:embed="rId3"/>
          <a:stretch/>
        </p:blipFill>
        <p:spPr>
          <a:xfrm>
            <a:off x="4356000" y="5853240"/>
            <a:ext cx="4818240" cy="1031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-757080" y="-531720"/>
            <a:ext cx="11090160" cy="43653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7" descr="WMOUNEP_CL.ai"/>
          <p:cNvPicPr/>
          <p:nvPr/>
        </p:nvPicPr>
        <p:blipFill>
          <a:blip r:embed="rId3"/>
          <a:stretch/>
        </p:blipFill>
        <p:spPr>
          <a:xfrm>
            <a:off x="7432560" y="5894280"/>
            <a:ext cx="1851120" cy="9255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8" descr="IPCCLogoWhite_CMYK_Vector.ai"/>
          <p:cNvPicPr/>
          <p:nvPr/>
        </p:nvPicPr>
        <p:blipFill>
          <a:blip r:embed="rId4"/>
          <a:stretch/>
        </p:blipFill>
        <p:spPr>
          <a:xfrm>
            <a:off x="4441680" y="210960"/>
            <a:ext cx="4378320" cy="914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e2631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492c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492c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492c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41788-8FD8-4E26-9D12-37791AF3A4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6"/>
          <p:cNvSpPr/>
          <p:nvPr/>
        </p:nvSpPr>
        <p:spPr>
          <a:xfrm>
            <a:off x="0" y="0"/>
            <a:ext cx="9144000" cy="81000"/>
          </a:xfrm>
          <a:prstGeom prst="rect">
            <a:avLst/>
          </a:prstGeom>
          <a:solidFill>
            <a:srgbClr val="558ed5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7" descr="IPCClogoWMOUNEP_BL.ai"/>
          <p:cNvPicPr/>
          <p:nvPr/>
        </p:nvPicPr>
        <p:blipFill>
          <a:blip r:embed="rId2"/>
          <a:stretch/>
        </p:blipFill>
        <p:spPr>
          <a:xfrm>
            <a:off x="4438800" y="5869080"/>
            <a:ext cx="4741560" cy="1015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e2631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6836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5492c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5492c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5492c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538A4-541B-47BA-93C9-D42F48C7CC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0" y="0"/>
            <a:ext cx="9144000" cy="81000"/>
          </a:xfrm>
          <a:prstGeom prst="rect">
            <a:avLst/>
          </a:prstGeom>
          <a:solidFill>
            <a:srgbClr val="558ed5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7" descr="IPCClogoWMOUNEP_BL.ai"/>
          <p:cNvPicPr/>
          <p:nvPr/>
        </p:nvPicPr>
        <p:blipFill>
          <a:blip r:embed="rId2"/>
          <a:stretch/>
        </p:blipFill>
        <p:spPr>
          <a:xfrm>
            <a:off x="4438800" y="5869080"/>
            <a:ext cx="4741560" cy="1015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70920" y="3860280"/>
            <a:ext cx="8604360" cy="230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PCC AR5: Innovations and Cooperation among WGs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5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BSTA, 3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n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session, 31 May to 9 June 2010, Bonn, Germany</a:t>
            </a:r>
            <a:br>
              <a:rPr sz="2000"/>
            </a:b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Prof. Dr. Ottmar Edenhofer</a:t>
            </a:r>
            <a:br>
              <a:rPr sz="2000"/>
            </a:br>
            <a:br>
              <a:rPr sz="2000"/>
            </a:br>
            <a:r>
              <a:rPr b="0" lang="en-GB" sz="1600" spc="-1" strike="noStrike">
                <a:solidFill>
                  <a:srgbClr val="808080"/>
                </a:solidFill>
                <a:latin typeface="Arial"/>
                <a:ea typeface="Arial"/>
              </a:rPr>
              <a:t>Christoph von Stech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34920" y="3538440"/>
            <a:ext cx="504720" cy="1778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-65880" y="3659040"/>
            <a:ext cx="7034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b2b2b2"/>
                </a:solidFill>
                <a:latin typeface="Arial"/>
                <a:ea typeface="ＭＳ Ｐゴシック"/>
              </a:rPr>
              <a:t>johnthescon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9e2631"/>
                </a:solidFill>
                <a:latin typeface="Arial"/>
              </a:rPr>
              <a:t>Table of Contents</a:t>
            </a: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00080" y="1341360"/>
            <a:ext cx="8920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07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e2631"/>
                </a:solidFill>
                <a:latin typeface="Arial"/>
              </a:rPr>
              <a:t>WG I, II and III Innovations in AR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73a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WG 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73a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WG I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73a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9e2631"/>
                </a:solidFill>
                <a:latin typeface="Arial"/>
              </a:rPr>
              <a:t>WG II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07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operation among Working Grou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07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ecial Repor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73a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SREX (WG I + II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73a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SRREN (WG III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457200" y="274680"/>
            <a:ext cx="82184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9e2631"/>
                </a:solidFill>
                <a:latin typeface="Arial"/>
                <a:ea typeface="ＭＳ Ｐゴシック"/>
              </a:rPr>
              <a:t>AR5 WG III Ou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410000" y="5781600"/>
            <a:ext cx="4734000" cy="96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ounded Rectangle 9"/>
          <p:cNvSpPr/>
          <p:nvPr/>
        </p:nvSpPr>
        <p:spPr>
          <a:xfrm>
            <a:off x="250920" y="5425920"/>
            <a:ext cx="8642160" cy="1325880"/>
          </a:xfrm>
          <a:prstGeom prst="roundRect">
            <a:avLst>
              <a:gd name="adj" fmla="val 16667"/>
            </a:avLst>
          </a:prstGeom>
          <a:solidFill>
            <a:srgbClr val="dde7f3"/>
          </a:solidFill>
          <a:ln w="0">
            <a:noFill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ounded Rectangle 9"/>
          <p:cNvSpPr/>
          <p:nvPr/>
        </p:nvSpPr>
        <p:spPr>
          <a:xfrm>
            <a:off x="276120" y="874800"/>
            <a:ext cx="8672760" cy="298440"/>
          </a:xfrm>
          <a:prstGeom prst="roundRect">
            <a:avLst>
              <a:gd name="adj" fmla="val 16667"/>
            </a:avLst>
          </a:prstGeom>
          <a:solidFill>
            <a:srgbClr val="dde7f3"/>
          </a:solidFill>
          <a:ln w="0">
            <a:noFill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170160" y="855720"/>
            <a:ext cx="26481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.  Introductory Chapte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8709120" y="77760"/>
            <a:ext cx="41904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39E0D496-F053-474D-A8AF-A7B5F02EE3F3}" type="slidenum">
              <a:rPr b="0" lang="en-GB" sz="1300" spc="-1" strike="noStrike">
                <a:solidFill>
                  <a:srgbClr val="808080"/>
                </a:solidFill>
                <a:latin typeface="Arial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ounded Rectangle 9"/>
          <p:cNvSpPr/>
          <p:nvPr/>
        </p:nvSpPr>
        <p:spPr>
          <a:xfrm>
            <a:off x="249120" y="1301760"/>
            <a:ext cx="8726760" cy="1190520"/>
          </a:xfrm>
          <a:prstGeom prst="roundRect">
            <a:avLst>
              <a:gd name="adj" fmla="val 16667"/>
            </a:avLst>
          </a:prstGeom>
          <a:solidFill>
            <a:srgbClr val="dde7f3"/>
          </a:solidFill>
          <a:ln w="0">
            <a:noFill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170160" y="1285920"/>
            <a:ext cx="564192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.  Integrated Risk and Uncertainty Assessment of </a:t>
            </a:r>
            <a:br>
              <a:rPr sz="1500"/>
            </a:b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 Climate Change Response Polici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3.  Social, Economic and Ethical Concepts and Method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4.  Sustainable Development and Equit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ounded Rectangle 9"/>
          <p:cNvSpPr/>
          <p:nvPr/>
        </p:nvSpPr>
        <p:spPr>
          <a:xfrm>
            <a:off x="250920" y="2637000"/>
            <a:ext cx="8718480" cy="2646360"/>
          </a:xfrm>
          <a:prstGeom prst="roundRect">
            <a:avLst>
              <a:gd name="adj" fmla="val 16667"/>
            </a:avLst>
          </a:prstGeom>
          <a:solidFill>
            <a:srgbClr val="dde7f3"/>
          </a:solidFill>
          <a:ln w="0">
            <a:noFill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164040" y="2589120"/>
            <a:ext cx="6157800" cy="275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5.  Drivers, Trends and Mitiga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6.  Assessing Transformation Pathway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7.  Energy System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8.  Transpor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9.  Building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0.  Industr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1.  Agriculture, Forestry and Other Land Use (AFOLU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2.  Human Settlements, Infrastructure and Spatial Plannin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165480" y="5442120"/>
            <a:ext cx="6111720" cy="136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3.  International Cooperation: Agreements and Instrument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4.  Regional Development and Coopera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5.  National and Sub-national Policies and Institution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6.  Cross-cutting Investment and Finance Issu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229680" y="5670720"/>
            <a:ext cx="3073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e2631"/>
                </a:solidFill>
                <a:latin typeface="Arial"/>
                <a:ea typeface="ＭＳ Ｐゴシック"/>
              </a:rPr>
              <a:t>IV: Assessment of </a:t>
            </a:r>
            <a:br>
              <a:rPr sz="2000"/>
            </a:br>
            <a:r>
              <a:rPr b="1" lang="en-US" sz="2000" spc="-1" strike="noStrike">
                <a:solidFill>
                  <a:srgbClr val="9e2631"/>
                </a:solidFill>
                <a:latin typeface="Arial"/>
                <a:ea typeface="ＭＳ Ｐゴシック"/>
              </a:rPr>
              <a:t>     Policies, Institutions </a:t>
            </a:r>
            <a:br>
              <a:rPr sz="2000"/>
            </a:br>
            <a:r>
              <a:rPr b="1" lang="en-US" sz="2000" spc="-1" strike="noStrike">
                <a:solidFill>
                  <a:srgbClr val="9e2631"/>
                </a:solidFill>
                <a:latin typeface="Arial"/>
                <a:ea typeface="ＭＳ Ｐゴシック"/>
              </a:rPr>
              <a:t>     and Fin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72160" y="3478320"/>
            <a:ext cx="2454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e2631"/>
                </a:solidFill>
                <a:latin typeface="Arial"/>
                <a:ea typeface="ＭＳ Ｐゴシック"/>
              </a:rPr>
              <a:t>III: Pathways for </a:t>
            </a:r>
            <a:br>
              <a:rPr sz="2000"/>
            </a:br>
            <a:r>
              <a:rPr b="1" lang="en-US" sz="2000" spc="-1" strike="noStrike">
                <a:solidFill>
                  <a:srgbClr val="9e2631"/>
                </a:solidFill>
                <a:latin typeface="Arial"/>
                <a:ea typeface="ＭＳ Ｐゴシック"/>
              </a:rPr>
              <a:t>     Mitigating </a:t>
            </a:r>
            <a:br>
              <a:rPr sz="2000"/>
            </a:br>
            <a:r>
              <a:rPr b="1" lang="en-US" sz="2000" spc="-1" strike="noStrike">
                <a:solidFill>
                  <a:srgbClr val="9e2631"/>
                </a:solidFill>
                <a:latin typeface="Arial"/>
                <a:ea typeface="ＭＳ Ｐゴシック"/>
              </a:rPr>
              <a:t>     Climate Ch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05640" y="1666800"/>
            <a:ext cx="234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e2631"/>
                </a:solidFill>
                <a:latin typeface="Arial"/>
                <a:ea typeface="ＭＳ Ｐゴシック"/>
              </a:rPr>
              <a:t>II: Framing Iss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74040" y="820800"/>
            <a:ext cx="18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9e2631"/>
                </a:solidFill>
                <a:latin typeface="Arial"/>
                <a:ea typeface="ＭＳ Ｐゴシック"/>
              </a:rPr>
              <a:t>I: </a:t>
            </a:r>
            <a:r>
              <a:rPr b="1" lang="en-US" sz="2000" spc="-1" strike="noStrike">
                <a:solidFill>
                  <a:srgbClr val="9e2631"/>
                </a:solidFill>
                <a:latin typeface="Arial"/>
                <a:ea typeface="ＭＳ Ｐゴシック"/>
              </a:rPr>
              <a:t>Introd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455760" y="1600200"/>
            <a:ext cx="8231040" cy="45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ow Stabilisation Scenarios which identify the technical and institutional requirement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ploring the costs, benefits and risks of all relevant mitigation option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dentifying differential impacts and develop a classification of risks comprising tipping points in the natural environment and also in society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57200" y="274680"/>
            <a:ext cx="82184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990000"/>
                </a:solidFill>
                <a:latin typeface="Arial"/>
                <a:ea typeface="ＭＳ Ｐゴシック"/>
              </a:rPr>
              <a:t>The Research Challenge of WG I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8734320" y="77760"/>
            <a:ext cx="4096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80829579-02C3-4378-A927-9768C25E2376}" type="slidenum">
              <a:rPr b="0" lang="en-GB" sz="1300" spc="-1" strike="noStrike">
                <a:solidFill>
                  <a:srgbClr val="808080"/>
                </a:solidFill>
                <a:latin typeface="Arial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0" y="274680"/>
            <a:ext cx="9144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  <a:ea typeface="ＭＳ Ｐゴシック"/>
              </a:rPr>
              <a:t>Comprehensive Understanding of Solution Sp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0" name="Group 2"/>
          <p:cNvGrpSpPr/>
          <p:nvPr/>
        </p:nvGrpSpPr>
        <p:grpSpPr>
          <a:xfrm>
            <a:off x="2233440" y="1758960"/>
            <a:ext cx="1260360" cy="934920"/>
            <a:chOff x="2233440" y="1758960"/>
            <a:chExt cx="1260360" cy="934920"/>
          </a:xfrm>
        </p:grpSpPr>
        <p:sp>
          <p:nvSpPr>
            <p:cNvPr id="281" name="AutoShape 3"/>
            <p:cNvSpPr/>
            <p:nvPr/>
          </p:nvSpPr>
          <p:spPr>
            <a:xfrm>
              <a:off x="2233440" y="1758960"/>
              <a:ext cx="1260360" cy="934920"/>
            </a:xfrm>
            <a:prstGeom prst="roundRect">
              <a:avLst>
                <a:gd name="adj" fmla="val 153"/>
              </a:avLst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 Box 4"/>
            <p:cNvSpPr/>
            <p:nvPr/>
          </p:nvSpPr>
          <p:spPr>
            <a:xfrm>
              <a:off x="2233440" y="1758960"/>
              <a:ext cx="126036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Per Capita Produc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3" name="AutoShape 3"/>
          <p:cNvSpPr/>
          <p:nvPr/>
        </p:nvSpPr>
        <p:spPr>
          <a:xfrm>
            <a:off x="3933720" y="5049720"/>
            <a:ext cx="1025640" cy="789120"/>
          </a:xfrm>
          <a:prstGeom prst="roundRect">
            <a:avLst>
              <a:gd name="adj" fmla="val 153"/>
            </a:avLst>
          </a:prstGeom>
          <a:solidFill>
            <a:srgbClr val="92d05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adiat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orc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8"/>
          <p:cNvSpPr/>
          <p:nvPr/>
        </p:nvSpPr>
        <p:spPr>
          <a:xfrm>
            <a:off x="1319400" y="4548240"/>
            <a:ext cx="105840" cy="14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9"/>
          <p:cNvSpPr/>
          <p:nvPr/>
        </p:nvSpPr>
        <p:spPr>
          <a:xfrm>
            <a:off x="1827360" y="4876920"/>
            <a:ext cx="105840" cy="14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Group 30"/>
          <p:cNvGrpSpPr/>
          <p:nvPr/>
        </p:nvGrpSpPr>
        <p:grpSpPr>
          <a:xfrm>
            <a:off x="825480" y="3726000"/>
            <a:ext cx="1257120" cy="1027080"/>
            <a:chOff x="825480" y="3726000"/>
            <a:chExt cx="1257120" cy="1027080"/>
          </a:xfrm>
        </p:grpSpPr>
        <p:sp>
          <p:nvSpPr>
            <p:cNvPr id="287" name="AutoShape 31"/>
            <p:cNvSpPr/>
            <p:nvPr/>
          </p:nvSpPr>
          <p:spPr>
            <a:xfrm>
              <a:off x="825480" y="3726000"/>
              <a:ext cx="1257120" cy="1027080"/>
            </a:xfrm>
            <a:prstGeom prst="roundRect">
              <a:avLst>
                <a:gd name="adj" fmla="val 153"/>
              </a:avLst>
            </a:prstGeom>
            <a:solidFill>
              <a:srgbClr val="c0c0c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Text Box 32"/>
            <p:cNvSpPr/>
            <p:nvPr/>
          </p:nvSpPr>
          <p:spPr>
            <a:xfrm>
              <a:off x="922320" y="3997080"/>
              <a:ext cx="1132200" cy="4838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O</a:t>
              </a:r>
              <a:r>
                <a:rPr b="1" lang="en-GB" sz="1600" spc="-1" strike="noStrike" baseline="-25000">
                  <a:solidFill>
                    <a:srgbClr val="000000"/>
                  </a:solidFill>
                  <a:latin typeface="Arial"/>
                  <a:ea typeface="ＭＳ Ｐゴシック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Emission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9" name="Group 33"/>
          <p:cNvGrpSpPr/>
          <p:nvPr/>
        </p:nvGrpSpPr>
        <p:grpSpPr>
          <a:xfrm>
            <a:off x="817560" y="5106960"/>
            <a:ext cx="1240920" cy="682560"/>
            <a:chOff x="817560" y="5106960"/>
            <a:chExt cx="1240920" cy="682560"/>
          </a:xfrm>
        </p:grpSpPr>
        <p:sp>
          <p:nvSpPr>
            <p:cNvPr id="290" name="AutoShape 34"/>
            <p:cNvSpPr/>
            <p:nvPr/>
          </p:nvSpPr>
          <p:spPr>
            <a:xfrm>
              <a:off x="817560" y="5106960"/>
              <a:ext cx="1240920" cy="682560"/>
            </a:xfrm>
            <a:prstGeom prst="roundRect">
              <a:avLst>
                <a:gd name="adj" fmla="val 153"/>
              </a:avLst>
            </a:prstGeom>
            <a:solidFill>
              <a:srgbClr val="c0c0c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Text Box 35"/>
            <p:cNvSpPr/>
            <p:nvPr/>
          </p:nvSpPr>
          <p:spPr>
            <a:xfrm>
              <a:off x="905040" y="5218560"/>
              <a:ext cx="1125720" cy="4525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ther GH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Emission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2" name="Line 43"/>
          <p:cNvSpPr/>
          <p:nvPr/>
        </p:nvSpPr>
        <p:spPr>
          <a:xfrm>
            <a:off x="3867120" y="2131920"/>
            <a:ext cx="52380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3" name="Group 13"/>
          <p:cNvGrpSpPr/>
          <p:nvPr/>
        </p:nvGrpSpPr>
        <p:grpSpPr>
          <a:xfrm>
            <a:off x="874800" y="1758960"/>
            <a:ext cx="1144440" cy="931680"/>
            <a:chOff x="874800" y="1758960"/>
            <a:chExt cx="1144440" cy="931680"/>
          </a:xfrm>
        </p:grpSpPr>
        <p:sp>
          <p:nvSpPr>
            <p:cNvPr id="294" name="AutoShape 14"/>
            <p:cNvSpPr/>
            <p:nvPr/>
          </p:nvSpPr>
          <p:spPr>
            <a:xfrm>
              <a:off x="874800" y="1758960"/>
              <a:ext cx="1144440" cy="931680"/>
            </a:xfrm>
            <a:prstGeom prst="roundRect">
              <a:avLst>
                <a:gd name="adj" fmla="val 153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Text Box 15"/>
            <p:cNvSpPr/>
            <p:nvPr/>
          </p:nvSpPr>
          <p:spPr>
            <a:xfrm>
              <a:off x="874800" y="2000520"/>
              <a:ext cx="1144440" cy="44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Popul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" name="Group 2"/>
          <p:cNvGrpSpPr/>
          <p:nvPr/>
        </p:nvGrpSpPr>
        <p:grpSpPr>
          <a:xfrm>
            <a:off x="3713040" y="1773360"/>
            <a:ext cx="1204920" cy="923760"/>
            <a:chOff x="3713040" y="1773360"/>
            <a:chExt cx="1204920" cy="923760"/>
          </a:xfrm>
        </p:grpSpPr>
        <p:sp>
          <p:nvSpPr>
            <p:cNvPr id="297" name="AutoShape 3"/>
            <p:cNvSpPr/>
            <p:nvPr/>
          </p:nvSpPr>
          <p:spPr>
            <a:xfrm>
              <a:off x="3713040" y="1773360"/>
              <a:ext cx="1204920" cy="923760"/>
            </a:xfrm>
            <a:prstGeom prst="roundRect">
              <a:avLst>
                <a:gd name="adj" fmla="val 153"/>
              </a:avLst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Text Box 4"/>
            <p:cNvSpPr/>
            <p:nvPr/>
          </p:nvSpPr>
          <p:spPr>
            <a:xfrm>
              <a:off x="3713040" y="1773360"/>
              <a:ext cx="1204920" cy="56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Energy</a:t>
              </a:r>
              <a:r>
                <a:rPr b="1" lang="en-GB" sz="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Intensity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" name="Group 5"/>
          <p:cNvGrpSpPr/>
          <p:nvPr/>
        </p:nvGrpSpPr>
        <p:grpSpPr>
          <a:xfrm>
            <a:off x="5154480" y="1774800"/>
            <a:ext cx="1204920" cy="922320"/>
            <a:chOff x="5154480" y="1774800"/>
            <a:chExt cx="1204920" cy="922320"/>
          </a:xfrm>
        </p:grpSpPr>
        <p:sp>
          <p:nvSpPr>
            <p:cNvPr id="300" name="AutoShape 6"/>
            <p:cNvSpPr/>
            <p:nvPr/>
          </p:nvSpPr>
          <p:spPr>
            <a:xfrm>
              <a:off x="5154480" y="1774800"/>
              <a:ext cx="1204920" cy="922320"/>
            </a:xfrm>
            <a:prstGeom prst="roundRect">
              <a:avLst>
                <a:gd name="adj" fmla="val 153"/>
              </a:avLst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Text Box 7"/>
            <p:cNvSpPr/>
            <p:nvPr/>
          </p:nvSpPr>
          <p:spPr>
            <a:xfrm>
              <a:off x="5154480" y="1774800"/>
              <a:ext cx="1204920" cy="56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arbon</a:t>
              </a:r>
              <a:r>
                <a:rPr b="1" lang="en-GB" sz="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Intensit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" name="Group 8"/>
          <p:cNvGrpSpPr/>
          <p:nvPr/>
        </p:nvGrpSpPr>
        <p:grpSpPr>
          <a:xfrm>
            <a:off x="6621480" y="1757520"/>
            <a:ext cx="1392120" cy="972360"/>
            <a:chOff x="6621480" y="1757520"/>
            <a:chExt cx="1392120" cy="972360"/>
          </a:xfrm>
        </p:grpSpPr>
        <p:sp>
          <p:nvSpPr>
            <p:cNvPr id="303" name="AutoShape 9"/>
            <p:cNvSpPr/>
            <p:nvPr/>
          </p:nvSpPr>
          <p:spPr>
            <a:xfrm>
              <a:off x="6635520" y="1757520"/>
              <a:ext cx="1378080" cy="934920"/>
            </a:xfrm>
            <a:prstGeom prst="roundRect">
              <a:avLst>
                <a:gd name="adj" fmla="val 153"/>
              </a:avLst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Text Box 10"/>
            <p:cNvSpPr/>
            <p:nvPr/>
          </p:nvSpPr>
          <p:spPr>
            <a:xfrm>
              <a:off x="6621480" y="1770120"/>
              <a:ext cx="1377720" cy="95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O</a:t>
              </a:r>
              <a:r>
                <a:rPr b="1" lang="en-GB" sz="1600" spc="-1" strike="noStrike" baseline="-25000">
                  <a:solidFill>
                    <a:srgbClr val="000000"/>
                  </a:solidFill>
                  <a:latin typeface="Arial"/>
                  <a:ea typeface="ＭＳ Ｐゴシック"/>
                </a:rPr>
                <a:t>2</a:t>
              </a:r>
              <a:r>
                <a:rPr b="1" lang="en-GB" sz="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Release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05" name="Straight Arrow Connector 61"/>
          <p:cNvCxnSpPr/>
          <p:nvPr/>
        </p:nvCxnSpPr>
        <p:spPr>
          <a:xfrm flipH="1">
            <a:off x="970920" y="2725200"/>
            <a:ext cx="13320" cy="90900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06" name="Straight Arrow Connector 63"/>
          <p:cNvCxnSpPr/>
          <p:nvPr/>
        </p:nvCxnSpPr>
        <p:spPr>
          <a:xfrm flipH="1">
            <a:off x="1122120" y="2733480"/>
            <a:ext cx="1410480" cy="875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07" name="Straight Arrow Connector 64"/>
          <p:cNvCxnSpPr/>
          <p:nvPr/>
        </p:nvCxnSpPr>
        <p:spPr>
          <a:xfrm flipH="1">
            <a:off x="1385640" y="2730240"/>
            <a:ext cx="2674080" cy="87372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08" name="Straight Arrow Connector 65"/>
          <p:cNvCxnSpPr/>
          <p:nvPr/>
        </p:nvCxnSpPr>
        <p:spPr>
          <a:xfrm flipH="1">
            <a:off x="1809720" y="2730600"/>
            <a:ext cx="3951720" cy="88344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09" name="Straight Arrow Connector 66"/>
          <p:cNvCxnSpPr/>
          <p:nvPr/>
        </p:nvCxnSpPr>
        <p:spPr>
          <a:xfrm flipH="1">
            <a:off x="2179440" y="2728800"/>
            <a:ext cx="5202720" cy="98208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10" name="Straight Arrow Connector 82"/>
          <p:cNvCxnSpPr/>
          <p:nvPr/>
        </p:nvCxnSpPr>
        <p:spPr>
          <a:xfrm>
            <a:off x="4992840" y="5433840"/>
            <a:ext cx="614880" cy="57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11" name="Straight Arrow Connector 92"/>
          <p:cNvCxnSpPr/>
          <p:nvPr/>
        </p:nvCxnSpPr>
        <p:spPr>
          <a:xfrm>
            <a:off x="2118960" y="5435640"/>
            <a:ext cx="1756440" cy="1008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12" name="Straight Arrow Connector 116"/>
          <p:cNvCxnSpPr/>
          <p:nvPr/>
        </p:nvCxnSpPr>
        <p:spPr>
          <a:xfrm flipV="1">
            <a:off x="4560840" y="4014000"/>
            <a:ext cx="1008720" cy="39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13" name="AutoShape 6"/>
          <p:cNvSpPr/>
          <p:nvPr/>
        </p:nvSpPr>
        <p:spPr>
          <a:xfrm>
            <a:off x="5613480" y="3686040"/>
            <a:ext cx="1341360" cy="752760"/>
          </a:xfrm>
          <a:prstGeom prst="roundRect">
            <a:avLst>
              <a:gd name="adj" fmla="val 153"/>
            </a:avLst>
          </a:prstGeom>
          <a:solidFill>
            <a:srgbClr val="92d05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cea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idif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6"/>
          <p:cNvSpPr/>
          <p:nvPr/>
        </p:nvSpPr>
        <p:spPr>
          <a:xfrm>
            <a:off x="5614920" y="5062680"/>
            <a:ext cx="1366920" cy="769680"/>
          </a:xfrm>
          <a:prstGeom prst="roundRect">
            <a:avLst>
              <a:gd name="adj" fmla="val 153"/>
            </a:avLst>
          </a:prstGeom>
          <a:solidFill>
            <a:srgbClr val="92d05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im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han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6706800" y="2330280"/>
            <a:ext cx="1254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00000"/>
                </a:solidFill>
                <a:latin typeface="Arial"/>
                <a:ea typeface="ＭＳ Ｐゴシック"/>
              </a:rPr>
              <a:t>CO</a:t>
            </a:r>
            <a:r>
              <a:rPr b="1" lang="en-GB" sz="1600" spc="-1" strike="noStrike" baseline="-25000">
                <a:solidFill>
                  <a:srgbClr val="800000"/>
                </a:solidFill>
                <a:latin typeface="Arial"/>
                <a:ea typeface="ＭＳ Ｐゴシック"/>
              </a:rPr>
              <a:t>2</a:t>
            </a:r>
            <a:r>
              <a:rPr b="1" lang="en-GB" sz="1600" spc="-1" strike="noStrike">
                <a:solidFill>
                  <a:srgbClr val="800000"/>
                </a:solidFill>
                <a:latin typeface="Arial"/>
                <a:ea typeface="ＭＳ Ｐゴシック"/>
              </a:rPr>
              <a:t>(A)/CO</a:t>
            </a:r>
            <a:r>
              <a:rPr b="1" lang="en-GB" sz="1600" spc="-1" strike="noStrike" baseline="-25000">
                <a:solidFill>
                  <a:srgbClr val="800000"/>
                </a:solidFill>
                <a:latin typeface="Arial"/>
                <a:ea typeface="ＭＳ Ｐゴシック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5333760" y="2330280"/>
            <a:ext cx="854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00000"/>
                </a:solidFill>
                <a:latin typeface="Arial"/>
                <a:ea typeface="ＭＳ Ｐゴシック"/>
              </a:rPr>
              <a:t>CO</a:t>
            </a:r>
            <a:r>
              <a:rPr b="1" lang="en-GB" sz="1600" spc="-1" strike="noStrike" baseline="-25000">
                <a:solidFill>
                  <a:srgbClr val="800000"/>
                </a:solidFill>
                <a:latin typeface="Arial"/>
                <a:ea typeface="ＭＳ Ｐゴシック"/>
              </a:rPr>
              <a:t>2</a:t>
            </a:r>
            <a:r>
              <a:rPr b="1" lang="en-GB" sz="1600" spc="-1" strike="noStrike">
                <a:solidFill>
                  <a:srgbClr val="800000"/>
                </a:solidFill>
                <a:latin typeface="Arial"/>
                <a:ea typeface="ＭＳ Ｐゴシック"/>
              </a:rPr>
              <a:t> / 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889080" y="2335320"/>
            <a:ext cx="92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00000"/>
                </a:solidFill>
                <a:latin typeface="Arial"/>
                <a:ea typeface="ＭＳ Ｐゴシック"/>
              </a:rPr>
              <a:t>E / GD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282760" y="2341440"/>
            <a:ext cx="1177920" cy="31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00000"/>
                </a:solidFill>
                <a:latin typeface="Arial"/>
                <a:ea typeface="ＭＳ Ｐゴシック"/>
              </a:rPr>
              <a:t>GDP / P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181160" y="2335320"/>
            <a:ext cx="56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00000"/>
                </a:solidFill>
                <a:latin typeface="Arial"/>
                <a:ea typeface="ＭＳ Ｐゴシック"/>
              </a:rPr>
              <a:t>P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0" name="Straight Arrow Connector 116"/>
          <p:cNvCxnSpPr/>
          <p:nvPr/>
        </p:nvCxnSpPr>
        <p:spPr>
          <a:xfrm>
            <a:off x="4186080" y="4354560"/>
            <a:ext cx="462960" cy="64512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21" name="AutoShape 6"/>
          <p:cNvSpPr/>
          <p:nvPr/>
        </p:nvSpPr>
        <p:spPr>
          <a:xfrm>
            <a:off x="2716200" y="3713040"/>
            <a:ext cx="1790640" cy="595440"/>
          </a:xfrm>
          <a:prstGeom prst="roundRect">
            <a:avLst>
              <a:gd name="adj" fmla="val 153"/>
            </a:avLst>
          </a:prstGeom>
          <a:solidFill>
            <a:srgbClr val="92d05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rbon cyc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2" name="Straight Arrow Connector 84"/>
          <p:cNvCxnSpPr/>
          <p:nvPr/>
        </p:nvCxnSpPr>
        <p:spPr>
          <a:xfrm flipV="1">
            <a:off x="2135160" y="4012560"/>
            <a:ext cx="550080" cy="684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23" name="AutoShape 6"/>
          <p:cNvSpPr/>
          <p:nvPr/>
        </p:nvSpPr>
        <p:spPr>
          <a:xfrm>
            <a:off x="7512120" y="4321080"/>
            <a:ext cx="1233360" cy="752400"/>
          </a:xfrm>
          <a:prstGeom prst="roundRect">
            <a:avLst>
              <a:gd name="adj" fmla="val 153"/>
            </a:avLst>
          </a:prstGeom>
          <a:solidFill>
            <a:srgbClr val="ffcc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mpa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4" name="Straight Arrow Connector 81"/>
          <p:cNvCxnSpPr/>
          <p:nvPr/>
        </p:nvCxnSpPr>
        <p:spPr>
          <a:xfrm>
            <a:off x="7002000" y="4040280"/>
            <a:ext cx="438840" cy="5367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25" name="Straight Arrow Connector 81"/>
          <p:cNvCxnSpPr/>
          <p:nvPr/>
        </p:nvCxnSpPr>
        <p:spPr>
          <a:xfrm flipV="1">
            <a:off x="7040520" y="4804920"/>
            <a:ext cx="426240" cy="61992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26" name=""/>
          <p:cNvSpPr/>
          <p:nvPr/>
        </p:nvSpPr>
        <p:spPr>
          <a:xfrm>
            <a:off x="8734320" y="77760"/>
            <a:ext cx="4096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264AB31B-007C-40FC-8784-2809B7FF6B82}" type="slidenum">
              <a:rPr b="0" lang="en-GB" sz="1300" spc="-1" strike="noStrike">
                <a:solidFill>
                  <a:srgbClr val="808080"/>
                </a:solidFill>
                <a:latin typeface="Arial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457200" y="274680"/>
            <a:ext cx="82184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990000"/>
                </a:solidFill>
                <a:latin typeface="Arial"/>
                <a:ea typeface="ＭＳ Ｐゴシック"/>
              </a:rPr>
              <a:t>Assessing the Solution Sp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8" name="Group 2"/>
          <p:cNvGrpSpPr/>
          <p:nvPr/>
        </p:nvGrpSpPr>
        <p:grpSpPr>
          <a:xfrm>
            <a:off x="2233440" y="1762200"/>
            <a:ext cx="1260360" cy="934920"/>
            <a:chOff x="2233440" y="1762200"/>
            <a:chExt cx="1260360" cy="934920"/>
          </a:xfrm>
        </p:grpSpPr>
        <p:sp>
          <p:nvSpPr>
            <p:cNvPr id="329" name="AutoShape 3"/>
            <p:cNvSpPr/>
            <p:nvPr/>
          </p:nvSpPr>
          <p:spPr>
            <a:xfrm>
              <a:off x="2233440" y="1762200"/>
              <a:ext cx="1260360" cy="934920"/>
            </a:xfrm>
            <a:prstGeom prst="roundRect">
              <a:avLst>
                <a:gd name="adj" fmla="val 153"/>
              </a:avLst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Text Box 4"/>
            <p:cNvSpPr/>
            <p:nvPr/>
          </p:nvSpPr>
          <p:spPr>
            <a:xfrm>
              <a:off x="2233440" y="1762200"/>
              <a:ext cx="126036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Per Capita Produc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1" name="AutoShape 3"/>
          <p:cNvSpPr/>
          <p:nvPr/>
        </p:nvSpPr>
        <p:spPr>
          <a:xfrm>
            <a:off x="3933720" y="5052960"/>
            <a:ext cx="1025640" cy="789120"/>
          </a:xfrm>
          <a:prstGeom prst="roundRect">
            <a:avLst>
              <a:gd name="adj" fmla="val 153"/>
            </a:avLst>
          </a:prstGeom>
          <a:solidFill>
            <a:srgbClr val="92d05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adiat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orc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8"/>
          <p:cNvSpPr/>
          <p:nvPr/>
        </p:nvSpPr>
        <p:spPr>
          <a:xfrm>
            <a:off x="1319400" y="4551480"/>
            <a:ext cx="105840" cy="14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9"/>
          <p:cNvSpPr/>
          <p:nvPr/>
        </p:nvSpPr>
        <p:spPr>
          <a:xfrm>
            <a:off x="1827360" y="4879800"/>
            <a:ext cx="105840" cy="14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4" name="Group 30"/>
          <p:cNvGrpSpPr/>
          <p:nvPr/>
        </p:nvGrpSpPr>
        <p:grpSpPr>
          <a:xfrm>
            <a:off x="825480" y="3728880"/>
            <a:ext cx="1257120" cy="1027080"/>
            <a:chOff x="825480" y="3728880"/>
            <a:chExt cx="1257120" cy="1027080"/>
          </a:xfrm>
        </p:grpSpPr>
        <p:sp>
          <p:nvSpPr>
            <p:cNvPr id="335" name="AutoShape 31"/>
            <p:cNvSpPr/>
            <p:nvPr/>
          </p:nvSpPr>
          <p:spPr>
            <a:xfrm>
              <a:off x="825480" y="3728880"/>
              <a:ext cx="1257120" cy="1027080"/>
            </a:xfrm>
            <a:prstGeom prst="roundRect">
              <a:avLst>
                <a:gd name="adj" fmla="val 153"/>
              </a:avLst>
            </a:prstGeom>
            <a:solidFill>
              <a:srgbClr val="c0c0c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Text Box 32"/>
            <p:cNvSpPr/>
            <p:nvPr/>
          </p:nvSpPr>
          <p:spPr>
            <a:xfrm>
              <a:off x="922320" y="3999960"/>
              <a:ext cx="1132200" cy="4838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O</a:t>
              </a:r>
              <a:r>
                <a:rPr b="1" lang="en-GB" sz="1600" spc="-1" strike="noStrike" baseline="-25000">
                  <a:solidFill>
                    <a:srgbClr val="000000"/>
                  </a:solidFill>
                  <a:latin typeface="Arial"/>
                  <a:ea typeface="ＭＳ Ｐゴシック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Emission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7" name="Group 33"/>
          <p:cNvGrpSpPr/>
          <p:nvPr/>
        </p:nvGrpSpPr>
        <p:grpSpPr>
          <a:xfrm>
            <a:off x="817560" y="5110200"/>
            <a:ext cx="1240920" cy="682560"/>
            <a:chOff x="817560" y="5110200"/>
            <a:chExt cx="1240920" cy="682560"/>
          </a:xfrm>
        </p:grpSpPr>
        <p:sp>
          <p:nvSpPr>
            <p:cNvPr id="338" name="AutoShape 34"/>
            <p:cNvSpPr/>
            <p:nvPr/>
          </p:nvSpPr>
          <p:spPr>
            <a:xfrm>
              <a:off x="817560" y="5110200"/>
              <a:ext cx="1240920" cy="682560"/>
            </a:xfrm>
            <a:prstGeom prst="roundRect">
              <a:avLst>
                <a:gd name="adj" fmla="val 153"/>
              </a:avLst>
            </a:prstGeom>
            <a:solidFill>
              <a:srgbClr val="c0c0c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Text Box 35"/>
            <p:cNvSpPr/>
            <p:nvPr/>
          </p:nvSpPr>
          <p:spPr>
            <a:xfrm>
              <a:off x="905040" y="5221800"/>
              <a:ext cx="1125720" cy="4525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ther GH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Emission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0" name="Line 43"/>
          <p:cNvSpPr/>
          <p:nvPr/>
        </p:nvSpPr>
        <p:spPr>
          <a:xfrm>
            <a:off x="3867120" y="2135160"/>
            <a:ext cx="52380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1" name="Group 13"/>
          <p:cNvGrpSpPr/>
          <p:nvPr/>
        </p:nvGrpSpPr>
        <p:grpSpPr>
          <a:xfrm>
            <a:off x="874800" y="1762200"/>
            <a:ext cx="1144440" cy="931680"/>
            <a:chOff x="874800" y="1762200"/>
            <a:chExt cx="1144440" cy="931680"/>
          </a:xfrm>
        </p:grpSpPr>
        <p:sp>
          <p:nvSpPr>
            <p:cNvPr id="342" name="AutoShape 14"/>
            <p:cNvSpPr/>
            <p:nvPr/>
          </p:nvSpPr>
          <p:spPr>
            <a:xfrm>
              <a:off x="874800" y="1762200"/>
              <a:ext cx="1144440" cy="931680"/>
            </a:xfrm>
            <a:prstGeom prst="roundRect">
              <a:avLst>
                <a:gd name="adj" fmla="val 153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Text Box 15"/>
            <p:cNvSpPr/>
            <p:nvPr/>
          </p:nvSpPr>
          <p:spPr>
            <a:xfrm>
              <a:off x="874800" y="2003760"/>
              <a:ext cx="1144440" cy="44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Popul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4" name="Group 2"/>
          <p:cNvGrpSpPr/>
          <p:nvPr/>
        </p:nvGrpSpPr>
        <p:grpSpPr>
          <a:xfrm>
            <a:off x="3713040" y="1776240"/>
            <a:ext cx="1204920" cy="924120"/>
            <a:chOff x="3713040" y="1776240"/>
            <a:chExt cx="1204920" cy="924120"/>
          </a:xfrm>
        </p:grpSpPr>
        <p:sp>
          <p:nvSpPr>
            <p:cNvPr id="345" name="AutoShape 3"/>
            <p:cNvSpPr/>
            <p:nvPr/>
          </p:nvSpPr>
          <p:spPr>
            <a:xfrm>
              <a:off x="3713040" y="1776240"/>
              <a:ext cx="1204920" cy="924120"/>
            </a:xfrm>
            <a:prstGeom prst="roundRect">
              <a:avLst>
                <a:gd name="adj" fmla="val 153"/>
              </a:avLst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Text Box 4"/>
            <p:cNvSpPr/>
            <p:nvPr/>
          </p:nvSpPr>
          <p:spPr>
            <a:xfrm>
              <a:off x="3713040" y="1776240"/>
              <a:ext cx="1204920" cy="56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Energy</a:t>
              </a:r>
              <a:r>
                <a:rPr b="1" lang="en-GB" sz="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Intensity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7" name="Group 5"/>
          <p:cNvGrpSpPr/>
          <p:nvPr/>
        </p:nvGrpSpPr>
        <p:grpSpPr>
          <a:xfrm>
            <a:off x="5154480" y="1778040"/>
            <a:ext cx="1204920" cy="922320"/>
            <a:chOff x="5154480" y="1778040"/>
            <a:chExt cx="1204920" cy="922320"/>
          </a:xfrm>
        </p:grpSpPr>
        <p:sp>
          <p:nvSpPr>
            <p:cNvPr id="348" name="AutoShape 6"/>
            <p:cNvSpPr/>
            <p:nvPr/>
          </p:nvSpPr>
          <p:spPr>
            <a:xfrm>
              <a:off x="5154480" y="1778040"/>
              <a:ext cx="1204920" cy="922320"/>
            </a:xfrm>
            <a:prstGeom prst="roundRect">
              <a:avLst>
                <a:gd name="adj" fmla="val 153"/>
              </a:avLst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Text Box 7"/>
            <p:cNvSpPr/>
            <p:nvPr/>
          </p:nvSpPr>
          <p:spPr>
            <a:xfrm>
              <a:off x="5154480" y="1778040"/>
              <a:ext cx="1204920" cy="56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arbon</a:t>
              </a:r>
              <a:r>
                <a:rPr b="1" lang="en-GB" sz="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Intensit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0" name="Group 8"/>
          <p:cNvGrpSpPr/>
          <p:nvPr/>
        </p:nvGrpSpPr>
        <p:grpSpPr>
          <a:xfrm>
            <a:off x="6621480" y="1760400"/>
            <a:ext cx="1392120" cy="972360"/>
            <a:chOff x="6621480" y="1760400"/>
            <a:chExt cx="1392120" cy="972360"/>
          </a:xfrm>
        </p:grpSpPr>
        <p:sp>
          <p:nvSpPr>
            <p:cNvPr id="351" name="AutoShape 9"/>
            <p:cNvSpPr/>
            <p:nvPr/>
          </p:nvSpPr>
          <p:spPr>
            <a:xfrm>
              <a:off x="6635520" y="1760400"/>
              <a:ext cx="1378080" cy="935280"/>
            </a:xfrm>
            <a:prstGeom prst="roundRect">
              <a:avLst>
                <a:gd name="adj" fmla="val 153"/>
              </a:avLst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Text Box 10"/>
            <p:cNvSpPr/>
            <p:nvPr/>
          </p:nvSpPr>
          <p:spPr>
            <a:xfrm>
              <a:off x="6621480" y="1773000"/>
              <a:ext cx="1377720" cy="95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O</a:t>
              </a:r>
              <a:r>
                <a:rPr b="1" lang="en-GB" sz="1600" spc="-1" strike="noStrike" baseline="-25000">
                  <a:solidFill>
                    <a:srgbClr val="000000"/>
                  </a:solidFill>
                  <a:latin typeface="Arial"/>
                  <a:ea typeface="ＭＳ Ｐゴシック"/>
                </a:rPr>
                <a:t>2</a:t>
              </a:r>
              <a:r>
                <a:rPr b="1" lang="en-GB" sz="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Release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53" name="Straight Arrow Connector 61"/>
          <p:cNvCxnSpPr/>
          <p:nvPr/>
        </p:nvCxnSpPr>
        <p:spPr>
          <a:xfrm flipH="1">
            <a:off x="970920" y="2728440"/>
            <a:ext cx="13320" cy="90900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54" name="Straight Arrow Connector 63"/>
          <p:cNvCxnSpPr/>
          <p:nvPr/>
        </p:nvCxnSpPr>
        <p:spPr>
          <a:xfrm flipH="1">
            <a:off x="1122120" y="2736720"/>
            <a:ext cx="1410480" cy="87552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55" name="Straight Arrow Connector 64"/>
          <p:cNvCxnSpPr/>
          <p:nvPr/>
        </p:nvCxnSpPr>
        <p:spPr>
          <a:xfrm flipH="1">
            <a:off x="1385640" y="2733480"/>
            <a:ext cx="2674080" cy="87372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56" name="Straight Arrow Connector 65"/>
          <p:cNvCxnSpPr/>
          <p:nvPr/>
        </p:nvCxnSpPr>
        <p:spPr>
          <a:xfrm flipH="1">
            <a:off x="1809720" y="2733480"/>
            <a:ext cx="3951720" cy="88308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57" name="Straight Arrow Connector 66"/>
          <p:cNvCxnSpPr/>
          <p:nvPr/>
        </p:nvCxnSpPr>
        <p:spPr>
          <a:xfrm flipH="1">
            <a:off x="2179440" y="2731680"/>
            <a:ext cx="5202720" cy="98172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58" name="Straight Arrow Connector 82"/>
          <p:cNvCxnSpPr/>
          <p:nvPr/>
        </p:nvCxnSpPr>
        <p:spPr>
          <a:xfrm>
            <a:off x="4992840" y="5437080"/>
            <a:ext cx="614880" cy="57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59" name="Straight Arrow Connector 92"/>
          <p:cNvCxnSpPr/>
          <p:nvPr/>
        </p:nvCxnSpPr>
        <p:spPr>
          <a:xfrm>
            <a:off x="2118960" y="5438880"/>
            <a:ext cx="1756440" cy="1008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60" name="Straight Arrow Connector 116"/>
          <p:cNvCxnSpPr/>
          <p:nvPr/>
        </p:nvCxnSpPr>
        <p:spPr>
          <a:xfrm flipV="1">
            <a:off x="4560840" y="4017240"/>
            <a:ext cx="1008720" cy="39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61" name="AutoShape 35"/>
          <p:cNvSpPr/>
          <p:nvPr/>
        </p:nvSpPr>
        <p:spPr>
          <a:xfrm>
            <a:off x="6635880" y="841320"/>
            <a:ext cx="1712880" cy="719280"/>
          </a:xfrm>
          <a:prstGeom prst="roundRect">
            <a:avLst>
              <a:gd name="adj" fmla="val 144"/>
            </a:avLst>
          </a:prstGeom>
          <a:solidFill>
            <a:srgbClr val="ff9933"/>
          </a:solidFill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Captur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t Plant (CC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AutoShape 35"/>
          <p:cNvSpPr/>
          <p:nvPr/>
        </p:nvSpPr>
        <p:spPr>
          <a:xfrm>
            <a:off x="3097080" y="841320"/>
            <a:ext cx="1791000" cy="719280"/>
          </a:xfrm>
          <a:prstGeom prst="roundRect">
            <a:avLst>
              <a:gd name="adj" fmla="val 144"/>
            </a:avLst>
          </a:prstGeom>
          <a:solidFill>
            <a:srgbClr val="ff9933"/>
          </a:solidFill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ife-Style Chan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echnolog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AutoShape 35"/>
          <p:cNvSpPr/>
          <p:nvPr/>
        </p:nvSpPr>
        <p:spPr>
          <a:xfrm>
            <a:off x="5154480" y="841320"/>
            <a:ext cx="1233720" cy="719280"/>
          </a:xfrm>
          <a:prstGeom prst="roundRect">
            <a:avLst>
              <a:gd name="adj" fmla="val 144"/>
            </a:avLst>
          </a:prstGeom>
          <a:solidFill>
            <a:srgbClr val="ff9933"/>
          </a:solidFill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n-Fossi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nerg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4" name="Straight Arrow Connector 139"/>
          <p:cNvCxnSpPr/>
          <p:nvPr/>
        </p:nvCxnSpPr>
        <p:spPr>
          <a:xfrm flipV="1">
            <a:off x="5771880" y="1496520"/>
            <a:ext cx="1080" cy="280080"/>
          </a:xfrm>
          <a:prstGeom prst="straightConnector1">
            <a:avLst/>
          </a:prstGeom>
          <a:ln w="28440">
            <a:solidFill>
              <a:srgbClr val="ff9933"/>
            </a:solidFill>
            <a:miter/>
            <a:headEnd len="lg" type="diamond" w="lg"/>
          </a:ln>
        </p:spPr>
      </p:cxnSp>
      <p:sp>
        <p:nvSpPr>
          <p:cNvPr id="365" name="AutoShape 6"/>
          <p:cNvSpPr/>
          <p:nvPr/>
        </p:nvSpPr>
        <p:spPr>
          <a:xfrm>
            <a:off x="5613480" y="3689280"/>
            <a:ext cx="1341360" cy="752400"/>
          </a:xfrm>
          <a:prstGeom prst="roundRect">
            <a:avLst>
              <a:gd name="adj" fmla="val 153"/>
            </a:avLst>
          </a:prstGeom>
          <a:solidFill>
            <a:srgbClr val="92d05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cea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idif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AutoShape 6"/>
          <p:cNvSpPr/>
          <p:nvPr/>
        </p:nvSpPr>
        <p:spPr>
          <a:xfrm>
            <a:off x="5614920" y="5065560"/>
            <a:ext cx="1366920" cy="770040"/>
          </a:xfrm>
          <a:prstGeom prst="roundRect">
            <a:avLst>
              <a:gd name="adj" fmla="val 153"/>
            </a:avLst>
          </a:prstGeom>
          <a:solidFill>
            <a:srgbClr val="92d05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im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han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7" name="Straight Arrow Connector 139"/>
          <p:cNvCxnSpPr/>
          <p:nvPr/>
        </p:nvCxnSpPr>
        <p:spPr>
          <a:xfrm flipV="1">
            <a:off x="7268760" y="1480680"/>
            <a:ext cx="1080" cy="280080"/>
          </a:xfrm>
          <a:prstGeom prst="straightConnector1">
            <a:avLst/>
          </a:prstGeom>
          <a:ln w="28440">
            <a:solidFill>
              <a:srgbClr val="ff9933"/>
            </a:solidFill>
            <a:miter/>
            <a:headEnd len="lg" type="diamond" w="lg"/>
          </a:ln>
        </p:spPr>
      </p:cxnSp>
      <p:cxnSp>
        <p:nvCxnSpPr>
          <p:cNvPr id="368" name="Straight Arrow Connector 139"/>
          <p:cNvCxnSpPr/>
          <p:nvPr/>
        </p:nvCxnSpPr>
        <p:spPr>
          <a:xfrm flipV="1">
            <a:off x="4244760" y="1496520"/>
            <a:ext cx="1080" cy="280080"/>
          </a:xfrm>
          <a:prstGeom prst="straightConnector1">
            <a:avLst/>
          </a:prstGeom>
          <a:ln w="28440">
            <a:solidFill>
              <a:srgbClr val="ff9933"/>
            </a:solidFill>
            <a:miter/>
            <a:headEnd len="lg" type="diamond" w="lg"/>
          </a:ln>
        </p:spPr>
      </p:cxnSp>
      <p:sp>
        <p:nvSpPr>
          <p:cNvPr id="369" name=""/>
          <p:cNvSpPr/>
          <p:nvPr/>
        </p:nvSpPr>
        <p:spPr>
          <a:xfrm>
            <a:off x="6706800" y="2333520"/>
            <a:ext cx="1254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00000"/>
                </a:solidFill>
                <a:latin typeface="Arial"/>
                <a:ea typeface="ＭＳ Ｐゴシック"/>
              </a:rPr>
              <a:t>CO</a:t>
            </a:r>
            <a:r>
              <a:rPr b="1" lang="en-GB" sz="1600" spc="-1" strike="noStrike" baseline="-25000">
                <a:solidFill>
                  <a:srgbClr val="800000"/>
                </a:solidFill>
                <a:latin typeface="Arial"/>
                <a:ea typeface="ＭＳ Ｐゴシック"/>
              </a:rPr>
              <a:t>2</a:t>
            </a:r>
            <a:r>
              <a:rPr b="1" lang="en-GB" sz="1600" spc="-1" strike="noStrike">
                <a:solidFill>
                  <a:srgbClr val="800000"/>
                </a:solidFill>
                <a:latin typeface="Arial"/>
                <a:ea typeface="ＭＳ Ｐゴシック"/>
              </a:rPr>
              <a:t>(A)/CO</a:t>
            </a:r>
            <a:r>
              <a:rPr b="1" lang="en-GB" sz="1600" spc="-1" strike="noStrike" baseline="-25000">
                <a:solidFill>
                  <a:srgbClr val="800000"/>
                </a:solidFill>
                <a:latin typeface="Arial"/>
                <a:ea typeface="ＭＳ Ｐゴシック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333760" y="2333520"/>
            <a:ext cx="854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00000"/>
                </a:solidFill>
                <a:latin typeface="Arial"/>
                <a:ea typeface="ＭＳ Ｐゴシック"/>
              </a:rPr>
              <a:t>CO</a:t>
            </a:r>
            <a:r>
              <a:rPr b="1" lang="en-GB" sz="1600" spc="-1" strike="noStrike" baseline="-25000">
                <a:solidFill>
                  <a:srgbClr val="800000"/>
                </a:solidFill>
                <a:latin typeface="Arial"/>
                <a:ea typeface="ＭＳ Ｐゴシック"/>
              </a:rPr>
              <a:t>2</a:t>
            </a:r>
            <a:r>
              <a:rPr b="1" lang="en-GB" sz="1600" spc="-1" strike="noStrike">
                <a:solidFill>
                  <a:srgbClr val="800000"/>
                </a:solidFill>
                <a:latin typeface="Arial"/>
                <a:ea typeface="ＭＳ Ｐゴシック"/>
              </a:rPr>
              <a:t> / 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3889080" y="2338560"/>
            <a:ext cx="92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00000"/>
                </a:solidFill>
                <a:latin typeface="Arial"/>
                <a:ea typeface="ＭＳ Ｐゴシック"/>
              </a:rPr>
              <a:t>E / GD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282760" y="2344680"/>
            <a:ext cx="1177920" cy="31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00000"/>
                </a:solidFill>
                <a:latin typeface="Arial"/>
                <a:ea typeface="ＭＳ Ｐゴシック"/>
              </a:rPr>
              <a:t>GDP / P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181160" y="2338560"/>
            <a:ext cx="56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00000"/>
                </a:solidFill>
                <a:latin typeface="Arial"/>
                <a:ea typeface="ＭＳ Ｐゴシック"/>
              </a:rPr>
              <a:t>P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4" name="Straight Arrow Connector 116"/>
          <p:cNvCxnSpPr/>
          <p:nvPr/>
        </p:nvCxnSpPr>
        <p:spPr>
          <a:xfrm>
            <a:off x="4186080" y="4357800"/>
            <a:ext cx="462960" cy="64512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75" name="AutoShape 6"/>
          <p:cNvSpPr/>
          <p:nvPr/>
        </p:nvSpPr>
        <p:spPr>
          <a:xfrm>
            <a:off x="2716200" y="3716280"/>
            <a:ext cx="1790640" cy="595440"/>
          </a:xfrm>
          <a:prstGeom prst="roundRect">
            <a:avLst>
              <a:gd name="adj" fmla="val 153"/>
            </a:avLst>
          </a:prstGeom>
          <a:solidFill>
            <a:srgbClr val="92d05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rbon cyc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6" name="Straight Arrow Connector 84"/>
          <p:cNvCxnSpPr/>
          <p:nvPr/>
        </p:nvCxnSpPr>
        <p:spPr>
          <a:xfrm flipV="1">
            <a:off x="2135160" y="4015800"/>
            <a:ext cx="550080" cy="684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77" name="Straight Arrow Connector 134"/>
          <p:cNvCxnSpPr/>
          <p:nvPr/>
        </p:nvCxnSpPr>
        <p:spPr>
          <a:xfrm flipH="1" flipV="1">
            <a:off x="3450600" y="4312440"/>
            <a:ext cx="3960" cy="275400"/>
          </a:xfrm>
          <a:prstGeom prst="straightConnector1">
            <a:avLst/>
          </a:prstGeom>
          <a:ln w="28440">
            <a:solidFill>
              <a:srgbClr val="ff9933"/>
            </a:solidFill>
            <a:miter/>
            <a:tailEnd len="lg" type="diamond" w="lg"/>
          </a:ln>
        </p:spPr>
      </p:cxnSp>
      <p:sp>
        <p:nvSpPr>
          <p:cNvPr id="378" name="AutoShape 35"/>
          <p:cNvSpPr/>
          <p:nvPr/>
        </p:nvSpPr>
        <p:spPr>
          <a:xfrm>
            <a:off x="2732040" y="4446720"/>
            <a:ext cx="1295280" cy="501480"/>
          </a:xfrm>
          <a:prstGeom prst="roundRect">
            <a:avLst>
              <a:gd name="adj" fmla="val 144"/>
            </a:avLst>
          </a:prstGeom>
          <a:solidFill>
            <a:srgbClr val="ff9933"/>
          </a:solidFill>
          <a:ln w="158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rb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9" name="Straight Arrow Connector 133"/>
          <p:cNvCxnSpPr/>
          <p:nvPr/>
        </p:nvCxnSpPr>
        <p:spPr>
          <a:xfrm flipH="1" flipV="1">
            <a:off x="1445400" y="5792040"/>
            <a:ext cx="3960" cy="275400"/>
          </a:xfrm>
          <a:prstGeom prst="straightConnector1">
            <a:avLst/>
          </a:prstGeom>
          <a:ln w="28440">
            <a:solidFill>
              <a:srgbClr val="ff9933"/>
            </a:solidFill>
            <a:miter/>
            <a:tailEnd len="lg" type="diamond" w="lg"/>
          </a:ln>
        </p:spPr>
      </p:cxnSp>
      <p:cxnSp>
        <p:nvCxnSpPr>
          <p:cNvPr id="380" name="Straight Arrow Connector 134"/>
          <p:cNvCxnSpPr/>
          <p:nvPr/>
        </p:nvCxnSpPr>
        <p:spPr>
          <a:xfrm flipH="1" flipV="1">
            <a:off x="4301280" y="5842800"/>
            <a:ext cx="3960" cy="275400"/>
          </a:xfrm>
          <a:prstGeom prst="straightConnector1">
            <a:avLst/>
          </a:prstGeom>
          <a:ln w="28440">
            <a:solidFill>
              <a:srgbClr val="ff9933"/>
            </a:solidFill>
            <a:miter/>
            <a:tailEnd len="lg" type="diamond" w="lg"/>
          </a:ln>
        </p:spPr>
      </p:cxnSp>
      <p:sp>
        <p:nvSpPr>
          <p:cNvPr id="381" name="AutoShape 35"/>
          <p:cNvSpPr/>
          <p:nvPr/>
        </p:nvSpPr>
        <p:spPr>
          <a:xfrm>
            <a:off x="814320" y="5996160"/>
            <a:ext cx="1712880" cy="457200"/>
          </a:xfrm>
          <a:prstGeom prst="roundRect">
            <a:avLst>
              <a:gd name="adj" fmla="val 144"/>
            </a:avLst>
          </a:prstGeom>
          <a:solidFill>
            <a:srgbClr val="ff9933"/>
          </a:solidFill>
          <a:ln w="158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gricultur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actices et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AutoShape 33"/>
          <p:cNvSpPr/>
          <p:nvPr/>
        </p:nvSpPr>
        <p:spPr>
          <a:xfrm flipV="1" rot="10800000">
            <a:off x="3201840" y="5996160"/>
            <a:ext cx="1756080" cy="466560"/>
          </a:xfrm>
          <a:prstGeom prst="roundRect">
            <a:avLst>
              <a:gd name="adj" fmla="val 144"/>
            </a:avLst>
          </a:prstGeom>
          <a:solidFill>
            <a:srgbClr val="ff9933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adi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AutoShape 6"/>
          <p:cNvSpPr/>
          <p:nvPr/>
        </p:nvSpPr>
        <p:spPr>
          <a:xfrm>
            <a:off x="7512120" y="4324320"/>
            <a:ext cx="1233360" cy="752400"/>
          </a:xfrm>
          <a:prstGeom prst="roundRect">
            <a:avLst>
              <a:gd name="adj" fmla="val 153"/>
            </a:avLst>
          </a:prstGeom>
          <a:solidFill>
            <a:srgbClr val="ffcc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mpa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4" name="Straight Arrow Connector 81"/>
          <p:cNvCxnSpPr/>
          <p:nvPr/>
        </p:nvCxnSpPr>
        <p:spPr>
          <a:xfrm>
            <a:off x="7002000" y="4043520"/>
            <a:ext cx="438840" cy="5367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85" name="AutoShape 33"/>
          <p:cNvSpPr/>
          <p:nvPr/>
        </p:nvSpPr>
        <p:spPr>
          <a:xfrm flipV="1" rot="10800000">
            <a:off x="7294680" y="5439240"/>
            <a:ext cx="1482480" cy="320760"/>
          </a:xfrm>
          <a:prstGeom prst="roundRect">
            <a:avLst>
              <a:gd name="adj" fmla="val 144"/>
            </a:avLst>
          </a:prstGeom>
          <a:solidFill>
            <a:srgbClr val="ff9933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dap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6" name="Straight Arrow Connector 134"/>
          <p:cNvCxnSpPr/>
          <p:nvPr/>
        </p:nvCxnSpPr>
        <p:spPr>
          <a:xfrm flipH="1" flipV="1">
            <a:off x="8031960" y="5087520"/>
            <a:ext cx="2520" cy="357840"/>
          </a:xfrm>
          <a:prstGeom prst="straightConnector1">
            <a:avLst/>
          </a:prstGeom>
          <a:ln w="28440">
            <a:solidFill>
              <a:srgbClr val="ff9933"/>
            </a:solidFill>
            <a:miter/>
            <a:headEnd len="lg" type="diamond" w="lg"/>
          </a:ln>
        </p:spPr>
      </p:cxnSp>
      <p:cxnSp>
        <p:nvCxnSpPr>
          <p:cNvPr id="387" name="Straight Arrow Connector 81"/>
          <p:cNvCxnSpPr/>
          <p:nvPr/>
        </p:nvCxnSpPr>
        <p:spPr>
          <a:xfrm flipV="1">
            <a:off x="7040520" y="4808160"/>
            <a:ext cx="426240" cy="61992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88" name="Straight Arrow Connector 133"/>
          <p:cNvCxnSpPr/>
          <p:nvPr/>
        </p:nvCxnSpPr>
        <p:spPr>
          <a:xfrm flipH="1" flipV="1">
            <a:off x="366480" y="4142520"/>
            <a:ext cx="3600" cy="2164680"/>
          </a:xfrm>
          <a:prstGeom prst="straightConnector1">
            <a:avLst/>
          </a:prstGeom>
          <a:ln w="28440">
            <a:solidFill>
              <a:srgbClr val="ff9933"/>
            </a:solidFill>
            <a:miter/>
          </a:ln>
        </p:spPr>
      </p:cxnSp>
      <p:cxnSp>
        <p:nvCxnSpPr>
          <p:cNvPr id="389" name="Straight Arrow Connector 133"/>
          <p:cNvCxnSpPr/>
          <p:nvPr/>
        </p:nvCxnSpPr>
        <p:spPr>
          <a:xfrm>
            <a:off x="356760" y="4149720"/>
            <a:ext cx="469080" cy="7200"/>
          </a:xfrm>
          <a:prstGeom prst="straightConnector1">
            <a:avLst/>
          </a:prstGeom>
          <a:ln w="28440">
            <a:solidFill>
              <a:srgbClr val="ff9933"/>
            </a:solidFill>
            <a:miter/>
            <a:tailEnd len="lg" type="diamond" w="lg"/>
          </a:ln>
        </p:spPr>
      </p:cxnSp>
      <p:cxnSp>
        <p:nvCxnSpPr>
          <p:cNvPr id="390" name="Straight Arrow Connector 133"/>
          <p:cNvCxnSpPr/>
          <p:nvPr/>
        </p:nvCxnSpPr>
        <p:spPr>
          <a:xfrm flipV="1">
            <a:off x="358560" y="6306840"/>
            <a:ext cx="448200" cy="2160"/>
          </a:xfrm>
          <a:prstGeom prst="straightConnector1">
            <a:avLst/>
          </a:prstGeom>
          <a:ln w="28440">
            <a:solidFill>
              <a:srgbClr val="ff9933"/>
            </a:solidFill>
            <a:miter/>
          </a:ln>
        </p:spPr>
      </p:cxnSp>
      <p:sp>
        <p:nvSpPr>
          <p:cNvPr id="391" name=""/>
          <p:cNvSpPr/>
          <p:nvPr/>
        </p:nvSpPr>
        <p:spPr>
          <a:xfrm>
            <a:off x="8734320" y="77760"/>
            <a:ext cx="4096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0AEC2C33-F815-4D6A-A0D4-141A7DC8CBC9}" type="slidenum">
              <a:rPr b="0" lang="en-GB" sz="1300" spc="-1" strike="noStrike">
                <a:solidFill>
                  <a:srgbClr val="808080"/>
                </a:solidFill>
                <a:latin typeface="Arial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Text Box 6"/>
          <p:cNvSpPr/>
          <p:nvPr/>
        </p:nvSpPr>
        <p:spPr>
          <a:xfrm>
            <a:off x="5724360" y="907920"/>
            <a:ext cx="3419640" cy="7038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cienc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cope of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7596360" y="2205000"/>
            <a:ext cx="360360" cy="144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4" name="" descr=""/>
          <p:cNvPicPr/>
          <p:nvPr/>
        </p:nvPicPr>
        <p:blipFill>
          <a:blip r:embed="rId1"/>
          <a:stretch/>
        </p:blipFill>
        <p:spPr>
          <a:xfrm>
            <a:off x="7380360" y="3213000"/>
            <a:ext cx="1763640" cy="1243080"/>
          </a:xfrm>
          <a:prstGeom prst="rect">
            <a:avLst/>
          </a:prstGeom>
          <a:ln w="0">
            <a:noFill/>
          </a:ln>
        </p:spPr>
      </p:pic>
      <p:pic>
        <p:nvPicPr>
          <p:cNvPr id="395" name="" descr=""/>
          <p:cNvPicPr/>
          <p:nvPr/>
        </p:nvPicPr>
        <p:blipFill>
          <a:blip r:embed="rId2"/>
          <a:stretch/>
        </p:blipFill>
        <p:spPr>
          <a:xfrm>
            <a:off x="5580000" y="3213000"/>
            <a:ext cx="1763640" cy="1243080"/>
          </a:xfrm>
          <a:prstGeom prst="rect">
            <a:avLst/>
          </a:prstGeom>
          <a:ln w="0">
            <a:noFill/>
          </a:ln>
        </p:spPr>
      </p:pic>
      <p:pic>
        <p:nvPicPr>
          <p:cNvPr id="396" name="" descr=""/>
          <p:cNvPicPr/>
          <p:nvPr/>
        </p:nvPicPr>
        <p:blipFill>
          <a:blip r:embed="rId3"/>
          <a:stretch/>
        </p:blipFill>
        <p:spPr>
          <a:xfrm>
            <a:off x="5508720" y="1844640"/>
            <a:ext cx="1763640" cy="1243080"/>
          </a:xfrm>
          <a:prstGeom prst="rect">
            <a:avLst/>
          </a:prstGeom>
          <a:ln w="0">
            <a:noFill/>
          </a:ln>
        </p:spPr>
      </p:pic>
      <p:pic>
        <p:nvPicPr>
          <p:cNvPr id="397" name="" descr=""/>
          <p:cNvPicPr/>
          <p:nvPr/>
        </p:nvPicPr>
        <p:blipFill>
          <a:blip r:embed="rId4"/>
          <a:stretch/>
        </p:blipFill>
        <p:spPr>
          <a:xfrm>
            <a:off x="5580000" y="4653000"/>
            <a:ext cx="1763640" cy="1243080"/>
          </a:xfrm>
          <a:prstGeom prst="rect">
            <a:avLst/>
          </a:prstGeom>
          <a:ln w="0">
            <a:noFill/>
          </a:ln>
        </p:spPr>
      </p:pic>
      <p:pic>
        <p:nvPicPr>
          <p:cNvPr id="398" name="" descr=""/>
          <p:cNvPicPr/>
          <p:nvPr/>
        </p:nvPicPr>
        <p:blipFill>
          <a:blip r:embed="rId5"/>
          <a:stretch/>
        </p:blipFill>
        <p:spPr>
          <a:xfrm>
            <a:off x="7380360" y="1773360"/>
            <a:ext cx="1763640" cy="1242720"/>
          </a:xfrm>
          <a:prstGeom prst="rect">
            <a:avLst/>
          </a:prstGeom>
          <a:ln w="0">
            <a:noFill/>
          </a:ln>
        </p:spPr>
      </p:pic>
      <p:pic>
        <p:nvPicPr>
          <p:cNvPr id="399" name="" descr=""/>
          <p:cNvPicPr/>
          <p:nvPr/>
        </p:nvPicPr>
        <p:blipFill>
          <a:blip r:embed="rId6"/>
          <a:stretch/>
        </p:blipFill>
        <p:spPr>
          <a:xfrm>
            <a:off x="7365960" y="4653000"/>
            <a:ext cx="1778040" cy="1252440"/>
          </a:xfrm>
          <a:prstGeom prst="rect">
            <a:avLst/>
          </a:prstGeom>
          <a:ln w="0">
            <a:noFill/>
          </a:ln>
        </p:spPr>
      </p:pic>
      <p:sp>
        <p:nvSpPr>
          <p:cNvPr id="400" name="Text Box 6"/>
          <p:cNvSpPr/>
          <p:nvPr/>
        </p:nvSpPr>
        <p:spPr>
          <a:xfrm>
            <a:off x="826920" y="1576440"/>
            <a:ext cx="1441440" cy="7038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6"/>
          <p:cNvSpPr/>
          <p:nvPr/>
        </p:nvSpPr>
        <p:spPr>
          <a:xfrm>
            <a:off x="2627280" y="1557360"/>
            <a:ext cx="2376360" cy="703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oal-setting by poli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900000" y="2421000"/>
            <a:ext cx="1871640" cy="576360"/>
          </a:xfrm>
          <a:prstGeom prst="rightArrow">
            <a:avLst>
              <a:gd name="adj1" fmla="val 50000"/>
              <a:gd name="adj2" fmla="val 81184"/>
            </a:avLst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3635280" y="2421000"/>
            <a:ext cx="1871640" cy="576360"/>
          </a:xfrm>
          <a:prstGeom prst="rightArrow">
            <a:avLst>
              <a:gd name="adj1" fmla="val 50000"/>
              <a:gd name="adj2" fmla="val 81184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1,5°C Targ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635280" y="2565360"/>
            <a:ext cx="1871640" cy="576360"/>
          </a:xfrm>
          <a:prstGeom prst="rightArrow">
            <a:avLst>
              <a:gd name="adj1" fmla="val 50000"/>
              <a:gd name="adj2" fmla="val 81184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2°C Targ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 rot="17358600">
            <a:off x="3312000" y="-783360"/>
            <a:ext cx="1512720" cy="4032000"/>
          </a:xfrm>
          <a:custGeom>
            <a:avLst/>
            <a:gdLst>
              <a:gd name="textAreaLeft" fmla="*/ 202680 w 1512720"/>
              <a:gd name="textAreaRight" fmla="*/ 1310040 w 1512720"/>
              <a:gd name="textAreaTop" fmla="*/ 793800 h 4032000"/>
              <a:gd name="textAreaBottom" fmla="*/ 2955960 h 40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508" stAng="-5400000" swAng="5400000"/>
                <a:lnTo>
                  <a:pt x="21600" y="11582"/>
                </a:lnTo>
                <a:arcTo wR="21600" hR="8508" stAng="0" swAng="2885237"/>
                <a:lnTo>
                  <a:pt x="7200" y="21113"/>
                </a:lnTo>
                <a:lnTo>
                  <a:pt x="0" y="18552"/>
                </a:lnTo>
                <a:lnTo>
                  <a:pt x="7200" y="15017"/>
                </a:lnTo>
                <a:lnTo>
                  <a:pt x="7200" y="16528"/>
                </a:lnTo>
                <a:arcTo wR="21600" hR="8508" stAng="2885237" swAng="-2636956"/>
                <a:lnTo>
                  <a:pt x="21245" y="10045"/>
                </a:lnTo>
                <a:arcTo wR="21600" hR="8508" stAng="-248281" swAng="-5151719"/>
                <a:close/>
              </a:path>
              <a:path fill="darkenLess" w="21600" h="21600">
                <a:moveTo>
                  <a:pt x="0" y="0"/>
                </a:moveTo>
                <a:arcTo wR="21600" hR="8508" stAng="-5400000" swAng="5400000"/>
                <a:lnTo>
                  <a:pt x="21600" y="11582"/>
                </a:lnTo>
                <a:arcTo wR="21600" hR="8508" stAng="0" swAng="-248281"/>
                <a:lnTo>
                  <a:pt x="21245" y="10045"/>
                </a:lnTo>
                <a:arcTo wR="21600" hR="8508" stAng="-248281" swAng="-5151719"/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79280" y="274680"/>
            <a:ext cx="896472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e2631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9e2631"/>
                </a:solidFill>
                <a:latin typeface="Arial"/>
              </a:rPr>
              <a:t>Policy relevant but not policy prescriptive“</a:t>
            </a: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 rot="6565200">
            <a:off x="1703880" y="2145600"/>
            <a:ext cx="2362320" cy="5246640"/>
          </a:xfrm>
          <a:custGeom>
            <a:avLst/>
            <a:gdLst>
              <a:gd name="textAreaLeft" fmla="*/ 316440 w 2362320"/>
              <a:gd name="textAreaRight" fmla="*/ 2045880 w 2362320"/>
              <a:gd name="textAreaTop" fmla="*/ 1072440 h 5246640"/>
              <a:gd name="textAreaBottom" fmla="*/ 3649320 h 5246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832" stAng="-5400000" swAng="5400000"/>
                <a:lnTo>
                  <a:pt x="21600" y="10608"/>
                </a:lnTo>
                <a:arcTo wR="21600" hR="8832" stAng="0" swAng="2949063"/>
                <a:lnTo>
                  <a:pt x="7200" y="21095"/>
                </a:lnTo>
                <a:lnTo>
                  <a:pt x="0" y="18552"/>
                </a:lnTo>
                <a:lnTo>
                  <a:pt x="7200" y="14999"/>
                </a:lnTo>
                <a:lnTo>
                  <a:pt x="7200" y="17159"/>
                </a:lnTo>
                <a:arcTo wR="21600" hR="8832" stAng="2949063" swAng="-2807095"/>
                <a:lnTo>
                  <a:pt x="21491" y="9720"/>
                </a:lnTo>
                <a:arcTo wR="21600" hR="8832" stAng="-141969" swAng="-5258031"/>
                <a:close/>
              </a:path>
              <a:path fill="darkenLess" w="21600" h="21600">
                <a:moveTo>
                  <a:pt x="0" y="0"/>
                </a:moveTo>
                <a:arcTo wR="21600" hR="8832" stAng="-5400000" swAng="5400000"/>
                <a:lnTo>
                  <a:pt x="21600" y="10608"/>
                </a:lnTo>
                <a:arcTo wR="21600" hR="8832" stAng="0" swAng="-141969"/>
                <a:lnTo>
                  <a:pt x="21491" y="9720"/>
                </a:lnTo>
                <a:arcTo wR="21600" hR="8832" stAng="-141969" swAng="-5258031"/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441440" y="4064040"/>
            <a:ext cx="403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uch as impacts from excessive use of biomass or geoengine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rot="805800">
            <a:off x="1733760" y="5306760"/>
            <a:ext cx="302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onsider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of unintended side-eff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9e2631"/>
                </a:solidFill>
                <a:latin typeface="Arial"/>
              </a:rPr>
              <a:t>Table of Contents</a:t>
            </a: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100080" y="1341360"/>
            <a:ext cx="8920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07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G I, II and III Innovations in AR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07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e2631"/>
                </a:solidFill>
                <a:latin typeface="Arial"/>
              </a:rPr>
              <a:t>Cooperation among Working Grou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07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ecial Repor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73a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SREX (WG I + II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73a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SRREN (WG III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/>
          <p:nvPr/>
        </p:nvSpPr>
        <p:spPr>
          <a:xfrm>
            <a:off x="457200" y="274680"/>
            <a:ext cx="82184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e2631"/>
                </a:solidFill>
                <a:latin typeface="Arial"/>
                <a:ea typeface="ＭＳ Ｐゴシック"/>
              </a:rPr>
              <a:t>Assessment Commun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3132000" y="5705640"/>
            <a:ext cx="6012000" cy="1152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8734320" y="77760"/>
            <a:ext cx="4096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5DE4CC94-E926-4463-83EE-46F1CDAEB30C}" type="slidenum">
              <a:rPr b="0" lang="en-GB" sz="1300" spc="-1" strike="noStrike">
                <a:solidFill>
                  <a:srgbClr val="808080"/>
                </a:solidFill>
                <a:latin typeface="Arial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5" name="" descr=""/>
          <p:cNvPicPr/>
          <p:nvPr/>
        </p:nvPicPr>
        <p:blipFill>
          <a:blip r:embed="rId1"/>
          <a:stretch/>
        </p:blipFill>
        <p:spPr>
          <a:xfrm>
            <a:off x="617400" y="808200"/>
            <a:ext cx="7743960" cy="547668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/>
          <p:nvPr/>
        </p:nvSpPr>
        <p:spPr>
          <a:xfrm>
            <a:off x="0" y="6583320"/>
            <a:ext cx="457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808080"/>
                </a:solidFill>
                <a:latin typeface="Arial"/>
                <a:ea typeface="Arial Unicode MS"/>
              </a:rPr>
              <a:t>Modified from Graphic by John Weyant (2009)</a:t>
            </a:r>
            <a:r>
              <a:rPr b="0" lang="en-GB" sz="1200" spc="-1" strike="noStrike">
                <a:solidFill>
                  <a:srgbClr val="808080"/>
                </a:solidFill>
                <a:latin typeface="Arial"/>
                <a:ea typeface="Arial Unicode MS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3"/>
          <p:cNvSpPr/>
          <p:nvPr/>
        </p:nvSpPr>
        <p:spPr>
          <a:xfrm>
            <a:off x="328680" y="166680"/>
            <a:ext cx="85424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e2631"/>
                </a:solidFill>
                <a:latin typeface="Arial"/>
                <a:ea typeface="ＭＳ Ｐゴシック"/>
              </a:rPr>
              <a:t>IPCC Scenario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8734320" y="77760"/>
            <a:ext cx="4096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4BC87771-A2D1-4BAF-8400-CDC4818751C3}" type="slidenum">
              <a:rPr b="0" lang="en-GB" sz="1300" spc="-1" strike="noStrike">
                <a:solidFill>
                  <a:srgbClr val="808080"/>
                </a:solidFill>
                <a:latin typeface="Arial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9" name="" descr=""/>
          <p:cNvPicPr/>
          <p:nvPr/>
        </p:nvPicPr>
        <p:blipFill>
          <a:blip r:embed="rId1"/>
          <a:stretch/>
        </p:blipFill>
        <p:spPr>
          <a:xfrm>
            <a:off x="880920" y="615960"/>
            <a:ext cx="7129440" cy="534672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/>
          <p:nvPr/>
        </p:nvSpPr>
        <p:spPr>
          <a:xfrm>
            <a:off x="31680" y="5478480"/>
            <a:ext cx="2156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cc"/>
                </a:solidFill>
                <a:latin typeface="Arial"/>
                <a:ea typeface="ＭＳ Ｐゴシック"/>
              </a:rPr>
              <a:t>Integrated </a:t>
            </a:r>
            <a:br>
              <a:rPr sz="1400"/>
            </a:br>
            <a:r>
              <a:rPr b="1" lang="de-DE" sz="1400" spc="-1" strike="noStrike">
                <a:solidFill>
                  <a:srgbClr val="0000cc"/>
                </a:solidFill>
                <a:latin typeface="Arial"/>
                <a:ea typeface="ＭＳ Ｐゴシック"/>
              </a:rPr>
              <a:t>Assessment Mod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7101000" y="5581800"/>
            <a:ext cx="180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Climate Mod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4835520" y="588960"/>
            <a:ext cx="1965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6600"/>
                </a:solidFill>
                <a:latin typeface="Arial"/>
                <a:ea typeface="ＭＳ Ｐゴシック"/>
              </a:rPr>
              <a:t>Impact, Adaptation, Vulnerab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" descr=""/>
          <p:cNvPicPr/>
          <p:nvPr/>
        </p:nvPicPr>
        <p:blipFill>
          <a:blip r:embed="rId1"/>
          <a:stretch/>
        </p:blipFill>
        <p:spPr>
          <a:xfrm>
            <a:off x="880920" y="615960"/>
            <a:ext cx="7135920" cy="5351400"/>
          </a:xfrm>
          <a:prstGeom prst="rect">
            <a:avLst/>
          </a:prstGeom>
          <a:ln w="0">
            <a:noFill/>
          </a:ln>
        </p:spPr>
      </p:pic>
      <p:sp>
        <p:nvSpPr>
          <p:cNvPr id="424" name=""/>
          <p:cNvSpPr/>
          <p:nvPr/>
        </p:nvSpPr>
        <p:spPr>
          <a:xfrm>
            <a:off x="8734320" y="77760"/>
            <a:ext cx="4096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DB35B635-E694-4ED0-96DC-C9BE60913F9D}" type="slidenum">
              <a:rPr b="0" lang="en-GB" sz="1300" spc="-1" strike="noStrike">
                <a:solidFill>
                  <a:srgbClr val="808080"/>
                </a:solidFill>
                <a:latin typeface="Arial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31680" y="5478480"/>
            <a:ext cx="2156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cc"/>
                </a:solidFill>
                <a:latin typeface="Arial"/>
                <a:ea typeface="ＭＳ Ｐゴシック"/>
              </a:rPr>
              <a:t>Integrated </a:t>
            </a:r>
            <a:br>
              <a:rPr sz="1400"/>
            </a:br>
            <a:r>
              <a:rPr b="1" lang="de-DE" sz="1400" spc="-1" strike="noStrike">
                <a:solidFill>
                  <a:srgbClr val="0000cc"/>
                </a:solidFill>
                <a:latin typeface="Arial"/>
                <a:ea typeface="ＭＳ Ｐゴシック"/>
              </a:rPr>
              <a:t>Assessment Mod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101000" y="5581800"/>
            <a:ext cx="180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Climate Mod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835520" y="588960"/>
            <a:ext cx="1965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6600"/>
                </a:solidFill>
                <a:latin typeface="Arial"/>
                <a:ea typeface="ＭＳ Ｐゴシック"/>
              </a:rPr>
              <a:t>Impact, Adaptation, Vulnerab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Rectangle 3"/>
          <p:cNvSpPr/>
          <p:nvPr/>
        </p:nvSpPr>
        <p:spPr>
          <a:xfrm>
            <a:off x="328680" y="166680"/>
            <a:ext cx="85424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e2631"/>
                </a:solidFill>
                <a:latin typeface="Arial"/>
                <a:ea typeface="ＭＳ Ｐゴシック"/>
              </a:rPr>
              <a:t>IPCC Szenarienproz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468360" y="1268280"/>
            <a:ext cx="8231040" cy="45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On the request of IPCC Chairman Rajendra Pachauri and UN Secretary-General Ban Ki-moo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ed by InterAcademy Council (IAC).</a:t>
            </a: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view of IPCC principles, procedures, management structures and the IPCC scenario process (“honest broker“ role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report will be prepared for the IPCC Plenary in October 2010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9e2631"/>
                </a:solidFill>
                <a:latin typeface="Arial"/>
              </a:rPr>
              <a:t>Independent Review: Set Up</a:t>
            </a: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" descr=""/>
          <p:cNvPicPr/>
          <p:nvPr/>
        </p:nvPicPr>
        <p:blipFill>
          <a:blip r:embed="rId1"/>
          <a:stretch/>
        </p:blipFill>
        <p:spPr>
          <a:xfrm>
            <a:off x="888840" y="623880"/>
            <a:ext cx="7118640" cy="5338800"/>
          </a:xfrm>
          <a:prstGeom prst="rect">
            <a:avLst/>
          </a:prstGeom>
          <a:ln w="0">
            <a:noFill/>
          </a:ln>
        </p:spPr>
      </p:pic>
      <p:sp>
        <p:nvSpPr>
          <p:cNvPr id="430" name=""/>
          <p:cNvSpPr/>
          <p:nvPr/>
        </p:nvSpPr>
        <p:spPr>
          <a:xfrm>
            <a:off x="8734320" y="77760"/>
            <a:ext cx="4096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073123CA-C5B4-4DEB-8815-FD189373685F}" type="slidenum">
              <a:rPr b="0" lang="en-GB" sz="1300" spc="-1" strike="noStrike">
                <a:solidFill>
                  <a:srgbClr val="808080"/>
                </a:solidFill>
                <a:latin typeface="Arial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31680" y="5478480"/>
            <a:ext cx="2156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cc"/>
                </a:solidFill>
                <a:latin typeface="Arial"/>
                <a:ea typeface="ＭＳ Ｐゴシック"/>
              </a:rPr>
              <a:t>Integrated </a:t>
            </a:r>
            <a:br>
              <a:rPr sz="1400"/>
            </a:br>
            <a:r>
              <a:rPr b="1" lang="de-DE" sz="1400" spc="-1" strike="noStrike">
                <a:solidFill>
                  <a:srgbClr val="0000cc"/>
                </a:solidFill>
                <a:latin typeface="Arial"/>
                <a:ea typeface="ＭＳ Ｐゴシック"/>
              </a:rPr>
              <a:t>Assessment Mod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7101000" y="5581800"/>
            <a:ext cx="180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Climate Mod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4835520" y="588960"/>
            <a:ext cx="1965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6600"/>
                </a:solidFill>
                <a:latin typeface="Arial"/>
                <a:ea typeface="ＭＳ Ｐゴシック"/>
              </a:rPr>
              <a:t>Impact, Adaptation, Vulnerab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Rectangle 3"/>
          <p:cNvSpPr/>
          <p:nvPr/>
        </p:nvSpPr>
        <p:spPr>
          <a:xfrm>
            <a:off x="328680" y="166680"/>
            <a:ext cx="85424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e2631"/>
                </a:solidFill>
                <a:latin typeface="Arial"/>
                <a:ea typeface="ＭＳ Ｐゴシック"/>
              </a:rPr>
              <a:t>IPCC Szenarienproz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" descr=""/>
          <p:cNvPicPr/>
          <p:nvPr/>
        </p:nvPicPr>
        <p:blipFill>
          <a:blip r:embed="rId1"/>
          <a:stretch/>
        </p:blipFill>
        <p:spPr>
          <a:xfrm>
            <a:off x="900000" y="636480"/>
            <a:ext cx="7104240" cy="5327640"/>
          </a:xfrm>
          <a:prstGeom prst="rect">
            <a:avLst/>
          </a:prstGeom>
          <a:ln w="0">
            <a:noFill/>
          </a:ln>
        </p:spPr>
      </p:pic>
      <p:sp>
        <p:nvSpPr>
          <p:cNvPr id="436" name=""/>
          <p:cNvSpPr/>
          <p:nvPr/>
        </p:nvSpPr>
        <p:spPr>
          <a:xfrm>
            <a:off x="8734320" y="77760"/>
            <a:ext cx="4096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0CC27C6A-3776-47A0-A85E-7856E26B31A4}" type="slidenum">
              <a:rPr b="0" lang="en-GB" sz="1300" spc="-1" strike="noStrike">
                <a:solidFill>
                  <a:srgbClr val="808080"/>
                </a:solidFill>
                <a:latin typeface="Arial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1380960" y="2484360"/>
            <a:ext cx="18432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31680" y="5478480"/>
            <a:ext cx="2156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cc"/>
                </a:solidFill>
                <a:latin typeface="Arial"/>
                <a:ea typeface="ＭＳ Ｐゴシック"/>
              </a:rPr>
              <a:t>Integrated </a:t>
            </a:r>
            <a:br>
              <a:rPr sz="1400"/>
            </a:br>
            <a:r>
              <a:rPr b="1" lang="de-DE" sz="1400" spc="-1" strike="noStrike">
                <a:solidFill>
                  <a:srgbClr val="0000cc"/>
                </a:solidFill>
                <a:latin typeface="Arial"/>
                <a:ea typeface="ＭＳ Ｐゴシック"/>
              </a:rPr>
              <a:t>Assessment Mod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7101000" y="5581800"/>
            <a:ext cx="180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Climate Mod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4835520" y="588960"/>
            <a:ext cx="1965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6600"/>
                </a:solidFill>
                <a:latin typeface="Arial"/>
                <a:ea typeface="ＭＳ Ｐゴシック"/>
              </a:rPr>
              <a:t>Impact, Adaptation, Vulnerab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Rectangle 3"/>
          <p:cNvSpPr/>
          <p:nvPr/>
        </p:nvSpPr>
        <p:spPr>
          <a:xfrm>
            <a:off x="328680" y="166680"/>
            <a:ext cx="85424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e2631"/>
                </a:solidFill>
                <a:latin typeface="Arial"/>
                <a:ea typeface="ＭＳ Ｐゴシック"/>
              </a:rPr>
              <a:t>IPCC Szenarienproz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2" name="" descr=""/>
          <p:cNvPicPr/>
          <p:nvPr/>
        </p:nvPicPr>
        <p:blipFill>
          <a:blip r:embed="rId1"/>
          <a:stretch/>
        </p:blipFill>
        <p:spPr>
          <a:xfrm>
            <a:off x="900000" y="625320"/>
            <a:ext cx="7131240" cy="5348520"/>
          </a:xfrm>
          <a:prstGeom prst="rect">
            <a:avLst/>
          </a:prstGeom>
          <a:ln w="0">
            <a:noFill/>
          </a:ln>
        </p:spPr>
      </p:pic>
      <p:sp>
        <p:nvSpPr>
          <p:cNvPr id="443" name=""/>
          <p:cNvSpPr/>
          <p:nvPr/>
        </p:nvSpPr>
        <p:spPr>
          <a:xfrm>
            <a:off x="8734320" y="77760"/>
            <a:ext cx="4096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8A21CE38-921C-4D5F-BF8B-0F3618F46A9F}" type="slidenum">
              <a:rPr b="0" lang="en-GB" sz="1300" spc="-1" strike="noStrike">
                <a:solidFill>
                  <a:srgbClr val="808080"/>
                </a:solidFill>
                <a:latin typeface="Arial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31680" y="5478480"/>
            <a:ext cx="2156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cc"/>
                </a:solidFill>
                <a:latin typeface="Arial"/>
                <a:ea typeface="ＭＳ Ｐゴシック"/>
              </a:rPr>
              <a:t>Integrated </a:t>
            </a:r>
            <a:br>
              <a:rPr sz="1400"/>
            </a:br>
            <a:r>
              <a:rPr b="1" lang="de-DE" sz="1400" spc="-1" strike="noStrike">
                <a:solidFill>
                  <a:srgbClr val="0000cc"/>
                </a:solidFill>
                <a:latin typeface="Arial"/>
                <a:ea typeface="ＭＳ Ｐゴシック"/>
              </a:rPr>
              <a:t>Assessment Mod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7101000" y="5581800"/>
            <a:ext cx="180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Climate Mod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4835520" y="588960"/>
            <a:ext cx="1965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6600"/>
                </a:solidFill>
                <a:latin typeface="Arial"/>
                <a:ea typeface="ＭＳ Ｐゴシック"/>
              </a:rPr>
              <a:t>Impact, Adaptation, Vulnerab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Rectangle 3"/>
          <p:cNvSpPr/>
          <p:nvPr/>
        </p:nvSpPr>
        <p:spPr>
          <a:xfrm>
            <a:off x="328680" y="166680"/>
            <a:ext cx="85424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e2631"/>
                </a:solidFill>
                <a:latin typeface="Arial"/>
                <a:ea typeface="ＭＳ Ｐゴシック"/>
              </a:rPr>
              <a:t>IPCC Szenarienproz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/>
          <p:nvPr/>
        </p:nvSpPr>
        <p:spPr>
          <a:xfrm>
            <a:off x="455760" y="1600200"/>
            <a:ext cx="8688240" cy="45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int WGI / WGII Expert Meeting on Detection and Attribution related to Anthropogenic Climate Change (09/0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int WGI / WGII Expert Meeting on Assessing and Combining Multi-Model Climate Projections (01/1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i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G II / WG III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rt Meeting on Human Settlement and Infrastructure (postponed to early 201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int WG II / WG III Workshop on Socioeconomic Scenarios for Climate Change Impact and Response Assessments (11/1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int WGI / WGII Expert Meeting on Impacts of Ocean Acidification on Marine Biology and Ecosystems (01/1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int WGII / WGIII Expert Meeting on Economic Analysis, Costing Methods, and Ethics (03/1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457200" y="274680"/>
            <a:ext cx="82184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990000"/>
                </a:solidFill>
                <a:latin typeface="Arial"/>
                <a:ea typeface="ＭＳ Ｐゴシック"/>
              </a:rPr>
              <a:t>Jointly Organized Meetings/Worksho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8734320" y="77760"/>
            <a:ext cx="4096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D82D0C8A-BC0B-4A68-9705-D47A4568AFDB}" type="slidenum">
              <a:rPr b="0" lang="en-GB" sz="1300" spc="-1" strike="noStrike">
                <a:solidFill>
                  <a:srgbClr val="808080"/>
                </a:solidFill>
                <a:latin typeface="Arial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9e2631"/>
                </a:solidFill>
                <a:latin typeface="Arial"/>
              </a:rPr>
              <a:t>Table of Contents</a:t>
            </a: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100080" y="1341360"/>
            <a:ext cx="8920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07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G I, II and III Innovations in AR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07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operation among Working Grou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07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e2631"/>
                </a:solidFill>
                <a:latin typeface="Arial"/>
              </a:rPr>
              <a:t>Special Repor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73a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9e2631"/>
                </a:solidFill>
                <a:latin typeface="Arial"/>
              </a:rPr>
              <a:t>SREX (WG I + II)</a:t>
            </a: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73a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SRREN (WG III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3" name="Picture 1" descr=""/>
          <p:cNvPicPr/>
          <p:nvPr/>
        </p:nvPicPr>
        <p:blipFill>
          <a:blip r:embed="rId1"/>
          <a:stretch/>
        </p:blipFill>
        <p:spPr>
          <a:xfrm>
            <a:off x="1116000" y="1066680"/>
            <a:ext cx="6912000" cy="4969080"/>
          </a:xfrm>
          <a:prstGeom prst="rect">
            <a:avLst/>
          </a:prstGeom>
          <a:ln w="0">
            <a:noFill/>
          </a:ln>
        </p:spPr>
      </p:pic>
      <p:sp>
        <p:nvSpPr>
          <p:cNvPr id="454" name=""/>
          <p:cNvSpPr/>
          <p:nvPr/>
        </p:nvSpPr>
        <p:spPr>
          <a:xfrm>
            <a:off x="0" y="274680"/>
            <a:ext cx="9144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0000"/>
                </a:solidFill>
                <a:latin typeface="Arial"/>
                <a:ea typeface="ＭＳ Ｐゴシック"/>
              </a:rPr>
              <a:t>SREX: Managing the Risks of Extreme Events and Disasters to Advance Climate Change Adapt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9e2631"/>
                </a:solidFill>
                <a:latin typeface="Arial"/>
              </a:rPr>
              <a:t>Table of Contents</a:t>
            </a: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00080" y="1341360"/>
            <a:ext cx="8920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07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G I, II and III Innovations in AR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07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operation among Working Grou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07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e2631"/>
                </a:solidFill>
                <a:latin typeface="Arial"/>
              </a:rPr>
              <a:t>Special Repor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73a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SREX (WG I + II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73a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9e2631"/>
                </a:solidFill>
                <a:latin typeface="Arial"/>
              </a:rPr>
              <a:t>SRREN (WG III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/>
          <p:nvPr/>
        </p:nvSpPr>
        <p:spPr>
          <a:xfrm>
            <a:off x="3132000" y="5705640"/>
            <a:ext cx="6012000" cy="1152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ounded Rectangle 9"/>
          <p:cNvSpPr/>
          <p:nvPr/>
        </p:nvSpPr>
        <p:spPr>
          <a:xfrm>
            <a:off x="179280" y="1916280"/>
            <a:ext cx="8713800" cy="2304720"/>
          </a:xfrm>
          <a:prstGeom prst="roundRect">
            <a:avLst>
              <a:gd name="adj" fmla="val 16667"/>
            </a:avLst>
          </a:prstGeom>
          <a:solidFill>
            <a:srgbClr val="dde7f3"/>
          </a:solidFill>
          <a:ln w="0">
            <a:noFill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3"/>
          <p:cNvSpPr/>
          <p:nvPr/>
        </p:nvSpPr>
        <p:spPr>
          <a:xfrm>
            <a:off x="539640" y="1563840"/>
            <a:ext cx="7923240" cy="43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128520" indent="-128520">
              <a:spcBef>
                <a:spcPts val="499"/>
              </a:spcBef>
              <a:buClr>
                <a:srgbClr val="5492c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Renewable Energy and Climate Ch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8520" indent="-128520">
              <a:spcBef>
                <a:spcPts val="51"/>
              </a:spcBef>
              <a:buClr>
                <a:srgbClr val="5492c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128520" indent="-128520">
              <a:spcBef>
                <a:spcPts val="499"/>
              </a:spcBef>
              <a:buClr>
                <a:srgbClr val="5492c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  <a:ea typeface="宋体"/>
              </a:rPr>
              <a:t>  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  <a:ea typeface="宋体"/>
              </a:rPr>
              <a:t>2.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  <a:ea typeface="宋体"/>
              </a:rPr>
              <a:t>	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  <a:ea typeface="宋体"/>
              </a:rPr>
              <a:t>Bioenerg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8520" indent="-128520">
              <a:spcBef>
                <a:spcPts val="499"/>
              </a:spcBef>
              <a:buClr>
                <a:srgbClr val="5492c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  <a:ea typeface="宋体"/>
              </a:rPr>
              <a:t>  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  <a:ea typeface="宋体"/>
              </a:rPr>
              <a:t>3.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  <a:ea typeface="宋体"/>
              </a:rPr>
              <a:t>	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  <a:ea typeface="宋体"/>
              </a:rPr>
              <a:t>Direct Solar Energ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8520" indent="-128520">
              <a:spcBef>
                <a:spcPts val="499"/>
              </a:spcBef>
              <a:buClr>
                <a:srgbClr val="5492c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  <a:ea typeface="宋体"/>
              </a:rPr>
              <a:t>  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  <a:ea typeface="宋体"/>
              </a:rPr>
              <a:t>4.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  <a:ea typeface="宋体"/>
              </a:rPr>
              <a:t>	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  <a:ea typeface="宋体"/>
              </a:rPr>
              <a:t>Geothermal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8520" indent="-128520">
              <a:spcBef>
                <a:spcPts val="499"/>
              </a:spcBef>
              <a:buClr>
                <a:srgbClr val="5492c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  <a:ea typeface="宋体"/>
              </a:rPr>
              <a:t>  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  <a:ea typeface="宋体"/>
              </a:rPr>
              <a:t>5.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  <a:ea typeface="宋体"/>
              </a:rPr>
              <a:t>	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  <a:ea typeface="宋体"/>
              </a:rPr>
              <a:t>Hydropow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8520" indent="-128520">
              <a:spcBef>
                <a:spcPts val="499"/>
              </a:spcBef>
              <a:buClr>
                <a:srgbClr val="5492c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  <a:ea typeface="宋体"/>
              </a:rPr>
              <a:t>  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  <a:ea typeface="宋体"/>
              </a:rPr>
              <a:t>6.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  <a:ea typeface="宋体"/>
              </a:rPr>
              <a:t>	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  <a:ea typeface="宋体"/>
              </a:rPr>
              <a:t>Ocea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8520" indent="-128520">
              <a:spcBef>
                <a:spcPts val="499"/>
              </a:spcBef>
              <a:buClr>
                <a:srgbClr val="5492c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  <a:ea typeface="宋体"/>
              </a:rPr>
              <a:t>  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  <a:ea typeface="宋体"/>
              </a:rPr>
              <a:t>7.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  <a:ea typeface="宋体"/>
              </a:rPr>
              <a:t>	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  <a:ea typeface="宋体"/>
              </a:rPr>
              <a:t>Wind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8520" indent="-128520">
              <a:spcBef>
                <a:spcPts val="125"/>
              </a:spcBef>
              <a:buClr>
                <a:srgbClr val="5492c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128520" indent="-128520">
              <a:spcBef>
                <a:spcPts val="499"/>
              </a:spcBef>
              <a:buClr>
                <a:srgbClr val="5492c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8.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Integration of Renewable Energy into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Present and Future Energy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8520" indent="-128520">
              <a:spcBef>
                <a:spcPts val="499"/>
              </a:spcBef>
              <a:buClr>
                <a:srgbClr val="5492c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9.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Renewable Energy in the Context of Sustainable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Develo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8520" indent="-128520">
              <a:spcBef>
                <a:spcPts val="499"/>
              </a:spcBef>
              <a:buClr>
                <a:srgbClr val="5492c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10.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Mitigation Potential and Co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8520" indent="-128520">
              <a:spcBef>
                <a:spcPts val="499"/>
              </a:spcBef>
              <a:buClr>
                <a:srgbClr val="5492c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11.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Policy, Financing and Implem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/>
          </p:nvPr>
        </p:nvSpPr>
        <p:spPr>
          <a:xfrm>
            <a:off x="250560" y="981000"/>
            <a:ext cx="821196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0">
              <a:spcBef>
                <a:spcPts val="799"/>
              </a:spcBef>
              <a:buNone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spcBef>
                <a:spcPts val="799"/>
              </a:spcBef>
              <a:buNone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spcBef>
                <a:spcPts val="799"/>
              </a:spcBef>
              <a:buNone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spcBef>
                <a:spcPts val="799"/>
              </a:spcBef>
              <a:buNone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7591320" y="6539040"/>
            <a:ext cx="15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200" spc="-1" strike="noStrike">
                <a:solidFill>
                  <a:srgbClr val="808080"/>
                </a:solidFill>
                <a:latin typeface="Arial"/>
                <a:ea typeface="Arial Unicode MS"/>
              </a:rPr>
              <a:t>Luderer et al. (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179280" y="5157720"/>
            <a:ext cx="201636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3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Rectangle 3"/>
          <p:cNvSpPr/>
          <p:nvPr/>
        </p:nvSpPr>
        <p:spPr>
          <a:xfrm>
            <a:off x="6012000" y="2416320"/>
            <a:ext cx="2230200" cy="10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42920" indent="-142920">
              <a:spcBef>
                <a:spcPts val="51"/>
              </a:spcBef>
              <a:buClr>
                <a:srgbClr val="5492c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142920" indent="-14292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808080"/>
                </a:solidFill>
                <a:latin typeface="Arial"/>
                <a:ea typeface="宋体"/>
              </a:rPr>
              <a:t>Technology Chap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8748720" y="77760"/>
            <a:ext cx="37944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4D7368B7-9357-4E0F-B169-B8545C53F811}" type="slidenum">
              <a:rPr b="0" lang="en-GB" sz="13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0" y="274680"/>
            <a:ext cx="9144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  <a:ea typeface="ＭＳ Ｐゴシック"/>
              </a:rPr>
              <a:t>SRREN: Special Report on Renewable Energy Sources and Climate Change Mitig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957E6-C0DA-45E9-9CAA-428B35223A75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/>
          </p:nvPr>
        </p:nvSpPr>
        <p:spPr>
          <a:xfrm>
            <a:off x="350640" y="1341360"/>
            <a:ext cx="8399160" cy="307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 IPCC is the honest broker between experts and decision makers in business, politics and civil society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Policy relevant but not policy prescriptive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971640" y="260280"/>
            <a:ext cx="6696000" cy="5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3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990000"/>
                </a:solidFill>
                <a:latin typeface="Arial"/>
                <a:ea typeface="Arial Unicode MS"/>
              </a:rPr>
              <a:t>Final Rema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9e2631"/>
                </a:solidFill>
                <a:latin typeface="Arial"/>
              </a:rPr>
              <a:t>Table of Contents</a:t>
            </a: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00080" y="1341360"/>
            <a:ext cx="8920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07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e2631"/>
                </a:solidFill>
                <a:latin typeface="Arial"/>
              </a:rPr>
              <a:t>WG I, II and III Innovations in AR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07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operation among Working Grou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07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ecial Repor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73a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SREX (WG I + II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73a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SRREN (WG III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e2631"/>
                </a:solidFill>
                <a:latin typeface="Arial"/>
              </a:rPr>
              <a:t>AR5 Innovation: Considering Risk/Uncertainty in all WGs</a:t>
            </a: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410000" y="5869080"/>
            <a:ext cx="4734000" cy="96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6"/>
          <p:cNvSpPr/>
          <p:nvPr/>
        </p:nvSpPr>
        <p:spPr>
          <a:xfrm>
            <a:off x="2932200" y="2495520"/>
            <a:ext cx="2471760" cy="2239920"/>
          </a:xfrm>
          <a:prstGeom prst="roundRect">
            <a:avLst>
              <a:gd name="adj" fmla="val 153"/>
            </a:avLst>
          </a:prstGeom>
          <a:solidFill>
            <a:srgbClr val="339966">
              <a:alpha val="30000"/>
            </a:srgbClr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6"/>
          <p:cNvSpPr/>
          <p:nvPr/>
        </p:nvSpPr>
        <p:spPr>
          <a:xfrm>
            <a:off x="6458040" y="2490840"/>
            <a:ext cx="2489040" cy="2233440"/>
          </a:xfrm>
          <a:prstGeom prst="roundRect">
            <a:avLst>
              <a:gd name="adj" fmla="val 153"/>
            </a:avLst>
          </a:prstGeom>
          <a:solidFill>
            <a:srgbClr val="0000ff">
              <a:alpha val="30000"/>
            </a:srgbClr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8734320" y="77760"/>
            <a:ext cx="4096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882E8A0D-3CE4-4A88-830A-D340052859F4}" type="slidenum">
              <a:rPr b="0" lang="en-GB" sz="1300" spc="-1" strike="noStrike">
                <a:solidFill>
                  <a:srgbClr val="808080"/>
                </a:solidFill>
                <a:latin typeface="Arial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60280" y="2471400"/>
            <a:ext cx="130176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Arial"/>
              </a:rPr>
              <a:t>WG 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002040" y="2498760"/>
            <a:ext cx="1660320" cy="3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601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cc33"/>
                </a:solidFill>
                <a:latin typeface="Arial"/>
              </a:rPr>
              <a:t>WG 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499080" y="2422440"/>
            <a:ext cx="177804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ff"/>
                </a:solidFill>
                <a:latin typeface="Arial"/>
              </a:rPr>
              <a:t>WG I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479920" y="3621240"/>
            <a:ext cx="912960" cy="0"/>
          </a:xfrm>
          <a:prstGeom prst="line">
            <a:avLst/>
          </a:prstGeom>
          <a:ln w="63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148280" y="5348160"/>
            <a:ext cx="4233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lete picture of impact and mitigation costs for policy relevan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851200" y="1407960"/>
            <a:ext cx="2252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Extreme events, </a:t>
            </a:r>
            <a:br>
              <a:rPr sz="2200"/>
            </a:br>
            <a:r>
              <a:rPr b="0" lang="de-DE" sz="22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Sea level ri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6"/>
          <p:cNvSpPr/>
          <p:nvPr/>
        </p:nvSpPr>
        <p:spPr>
          <a:xfrm>
            <a:off x="223920" y="2486160"/>
            <a:ext cx="2473200" cy="2255760"/>
          </a:xfrm>
          <a:prstGeom prst="roundRect">
            <a:avLst>
              <a:gd name="adj" fmla="val 153"/>
            </a:avLst>
          </a:prstGeom>
          <a:solidFill>
            <a:srgbClr val="ff0000">
              <a:alpha val="30000"/>
            </a:srgbClr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6760" y="3057480"/>
            <a:ext cx="231912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xtreme ev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a level ri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233960" y="4832280"/>
            <a:ext cx="1336680" cy="403200"/>
          </a:xfrm>
          <a:prstGeom prst="line">
            <a:avLst/>
          </a:prstGeom>
          <a:ln w="63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6210000" y="4816440"/>
            <a:ext cx="1390680" cy="447840"/>
          </a:xfrm>
          <a:prstGeom prst="line">
            <a:avLst/>
          </a:prstGeom>
          <a:ln w="633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AutoShape 6"/>
          <p:cNvSpPr/>
          <p:nvPr/>
        </p:nvSpPr>
        <p:spPr>
          <a:xfrm>
            <a:off x="4788000" y="6093000"/>
            <a:ext cx="2041560" cy="598320"/>
          </a:xfrm>
          <a:prstGeom prst="roundRect">
            <a:avLst>
              <a:gd name="adj" fmla="val 153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1.5°/2º/3º), </a:t>
            </a:r>
            <a:r>
              <a:rPr b="1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3º/4º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olic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690560" y="871560"/>
            <a:ext cx="4354560" cy="1501920"/>
          </a:xfrm>
          <a:custGeom>
            <a:avLst/>
            <a:gdLst/>
            <a:ahLst/>
            <a:rect l="l" t="t" r="r" b="b"/>
            <a:pathLst>
              <a:path w="2743" h="946">
                <a:moveTo>
                  <a:pt x="0" y="946"/>
                </a:moveTo>
                <a:cubicBezTo>
                  <a:pt x="430" y="0"/>
                  <a:pt x="2350" y="50"/>
                  <a:pt x="2743" y="909"/>
                </a:cubicBezTo>
              </a:path>
            </a:pathLst>
          </a:custGeom>
          <a:noFill/>
          <a:ln w="63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506920" y="3141720"/>
            <a:ext cx="865440" cy="3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Ite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3030480" y="3087720"/>
            <a:ext cx="2206440" cy="1258920"/>
            <a:chOff x="3030480" y="3087720"/>
            <a:chExt cx="2206440" cy="1258920"/>
          </a:xfrm>
        </p:grpSpPr>
        <p:sp>
          <p:nvSpPr>
            <p:cNvPr id="242" name=""/>
            <p:cNvSpPr/>
            <p:nvPr/>
          </p:nvSpPr>
          <p:spPr>
            <a:xfrm>
              <a:off x="3428640" y="3702240"/>
              <a:ext cx="1800360" cy="3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349"/>
                </a:spcBef>
                <a:buClr>
                  <a:srgbClr val="5492cd"/>
                </a:buClr>
                <a:buFont typeface="Symbol" charset="2"/>
                <a:buChar char="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(1.5°/2ºC/3ºC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030480" y="3087720"/>
              <a:ext cx="2206440" cy="34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59000"/>
            </a:bodyPr>
            <a:p>
              <a:pPr marL="202320" indent="-202320">
                <a:spcBef>
                  <a:spcPts val="349"/>
                </a:spcBef>
                <a:buClr>
                  <a:srgbClr val="5492c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Differential</a:t>
              </a:r>
              <a:br>
                <a:rPr sz="1400"/>
              </a:b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impacts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435120" y="4000680"/>
              <a:ext cx="1800360" cy="3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349"/>
                </a:spcBef>
                <a:buClr>
                  <a:srgbClr val="5492cd"/>
                </a:buClr>
                <a:buFont typeface="Symbol" charset="2"/>
                <a:buChar char="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(3ºC/4ºC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5" name=""/>
          <p:cNvSpPr/>
          <p:nvPr/>
        </p:nvSpPr>
        <p:spPr>
          <a:xfrm>
            <a:off x="6956280" y="3809880"/>
            <a:ext cx="2389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5492cd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(1.5°/2ºC/3º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491160" y="3076560"/>
            <a:ext cx="29289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3000"/>
          </a:bodyPr>
          <a:p>
            <a:pPr marL="181800" indent="-181800">
              <a:spcBef>
                <a:spcPts val="3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argina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800" indent="-181800">
              <a:spcBef>
                <a:spcPts val="3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itigation cost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964200" y="4108320"/>
            <a:ext cx="23907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5492cd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(3ºC/4º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9e2631"/>
                </a:solidFill>
                <a:latin typeface="Arial"/>
              </a:rPr>
              <a:t>Table of Contents</a:t>
            </a: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00080" y="1341360"/>
            <a:ext cx="8920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07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e2631"/>
                </a:solidFill>
                <a:latin typeface="Arial"/>
              </a:rPr>
              <a:t>WG I, II and III Innovations in AR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73a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9e2631"/>
                </a:solidFill>
                <a:latin typeface="Arial"/>
              </a:rPr>
              <a:t>WG 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73a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WG I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73a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WG II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07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operation among Working Grou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07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ecial Repor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73a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SREX (WG I + II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73a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SRREN (WG III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9e2631"/>
                </a:solidFill>
                <a:latin typeface="Arial"/>
              </a:rPr>
              <a:t>WG I Science Gaps and Questions</a:t>
            </a: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250560" y="907560"/>
            <a:ext cx="856908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Trends and rates of observed climate change</a:t>
            </a:r>
            <a:br>
              <a:rPr sz="2000"/>
            </a:b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Has climate change accelerate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Large ice sheets in polar regions </a:t>
            </a:r>
            <a:br>
              <a:rPr sz="2000"/>
            </a:b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Is the Greenland ice sheet stabl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Irreversibilities and abrupt change in the climate system</a:t>
            </a:r>
            <a:br>
              <a:rPr sz="2000"/>
            </a:b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How robust and accurate is our understanding?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ouds and aerosols and their feedbacks</a:t>
            </a:r>
            <a:br>
              <a:rPr sz="2000"/>
            </a:b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What is the forcing uncertainty associated with cloud and aerosol process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arbon and other biogeochemical cycles</a:t>
            </a:r>
            <a:br>
              <a:rPr sz="2000"/>
            </a:b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Which carbon cycle feedbacks become relevant in the coming decad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Near-term and long-term climate projections</a:t>
            </a:r>
            <a:br>
              <a:rPr sz="2000"/>
            </a:b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How reliable is decadal prediction, what are the uncertainties beyond 2100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mate phenomena across regions</a:t>
            </a:r>
            <a:br>
              <a:rPr sz="2000"/>
            </a:b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How do frequencies and amplitudes of monsoon, ENSO, and others chang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29280" y="31680"/>
            <a:ext cx="212580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DAB44DEB-427A-4806-8E25-402FDC06250F}" type="slidenum">
              <a:rPr b="0" lang="en-GB" sz="13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9e2631"/>
                </a:solidFill>
                <a:latin typeface="Arial"/>
              </a:rPr>
              <a:t>Table of Contents</a:t>
            </a:r>
            <a:endParaRPr b="0" lang="en-US" sz="3200" spc="-1" strike="noStrike">
              <a:solidFill>
                <a:srgbClr val="9e2631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00080" y="1341360"/>
            <a:ext cx="8920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07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e2631"/>
                </a:solidFill>
                <a:latin typeface="Arial"/>
              </a:rPr>
              <a:t>WG I, II and III Innovations in AR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73a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WG 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73a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9e2631"/>
                </a:solidFill>
                <a:latin typeface="Arial"/>
              </a:rPr>
              <a:t>WG I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73a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WG II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07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operation among Working Grou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07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ecial Repor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73a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SREX (WG I + II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73a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SRREN (WG III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457200" y="274680"/>
            <a:ext cx="82184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9e2631"/>
                </a:solidFill>
                <a:latin typeface="Arial"/>
                <a:ea typeface="ＭＳ Ｐゴシック"/>
              </a:rPr>
              <a:t>WG II Major The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9840" y="1052640"/>
            <a:ext cx="9074160" cy="55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aming to support good decisions, including     information on ris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tter integration of climate science with climate impa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roader range of assessed impact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mate change in the context of other stre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tter treatment of extremes and disast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panded treatment of adap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tter integration of adaptation, mitigation,                    and development at different regional sca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uman settlements, industry, and infra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46836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art A: GLOBAL &amp; SECTORAL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49"/>
              </a:spcBef>
              <a:buClr>
                <a:srgbClr val="5492c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ext for the AR5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49"/>
              </a:spcBef>
              <a:buClr>
                <a:srgbClr val="5492c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atural and managed resources and systems, and their u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49"/>
              </a:spcBef>
              <a:buClr>
                <a:srgbClr val="5492c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uman settlements, industry, and infra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49"/>
              </a:spcBef>
              <a:buClr>
                <a:srgbClr val="5492c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uman health, well-being, and secur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49"/>
              </a:spcBef>
              <a:buClr>
                <a:srgbClr val="5492c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ap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49"/>
              </a:spcBef>
              <a:buClr>
                <a:srgbClr val="5492c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ulti-sector impacts, risks, vulnerabilities, and opportunit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5492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art B: REGIONAL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49"/>
              </a:spcBef>
              <a:buClr>
                <a:srgbClr val="5492c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WG I and WG III input and collabor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57200" y="274680"/>
            <a:ext cx="82184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e2631"/>
                </a:solidFill>
                <a:latin typeface="Arial"/>
                <a:ea typeface="ＭＳ Ｐゴシック"/>
              </a:rPr>
              <a:t>Major Sections or “Superchapter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5T11:25:29Z</dcterms:created>
  <dc:creator>Steffen Schlömer</dc:creator>
  <dc:description/>
  <dc:language>en-US</dc:language>
  <cp:lastModifiedBy>Administrator</cp:lastModifiedBy>
  <dcterms:modified xsi:type="dcterms:W3CDTF">2010-06-03T09:28:07Z</dcterms:modified>
  <cp:revision>144</cp:revision>
  <dc:subject/>
  <dc:title>Slide 1</dc:title>
</cp:coreProperties>
</file>