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wmf" ContentType="image/x-wmf"/>
  <Override PartName="/ppt/media/image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717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1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10"/>
          </p:nvPr>
        </p:nvSpPr>
        <p:spPr>
          <a:xfrm>
            <a:off x="3805200" y="-360"/>
            <a:ext cx="29116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Img"/>
          </p:nvPr>
        </p:nvSpPr>
        <p:spPr>
          <a:xfrm>
            <a:off x="892080" y="73944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11"/>
          </p:nvPr>
        </p:nvSpPr>
        <p:spPr>
          <a:xfrm>
            <a:off x="-360" y="9372240"/>
            <a:ext cx="2911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12"/>
          </p:nvPr>
        </p:nvSpPr>
        <p:spPr>
          <a:xfrm>
            <a:off x="3805200" y="9372240"/>
            <a:ext cx="29116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6724A-34A6-4714-BA47-DE98EB5A0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2"/>
          <p:cNvSpPr/>
          <p:nvPr/>
        </p:nvSpPr>
        <p:spPr>
          <a:xfrm>
            <a:off x="655560" y="1092240"/>
            <a:ext cx="3625920" cy="534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body"/>
          </p:nvPr>
        </p:nvSpPr>
        <p:spPr>
          <a:xfrm>
            <a:off x="492120" y="4657320"/>
            <a:ext cx="573408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2"/>
          <p:cNvSpPr/>
          <p:nvPr/>
        </p:nvSpPr>
        <p:spPr>
          <a:xfrm>
            <a:off x="655560" y="1092240"/>
            <a:ext cx="3625920" cy="534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body"/>
          </p:nvPr>
        </p:nvSpPr>
        <p:spPr>
          <a:xfrm>
            <a:off x="492120" y="4657320"/>
            <a:ext cx="573408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MInfra: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nterface between adaptation and mitig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oses: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herence between Working Groups through development of common socio-economic scenario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1147680" y="758880"/>
            <a:ext cx="442620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body"/>
          </p:nvPr>
        </p:nvSpPr>
        <p:spPr>
          <a:xfrm>
            <a:off x="906480" y="4700160"/>
            <a:ext cx="489888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echnical potenti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gration: challenges, costs, social acceptance, risk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Energy system transformation costs (gradual/radical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Policy instruments &amp; financing op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+ advantages and disadvantages, uncertainties and inconsistent assess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+ Identification of knowledge gap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05200" y="93726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51784-F898-4511-9ED7-FCDD6CD5C73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05200" y="93726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A65FA-C51D-4500-8D25-4EF20B40176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952D-0D9F-4023-BA83-2CBDC1156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1A59-2526-4178-873D-1207EDF9D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557F-BADC-4E75-99AF-652E1ACB5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A58A-8925-45C0-9CC3-F6BBC0D3B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296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A3B3-666B-4329-86BD-F62486E5D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5F46-505B-423F-B009-BC6CE1ADD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296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FF54C-07EE-476E-9ED1-AE9CFE1A5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9E497-88EA-4CA9-9FB7-C8ED2592A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F92F4-9F21-4F76-AE40-5031B4739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D451-C7CF-4C02-84D7-D106B8B3C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3EA25-D915-49F3-A8C9-8D1A67D53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28E6B-8C61-4060-873F-F2394D2EE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296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FAB06-8D2B-415C-8EEF-9698159F0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40FCF-99D7-437E-9AE2-1301BB0C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40294-E60F-47C8-894B-82C480FA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39AF9-0106-4593-B1EB-AB9DFAFF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9E411-B8CF-43BE-98EB-6A28D0350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2DB52-678D-4B04-96BA-41A42A8F8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63AC2-533A-4A77-A8B5-2FEDBBE09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B33AC-AB0B-4558-836C-F34995C46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36F8-B09B-4702-B84B-9D05FD394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5565D-08CD-4F36-AB33-3538E67B2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C650B-D406-48BA-BAB8-806C07259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AC22F-8165-4EF8-A71D-957B9D9CB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C9E93-125B-4431-9D42-42BCBAEF5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296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6DDAC-4988-4E65-A131-4CBD36899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DCC74-52DC-49B4-811D-10DA33BD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0A748-0DD8-4804-8BEA-F4CB934F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E8A61-CEFC-417D-A0C9-02067D43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B2894-6D5B-4225-8BC4-C8B49D806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4BFEB-39D0-4647-846B-AC91E3C94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296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0DA0-D84E-43ED-8AEB-3D2F416A3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1EB8D-44FF-402D-837B-63F8CE013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BB41-9D91-4929-9402-B8A21DE8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4C04-594E-4CE4-8525-EBE9EA74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EA9C-C579-4F92-A51A-070E2670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A1351-85B1-406F-96F3-A459CDE994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IPCClogoWMOUNEP_WH.ai"/>
          <p:cNvPicPr/>
          <p:nvPr/>
        </p:nvPicPr>
        <p:blipFill>
          <a:blip r:embed="rId2"/>
          <a:stretch/>
        </p:blipFill>
        <p:spPr>
          <a:xfrm>
            <a:off x="4267080" y="5791320"/>
            <a:ext cx="4818240" cy="10317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50880" indent="-228600">
              <a:spcBef>
                <a:spcPts val="799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59120" indent="-228600">
              <a:spcBef>
                <a:spcPts val="799"/>
              </a:spcBef>
              <a:buClr>
                <a:srgbClr val="4073a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5912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5912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8" descr="IPCClogoWMOUNEP_WH.ai"/>
          <p:cNvPicPr/>
          <p:nvPr/>
        </p:nvPicPr>
        <p:blipFill>
          <a:blip r:embed="rId3"/>
          <a:stretch/>
        </p:blipFill>
        <p:spPr>
          <a:xfrm>
            <a:off x="4356000" y="5853240"/>
            <a:ext cx="4818240" cy="103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-757080" y="-531720"/>
            <a:ext cx="11090160" cy="4365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WMOUNEP_CL.ai"/>
          <p:cNvPicPr/>
          <p:nvPr/>
        </p:nvPicPr>
        <p:blipFill>
          <a:blip r:embed="rId3"/>
          <a:stretch/>
        </p:blipFill>
        <p:spPr>
          <a:xfrm>
            <a:off x="7432560" y="5894280"/>
            <a:ext cx="1851120" cy="925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IPCCLogoWhite_CMYK_Vector.ai"/>
          <p:cNvPicPr/>
          <p:nvPr/>
        </p:nvPicPr>
        <p:blipFill>
          <a:blip r:embed="rId4"/>
          <a:stretch/>
        </p:blipFill>
        <p:spPr>
          <a:xfrm>
            <a:off x="4441680" y="210960"/>
            <a:ext cx="437832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44211-216C-485E-A217-1F916B225A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9359C-8A8F-445D-945B-F8DE5C1054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0920" y="3860280"/>
            <a:ext cx="8604360" cy="23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PCC AR5: Innovations and Cooperation among WGs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5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BSTA, 3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session, 31 May to 9 June 2010, Bonn, Germany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f. Dr. Ottmar Edenhofer</a:t>
            </a:r>
            <a:br>
              <a:rPr sz="2000"/>
            </a:br>
            <a:br>
              <a:rPr sz="2000"/>
            </a:br>
            <a:r>
              <a:rPr b="0" lang="en-GB" sz="1600" spc="-1" strike="noStrike">
                <a:solidFill>
                  <a:srgbClr val="808080"/>
                </a:solidFill>
                <a:latin typeface="Arial"/>
                <a:ea typeface="Arial"/>
              </a:rPr>
              <a:t>Christoph von Stec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34920" y="3538440"/>
            <a:ext cx="504720" cy="1778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-65880" y="3659040"/>
            <a:ext cx="703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b2b2b2"/>
                </a:solidFill>
                <a:latin typeface="Arial"/>
                <a:ea typeface="ＭＳ Ｐゴシック"/>
              </a:rPr>
              <a:t>johnthescon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G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G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e2631"/>
                </a:solidFill>
                <a:latin typeface="Arial"/>
              </a:rPr>
              <a:t>WG I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EX (WG I + I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AR5 WG III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10000" y="5781600"/>
            <a:ext cx="4734000" cy="96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ounded Rectangle 9"/>
          <p:cNvSpPr/>
          <p:nvPr/>
        </p:nvSpPr>
        <p:spPr>
          <a:xfrm>
            <a:off x="250920" y="5425920"/>
            <a:ext cx="8642160" cy="132588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ounded Rectangle 9"/>
          <p:cNvSpPr/>
          <p:nvPr/>
        </p:nvSpPr>
        <p:spPr>
          <a:xfrm>
            <a:off x="276120" y="874800"/>
            <a:ext cx="8672760" cy="29844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170160" y="855720"/>
            <a:ext cx="2648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 Introductory Chap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709120" y="77760"/>
            <a:ext cx="4190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3FF9703-807C-44A5-B9F0-F0920039258C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ounded Rectangle 9"/>
          <p:cNvSpPr/>
          <p:nvPr/>
        </p:nvSpPr>
        <p:spPr>
          <a:xfrm>
            <a:off x="249120" y="1301760"/>
            <a:ext cx="8726760" cy="119052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170160" y="1285920"/>
            <a:ext cx="56419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 Integrated Risk and Uncertainty Assessment of 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Climate Change Response Polic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  Social, Economic and Ethical Concepts and Method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.  Sustainable Development and Equ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ounded Rectangle 9"/>
          <p:cNvSpPr/>
          <p:nvPr/>
        </p:nvSpPr>
        <p:spPr>
          <a:xfrm>
            <a:off x="250920" y="2637000"/>
            <a:ext cx="8718480" cy="264636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164040" y="2589120"/>
            <a:ext cx="6157800" cy="27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  Drivers, Trends and Mitig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.  Assessing Transformation Pathway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.  Energy Syste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.  Transpor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.  Building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  Indust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.  Agriculture, Forestry and Other Land Use (AFOLU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.  Human Settlements, Infrastructure and Spatial Plann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165480" y="5442120"/>
            <a:ext cx="611172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3.  International Cooperation: Agreements and Instrum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4.  Regional Development and Coope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5.  National and Sub-national Policies and Institu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6.  Cross-cutting Investment and Finance Issu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29680" y="5670720"/>
            <a:ext cx="3073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V: Assessment of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Policies, Institutions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and 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72160" y="3478320"/>
            <a:ext cx="2454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II: Pathways for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Mitigating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Climat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5640" y="1666800"/>
            <a:ext cx="23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I: Framing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74040" y="820800"/>
            <a:ext cx="18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: </a:t>
            </a: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455760" y="1600200"/>
            <a:ext cx="823104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w Stabilisation Scenarios which identify the technical and institutional requiremen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loring the costs, benefits and risks of all relevant mitigation op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ntifying differential impacts and develop a classification of risks comprising tipping points in the natural environment and also in socie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The Research Challenge of WG 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65226C4-CA65-4B40-B50F-D4568D30D3FB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Comprehensive Understanding of Solution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2"/>
          <p:cNvGrpSpPr/>
          <p:nvPr/>
        </p:nvGrpSpPr>
        <p:grpSpPr>
          <a:xfrm>
            <a:off x="2233440" y="1758960"/>
            <a:ext cx="1260360" cy="934920"/>
            <a:chOff x="2233440" y="1758960"/>
            <a:chExt cx="1260360" cy="934920"/>
          </a:xfrm>
        </p:grpSpPr>
        <p:sp>
          <p:nvSpPr>
            <p:cNvPr id="281" name="AutoShape 3"/>
            <p:cNvSpPr/>
            <p:nvPr/>
          </p:nvSpPr>
          <p:spPr>
            <a:xfrm>
              <a:off x="2233440" y="1758960"/>
              <a:ext cx="1260360" cy="93492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4"/>
            <p:cNvSpPr/>
            <p:nvPr/>
          </p:nvSpPr>
          <p:spPr>
            <a:xfrm>
              <a:off x="2233440" y="1758960"/>
              <a:ext cx="126036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er Capita Produ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AutoShape 3"/>
          <p:cNvSpPr/>
          <p:nvPr/>
        </p:nvSpPr>
        <p:spPr>
          <a:xfrm>
            <a:off x="3933720" y="5049720"/>
            <a:ext cx="1025640" cy="78912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di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8"/>
          <p:cNvSpPr/>
          <p:nvPr/>
        </p:nvSpPr>
        <p:spPr>
          <a:xfrm>
            <a:off x="1319400" y="4548240"/>
            <a:ext cx="10584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9"/>
          <p:cNvSpPr/>
          <p:nvPr/>
        </p:nvSpPr>
        <p:spPr>
          <a:xfrm>
            <a:off x="1827360" y="4876920"/>
            <a:ext cx="10584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30"/>
          <p:cNvGrpSpPr/>
          <p:nvPr/>
        </p:nvGrpSpPr>
        <p:grpSpPr>
          <a:xfrm>
            <a:off x="825480" y="3726000"/>
            <a:ext cx="1257120" cy="1027080"/>
            <a:chOff x="825480" y="3726000"/>
            <a:chExt cx="1257120" cy="1027080"/>
          </a:xfrm>
        </p:grpSpPr>
        <p:sp>
          <p:nvSpPr>
            <p:cNvPr id="287" name="AutoShape 31"/>
            <p:cNvSpPr/>
            <p:nvPr/>
          </p:nvSpPr>
          <p:spPr>
            <a:xfrm>
              <a:off x="825480" y="3726000"/>
              <a:ext cx="1257120" cy="1027080"/>
            </a:xfrm>
            <a:prstGeom prst="roundRect">
              <a:avLst>
                <a:gd name="adj" fmla="val 153"/>
              </a:avLst>
            </a:prstGeom>
            <a:solidFill>
              <a:srgbClr val="c0c0c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32"/>
            <p:cNvSpPr/>
            <p:nvPr/>
          </p:nvSpPr>
          <p:spPr>
            <a:xfrm>
              <a:off x="922320" y="3997080"/>
              <a:ext cx="1132200" cy="483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</a:t>
              </a:r>
              <a:r>
                <a:rPr b="1" lang="en-GB" sz="1600" spc="-1" strike="noStrike" baseline="-25000">
                  <a:solidFill>
                    <a:srgbClr val="000000"/>
                  </a:solidFill>
                  <a:latin typeface="Arial"/>
                  <a:ea typeface="ＭＳ Ｐゴシック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miss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33"/>
          <p:cNvGrpSpPr/>
          <p:nvPr/>
        </p:nvGrpSpPr>
        <p:grpSpPr>
          <a:xfrm>
            <a:off x="817560" y="5106960"/>
            <a:ext cx="1240920" cy="682560"/>
            <a:chOff x="817560" y="5106960"/>
            <a:chExt cx="1240920" cy="682560"/>
          </a:xfrm>
        </p:grpSpPr>
        <p:sp>
          <p:nvSpPr>
            <p:cNvPr id="290" name="AutoShape 34"/>
            <p:cNvSpPr/>
            <p:nvPr/>
          </p:nvSpPr>
          <p:spPr>
            <a:xfrm>
              <a:off x="817560" y="5106960"/>
              <a:ext cx="1240920" cy="682560"/>
            </a:xfrm>
            <a:prstGeom prst="roundRect">
              <a:avLst>
                <a:gd name="adj" fmla="val 153"/>
              </a:avLst>
            </a:prstGeom>
            <a:solidFill>
              <a:srgbClr val="c0c0c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35"/>
            <p:cNvSpPr/>
            <p:nvPr/>
          </p:nvSpPr>
          <p:spPr>
            <a:xfrm>
              <a:off x="905040" y="5218560"/>
              <a:ext cx="1125720" cy="452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ther GH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miss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Line 43"/>
          <p:cNvSpPr/>
          <p:nvPr/>
        </p:nvSpPr>
        <p:spPr>
          <a:xfrm>
            <a:off x="3867120" y="2131920"/>
            <a:ext cx="5238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Group 13"/>
          <p:cNvGrpSpPr/>
          <p:nvPr/>
        </p:nvGrpSpPr>
        <p:grpSpPr>
          <a:xfrm>
            <a:off x="874800" y="1758960"/>
            <a:ext cx="1144440" cy="931680"/>
            <a:chOff x="874800" y="1758960"/>
            <a:chExt cx="1144440" cy="931680"/>
          </a:xfrm>
        </p:grpSpPr>
        <p:sp>
          <p:nvSpPr>
            <p:cNvPr id="294" name="AutoShape 14"/>
            <p:cNvSpPr/>
            <p:nvPr/>
          </p:nvSpPr>
          <p:spPr>
            <a:xfrm>
              <a:off x="874800" y="1758960"/>
              <a:ext cx="1144440" cy="93168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15"/>
            <p:cNvSpPr/>
            <p:nvPr/>
          </p:nvSpPr>
          <p:spPr>
            <a:xfrm>
              <a:off x="874800" y="2000520"/>
              <a:ext cx="114444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opul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2"/>
          <p:cNvGrpSpPr/>
          <p:nvPr/>
        </p:nvGrpSpPr>
        <p:grpSpPr>
          <a:xfrm>
            <a:off x="3713040" y="1773360"/>
            <a:ext cx="1204920" cy="923760"/>
            <a:chOff x="3713040" y="1773360"/>
            <a:chExt cx="1204920" cy="923760"/>
          </a:xfrm>
        </p:grpSpPr>
        <p:sp>
          <p:nvSpPr>
            <p:cNvPr id="297" name="AutoShape 3"/>
            <p:cNvSpPr/>
            <p:nvPr/>
          </p:nvSpPr>
          <p:spPr>
            <a:xfrm>
              <a:off x="3713040" y="1773360"/>
              <a:ext cx="1204920" cy="92376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4"/>
            <p:cNvSpPr/>
            <p:nvPr/>
          </p:nvSpPr>
          <p:spPr>
            <a:xfrm>
              <a:off x="3713040" y="1773360"/>
              <a:ext cx="120492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nergy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tensity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5"/>
          <p:cNvGrpSpPr/>
          <p:nvPr/>
        </p:nvGrpSpPr>
        <p:grpSpPr>
          <a:xfrm>
            <a:off x="5154480" y="1774800"/>
            <a:ext cx="1204920" cy="922320"/>
            <a:chOff x="5154480" y="1774800"/>
            <a:chExt cx="1204920" cy="922320"/>
          </a:xfrm>
        </p:grpSpPr>
        <p:sp>
          <p:nvSpPr>
            <p:cNvPr id="300" name="AutoShape 6"/>
            <p:cNvSpPr/>
            <p:nvPr/>
          </p:nvSpPr>
          <p:spPr>
            <a:xfrm>
              <a:off x="5154480" y="1774800"/>
              <a:ext cx="1204920" cy="92232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7"/>
            <p:cNvSpPr/>
            <p:nvPr/>
          </p:nvSpPr>
          <p:spPr>
            <a:xfrm>
              <a:off x="5154480" y="1774800"/>
              <a:ext cx="120492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arbon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tens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8"/>
          <p:cNvGrpSpPr/>
          <p:nvPr/>
        </p:nvGrpSpPr>
        <p:grpSpPr>
          <a:xfrm>
            <a:off x="6621480" y="1757520"/>
            <a:ext cx="1392120" cy="972360"/>
            <a:chOff x="6621480" y="1757520"/>
            <a:chExt cx="1392120" cy="972360"/>
          </a:xfrm>
        </p:grpSpPr>
        <p:sp>
          <p:nvSpPr>
            <p:cNvPr id="303" name="AutoShape 9"/>
            <p:cNvSpPr/>
            <p:nvPr/>
          </p:nvSpPr>
          <p:spPr>
            <a:xfrm>
              <a:off x="6635520" y="1757520"/>
              <a:ext cx="1378080" cy="93492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10"/>
            <p:cNvSpPr/>
            <p:nvPr/>
          </p:nvSpPr>
          <p:spPr>
            <a:xfrm>
              <a:off x="6621480" y="1770120"/>
              <a:ext cx="1377720" cy="95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</a:t>
              </a:r>
              <a:r>
                <a:rPr b="1" lang="en-GB" sz="1600" spc="-1" strike="noStrike" baseline="-25000">
                  <a:solidFill>
                    <a:srgbClr val="000000"/>
                  </a:solidFill>
                  <a:latin typeface="Arial"/>
                  <a:ea typeface="ＭＳ Ｐゴシック"/>
                </a:rPr>
                <a:t>2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eleas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5" name="Straight Arrow Connector 61"/>
          <p:cNvCxnSpPr/>
          <p:nvPr/>
        </p:nvCxnSpPr>
        <p:spPr>
          <a:xfrm flipH="1">
            <a:off x="970920" y="2725200"/>
            <a:ext cx="13320" cy="90900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6" name="Straight Arrow Connector 63"/>
          <p:cNvCxnSpPr/>
          <p:nvPr/>
        </p:nvCxnSpPr>
        <p:spPr>
          <a:xfrm flipH="1">
            <a:off x="1122120" y="2733480"/>
            <a:ext cx="1410480" cy="875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7" name="Straight Arrow Connector 64"/>
          <p:cNvCxnSpPr/>
          <p:nvPr/>
        </p:nvCxnSpPr>
        <p:spPr>
          <a:xfrm flipH="1">
            <a:off x="1385640" y="2730240"/>
            <a:ext cx="2674080" cy="8737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8" name="Straight Arrow Connector 65"/>
          <p:cNvCxnSpPr/>
          <p:nvPr/>
        </p:nvCxnSpPr>
        <p:spPr>
          <a:xfrm flipH="1">
            <a:off x="1809720" y="2730600"/>
            <a:ext cx="3951720" cy="88344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9" name="Straight Arrow Connector 66"/>
          <p:cNvCxnSpPr/>
          <p:nvPr/>
        </p:nvCxnSpPr>
        <p:spPr>
          <a:xfrm flipH="1">
            <a:off x="2179440" y="2728800"/>
            <a:ext cx="5202720" cy="98208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0" name="Straight Arrow Connector 82"/>
          <p:cNvCxnSpPr/>
          <p:nvPr/>
        </p:nvCxnSpPr>
        <p:spPr>
          <a:xfrm>
            <a:off x="4992840" y="5433840"/>
            <a:ext cx="614880" cy="57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1" name="Straight Arrow Connector 92"/>
          <p:cNvCxnSpPr/>
          <p:nvPr/>
        </p:nvCxnSpPr>
        <p:spPr>
          <a:xfrm>
            <a:off x="2118960" y="5435640"/>
            <a:ext cx="1756440" cy="1008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2" name="Straight Arrow Connector 116"/>
          <p:cNvCxnSpPr/>
          <p:nvPr/>
        </p:nvCxnSpPr>
        <p:spPr>
          <a:xfrm flipV="1">
            <a:off x="4560840" y="4014000"/>
            <a:ext cx="1008720" cy="39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3" name="AutoShape 6"/>
          <p:cNvSpPr/>
          <p:nvPr/>
        </p:nvSpPr>
        <p:spPr>
          <a:xfrm>
            <a:off x="5613480" y="3686040"/>
            <a:ext cx="1341360" cy="75276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e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id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6"/>
          <p:cNvSpPr/>
          <p:nvPr/>
        </p:nvSpPr>
        <p:spPr>
          <a:xfrm>
            <a:off x="5614920" y="5062680"/>
            <a:ext cx="1366920" cy="76968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m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706800" y="2330280"/>
            <a:ext cx="1254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CO</a:t>
            </a:r>
            <a:r>
              <a:rPr b="1" lang="en-GB" sz="1600" spc="-1" strike="noStrike" baseline="-25000">
                <a:solidFill>
                  <a:srgbClr val="800000"/>
                </a:solidFill>
                <a:latin typeface="Arial"/>
                <a:ea typeface="ＭＳ Ｐゴシック"/>
              </a:rPr>
              <a:t>2</a:t>
            </a: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(A)/CO</a:t>
            </a:r>
            <a:r>
              <a:rPr b="1" lang="en-GB" sz="1600" spc="-1" strike="noStrike" baseline="-25000">
                <a:solidFill>
                  <a:srgbClr val="800000"/>
                </a:solidFill>
                <a:latin typeface="Arial"/>
                <a:ea typeface="ＭＳ Ｐゴシック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333760" y="2330280"/>
            <a:ext cx="85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CO</a:t>
            </a:r>
            <a:r>
              <a:rPr b="1" lang="en-GB" sz="1600" spc="-1" strike="noStrike" baseline="-25000">
                <a:solidFill>
                  <a:srgbClr val="800000"/>
                </a:solidFill>
                <a:latin typeface="Arial"/>
                <a:ea typeface="ＭＳ Ｐゴシック"/>
              </a:rPr>
              <a:t>2</a:t>
            </a: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 /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89080" y="23353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E / G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282760" y="2341440"/>
            <a:ext cx="1177920" cy="3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GDP / P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181160" y="233532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P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0" name="Straight Arrow Connector 116"/>
          <p:cNvCxnSpPr/>
          <p:nvPr/>
        </p:nvCxnSpPr>
        <p:spPr>
          <a:xfrm>
            <a:off x="4186080" y="4354560"/>
            <a:ext cx="462960" cy="6451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1" name="AutoShape 6"/>
          <p:cNvSpPr/>
          <p:nvPr/>
        </p:nvSpPr>
        <p:spPr>
          <a:xfrm>
            <a:off x="2716200" y="3713040"/>
            <a:ext cx="1790640" cy="59544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rbon 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2" name="Straight Arrow Connector 84"/>
          <p:cNvCxnSpPr/>
          <p:nvPr/>
        </p:nvCxnSpPr>
        <p:spPr>
          <a:xfrm flipV="1">
            <a:off x="2135160" y="4012560"/>
            <a:ext cx="550080" cy="684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3" name="AutoShape 6"/>
          <p:cNvSpPr/>
          <p:nvPr/>
        </p:nvSpPr>
        <p:spPr>
          <a:xfrm>
            <a:off x="7512120" y="4321080"/>
            <a:ext cx="1233360" cy="752400"/>
          </a:xfrm>
          <a:prstGeom prst="roundRect">
            <a:avLst>
              <a:gd name="adj" fmla="val 153"/>
            </a:avLst>
          </a:prstGeom>
          <a:solidFill>
            <a:srgbClr val="ff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a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4" name="Straight Arrow Connector 81"/>
          <p:cNvCxnSpPr/>
          <p:nvPr/>
        </p:nvCxnSpPr>
        <p:spPr>
          <a:xfrm>
            <a:off x="7002000" y="4040280"/>
            <a:ext cx="438840" cy="5367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5" name="Straight Arrow Connector 81"/>
          <p:cNvCxnSpPr/>
          <p:nvPr/>
        </p:nvCxnSpPr>
        <p:spPr>
          <a:xfrm flipV="1">
            <a:off x="7040520" y="4804920"/>
            <a:ext cx="426240" cy="6199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6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5F6F4A9-130F-4B60-8A1E-76E13F273CEF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Assessing the Solution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2"/>
          <p:cNvGrpSpPr/>
          <p:nvPr/>
        </p:nvGrpSpPr>
        <p:grpSpPr>
          <a:xfrm>
            <a:off x="2233440" y="1762200"/>
            <a:ext cx="1260360" cy="934920"/>
            <a:chOff x="2233440" y="1762200"/>
            <a:chExt cx="1260360" cy="934920"/>
          </a:xfrm>
        </p:grpSpPr>
        <p:sp>
          <p:nvSpPr>
            <p:cNvPr id="329" name="AutoShape 3"/>
            <p:cNvSpPr/>
            <p:nvPr/>
          </p:nvSpPr>
          <p:spPr>
            <a:xfrm>
              <a:off x="2233440" y="1762200"/>
              <a:ext cx="1260360" cy="93492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4"/>
            <p:cNvSpPr/>
            <p:nvPr/>
          </p:nvSpPr>
          <p:spPr>
            <a:xfrm>
              <a:off x="2233440" y="1762200"/>
              <a:ext cx="126036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er Capita Produ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AutoShape 3"/>
          <p:cNvSpPr/>
          <p:nvPr/>
        </p:nvSpPr>
        <p:spPr>
          <a:xfrm>
            <a:off x="3933720" y="5052960"/>
            <a:ext cx="1025640" cy="78912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di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8"/>
          <p:cNvSpPr/>
          <p:nvPr/>
        </p:nvSpPr>
        <p:spPr>
          <a:xfrm>
            <a:off x="1319400" y="4551480"/>
            <a:ext cx="10584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9"/>
          <p:cNvSpPr/>
          <p:nvPr/>
        </p:nvSpPr>
        <p:spPr>
          <a:xfrm>
            <a:off x="1827360" y="4879800"/>
            <a:ext cx="10584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30"/>
          <p:cNvGrpSpPr/>
          <p:nvPr/>
        </p:nvGrpSpPr>
        <p:grpSpPr>
          <a:xfrm>
            <a:off x="825480" y="3728880"/>
            <a:ext cx="1257120" cy="1027080"/>
            <a:chOff x="825480" y="3728880"/>
            <a:chExt cx="1257120" cy="1027080"/>
          </a:xfrm>
        </p:grpSpPr>
        <p:sp>
          <p:nvSpPr>
            <p:cNvPr id="335" name="AutoShape 31"/>
            <p:cNvSpPr/>
            <p:nvPr/>
          </p:nvSpPr>
          <p:spPr>
            <a:xfrm>
              <a:off x="825480" y="3728880"/>
              <a:ext cx="1257120" cy="1027080"/>
            </a:xfrm>
            <a:prstGeom prst="roundRect">
              <a:avLst>
                <a:gd name="adj" fmla="val 153"/>
              </a:avLst>
            </a:prstGeom>
            <a:solidFill>
              <a:srgbClr val="c0c0c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32"/>
            <p:cNvSpPr/>
            <p:nvPr/>
          </p:nvSpPr>
          <p:spPr>
            <a:xfrm>
              <a:off x="922320" y="3999960"/>
              <a:ext cx="1132200" cy="483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</a:t>
              </a:r>
              <a:r>
                <a:rPr b="1" lang="en-GB" sz="1600" spc="-1" strike="noStrike" baseline="-25000">
                  <a:solidFill>
                    <a:srgbClr val="000000"/>
                  </a:solidFill>
                  <a:latin typeface="Arial"/>
                  <a:ea typeface="ＭＳ Ｐゴシック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miss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Group 33"/>
          <p:cNvGrpSpPr/>
          <p:nvPr/>
        </p:nvGrpSpPr>
        <p:grpSpPr>
          <a:xfrm>
            <a:off x="817560" y="5110200"/>
            <a:ext cx="1240920" cy="682560"/>
            <a:chOff x="817560" y="5110200"/>
            <a:chExt cx="1240920" cy="682560"/>
          </a:xfrm>
        </p:grpSpPr>
        <p:sp>
          <p:nvSpPr>
            <p:cNvPr id="338" name="AutoShape 34"/>
            <p:cNvSpPr/>
            <p:nvPr/>
          </p:nvSpPr>
          <p:spPr>
            <a:xfrm>
              <a:off x="817560" y="5110200"/>
              <a:ext cx="1240920" cy="682560"/>
            </a:xfrm>
            <a:prstGeom prst="roundRect">
              <a:avLst>
                <a:gd name="adj" fmla="val 153"/>
              </a:avLst>
            </a:prstGeom>
            <a:solidFill>
              <a:srgbClr val="c0c0c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35"/>
            <p:cNvSpPr/>
            <p:nvPr/>
          </p:nvSpPr>
          <p:spPr>
            <a:xfrm>
              <a:off x="905040" y="5221800"/>
              <a:ext cx="1125720" cy="452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ther GH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miss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Line 43"/>
          <p:cNvSpPr/>
          <p:nvPr/>
        </p:nvSpPr>
        <p:spPr>
          <a:xfrm>
            <a:off x="3867120" y="2135160"/>
            <a:ext cx="5238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13"/>
          <p:cNvGrpSpPr/>
          <p:nvPr/>
        </p:nvGrpSpPr>
        <p:grpSpPr>
          <a:xfrm>
            <a:off x="874800" y="1762200"/>
            <a:ext cx="1144440" cy="931680"/>
            <a:chOff x="874800" y="1762200"/>
            <a:chExt cx="1144440" cy="931680"/>
          </a:xfrm>
        </p:grpSpPr>
        <p:sp>
          <p:nvSpPr>
            <p:cNvPr id="342" name="AutoShape 14"/>
            <p:cNvSpPr/>
            <p:nvPr/>
          </p:nvSpPr>
          <p:spPr>
            <a:xfrm>
              <a:off x="874800" y="1762200"/>
              <a:ext cx="1144440" cy="93168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15"/>
            <p:cNvSpPr/>
            <p:nvPr/>
          </p:nvSpPr>
          <p:spPr>
            <a:xfrm>
              <a:off x="874800" y="2003760"/>
              <a:ext cx="114444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opul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2"/>
          <p:cNvGrpSpPr/>
          <p:nvPr/>
        </p:nvGrpSpPr>
        <p:grpSpPr>
          <a:xfrm>
            <a:off x="3713040" y="1776240"/>
            <a:ext cx="1204920" cy="924120"/>
            <a:chOff x="3713040" y="1776240"/>
            <a:chExt cx="1204920" cy="924120"/>
          </a:xfrm>
        </p:grpSpPr>
        <p:sp>
          <p:nvSpPr>
            <p:cNvPr id="345" name="AutoShape 3"/>
            <p:cNvSpPr/>
            <p:nvPr/>
          </p:nvSpPr>
          <p:spPr>
            <a:xfrm>
              <a:off x="3713040" y="1776240"/>
              <a:ext cx="1204920" cy="92412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4"/>
            <p:cNvSpPr/>
            <p:nvPr/>
          </p:nvSpPr>
          <p:spPr>
            <a:xfrm>
              <a:off x="3713040" y="1776240"/>
              <a:ext cx="120492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nergy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tensity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Group 5"/>
          <p:cNvGrpSpPr/>
          <p:nvPr/>
        </p:nvGrpSpPr>
        <p:grpSpPr>
          <a:xfrm>
            <a:off x="5154480" y="1778040"/>
            <a:ext cx="1204920" cy="922320"/>
            <a:chOff x="5154480" y="1778040"/>
            <a:chExt cx="1204920" cy="922320"/>
          </a:xfrm>
        </p:grpSpPr>
        <p:sp>
          <p:nvSpPr>
            <p:cNvPr id="348" name="AutoShape 6"/>
            <p:cNvSpPr/>
            <p:nvPr/>
          </p:nvSpPr>
          <p:spPr>
            <a:xfrm>
              <a:off x="5154480" y="1778040"/>
              <a:ext cx="1204920" cy="92232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7"/>
            <p:cNvSpPr/>
            <p:nvPr/>
          </p:nvSpPr>
          <p:spPr>
            <a:xfrm>
              <a:off x="5154480" y="1778040"/>
              <a:ext cx="120492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arbon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tens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Group 8"/>
          <p:cNvGrpSpPr/>
          <p:nvPr/>
        </p:nvGrpSpPr>
        <p:grpSpPr>
          <a:xfrm>
            <a:off x="6621480" y="1760400"/>
            <a:ext cx="1392120" cy="972360"/>
            <a:chOff x="6621480" y="1760400"/>
            <a:chExt cx="1392120" cy="972360"/>
          </a:xfrm>
        </p:grpSpPr>
        <p:sp>
          <p:nvSpPr>
            <p:cNvPr id="351" name="AutoShape 9"/>
            <p:cNvSpPr/>
            <p:nvPr/>
          </p:nvSpPr>
          <p:spPr>
            <a:xfrm>
              <a:off x="6635520" y="1760400"/>
              <a:ext cx="1378080" cy="93528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10"/>
            <p:cNvSpPr/>
            <p:nvPr/>
          </p:nvSpPr>
          <p:spPr>
            <a:xfrm>
              <a:off x="6621480" y="1773000"/>
              <a:ext cx="1377720" cy="95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</a:t>
              </a:r>
              <a:r>
                <a:rPr b="1" lang="en-GB" sz="1600" spc="-1" strike="noStrike" baseline="-25000">
                  <a:solidFill>
                    <a:srgbClr val="000000"/>
                  </a:solidFill>
                  <a:latin typeface="Arial"/>
                  <a:ea typeface="ＭＳ Ｐゴシック"/>
                </a:rPr>
                <a:t>2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eleas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53" name="Straight Arrow Connector 61"/>
          <p:cNvCxnSpPr/>
          <p:nvPr/>
        </p:nvCxnSpPr>
        <p:spPr>
          <a:xfrm flipH="1">
            <a:off x="970920" y="2728440"/>
            <a:ext cx="13320" cy="90900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4" name="Straight Arrow Connector 63"/>
          <p:cNvCxnSpPr/>
          <p:nvPr/>
        </p:nvCxnSpPr>
        <p:spPr>
          <a:xfrm flipH="1">
            <a:off x="1122120" y="2736720"/>
            <a:ext cx="1410480" cy="8755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5" name="Straight Arrow Connector 64"/>
          <p:cNvCxnSpPr/>
          <p:nvPr/>
        </p:nvCxnSpPr>
        <p:spPr>
          <a:xfrm flipH="1">
            <a:off x="1385640" y="2733480"/>
            <a:ext cx="2674080" cy="8737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6" name="Straight Arrow Connector 65"/>
          <p:cNvCxnSpPr/>
          <p:nvPr/>
        </p:nvCxnSpPr>
        <p:spPr>
          <a:xfrm flipH="1">
            <a:off x="1809720" y="2733480"/>
            <a:ext cx="3951720" cy="88308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7" name="Straight Arrow Connector 66"/>
          <p:cNvCxnSpPr/>
          <p:nvPr/>
        </p:nvCxnSpPr>
        <p:spPr>
          <a:xfrm flipH="1">
            <a:off x="2179440" y="2731680"/>
            <a:ext cx="5202720" cy="9817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8" name="Straight Arrow Connector 82"/>
          <p:cNvCxnSpPr/>
          <p:nvPr/>
        </p:nvCxnSpPr>
        <p:spPr>
          <a:xfrm>
            <a:off x="4992840" y="5437080"/>
            <a:ext cx="614880" cy="57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9" name="Straight Arrow Connector 92"/>
          <p:cNvCxnSpPr/>
          <p:nvPr/>
        </p:nvCxnSpPr>
        <p:spPr>
          <a:xfrm>
            <a:off x="2118960" y="5438880"/>
            <a:ext cx="1756440" cy="1008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60" name="Straight Arrow Connector 116"/>
          <p:cNvCxnSpPr/>
          <p:nvPr/>
        </p:nvCxnSpPr>
        <p:spPr>
          <a:xfrm flipV="1">
            <a:off x="4560840" y="4017240"/>
            <a:ext cx="1008720" cy="39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61" name="AutoShape 35"/>
          <p:cNvSpPr/>
          <p:nvPr/>
        </p:nvSpPr>
        <p:spPr>
          <a:xfrm>
            <a:off x="6635880" y="841320"/>
            <a:ext cx="1712880" cy="71928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aptu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 Plant (CC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35"/>
          <p:cNvSpPr/>
          <p:nvPr/>
        </p:nvSpPr>
        <p:spPr>
          <a:xfrm>
            <a:off x="3097080" y="841320"/>
            <a:ext cx="1791000" cy="71928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fe-Style 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chnolog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35"/>
          <p:cNvSpPr/>
          <p:nvPr/>
        </p:nvSpPr>
        <p:spPr>
          <a:xfrm>
            <a:off x="5154480" y="841320"/>
            <a:ext cx="1233720" cy="71928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n-Fossi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er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4" name="Straight Arrow Connector 139"/>
          <p:cNvCxnSpPr/>
          <p:nvPr/>
        </p:nvCxnSpPr>
        <p:spPr>
          <a:xfrm flipV="1">
            <a:off x="5771880" y="1496520"/>
            <a:ext cx="1080" cy="280080"/>
          </a:xfrm>
          <a:prstGeom prst="straightConnector1">
            <a:avLst/>
          </a:prstGeom>
          <a:ln w="28440">
            <a:solidFill>
              <a:srgbClr val="ff9933"/>
            </a:solidFill>
            <a:miter/>
            <a:headEnd len="lg" type="diamond" w="lg"/>
          </a:ln>
        </p:spPr>
      </p:cxnSp>
      <p:sp>
        <p:nvSpPr>
          <p:cNvPr id="365" name="AutoShape 6"/>
          <p:cNvSpPr/>
          <p:nvPr/>
        </p:nvSpPr>
        <p:spPr>
          <a:xfrm>
            <a:off x="5613480" y="3689280"/>
            <a:ext cx="1341360" cy="75240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e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id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6"/>
          <p:cNvSpPr/>
          <p:nvPr/>
        </p:nvSpPr>
        <p:spPr>
          <a:xfrm>
            <a:off x="5614920" y="5065560"/>
            <a:ext cx="1366920" cy="77004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m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7" name="Straight Arrow Connector 139"/>
          <p:cNvCxnSpPr/>
          <p:nvPr/>
        </p:nvCxnSpPr>
        <p:spPr>
          <a:xfrm flipV="1">
            <a:off x="7268760" y="1480680"/>
            <a:ext cx="1080" cy="280080"/>
          </a:xfrm>
          <a:prstGeom prst="straightConnector1">
            <a:avLst/>
          </a:prstGeom>
          <a:ln w="28440">
            <a:solidFill>
              <a:srgbClr val="ff9933"/>
            </a:solidFill>
            <a:miter/>
            <a:headEnd len="lg" type="diamond" w="lg"/>
          </a:ln>
        </p:spPr>
      </p:cxnSp>
      <p:cxnSp>
        <p:nvCxnSpPr>
          <p:cNvPr id="368" name="Straight Arrow Connector 139"/>
          <p:cNvCxnSpPr/>
          <p:nvPr/>
        </p:nvCxnSpPr>
        <p:spPr>
          <a:xfrm flipV="1">
            <a:off x="4244760" y="1496520"/>
            <a:ext cx="1080" cy="280080"/>
          </a:xfrm>
          <a:prstGeom prst="straightConnector1">
            <a:avLst/>
          </a:prstGeom>
          <a:ln w="28440">
            <a:solidFill>
              <a:srgbClr val="ff9933"/>
            </a:solidFill>
            <a:miter/>
            <a:headEnd len="lg" type="diamond" w="lg"/>
          </a:ln>
        </p:spPr>
      </p:cxnSp>
      <p:sp>
        <p:nvSpPr>
          <p:cNvPr id="369" name=""/>
          <p:cNvSpPr/>
          <p:nvPr/>
        </p:nvSpPr>
        <p:spPr>
          <a:xfrm>
            <a:off x="6706800" y="2333520"/>
            <a:ext cx="1254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CO</a:t>
            </a:r>
            <a:r>
              <a:rPr b="1" lang="en-GB" sz="1600" spc="-1" strike="noStrike" baseline="-25000">
                <a:solidFill>
                  <a:srgbClr val="800000"/>
                </a:solidFill>
                <a:latin typeface="Arial"/>
                <a:ea typeface="ＭＳ Ｐゴシック"/>
              </a:rPr>
              <a:t>2</a:t>
            </a: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(A)/CO</a:t>
            </a:r>
            <a:r>
              <a:rPr b="1" lang="en-GB" sz="1600" spc="-1" strike="noStrike" baseline="-25000">
                <a:solidFill>
                  <a:srgbClr val="800000"/>
                </a:solidFill>
                <a:latin typeface="Arial"/>
                <a:ea typeface="ＭＳ Ｐゴシック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333760" y="2333520"/>
            <a:ext cx="85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CO</a:t>
            </a:r>
            <a:r>
              <a:rPr b="1" lang="en-GB" sz="1600" spc="-1" strike="noStrike" baseline="-25000">
                <a:solidFill>
                  <a:srgbClr val="800000"/>
                </a:solidFill>
                <a:latin typeface="Arial"/>
                <a:ea typeface="ＭＳ Ｐゴシック"/>
              </a:rPr>
              <a:t>2</a:t>
            </a: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 /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889080" y="233856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E / G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282760" y="2344680"/>
            <a:ext cx="1177920" cy="3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GDP / P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181160" y="233856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P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Straight Arrow Connector 116"/>
          <p:cNvCxnSpPr/>
          <p:nvPr/>
        </p:nvCxnSpPr>
        <p:spPr>
          <a:xfrm>
            <a:off x="4186080" y="4357800"/>
            <a:ext cx="462960" cy="6451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75" name="AutoShape 6"/>
          <p:cNvSpPr/>
          <p:nvPr/>
        </p:nvSpPr>
        <p:spPr>
          <a:xfrm>
            <a:off x="2716200" y="3716280"/>
            <a:ext cx="1790640" cy="59544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rbon 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6" name="Straight Arrow Connector 84"/>
          <p:cNvCxnSpPr/>
          <p:nvPr/>
        </p:nvCxnSpPr>
        <p:spPr>
          <a:xfrm flipV="1">
            <a:off x="2135160" y="4015800"/>
            <a:ext cx="550080" cy="684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7" name="Straight Arrow Connector 134"/>
          <p:cNvCxnSpPr/>
          <p:nvPr/>
        </p:nvCxnSpPr>
        <p:spPr>
          <a:xfrm flipH="1" flipV="1">
            <a:off x="3450600" y="4312440"/>
            <a:ext cx="3960" cy="275400"/>
          </a:xfrm>
          <a:prstGeom prst="straightConnector1">
            <a:avLst/>
          </a:prstGeom>
          <a:ln w="28440">
            <a:solidFill>
              <a:srgbClr val="ff9933"/>
            </a:solidFill>
            <a:miter/>
            <a:tailEnd len="lg" type="diamond" w="lg"/>
          </a:ln>
        </p:spPr>
      </p:cxnSp>
      <p:sp>
        <p:nvSpPr>
          <p:cNvPr id="378" name="AutoShape 35"/>
          <p:cNvSpPr/>
          <p:nvPr/>
        </p:nvSpPr>
        <p:spPr>
          <a:xfrm>
            <a:off x="2732040" y="4446720"/>
            <a:ext cx="1295280" cy="50148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158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rb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9" name="Straight Arrow Connector 133"/>
          <p:cNvCxnSpPr/>
          <p:nvPr/>
        </p:nvCxnSpPr>
        <p:spPr>
          <a:xfrm flipH="1" flipV="1">
            <a:off x="1445400" y="5792040"/>
            <a:ext cx="3960" cy="275400"/>
          </a:xfrm>
          <a:prstGeom prst="straightConnector1">
            <a:avLst/>
          </a:prstGeom>
          <a:ln w="28440">
            <a:solidFill>
              <a:srgbClr val="ff9933"/>
            </a:solidFill>
            <a:miter/>
            <a:tailEnd len="lg" type="diamond" w="lg"/>
          </a:ln>
        </p:spPr>
      </p:cxnSp>
      <p:cxnSp>
        <p:nvCxnSpPr>
          <p:cNvPr id="380" name="Straight Arrow Connector 134"/>
          <p:cNvCxnSpPr/>
          <p:nvPr/>
        </p:nvCxnSpPr>
        <p:spPr>
          <a:xfrm flipH="1" flipV="1">
            <a:off x="4301280" y="5842800"/>
            <a:ext cx="3960" cy="275400"/>
          </a:xfrm>
          <a:prstGeom prst="straightConnector1">
            <a:avLst/>
          </a:prstGeom>
          <a:ln w="28440">
            <a:solidFill>
              <a:srgbClr val="ff9933"/>
            </a:solidFill>
            <a:miter/>
            <a:tailEnd len="lg" type="diamond" w="lg"/>
          </a:ln>
        </p:spPr>
      </p:cxnSp>
      <p:sp>
        <p:nvSpPr>
          <p:cNvPr id="381" name="AutoShape 35"/>
          <p:cNvSpPr/>
          <p:nvPr/>
        </p:nvSpPr>
        <p:spPr>
          <a:xfrm>
            <a:off x="814320" y="5996160"/>
            <a:ext cx="1712880" cy="45720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158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gricultu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actices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33"/>
          <p:cNvSpPr/>
          <p:nvPr/>
        </p:nvSpPr>
        <p:spPr>
          <a:xfrm flipV="1" rot="10800000">
            <a:off x="3201840" y="5996160"/>
            <a:ext cx="1756080" cy="46656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di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6"/>
          <p:cNvSpPr/>
          <p:nvPr/>
        </p:nvSpPr>
        <p:spPr>
          <a:xfrm>
            <a:off x="7512120" y="4324320"/>
            <a:ext cx="1233360" cy="752400"/>
          </a:xfrm>
          <a:prstGeom prst="roundRect">
            <a:avLst>
              <a:gd name="adj" fmla="val 153"/>
            </a:avLst>
          </a:prstGeom>
          <a:solidFill>
            <a:srgbClr val="ff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a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4" name="Straight Arrow Connector 81"/>
          <p:cNvCxnSpPr/>
          <p:nvPr/>
        </p:nvCxnSpPr>
        <p:spPr>
          <a:xfrm>
            <a:off x="7002000" y="4043520"/>
            <a:ext cx="438840" cy="5367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85" name="AutoShape 33"/>
          <p:cNvSpPr/>
          <p:nvPr/>
        </p:nvSpPr>
        <p:spPr>
          <a:xfrm flipV="1" rot="10800000">
            <a:off x="7294680" y="5439240"/>
            <a:ext cx="1482480" cy="32076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ap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6" name="Straight Arrow Connector 134"/>
          <p:cNvCxnSpPr/>
          <p:nvPr/>
        </p:nvCxnSpPr>
        <p:spPr>
          <a:xfrm flipH="1" flipV="1">
            <a:off x="8031960" y="5087520"/>
            <a:ext cx="2520" cy="357840"/>
          </a:xfrm>
          <a:prstGeom prst="straightConnector1">
            <a:avLst/>
          </a:prstGeom>
          <a:ln w="28440">
            <a:solidFill>
              <a:srgbClr val="ff9933"/>
            </a:solidFill>
            <a:miter/>
            <a:headEnd len="lg" type="diamond" w="lg"/>
          </a:ln>
        </p:spPr>
      </p:cxnSp>
      <p:cxnSp>
        <p:nvCxnSpPr>
          <p:cNvPr id="387" name="Straight Arrow Connector 81"/>
          <p:cNvCxnSpPr/>
          <p:nvPr/>
        </p:nvCxnSpPr>
        <p:spPr>
          <a:xfrm flipV="1">
            <a:off x="7040520" y="4808160"/>
            <a:ext cx="426240" cy="6199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8" name="Straight Arrow Connector 133"/>
          <p:cNvCxnSpPr/>
          <p:nvPr/>
        </p:nvCxnSpPr>
        <p:spPr>
          <a:xfrm flipH="1" flipV="1">
            <a:off x="366480" y="4142520"/>
            <a:ext cx="3600" cy="2164680"/>
          </a:xfrm>
          <a:prstGeom prst="straightConnector1">
            <a:avLst/>
          </a:prstGeom>
          <a:ln w="28440">
            <a:solidFill>
              <a:srgbClr val="ff9933"/>
            </a:solidFill>
            <a:miter/>
          </a:ln>
        </p:spPr>
      </p:cxnSp>
      <p:cxnSp>
        <p:nvCxnSpPr>
          <p:cNvPr id="389" name="Straight Arrow Connector 133"/>
          <p:cNvCxnSpPr/>
          <p:nvPr/>
        </p:nvCxnSpPr>
        <p:spPr>
          <a:xfrm>
            <a:off x="356760" y="4149720"/>
            <a:ext cx="469080" cy="7200"/>
          </a:xfrm>
          <a:prstGeom prst="straightConnector1">
            <a:avLst/>
          </a:prstGeom>
          <a:ln w="28440">
            <a:solidFill>
              <a:srgbClr val="ff9933"/>
            </a:solidFill>
            <a:miter/>
            <a:tailEnd len="lg" type="diamond" w="lg"/>
          </a:ln>
        </p:spPr>
      </p:cxnSp>
      <p:cxnSp>
        <p:nvCxnSpPr>
          <p:cNvPr id="390" name="Straight Arrow Connector 133"/>
          <p:cNvCxnSpPr/>
          <p:nvPr/>
        </p:nvCxnSpPr>
        <p:spPr>
          <a:xfrm flipV="1">
            <a:off x="358560" y="6306840"/>
            <a:ext cx="448200" cy="2160"/>
          </a:xfrm>
          <a:prstGeom prst="straightConnector1">
            <a:avLst/>
          </a:prstGeom>
          <a:ln w="28440">
            <a:solidFill>
              <a:srgbClr val="ff9933"/>
            </a:solidFill>
            <a:miter/>
          </a:ln>
        </p:spPr>
      </p:cxnSp>
      <p:sp>
        <p:nvSpPr>
          <p:cNvPr id="391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5FF7BE3-F586-4F4B-B038-9D2EB4E0611E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6"/>
          <p:cNvSpPr/>
          <p:nvPr/>
        </p:nvSpPr>
        <p:spPr>
          <a:xfrm>
            <a:off x="5724360" y="907920"/>
            <a:ext cx="3419640" cy="7038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ie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ope of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596360" y="2205000"/>
            <a:ext cx="36036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7380360" y="3213000"/>
            <a:ext cx="1763640" cy="124308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5580000" y="3213000"/>
            <a:ext cx="1763640" cy="124308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3"/>
          <a:stretch/>
        </p:blipFill>
        <p:spPr>
          <a:xfrm>
            <a:off x="5508720" y="1844640"/>
            <a:ext cx="1763640" cy="124308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4"/>
          <a:stretch/>
        </p:blipFill>
        <p:spPr>
          <a:xfrm>
            <a:off x="5580000" y="4653000"/>
            <a:ext cx="1763640" cy="124308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5"/>
          <a:stretch/>
        </p:blipFill>
        <p:spPr>
          <a:xfrm>
            <a:off x="7380360" y="1773360"/>
            <a:ext cx="1763640" cy="124272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6"/>
          <a:stretch/>
        </p:blipFill>
        <p:spPr>
          <a:xfrm>
            <a:off x="7365960" y="4653000"/>
            <a:ext cx="1778040" cy="1252440"/>
          </a:xfrm>
          <a:prstGeom prst="rect">
            <a:avLst/>
          </a:prstGeom>
          <a:ln w="0">
            <a:noFill/>
          </a:ln>
        </p:spPr>
      </p:pic>
      <p:sp>
        <p:nvSpPr>
          <p:cNvPr id="400" name="Text Box 6"/>
          <p:cNvSpPr/>
          <p:nvPr/>
        </p:nvSpPr>
        <p:spPr>
          <a:xfrm>
            <a:off x="826920" y="1576440"/>
            <a:ext cx="1441440" cy="7038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6"/>
          <p:cNvSpPr/>
          <p:nvPr/>
        </p:nvSpPr>
        <p:spPr>
          <a:xfrm>
            <a:off x="2627280" y="1557360"/>
            <a:ext cx="2376360" cy="703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oal-setting by poli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900000" y="2421000"/>
            <a:ext cx="1871640" cy="576360"/>
          </a:xfrm>
          <a:prstGeom prst="rightArrow">
            <a:avLst>
              <a:gd name="adj1" fmla="val 50000"/>
              <a:gd name="adj2" fmla="val 81184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635280" y="2421000"/>
            <a:ext cx="1871640" cy="576360"/>
          </a:xfrm>
          <a:prstGeom prst="rightArrow">
            <a:avLst>
              <a:gd name="adj1" fmla="val 50000"/>
              <a:gd name="adj2" fmla="val 8118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,5°C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635280" y="2565360"/>
            <a:ext cx="1871640" cy="576360"/>
          </a:xfrm>
          <a:prstGeom prst="rightArrow">
            <a:avLst>
              <a:gd name="adj1" fmla="val 50000"/>
              <a:gd name="adj2" fmla="val 8118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°C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rot="17358600">
            <a:off x="3312000" y="-783360"/>
            <a:ext cx="1512720" cy="4032000"/>
          </a:xfrm>
          <a:custGeom>
            <a:avLst/>
            <a:gdLst>
              <a:gd name="textAreaLeft" fmla="*/ 202680 w 1512720"/>
              <a:gd name="textAreaRight" fmla="*/ 1310040 w 1512720"/>
              <a:gd name="textAreaTop" fmla="*/ 793800 h 4032000"/>
              <a:gd name="textAreaBottom" fmla="*/ 2955960 h 40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508" stAng="-5400000" swAng="5400000"/>
                <a:lnTo>
                  <a:pt x="21600" y="11582"/>
                </a:lnTo>
                <a:arcTo wR="21600" hR="8508" stAng="0" swAng="2885237"/>
                <a:lnTo>
                  <a:pt x="7200" y="21113"/>
                </a:lnTo>
                <a:lnTo>
                  <a:pt x="0" y="18552"/>
                </a:lnTo>
                <a:lnTo>
                  <a:pt x="7200" y="15017"/>
                </a:lnTo>
                <a:lnTo>
                  <a:pt x="7200" y="16528"/>
                </a:lnTo>
                <a:arcTo wR="21600" hR="8508" stAng="2885237" swAng="-2636956"/>
                <a:lnTo>
                  <a:pt x="21245" y="10045"/>
                </a:lnTo>
                <a:arcTo wR="21600" hR="8508" stAng="-248281" swAng="-5151719"/>
                <a:close/>
              </a:path>
              <a:path fill="darkenLess" w="21600" h="21600">
                <a:moveTo>
                  <a:pt x="0" y="0"/>
                </a:moveTo>
                <a:arcTo wR="21600" hR="8508" stAng="-5400000" swAng="5400000"/>
                <a:lnTo>
                  <a:pt x="21600" y="11582"/>
                </a:lnTo>
                <a:arcTo wR="21600" hR="8508" stAng="0" swAng="-248281"/>
                <a:lnTo>
                  <a:pt x="21245" y="10045"/>
                </a:lnTo>
                <a:arcTo wR="21600" hR="8508" stAng="-248281" swAng="-5151719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Policy relevant but not policy prescriptive“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6565200">
            <a:off x="1703880" y="2145600"/>
            <a:ext cx="2362320" cy="5246640"/>
          </a:xfrm>
          <a:custGeom>
            <a:avLst/>
            <a:gdLst>
              <a:gd name="textAreaLeft" fmla="*/ 316440 w 2362320"/>
              <a:gd name="textAreaRight" fmla="*/ 2045880 w 2362320"/>
              <a:gd name="textAreaTop" fmla="*/ 1072440 h 5246640"/>
              <a:gd name="textAreaBottom" fmla="*/ 3649320 h 524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32" stAng="-5400000" swAng="5400000"/>
                <a:lnTo>
                  <a:pt x="21600" y="10608"/>
                </a:lnTo>
                <a:arcTo wR="21600" hR="8832" stAng="0" swAng="2949063"/>
                <a:lnTo>
                  <a:pt x="7200" y="21095"/>
                </a:lnTo>
                <a:lnTo>
                  <a:pt x="0" y="18552"/>
                </a:lnTo>
                <a:lnTo>
                  <a:pt x="7200" y="14999"/>
                </a:lnTo>
                <a:lnTo>
                  <a:pt x="7200" y="17159"/>
                </a:lnTo>
                <a:arcTo wR="21600" hR="8832" stAng="2949063" swAng="-2807095"/>
                <a:lnTo>
                  <a:pt x="21491" y="9720"/>
                </a:lnTo>
                <a:arcTo wR="21600" hR="8832" stAng="-141969" swAng="-5258031"/>
                <a:close/>
              </a:path>
              <a:path fill="darkenLess" w="21600" h="21600">
                <a:moveTo>
                  <a:pt x="0" y="0"/>
                </a:moveTo>
                <a:arcTo wR="21600" hR="8832" stAng="-5400000" swAng="5400000"/>
                <a:lnTo>
                  <a:pt x="21600" y="10608"/>
                </a:lnTo>
                <a:arcTo wR="21600" hR="8832" stAng="0" swAng="-141969"/>
                <a:lnTo>
                  <a:pt x="21491" y="9720"/>
                </a:lnTo>
                <a:arcTo wR="21600" hR="8832" stAng="-141969" swAng="-5258031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441440" y="4064040"/>
            <a:ext cx="403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uch as impacts from excessive use of biomass or geo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805800">
            <a:off x="1733760" y="5306760"/>
            <a:ext cx="302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onsider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f unintended side-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EX (WG I + I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Assessment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132000" y="5705640"/>
            <a:ext cx="60120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3C0F23E-C660-4CE5-B0C7-19794FF896B8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617400" y="808200"/>
            <a:ext cx="7743960" cy="547668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0" y="6583320"/>
            <a:ext cx="457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  <a:ea typeface="Arial Unicode MS"/>
              </a:rPr>
              <a:t>Modified from Graphic by John Weyant (2009)</a:t>
            </a:r>
            <a:r>
              <a:rPr b="0" lang="en-GB" sz="1200" spc="-1" strike="noStrike">
                <a:solidFill>
                  <a:srgbClr val="808080"/>
                </a:solidFill>
                <a:latin typeface="Arial"/>
                <a:ea typeface="Arial Unicode MS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3"/>
          <p:cNvSpPr/>
          <p:nvPr/>
        </p:nvSpPr>
        <p:spPr>
          <a:xfrm>
            <a:off x="328680" y="166680"/>
            <a:ext cx="8542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PCC Scenario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88A6EF7-A78C-4A3C-8573-E0756C4BEA91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880920" y="615960"/>
            <a:ext cx="7129440" cy="53467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31680" y="5478480"/>
            <a:ext cx="215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Integrated </a:t>
            </a:r>
            <a:br>
              <a:rPr sz="1400"/>
            </a:b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Assessment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101000" y="5581800"/>
            <a:ext cx="180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imate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835520" y="588960"/>
            <a:ext cx="196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6600"/>
                </a:solidFill>
                <a:latin typeface="Arial"/>
                <a:ea typeface="ＭＳ Ｐゴシック"/>
              </a:rPr>
              <a:t>Impact, Adaptation, Vuln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880920" y="615960"/>
            <a:ext cx="7135920" cy="535140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7235584-836A-46A6-A37B-100E131ADD7D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1680" y="5478480"/>
            <a:ext cx="215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Integrated </a:t>
            </a:r>
            <a:br>
              <a:rPr sz="1400"/>
            </a:b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Assessment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101000" y="5581800"/>
            <a:ext cx="180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imate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835520" y="588960"/>
            <a:ext cx="196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6600"/>
                </a:solidFill>
                <a:latin typeface="Arial"/>
                <a:ea typeface="ＭＳ Ｐゴシック"/>
              </a:rPr>
              <a:t>Impact, Adaptation, Vuln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328680" y="166680"/>
            <a:ext cx="8542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PCC Szenarienproz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68360" y="1268280"/>
            <a:ext cx="823104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On the request of IPCC Chairman Rajendra Pachauri and UN Secretary-General Ban Ki-mo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ed by InterAcademy Council (IAC).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view of IPCC principles, procedures, management structures and the IPCC scenario process (“honest broker“ role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report will be prepared for the IPCC Plenary in October 2010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Independent Review: Set Up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888840" y="623880"/>
            <a:ext cx="7118640" cy="533880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FED23F6-D02F-4734-A481-2D632DB9F625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1680" y="5478480"/>
            <a:ext cx="215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Integrated </a:t>
            </a:r>
            <a:br>
              <a:rPr sz="1400"/>
            </a:b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Assessment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101000" y="5581800"/>
            <a:ext cx="180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imate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835520" y="588960"/>
            <a:ext cx="196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6600"/>
                </a:solidFill>
                <a:latin typeface="Arial"/>
                <a:ea typeface="ＭＳ Ｐゴシック"/>
              </a:rPr>
              <a:t>Impact, Adaptation, Vuln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3"/>
          <p:cNvSpPr/>
          <p:nvPr/>
        </p:nvSpPr>
        <p:spPr>
          <a:xfrm>
            <a:off x="328680" y="166680"/>
            <a:ext cx="8542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PCC Szenarienproz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900000" y="636480"/>
            <a:ext cx="7104240" cy="532764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36F9E14-CC7C-4434-9F30-479E7924B32C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380960" y="2484360"/>
            <a:ext cx="184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1680" y="5478480"/>
            <a:ext cx="215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Integrated </a:t>
            </a:r>
            <a:br>
              <a:rPr sz="1400"/>
            </a:b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Assessment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101000" y="5581800"/>
            <a:ext cx="180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imate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835520" y="588960"/>
            <a:ext cx="196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6600"/>
                </a:solidFill>
                <a:latin typeface="Arial"/>
                <a:ea typeface="ＭＳ Ｐゴシック"/>
              </a:rPr>
              <a:t>Impact, Adaptation, Vuln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328680" y="166680"/>
            <a:ext cx="8542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PCC Szenarienproz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900000" y="625320"/>
            <a:ext cx="7131240" cy="534852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94A1CBC-398B-462B-8517-4479D2A889AA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1680" y="5478480"/>
            <a:ext cx="215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Integrated </a:t>
            </a:r>
            <a:br>
              <a:rPr sz="1400"/>
            </a:b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Assessment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101000" y="5581800"/>
            <a:ext cx="180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imate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835520" y="588960"/>
            <a:ext cx="196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6600"/>
                </a:solidFill>
                <a:latin typeface="Arial"/>
                <a:ea typeface="ＭＳ Ｐゴシック"/>
              </a:rPr>
              <a:t>Impact, Adaptation, Vuln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3"/>
          <p:cNvSpPr/>
          <p:nvPr/>
        </p:nvSpPr>
        <p:spPr>
          <a:xfrm>
            <a:off x="328680" y="166680"/>
            <a:ext cx="8542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PCC Szenarienproz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455760" y="1600200"/>
            <a:ext cx="868824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WGI / WGII Expert Meeting on Detection and Attribution related to Anthropogenic Climate Change (09/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WGI / WGII Expert Meeting on Assessing and Combining Multi-Model Climate Projections (01/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G II / WG II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t Meeting on Human Settlement and Infrastructure (postponed to early 20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WG II / WG III Workshop on Socioeconomic Scenarios for Climate Change Impact and Response Assessments (11/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WGI / WGII Expert Meeting on Impacts of Ocean Acidification on Marine Biology and Ecosystems (01/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WGII / WGIII Expert Meeting on Economic Analysis, Costing Methods, and Ethics (03/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Jointly Organized Meetings/Worksh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87FBA31-2301-49C1-8386-E28FCE507227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e2631"/>
                </a:solidFill>
                <a:latin typeface="Arial"/>
              </a:rPr>
              <a:t>SREX (WG I + II)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1" descr=""/>
          <p:cNvPicPr/>
          <p:nvPr/>
        </p:nvPicPr>
        <p:blipFill>
          <a:blip r:embed="rId1"/>
          <a:stretch/>
        </p:blipFill>
        <p:spPr>
          <a:xfrm>
            <a:off x="1116000" y="1066680"/>
            <a:ext cx="6912000" cy="496908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SREX: Managing the Risks of Extreme Events and Disasters to Advance Climate Change Adap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EX (WG I + I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e2631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3132000" y="5705640"/>
            <a:ext cx="60120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ounded Rectangle 9"/>
          <p:cNvSpPr/>
          <p:nvPr/>
        </p:nvSpPr>
        <p:spPr>
          <a:xfrm>
            <a:off x="179280" y="1916280"/>
            <a:ext cx="8713800" cy="230472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3"/>
          <p:cNvSpPr/>
          <p:nvPr/>
        </p:nvSpPr>
        <p:spPr>
          <a:xfrm>
            <a:off x="539640" y="1563840"/>
            <a:ext cx="79232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Renewable Energy and Climat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51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2.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Bioenerg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3.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Direct Solar Energ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4.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Geothermal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5.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Hydro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6.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Ocea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7.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Wind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125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8.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Integration of Renewable Energy into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Present and Future Energy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9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Renewable Energy in the Context of Sustainable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10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Mitigation Potential and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11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Policy, Financing and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250560" y="981000"/>
            <a:ext cx="821196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0">
              <a:spcBef>
                <a:spcPts val="7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7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7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7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591320" y="6539040"/>
            <a:ext cx="15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808080"/>
                </a:solidFill>
                <a:latin typeface="Arial"/>
                <a:ea typeface="Arial Unicode MS"/>
              </a:rPr>
              <a:t>Luderer et al.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79280" y="5157720"/>
            <a:ext cx="201636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3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3"/>
          <p:cNvSpPr/>
          <p:nvPr/>
        </p:nvSpPr>
        <p:spPr>
          <a:xfrm>
            <a:off x="6012000" y="2416320"/>
            <a:ext cx="223020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42920" indent="-142920">
              <a:spcBef>
                <a:spcPts val="51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142920" indent="-14292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Arial"/>
                <a:ea typeface="宋体"/>
              </a:rPr>
              <a:t>Technology Chap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8748720" y="77760"/>
            <a:ext cx="3794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3DE1FDA-5D56-4B74-AF19-95BD3CB35FDA}" type="slidenum">
              <a:rPr b="0" lang="en-GB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SRREN: Special Report on Renewable Energy Sources and Climate Change Miti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72E48-A272-46AB-8572-513A1A96F622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350640" y="1341360"/>
            <a:ext cx="8399160" cy="30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IPCC is the honest broker between experts and decision makers in business, politics and civil societ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Policy relevant but not policy prescriptiv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971640" y="260280"/>
            <a:ext cx="66960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3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90000"/>
                </a:solidFill>
                <a:latin typeface="Arial"/>
                <a:ea typeface="Arial Unicode MS"/>
              </a:rPr>
              <a:t>Final Rem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EX (WG I + I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</a:rPr>
              <a:t>AR5 Innovation: Considering Risk/Uncertainty in all WG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410000" y="5869080"/>
            <a:ext cx="4734000" cy="96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6"/>
          <p:cNvSpPr/>
          <p:nvPr/>
        </p:nvSpPr>
        <p:spPr>
          <a:xfrm>
            <a:off x="2932200" y="2495520"/>
            <a:ext cx="2471760" cy="2239920"/>
          </a:xfrm>
          <a:prstGeom prst="roundRect">
            <a:avLst>
              <a:gd name="adj" fmla="val 153"/>
            </a:avLst>
          </a:prstGeom>
          <a:solidFill>
            <a:srgbClr val="339966">
              <a:alpha val="3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6"/>
          <p:cNvSpPr/>
          <p:nvPr/>
        </p:nvSpPr>
        <p:spPr>
          <a:xfrm>
            <a:off x="6458040" y="2490840"/>
            <a:ext cx="2489040" cy="2233440"/>
          </a:xfrm>
          <a:prstGeom prst="roundRect">
            <a:avLst>
              <a:gd name="adj" fmla="val 153"/>
            </a:avLst>
          </a:prstGeom>
          <a:solidFill>
            <a:srgbClr val="0000ff">
              <a:alpha val="3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6F8DEAB-A3A1-4911-8B50-51482CF62B61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60280" y="2471400"/>
            <a:ext cx="13017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WG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002040" y="2498760"/>
            <a:ext cx="166032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cc33"/>
                </a:solidFill>
                <a:latin typeface="Arial"/>
              </a:rPr>
              <a:t>WG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499080" y="2422440"/>
            <a:ext cx="17780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ff"/>
                </a:solidFill>
                <a:latin typeface="Arial"/>
              </a:rPr>
              <a:t>WG 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479920" y="3621240"/>
            <a:ext cx="91296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148280" y="5348160"/>
            <a:ext cx="423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lete picture of impact and mitigation costs for policy relev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851200" y="1407960"/>
            <a:ext cx="2252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Extreme events, </a:t>
            </a:r>
            <a:br>
              <a:rPr sz="2200"/>
            </a:br>
            <a:r>
              <a:rPr b="0" lang="de-DE" sz="2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Sea level ri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6"/>
          <p:cNvSpPr/>
          <p:nvPr/>
        </p:nvSpPr>
        <p:spPr>
          <a:xfrm>
            <a:off x="223920" y="2486160"/>
            <a:ext cx="2473200" cy="2255760"/>
          </a:xfrm>
          <a:prstGeom prst="roundRect">
            <a:avLst>
              <a:gd name="adj" fmla="val 153"/>
            </a:avLst>
          </a:prstGeom>
          <a:solidFill>
            <a:srgbClr val="ff0000">
              <a:alpha val="3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6760" y="3057480"/>
            <a:ext cx="231912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xtreme ev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a level r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233960" y="4832280"/>
            <a:ext cx="1336680" cy="403200"/>
          </a:xfrm>
          <a:prstGeom prst="line">
            <a:avLst/>
          </a:prstGeom>
          <a:ln w="63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6210000" y="4816440"/>
            <a:ext cx="1390680" cy="447840"/>
          </a:xfrm>
          <a:prstGeom prst="line">
            <a:avLst/>
          </a:prstGeom>
          <a:ln w="63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6"/>
          <p:cNvSpPr/>
          <p:nvPr/>
        </p:nvSpPr>
        <p:spPr>
          <a:xfrm>
            <a:off x="4788000" y="6093000"/>
            <a:ext cx="2041560" cy="598320"/>
          </a:xfrm>
          <a:prstGeom prst="roundRect">
            <a:avLst>
              <a:gd name="adj" fmla="val 153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1.5°/2º/3º), </a:t>
            </a:r>
            <a:r>
              <a:rPr b="1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3º/4º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li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90560" y="871560"/>
            <a:ext cx="4354560" cy="1501920"/>
          </a:xfrm>
          <a:custGeom>
            <a:avLst/>
            <a:gdLst/>
            <a:ahLst/>
            <a:rect l="l" t="t" r="r" b="b"/>
            <a:pathLst>
              <a:path w="2743" h="946">
                <a:moveTo>
                  <a:pt x="0" y="946"/>
                </a:moveTo>
                <a:cubicBezTo>
                  <a:pt x="430" y="0"/>
                  <a:pt x="2350" y="50"/>
                  <a:pt x="2743" y="909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506920" y="3141720"/>
            <a:ext cx="86544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t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030480" y="3087720"/>
            <a:ext cx="2206440" cy="1258920"/>
            <a:chOff x="3030480" y="3087720"/>
            <a:chExt cx="2206440" cy="1258920"/>
          </a:xfrm>
        </p:grpSpPr>
        <p:sp>
          <p:nvSpPr>
            <p:cNvPr id="242" name=""/>
            <p:cNvSpPr/>
            <p:nvPr/>
          </p:nvSpPr>
          <p:spPr>
            <a:xfrm>
              <a:off x="3428640" y="3702240"/>
              <a:ext cx="18003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buClr>
                  <a:srgbClr val="5492cd"/>
                </a:buClr>
                <a:buFont typeface="Symbol" charset="2"/>
                <a:buChar char="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(1.5°/2ºC/3º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030480" y="3087720"/>
              <a:ext cx="2206440" cy="3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9000"/>
            </a:bodyPr>
            <a:p>
              <a:pPr marL="202320" indent="-202320">
                <a:spcBef>
                  <a:spcPts val="349"/>
                </a:spcBef>
                <a:buClr>
                  <a:srgbClr val="5492c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Differential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impacts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35120" y="4000680"/>
              <a:ext cx="18003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buClr>
                  <a:srgbClr val="5492cd"/>
                </a:buClr>
                <a:buFont typeface="Symbol" charset="2"/>
                <a:buChar char="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(3ºC/4º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6956280" y="3809880"/>
            <a:ext cx="2389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5492c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1.5°/2ºC/3º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91160" y="3076560"/>
            <a:ext cx="2928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>
              <a:spcBef>
                <a:spcPts val="3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rgin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spcBef>
                <a:spcPts val="3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tigation cost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964200" y="4108320"/>
            <a:ext cx="23907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5492c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3ºC/4º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e2631"/>
                </a:solidFill>
                <a:latin typeface="Arial"/>
              </a:rPr>
              <a:t>WG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G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G I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EX (WG I + I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WG I Science Gaps and Question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569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Trends and rates of observed climate change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Has climate change accelerat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Large ice sheets in polar regions 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Is the Greenland ice sheet stab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Irreversibilities and abrupt change in the climate system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How robust and accurate is our understanding?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ouds and aerosols and their feedbacks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What is the forcing uncertainty associated with cloud and aerosol process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arbon and other biogeochemical cycles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Which carbon cycle feedbacks become relevant in the coming decad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Near-term and long-term climate projections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How reliable is decadal prediction, what are the uncertainties beyond 2100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mate phenomena across regions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How do frequencies and amplitudes of monsoon, ENSO, and others chang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29280" y="31680"/>
            <a:ext cx="2125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6C0A387-3A21-4B8F-9509-0D65BECFAD32}" type="slidenum">
              <a:rPr b="0" lang="en-GB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G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e2631"/>
                </a:solidFill>
                <a:latin typeface="Arial"/>
              </a:rPr>
              <a:t>WG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G I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EX (WG I + I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WG II Major The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9840" y="1052640"/>
            <a:ext cx="907416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aming to support good decisions, including     information on ris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tter integration of climate science with climate impa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oader range of assessed impac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mate change in the context of other stre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tter treatment of extremes and disas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anded treatment of adap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tter integration of adaptation, mitigation,                    and development at different regional sc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uman settlements, industry, and infra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 A: GLOBAL &amp; SECTORAL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ext for the AR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tural and managed resources and systems, and their u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uman settlements, industry, and infra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uman health, well-being, and secu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ap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ti-sector impacts, risks, vulnerabilities, and opportun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 B: REGIONAL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WG I and WG III input and collabo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Major Sections or “Superchapter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11:25:29Z</dcterms:created>
  <dc:creator>Steffen Schlömer</dc:creator>
  <dc:description/>
  <dc:language>en-US</dc:language>
  <cp:lastModifiedBy>Administrator</cp:lastModifiedBy>
  <dcterms:modified xsi:type="dcterms:W3CDTF">2010-06-03T09:28:07Z</dcterms:modified>
  <cp:revision>144</cp:revision>
  <dc:subject/>
  <dc:title>Slide 1</dc:title>
</cp:coreProperties>
</file>