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717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0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89208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1"/>
          </p:nvPr>
        </p:nvSpPr>
        <p:spPr>
          <a:xfrm>
            <a:off x="-360" y="93722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2"/>
          </p:nvPr>
        </p:nvSpPr>
        <p:spPr>
          <a:xfrm>
            <a:off x="3805200" y="937224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A943-10B2-482D-8CBF-20C13790D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655560" y="1092240"/>
            <a:ext cx="3625920" cy="534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492120" y="4657320"/>
            <a:ext cx="573408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655560" y="1092240"/>
            <a:ext cx="3625920" cy="534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492120" y="4657320"/>
            <a:ext cx="573408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MInfra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terface between adaptation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ses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herence between Working Groups through development of common socio-economic scenari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147680" y="758880"/>
            <a:ext cx="44262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906480" y="4700160"/>
            <a:ext cx="489888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chnical potent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gration: challenges, costs, social acceptance, ris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Energy system transformation costs (gradual/radical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Policy instruments &amp; financing op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+ advantages and disadvantages, uncertainties and inconsistent assess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+ Identification of knowledge ga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FB9C-C5C8-468F-BC4D-8B1A1B4730D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930B-C089-4CFD-AB7C-C3FBE5F1C08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E1A7-7BAD-49BC-89E5-326BD08E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30DB-8C74-4453-BCB6-7CC7ED21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4389-2026-4A8E-898B-B7F815B48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0025-1764-4999-9AEE-852154053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A669-BEFF-40D0-99D3-01C8D89A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73CD-3EE6-4C0C-9893-6AA39651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CD57-F523-483E-86E4-CED6CFCE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15DE-37C9-4B62-B9AA-8CFA4F52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97E4-0B71-43CE-86EF-BBE1D8C7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8B81-4301-441D-BC9F-30036035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6F9F-BF3F-48E0-B74C-7644CFDB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C46F-C553-4431-BA64-DBC84156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9FCB-0387-4C86-B57A-3B4AAB23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A91B-F38B-481D-999A-ED21E9A5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B103-6CB0-4621-ADD7-D38E57E6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601C-531C-446C-9E16-A07BD98C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52CF-63E7-4E36-8949-8E463CAB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0A32-656F-48E7-A88C-85870D88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97BC-C963-4C74-8149-DB8FF4E47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C36B2-6AC8-4BE3-A555-D9B21804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6687-9B64-4192-8D60-09BCC96C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D3355-0DDD-4612-A592-CBB5269B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05CA0-B2B2-4DC6-828A-7B5DFF7A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37871-FDFF-4162-A1EE-BD30667E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AB826-6802-4788-BEB2-C89A1E88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FFF13-038E-4FEF-9726-BFEBB821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6FE7E-4530-44F8-BB43-498C55E0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51011-6C7F-45B1-8D3C-7788473E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84CFD-129A-48DE-8F3E-5CBDF5C2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7C463-ADA0-42D5-A232-D955C628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1ECBE-6A8E-4F59-AE0A-9055A1448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0CDA-066F-4129-955D-0193BC94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70B07-1AA6-4F7D-B6E5-F760D1403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8BD2-CAB9-48D6-8CC3-075F91E8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F693-EABD-4A2A-A491-DBDEA804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B48C-8990-4CD3-8429-E5D24ECB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1A3E-5F43-4956-A5FD-2DAF57B9A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IPCClogoWMOUNEP_WH.ai"/>
          <p:cNvPicPr/>
          <p:nvPr/>
        </p:nvPicPr>
        <p:blipFill>
          <a:blip r:embed="rId2"/>
          <a:stretch/>
        </p:blipFill>
        <p:spPr>
          <a:xfrm>
            <a:off x="4267080" y="5791320"/>
            <a:ext cx="4818240" cy="1031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0880" indent="-22860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9120" indent="-228600">
              <a:spcBef>
                <a:spcPts val="799"/>
              </a:spcBef>
              <a:buClr>
                <a:srgbClr val="4073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8" descr="IPCClogoWMOUNEP_WH.ai"/>
          <p:cNvPicPr/>
          <p:nvPr/>
        </p:nvPicPr>
        <p:blipFill>
          <a:blip r:embed="rId3"/>
          <a:stretch/>
        </p:blipFill>
        <p:spPr>
          <a:xfrm>
            <a:off x="4356000" y="5853240"/>
            <a:ext cx="4818240" cy="103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757080" y="-531720"/>
            <a:ext cx="11090160" cy="4365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WMOUNEP_CL.ai"/>
          <p:cNvPicPr/>
          <p:nvPr/>
        </p:nvPicPr>
        <p:blipFill>
          <a:blip r:embed="rId3"/>
          <a:stretch/>
        </p:blipFill>
        <p:spPr>
          <a:xfrm>
            <a:off x="7432560" y="5894280"/>
            <a:ext cx="1851120" cy="925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IPCCLogoWhite_CMYK_Vector.ai"/>
          <p:cNvPicPr/>
          <p:nvPr/>
        </p:nvPicPr>
        <p:blipFill>
          <a:blip r:embed="rId4"/>
          <a:stretch/>
        </p:blipFill>
        <p:spPr>
          <a:xfrm>
            <a:off x="4441680" y="210960"/>
            <a:ext cx="4378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EBE5-9AF3-47C4-B4CB-B32C3B6EF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6924-3B73-44EF-A585-AA94DF204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0920" y="3860280"/>
            <a:ext cx="860436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CC AR5: Innovations and Cooperation among WG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5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BSTA, 3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ession, 31 May to 9 June 2010, Bonn, Germany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f. Dr. Ottmar Edenhofer</a:t>
            </a:r>
            <a:br>
              <a:rPr sz="2000"/>
            </a:br>
            <a:br>
              <a:rPr sz="2000"/>
            </a:br>
            <a:r>
              <a:rPr b="0" lang="en-GB" sz="1600" spc="-1" strike="noStrike">
                <a:solidFill>
                  <a:srgbClr val="808080"/>
                </a:solidFill>
                <a:latin typeface="Arial"/>
                <a:ea typeface="Arial"/>
              </a:rPr>
              <a:t>Christoph von Stec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4920" y="3538440"/>
            <a:ext cx="504720" cy="1778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-65880" y="3659040"/>
            <a:ext cx="703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b2b2b2"/>
                </a:solidFill>
                <a:latin typeface="Arial"/>
                <a:ea typeface="ＭＳ Ｐゴシック"/>
              </a:rPr>
              <a:t>johnthesco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R5 WG III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10000" y="578160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ounded Rectangle 9"/>
          <p:cNvSpPr/>
          <p:nvPr/>
        </p:nvSpPr>
        <p:spPr>
          <a:xfrm>
            <a:off x="250920" y="5425920"/>
            <a:ext cx="8642160" cy="132588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ounded Rectangle 9"/>
          <p:cNvSpPr/>
          <p:nvPr/>
        </p:nvSpPr>
        <p:spPr>
          <a:xfrm>
            <a:off x="276120" y="874800"/>
            <a:ext cx="8672760" cy="29844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70160" y="855720"/>
            <a:ext cx="2648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 Introductory Chap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709120" y="77760"/>
            <a:ext cx="419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8377863-BB33-43C0-A049-74664D706484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le 9"/>
          <p:cNvSpPr/>
          <p:nvPr/>
        </p:nvSpPr>
        <p:spPr>
          <a:xfrm>
            <a:off x="249120" y="1301760"/>
            <a:ext cx="8726760" cy="11905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70160" y="1285920"/>
            <a:ext cx="5641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 Integrated Risk and Uncertainty Assessment of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Climate Change Response Polic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 Social, Economic and Ethical Concepts and Metho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 Sustainable Development and Equ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le 9"/>
          <p:cNvSpPr/>
          <p:nvPr/>
        </p:nvSpPr>
        <p:spPr>
          <a:xfrm>
            <a:off x="250920" y="2637000"/>
            <a:ext cx="8718480" cy="264636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64040" y="2589120"/>
            <a:ext cx="6157800" cy="27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  Drivers, Trends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  Assessing Transformation Pathway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  Energy Syste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  Transp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  Build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  Indus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.  Agriculture, Forestry and Other Land Use (AFOLU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.  Human Settlements, Infrastructure and Spatial Plan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65480" y="5442120"/>
            <a:ext cx="611172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3.  International Cooperation: Agreements and Instru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.  Regional Development and Coop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.  National and Sub-national Policies and Institu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.  Cross-cutting Investment and Finance Issu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9680" y="5670720"/>
            <a:ext cx="30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V: Assessment of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Policies, Institutions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and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2160" y="3478320"/>
            <a:ext cx="245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I: Pathways for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Mitigating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5640" y="166680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: Fram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4040" y="82080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: </a:t>
            </a: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55760" y="160020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Stabilisation Scenarios which identify the technical and institutional require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oring the costs, benefits and risks of all relevant mitigation op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ing differential impacts and develop a classification of risks comprising tipping points in the natural environment and also in socie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The Research Challenge of WG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829B17B-5A6E-453E-9329-901554EEC41F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Comprehensive Understanding of Solutio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"/>
          <p:cNvGrpSpPr/>
          <p:nvPr/>
        </p:nvGrpSpPr>
        <p:grpSpPr>
          <a:xfrm>
            <a:off x="2233440" y="1758960"/>
            <a:ext cx="1260360" cy="934920"/>
            <a:chOff x="2233440" y="1758960"/>
            <a:chExt cx="1260360" cy="934920"/>
          </a:xfrm>
        </p:grpSpPr>
        <p:sp>
          <p:nvSpPr>
            <p:cNvPr id="281" name="AutoShape 3"/>
            <p:cNvSpPr/>
            <p:nvPr/>
          </p:nvSpPr>
          <p:spPr>
            <a:xfrm>
              <a:off x="2233440" y="1758960"/>
              <a:ext cx="126036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4"/>
            <p:cNvSpPr/>
            <p:nvPr/>
          </p:nvSpPr>
          <p:spPr>
            <a:xfrm>
              <a:off x="2233440" y="1758960"/>
              <a:ext cx="12603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r Capita 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AutoShape 3"/>
          <p:cNvSpPr/>
          <p:nvPr/>
        </p:nvSpPr>
        <p:spPr>
          <a:xfrm>
            <a:off x="3933720" y="5049720"/>
            <a:ext cx="1025640" cy="78912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1319400" y="454824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1827360" y="487692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30"/>
          <p:cNvGrpSpPr/>
          <p:nvPr/>
        </p:nvGrpSpPr>
        <p:grpSpPr>
          <a:xfrm>
            <a:off x="825480" y="3726000"/>
            <a:ext cx="1257120" cy="1027080"/>
            <a:chOff x="825480" y="3726000"/>
            <a:chExt cx="1257120" cy="1027080"/>
          </a:xfrm>
        </p:grpSpPr>
        <p:sp>
          <p:nvSpPr>
            <p:cNvPr id="287" name="AutoShape 31"/>
            <p:cNvSpPr/>
            <p:nvPr/>
          </p:nvSpPr>
          <p:spPr>
            <a:xfrm>
              <a:off x="825480" y="3726000"/>
              <a:ext cx="1257120" cy="102708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2"/>
            <p:cNvSpPr/>
            <p:nvPr/>
          </p:nvSpPr>
          <p:spPr>
            <a:xfrm>
              <a:off x="922320" y="3997080"/>
              <a:ext cx="1132200" cy="48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33"/>
          <p:cNvGrpSpPr/>
          <p:nvPr/>
        </p:nvGrpSpPr>
        <p:grpSpPr>
          <a:xfrm>
            <a:off x="817560" y="5106960"/>
            <a:ext cx="1240920" cy="682560"/>
            <a:chOff x="817560" y="5106960"/>
            <a:chExt cx="1240920" cy="682560"/>
          </a:xfrm>
        </p:grpSpPr>
        <p:sp>
          <p:nvSpPr>
            <p:cNvPr id="290" name="AutoShape 34"/>
            <p:cNvSpPr/>
            <p:nvPr/>
          </p:nvSpPr>
          <p:spPr>
            <a:xfrm>
              <a:off x="817560" y="5106960"/>
              <a:ext cx="1240920" cy="68256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35"/>
            <p:cNvSpPr/>
            <p:nvPr/>
          </p:nvSpPr>
          <p:spPr>
            <a:xfrm>
              <a:off x="905040" y="5218560"/>
              <a:ext cx="1125720" cy="452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ther GH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Line 43"/>
          <p:cNvSpPr/>
          <p:nvPr/>
        </p:nvSpPr>
        <p:spPr>
          <a:xfrm>
            <a:off x="3867120" y="2131920"/>
            <a:ext cx="523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13"/>
          <p:cNvGrpSpPr/>
          <p:nvPr/>
        </p:nvGrpSpPr>
        <p:grpSpPr>
          <a:xfrm>
            <a:off x="874800" y="1758960"/>
            <a:ext cx="1144440" cy="931680"/>
            <a:chOff x="874800" y="1758960"/>
            <a:chExt cx="1144440" cy="931680"/>
          </a:xfrm>
        </p:grpSpPr>
        <p:sp>
          <p:nvSpPr>
            <p:cNvPr id="294" name="AutoShape 14"/>
            <p:cNvSpPr/>
            <p:nvPr/>
          </p:nvSpPr>
          <p:spPr>
            <a:xfrm>
              <a:off x="874800" y="1758960"/>
              <a:ext cx="1144440" cy="9316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5"/>
            <p:cNvSpPr/>
            <p:nvPr/>
          </p:nvSpPr>
          <p:spPr>
            <a:xfrm>
              <a:off x="874800" y="2000520"/>
              <a:ext cx="11444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2"/>
          <p:cNvGrpSpPr/>
          <p:nvPr/>
        </p:nvGrpSpPr>
        <p:grpSpPr>
          <a:xfrm>
            <a:off x="3713040" y="1773360"/>
            <a:ext cx="1204920" cy="923760"/>
            <a:chOff x="3713040" y="1773360"/>
            <a:chExt cx="1204920" cy="923760"/>
          </a:xfrm>
        </p:grpSpPr>
        <p:sp>
          <p:nvSpPr>
            <p:cNvPr id="297" name="AutoShape 3"/>
            <p:cNvSpPr/>
            <p:nvPr/>
          </p:nvSpPr>
          <p:spPr>
            <a:xfrm>
              <a:off x="3713040" y="1773360"/>
              <a:ext cx="1204920" cy="92376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4"/>
            <p:cNvSpPr/>
            <p:nvPr/>
          </p:nvSpPr>
          <p:spPr>
            <a:xfrm>
              <a:off x="3713040" y="177336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5"/>
          <p:cNvGrpSpPr/>
          <p:nvPr/>
        </p:nvGrpSpPr>
        <p:grpSpPr>
          <a:xfrm>
            <a:off x="5154480" y="1774800"/>
            <a:ext cx="1204920" cy="922320"/>
            <a:chOff x="5154480" y="1774800"/>
            <a:chExt cx="1204920" cy="922320"/>
          </a:xfrm>
        </p:grpSpPr>
        <p:sp>
          <p:nvSpPr>
            <p:cNvPr id="300" name="AutoShape 6"/>
            <p:cNvSpPr/>
            <p:nvPr/>
          </p:nvSpPr>
          <p:spPr>
            <a:xfrm>
              <a:off x="5154480" y="1774800"/>
              <a:ext cx="1204920" cy="9223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7"/>
            <p:cNvSpPr/>
            <p:nvPr/>
          </p:nvSpPr>
          <p:spPr>
            <a:xfrm>
              <a:off x="5154480" y="177480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rbon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8"/>
          <p:cNvGrpSpPr/>
          <p:nvPr/>
        </p:nvGrpSpPr>
        <p:grpSpPr>
          <a:xfrm>
            <a:off x="6621480" y="1757520"/>
            <a:ext cx="1392120" cy="972360"/>
            <a:chOff x="6621480" y="1757520"/>
            <a:chExt cx="1392120" cy="972360"/>
          </a:xfrm>
        </p:grpSpPr>
        <p:sp>
          <p:nvSpPr>
            <p:cNvPr id="303" name="AutoShape 9"/>
            <p:cNvSpPr/>
            <p:nvPr/>
          </p:nvSpPr>
          <p:spPr>
            <a:xfrm>
              <a:off x="6635520" y="1757520"/>
              <a:ext cx="137808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6621480" y="1770120"/>
              <a:ext cx="1377720" cy="95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lea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5" name="Straight Arrow Connector 61"/>
          <p:cNvCxnSpPr/>
          <p:nvPr/>
        </p:nvCxnSpPr>
        <p:spPr>
          <a:xfrm flipH="1">
            <a:off x="970920" y="2725200"/>
            <a:ext cx="13320" cy="909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6" name="Straight Arrow Connector 63"/>
          <p:cNvCxnSpPr/>
          <p:nvPr/>
        </p:nvCxnSpPr>
        <p:spPr>
          <a:xfrm flipH="1">
            <a:off x="1122120" y="2733480"/>
            <a:ext cx="1410480" cy="875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7" name="Straight Arrow Connector 64"/>
          <p:cNvCxnSpPr/>
          <p:nvPr/>
        </p:nvCxnSpPr>
        <p:spPr>
          <a:xfrm flipH="1">
            <a:off x="1385640" y="2730240"/>
            <a:ext cx="2674080" cy="873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8" name="Straight Arrow Connector 65"/>
          <p:cNvCxnSpPr/>
          <p:nvPr/>
        </p:nvCxnSpPr>
        <p:spPr>
          <a:xfrm flipH="1">
            <a:off x="1809720" y="2730600"/>
            <a:ext cx="3951720" cy="8834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9" name="Straight Arrow Connector 66"/>
          <p:cNvCxnSpPr/>
          <p:nvPr/>
        </p:nvCxnSpPr>
        <p:spPr>
          <a:xfrm flipH="1">
            <a:off x="2179440" y="2728800"/>
            <a:ext cx="5202720" cy="982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0" name="Straight Arrow Connector 82"/>
          <p:cNvCxnSpPr/>
          <p:nvPr/>
        </p:nvCxnSpPr>
        <p:spPr>
          <a:xfrm>
            <a:off x="4992840" y="5433840"/>
            <a:ext cx="614880" cy="5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1" name="Straight Arrow Connector 92"/>
          <p:cNvCxnSpPr/>
          <p:nvPr/>
        </p:nvCxnSpPr>
        <p:spPr>
          <a:xfrm>
            <a:off x="2118960" y="5435640"/>
            <a:ext cx="1756440" cy="10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2" name="Straight Arrow Connector 116"/>
          <p:cNvCxnSpPr/>
          <p:nvPr/>
        </p:nvCxnSpPr>
        <p:spPr>
          <a:xfrm flipV="1">
            <a:off x="4560840" y="4014000"/>
            <a:ext cx="1008720" cy="39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3" name="AutoShape 6"/>
          <p:cNvSpPr/>
          <p:nvPr/>
        </p:nvSpPr>
        <p:spPr>
          <a:xfrm>
            <a:off x="5613480" y="3686040"/>
            <a:ext cx="1341360" cy="75276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e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id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5614920" y="5062680"/>
            <a:ext cx="1366920" cy="76968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06800" y="2330280"/>
            <a:ext cx="1254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(A)/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33760" y="2330280"/>
            <a:ext cx="85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/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89080" y="23353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E /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82760" y="2341440"/>
            <a:ext cx="117792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GDP / 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81160" y="23353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116"/>
          <p:cNvCxnSpPr/>
          <p:nvPr/>
        </p:nvCxnSpPr>
        <p:spPr>
          <a:xfrm>
            <a:off x="4186080" y="4354560"/>
            <a:ext cx="462960" cy="6451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1" name="AutoShape 6"/>
          <p:cNvSpPr/>
          <p:nvPr/>
        </p:nvSpPr>
        <p:spPr>
          <a:xfrm>
            <a:off x="2716200" y="3713040"/>
            <a:ext cx="1790640" cy="5954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Straight Arrow Connector 84"/>
          <p:cNvCxnSpPr/>
          <p:nvPr/>
        </p:nvCxnSpPr>
        <p:spPr>
          <a:xfrm flipV="1">
            <a:off x="2135160" y="4012560"/>
            <a:ext cx="550080" cy="68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3" name="AutoShape 6"/>
          <p:cNvSpPr/>
          <p:nvPr/>
        </p:nvSpPr>
        <p:spPr>
          <a:xfrm>
            <a:off x="7512120" y="4321080"/>
            <a:ext cx="1233360" cy="752400"/>
          </a:xfrm>
          <a:prstGeom prst="roundRect">
            <a:avLst>
              <a:gd name="adj" fmla="val 153"/>
            </a:avLst>
          </a:pr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Straight Arrow Connector 81"/>
          <p:cNvCxnSpPr/>
          <p:nvPr/>
        </p:nvCxnSpPr>
        <p:spPr>
          <a:xfrm>
            <a:off x="7002000" y="4040280"/>
            <a:ext cx="438840" cy="536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5" name="Straight Arrow Connector 81"/>
          <p:cNvCxnSpPr/>
          <p:nvPr/>
        </p:nvCxnSpPr>
        <p:spPr>
          <a:xfrm flipV="1">
            <a:off x="7040520" y="4804920"/>
            <a:ext cx="426240" cy="6199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6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7F63A6F-73D6-49D7-8F7C-3406087C40F5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Assessing the Solutio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2"/>
          <p:cNvGrpSpPr/>
          <p:nvPr/>
        </p:nvGrpSpPr>
        <p:grpSpPr>
          <a:xfrm>
            <a:off x="2233440" y="1762200"/>
            <a:ext cx="1260360" cy="934920"/>
            <a:chOff x="2233440" y="1762200"/>
            <a:chExt cx="1260360" cy="934920"/>
          </a:xfrm>
        </p:grpSpPr>
        <p:sp>
          <p:nvSpPr>
            <p:cNvPr id="329" name="AutoShape 3"/>
            <p:cNvSpPr/>
            <p:nvPr/>
          </p:nvSpPr>
          <p:spPr>
            <a:xfrm>
              <a:off x="2233440" y="1762200"/>
              <a:ext cx="126036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4"/>
            <p:cNvSpPr/>
            <p:nvPr/>
          </p:nvSpPr>
          <p:spPr>
            <a:xfrm>
              <a:off x="2233440" y="1762200"/>
              <a:ext cx="12603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r Capita 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AutoShape 3"/>
          <p:cNvSpPr/>
          <p:nvPr/>
        </p:nvSpPr>
        <p:spPr>
          <a:xfrm>
            <a:off x="3933720" y="5052960"/>
            <a:ext cx="1025640" cy="78912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1319400" y="455148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1827360" y="487980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30"/>
          <p:cNvGrpSpPr/>
          <p:nvPr/>
        </p:nvGrpSpPr>
        <p:grpSpPr>
          <a:xfrm>
            <a:off x="825480" y="3728880"/>
            <a:ext cx="1257120" cy="1027080"/>
            <a:chOff x="825480" y="3728880"/>
            <a:chExt cx="1257120" cy="1027080"/>
          </a:xfrm>
        </p:grpSpPr>
        <p:sp>
          <p:nvSpPr>
            <p:cNvPr id="335" name="AutoShape 31"/>
            <p:cNvSpPr/>
            <p:nvPr/>
          </p:nvSpPr>
          <p:spPr>
            <a:xfrm>
              <a:off x="825480" y="3728880"/>
              <a:ext cx="1257120" cy="102708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32"/>
            <p:cNvSpPr/>
            <p:nvPr/>
          </p:nvSpPr>
          <p:spPr>
            <a:xfrm>
              <a:off x="922320" y="3999960"/>
              <a:ext cx="1132200" cy="48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33"/>
          <p:cNvGrpSpPr/>
          <p:nvPr/>
        </p:nvGrpSpPr>
        <p:grpSpPr>
          <a:xfrm>
            <a:off x="817560" y="5110200"/>
            <a:ext cx="1240920" cy="682560"/>
            <a:chOff x="817560" y="5110200"/>
            <a:chExt cx="1240920" cy="682560"/>
          </a:xfrm>
        </p:grpSpPr>
        <p:sp>
          <p:nvSpPr>
            <p:cNvPr id="338" name="AutoShape 34"/>
            <p:cNvSpPr/>
            <p:nvPr/>
          </p:nvSpPr>
          <p:spPr>
            <a:xfrm>
              <a:off x="817560" y="5110200"/>
              <a:ext cx="1240920" cy="68256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35"/>
            <p:cNvSpPr/>
            <p:nvPr/>
          </p:nvSpPr>
          <p:spPr>
            <a:xfrm>
              <a:off x="905040" y="5221800"/>
              <a:ext cx="1125720" cy="452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ther GH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Line 43"/>
          <p:cNvSpPr/>
          <p:nvPr/>
        </p:nvSpPr>
        <p:spPr>
          <a:xfrm>
            <a:off x="3867120" y="2135160"/>
            <a:ext cx="523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3"/>
          <p:cNvGrpSpPr/>
          <p:nvPr/>
        </p:nvGrpSpPr>
        <p:grpSpPr>
          <a:xfrm>
            <a:off x="874800" y="1762200"/>
            <a:ext cx="1144440" cy="931680"/>
            <a:chOff x="874800" y="1762200"/>
            <a:chExt cx="1144440" cy="931680"/>
          </a:xfrm>
        </p:grpSpPr>
        <p:sp>
          <p:nvSpPr>
            <p:cNvPr id="342" name="AutoShape 14"/>
            <p:cNvSpPr/>
            <p:nvPr/>
          </p:nvSpPr>
          <p:spPr>
            <a:xfrm>
              <a:off x="874800" y="1762200"/>
              <a:ext cx="1144440" cy="9316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5"/>
            <p:cNvSpPr/>
            <p:nvPr/>
          </p:nvSpPr>
          <p:spPr>
            <a:xfrm>
              <a:off x="874800" y="2003760"/>
              <a:ext cx="11444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2"/>
          <p:cNvGrpSpPr/>
          <p:nvPr/>
        </p:nvGrpSpPr>
        <p:grpSpPr>
          <a:xfrm>
            <a:off x="3713040" y="1776240"/>
            <a:ext cx="1204920" cy="924120"/>
            <a:chOff x="3713040" y="1776240"/>
            <a:chExt cx="1204920" cy="924120"/>
          </a:xfrm>
        </p:grpSpPr>
        <p:sp>
          <p:nvSpPr>
            <p:cNvPr id="345" name="AutoShape 3"/>
            <p:cNvSpPr/>
            <p:nvPr/>
          </p:nvSpPr>
          <p:spPr>
            <a:xfrm>
              <a:off x="3713040" y="1776240"/>
              <a:ext cx="1204920" cy="9241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4"/>
            <p:cNvSpPr/>
            <p:nvPr/>
          </p:nvSpPr>
          <p:spPr>
            <a:xfrm>
              <a:off x="3713040" y="177624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5"/>
          <p:cNvGrpSpPr/>
          <p:nvPr/>
        </p:nvGrpSpPr>
        <p:grpSpPr>
          <a:xfrm>
            <a:off x="5154480" y="1778040"/>
            <a:ext cx="1204920" cy="922320"/>
            <a:chOff x="5154480" y="1778040"/>
            <a:chExt cx="1204920" cy="922320"/>
          </a:xfrm>
        </p:grpSpPr>
        <p:sp>
          <p:nvSpPr>
            <p:cNvPr id="348" name="AutoShape 6"/>
            <p:cNvSpPr/>
            <p:nvPr/>
          </p:nvSpPr>
          <p:spPr>
            <a:xfrm>
              <a:off x="5154480" y="1778040"/>
              <a:ext cx="1204920" cy="9223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7"/>
            <p:cNvSpPr/>
            <p:nvPr/>
          </p:nvSpPr>
          <p:spPr>
            <a:xfrm>
              <a:off x="5154480" y="177804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rbon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8"/>
          <p:cNvGrpSpPr/>
          <p:nvPr/>
        </p:nvGrpSpPr>
        <p:grpSpPr>
          <a:xfrm>
            <a:off x="6621480" y="1760400"/>
            <a:ext cx="1392120" cy="972360"/>
            <a:chOff x="6621480" y="1760400"/>
            <a:chExt cx="1392120" cy="972360"/>
          </a:xfrm>
        </p:grpSpPr>
        <p:sp>
          <p:nvSpPr>
            <p:cNvPr id="351" name="AutoShape 9"/>
            <p:cNvSpPr/>
            <p:nvPr/>
          </p:nvSpPr>
          <p:spPr>
            <a:xfrm>
              <a:off x="6635520" y="1760400"/>
              <a:ext cx="1378080" cy="9352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0"/>
            <p:cNvSpPr/>
            <p:nvPr/>
          </p:nvSpPr>
          <p:spPr>
            <a:xfrm>
              <a:off x="6621480" y="1773000"/>
              <a:ext cx="1377720" cy="95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lea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3" name="Straight Arrow Connector 61"/>
          <p:cNvCxnSpPr/>
          <p:nvPr/>
        </p:nvCxnSpPr>
        <p:spPr>
          <a:xfrm flipH="1">
            <a:off x="970920" y="2728440"/>
            <a:ext cx="13320" cy="909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4" name="Straight Arrow Connector 63"/>
          <p:cNvCxnSpPr/>
          <p:nvPr/>
        </p:nvCxnSpPr>
        <p:spPr>
          <a:xfrm flipH="1">
            <a:off x="1122120" y="2736720"/>
            <a:ext cx="1410480" cy="8755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5" name="Straight Arrow Connector 64"/>
          <p:cNvCxnSpPr/>
          <p:nvPr/>
        </p:nvCxnSpPr>
        <p:spPr>
          <a:xfrm flipH="1">
            <a:off x="1385640" y="2733480"/>
            <a:ext cx="2674080" cy="873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6" name="Straight Arrow Connector 65"/>
          <p:cNvCxnSpPr/>
          <p:nvPr/>
        </p:nvCxnSpPr>
        <p:spPr>
          <a:xfrm flipH="1">
            <a:off x="1809720" y="2733480"/>
            <a:ext cx="3951720" cy="883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Straight Arrow Connector 66"/>
          <p:cNvCxnSpPr/>
          <p:nvPr/>
        </p:nvCxnSpPr>
        <p:spPr>
          <a:xfrm flipH="1">
            <a:off x="2179440" y="2731680"/>
            <a:ext cx="5202720" cy="981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8" name="Straight Arrow Connector 82"/>
          <p:cNvCxnSpPr/>
          <p:nvPr/>
        </p:nvCxnSpPr>
        <p:spPr>
          <a:xfrm>
            <a:off x="4992840" y="5437080"/>
            <a:ext cx="614880" cy="5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9" name="Straight Arrow Connector 92"/>
          <p:cNvCxnSpPr/>
          <p:nvPr/>
        </p:nvCxnSpPr>
        <p:spPr>
          <a:xfrm>
            <a:off x="2118960" y="5438880"/>
            <a:ext cx="1756440" cy="10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0" name="Straight Arrow Connector 116"/>
          <p:cNvCxnSpPr/>
          <p:nvPr/>
        </p:nvCxnSpPr>
        <p:spPr>
          <a:xfrm flipV="1">
            <a:off x="4560840" y="4017240"/>
            <a:ext cx="1008720" cy="39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1" name="AutoShape 35"/>
          <p:cNvSpPr/>
          <p:nvPr/>
        </p:nvSpPr>
        <p:spPr>
          <a:xfrm>
            <a:off x="6635880" y="841320"/>
            <a:ext cx="171288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ap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 Plant (C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35"/>
          <p:cNvSpPr/>
          <p:nvPr/>
        </p:nvSpPr>
        <p:spPr>
          <a:xfrm>
            <a:off x="3097080" y="841320"/>
            <a:ext cx="179100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fe-Style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hn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35"/>
          <p:cNvSpPr/>
          <p:nvPr/>
        </p:nvSpPr>
        <p:spPr>
          <a:xfrm>
            <a:off x="5154480" y="841320"/>
            <a:ext cx="123372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n-Foss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Straight Arrow Connector 139"/>
          <p:cNvCxnSpPr/>
          <p:nvPr/>
        </p:nvCxnSpPr>
        <p:spPr>
          <a:xfrm flipV="1">
            <a:off x="5771880" y="149652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sp>
        <p:nvSpPr>
          <p:cNvPr id="365" name="AutoShape 6"/>
          <p:cNvSpPr/>
          <p:nvPr/>
        </p:nvSpPr>
        <p:spPr>
          <a:xfrm>
            <a:off x="5613480" y="3689280"/>
            <a:ext cx="1341360" cy="75240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e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id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5614920" y="5065560"/>
            <a:ext cx="1366920" cy="7700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Straight Arrow Connector 139"/>
          <p:cNvCxnSpPr/>
          <p:nvPr/>
        </p:nvCxnSpPr>
        <p:spPr>
          <a:xfrm flipV="1">
            <a:off x="7268760" y="148068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cxnSp>
        <p:nvCxnSpPr>
          <p:cNvPr id="368" name="Straight Arrow Connector 139"/>
          <p:cNvCxnSpPr/>
          <p:nvPr/>
        </p:nvCxnSpPr>
        <p:spPr>
          <a:xfrm flipV="1">
            <a:off x="4244760" y="149652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sp>
        <p:nvSpPr>
          <p:cNvPr id="369" name=""/>
          <p:cNvSpPr/>
          <p:nvPr/>
        </p:nvSpPr>
        <p:spPr>
          <a:xfrm>
            <a:off x="6706800" y="2333520"/>
            <a:ext cx="1254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(A)/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33760" y="2333520"/>
            <a:ext cx="85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/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9080" y="233856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E /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282760" y="2344680"/>
            <a:ext cx="117792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GDP / 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81160" y="23385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Straight Arrow Connector 116"/>
          <p:cNvCxnSpPr/>
          <p:nvPr/>
        </p:nvCxnSpPr>
        <p:spPr>
          <a:xfrm>
            <a:off x="4186080" y="4357800"/>
            <a:ext cx="462960" cy="6451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5" name="AutoShape 6"/>
          <p:cNvSpPr/>
          <p:nvPr/>
        </p:nvSpPr>
        <p:spPr>
          <a:xfrm>
            <a:off x="2716200" y="3716280"/>
            <a:ext cx="1790640" cy="5954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Straight Arrow Connector 84"/>
          <p:cNvCxnSpPr/>
          <p:nvPr/>
        </p:nvCxnSpPr>
        <p:spPr>
          <a:xfrm flipV="1">
            <a:off x="2135160" y="4015800"/>
            <a:ext cx="550080" cy="68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7" name="Straight Arrow Connector 134"/>
          <p:cNvCxnSpPr/>
          <p:nvPr/>
        </p:nvCxnSpPr>
        <p:spPr>
          <a:xfrm flipH="1" flipV="1">
            <a:off x="3450600" y="431244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sp>
        <p:nvSpPr>
          <p:cNvPr id="378" name="AutoShape 35"/>
          <p:cNvSpPr/>
          <p:nvPr/>
        </p:nvSpPr>
        <p:spPr>
          <a:xfrm>
            <a:off x="2732040" y="4446720"/>
            <a:ext cx="1295280" cy="5014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Straight Arrow Connector 133"/>
          <p:cNvCxnSpPr/>
          <p:nvPr/>
        </p:nvCxnSpPr>
        <p:spPr>
          <a:xfrm flipH="1" flipV="1">
            <a:off x="1445400" y="579204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cxnSp>
        <p:nvCxnSpPr>
          <p:cNvPr id="380" name="Straight Arrow Connector 134"/>
          <p:cNvCxnSpPr/>
          <p:nvPr/>
        </p:nvCxnSpPr>
        <p:spPr>
          <a:xfrm flipH="1" flipV="1">
            <a:off x="4301280" y="584280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sp>
        <p:nvSpPr>
          <p:cNvPr id="381" name="AutoShape 35"/>
          <p:cNvSpPr/>
          <p:nvPr/>
        </p:nvSpPr>
        <p:spPr>
          <a:xfrm>
            <a:off x="814320" y="5996160"/>
            <a:ext cx="1712880" cy="45720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ricult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actices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33"/>
          <p:cNvSpPr/>
          <p:nvPr/>
        </p:nvSpPr>
        <p:spPr>
          <a:xfrm flipV="1" rot="10800000">
            <a:off x="3201840" y="5996160"/>
            <a:ext cx="1756080" cy="46656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6"/>
          <p:cNvSpPr/>
          <p:nvPr/>
        </p:nvSpPr>
        <p:spPr>
          <a:xfrm>
            <a:off x="7512120" y="4324320"/>
            <a:ext cx="1233360" cy="752400"/>
          </a:xfrm>
          <a:prstGeom prst="roundRect">
            <a:avLst>
              <a:gd name="adj" fmla="val 153"/>
            </a:avLst>
          </a:pr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Straight Arrow Connector 81"/>
          <p:cNvCxnSpPr/>
          <p:nvPr/>
        </p:nvCxnSpPr>
        <p:spPr>
          <a:xfrm>
            <a:off x="7002000" y="4043520"/>
            <a:ext cx="438840" cy="536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5" name="AutoShape 33"/>
          <p:cNvSpPr/>
          <p:nvPr/>
        </p:nvSpPr>
        <p:spPr>
          <a:xfrm flipV="1" rot="10800000">
            <a:off x="7294680" y="5439240"/>
            <a:ext cx="1482480" cy="32076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Straight Arrow Connector 134"/>
          <p:cNvCxnSpPr/>
          <p:nvPr/>
        </p:nvCxnSpPr>
        <p:spPr>
          <a:xfrm flipH="1" flipV="1">
            <a:off x="8031960" y="5087520"/>
            <a:ext cx="2520" cy="35784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cxnSp>
        <p:nvCxnSpPr>
          <p:cNvPr id="387" name="Straight Arrow Connector 81"/>
          <p:cNvCxnSpPr/>
          <p:nvPr/>
        </p:nvCxnSpPr>
        <p:spPr>
          <a:xfrm flipV="1">
            <a:off x="7040520" y="4808160"/>
            <a:ext cx="426240" cy="6199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8" name="Straight Arrow Connector 133"/>
          <p:cNvCxnSpPr/>
          <p:nvPr/>
        </p:nvCxnSpPr>
        <p:spPr>
          <a:xfrm flipH="1" flipV="1">
            <a:off x="366480" y="4142520"/>
            <a:ext cx="3600" cy="2164680"/>
          </a:xfrm>
          <a:prstGeom prst="straightConnector1">
            <a:avLst/>
          </a:prstGeom>
          <a:ln w="28440">
            <a:solidFill>
              <a:srgbClr val="ff9933"/>
            </a:solidFill>
            <a:miter/>
          </a:ln>
        </p:spPr>
      </p:cxnSp>
      <p:cxnSp>
        <p:nvCxnSpPr>
          <p:cNvPr id="389" name="Straight Arrow Connector 133"/>
          <p:cNvCxnSpPr/>
          <p:nvPr/>
        </p:nvCxnSpPr>
        <p:spPr>
          <a:xfrm>
            <a:off x="356760" y="4149720"/>
            <a:ext cx="469080" cy="72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cxnSp>
        <p:nvCxnSpPr>
          <p:cNvPr id="390" name="Straight Arrow Connector 133"/>
          <p:cNvCxnSpPr/>
          <p:nvPr/>
        </p:nvCxnSpPr>
        <p:spPr>
          <a:xfrm flipV="1">
            <a:off x="358560" y="6306840"/>
            <a:ext cx="448200" cy="2160"/>
          </a:xfrm>
          <a:prstGeom prst="straightConnector1">
            <a:avLst/>
          </a:prstGeom>
          <a:ln w="28440">
            <a:solidFill>
              <a:srgbClr val="ff9933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130F8EC-D444-469B-9177-C736935878FB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6"/>
          <p:cNvSpPr/>
          <p:nvPr/>
        </p:nvSpPr>
        <p:spPr>
          <a:xfrm>
            <a:off x="5724360" y="907920"/>
            <a:ext cx="3419640" cy="70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e of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596360" y="2205000"/>
            <a:ext cx="360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7380360" y="321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5508720" y="184464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5580000" y="465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7380360" y="1773360"/>
            <a:ext cx="1763640" cy="12427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6"/>
          <a:stretch/>
        </p:blipFill>
        <p:spPr>
          <a:xfrm>
            <a:off x="7365960" y="4653000"/>
            <a:ext cx="1778040" cy="125244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6"/>
          <p:cNvSpPr/>
          <p:nvPr/>
        </p:nvSpPr>
        <p:spPr>
          <a:xfrm>
            <a:off x="826920" y="1576440"/>
            <a:ext cx="1441440" cy="70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2627280" y="1557360"/>
            <a:ext cx="237636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al-setting by poli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00000" y="242100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35280" y="242100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,5°C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35280" y="256536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°C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7358600">
            <a:off x="3312000" y="-783360"/>
            <a:ext cx="1512720" cy="4032000"/>
          </a:xfrm>
          <a:custGeom>
            <a:avLst/>
            <a:gdLst>
              <a:gd name="textAreaLeft" fmla="*/ 202680 w 1512720"/>
              <a:gd name="textAreaRight" fmla="*/ 1310040 w 1512720"/>
              <a:gd name="textAreaTop" fmla="*/ 793800 h 4032000"/>
              <a:gd name="textAreaBottom" fmla="*/ 2955960 h 40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08" stAng="-5400000" swAng="5400000"/>
                <a:lnTo>
                  <a:pt x="21600" y="11582"/>
                </a:lnTo>
                <a:arcTo wR="21600" hR="8508" stAng="0" swAng="2885237"/>
                <a:lnTo>
                  <a:pt x="7200" y="21113"/>
                </a:lnTo>
                <a:lnTo>
                  <a:pt x="0" y="18552"/>
                </a:lnTo>
                <a:lnTo>
                  <a:pt x="7200" y="15017"/>
                </a:lnTo>
                <a:lnTo>
                  <a:pt x="7200" y="16528"/>
                </a:lnTo>
                <a:arcTo wR="21600" hR="8508" stAng="2885237" swAng="-2636956"/>
                <a:lnTo>
                  <a:pt x="21245" y="10045"/>
                </a:lnTo>
                <a:arcTo wR="21600" hR="8508" stAng="-248281" swAng="-5151719"/>
                <a:close/>
              </a:path>
              <a:path fill="darkenLess" w="21600" h="21600">
                <a:moveTo>
                  <a:pt x="0" y="0"/>
                </a:moveTo>
                <a:arcTo wR="21600" hR="8508" stAng="-5400000" swAng="5400000"/>
                <a:lnTo>
                  <a:pt x="21600" y="11582"/>
                </a:lnTo>
                <a:arcTo wR="21600" hR="8508" stAng="0" swAng="-248281"/>
                <a:lnTo>
                  <a:pt x="21245" y="10045"/>
                </a:lnTo>
                <a:arcTo wR="21600" hR="8508" stAng="-248281" swAng="-5151719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Policy relevant but not policy prescriptive“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6565200">
            <a:off x="1703880" y="2145600"/>
            <a:ext cx="2362320" cy="5246640"/>
          </a:xfrm>
          <a:custGeom>
            <a:avLst/>
            <a:gdLst>
              <a:gd name="textAreaLeft" fmla="*/ 316440 w 2362320"/>
              <a:gd name="textAreaRight" fmla="*/ 2045880 w 2362320"/>
              <a:gd name="textAreaTop" fmla="*/ 1072440 h 5246640"/>
              <a:gd name="textAreaBottom" fmla="*/ 3649320 h 524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32" stAng="-5400000" swAng="5400000"/>
                <a:lnTo>
                  <a:pt x="21600" y="10608"/>
                </a:lnTo>
                <a:arcTo wR="21600" hR="8832" stAng="0" swAng="2949063"/>
                <a:lnTo>
                  <a:pt x="7200" y="21095"/>
                </a:lnTo>
                <a:lnTo>
                  <a:pt x="0" y="18552"/>
                </a:lnTo>
                <a:lnTo>
                  <a:pt x="7200" y="14999"/>
                </a:lnTo>
                <a:lnTo>
                  <a:pt x="7200" y="17159"/>
                </a:lnTo>
                <a:arcTo wR="21600" hR="8832" stAng="2949063" swAng="-2807095"/>
                <a:lnTo>
                  <a:pt x="21491" y="9720"/>
                </a:lnTo>
                <a:arcTo wR="21600" hR="8832" stAng="-141969" swAng="-5258031"/>
                <a:close/>
              </a:path>
              <a:path fill="darkenLess" w="21600" h="21600">
                <a:moveTo>
                  <a:pt x="0" y="0"/>
                </a:moveTo>
                <a:arcTo wR="21600" hR="8832" stAng="-5400000" swAng="5400000"/>
                <a:lnTo>
                  <a:pt x="21600" y="10608"/>
                </a:lnTo>
                <a:arcTo wR="21600" hR="8832" stAng="0" swAng="-141969"/>
                <a:lnTo>
                  <a:pt x="21491" y="9720"/>
                </a:lnTo>
                <a:arcTo wR="21600" hR="8832" stAng="-141969" swAng="-5258031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441440" y="4064040"/>
            <a:ext cx="40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ch as impacts from excessive use of biomass or geo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805800">
            <a:off x="1733760" y="530676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side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f unintended side-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ssessment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32000" y="5705640"/>
            <a:ext cx="60120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5726D20-62CD-435D-9DB5-4873B3EBF44C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617400" y="808200"/>
            <a:ext cx="7743960" cy="54766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0" y="6583320"/>
            <a:ext cx="45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Modified from Graphic by John Weyant (2009)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cenario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5E0466B-32CE-44F6-BDED-28AE58F958AB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880920" y="615960"/>
            <a:ext cx="7129440" cy="53467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880920" y="615960"/>
            <a:ext cx="7135920" cy="53514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47B24F4-8F89-4282-B343-A57DBBBEE9CB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68360" y="126828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On the request of IPCC Chairman Rajendra Pachauri and UN Secretary-General Ban Ki-mo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ed by InterAcademy Council (IAC).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of IPCC principles, procedures, management structures and the IPCC scenario process (“honest broker“ rol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eport will be prepared for the IPCC Plenary in October 201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Independent Review: Set Up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88840" y="623880"/>
            <a:ext cx="7118640" cy="53388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F0E2FB9-4F2B-4A50-824E-AE1C22A51EFB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900000" y="636480"/>
            <a:ext cx="7104240" cy="53276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B761E5D-8694-4BAC-AAA7-0C21237CCA1E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380960" y="2484360"/>
            <a:ext cx="184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900000" y="625320"/>
            <a:ext cx="7131240" cy="53485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B56DA39-2796-499B-90F6-2FCC51CBCDA2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455760" y="1600200"/>
            <a:ext cx="86882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Detection and Attribution related to Anthropogenic Climate Change (09/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Assessing and Combining Multi-Model Climate Projections (01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 II / WG II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 Meeting on Human Settlement and Infrastructure (postponed to early 20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 II / WG III Workshop on Socioeconomic Scenarios for Climate Change Impact and Response Assessments (11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Impacts of Ocean Acidification on Marine Biology and Ecosystems (01/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I / WGIII Expert Meeting on Economic Analysis, Costing Methods, and Ethics (03/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Jointly Organized Meetings/Works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CAC4A05-E2A8-4FE2-9D0A-E2DD4A2F8A27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SREX (WG I + II)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1" descr=""/>
          <p:cNvPicPr/>
          <p:nvPr/>
        </p:nvPicPr>
        <p:blipFill>
          <a:blip r:embed="rId1"/>
          <a:stretch/>
        </p:blipFill>
        <p:spPr>
          <a:xfrm>
            <a:off x="1116000" y="1066680"/>
            <a:ext cx="6912000" cy="49690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SREX: Managing the Risks of Extreme Events and Disasters to Advance Climate Change Adap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132000" y="5705640"/>
            <a:ext cx="60120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ounded Rectangle 9"/>
          <p:cNvSpPr/>
          <p:nvPr/>
        </p:nvSpPr>
        <p:spPr>
          <a:xfrm>
            <a:off x="179280" y="1916280"/>
            <a:ext cx="8713800" cy="23047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539640" y="1563840"/>
            <a:ext cx="79232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Renewable Energy and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51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2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Bio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3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Direct Solar 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4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Geotherm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5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Hydro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6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Ocea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7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Wind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25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8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Integration of Renewable Energy int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Present and Future Energ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9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Renewable Energy in the Context of Sustainable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0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Mitigation Potential an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1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Policy, Financing and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250560" y="981000"/>
            <a:ext cx="82119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591320" y="6539040"/>
            <a:ext cx="15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Luderer et al.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79280" y="5157720"/>
            <a:ext cx="2016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6012000" y="2416320"/>
            <a:ext cx="223020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42920" indent="-142920">
              <a:spcBef>
                <a:spcPts val="51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Arial"/>
                <a:ea typeface="宋体"/>
              </a:rPr>
              <a:t>Technology Cha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748720" y="77760"/>
            <a:ext cx="379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9F208A3-7939-4B0B-8FF9-4D8A15B691AC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SRREN: Special Report on Renewable Energy Sources and Climate Change Mit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4942-246D-4068-A3EA-9E55610FC0B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350640" y="1341360"/>
            <a:ext cx="8399160" cy="30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IPCC is the honest broker between experts and decision makers in business, politics and civil socie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olicy relevant but not policy prescrip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71640" y="260280"/>
            <a:ext cx="669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3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Arial Unicode MS"/>
              </a:rPr>
              <a:t>Final Re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</a:rPr>
              <a:t>AR5 Innovation: Considering Risk/Uncertainty in all WG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10000" y="586908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2932200" y="2495520"/>
            <a:ext cx="2471760" cy="2239920"/>
          </a:xfrm>
          <a:prstGeom prst="roundRect">
            <a:avLst>
              <a:gd name="adj" fmla="val 153"/>
            </a:avLst>
          </a:prstGeom>
          <a:solidFill>
            <a:srgbClr val="339966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6458040" y="2490840"/>
            <a:ext cx="2489040" cy="2233440"/>
          </a:xfrm>
          <a:prstGeom prst="roundRect">
            <a:avLst>
              <a:gd name="adj" fmla="val 153"/>
            </a:avLst>
          </a:prstGeom>
          <a:solidFill>
            <a:srgbClr val="0000ff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35B0248-BD51-4B4C-AB3A-277D6CC9695D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0280" y="2471400"/>
            <a:ext cx="13017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WG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02040" y="2498760"/>
            <a:ext cx="16603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cc33"/>
                </a:solidFill>
                <a:latin typeface="Arial"/>
              </a:rPr>
              <a:t>WG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99080" y="2422440"/>
            <a:ext cx="17780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WG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79920" y="3621240"/>
            <a:ext cx="91296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48280" y="5348160"/>
            <a:ext cx="423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te picture of impact and mitigation costs for policy relev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51200" y="1407960"/>
            <a:ext cx="225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xtreme events, </a:t>
            </a:r>
            <a:br>
              <a:rPr sz="2200"/>
            </a:br>
            <a:r>
              <a:rPr b="0" lang="de-DE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ea level r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223920" y="2486160"/>
            <a:ext cx="2473200" cy="2255760"/>
          </a:xfrm>
          <a:prstGeom prst="roundRect">
            <a:avLst>
              <a:gd name="adj" fmla="val 153"/>
            </a:avLst>
          </a:prstGeom>
          <a:solidFill>
            <a:srgbClr val="ff0000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760" y="3057480"/>
            <a:ext cx="23191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xtreme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a level 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33960" y="4832280"/>
            <a:ext cx="1336680" cy="40320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210000" y="4816440"/>
            <a:ext cx="1390680" cy="447840"/>
          </a:xfrm>
          <a:prstGeom prst="line">
            <a:avLst/>
          </a:prstGeom>
          <a:ln w="63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4788000" y="6093000"/>
            <a:ext cx="2041560" cy="59832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1.5°/2º/3º), </a:t>
            </a: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3º/4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90560" y="871560"/>
            <a:ext cx="4354560" cy="1501920"/>
          </a:xfrm>
          <a:custGeom>
            <a:avLst/>
            <a:gdLst/>
            <a:ahLst/>
            <a:rect l="l" t="t" r="r" b="b"/>
            <a:pathLst>
              <a:path w="2743" h="946">
                <a:moveTo>
                  <a:pt x="0" y="946"/>
                </a:moveTo>
                <a:cubicBezTo>
                  <a:pt x="430" y="0"/>
                  <a:pt x="2350" y="50"/>
                  <a:pt x="2743" y="909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6920" y="3141720"/>
            <a:ext cx="8654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t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030480" y="3087720"/>
            <a:ext cx="2206440" cy="1258920"/>
            <a:chOff x="3030480" y="3087720"/>
            <a:chExt cx="2206440" cy="1258920"/>
          </a:xfrm>
        </p:grpSpPr>
        <p:sp>
          <p:nvSpPr>
            <p:cNvPr id="242" name=""/>
            <p:cNvSpPr/>
            <p:nvPr/>
          </p:nvSpPr>
          <p:spPr>
            <a:xfrm>
              <a:off x="3428640" y="3702240"/>
              <a:ext cx="1800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5492cd"/>
                </a:buClr>
                <a:buFont typeface="Symbol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1.5°/2ºC/3º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30480" y="3087720"/>
              <a:ext cx="220644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9000"/>
            </a:bodyPr>
            <a:p>
              <a:pPr marL="202320" indent="-202320">
                <a:spcBef>
                  <a:spcPts val="349"/>
                </a:spcBef>
                <a:buClr>
                  <a:srgbClr val="5492c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ifferential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mpact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35120" y="4000680"/>
              <a:ext cx="1800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5492cd"/>
                </a:buClr>
                <a:buFont typeface="Symbol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3ºC/4º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6956280" y="3809880"/>
            <a:ext cx="2389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492c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1.5°/2ºC/3º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91160" y="3076560"/>
            <a:ext cx="2928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rgi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igation cos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64200" y="4108320"/>
            <a:ext cx="23907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492c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3ºC/4º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WG I Science Gaps and Question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Trends and rates of observed climate change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as climate change accelera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arge ice sheets in polar regions 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Is the Greenland ice sheet st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Irreversibilities and abrupt change in the climate system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robust and accurate is our understanding?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ouds and aerosols and their feedback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What is the forcing uncertainty associated with cloud and aerosol proces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arbon and other biogeochemical cycle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Which carbon cycle feedbacks become relevant in the coming decad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ear-term and long-term climate projection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reliable is decadal prediction, what are the uncertainties beyond 210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mate phenomena across region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do frequencies and amplitudes of monsoon, ENSO, and others chan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29280" y="31680"/>
            <a:ext cx="2125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80FF22D-EAA4-495D-B338-6FB37E943315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WG II Major T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840" y="1052640"/>
            <a:ext cx="90741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ming to support good decisions, including     information on ri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integration of climate science with climate impa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ader range of assessed impac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mate change in the context of other str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treatment of extremes and disas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ed treatment of 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integration of adaptation, mitigation,                    and development at different regional sc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settlements, industry, and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A: GLOBAL &amp; SECTORAL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xt for the AR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ural and managed resources and systems, and their 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settlements, industry, and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health, well-being, and secu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-sector impacts, risks, vulnerabilities, and opportun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B: REGIONAL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WG I and WG III input and collabo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Major Sections or “Superchap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1:25:29Z</dcterms:created>
  <dc:creator>Steffen Schlömer</dc:creator>
  <dc:description/>
  <dc:language>en-US</dc:language>
  <cp:lastModifiedBy>Administrator</cp:lastModifiedBy>
  <dcterms:modified xsi:type="dcterms:W3CDTF">2010-06-03T09:28:07Z</dcterms:modified>
  <cp:revision>144</cp:revision>
  <dc:subject/>
  <dc:title>Slide 1</dc:title>
</cp:coreProperties>
</file>