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1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2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D246-F79F-4775-A8C8-FEE1E8EE2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Infra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face between adaptation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ses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herence between Working Groups through development of common socio-economic scenari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147680" y="758880"/>
            <a:ext cx="44262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06480" y="4700160"/>
            <a:ext cx="48988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chnical potent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gration: challenges, costs, social acceptance, ris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nergy system transformation costs (gradual/radica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Policy instruments &amp; financing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advantages and disadvantages, uncertainties and inconsistent 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Identification of knowledge g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63AE-A7C5-4C6D-B078-86BF58F681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D401-B9A5-4F5E-9A92-929047B7E33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DC4-013F-4D9D-8D82-601C3C8A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F1F-92D4-4400-AE1D-7C92B313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0D75-62BD-4AC5-8C67-D9B35BB4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8534-1B32-45DE-8583-1857C0CA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0828-E436-4A82-822C-CABAB50D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9C5-8D3E-4A55-AA2A-1FCF240B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5443-0B64-4F05-B67D-3DC0102A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4214-FC7B-40C0-BE2B-AB22A032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5F7E-FF43-4585-9697-E800EE7A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9A5-E765-4533-83E8-E9DC9F90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E39A-AE25-45DE-AF46-8484D7C8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6EDB-B1BA-4478-9818-F908BC06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0E2C-1FC8-44B4-9432-B668BB4A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04C2-88A8-4EFD-93B0-D6A2CFD5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20D4-BFE4-4BE1-B1A2-01C493E2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CE30-C8F8-4E2A-AD48-DFBC0DEB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3E05-E7EB-4C83-9661-92FF636C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3187-4592-4B4F-AABA-9A003D8C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CAF1-45B2-4AD0-BBE0-5347A156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60CA4-4B90-4D99-B2C8-A2926077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734-A210-4600-A970-24EFE5C4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56180-45A5-4496-BF41-767B4223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22B93-68B8-4B18-A37A-D3533D25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F1AAB-115F-4AAC-A870-D6674022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3C26C-8D6A-4064-844C-A6208F56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AE6C2-49F4-4332-8F56-77C46D32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06574-AB68-4BF7-AF57-F4E45E07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A8453-F276-4380-884A-2AEBF2AA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1ECE5-ABC5-4040-B365-528005A9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22DCA-5AF1-4DBB-AFD1-161ECDFD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616D8-0475-46E8-AAE4-52508466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19F7-7C8D-4359-A5AD-D38FFDD3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12CD7-F7F4-401A-82D5-06154BD3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C65-0D7E-47B3-AAD0-27F5864E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98A-A0F2-4CC0-8CE9-B77005FF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E699-C603-4AEF-B49F-50CF35F2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E0E0-C0B2-47B4-BBCA-BC1F6BFF8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E9CD-1DAF-407E-B077-CA0A9E70D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55DA-77ED-49BC-9E21-9D6F31BD4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CC AR5: Innovations and Cooperation among WG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BSTA, 3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ssion, 31 May to 9 June 2010, Bonn, Germany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. Dr. Ottmar Edenhofer</a:t>
            </a:r>
            <a:br>
              <a:rPr sz="2000"/>
            </a:br>
            <a:br>
              <a:rPr sz="2000"/>
            </a:br>
            <a:r>
              <a:rPr b="0" lang="en-GB" sz="1600" spc="-1" strike="noStrike">
                <a:solidFill>
                  <a:srgbClr val="808080"/>
                </a:solidFill>
                <a:latin typeface="Arial"/>
                <a:ea typeface="Arial"/>
              </a:rPr>
              <a:t>Christoph von Stec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FD977B2-C1BA-41E9-8D3C-D5F4642AEAB8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5760" y="160020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Stabilisation Scenarios which identify the technical and institutional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ring the costs, benefits and risks of all relevant mitigation op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differential impacts and develop a classification of risks comprising tipping points in the natural environment and also in socie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The Research Challenge of WG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AB1788-B8A9-4E50-AFAA-1D8E138FA7D2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Comprehensive Understanding of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"/>
          <p:cNvGrpSpPr/>
          <p:nvPr/>
        </p:nvGrpSpPr>
        <p:grpSpPr>
          <a:xfrm>
            <a:off x="2233440" y="1758960"/>
            <a:ext cx="1260360" cy="934920"/>
            <a:chOff x="2233440" y="1758960"/>
            <a:chExt cx="1260360" cy="934920"/>
          </a:xfrm>
        </p:grpSpPr>
        <p:sp>
          <p:nvSpPr>
            <p:cNvPr id="281" name="AutoShape 3"/>
            <p:cNvSpPr/>
            <p:nvPr/>
          </p:nvSpPr>
          <p:spPr>
            <a:xfrm>
              <a:off x="2233440" y="175896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4"/>
            <p:cNvSpPr/>
            <p:nvPr/>
          </p:nvSpPr>
          <p:spPr>
            <a:xfrm>
              <a:off x="2233440" y="175896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AutoShape 3"/>
          <p:cNvSpPr/>
          <p:nvPr/>
        </p:nvSpPr>
        <p:spPr>
          <a:xfrm>
            <a:off x="3933720" y="504972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319400" y="454824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827360" y="487692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0"/>
          <p:cNvGrpSpPr/>
          <p:nvPr/>
        </p:nvGrpSpPr>
        <p:grpSpPr>
          <a:xfrm>
            <a:off x="825480" y="3726000"/>
            <a:ext cx="1257120" cy="1027080"/>
            <a:chOff x="825480" y="3726000"/>
            <a:chExt cx="1257120" cy="1027080"/>
          </a:xfrm>
        </p:grpSpPr>
        <p:sp>
          <p:nvSpPr>
            <p:cNvPr id="287" name="AutoShape 31"/>
            <p:cNvSpPr/>
            <p:nvPr/>
          </p:nvSpPr>
          <p:spPr>
            <a:xfrm>
              <a:off x="825480" y="372600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2"/>
            <p:cNvSpPr/>
            <p:nvPr/>
          </p:nvSpPr>
          <p:spPr>
            <a:xfrm>
              <a:off x="922320" y="399708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3"/>
          <p:cNvGrpSpPr/>
          <p:nvPr/>
        </p:nvGrpSpPr>
        <p:grpSpPr>
          <a:xfrm>
            <a:off x="817560" y="5106960"/>
            <a:ext cx="1240920" cy="682560"/>
            <a:chOff x="817560" y="5106960"/>
            <a:chExt cx="1240920" cy="682560"/>
          </a:xfrm>
        </p:grpSpPr>
        <p:sp>
          <p:nvSpPr>
            <p:cNvPr id="290" name="AutoShape 34"/>
            <p:cNvSpPr/>
            <p:nvPr/>
          </p:nvSpPr>
          <p:spPr>
            <a:xfrm>
              <a:off x="817560" y="510696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5"/>
            <p:cNvSpPr/>
            <p:nvPr/>
          </p:nvSpPr>
          <p:spPr>
            <a:xfrm>
              <a:off x="905040" y="521856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43"/>
          <p:cNvSpPr/>
          <p:nvPr/>
        </p:nvSpPr>
        <p:spPr>
          <a:xfrm>
            <a:off x="3867120" y="213192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3"/>
          <p:cNvGrpSpPr/>
          <p:nvPr/>
        </p:nvGrpSpPr>
        <p:grpSpPr>
          <a:xfrm>
            <a:off x="874800" y="1758960"/>
            <a:ext cx="1144440" cy="931680"/>
            <a:chOff x="874800" y="1758960"/>
            <a:chExt cx="1144440" cy="931680"/>
          </a:xfrm>
        </p:grpSpPr>
        <p:sp>
          <p:nvSpPr>
            <p:cNvPr id="294" name="AutoShape 14"/>
            <p:cNvSpPr/>
            <p:nvPr/>
          </p:nvSpPr>
          <p:spPr>
            <a:xfrm>
              <a:off x="874800" y="175896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874800" y="200052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"/>
          <p:cNvGrpSpPr/>
          <p:nvPr/>
        </p:nvGrpSpPr>
        <p:grpSpPr>
          <a:xfrm>
            <a:off x="3713040" y="1773360"/>
            <a:ext cx="1204920" cy="923760"/>
            <a:chOff x="3713040" y="1773360"/>
            <a:chExt cx="1204920" cy="923760"/>
          </a:xfrm>
        </p:grpSpPr>
        <p:sp>
          <p:nvSpPr>
            <p:cNvPr id="297" name="AutoShape 3"/>
            <p:cNvSpPr/>
            <p:nvPr/>
          </p:nvSpPr>
          <p:spPr>
            <a:xfrm>
              <a:off x="3713040" y="1773360"/>
              <a:ext cx="1204920" cy="92376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"/>
            <p:cNvSpPr/>
            <p:nvPr/>
          </p:nvSpPr>
          <p:spPr>
            <a:xfrm>
              <a:off x="3713040" y="177336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"/>
          <p:cNvGrpSpPr/>
          <p:nvPr/>
        </p:nvGrpSpPr>
        <p:grpSpPr>
          <a:xfrm>
            <a:off x="5154480" y="1774800"/>
            <a:ext cx="1204920" cy="922320"/>
            <a:chOff x="5154480" y="1774800"/>
            <a:chExt cx="1204920" cy="922320"/>
          </a:xfrm>
        </p:grpSpPr>
        <p:sp>
          <p:nvSpPr>
            <p:cNvPr id="300" name="AutoShape 6"/>
            <p:cNvSpPr/>
            <p:nvPr/>
          </p:nvSpPr>
          <p:spPr>
            <a:xfrm>
              <a:off x="5154480" y="177480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"/>
            <p:cNvSpPr/>
            <p:nvPr/>
          </p:nvSpPr>
          <p:spPr>
            <a:xfrm>
              <a:off x="5154480" y="177480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8"/>
          <p:cNvGrpSpPr/>
          <p:nvPr/>
        </p:nvGrpSpPr>
        <p:grpSpPr>
          <a:xfrm>
            <a:off x="6621480" y="1757520"/>
            <a:ext cx="1392120" cy="972360"/>
            <a:chOff x="6621480" y="1757520"/>
            <a:chExt cx="1392120" cy="972360"/>
          </a:xfrm>
        </p:grpSpPr>
        <p:sp>
          <p:nvSpPr>
            <p:cNvPr id="303" name="AutoShape 9"/>
            <p:cNvSpPr/>
            <p:nvPr/>
          </p:nvSpPr>
          <p:spPr>
            <a:xfrm>
              <a:off x="6635520" y="1757520"/>
              <a:ext cx="137808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6621480" y="177012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5" name="Straight Arrow Connector 61"/>
          <p:cNvCxnSpPr/>
          <p:nvPr/>
        </p:nvCxnSpPr>
        <p:spPr>
          <a:xfrm flipH="1">
            <a:off x="970920" y="272520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Straight Arrow Connector 63"/>
          <p:cNvCxnSpPr/>
          <p:nvPr/>
        </p:nvCxnSpPr>
        <p:spPr>
          <a:xfrm flipH="1">
            <a:off x="1122120" y="2733480"/>
            <a:ext cx="1410480" cy="875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64"/>
          <p:cNvCxnSpPr/>
          <p:nvPr/>
        </p:nvCxnSpPr>
        <p:spPr>
          <a:xfrm flipH="1">
            <a:off x="1385640" y="273024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65"/>
          <p:cNvCxnSpPr/>
          <p:nvPr/>
        </p:nvCxnSpPr>
        <p:spPr>
          <a:xfrm flipH="1">
            <a:off x="1809720" y="2730600"/>
            <a:ext cx="3951720" cy="883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66"/>
          <p:cNvCxnSpPr/>
          <p:nvPr/>
        </p:nvCxnSpPr>
        <p:spPr>
          <a:xfrm flipH="1">
            <a:off x="2179440" y="2728800"/>
            <a:ext cx="5202720" cy="982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82"/>
          <p:cNvCxnSpPr/>
          <p:nvPr/>
        </p:nvCxnSpPr>
        <p:spPr>
          <a:xfrm>
            <a:off x="4992840" y="543384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92"/>
          <p:cNvCxnSpPr/>
          <p:nvPr/>
        </p:nvCxnSpPr>
        <p:spPr>
          <a:xfrm>
            <a:off x="2118960" y="543564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16"/>
          <p:cNvCxnSpPr/>
          <p:nvPr/>
        </p:nvCxnSpPr>
        <p:spPr>
          <a:xfrm flipV="1">
            <a:off x="4560840" y="401400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AutoShape 6"/>
          <p:cNvSpPr/>
          <p:nvPr/>
        </p:nvSpPr>
        <p:spPr>
          <a:xfrm>
            <a:off x="5613480" y="3686040"/>
            <a:ext cx="1341360" cy="75276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5614920" y="5062680"/>
            <a:ext cx="1366920" cy="76968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06800" y="233028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3760" y="233028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9080" y="23353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2760" y="234144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81160" y="2335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16"/>
          <p:cNvCxnSpPr/>
          <p:nvPr/>
        </p:nvCxnSpPr>
        <p:spPr>
          <a:xfrm>
            <a:off x="4186080" y="435456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AutoShape 6"/>
          <p:cNvSpPr/>
          <p:nvPr/>
        </p:nvSpPr>
        <p:spPr>
          <a:xfrm>
            <a:off x="2716200" y="371304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84"/>
          <p:cNvCxnSpPr/>
          <p:nvPr/>
        </p:nvCxnSpPr>
        <p:spPr>
          <a:xfrm flipV="1">
            <a:off x="2135160" y="401256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AutoShape 6"/>
          <p:cNvSpPr/>
          <p:nvPr/>
        </p:nvSpPr>
        <p:spPr>
          <a:xfrm>
            <a:off x="7512120" y="432108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Straight Arrow Connector 81"/>
          <p:cNvCxnSpPr/>
          <p:nvPr/>
        </p:nvCxnSpPr>
        <p:spPr>
          <a:xfrm>
            <a:off x="7002000" y="404028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Straight Arrow Connector 81"/>
          <p:cNvCxnSpPr/>
          <p:nvPr/>
        </p:nvCxnSpPr>
        <p:spPr>
          <a:xfrm flipV="1">
            <a:off x="7040520" y="480492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A24C24F-548B-4D83-A9DE-86D0A52BB6C4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Assessing the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2233440" y="1762200"/>
            <a:ext cx="1260360" cy="934920"/>
            <a:chOff x="2233440" y="1762200"/>
            <a:chExt cx="1260360" cy="934920"/>
          </a:xfrm>
        </p:grpSpPr>
        <p:sp>
          <p:nvSpPr>
            <p:cNvPr id="329" name="AutoShape 3"/>
            <p:cNvSpPr/>
            <p:nvPr/>
          </p:nvSpPr>
          <p:spPr>
            <a:xfrm>
              <a:off x="2233440" y="176220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2233440" y="176220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AutoShape 3"/>
          <p:cNvSpPr/>
          <p:nvPr/>
        </p:nvSpPr>
        <p:spPr>
          <a:xfrm>
            <a:off x="3933720" y="505296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1319400" y="455148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1827360" y="487980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0"/>
          <p:cNvGrpSpPr/>
          <p:nvPr/>
        </p:nvGrpSpPr>
        <p:grpSpPr>
          <a:xfrm>
            <a:off x="825480" y="3728880"/>
            <a:ext cx="1257120" cy="1027080"/>
            <a:chOff x="825480" y="3728880"/>
            <a:chExt cx="1257120" cy="1027080"/>
          </a:xfrm>
        </p:grpSpPr>
        <p:sp>
          <p:nvSpPr>
            <p:cNvPr id="335" name="AutoShape 31"/>
            <p:cNvSpPr/>
            <p:nvPr/>
          </p:nvSpPr>
          <p:spPr>
            <a:xfrm>
              <a:off x="825480" y="372888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2"/>
            <p:cNvSpPr/>
            <p:nvPr/>
          </p:nvSpPr>
          <p:spPr>
            <a:xfrm>
              <a:off x="922320" y="399996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3"/>
          <p:cNvGrpSpPr/>
          <p:nvPr/>
        </p:nvGrpSpPr>
        <p:grpSpPr>
          <a:xfrm>
            <a:off x="817560" y="5110200"/>
            <a:ext cx="1240920" cy="682560"/>
            <a:chOff x="817560" y="5110200"/>
            <a:chExt cx="1240920" cy="682560"/>
          </a:xfrm>
        </p:grpSpPr>
        <p:sp>
          <p:nvSpPr>
            <p:cNvPr id="338" name="AutoShape 34"/>
            <p:cNvSpPr/>
            <p:nvPr/>
          </p:nvSpPr>
          <p:spPr>
            <a:xfrm>
              <a:off x="817560" y="511020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905040" y="522180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Line 43"/>
          <p:cNvSpPr/>
          <p:nvPr/>
        </p:nvSpPr>
        <p:spPr>
          <a:xfrm>
            <a:off x="3867120" y="213516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3"/>
          <p:cNvGrpSpPr/>
          <p:nvPr/>
        </p:nvGrpSpPr>
        <p:grpSpPr>
          <a:xfrm>
            <a:off x="874800" y="1762200"/>
            <a:ext cx="1144440" cy="931680"/>
            <a:chOff x="874800" y="1762200"/>
            <a:chExt cx="1144440" cy="931680"/>
          </a:xfrm>
        </p:grpSpPr>
        <p:sp>
          <p:nvSpPr>
            <p:cNvPr id="342" name="AutoShape 14"/>
            <p:cNvSpPr/>
            <p:nvPr/>
          </p:nvSpPr>
          <p:spPr>
            <a:xfrm>
              <a:off x="874800" y="176220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5"/>
            <p:cNvSpPr/>
            <p:nvPr/>
          </p:nvSpPr>
          <p:spPr>
            <a:xfrm>
              <a:off x="874800" y="200376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"/>
          <p:cNvGrpSpPr/>
          <p:nvPr/>
        </p:nvGrpSpPr>
        <p:grpSpPr>
          <a:xfrm>
            <a:off x="3713040" y="1776240"/>
            <a:ext cx="1204920" cy="924120"/>
            <a:chOff x="3713040" y="1776240"/>
            <a:chExt cx="1204920" cy="924120"/>
          </a:xfrm>
        </p:grpSpPr>
        <p:sp>
          <p:nvSpPr>
            <p:cNvPr id="345" name="AutoShape 3"/>
            <p:cNvSpPr/>
            <p:nvPr/>
          </p:nvSpPr>
          <p:spPr>
            <a:xfrm>
              <a:off x="3713040" y="1776240"/>
              <a:ext cx="1204920" cy="9241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"/>
            <p:cNvSpPr/>
            <p:nvPr/>
          </p:nvSpPr>
          <p:spPr>
            <a:xfrm>
              <a:off x="3713040" y="17762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"/>
          <p:cNvGrpSpPr/>
          <p:nvPr/>
        </p:nvGrpSpPr>
        <p:grpSpPr>
          <a:xfrm>
            <a:off x="5154480" y="1778040"/>
            <a:ext cx="1204920" cy="922320"/>
            <a:chOff x="5154480" y="1778040"/>
            <a:chExt cx="1204920" cy="922320"/>
          </a:xfrm>
        </p:grpSpPr>
        <p:sp>
          <p:nvSpPr>
            <p:cNvPr id="348" name="AutoShape 6"/>
            <p:cNvSpPr/>
            <p:nvPr/>
          </p:nvSpPr>
          <p:spPr>
            <a:xfrm>
              <a:off x="5154480" y="177804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7"/>
            <p:cNvSpPr/>
            <p:nvPr/>
          </p:nvSpPr>
          <p:spPr>
            <a:xfrm>
              <a:off x="5154480" y="17780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8"/>
          <p:cNvGrpSpPr/>
          <p:nvPr/>
        </p:nvGrpSpPr>
        <p:grpSpPr>
          <a:xfrm>
            <a:off x="6621480" y="1760400"/>
            <a:ext cx="1392120" cy="972360"/>
            <a:chOff x="6621480" y="1760400"/>
            <a:chExt cx="1392120" cy="972360"/>
          </a:xfrm>
        </p:grpSpPr>
        <p:sp>
          <p:nvSpPr>
            <p:cNvPr id="351" name="AutoShape 9"/>
            <p:cNvSpPr/>
            <p:nvPr/>
          </p:nvSpPr>
          <p:spPr>
            <a:xfrm>
              <a:off x="6635520" y="1760400"/>
              <a:ext cx="1378080" cy="9352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0"/>
            <p:cNvSpPr/>
            <p:nvPr/>
          </p:nvSpPr>
          <p:spPr>
            <a:xfrm>
              <a:off x="6621480" y="177300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3" name="Straight Arrow Connector 61"/>
          <p:cNvCxnSpPr/>
          <p:nvPr/>
        </p:nvCxnSpPr>
        <p:spPr>
          <a:xfrm flipH="1">
            <a:off x="970920" y="272844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63"/>
          <p:cNvCxnSpPr/>
          <p:nvPr/>
        </p:nvCxnSpPr>
        <p:spPr>
          <a:xfrm flipH="1">
            <a:off x="1122120" y="2736720"/>
            <a:ext cx="1410480" cy="8755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4"/>
          <p:cNvCxnSpPr/>
          <p:nvPr/>
        </p:nvCxnSpPr>
        <p:spPr>
          <a:xfrm flipH="1">
            <a:off x="1385640" y="273348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5"/>
          <p:cNvCxnSpPr/>
          <p:nvPr/>
        </p:nvCxnSpPr>
        <p:spPr>
          <a:xfrm flipH="1">
            <a:off x="1809720" y="2733480"/>
            <a:ext cx="3951720" cy="883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6"/>
          <p:cNvCxnSpPr/>
          <p:nvPr/>
        </p:nvCxnSpPr>
        <p:spPr>
          <a:xfrm flipH="1">
            <a:off x="2179440" y="2731680"/>
            <a:ext cx="5202720" cy="981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82"/>
          <p:cNvCxnSpPr/>
          <p:nvPr/>
        </p:nvCxnSpPr>
        <p:spPr>
          <a:xfrm>
            <a:off x="4992840" y="543708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92"/>
          <p:cNvCxnSpPr/>
          <p:nvPr/>
        </p:nvCxnSpPr>
        <p:spPr>
          <a:xfrm>
            <a:off x="2118960" y="543888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0" name="Straight Arrow Connector 116"/>
          <p:cNvCxnSpPr/>
          <p:nvPr/>
        </p:nvCxnSpPr>
        <p:spPr>
          <a:xfrm flipV="1">
            <a:off x="4560840" y="401724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1" name="AutoShape 35"/>
          <p:cNvSpPr/>
          <p:nvPr/>
        </p:nvSpPr>
        <p:spPr>
          <a:xfrm>
            <a:off x="6635880" y="841320"/>
            <a:ext cx="171288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p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Plant (C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5"/>
          <p:cNvSpPr/>
          <p:nvPr/>
        </p:nvSpPr>
        <p:spPr>
          <a:xfrm>
            <a:off x="3097080" y="841320"/>
            <a:ext cx="179100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-Styl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5"/>
          <p:cNvSpPr/>
          <p:nvPr/>
        </p:nvSpPr>
        <p:spPr>
          <a:xfrm>
            <a:off x="5154480" y="841320"/>
            <a:ext cx="123372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Foss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139"/>
          <p:cNvCxnSpPr/>
          <p:nvPr/>
        </p:nvCxnSpPr>
        <p:spPr>
          <a:xfrm flipV="1">
            <a:off x="577188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5" name="AutoShape 6"/>
          <p:cNvSpPr/>
          <p:nvPr/>
        </p:nvSpPr>
        <p:spPr>
          <a:xfrm>
            <a:off x="5613480" y="3689280"/>
            <a:ext cx="1341360" cy="75240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5614920" y="5065560"/>
            <a:ext cx="1366920" cy="7700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139"/>
          <p:cNvCxnSpPr/>
          <p:nvPr/>
        </p:nvCxnSpPr>
        <p:spPr>
          <a:xfrm flipV="1">
            <a:off x="7268760" y="148068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68" name="Straight Arrow Connector 139"/>
          <p:cNvCxnSpPr/>
          <p:nvPr/>
        </p:nvCxnSpPr>
        <p:spPr>
          <a:xfrm flipV="1">
            <a:off x="424476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9" name=""/>
          <p:cNvSpPr/>
          <p:nvPr/>
        </p:nvSpPr>
        <p:spPr>
          <a:xfrm>
            <a:off x="6706800" y="233352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3760" y="233352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9080" y="23385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2760" y="234468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1160" y="2338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traight Arrow Connector 116"/>
          <p:cNvCxnSpPr/>
          <p:nvPr/>
        </p:nvCxnSpPr>
        <p:spPr>
          <a:xfrm>
            <a:off x="4186080" y="435780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5" name="AutoShape 6"/>
          <p:cNvSpPr/>
          <p:nvPr/>
        </p:nvSpPr>
        <p:spPr>
          <a:xfrm>
            <a:off x="2716200" y="371628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84"/>
          <p:cNvCxnSpPr/>
          <p:nvPr/>
        </p:nvCxnSpPr>
        <p:spPr>
          <a:xfrm flipV="1">
            <a:off x="2135160" y="401580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Straight Arrow Connector 134"/>
          <p:cNvCxnSpPr/>
          <p:nvPr/>
        </p:nvCxnSpPr>
        <p:spPr>
          <a:xfrm flipH="1" flipV="1">
            <a:off x="3450600" y="43124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78" name="AutoShape 35"/>
          <p:cNvSpPr/>
          <p:nvPr/>
        </p:nvSpPr>
        <p:spPr>
          <a:xfrm>
            <a:off x="2732040" y="4446720"/>
            <a:ext cx="1295280" cy="5014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133"/>
          <p:cNvCxnSpPr/>
          <p:nvPr/>
        </p:nvCxnSpPr>
        <p:spPr>
          <a:xfrm flipH="1" flipV="1">
            <a:off x="1445400" y="57920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80" name="Straight Arrow Connector 134"/>
          <p:cNvCxnSpPr/>
          <p:nvPr/>
        </p:nvCxnSpPr>
        <p:spPr>
          <a:xfrm flipH="1" flipV="1">
            <a:off x="4301280" y="584280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81" name="AutoShape 35"/>
          <p:cNvSpPr/>
          <p:nvPr/>
        </p:nvSpPr>
        <p:spPr>
          <a:xfrm>
            <a:off x="814320" y="5996160"/>
            <a:ext cx="1712880" cy="45720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ri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actice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3"/>
          <p:cNvSpPr/>
          <p:nvPr/>
        </p:nvSpPr>
        <p:spPr>
          <a:xfrm flipV="1" rot="10800000">
            <a:off x="3201840" y="5996160"/>
            <a:ext cx="1756080" cy="4665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7512120" y="432432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81"/>
          <p:cNvCxnSpPr/>
          <p:nvPr/>
        </p:nvCxnSpPr>
        <p:spPr>
          <a:xfrm>
            <a:off x="7002000" y="404352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AutoShape 33"/>
          <p:cNvSpPr/>
          <p:nvPr/>
        </p:nvSpPr>
        <p:spPr>
          <a:xfrm flipV="1" rot="10800000">
            <a:off x="7294680" y="5439240"/>
            <a:ext cx="1482480" cy="3207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134"/>
          <p:cNvCxnSpPr/>
          <p:nvPr/>
        </p:nvCxnSpPr>
        <p:spPr>
          <a:xfrm flipH="1" flipV="1">
            <a:off x="8031960" y="5087520"/>
            <a:ext cx="2520" cy="35784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87" name="Straight Arrow Connector 81"/>
          <p:cNvCxnSpPr/>
          <p:nvPr/>
        </p:nvCxnSpPr>
        <p:spPr>
          <a:xfrm flipV="1">
            <a:off x="7040520" y="480816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Straight Arrow Connector 133"/>
          <p:cNvCxnSpPr/>
          <p:nvPr/>
        </p:nvCxnSpPr>
        <p:spPr>
          <a:xfrm flipH="1" flipV="1">
            <a:off x="366480" y="4142520"/>
            <a:ext cx="3600" cy="216468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cxnSp>
        <p:nvCxnSpPr>
          <p:cNvPr id="389" name="Straight Arrow Connector 133"/>
          <p:cNvCxnSpPr/>
          <p:nvPr/>
        </p:nvCxnSpPr>
        <p:spPr>
          <a:xfrm>
            <a:off x="356760" y="4149720"/>
            <a:ext cx="469080" cy="72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90" name="Straight Arrow Connector 133"/>
          <p:cNvCxnSpPr/>
          <p:nvPr/>
        </p:nvCxnSpPr>
        <p:spPr>
          <a:xfrm flipV="1">
            <a:off x="358560" y="6306840"/>
            <a:ext cx="448200" cy="216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C6521E6-FAC1-44C9-B0BF-3EA60D388622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6"/>
          <p:cNvSpPr/>
          <p:nvPr/>
        </p:nvSpPr>
        <p:spPr>
          <a:xfrm>
            <a:off x="5724360" y="907920"/>
            <a:ext cx="34196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e of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96360" y="2205000"/>
            <a:ext cx="360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38036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5580000" y="465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7380360" y="1773360"/>
            <a:ext cx="1763640" cy="1242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7365960" y="4653000"/>
            <a:ext cx="1778040" cy="12524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6"/>
          <p:cNvSpPr/>
          <p:nvPr/>
        </p:nvSpPr>
        <p:spPr>
          <a:xfrm>
            <a:off x="826920" y="1576440"/>
            <a:ext cx="14414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27280" y="1557360"/>
            <a:ext cx="23763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-setting by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000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3528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5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256536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7358600">
            <a:off x="3312000" y="-783360"/>
            <a:ext cx="1512720" cy="4032000"/>
          </a:xfrm>
          <a:custGeom>
            <a:avLst/>
            <a:gdLst>
              <a:gd name="textAreaLeft" fmla="*/ 202680 w 1512720"/>
              <a:gd name="textAreaRight" fmla="*/ 1310040 w 1512720"/>
              <a:gd name="textAreaTop" fmla="*/ 793800 h 4032000"/>
              <a:gd name="textAreaBottom" fmla="*/ 295596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2885237"/>
                <a:lnTo>
                  <a:pt x="7200" y="21113"/>
                </a:lnTo>
                <a:lnTo>
                  <a:pt x="0" y="18552"/>
                </a:lnTo>
                <a:lnTo>
                  <a:pt x="7200" y="15017"/>
                </a:lnTo>
                <a:lnTo>
                  <a:pt x="7200" y="16528"/>
                </a:lnTo>
                <a:arcTo wR="21600" hR="8508" stAng="2885237" swAng="-2636956"/>
                <a:lnTo>
                  <a:pt x="21245" y="10045"/>
                </a:lnTo>
                <a:arcTo wR="21600" hR="8508" stAng="-248281" swAng="-5151719"/>
                <a:close/>
              </a:path>
              <a:path fill="darkenLess"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-248281"/>
                <a:lnTo>
                  <a:pt x="21245" y="10045"/>
                </a:lnTo>
                <a:arcTo wR="21600" hR="8508" stAng="-248281" swAng="-5151719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Policy relevant but not policy prescriptive“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6565200">
            <a:off x="1703880" y="2145600"/>
            <a:ext cx="2362320" cy="5246640"/>
          </a:xfrm>
          <a:custGeom>
            <a:avLst/>
            <a:gdLst>
              <a:gd name="textAreaLeft" fmla="*/ 316440 w 2362320"/>
              <a:gd name="textAreaRight" fmla="*/ 2045880 w 2362320"/>
              <a:gd name="textAreaTop" fmla="*/ 1072440 h 5246640"/>
              <a:gd name="textAreaBottom" fmla="*/ 3649320 h 524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2949063"/>
                <a:lnTo>
                  <a:pt x="7200" y="21095"/>
                </a:lnTo>
                <a:lnTo>
                  <a:pt x="0" y="18552"/>
                </a:lnTo>
                <a:lnTo>
                  <a:pt x="7200" y="14999"/>
                </a:lnTo>
                <a:lnTo>
                  <a:pt x="7200" y="17159"/>
                </a:lnTo>
                <a:arcTo wR="21600" hR="8832" stAng="2949063" swAng="-2807095"/>
                <a:lnTo>
                  <a:pt x="21491" y="9720"/>
                </a:lnTo>
                <a:arcTo wR="21600" hR="8832" stAng="-141969" swAng="-5258031"/>
                <a:close/>
              </a:path>
              <a:path fill="darkenLess"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-141969"/>
                <a:lnTo>
                  <a:pt x="21491" y="9720"/>
                </a:lnTo>
                <a:arcTo wR="21600" hR="8832" stAng="-141969" swAng="-5258031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1440" y="406404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ch as impacts from excessive use of biomass or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805800">
            <a:off x="1733760" y="53067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id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 unintended side-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B1F691F-3E54-4035-AC7A-406D6518BDEA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17400" y="808200"/>
            <a:ext cx="7743960" cy="5476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6583320"/>
            <a:ext cx="45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Modified from Graphic by John Weyant (2009)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cenari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EC18619-B9B7-475D-A8FF-F63B4EE7091E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29440" cy="534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35920" cy="5351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4997D6F-E531-434C-9A22-6D16337E2305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126828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n the request of IPCC Chairman Rajendra Pachauri and UN Secretary-General Ban Ki-mo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ed by InterAcademy Council (IAC).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IPCC principles, procedures, management structures and the IPCC scenario process (“honest broker“ rol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port will be prepared for the IPCC Plenary in October 20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Independent Review: Set Up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88840" y="623880"/>
            <a:ext cx="7118640" cy="5338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44B2717-937F-44A6-B2A2-1215A1FE519F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00000" y="636480"/>
            <a:ext cx="7104240" cy="5327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DD47E9F-D58E-41A3-90F6-46DDDAF933E2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80960" y="248436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900000" y="625320"/>
            <a:ext cx="7131240" cy="5348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699228C-E31E-40AD-8AAE-A2C77F24E980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5760" y="1600200"/>
            <a:ext cx="86882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Detection and Attribution related to Anthropogenic Climate Change (09/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Assessing and Combining Multi-Model Climate Projections (0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II / WG II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Meeting on Human Settlement and Infrastructure (postponed to early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 II / WG III Workshop on Socioeconomic Scenarios for Climate Change Impact and Response Assessments (1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Impacts of Ocean Acidification on Marine Biology and Ecosystems (01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I / WGIII Expert Meeting on Economic Analysis, Costing Methods, and Ethics (03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Jointly Organized Meetings/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1BB7A7D-CB56-4327-A63E-77706FBC921C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EX (WG I + II)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"/>
          <p:cNvPicPr/>
          <p:nvPr/>
        </p:nvPicPr>
        <p:blipFill>
          <a:blip r:embed="rId1"/>
          <a:stretch/>
        </p:blipFill>
        <p:spPr>
          <a:xfrm>
            <a:off x="1116000" y="1066680"/>
            <a:ext cx="6912000" cy="4969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EX: Managing the Risks of Extreme Events and Disasters to Advance Climate Change Adap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ounded Rectangle 9"/>
          <p:cNvSpPr/>
          <p:nvPr/>
        </p:nvSpPr>
        <p:spPr>
          <a:xfrm>
            <a:off x="179280" y="1916280"/>
            <a:ext cx="8713800" cy="23047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539640" y="1563840"/>
            <a:ext cx="79232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and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2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Bio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3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Direct Solar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4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Geo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5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Hydro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6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Ocea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7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Wind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25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ion of Renewable Energy in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resent and Future Ener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in the Context of Sustainable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Mitigation Potential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olicy, Financing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211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591320" y="653904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Luderer et al.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5157720"/>
            <a:ext cx="2016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6012000" y="2416320"/>
            <a:ext cx="22302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2920" indent="-1429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  <a:ea typeface="宋体"/>
              </a:rPr>
              <a:t>Technology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748720" y="77760"/>
            <a:ext cx="379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9941C48-400F-43B6-B2F0-94C0140684CC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REN: Special Report on Renewable Energy Sources and Climate Change Mi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1FA4-379E-4DF7-83FD-A03FDE95E81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50640" y="1341360"/>
            <a:ext cx="839916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PCC is the honest broker between experts and decision makers in business, politics and civil socie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olicy relevant but not policy prescrip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71640" y="260280"/>
            <a:ext cx="669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Final R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</a:rPr>
              <a:t>AR5 Innovation: Considering Risk/Uncertainty in all WG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0000" y="586908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2932200" y="2495520"/>
            <a:ext cx="2471760" cy="2239920"/>
          </a:xfrm>
          <a:prstGeom prst="roundRect">
            <a:avLst>
              <a:gd name="adj" fmla="val 153"/>
            </a:avLst>
          </a:prstGeom>
          <a:solidFill>
            <a:srgbClr val="339966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458040" y="2490840"/>
            <a:ext cx="2489040" cy="2233440"/>
          </a:xfrm>
          <a:prstGeom prst="roundRect">
            <a:avLst>
              <a:gd name="adj" fmla="val 153"/>
            </a:avLst>
          </a:prstGeom>
          <a:solidFill>
            <a:srgbClr val="0000ff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A7C81F2-9C27-4B9B-A58B-74E60CCCB2B6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0280" y="2471400"/>
            <a:ext cx="13017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G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02040" y="2498760"/>
            <a:ext cx="16603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W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2422440"/>
            <a:ext cx="17780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WG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79920" y="3621240"/>
            <a:ext cx="91296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8280" y="5348160"/>
            <a:ext cx="42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e picture of impact and mitigation costs for policy relev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51200" y="1407960"/>
            <a:ext cx="225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treme events, </a:t>
            </a:r>
            <a:br>
              <a:rPr sz="2200"/>
            </a:b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a level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223920" y="2486160"/>
            <a:ext cx="2473200" cy="2255760"/>
          </a:xfrm>
          <a:prstGeom prst="roundRect">
            <a:avLst>
              <a:gd name="adj" fmla="val 153"/>
            </a:avLst>
          </a:prstGeom>
          <a:solidFill>
            <a:srgbClr val="ff0000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760" y="3057480"/>
            <a:ext cx="2319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treme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a level 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33960" y="4832280"/>
            <a:ext cx="1336680" cy="40320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210000" y="4816440"/>
            <a:ext cx="1390680" cy="44784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788000" y="6093000"/>
            <a:ext cx="2041560" cy="59832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.5°/2º/3º), </a:t>
            </a: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º/4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0560" y="871560"/>
            <a:ext cx="4354560" cy="1501920"/>
          </a:xfrm>
          <a:custGeom>
            <a:avLst/>
            <a:gdLst/>
            <a:ahLst/>
            <a:rect l="l" t="t" r="r" b="b"/>
            <a:pathLst>
              <a:path w="2743" h="946">
                <a:moveTo>
                  <a:pt x="0" y="946"/>
                </a:moveTo>
                <a:cubicBezTo>
                  <a:pt x="430" y="0"/>
                  <a:pt x="2350" y="50"/>
                  <a:pt x="2743" y="909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6920" y="3141720"/>
            <a:ext cx="8654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30480" y="3087720"/>
            <a:ext cx="2206440" cy="1258920"/>
            <a:chOff x="3030480" y="3087720"/>
            <a:chExt cx="2206440" cy="1258920"/>
          </a:xfrm>
        </p:grpSpPr>
        <p:sp>
          <p:nvSpPr>
            <p:cNvPr id="242" name=""/>
            <p:cNvSpPr/>
            <p:nvPr/>
          </p:nvSpPr>
          <p:spPr>
            <a:xfrm>
              <a:off x="3428640" y="370224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1.5°/2ºC/3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0480" y="3087720"/>
              <a:ext cx="22064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marL="202320" indent="-202320">
                <a:spcBef>
                  <a:spcPts val="349"/>
                </a:spcBef>
                <a:buClr>
                  <a:srgbClr val="549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ifferentia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pac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5120" y="400068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3ºC/4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956280" y="3809880"/>
            <a:ext cx="2389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.5°/2ºC/3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91160" y="3076560"/>
            <a:ext cx="2928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gi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igation cos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64200" y="4108320"/>
            <a:ext cx="2390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ºC/4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WG I Science Gaps and Question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rends and rates of observed climate change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as climate change acceler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arge ice sheets in polar regions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s the Greenland ice sheet s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rreversibilities and abrupt change in the climate system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obust and accurate is our understanding?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ouds and aerosols and their feedback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at is the forcing uncertainty associated with cloud and aeroso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arbon and other biogeochemical cycle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ich carbon cycle feedbacks become relevant in the coming deca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ear-term and long-term climate project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eliable is decadal prediction, what are the uncertainties beyond 21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mate phenomena across reg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do frequencies and amplitudes of monsoon, ENSO, and others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29280" y="31680"/>
            <a:ext cx="2125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9F783A2-0287-4829-A3A4-78FD08366F20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G II Major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840" y="1052640"/>
            <a:ext cx="9074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ing to support good decisions, including     information on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climate science with climate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er range of assessed impa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mate change in the context of other st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treatment of extremes and disa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ed treatment of 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adaptation, mitigation,                    and development at different regional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A: GLOBAL &amp; SECTOR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for the AR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and managed resources and systems, and their 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health, well-being, and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sector impacts, risks, vulnerabilities, and opport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B: REGION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WG I and WG III input and collabo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Major Sections or “Superchap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Administrator</cp:lastModifiedBy>
  <dcterms:modified xsi:type="dcterms:W3CDTF">2010-06-03T09:28:07Z</dcterms:modified>
  <cp:revision>144</cp:revision>
  <dc:subject/>
  <dc:title>Slide 1</dc:title>
</cp:coreProperties>
</file>