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D9CC-8613-45D9-B864-7A75B3F26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9F3A-2873-4181-8438-8BE96CD1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89AF-C693-45A4-9E77-C582192A5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C3CD-3BEF-4BC7-86C7-001A2DFA1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C033-1613-4CFA-B507-54D802B99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9D63-9EFE-46E4-8902-1A74BD6C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BCAA5-19D4-4DCE-ADE6-E711CFA0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87A3-43E6-40E8-A2B3-AA55507F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1F91-C768-41A6-88F9-7A067730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3E48F-936F-4632-B5B3-DA50BEE0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1CD9-B660-4D21-8218-67DD7E27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22F8-C86B-494A-9E98-CFD97B95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BB4D-6AB2-40F2-87E6-77CCE812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C253-821F-47F3-B482-C38F86DD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31C3-CA09-4FE3-A61E-833F262A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737B-AEBA-41E9-A86F-8B851BE74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233C-801D-47EE-9F3F-DCA7D3E60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2223-EFF0-4960-A8EC-28B14FED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A849-3956-42A8-9163-0A79B9C8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F3E9-79BF-4D26-929C-1778CAFC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8C72-04B3-4C2B-AC46-1EEC1EAF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A60F-A1C4-4BFA-B5E2-5A8858B0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F982-AD9F-4340-9FF0-FAC035B7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1E24-3E6B-42FC-B3B7-B7B9A52F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0EF1-A4C2-4396-8F3E-EF4866FFD7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758B-9CEF-448D-BCD5-D4878329D2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8920" y="380880"/>
            <a:ext cx="8713800" cy="51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ioritized New Research Initiative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n Climate Change in Japan </a:t>
            </a:r>
            <a:br>
              <a:rPr sz="3200"/>
            </a:br>
            <a:r>
              <a:rPr b="1" i="1" lang="en-US" sz="3200" spc="-1" strike="noStrike">
                <a:solidFill>
                  <a:srgbClr val="66ff33"/>
                </a:solidFill>
                <a:latin typeface="Arial"/>
              </a:rPr>
              <a:t>- under a new phase of the Science and Technology Basic Plan –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2400" spc="-1" strike="noStrike">
                <a:solidFill>
                  <a:srgbClr val="ccffcc"/>
                </a:solidFill>
                <a:latin typeface="Arial"/>
              </a:rPr>
              <a:t>Hiroki Kondo</a:t>
            </a:r>
            <a:br>
              <a:rPr sz="2400"/>
            </a:b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Special Advisor to</a:t>
            </a:r>
            <a:r>
              <a:rPr b="0" lang="en-US" sz="2800" spc="-1" strike="noStrike">
                <a:solidFill>
                  <a:srgbClr val="cc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the Minister of </a:t>
            </a:r>
            <a:br>
              <a:rPr sz="2000"/>
            </a:b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the Education, Culture, Sports, Science and Technology (MEXT), Japan</a:t>
            </a:r>
            <a:r>
              <a:rPr b="0" lang="en-US" sz="2800" spc="-1" strike="noStrike">
                <a:solidFill>
                  <a:srgbClr val="cc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7240" y="333360"/>
            <a:ext cx="83516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3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phas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Y2006-FY20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US" sz="3200" spc="-1" strike="noStrike">
                <a:solidFill>
                  <a:srgbClr val="ccff99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</a:t>
            </a:r>
            <a:r>
              <a:rPr b="0" lang="en-US" sz="3600" spc="-1" strike="noStrike">
                <a:solidFill>
                  <a:srgbClr val="ccff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cience and Technology Basic Pla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8560" y="1844280"/>
            <a:ext cx="9055080" cy="4753080"/>
          </a:xfrm>
          <a:prstGeom prst="rect">
            <a:avLst/>
          </a:prstGeom>
          <a:solidFill>
            <a:srgbClr val="0000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hase has just been launched (in April) by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Cabi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am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4 fields prioritiz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ain as important promotion fields besides basic scienc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life science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information &amp;communications; </a:t>
            </a:r>
            <a:r>
              <a:rPr b="0" i="1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environment;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nanotechnolog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ational Core Technolog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tudies/project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also been identified for overarching or cross-cutting important the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ioritiz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as been made in every broken down stage from a selection-and-concentration strategy standpoint fo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fficient resource allo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7240" y="333000"/>
            <a:ext cx="835164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motional Strategie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in Prioritized Field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8560" y="1407600"/>
            <a:ext cx="9055080" cy="5257800"/>
          </a:xfrm>
          <a:prstGeom prst="rect">
            <a:avLst/>
          </a:prstGeom>
          <a:solidFill>
            <a:srgbClr val="0000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ulated by th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Council for Science and Technology Policy (CSTP)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*established within the Cabinet Office in 2001</a:t>
            </a: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chaired by the Prime Minister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    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with members of 6 Ministers concerned and 8 Expert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urther prioritiz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Each of 4 fields including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environment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reas prioritized in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nvironment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Climate change research</a:t>
            </a:r>
            <a:r>
              <a:rPr b="0" i="1" lang="en-US" sz="1600" spc="-1" strike="noStrike">
                <a:solidFill>
                  <a:srgbClr val="66ff66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Climate change</a:t>
            </a:r>
            <a:r>
              <a:rPr b="0" i="1" lang="en-US" sz="20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mitigation </a:t>
            </a:r>
            <a:r>
              <a:rPr b="0" i="1" lang="en-US" sz="2000" spc="-1" strike="noStrike">
                <a:solidFill>
                  <a:srgbClr val="ffccff"/>
                </a:solidFill>
                <a:latin typeface="Times New Roman"/>
              </a:rPr>
              <a:t>technology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Chemical substance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risk and security management research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Water/material cycle and watershed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,  ecosystem management research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3R (reduce, reuse and recycle)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technology research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Biomass usage and utilization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research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 each area including </a:t>
            </a:r>
            <a:r>
              <a:rPr b="0" i="1" lang="en-US" sz="2400" spc="-1" strike="noStrike">
                <a:solidFill>
                  <a:srgbClr val="ff0033"/>
                </a:solidFill>
                <a:latin typeface="Times New Roman"/>
              </a:rPr>
              <a:t>climate change researc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 importan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udies have been identified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then some of them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been further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strategically prioritized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6 Categorized Programs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limate Change Research:</a:t>
            </a:r>
            <a:br>
              <a:rPr sz="3600"/>
            </a:br>
            <a:r>
              <a:rPr b="0" lang="en-US" sz="2400" spc="-1" strike="noStrike">
                <a:solidFill>
                  <a:srgbClr val="fcfeb6"/>
                </a:solidFill>
                <a:latin typeface="Arial"/>
              </a:rPr>
              <a:t>to attain reliable climate change projection and impact assessment through addressing global Earth observatio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2565000"/>
            <a:ext cx="8964720" cy="4103640"/>
          </a:xfrm>
          <a:prstGeom prst="rect">
            <a:avLst/>
          </a:prstGeom>
          <a:solidFill>
            <a:srgbClr val="002448"/>
          </a:solidFill>
          <a:ln w="0">
            <a:noFill/>
          </a:ln>
        </p:spPr>
        <p:txBody>
          <a:bodyPr lIns="90000" rIns="90000" tIns="46800" bIns="10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1</a:t>
            </a:r>
            <a:r>
              <a:rPr b="0" lang="en-US" sz="2800" spc="-1" strike="noStrike">
                <a:solidFill>
                  <a:srgbClr val="fcfeb6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fcfeb6"/>
                </a:solidFill>
                <a:latin typeface="Times New Roman"/>
              </a:rPr>
              <a:t>Comprehensive</a:t>
            </a:r>
            <a:r>
              <a:rPr b="0" lang="en-US" sz="2800" spc="-1" strike="noStrike">
                <a:solidFill>
                  <a:srgbClr val="fcfeb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onitoring studie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n global war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2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imate change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rocess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3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Future proje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f global warming and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data b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nstru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from  global warming research outco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4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udies on global warming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impact, risk assessment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nd adaptation mea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5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udies on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global scale</a:t>
            </a:r>
            <a:r>
              <a:rPr b="0" i="1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water cycle vari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6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udies on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global warm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mitigation poli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41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ies identified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importa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trategically prioritiz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1, P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852200"/>
            <a:ext cx="8785440" cy="461340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1: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rehensive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onitoring studie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 global warming</a:t>
            </a:r>
            <a:r>
              <a:rPr b="0" lang="en-US" sz="1600" spc="-1" strike="noStrike">
                <a:solidFill>
                  <a:srgbClr val="ccff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99ff66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Observation on global and regional scale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CO</a:t>
            </a:r>
            <a:r>
              <a:rPr b="1" i="1" lang="en-US" sz="24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 budget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(balance of emission and absorption)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-25000">
                <a:solidFill>
                  <a:srgbClr val="66ff33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66ff33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Observation on atmospheric changes in  the troposphere due to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66ff33"/>
                </a:solidFill>
                <a:latin typeface="Times New Roman"/>
              </a:rPr>
              <a:t>　　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trace greenhouse g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Monitoring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studies of greenhouse gases and the Earth surface layer by satell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2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mate chang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cess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66ff33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Process study on the climate change due to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clouds and aeros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-25000">
                <a:solidFill>
                  <a:srgbClr val="66ff33"/>
                </a:solidFill>
                <a:latin typeface="Times New Roman"/>
              </a:rPr>
              <a:t>      </a:t>
            </a:r>
            <a:r>
              <a:rPr b="0" i="1" lang="en-US" sz="1800" spc="-1" strike="noStrike">
                <a:solidFill>
                  <a:srgbClr val="66ff33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Process study on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response of lands and oceans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to climate 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324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udi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ed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importa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trategically prioritiz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344240"/>
            <a:ext cx="8785440" cy="537516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3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Future proje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f global warming and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data b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nstru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from  global warming research outco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Projection of weather and climate change in the 21</a:t>
            </a:r>
            <a:r>
              <a:rPr b="1" i="1" lang="en-US" sz="2400" spc="-1" strike="noStrike" baseline="30000">
                <a:solidFill>
                  <a:srgbClr val="ff0033"/>
                </a:solidFill>
                <a:latin typeface="Times New Roman"/>
              </a:rPr>
              <a:t>st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century b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climate mode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Further reliable climate change projection in the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21</a:t>
            </a:r>
            <a:r>
              <a:rPr b="1" i="1" lang="en-US" sz="2000" spc="-1" strike="noStrike" baseline="30000">
                <a:solidFill>
                  <a:srgbClr val="ffccff"/>
                </a:solidFill>
                <a:latin typeface="Times New Roman"/>
              </a:rPr>
              <a:t>st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 century,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in particular,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with a specific focus on extreme events such as heat waves, severe storms, tropical cyclones, storm surges, etc.  in the near future (about 25 years from now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Projection to be regionally detail enough for relevantly applicable to impact assessment and adaptation stud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Study on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long-term climate change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projection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based on scena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- 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Construction of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 integrated data base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from observation, projection, impact studies and adaptation measur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ies identified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importa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trategically prioritiz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( P4, P5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&amp;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P6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11344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4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udies on global warming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impacts, risk assessment, and adaptation mea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Comprehensive monitoring of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 global warming impacts in  vulnerable reg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Projection of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 climate change impacts in 25 years ahead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and responding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 adaptation measures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in Japan and As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5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udies on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global scale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water cycle vari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ff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Understanding of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global scale water cycle variabilities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by integrating  observation and model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6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udies 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global warm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itigation poli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00"/>
                </a:solidFill>
                <a:latin typeface="Times New Roman"/>
              </a:rPr>
              <a:t>　　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Study on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long-term emission scenarios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for climate change mitig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Projection and management of climate change risk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study on the design of society exiting from global warm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58360" y="495360"/>
            <a:ext cx="806292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National Core Technology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project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 related to climate change research has been initiated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836720"/>
            <a:ext cx="856944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oritized as an important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inkage between research and systematic observa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ddition to other link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ta integration and analys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yste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o collect, assimilate and integrate data from satellite and ocean/land observ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distribute the processed data in response of user nee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r needs from various sectors includ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limate change research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decision-mak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1255320"/>
            <a:ext cx="85690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Japan has just launched the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i="1" lang="en-US" sz="2800" spc="-1" strike="noStrike" baseline="30000">
                <a:solidFill>
                  <a:srgbClr val="ff0033"/>
                </a:solidFill>
                <a:latin typeface="Times New Roman"/>
              </a:rPr>
              <a:t>rd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 phase of Science and Technology Basic Pla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(FY2006-FY201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33"/>
                </a:solidFill>
                <a:latin typeface="Times New Roman"/>
              </a:rPr>
              <a:t>Environment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is again prioritized besides 3 other fie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33"/>
                </a:solidFill>
                <a:latin typeface="Times New Roman"/>
              </a:rPr>
              <a:t>Climate Change research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is further prioritized under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mong 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study subjects identified as important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under global warming research,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3 subject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have been further strategically prioritiz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integration and analysis system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project has also been initiated as a National Core Technology project, playing as a linkage of research and systematic obser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05:21:26Z</dcterms:created>
  <dc:creator>近藤　洋輝</dc:creator>
  <dc:description/>
  <dc:language>en-US</dc:language>
  <cp:lastModifiedBy>IPCC2</cp:lastModifiedBy>
  <dcterms:modified xsi:type="dcterms:W3CDTF">2006-05-19T10:10:05Z</dcterms:modified>
  <cp:revision>158</cp:revision>
  <dc:subject/>
  <dc:title>A National Research Initiative  on Global Warming   Hiroki Kondo    Frontier Research System for Global Change</dc:title>
</cp:coreProperties>
</file>