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75F-55B5-466A-ADDC-D36ACBD0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0D5-85DD-47F1-A1ED-A76C218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1CD-B936-417F-B2EA-952361CA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5E9-1E4F-43CC-9104-E9A30BAC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8581-4FC3-4D35-B20E-BA51A4C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81C1-7E7F-4697-8CA0-F9705ED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B411-3473-44EC-BB76-8CEAB17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DAA-5C76-4CE5-A1C9-DDF8FFE1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3112-8225-45A3-ABF1-0AD585A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5C0-1586-49E3-821F-9F5A46C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3549-4C96-4D02-8B0E-013DAFA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DD5-673B-4AD8-960C-8E6C8D88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5D50-8276-42E2-84D5-FFA8555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CF2B-F470-4BF8-BC70-EA0ED81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072C-B7DC-4E3E-A470-098768E9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8368-3EBF-4FDF-A82F-B9F6E135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77FF-BB06-45B4-98E8-01692B27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1F7-1B0D-4FA1-89EB-0348B06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90D-125B-405F-B0FE-1A7100DE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9AB-0CA0-4F9E-8379-3560B1CF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8BC-8FED-4A56-80A9-854E8078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63E-FE73-4405-B9B8-97D67DE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7BC-D92F-4ABA-8816-6B2DB23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D92-C0AB-4AC0-A2D5-7D417B9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1B4-7BB6-4BCC-994D-A639418A6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760-F2D4-4D53-BD69-45BED9FDE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80880"/>
            <a:ext cx="8713800" cy="51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oritized New Research Initiativ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 Climate Change in Japan </a:t>
            </a:r>
            <a:br>
              <a:rPr sz="3200"/>
            </a:br>
            <a:r>
              <a:rPr b="1" i="1" lang="en-US" sz="3200" spc="-1" strike="noStrike">
                <a:solidFill>
                  <a:srgbClr val="66ff33"/>
                </a:solidFill>
                <a:latin typeface="Arial"/>
              </a:rPr>
              <a:t>- under a new phase of the Science and Technology Basic Plan –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400" spc="-1" strike="noStrike">
                <a:solidFill>
                  <a:srgbClr val="ccffcc"/>
                </a:solidFill>
                <a:latin typeface="Arial"/>
              </a:rPr>
              <a:t>Hiroki Kondo</a:t>
            </a:r>
            <a:br>
              <a:rPr sz="24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Special Advisor to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Minister of </a:t>
            </a:r>
            <a:br>
              <a:rPr sz="2000"/>
            </a:br>
            <a:r>
              <a:rPr b="0" lang="en-US" sz="2000" spc="-1" strike="noStrike">
                <a:solidFill>
                  <a:srgbClr val="ccffcc"/>
                </a:solidFill>
                <a:latin typeface="Arial"/>
              </a:rPr>
              <a:t>the Education, Culture, Sports, Science and Technology (MEXT), Japan</a:t>
            </a:r>
            <a:r>
              <a:rPr b="0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7240" y="333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ha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Y2006-FY20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ccff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cience and Technology Basic Pla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8560" y="1844280"/>
            <a:ext cx="9055080" cy="475308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hase has just been launched (in April) b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abi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 fields prioritiz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ain as important promotion fields besides basic scie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life scienc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information &amp;communications;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nanotechnolog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ational Core Techn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tudies/project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also been identified for overarching or cross-cutting important the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been made in every broken down stage from a selection-and-concentration strategy standpoint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ficient resource al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7240" y="333000"/>
            <a:ext cx="8351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motional Strategi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Prioritized Fiel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560" y="1407600"/>
            <a:ext cx="9055080" cy="5257800"/>
          </a:xfrm>
          <a:prstGeom prst="rect">
            <a:avLst/>
          </a:prstGeom>
          <a:solidFill>
            <a:srgbClr val="00004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ulated by th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uncil for Science and Technology Policy (CSTP)</a:t>
            </a: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*established within the Cabinet Office in 2001</a:t>
            </a:r>
            <a:r>
              <a:rPr b="0" lang="en-US" sz="2000" spc="-1" strike="noStrike">
                <a:solidFill>
                  <a:srgbClr val="66ff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chaired by the Prime Mini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with members of 6 Ministers concerned and 8 Exper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urther priorit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Each of 4 fields including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reas prioritized i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nvironment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1600" spc="-1" strike="noStrike">
                <a:solidFill>
                  <a:srgbClr val="66ff66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Climate change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mitigation </a:t>
            </a:r>
            <a:r>
              <a:rPr b="0" i="1" lang="en-US" sz="2000" spc="-1" strike="noStrike">
                <a:solidFill>
                  <a:srgbClr val="ffccff"/>
                </a:solidFill>
                <a:latin typeface="Times New Roman"/>
              </a:rPr>
              <a:t>technology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Chemical substance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isk and security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Water/material cycle and watershed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,  ecosystem management research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3R (reduce, reuse and recycle)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technology resear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Biomass usage and utilization</a:t>
            </a:r>
            <a:r>
              <a:rPr b="0" i="1" lang="en-US" sz="2000" spc="-1" strike="noStrike">
                <a:solidFill>
                  <a:srgbClr val="66ff66"/>
                </a:solidFill>
                <a:latin typeface="Times New Roman"/>
              </a:rPr>
              <a:t> research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each area including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import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s have been identified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n some of them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en further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trategically prioritized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Categorized Program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33"/>
                </a:solidFill>
                <a:latin typeface="Arial"/>
              </a:rPr>
              <a:t>Climate Change Research:</a:t>
            </a:r>
            <a:br>
              <a:rPr sz="3600"/>
            </a:br>
            <a:r>
              <a:rPr b="0" lang="en-US" sz="2400" spc="-1" strike="noStrike">
                <a:solidFill>
                  <a:srgbClr val="fcfeb6"/>
                </a:solidFill>
                <a:latin typeface="Arial"/>
              </a:rPr>
              <a:t>to attain reliable climate change projection and impact assessment through addressing global Earth observ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2565000"/>
            <a:ext cx="8964720" cy="4103640"/>
          </a:xfrm>
          <a:prstGeom prst="rect">
            <a:avLst/>
          </a:prstGeom>
          <a:solidFill>
            <a:srgbClr val="002448"/>
          </a:solidFill>
          <a:ln w="0">
            <a:noFill/>
          </a:ln>
        </p:spPr>
        <p:txBody>
          <a:bodyPr lIns="90000" rIns="90000" tIns="46800" bIns="10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cfeb6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fcfeb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n global war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impact, risk assess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41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1, P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852200"/>
            <a:ext cx="8785440" cy="461340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1: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hensive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nitoring studi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global warming</a:t>
            </a:r>
            <a:r>
              <a:rPr b="0" lang="en-US" sz="16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global and regional scal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O</a:t>
            </a:r>
            <a:r>
              <a:rPr b="1" i="1" lang="en-US" sz="24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budget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balance of emission and absorption)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Observation on atmospheric changes in  the tropospher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race greenhouse g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Monitoring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ies of greenhouse gases and the Earth surface layer by satell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2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mate chang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 stu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Process study on the climate change due to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clouds and aeros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-25000">
                <a:solidFill>
                  <a:srgbClr val="66ff33"/>
                </a:solidFill>
                <a:latin typeface="Times New Roman"/>
              </a:rPr>
              <a:t>      </a:t>
            </a:r>
            <a:r>
              <a:rPr b="0" i="1" lang="en-US" sz="1800" spc="-1" strike="noStrike">
                <a:solidFill>
                  <a:srgbClr val="66ff33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Process 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response of lands and oceans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o climate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32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ud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344240"/>
            <a:ext cx="8785440" cy="537516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uture proje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f global warming and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ata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constructi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from  global warming researc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of weather and climate change in the 21</a:t>
            </a:r>
            <a:r>
              <a:rPr b="1" i="1" lang="en-US" sz="2400" spc="-1" strike="noStrike" baseline="30000">
                <a:solidFill>
                  <a:srgbClr val="ff0033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century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climat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Further reliable climate change projection in the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21</a:t>
            </a:r>
            <a:r>
              <a:rPr b="1" i="1" lang="en-US" sz="2000" spc="-1" strike="noStrike" baseline="30000">
                <a:solidFill>
                  <a:srgbClr val="ffccff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 century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in particular,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with a specific focus on extreme events such as heat waves, severe storms, tropical cyclones, storm surges, etc.  in the near future (about 25 years from now</a:t>
            </a:r>
            <a:r>
              <a:rPr b="1" i="1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ff"/>
                </a:solidFill>
                <a:latin typeface="Times New Roman"/>
              </a:rPr>
              <a:t>Projection to be regionally detail enough for relevantly applicable to impact assessment and adaptation stud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long-term climate change</a:t>
            </a:r>
            <a:r>
              <a:rPr b="0" i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projection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based on sce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onstruction of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 integrated data base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from observation, projection, impact studies and adaptation measu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identified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importa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Arial"/>
              </a:rPr>
              <a:t>strategically prioritiz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 P4, P5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6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solidFill>
            <a:srgbClr val="00007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4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global warming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mpacts, risk assessment, and adaptation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Comprehensive monitoring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global warming impacts in  vulnerable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Projection of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climate change impacts in 25 years ahead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and responding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 adaptation measures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in Japan and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scal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water cycle vari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Understanding of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global scale water cycle variabilitie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by integrating  observation and model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6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udies 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global warm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mitigation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Study on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ff66"/>
                </a:solidFill>
                <a:latin typeface="Times New Roman"/>
              </a:rPr>
              <a:t>long-term emission scenarios</a:t>
            </a:r>
            <a:r>
              <a:rPr b="0" i="1" lang="en-US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for climate change mit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Projection and management of climate change risk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study on the design of society exiting from global war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95360"/>
            <a:ext cx="80629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National Core Technology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related to climate change research has been initiate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36720"/>
            <a:ext cx="85694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ed as an importan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age between research and systematic observ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ddition to other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 integration and analys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o collect, assimilate and integrate data from satellite and ocean/land observ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istribute the processed data in response of use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needs from various sector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Climate change researc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decision-m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1255320"/>
            <a:ext cx="856908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apan has just launched th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0" i="1" lang="en-US" sz="2800" spc="-1" strike="noStrike" baseline="30000">
                <a:solidFill>
                  <a:srgbClr val="ff0033"/>
                </a:solidFill>
                <a:latin typeface="Times New Roman"/>
              </a:rPr>
              <a:t>rd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 phase of Science and Technology Basic Pl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FY2006-FY20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Environme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again prioritized besides 3 other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Times New Roman"/>
              </a:rPr>
              <a:t>Climate Change researc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s further prioritized under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mong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study subjects identified as importan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under global warming research,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3 subject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have been further strategically prioritiz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integration and analysis syste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roject has also been initiated as a National Core Technology project, playing as a linkage of research and systematic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5:21:26Z</dcterms:created>
  <dc:creator>近藤　洋輝</dc:creator>
  <dc:description/>
  <dc:language>en-US</dc:language>
  <cp:lastModifiedBy>IPCC2</cp:lastModifiedBy>
  <dcterms:modified xsi:type="dcterms:W3CDTF">2006-05-19T10:10:05Z</dcterms:modified>
  <cp:revision>158</cp:revision>
  <dc:subject/>
  <dc:title>A National Research Initiative  on Global Warming   Hiroki Kondo    Frontier Research System for Global Change</dc:title>
</cp:coreProperties>
</file>