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A9D7-3A4C-4124-8E87-D310CF93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636-FC1C-4145-9BA4-A27E94F3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480-54E2-4ED4-AFDC-01ABDDDF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09F-BA75-4142-AA85-B11109E0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E30C-7BD0-4FFD-83BE-7D51CE56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6C31-9ECD-4646-9A48-06A456D7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C330-2500-4F8D-8D98-934300D0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C6DD-639D-4F08-8CBC-DE6E2510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9CA2-FF17-48AE-B00E-F71935FC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D80D-975F-4335-AC6B-E6EFC92B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75C9-EE38-4364-BBDA-A946D6CB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0438-CE26-41B7-95C3-DA69B30A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172F-944F-4900-8FD4-8060CB61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942A-5D44-4458-A61B-72B34ABD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28B3-38AF-4FB7-9EF3-A6CEC04B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E38C-FBB0-4275-ACC0-9E40E382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A95A-23F8-4EB4-B78E-99600537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3C2-E13B-4203-9DAE-F4DDD2FA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273-5063-4AAC-AE3F-D173BF81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8FD-1DE3-408F-A27A-F0C0D5FF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74E-972A-4EFF-A073-3D0ADC36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83E-D0DB-49D5-A5FA-AFAF26CB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535-A7DC-4987-9D7F-000E88E0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34D-0B66-4BCC-B14B-23FD51DC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C8D9-6A46-4826-BF7E-E343C7F30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8CC3-AFFD-4709-8A6D-0924AED5EE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oritized New Research Initiat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 Climate Change in Japan </a:t>
            </a:r>
            <a:br>
              <a:rPr sz="3200"/>
            </a:br>
            <a:r>
              <a:rPr b="1" i="1" lang="en-US" sz="3200" spc="-1" strike="noStrike">
                <a:solidFill>
                  <a:srgbClr val="66ff33"/>
                </a:solidFill>
                <a:latin typeface="Arial"/>
              </a:rPr>
              <a:t>- under a new phase of the Science and Technology Basic Plan –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Hiroki Kondo</a:t>
            </a:r>
            <a:br>
              <a:rPr sz="24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Special Advisor to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Minister of </a:t>
            </a:r>
            <a:br>
              <a:rPr sz="20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Education, Culture, Sports, Science and Technology (MEXT), Japan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724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ha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Y2006-FY20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ience and Technology Basic Pla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560" y="1844280"/>
            <a:ext cx="9055080" cy="475308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has just been launched (in April)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 fields priorit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ain as important promotion fields besides basic scie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life scienc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information &amp;communications;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nanotechnolog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Core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udies/projec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lso been identified for overarching or cross-cutting important 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been made in every broken down stage from a selection-and-concentration strategy standpoint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ficient resource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7240" y="33300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Strateg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Prioritized Fiel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560" y="1407600"/>
            <a:ext cx="9055080" cy="525780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ed by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uncil for Science and Technology Policy (CSTP)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*established within the Cabinet Office in 2001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chaired by the Prime Mini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with members of 6 Ministers concerned and 8 Exper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rther 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Each of 4 fields including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eas prioritized i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1600" spc="-1" strike="noStrike">
                <a:solidFill>
                  <a:srgbClr val="66ff66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Climate change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mitigation 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technology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Chemical substance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isk and security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Water/material cycle and watershed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  ecosystem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3R (reduce, reuse and recycle)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technology resear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Biomass usage and utilization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esearch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each area including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import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s have been identified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n some of the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en furth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rategically prioritize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Categorized Program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limate Change Research:</a:t>
            </a:r>
            <a:br>
              <a:rPr sz="3600"/>
            </a:br>
            <a:r>
              <a:rPr b="0" lang="en-US" sz="2400" spc="-1" strike="noStrike">
                <a:solidFill>
                  <a:srgbClr val="fcfeb6"/>
                </a:solidFill>
                <a:latin typeface="Arial"/>
              </a:rPr>
              <a:t>to attain reliable climate change projection and impact assessment through addressing global Earth observ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2565000"/>
            <a:ext cx="8964720" cy="4103640"/>
          </a:xfrm>
          <a:prstGeom prst="rect">
            <a:avLst/>
          </a:prstGeom>
          <a:solidFill>
            <a:srgbClr val="002448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cfeb6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n global war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mpact, risk assess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41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1, P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852200"/>
            <a:ext cx="8785440" cy="46134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: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global warming</a:t>
            </a:r>
            <a:r>
              <a:rPr b="0" lang="en-US" sz="16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global and regional scal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O</a:t>
            </a:r>
            <a:r>
              <a:rPr b="1" i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budget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balance of emission and absorption)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atmospheric changes in  the tropospher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race greenhouse g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Monitoring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ies of greenhouse gases and the Earth surface layer by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Process study on the climate chang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louds and aeros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cess 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response of lands and oceans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o climate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44240"/>
            <a:ext cx="8785440" cy="537516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of weather and climate change in the 21</a:t>
            </a:r>
            <a:r>
              <a:rPr b="1" i="1" lang="en-US" sz="2400" spc="-1" strike="noStrike" baseline="30000">
                <a:solidFill>
                  <a:srgbClr val="ff0033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century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Further reliable climate change projection in the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21</a:t>
            </a:r>
            <a:r>
              <a:rPr b="1" i="1" lang="en-US" sz="2000" spc="-1" strike="noStrike" baseline="30000">
                <a:solidFill>
                  <a:srgbClr val="ffccff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century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in particular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with a specific focus on extreme events such as heat waves, severe storms, tropical cyclones, storm surges, etc.  in the near future (about 25 years from now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Projection to be regionally detail enough for relevantly applicable to impact assessment and adaptation stud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long-term climate chang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projection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based on sce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onstruction of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integrated data base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rom observation, projection, impact studies and adaptation measu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P4, P5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6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mpacts, risk assessment, 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Comprehensive monitoring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global warming impacts in  vulnerable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Projection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climate change impacts in 25 years ahead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and responding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adaptation measures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in Japan and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Understanding of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global scale water cycle variabilitie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by integrating  observation and model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long-term emission scenario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for climate change mit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and management of climate change risk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y on the design of society exiting from global war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95360"/>
            <a:ext cx="80629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National Core Technology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related to climate change research has been initiate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36720"/>
            <a:ext cx="856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ed as an importa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age between research and systematic observ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 to other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integration and analy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o collect, assimilate and integrate data from satellite and ocean/land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istribute the processed data in response of use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needs from various sector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mate change researc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ecision-m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255320"/>
            <a:ext cx="8569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pan has just launched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33"/>
                </a:solidFill>
                <a:latin typeface="Times New Roman"/>
              </a:rPr>
              <a:t>rd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 phase of Science and Technology Basic Pl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FY2006-FY20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again prioritized besides 3 othe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further prioritized un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ong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study subjects identified as importa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under global warming research,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 subject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have been further strategically priorit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integration and analysis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ject has also been initiated as a National Core Technology project, playing as a linkage of research and systematic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5:21:26Z</dcterms:created>
  <dc:creator>近藤　洋輝</dc:creator>
  <dc:description/>
  <dc:language>en-US</dc:language>
  <cp:lastModifiedBy>IPCC2</cp:lastModifiedBy>
  <dcterms:modified xsi:type="dcterms:W3CDTF">2006-05-19T10:10:05Z</dcterms:modified>
  <cp:revision>158</cp:revision>
  <dc:subject/>
  <dc:title>A National Research Initiative  on Global Warming   Hiroki Kondo    Frontier Research System for Global Change</dc:title>
</cp:coreProperties>
</file>