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087C-B166-4DA9-837D-26CCBBFE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CF63-5855-4F93-96E8-5C8590B7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04E-7F0A-4A3C-9718-52890D00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79D7-FA37-4474-B650-ABFD96E6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DAC7-AD0A-4CB0-91B2-BE788AEA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6A86-2A6E-4F06-97CA-2C6933C5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4104-C589-4A4F-84E8-82C97284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FA95-77B5-4509-A362-03D90705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5FBD-35DC-436A-B015-B22CF920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FF67-75AF-4C62-B0D6-DEBDC190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03DA-D01F-4ED3-A3F4-F58612C6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0C0-9ACA-4C52-9475-52C1CD31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2D77-9FD1-45C4-9B74-26415CF6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34A6-D8B7-4CD3-BEA7-E148A5D4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3C18-5F9C-4910-97E0-0F56A6AA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5DC6-C987-41AA-BB3E-A6C5DDCA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C364-2AB3-4CFC-8B04-3422C484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AFC0-5E3B-4FB7-A29F-7CD10950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B31-5D72-4F8C-831B-62D85CD5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7DC-64BF-44EC-B3A5-F97588CB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5F60-2930-4FDA-8E86-FCCA9621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38C-525F-4696-B3F1-38ED97BB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7FC-2F2D-45D8-AAC7-EF780077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D89-8D33-4DC3-AF87-D90301EF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DC3C-D35B-4401-81A5-0CBE2FA0CD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974C-C760-4383-B775-868D9933CD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7138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oritized New Research Initiativ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 Climate Change in Japan </a:t>
            </a:r>
            <a:br>
              <a:rPr sz="3200"/>
            </a:br>
            <a:r>
              <a:rPr b="1" i="1" lang="en-US" sz="3200" spc="-1" strike="noStrike">
                <a:solidFill>
                  <a:srgbClr val="66ff33"/>
                </a:solidFill>
                <a:latin typeface="Arial"/>
              </a:rPr>
              <a:t>- under a new phase of the Science and Technology Basic Plan –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Hiroki Kondo</a:t>
            </a:r>
            <a:br>
              <a:rPr sz="24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Special Advisor to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Minister of </a:t>
            </a:r>
            <a:br>
              <a:rPr sz="20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Education, Culture, Sports, Science and Technology (MEXT), Japan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7240" y="33336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pha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Y2006-FY20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ience and Technology Basic Pla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560" y="1844280"/>
            <a:ext cx="9055080" cy="475308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has just been launched (in April)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bi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 fields prioritiz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ain as important promotion fields besides basic scie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life scienc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information &amp;communications;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;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nanotechnolog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tional Core Technolo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udies/projec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lso been identified for overarching or cross-cutting important t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been made in every broken down stage from a selection-and-concentration strategy standpoint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ficient resource al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7240" y="333000"/>
            <a:ext cx="8351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Strategi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 Prioritized Field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560" y="1407600"/>
            <a:ext cx="9055080" cy="525780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lated by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uncil for Science and Technology Policy (CSTP)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*established within the Cabinet Office in 2001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chaired by the Prime Minist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with members of 6 Ministers concerned and 8 Expert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urther 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Each of 4 fields including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eas prioritized i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1600" spc="-1" strike="noStrike">
                <a:solidFill>
                  <a:srgbClr val="66ff66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Climate change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mitigation 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technology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Chemical substance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isk and security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Water/material cycle and watershed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  ecosystem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3R (reduce, reuse and recycle)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technology research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Biomass usage and utilization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esearch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each area including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importa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s have been identified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n some of them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en furth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rategically prioritized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 Categorized Program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limate Change Research:</a:t>
            </a:r>
            <a:br>
              <a:rPr sz="3600"/>
            </a:br>
            <a:r>
              <a:rPr b="0" lang="en-US" sz="2400" spc="-1" strike="noStrike">
                <a:solidFill>
                  <a:srgbClr val="fcfeb6"/>
                </a:solidFill>
                <a:latin typeface="Arial"/>
              </a:rPr>
              <a:t>to attain reliable climate change projection and impact assessment through addressing global Earth observatio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2565000"/>
            <a:ext cx="8964720" cy="4103640"/>
          </a:xfrm>
          <a:prstGeom prst="rect">
            <a:avLst/>
          </a:prstGeom>
          <a:solidFill>
            <a:srgbClr val="002448"/>
          </a:solidFill>
          <a:ln w="0">
            <a:noFill/>
          </a:ln>
        </p:spPr>
        <p:txBody>
          <a:bodyPr lIns="90000" rIns="90000" tIns="46800" bIns="10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cfeb6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n global war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mpact, risk assess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41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1, P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852200"/>
            <a:ext cx="8785440" cy="461340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: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global warming</a:t>
            </a:r>
            <a:r>
              <a:rPr b="0" lang="en-US" sz="1600" spc="-1" strike="noStrike">
                <a:solidFill>
                  <a:srgbClr val="cc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global and regional scal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O</a:t>
            </a:r>
            <a:r>
              <a:rPr b="1" i="1" lang="en-US" sz="24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budget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balance of emission and absorption)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atmospheric changes in  the tropospher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trace greenhouse g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Monitoring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ies of greenhouse gases and the Earth surface layer by satell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Process study on the climate chang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louds and aeros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ocess 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response of lands and oceans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o climate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344240"/>
            <a:ext cx="8785440" cy="537516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of weather and climate change in the 21</a:t>
            </a:r>
            <a:r>
              <a:rPr b="1" i="1" lang="en-US" sz="2400" spc="-1" strike="noStrike" baseline="30000">
                <a:solidFill>
                  <a:srgbClr val="ff0033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century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Further reliable climate change projection in the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21</a:t>
            </a:r>
            <a:r>
              <a:rPr b="1" i="1" lang="en-US" sz="2000" spc="-1" strike="noStrike" baseline="30000">
                <a:solidFill>
                  <a:srgbClr val="ffccff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century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in particular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with a specific focus on extreme events such as heat waves, severe storms, tropical cyclones, storm surges, etc.  in the near future (about 25 years from now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Projection to be regionally detail enough for relevantly applicable to impact assessment and adaptation stud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long-term climate chang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projection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based on sce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onstruction of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integrated data base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from observation, projection, impact studies and adaptation measur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 P4, P5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6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mpacts, risk assessment, 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Comprehensive monitoring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global warming impacts in  vulnerable re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Projection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climate change impacts in 25 years ahead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and responding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adaptation measures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in Japan and 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Understanding of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global scale water cycle variabilitie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by integrating  observation and model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long-term emission scenario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for climate change mit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and management of climate change risk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y on the design of society exiting from global warm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8360" y="495360"/>
            <a:ext cx="80629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National Core Technology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project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related to climate change research has been initiate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36720"/>
            <a:ext cx="8569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itized as an importa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nkage between research and systematic observ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 to other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 integration and analy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o collect, assimilate and integrate data from satellite and ocean/land obser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istribute the processed data in response of user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needs from various sectors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mate change researc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decision-m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255320"/>
            <a:ext cx="85690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apan has just launched th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ff0033"/>
                </a:solidFill>
                <a:latin typeface="Times New Roman"/>
              </a:rPr>
              <a:t>rd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 phase of Science and Technology Basic Pl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FY2006-FY20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again prioritized besides 3 other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further prioritized under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mong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study subjects identified as importa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under global warming research,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 subject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have been further strategically priorit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integration and analysis syste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roject has also been initiated as a National Core Technology project, playing as a linkage of research and systematic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5:21:26Z</dcterms:created>
  <dc:creator>近藤　洋輝</dc:creator>
  <dc:description/>
  <dc:language>en-US</dc:language>
  <cp:lastModifiedBy>IPCC2</cp:lastModifiedBy>
  <dcterms:modified xsi:type="dcterms:W3CDTF">2006-05-19T10:10:05Z</dcterms:modified>
  <cp:revision>158</cp:revision>
  <dc:subject/>
  <dc:title>A National Research Initiative  on Global Warming   Hiroki Kondo    Frontier Research System for Global Change</dc:title>
</cp:coreProperties>
</file>