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E918-3726-4288-BDEF-3A3C7401F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8E21-DF2A-4B80-86F5-05BB1E6C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2C10-4F00-479F-99F8-CD764AC8C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B258-3EFF-4250-8816-00630BD47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1718-B610-4C3E-AF8F-55B743D11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9191-5471-422D-9B89-368F0EB8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37C1-EFBA-4C1C-A2AD-488F6B66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91C9-2767-419E-BEA6-B788271A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0B3E-AE5C-4F6F-B294-DDC911F1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4E19-8C68-47DC-883F-0749BC59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14E2-ED5B-4CE9-B9DC-8B0711C3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7515-A125-4800-88AA-82F9CFEF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CDB7-F861-46A9-AB02-B1EAAF60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A192-66D8-496B-8A1D-88AF7549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4853-539D-4C0F-96F7-014F116E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D3D4-0421-4279-9190-5B7684EFA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D1A4-6649-4DE9-BA26-67A025642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8F17-E3CE-49BC-8211-92ADEA00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5BE1-FD2C-45B4-819C-A94D176E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26D5-81FD-47E1-A6CE-FB88FA55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DBFC-1855-424B-B779-85CCF620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2122-D143-4286-BE61-CAE0462C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120F-8F36-45FE-B47C-3A3C5E9C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0871-51CF-4B9E-9C3A-A4D939B8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8E10-ED38-4E51-A54C-418D753117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DCC5-8FDF-434C-ADB7-440958940C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8920" y="380880"/>
            <a:ext cx="8713800" cy="51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ioritized New Research Initiative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n Climate Change in Japan </a:t>
            </a:r>
            <a:br>
              <a:rPr sz="3200"/>
            </a:br>
            <a:r>
              <a:rPr b="1" i="1" lang="en-US" sz="3200" spc="-1" strike="noStrike">
                <a:solidFill>
                  <a:srgbClr val="66ff33"/>
                </a:solidFill>
                <a:latin typeface="Arial"/>
              </a:rPr>
              <a:t>- under a new phase of the Science and Technology Basic Plan –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2400" spc="-1" strike="noStrike">
                <a:solidFill>
                  <a:srgbClr val="ccffcc"/>
                </a:solidFill>
                <a:latin typeface="Arial"/>
              </a:rPr>
              <a:t>Hiroki Kondo</a:t>
            </a:r>
            <a:br>
              <a:rPr sz="2400"/>
            </a:b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Special Advisor to</a:t>
            </a:r>
            <a:r>
              <a:rPr b="0" lang="en-US" sz="2800" spc="-1" strike="noStrike">
                <a:solidFill>
                  <a:srgbClr val="cc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the Minister of </a:t>
            </a:r>
            <a:br>
              <a:rPr sz="2000"/>
            </a:b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the Education, Culture, Sports, Science and Technology (MEXT), Japan</a:t>
            </a:r>
            <a:r>
              <a:rPr b="0" lang="en-US" sz="2800" spc="-1" strike="noStrike">
                <a:solidFill>
                  <a:srgbClr val="cc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7240" y="333360"/>
            <a:ext cx="83516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3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phas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Y2006-FY20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US" sz="3200" spc="-1" strike="noStrike">
                <a:solidFill>
                  <a:srgbClr val="ccff99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</a:t>
            </a:r>
            <a:r>
              <a:rPr b="0" lang="en-US" sz="3600" spc="-1" strike="noStrike">
                <a:solidFill>
                  <a:srgbClr val="ccff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cience and Technology Basic Pla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8560" y="1844280"/>
            <a:ext cx="9055080" cy="4753080"/>
          </a:xfrm>
          <a:prstGeom prst="rect">
            <a:avLst/>
          </a:prstGeom>
          <a:solidFill>
            <a:srgbClr val="0000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hase has just been launched (in April) b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abi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am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4 fields prioritiz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ain as important promotion fields besides basic scien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life science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information &amp;communications; </a:t>
            </a:r>
            <a:r>
              <a:rPr b="0" i="1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environment;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nanotechnolog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ational Core Technolog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tudies/project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also been identified for overarching or cross-cutting important the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ioritiz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as been made in every broken down stage from a selection-and-concentration strategy standpoint fo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fficient resource allo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7240" y="333000"/>
            <a:ext cx="835164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motional Strategie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in Prioritized Field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8560" y="1407600"/>
            <a:ext cx="9055080" cy="5257800"/>
          </a:xfrm>
          <a:prstGeom prst="rect">
            <a:avLst/>
          </a:prstGeom>
          <a:solidFill>
            <a:srgbClr val="0000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ulated by th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ouncil for Science and Technology Policy (CSTP)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*established within the Cabinet Office in 2001</a:t>
            </a: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chaired by the Prime Minister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   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with members of 6 Ministers concerned and 8 Expert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urther prioritiz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Each of 4 fields including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environment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reas prioritized in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nvironment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i="1" lang="en-US" sz="1600" spc="-1" strike="noStrike">
                <a:solidFill>
                  <a:srgbClr val="66ff66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Climate change</a:t>
            </a:r>
            <a:r>
              <a:rPr b="0" i="1" lang="en-US" sz="20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mitigation </a:t>
            </a:r>
            <a:r>
              <a:rPr b="0" i="1" lang="en-US" sz="2000" spc="-1" strike="noStrike">
                <a:solidFill>
                  <a:srgbClr val="ffccff"/>
                </a:solidFill>
                <a:latin typeface="Times New Roman"/>
              </a:rPr>
              <a:t>technology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Chemical substance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risk and security management research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Water/material cycle and watershed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,  ecosystem management research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3R (reduce, reuse and recycle)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technology research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Biomass usage and utilization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research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 each area including </a:t>
            </a:r>
            <a:r>
              <a:rPr b="0" i="1" lang="en-US" sz="24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 importan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udies have been identified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then some of them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been further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strategically prioritized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6 Categorized Programs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limate Change Research:</a:t>
            </a:r>
            <a:br>
              <a:rPr sz="3600"/>
            </a:br>
            <a:r>
              <a:rPr b="0" lang="en-US" sz="2400" spc="-1" strike="noStrike">
                <a:solidFill>
                  <a:srgbClr val="fcfeb6"/>
                </a:solidFill>
                <a:latin typeface="Arial"/>
              </a:rPr>
              <a:t>to attain reliable climate change projection and impact assessment through addressing global Earth observatio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2565000"/>
            <a:ext cx="8964720" cy="4103640"/>
          </a:xfrm>
          <a:prstGeom prst="rect">
            <a:avLst/>
          </a:prstGeom>
          <a:solidFill>
            <a:srgbClr val="002448"/>
          </a:solidFill>
          <a:ln w="0">
            <a:noFill/>
          </a:ln>
        </p:spPr>
        <p:txBody>
          <a:bodyPr lIns="90000" rIns="90000" tIns="46800" bIns="10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1</a:t>
            </a:r>
            <a:r>
              <a:rPr b="0" lang="en-US" sz="2800" spc="-1" strike="noStrike">
                <a:solidFill>
                  <a:srgbClr val="fcfeb6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fcfeb6"/>
                </a:solidFill>
                <a:latin typeface="Times New Roman"/>
              </a:rPr>
              <a:t>Comprehensive</a:t>
            </a:r>
            <a:r>
              <a:rPr b="0" lang="en-US" sz="2800" spc="-1" strike="noStrike">
                <a:solidFill>
                  <a:srgbClr val="fcfeb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onitoring studie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n global war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2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imate change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rocess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3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uture proje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f global warming and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data b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nstru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from  global warming research outco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4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global warming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impact, risk assessment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nd adaptation mea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5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global scale</a:t>
            </a:r>
            <a:r>
              <a:rPr b="0" i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water cycle vari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6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global warm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mitigation poli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41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s 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1, P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852200"/>
            <a:ext cx="8785440" cy="461340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1: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rehensive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nitoring studie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 global warming</a:t>
            </a:r>
            <a:r>
              <a:rPr b="0" lang="en-US" sz="1600" spc="-1" strike="noStrike">
                <a:solidFill>
                  <a:srgbClr val="ccff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99ff66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Observation on global and regional scale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CO</a:t>
            </a:r>
            <a:r>
              <a:rPr b="1" i="1" lang="en-US" sz="24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budget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(balance of emission and absorption)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-25000">
                <a:solidFill>
                  <a:srgbClr val="66ff33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66ff33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Observation on atmospheric changes in  the troposphere due to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66ff33"/>
                </a:solidFill>
                <a:latin typeface="Times New Roman"/>
              </a:rPr>
              <a:t>　　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trace greenhouse g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Monitoring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studies of greenhouse gases and the Earth surface layer by satell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2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mate chang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cess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66ff3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Process study on the climate change due to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clouds and aeros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-25000">
                <a:solidFill>
                  <a:srgbClr val="66ff33"/>
                </a:solidFill>
                <a:latin typeface="Times New Roman"/>
              </a:rPr>
              <a:t>      </a:t>
            </a:r>
            <a:r>
              <a:rPr b="0" i="1" lang="en-US" sz="1800" spc="-1" strike="noStrike">
                <a:solidFill>
                  <a:srgbClr val="66ff33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Process study on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response of lands and oceans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to climate 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324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udi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344240"/>
            <a:ext cx="8785440" cy="537516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3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uture proje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f global warming and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data b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nstru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from  global warming research outco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Projection of weather and climate change in the 21</a:t>
            </a:r>
            <a:r>
              <a:rPr b="1" i="1" lang="en-US" sz="2400" spc="-1" strike="noStrike" baseline="30000">
                <a:solidFill>
                  <a:srgbClr val="ff0033"/>
                </a:solidFill>
                <a:latin typeface="Times New Roman"/>
              </a:rPr>
              <a:t>st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century b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climate mode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Further reliable climate change projection in the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21</a:t>
            </a:r>
            <a:r>
              <a:rPr b="1" i="1" lang="en-US" sz="2000" spc="-1" strike="noStrike" baseline="30000">
                <a:solidFill>
                  <a:srgbClr val="ffccff"/>
                </a:solidFill>
                <a:latin typeface="Times New Roman"/>
              </a:rPr>
              <a:t>st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 century,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in particular,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with a specific focus on extreme events such as heat waves, severe storms, tropical cyclones, storm surges, etc.  in the near future (about 25 years from now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Projection to be regionally detail enough for relevantly applicable to impact assessment and adaptation stud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Study on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long-term climate change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projection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based on scena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- 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Construction of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integrated data base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from observation, projection, impact studies and adaptation measur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s 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( P4, P5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P6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11344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4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 global warming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impacts, risk assessment, and adaptation mea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Comprehensive monitoring of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global warming impacts in  vulnerable reg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Projection of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climate change impacts in 25 years ahead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and responding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adaptation measures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in Japan and As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5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global scale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water cycle vari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ff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Understanding of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global scale water cycle variabilities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by integrating  observation and model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6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global warm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itigation poli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00"/>
                </a:solidFill>
                <a:latin typeface="Times New Roman"/>
              </a:rPr>
              <a:t>　　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Study on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long-term emission scenarios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for climate change miti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Projection and management of climate change risk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study on the design of society exiting from global warm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58360" y="495360"/>
            <a:ext cx="80629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National Core Technology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project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 related to climate change research has been initiated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836720"/>
            <a:ext cx="856944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oritized as an important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inkage between research and systematic observa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ddition to other link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ta integration and analys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yste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o collect, assimilate and integrate data from satellite and ocean/land observ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distribute the processed data in response of user ne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r needs from various sectors includ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limate change research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decision-mak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1255320"/>
            <a:ext cx="85690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Japan has just launched the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i="1" lang="en-US" sz="2800" spc="-1" strike="noStrike" baseline="30000">
                <a:solidFill>
                  <a:srgbClr val="ff0033"/>
                </a:solidFill>
                <a:latin typeface="Times New Roman"/>
              </a:rPr>
              <a:t>rd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 phase of Science and Technology Basic Pla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(FY2006-FY20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33"/>
                </a:solidFill>
                <a:latin typeface="Times New Roman"/>
              </a:rPr>
              <a:t>Environment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s again prioritized besides 3 other fie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s further prioritized under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mong 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study subjects identified as important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under global warming research,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3 subject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have been further strategically prioritiz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integration and analysis system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project has also been initiated as a National Core Technology project, playing as a linkage of research and systematic obser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05:21:26Z</dcterms:created>
  <dc:creator>近藤　洋輝</dc:creator>
  <dc:description/>
  <dc:language>en-US</dc:language>
  <cp:lastModifiedBy>IPCC2</cp:lastModifiedBy>
  <dcterms:modified xsi:type="dcterms:W3CDTF">2006-05-19T10:10:05Z</dcterms:modified>
  <cp:revision>158</cp:revision>
  <dc:subject/>
  <dc:title>A National Research Initiative  on Global Warming   Hiroki Kondo    Frontier Research System for Global Change</dc:title>
</cp:coreProperties>
</file>