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1BA-929C-46B9-8396-42805634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0EF-AF32-4F73-B89B-00BE7A14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A32-74B6-4694-84A5-13FD6EB4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FD4-70EA-4B7D-8732-3ACED828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EF4-FD71-4E00-A9D3-FD35AD5D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617-1261-488A-8F39-07A4A077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E52-BC45-4904-8843-95381484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80A-2F97-49AA-8B8B-D526936A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6E3-6CFC-4D96-8B06-E925E03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377-9AA1-4CDA-B427-9C0536F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A4A-C274-4477-AC41-70AE42C8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F79-5DC1-46F1-AFB0-53DC918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E151-1084-433C-9866-99AA40ED2A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600200" y="-360"/>
            <a:ext cx="0" cy="66294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766880"/>
            <a:ext cx="76960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vo de B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xecutive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United Nations Framework Conven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n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wind_billede" descr=""/>
          <p:cNvPicPr/>
          <p:nvPr/>
        </p:nvPicPr>
        <p:blipFill>
          <a:blip r:embed="rId2"/>
          <a:srcRect l="25619" t="9529" r="0" b="9529"/>
          <a:stretch/>
        </p:blipFill>
        <p:spPr>
          <a:xfrm>
            <a:off x="228600" y="2286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75248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425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venting a cleaner future: climate change and the opportunity for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solar-energy_7071" descr=""/>
          <p:cNvPicPr/>
          <p:nvPr/>
        </p:nvPicPr>
        <p:blipFill>
          <a:blip r:embed="rId2"/>
          <a:srcRect l="38898" t="15138" r="0" b="0"/>
          <a:stretch/>
        </p:blipFill>
        <p:spPr>
          <a:xfrm>
            <a:off x="152280" y="152280"/>
            <a:ext cx="990720" cy="854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Rs and technology trans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14300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IPRs barriers for technology transf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countr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s are a barrier; further consideration is need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ng patent regimes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reward and ac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ing barriers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technologies in the public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could limit dissemin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ory licen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Rs and technology trans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14300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IPRs a barrier to technology transf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ustrialised countr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s are needed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 and re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s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 protection helps deplo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anced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existing climate friendly technologies a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protected by pat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s are a small part of the total capit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wind_billede" descr=""/>
          <p:cNvPicPr/>
          <p:nvPr/>
        </p:nvPicPr>
        <p:blipFill>
          <a:blip r:embed="rId1"/>
          <a:srcRect l="25619" t="9529" r="0" b="9529"/>
          <a:stretch/>
        </p:blipFill>
        <p:spPr>
          <a:xfrm>
            <a:off x="152280" y="76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olar-energy_7071" descr=""/>
          <p:cNvPicPr/>
          <p:nvPr/>
        </p:nvPicPr>
        <p:blipFill>
          <a:blip r:embed="rId2"/>
          <a:srcRect l="38898" t="15138" r="0" b="0"/>
          <a:stretch/>
        </p:blipFill>
        <p:spPr>
          <a:xfrm>
            <a:off x="152280" y="152280"/>
            <a:ext cx="990720" cy="854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Rs and technology trans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37628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we need a special patent regime for climate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c-private partnerships (PPPs), with options such 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chasing 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buy-out of IP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lsory licen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Rs and technology trans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143000"/>
            <a:ext cx="7696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wnership of IPRs for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s suit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existing technolog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nergy-generation technologies, IPRs represent a smaller component of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cooperation with the ow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ssibly more suitable for new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ve development of technologies; IPR as a free or low-cost public g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echnologies with a large element of public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wind_billede" descr=""/>
          <p:cNvPicPr/>
          <p:nvPr/>
        </p:nvPicPr>
        <p:blipFill>
          <a:blip r:embed="rId2"/>
          <a:srcRect l="25619" t="9529" r="0" b="9529"/>
          <a:stretch/>
        </p:blipFill>
        <p:spPr>
          <a:xfrm>
            <a:off x="152280" y="76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olar-energy_7071" descr=""/>
          <p:cNvPicPr/>
          <p:nvPr/>
        </p:nvPicPr>
        <p:blipFill>
          <a:blip r:embed="rId2"/>
          <a:srcRect l="38898" t="15138" r="0" b="0"/>
          <a:stretch/>
        </p:blipFill>
        <p:spPr>
          <a:xfrm>
            <a:off x="152280" y="152280"/>
            <a:ext cx="990720" cy="854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nee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1066680"/>
            <a:ext cx="784872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in future climate change ab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role of technology development and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R-related issues have been discussed in a theoretical ma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needs clarity on where IPRs are a barrier, where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y are a barri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that barrier be over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IPR-issues be hand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international climate change cont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views on what Governments sh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for IPRs in view of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178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ind_billede" descr=""/>
          <p:cNvPicPr/>
          <p:nvPr/>
        </p:nvPicPr>
        <p:blipFill>
          <a:blip r:embed="rId2"/>
          <a:srcRect l="25619" t="9529" r="0" b="9529"/>
          <a:stretch/>
        </p:blipFill>
        <p:spPr>
          <a:xfrm>
            <a:off x="152280" y="76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pic>
        <p:nvPicPr>
          <p:cNvPr id="49" name="solar-energy_7071" descr=""/>
          <p:cNvPicPr/>
          <p:nvPr/>
        </p:nvPicPr>
        <p:blipFill>
          <a:blip r:embed="rId2"/>
          <a:srcRect l="38898" t="15138" r="0" b="0"/>
          <a:stretch/>
        </p:blipFill>
        <p:spPr>
          <a:xfrm>
            <a:off x="152280" y="152280"/>
            <a:ext cx="99072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6094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04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922400"/>
            <a:ext cx="7620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role of tech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intergovernmental climate chan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uld IPRs be handled in the international context of climate chang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00200" y="6094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04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mate change scien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143000"/>
            <a:ext cx="76201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PCC’s findings told the world that there is no time left to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change is unequiv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mitigated climate change will threaten our survi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s are “very likely” to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acts will destroy economic g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climate change abatement will not suffi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0 – 2004: emissions increase of 7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 up to 2030: emissions increase of 25-9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wind_billede" descr=""/>
          <p:cNvPicPr/>
          <p:nvPr/>
        </p:nvPicPr>
        <p:blipFill>
          <a:blip r:embed="rId2"/>
          <a:srcRect l="25619" t="9529" r="0" b="9529"/>
          <a:stretch/>
        </p:blipFill>
        <p:spPr>
          <a:xfrm>
            <a:off x="152280" y="76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solar-energy_7071" descr=""/>
          <p:cNvPicPr/>
          <p:nvPr/>
        </p:nvPicPr>
        <p:blipFill>
          <a:blip r:embed="rId2"/>
          <a:srcRect l="38898" t="15138" r="0" b="0"/>
          <a:stretch/>
        </p:blipFill>
        <p:spPr>
          <a:xfrm>
            <a:off x="152280" y="152280"/>
            <a:ext cx="990720" cy="85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6094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304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energy 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333440"/>
            <a:ext cx="76201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ally sound technologies are central to addressing climate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EA reference scenario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mand to grow b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2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2030: energy supply infrastructure needs investment of USD20 trillion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half in developing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or decline by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igation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ation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8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ntext: technology and cl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143000"/>
            <a:ext cx="78487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ld needs a global low-emissions economic developmen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 needs to be at the plan’s hea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CC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bilisation of green house gases can be achiev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current and up-and-coming technologies, if incentives are in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rrier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he deployment and diffusion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ce of policies, legal and regulatory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s in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, patent-rel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pic>
        <p:nvPicPr>
          <p:cNvPr id="73" name="wind_billede" descr=""/>
          <p:cNvPicPr/>
          <p:nvPr/>
        </p:nvPicPr>
        <p:blipFill>
          <a:blip r:embed="rId2"/>
          <a:srcRect l="25619" t="9529" r="0" b="9529"/>
          <a:stretch/>
        </p:blipFill>
        <p:spPr>
          <a:xfrm>
            <a:off x="152280" y="76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olar-energy_7071" descr=""/>
          <p:cNvPicPr/>
          <p:nvPr/>
        </p:nvPicPr>
        <p:blipFill>
          <a:blip r:embed="rId2"/>
          <a:srcRect l="38898" t="15138" r="0" b="0"/>
          <a:stretch/>
        </p:blipFill>
        <p:spPr>
          <a:xfrm>
            <a:off x="152280" y="152280"/>
            <a:ext cx="990720" cy="85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and international climate poli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371600"/>
            <a:ext cx="7696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eatures strongly in the inter-governmental process on climate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FCC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it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yoto Protoco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vide opportunities for cooperation on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, deployment and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for mitigation and for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and international climate poli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19320"/>
            <a:ext cx="76964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ali Road 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wo-year proc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enhance the international response to climate change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luding enhanced action on mitig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countries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 appropriate mitigation actions 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and enabled by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in a measurable, reportable and verifiable mann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ustrialised countr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able, reportable, verifiable mitigation actions, including quantified emission limitation and reduction objectives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wind_billede" descr=""/>
          <p:cNvPicPr/>
          <p:nvPr/>
        </p:nvPicPr>
        <p:blipFill>
          <a:blip r:embed="rId2"/>
          <a:srcRect l="25619" t="9529" r="0" b="9529"/>
          <a:stretch/>
        </p:blipFill>
        <p:spPr>
          <a:xfrm>
            <a:off x="152280" y="76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olar-energy_7071" descr=""/>
          <p:cNvPicPr/>
          <p:nvPr/>
        </p:nvPicPr>
        <p:blipFill>
          <a:blip r:embed="rId2"/>
          <a:srcRect l="38898" t="15138" r="0" b="0"/>
          <a:stretch/>
        </p:blipFill>
        <p:spPr>
          <a:xfrm>
            <a:off x="152280" y="152280"/>
            <a:ext cx="990720" cy="85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and international climate poli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219320"/>
            <a:ext cx="7696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ali Road 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able, reportable and verifiab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itigation action by developing countries depends 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easurable, reportable and verifiab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chnological and financial supp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 is one of the central elements that will enable 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wo-year process is an opportunity to strengthen technology approa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10280" y="6019920"/>
            <a:ext cx="2057400" cy="64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143000"/>
            <a:ext cx="876312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95280" y="-360"/>
            <a:ext cx="0" cy="6705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and international climate poli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21932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needs a revolutionary pu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ism tha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sufficient progr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s been made 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 for a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ive international mechanis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barriers and provision of r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stages of the technology cycle need to be addres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nnovation to 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funding and policy for ea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es have cit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PR and patent-related issues as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wind_billede" descr=""/>
          <p:cNvPicPr/>
          <p:nvPr/>
        </p:nvPicPr>
        <p:blipFill>
          <a:blip r:embed="rId2"/>
          <a:srcRect l="25619" t="9529" r="0" b="9529"/>
          <a:stretch/>
        </p:blipFill>
        <p:spPr>
          <a:xfrm>
            <a:off x="152280" y="76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10:45Z</dcterms:created>
  <dc:creator/>
  <dc:description/>
  <dc:language>en-US</dc:language>
  <cp:lastModifiedBy>Golinski</cp:lastModifiedBy>
  <dcterms:modified xsi:type="dcterms:W3CDTF">2008-05-07T11:07:14Z</dcterms:modified>
  <cp:revision>7</cp:revision>
  <dc:subject/>
  <dc:title>Inventing a cleaner future: climate change and the opportunity for intellectual property</dc:title>
</cp:coreProperties>
</file>